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CAB-664E-41EE-9695-D182B831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4A1-5873-4D21-A32D-5AC8BEB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EA5-A1D0-4BAB-A197-21A2EB63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6E7-EF65-46C8-A97C-7A3CED87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F62-E66D-4906-8A68-A2983F9F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155-4AF3-480F-8EBF-372E7482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960-FA9F-45E6-AE50-1B9D1E09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4BD-9D3D-49A8-9A52-C36B2D1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5F3-0A3F-431F-ABB7-60864B23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302-D7E4-4164-8D8E-90F2F65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65E-EC74-461B-9562-F6BEE71F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EBA-CECD-4247-8A72-BE607E8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C59-BF45-4836-ABEF-29DE0EA78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hiprock and Storm, Shiprock, Arizona. Black and white limited edition photogra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3480" y="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1 Review Solving Multi-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4479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Simplify (before UN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.  Simplify multiplication on each side (Distributive Proper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.  Combine any like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Solve (UND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.  Undo Addition a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4.  Undo Multiplication and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838080"/>
            <a:ext cx="59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me things to rememb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60" y="838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each equation.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361800" y="1517760"/>
          <a:ext cx="29210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517760"/>
                    <a:ext cx="2921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5118120" y="1517760"/>
          <a:ext cx="29084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8120" y="1517760"/>
                    <a:ext cx="29084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Group 22548"/>
          <p:cNvGrpSpPr/>
          <p:nvPr/>
        </p:nvGrpSpPr>
        <p:grpSpPr>
          <a:xfrm>
            <a:off x="403200" y="1341360"/>
            <a:ext cx="7620120" cy="2536920"/>
            <a:chOff x="403200" y="1341360"/>
            <a:chExt cx="7620120" cy="2536920"/>
          </a:xfrm>
        </p:grpSpPr>
        <p:sp>
          <p:nvSpPr>
            <p:cNvPr id="57" name="SMARTInkAnnotation496"/>
            <p:cNvSpPr/>
            <p:nvPr/>
          </p:nvSpPr>
          <p:spPr>
            <a:xfrm>
              <a:off x="1401480" y="1341360"/>
              <a:ext cx="502920" cy="2588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502912" h="259053">
                  <a:moveTo>
                    <a:pt x="0" y="259052"/>
                  </a:moveTo>
                  <a:lnTo>
                    <a:pt x="0" y="237287"/>
                  </a:lnTo>
                  <a:lnTo>
                    <a:pt x="5237" y="230325"/>
                  </a:lnTo>
                  <a:lnTo>
                    <a:pt x="7761" y="223259"/>
                  </a:lnTo>
                  <a:lnTo>
                    <a:pt x="12648" y="215803"/>
                  </a:lnTo>
                  <a:lnTo>
                    <a:pt x="15319" y="208232"/>
                  </a:lnTo>
                  <a:lnTo>
                    <a:pt x="20249" y="200626"/>
                  </a:lnTo>
                  <a:lnTo>
                    <a:pt x="22933" y="193010"/>
                  </a:lnTo>
                  <a:lnTo>
                    <a:pt x="28714" y="185391"/>
                  </a:lnTo>
                  <a:lnTo>
                    <a:pt x="33364" y="180312"/>
                  </a:lnTo>
                  <a:lnTo>
                    <a:pt x="34943" y="176925"/>
                  </a:lnTo>
                  <a:lnTo>
                    <a:pt x="35995" y="172974"/>
                  </a:lnTo>
                  <a:lnTo>
                    <a:pt x="36697" y="168647"/>
                  </a:lnTo>
                  <a:lnTo>
                    <a:pt x="39734" y="161581"/>
                  </a:lnTo>
                  <a:lnTo>
                    <a:pt x="43907" y="154771"/>
                  </a:lnTo>
                  <a:lnTo>
                    <a:pt x="46204" y="150585"/>
                  </a:lnTo>
                  <a:lnTo>
                    <a:pt x="48583" y="146101"/>
                  </a:lnTo>
                  <a:lnTo>
                    <a:pt x="53484" y="138860"/>
                  </a:lnTo>
                  <a:lnTo>
                    <a:pt x="58484" y="132820"/>
                  </a:lnTo>
                  <a:lnTo>
                    <a:pt x="63529" y="127313"/>
                  </a:lnTo>
                  <a:lnTo>
                    <a:pt x="75174" y="115408"/>
                  </a:lnTo>
                  <a:lnTo>
                    <a:pt x="84493" y="108286"/>
                  </a:lnTo>
                  <a:lnTo>
                    <a:pt x="93433" y="102298"/>
                  </a:lnTo>
                  <a:lnTo>
                    <a:pt x="100228" y="96815"/>
                  </a:lnTo>
                  <a:lnTo>
                    <a:pt x="106070" y="89298"/>
                  </a:lnTo>
                  <a:lnTo>
                    <a:pt x="108814" y="84923"/>
                  </a:lnTo>
                  <a:lnTo>
                    <a:pt x="116377" y="77803"/>
                  </a:lnTo>
                  <a:lnTo>
                    <a:pt x="125383" y="71817"/>
                  </a:lnTo>
                  <a:lnTo>
                    <a:pt x="135030" y="66334"/>
                  </a:lnTo>
                  <a:lnTo>
                    <a:pt x="149982" y="58487"/>
                  </a:lnTo>
                  <a:lnTo>
                    <a:pt x="165136" y="50800"/>
                  </a:lnTo>
                  <a:lnTo>
                    <a:pt x="175276" y="43447"/>
                  </a:lnTo>
                  <a:lnTo>
                    <a:pt x="185427" y="35381"/>
                  </a:lnTo>
                  <a:lnTo>
                    <a:pt x="195583" y="28974"/>
                  </a:lnTo>
                  <a:lnTo>
                    <a:pt x="205742" y="25562"/>
                  </a:lnTo>
                  <a:lnTo>
                    <a:pt x="215901" y="23198"/>
                  </a:lnTo>
                  <a:lnTo>
                    <a:pt x="231140" y="17108"/>
                  </a:lnTo>
                  <a:lnTo>
                    <a:pt x="245533" y="10788"/>
                  </a:lnTo>
                  <a:lnTo>
                    <a:pt x="252495" y="9012"/>
                  </a:lnTo>
                  <a:lnTo>
                    <a:pt x="265220" y="8013"/>
                  </a:lnTo>
                  <a:lnTo>
                    <a:pt x="277049" y="5521"/>
                  </a:lnTo>
                  <a:lnTo>
                    <a:pt x="289080" y="2438"/>
                  </a:lnTo>
                  <a:lnTo>
                    <a:pt x="301459" y="703"/>
                  </a:lnTo>
                  <a:lnTo>
                    <a:pt x="315476" y="188"/>
                  </a:lnTo>
                  <a:lnTo>
                    <a:pt x="340428" y="0"/>
                  </a:lnTo>
                  <a:lnTo>
                    <a:pt x="350550" y="2242"/>
                  </a:lnTo>
                  <a:lnTo>
                    <a:pt x="360694" y="5214"/>
                  </a:lnTo>
                  <a:lnTo>
                    <a:pt x="375077" y="7734"/>
                  </a:lnTo>
                  <a:lnTo>
                    <a:pt x="385925" y="12620"/>
                  </a:lnTo>
                  <a:lnTo>
                    <a:pt x="398640" y="15291"/>
                  </a:lnTo>
                  <a:lnTo>
                    <a:pt x="413209" y="23349"/>
                  </a:lnTo>
                  <a:lnTo>
                    <a:pt x="427232" y="30605"/>
                  </a:lnTo>
                  <a:lnTo>
                    <a:pt x="439854" y="38117"/>
                  </a:lnTo>
                  <a:lnTo>
                    <a:pt x="448956" y="45705"/>
                  </a:lnTo>
                  <a:lnTo>
                    <a:pt x="457015" y="53316"/>
                  </a:lnTo>
                  <a:lnTo>
                    <a:pt x="467324" y="63473"/>
                  </a:lnTo>
                  <a:lnTo>
                    <a:pt x="472424" y="70810"/>
                  </a:lnTo>
                  <a:lnTo>
                    <a:pt x="477513" y="78869"/>
                  </a:lnTo>
                  <a:lnTo>
                    <a:pt x="482597" y="85273"/>
                  </a:lnTo>
                  <a:lnTo>
                    <a:pt x="484291" y="89013"/>
                  </a:lnTo>
                  <a:lnTo>
                    <a:pt x="485421" y="93199"/>
                  </a:lnTo>
                  <a:lnTo>
                    <a:pt x="486174" y="97683"/>
                  </a:lnTo>
                  <a:lnTo>
                    <a:pt x="489268" y="104924"/>
                  </a:lnTo>
                  <a:lnTo>
                    <a:pt x="492619" y="110964"/>
                  </a:lnTo>
                  <a:lnTo>
                    <a:pt x="494109" y="116471"/>
                  </a:lnTo>
                  <a:lnTo>
                    <a:pt x="497028" y="123998"/>
                  </a:lnTo>
                  <a:lnTo>
                    <a:pt x="498992" y="128376"/>
                  </a:lnTo>
                  <a:lnTo>
                    <a:pt x="501174" y="135498"/>
                  </a:lnTo>
                  <a:lnTo>
                    <a:pt x="502144" y="142332"/>
                  </a:lnTo>
                  <a:lnTo>
                    <a:pt x="502403" y="146526"/>
                  </a:lnTo>
                  <a:lnTo>
                    <a:pt x="502691" y="154854"/>
                  </a:lnTo>
                  <a:lnTo>
                    <a:pt x="502852" y="164302"/>
                  </a:lnTo>
                  <a:lnTo>
                    <a:pt x="502911" y="181716"/>
                  </a:lnTo>
                  <a:lnTo>
                    <a:pt x="502067" y="185481"/>
                  </a:lnTo>
                  <a:lnTo>
                    <a:pt x="498872" y="191923"/>
                  </a:lnTo>
                  <a:lnTo>
                    <a:pt x="496888" y="199866"/>
                  </a:lnTo>
                  <a:lnTo>
                    <a:pt x="496359" y="204354"/>
                  </a:lnTo>
                  <a:lnTo>
                    <a:pt x="495771" y="211600"/>
                  </a:lnTo>
                  <a:lnTo>
                    <a:pt x="495509" y="217642"/>
                  </a:lnTo>
                  <a:lnTo>
                    <a:pt x="495362" y="225804"/>
                  </a:lnTo>
                  <a:lnTo>
                    <a:pt x="495300" y="2514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497"/>
            <p:cNvSpPr/>
            <p:nvPr/>
          </p:nvSpPr>
          <p:spPr>
            <a:xfrm>
              <a:off x="1447200" y="1341360"/>
              <a:ext cx="845640" cy="22824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845821" h="228507">
                  <a:moveTo>
                    <a:pt x="0" y="228506"/>
                  </a:moveTo>
                  <a:lnTo>
                    <a:pt x="0" y="221945"/>
                  </a:lnTo>
                  <a:lnTo>
                    <a:pt x="6084" y="215012"/>
                  </a:lnTo>
                  <a:lnTo>
                    <a:pt x="13867" y="207047"/>
                  </a:lnTo>
                  <a:lnTo>
                    <a:pt x="16887" y="201753"/>
                  </a:lnTo>
                  <a:lnTo>
                    <a:pt x="18878" y="197971"/>
                  </a:lnTo>
                  <a:lnTo>
                    <a:pt x="21052" y="195449"/>
                  </a:lnTo>
                  <a:lnTo>
                    <a:pt x="23348" y="193768"/>
                  </a:lnTo>
                  <a:lnTo>
                    <a:pt x="25725" y="192648"/>
                  </a:lnTo>
                  <a:lnTo>
                    <a:pt x="30625" y="186887"/>
                  </a:lnTo>
                  <a:lnTo>
                    <a:pt x="33116" y="182980"/>
                  </a:lnTo>
                  <a:lnTo>
                    <a:pt x="35624" y="180375"/>
                  </a:lnTo>
                  <a:lnTo>
                    <a:pt x="38143" y="178639"/>
                  </a:lnTo>
                  <a:lnTo>
                    <a:pt x="40669" y="177481"/>
                  </a:lnTo>
                  <a:lnTo>
                    <a:pt x="43199" y="175016"/>
                  </a:lnTo>
                  <a:lnTo>
                    <a:pt x="45732" y="171680"/>
                  </a:lnTo>
                  <a:lnTo>
                    <a:pt x="48269" y="167762"/>
                  </a:lnTo>
                  <a:lnTo>
                    <a:pt x="53344" y="161151"/>
                  </a:lnTo>
                  <a:lnTo>
                    <a:pt x="55882" y="158203"/>
                  </a:lnTo>
                  <a:lnTo>
                    <a:pt x="63219" y="152669"/>
                  </a:lnTo>
                  <a:lnTo>
                    <a:pt x="71277" y="147387"/>
                  </a:lnTo>
                  <a:lnTo>
                    <a:pt x="77681" y="142218"/>
                  </a:lnTo>
                  <a:lnTo>
                    <a:pt x="85607" y="137098"/>
                  </a:lnTo>
                  <a:lnTo>
                    <a:pt x="94774" y="132000"/>
                  </a:lnTo>
                  <a:lnTo>
                    <a:pt x="104493" y="126913"/>
                  </a:lnTo>
                  <a:lnTo>
                    <a:pt x="109456" y="123524"/>
                  </a:lnTo>
                  <a:lnTo>
                    <a:pt x="114457" y="119571"/>
                  </a:lnTo>
                  <a:lnTo>
                    <a:pt x="119485" y="115243"/>
                  </a:lnTo>
                  <a:lnTo>
                    <a:pt x="129586" y="108176"/>
                  </a:lnTo>
                  <a:lnTo>
                    <a:pt x="138874" y="102213"/>
                  </a:lnTo>
                  <a:lnTo>
                    <a:pt x="145824" y="96740"/>
                  </a:lnTo>
                  <a:lnTo>
                    <a:pt x="153993" y="91486"/>
                  </a:lnTo>
                  <a:lnTo>
                    <a:pt x="164115" y="86328"/>
                  </a:lnTo>
                  <a:lnTo>
                    <a:pt x="183247" y="78664"/>
                  </a:lnTo>
                  <a:lnTo>
                    <a:pt x="194614" y="73574"/>
                  </a:lnTo>
                  <a:lnTo>
                    <a:pt x="210534" y="65948"/>
                  </a:lnTo>
                  <a:lnTo>
                    <a:pt x="225975" y="58327"/>
                  </a:lnTo>
                  <a:lnTo>
                    <a:pt x="238440" y="53247"/>
                  </a:lnTo>
                  <a:lnTo>
                    <a:pt x="251600" y="48166"/>
                  </a:lnTo>
                  <a:lnTo>
                    <a:pt x="263094" y="43086"/>
                  </a:lnTo>
                  <a:lnTo>
                    <a:pt x="273846" y="38006"/>
                  </a:lnTo>
                  <a:lnTo>
                    <a:pt x="294547" y="27846"/>
                  </a:lnTo>
                  <a:lnTo>
                    <a:pt x="307016" y="25024"/>
                  </a:lnTo>
                  <a:lnTo>
                    <a:pt x="320179" y="22923"/>
                  </a:lnTo>
                  <a:lnTo>
                    <a:pt x="337955" y="17827"/>
                  </a:lnTo>
                  <a:lnTo>
                    <a:pt x="358933" y="15094"/>
                  </a:lnTo>
                  <a:lnTo>
                    <a:pt x="380388" y="10145"/>
                  </a:lnTo>
                  <a:lnTo>
                    <a:pt x="405495" y="8044"/>
                  </a:lnTo>
                  <a:lnTo>
                    <a:pt x="427205" y="7679"/>
                  </a:lnTo>
                  <a:lnTo>
                    <a:pt x="441329" y="6748"/>
                  </a:lnTo>
                  <a:lnTo>
                    <a:pt x="466451" y="1508"/>
                  </a:lnTo>
                  <a:lnTo>
                    <a:pt x="491577" y="223"/>
                  </a:lnTo>
                  <a:lnTo>
                    <a:pt x="511695" y="0"/>
                  </a:lnTo>
                  <a:lnTo>
                    <a:pt x="524035" y="2206"/>
                  </a:lnTo>
                  <a:lnTo>
                    <a:pt x="535165" y="5161"/>
                  </a:lnTo>
                  <a:lnTo>
                    <a:pt x="558365" y="7059"/>
                  </a:lnTo>
                  <a:lnTo>
                    <a:pt x="571589" y="8165"/>
                  </a:lnTo>
                  <a:lnTo>
                    <a:pt x="593876" y="13516"/>
                  </a:lnTo>
                  <a:lnTo>
                    <a:pt x="604305" y="15269"/>
                  </a:lnTo>
                  <a:lnTo>
                    <a:pt x="624798" y="21034"/>
                  </a:lnTo>
                  <a:lnTo>
                    <a:pt x="634981" y="22843"/>
                  </a:lnTo>
                  <a:lnTo>
                    <a:pt x="650235" y="28622"/>
                  </a:lnTo>
                  <a:lnTo>
                    <a:pt x="665479" y="34849"/>
                  </a:lnTo>
                  <a:lnTo>
                    <a:pt x="675639" y="36603"/>
                  </a:lnTo>
                  <a:lnTo>
                    <a:pt x="679873" y="38764"/>
                  </a:lnTo>
                  <a:lnTo>
                    <a:pt x="683542" y="41898"/>
                  </a:lnTo>
                  <a:lnTo>
                    <a:pt x="686835" y="45681"/>
                  </a:lnTo>
                  <a:lnTo>
                    <a:pt x="690723" y="48203"/>
                  </a:lnTo>
                  <a:lnTo>
                    <a:pt x="709131" y="54508"/>
                  </a:lnTo>
                  <a:lnTo>
                    <a:pt x="718183" y="58887"/>
                  </a:lnTo>
                  <a:lnTo>
                    <a:pt x="728886" y="66112"/>
                  </a:lnTo>
                  <a:lnTo>
                    <a:pt x="737687" y="71100"/>
                  </a:lnTo>
                  <a:lnTo>
                    <a:pt x="744986" y="76139"/>
                  </a:lnTo>
                  <a:lnTo>
                    <a:pt x="751051" y="81201"/>
                  </a:lnTo>
                  <a:lnTo>
                    <a:pt x="756570" y="86273"/>
                  </a:lnTo>
                  <a:lnTo>
                    <a:pt x="775605" y="104998"/>
                  </a:lnTo>
                  <a:lnTo>
                    <a:pt x="825500" y="154845"/>
                  </a:lnTo>
                  <a:lnTo>
                    <a:pt x="827193" y="157386"/>
                  </a:lnTo>
                  <a:lnTo>
                    <a:pt x="829075" y="162466"/>
                  </a:lnTo>
                  <a:lnTo>
                    <a:pt x="829911" y="167546"/>
                  </a:lnTo>
                  <a:lnTo>
                    <a:pt x="830134" y="170086"/>
                  </a:lnTo>
                  <a:lnTo>
                    <a:pt x="831130" y="172626"/>
                  </a:lnTo>
                  <a:lnTo>
                    <a:pt x="834493" y="177706"/>
                  </a:lnTo>
                  <a:lnTo>
                    <a:pt x="836576" y="179400"/>
                  </a:lnTo>
                  <a:lnTo>
                    <a:pt x="838810" y="180528"/>
                  </a:lnTo>
                  <a:lnTo>
                    <a:pt x="845820" y="18278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498"/>
            <p:cNvSpPr/>
            <p:nvPr/>
          </p:nvSpPr>
          <p:spPr>
            <a:xfrm>
              <a:off x="586080" y="214128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930" y="6914"/>
                  </a:lnTo>
                  <a:lnTo>
                    <a:pt x="10547" y="7149"/>
                  </a:lnTo>
                  <a:lnTo>
                    <a:pt x="18234" y="7411"/>
                  </a:lnTo>
                  <a:lnTo>
                    <a:pt x="28169" y="7558"/>
                  </a:lnTo>
                  <a:lnTo>
                    <a:pt x="114663" y="7620"/>
                  </a:lnTo>
                  <a:lnTo>
                    <a:pt x="123008" y="8467"/>
                  </a:lnTo>
                  <a:lnTo>
                    <a:pt x="131959" y="9878"/>
                  </a:lnTo>
                  <a:lnTo>
                    <a:pt x="141313" y="11665"/>
                  </a:lnTo>
                  <a:lnTo>
                    <a:pt x="148395" y="12857"/>
                  </a:lnTo>
                  <a:lnTo>
                    <a:pt x="153963" y="13651"/>
                  </a:lnTo>
                  <a:lnTo>
                    <a:pt x="158523" y="14181"/>
                  </a:lnTo>
                  <a:lnTo>
                    <a:pt x="163255" y="14534"/>
                  </a:lnTo>
                  <a:lnTo>
                    <a:pt x="168103" y="14769"/>
                  </a:lnTo>
                  <a:lnTo>
                    <a:pt x="1828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499"/>
            <p:cNvSpPr/>
            <p:nvPr/>
          </p:nvSpPr>
          <p:spPr>
            <a:xfrm>
              <a:off x="868320" y="2027160"/>
              <a:ext cx="226440" cy="2282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26731" h="228466">
                  <a:moveTo>
                    <a:pt x="7306" y="45624"/>
                  </a:moveTo>
                  <a:lnTo>
                    <a:pt x="3261" y="45624"/>
                  </a:lnTo>
                  <a:lnTo>
                    <a:pt x="2069" y="44777"/>
                  </a:lnTo>
                  <a:lnTo>
                    <a:pt x="1275" y="43366"/>
                  </a:lnTo>
                  <a:lnTo>
                    <a:pt x="0" y="39063"/>
                  </a:lnTo>
                  <a:lnTo>
                    <a:pt x="742" y="38710"/>
                  </a:lnTo>
                  <a:lnTo>
                    <a:pt x="3825" y="38318"/>
                  </a:lnTo>
                  <a:lnTo>
                    <a:pt x="4985" y="37367"/>
                  </a:lnTo>
                  <a:lnTo>
                    <a:pt x="5759" y="35886"/>
                  </a:lnTo>
                  <a:lnTo>
                    <a:pt x="6275" y="34052"/>
                  </a:lnTo>
                  <a:lnTo>
                    <a:pt x="8312" y="32829"/>
                  </a:lnTo>
                  <a:lnTo>
                    <a:pt x="15091" y="31471"/>
                  </a:lnTo>
                  <a:lnTo>
                    <a:pt x="19269" y="30262"/>
                  </a:lnTo>
                  <a:lnTo>
                    <a:pt x="23748" y="28609"/>
                  </a:lnTo>
                  <a:lnTo>
                    <a:pt x="28428" y="26661"/>
                  </a:lnTo>
                  <a:lnTo>
                    <a:pt x="33241" y="24515"/>
                  </a:lnTo>
                  <a:lnTo>
                    <a:pt x="43104" y="19874"/>
                  </a:lnTo>
                  <a:lnTo>
                    <a:pt x="48951" y="17450"/>
                  </a:lnTo>
                  <a:lnTo>
                    <a:pt x="55389" y="14988"/>
                  </a:lnTo>
                  <a:lnTo>
                    <a:pt x="62222" y="12500"/>
                  </a:lnTo>
                  <a:lnTo>
                    <a:pt x="69317" y="10842"/>
                  </a:lnTo>
                  <a:lnTo>
                    <a:pt x="76587" y="9736"/>
                  </a:lnTo>
                  <a:lnTo>
                    <a:pt x="83973" y="8998"/>
                  </a:lnTo>
                  <a:lnTo>
                    <a:pt x="91437" y="8507"/>
                  </a:lnTo>
                  <a:lnTo>
                    <a:pt x="98954" y="8180"/>
                  </a:lnTo>
                  <a:lnTo>
                    <a:pt x="106505" y="7961"/>
                  </a:lnTo>
                  <a:lnTo>
                    <a:pt x="114079" y="6969"/>
                  </a:lnTo>
                  <a:lnTo>
                    <a:pt x="121668" y="5461"/>
                  </a:lnTo>
                  <a:lnTo>
                    <a:pt x="129267" y="3608"/>
                  </a:lnTo>
                  <a:lnTo>
                    <a:pt x="136027" y="2374"/>
                  </a:lnTo>
                  <a:lnTo>
                    <a:pt x="142227" y="1550"/>
                  </a:lnTo>
                  <a:lnTo>
                    <a:pt x="148053" y="1002"/>
                  </a:lnTo>
                  <a:lnTo>
                    <a:pt x="153631" y="636"/>
                  </a:lnTo>
                  <a:lnTo>
                    <a:pt x="159043" y="392"/>
                  </a:lnTo>
                  <a:lnTo>
                    <a:pt x="172492" y="48"/>
                  </a:lnTo>
                  <a:lnTo>
                    <a:pt x="175850" y="0"/>
                  </a:lnTo>
                  <a:lnTo>
                    <a:pt x="178089" y="815"/>
                  </a:lnTo>
                  <a:lnTo>
                    <a:pt x="179581" y="2205"/>
                  </a:lnTo>
                  <a:lnTo>
                    <a:pt x="180576" y="3978"/>
                  </a:lnTo>
                  <a:lnTo>
                    <a:pt x="180393" y="6006"/>
                  </a:lnTo>
                  <a:lnTo>
                    <a:pt x="179424" y="8206"/>
                  </a:lnTo>
                  <a:lnTo>
                    <a:pt x="176090" y="12907"/>
                  </a:lnTo>
                  <a:lnTo>
                    <a:pt x="171786" y="17819"/>
                  </a:lnTo>
                  <a:lnTo>
                    <a:pt x="164793" y="22824"/>
                  </a:lnTo>
                  <a:lnTo>
                    <a:pt x="160557" y="25344"/>
                  </a:lnTo>
                  <a:lnTo>
                    <a:pt x="155193" y="27871"/>
                  </a:lnTo>
                  <a:lnTo>
                    <a:pt x="149078" y="30402"/>
                  </a:lnTo>
                  <a:lnTo>
                    <a:pt x="142461" y="32936"/>
                  </a:lnTo>
                  <a:lnTo>
                    <a:pt x="128335" y="38009"/>
                  </a:lnTo>
                  <a:lnTo>
                    <a:pt x="121012" y="40547"/>
                  </a:lnTo>
                  <a:lnTo>
                    <a:pt x="114437" y="43086"/>
                  </a:lnTo>
                  <a:lnTo>
                    <a:pt x="108360" y="45626"/>
                  </a:lnTo>
                  <a:lnTo>
                    <a:pt x="102615" y="48165"/>
                  </a:lnTo>
                  <a:lnTo>
                    <a:pt x="97092" y="51551"/>
                  </a:lnTo>
                  <a:lnTo>
                    <a:pt x="91717" y="55502"/>
                  </a:lnTo>
                  <a:lnTo>
                    <a:pt x="86440" y="59829"/>
                  </a:lnTo>
                  <a:lnTo>
                    <a:pt x="82076" y="62715"/>
                  </a:lnTo>
                  <a:lnTo>
                    <a:pt x="78319" y="64638"/>
                  </a:lnTo>
                  <a:lnTo>
                    <a:pt x="74968" y="65920"/>
                  </a:lnTo>
                  <a:lnTo>
                    <a:pt x="72734" y="67621"/>
                  </a:lnTo>
                  <a:lnTo>
                    <a:pt x="71245" y="69602"/>
                  </a:lnTo>
                  <a:lnTo>
                    <a:pt x="70252" y="71769"/>
                  </a:lnTo>
                  <a:lnTo>
                    <a:pt x="69149" y="76435"/>
                  </a:lnTo>
                  <a:lnTo>
                    <a:pt x="68855" y="78865"/>
                  </a:lnTo>
                  <a:lnTo>
                    <a:pt x="70352" y="80485"/>
                  </a:lnTo>
                  <a:lnTo>
                    <a:pt x="73044" y="81564"/>
                  </a:lnTo>
                  <a:lnTo>
                    <a:pt x="76531" y="82284"/>
                  </a:lnTo>
                  <a:lnTo>
                    <a:pt x="80549" y="83611"/>
                  </a:lnTo>
                  <a:lnTo>
                    <a:pt x="84922" y="85342"/>
                  </a:lnTo>
                  <a:lnTo>
                    <a:pt x="89530" y="87343"/>
                  </a:lnTo>
                  <a:lnTo>
                    <a:pt x="95142" y="88677"/>
                  </a:lnTo>
                  <a:lnTo>
                    <a:pt x="101424" y="89565"/>
                  </a:lnTo>
                  <a:lnTo>
                    <a:pt x="108151" y="90158"/>
                  </a:lnTo>
                  <a:lnTo>
                    <a:pt x="115176" y="91400"/>
                  </a:lnTo>
                  <a:lnTo>
                    <a:pt x="122400" y="93075"/>
                  </a:lnTo>
                  <a:lnTo>
                    <a:pt x="129755" y="95038"/>
                  </a:lnTo>
                  <a:lnTo>
                    <a:pt x="137199" y="96346"/>
                  </a:lnTo>
                  <a:lnTo>
                    <a:pt x="144701" y="97219"/>
                  </a:lnTo>
                  <a:lnTo>
                    <a:pt x="152243" y="97801"/>
                  </a:lnTo>
                  <a:lnTo>
                    <a:pt x="159811" y="99035"/>
                  </a:lnTo>
                  <a:lnTo>
                    <a:pt x="167396" y="100705"/>
                  </a:lnTo>
                  <a:lnTo>
                    <a:pt x="174993" y="102664"/>
                  </a:lnTo>
                  <a:lnTo>
                    <a:pt x="181751" y="104818"/>
                  </a:lnTo>
                  <a:lnTo>
                    <a:pt x="187949" y="107100"/>
                  </a:lnTo>
                  <a:lnTo>
                    <a:pt x="193775" y="109468"/>
                  </a:lnTo>
                  <a:lnTo>
                    <a:pt x="198505" y="111893"/>
                  </a:lnTo>
                  <a:lnTo>
                    <a:pt x="202506" y="114357"/>
                  </a:lnTo>
                  <a:lnTo>
                    <a:pt x="209208" y="119352"/>
                  </a:lnTo>
                  <a:lnTo>
                    <a:pt x="215009" y="124394"/>
                  </a:lnTo>
                  <a:lnTo>
                    <a:pt x="220410" y="129458"/>
                  </a:lnTo>
                  <a:lnTo>
                    <a:pt x="223035" y="131993"/>
                  </a:lnTo>
                  <a:lnTo>
                    <a:pt x="224786" y="135377"/>
                  </a:lnTo>
                  <a:lnTo>
                    <a:pt x="225953" y="139326"/>
                  </a:lnTo>
                  <a:lnTo>
                    <a:pt x="226730" y="143652"/>
                  </a:lnTo>
                  <a:lnTo>
                    <a:pt x="226402" y="148229"/>
                  </a:lnTo>
                  <a:lnTo>
                    <a:pt x="225337" y="152974"/>
                  </a:lnTo>
                  <a:lnTo>
                    <a:pt x="223780" y="157831"/>
                  </a:lnTo>
                  <a:lnTo>
                    <a:pt x="221049" y="161915"/>
                  </a:lnTo>
                  <a:lnTo>
                    <a:pt x="217534" y="165485"/>
                  </a:lnTo>
                  <a:lnTo>
                    <a:pt x="213498" y="168711"/>
                  </a:lnTo>
                  <a:lnTo>
                    <a:pt x="206756" y="174554"/>
                  </a:lnTo>
                  <a:lnTo>
                    <a:pt x="200091" y="180819"/>
                  </a:lnTo>
                  <a:lnTo>
                    <a:pt x="191484" y="189249"/>
                  </a:lnTo>
                  <a:lnTo>
                    <a:pt x="186818" y="193020"/>
                  </a:lnTo>
                  <a:lnTo>
                    <a:pt x="182014" y="196382"/>
                  </a:lnTo>
                  <a:lnTo>
                    <a:pt x="177118" y="199469"/>
                  </a:lnTo>
                  <a:lnTo>
                    <a:pt x="171314" y="202374"/>
                  </a:lnTo>
                  <a:lnTo>
                    <a:pt x="164905" y="205157"/>
                  </a:lnTo>
                  <a:lnTo>
                    <a:pt x="158092" y="207860"/>
                  </a:lnTo>
                  <a:lnTo>
                    <a:pt x="143749" y="213120"/>
                  </a:lnTo>
                  <a:lnTo>
                    <a:pt x="113845" y="223395"/>
                  </a:lnTo>
                  <a:lnTo>
                    <a:pt x="106272" y="225098"/>
                  </a:lnTo>
                  <a:lnTo>
                    <a:pt x="98683" y="226233"/>
                  </a:lnTo>
                  <a:lnTo>
                    <a:pt x="91084" y="226990"/>
                  </a:lnTo>
                  <a:lnTo>
                    <a:pt x="83478" y="227495"/>
                  </a:lnTo>
                  <a:lnTo>
                    <a:pt x="75868" y="227831"/>
                  </a:lnTo>
                  <a:lnTo>
                    <a:pt x="55279" y="228305"/>
                  </a:lnTo>
                  <a:lnTo>
                    <a:pt x="33151" y="228465"/>
                  </a:lnTo>
                  <a:lnTo>
                    <a:pt x="28770" y="227631"/>
                  </a:lnTo>
                  <a:lnTo>
                    <a:pt x="25002" y="226229"/>
                  </a:lnTo>
                  <a:lnTo>
                    <a:pt x="14926" y="220884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500"/>
            <p:cNvSpPr/>
            <p:nvPr/>
          </p:nvSpPr>
          <p:spPr>
            <a:xfrm>
              <a:off x="1188000" y="2133720"/>
              <a:ext cx="114120" cy="144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14301" h="144781">
                  <a:moveTo>
                    <a:pt x="114300" y="0"/>
                  </a:moveTo>
                  <a:lnTo>
                    <a:pt x="114300" y="11352"/>
                  </a:lnTo>
                  <a:lnTo>
                    <a:pt x="113453" y="14341"/>
                  </a:lnTo>
                  <a:lnTo>
                    <a:pt x="112042" y="18027"/>
                  </a:lnTo>
                  <a:lnTo>
                    <a:pt x="110255" y="22178"/>
                  </a:lnTo>
                  <a:lnTo>
                    <a:pt x="109063" y="26639"/>
                  </a:lnTo>
                  <a:lnTo>
                    <a:pt x="108269" y="31306"/>
                  </a:lnTo>
                  <a:lnTo>
                    <a:pt x="107739" y="36111"/>
                  </a:lnTo>
                  <a:lnTo>
                    <a:pt x="105693" y="41007"/>
                  </a:lnTo>
                  <a:lnTo>
                    <a:pt x="102635" y="45965"/>
                  </a:lnTo>
                  <a:lnTo>
                    <a:pt x="98903" y="50963"/>
                  </a:lnTo>
                  <a:lnTo>
                    <a:pt x="95569" y="55989"/>
                  </a:lnTo>
                  <a:lnTo>
                    <a:pt x="92499" y="61033"/>
                  </a:lnTo>
                  <a:lnTo>
                    <a:pt x="89606" y="66088"/>
                  </a:lnTo>
                  <a:lnTo>
                    <a:pt x="86831" y="70306"/>
                  </a:lnTo>
                  <a:lnTo>
                    <a:pt x="84134" y="73964"/>
                  </a:lnTo>
                  <a:lnTo>
                    <a:pt x="81489" y="77249"/>
                  </a:lnTo>
                  <a:lnTo>
                    <a:pt x="78033" y="81133"/>
                  </a:lnTo>
                  <a:lnTo>
                    <a:pt x="69677" y="89963"/>
                  </a:lnTo>
                  <a:lnTo>
                    <a:pt x="65925" y="94689"/>
                  </a:lnTo>
                  <a:lnTo>
                    <a:pt x="62576" y="99533"/>
                  </a:lnTo>
                  <a:lnTo>
                    <a:pt x="59498" y="104455"/>
                  </a:lnTo>
                  <a:lnTo>
                    <a:pt x="55752" y="109430"/>
                  </a:lnTo>
                  <a:lnTo>
                    <a:pt x="51561" y="114440"/>
                  </a:lnTo>
                  <a:lnTo>
                    <a:pt x="47074" y="119474"/>
                  </a:lnTo>
                  <a:lnTo>
                    <a:pt x="42389" y="123676"/>
                  </a:lnTo>
                  <a:lnTo>
                    <a:pt x="37573" y="127324"/>
                  </a:lnTo>
                  <a:lnTo>
                    <a:pt x="32669" y="130602"/>
                  </a:lnTo>
                  <a:lnTo>
                    <a:pt x="27706" y="133635"/>
                  </a:lnTo>
                  <a:lnTo>
                    <a:pt x="22704" y="136503"/>
                  </a:lnTo>
                  <a:lnTo>
                    <a:pt x="10600" y="143145"/>
                  </a:lnTo>
                  <a:lnTo>
                    <a:pt x="8760" y="143690"/>
                  </a:lnTo>
                  <a:lnTo>
                    <a:pt x="6687" y="144054"/>
                  </a:lnTo>
                  <a:lnTo>
                    <a:pt x="0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501"/>
            <p:cNvSpPr/>
            <p:nvPr/>
          </p:nvSpPr>
          <p:spPr>
            <a:xfrm>
              <a:off x="1203120" y="2148840"/>
              <a:ext cx="190440" cy="136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0501" h="13716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7" y="6031"/>
                  </a:lnTo>
                  <a:lnTo>
                    <a:pt x="14341" y="7761"/>
                  </a:lnTo>
                  <a:lnTo>
                    <a:pt x="18027" y="9407"/>
                  </a:lnTo>
                  <a:lnTo>
                    <a:pt x="22178" y="11351"/>
                  </a:lnTo>
                  <a:lnTo>
                    <a:pt x="26639" y="14341"/>
                  </a:lnTo>
                  <a:lnTo>
                    <a:pt x="31306" y="18027"/>
                  </a:lnTo>
                  <a:lnTo>
                    <a:pt x="36111" y="22178"/>
                  </a:lnTo>
                  <a:lnTo>
                    <a:pt x="41007" y="26639"/>
                  </a:lnTo>
                  <a:lnTo>
                    <a:pt x="50963" y="36111"/>
                  </a:lnTo>
                  <a:lnTo>
                    <a:pt x="66088" y="50963"/>
                  </a:lnTo>
                  <a:lnTo>
                    <a:pt x="71999" y="55142"/>
                  </a:lnTo>
                  <a:lnTo>
                    <a:pt x="78479" y="58775"/>
                  </a:lnTo>
                  <a:lnTo>
                    <a:pt x="85340" y="62043"/>
                  </a:lnTo>
                  <a:lnTo>
                    <a:pt x="91606" y="65916"/>
                  </a:lnTo>
                  <a:lnTo>
                    <a:pt x="97478" y="70190"/>
                  </a:lnTo>
                  <a:lnTo>
                    <a:pt x="103085" y="74734"/>
                  </a:lnTo>
                  <a:lnTo>
                    <a:pt x="109364" y="79456"/>
                  </a:lnTo>
                  <a:lnTo>
                    <a:pt x="123113" y="89218"/>
                  </a:lnTo>
                  <a:lnTo>
                    <a:pt x="129489" y="94192"/>
                  </a:lnTo>
                  <a:lnTo>
                    <a:pt x="135433" y="99201"/>
                  </a:lnTo>
                  <a:lnTo>
                    <a:pt x="141088" y="104234"/>
                  </a:lnTo>
                  <a:lnTo>
                    <a:pt x="146552" y="108436"/>
                  </a:lnTo>
                  <a:lnTo>
                    <a:pt x="151888" y="112084"/>
                  </a:lnTo>
                  <a:lnTo>
                    <a:pt x="157139" y="115363"/>
                  </a:lnTo>
                  <a:lnTo>
                    <a:pt x="161486" y="118395"/>
                  </a:lnTo>
                  <a:lnTo>
                    <a:pt x="165231" y="121263"/>
                  </a:lnTo>
                  <a:lnTo>
                    <a:pt x="168574" y="124022"/>
                  </a:lnTo>
                  <a:lnTo>
                    <a:pt x="172496" y="126708"/>
                  </a:lnTo>
                  <a:lnTo>
                    <a:pt x="176804" y="129346"/>
                  </a:lnTo>
                  <a:lnTo>
                    <a:pt x="190500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502"/>
            <p:cNvSpPr/>
            <p:nvPr/>
          </p:nvSpPr>
          <p:spPr>
            <a:xfrm>
              <a:off x="1546200" y="2064960"/>
              <a:ext cx="7560" cy="213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21" h="213361">
                  <a:moveTo>
                    <a:pt x="7620" y="0"/>
                  </a:moveTo>
                  <a:lnTo>
                    <a:pt x="7620" y="43638"/>
                  </a:lnTo>
                  <a:lnTo>
                    <a:pt x="6773" y="48565"/>
                  </a:lnTo>
                  <a:lnTo>
                    <a:pt x="5362" y="53544"/>
                  </a:lnTo>
                  <a:lnTo>
                    <a:pt x="3575" y="58556"/>
                  </a:lnTo>
                  <a:lnTo>
                    <a:pt x="2383" y="64437"/>
                  </a:lnTo>
                  <a:lnTo>
                    <a:pt x="1589" y="70898"/>
                  </a:lnTo>
                  <a:lnTo>
                    <a:pt x="1059" y="77746"/>
                  </a:lnTo>
                  <a:lnTo>
                    <a:pt x="706" y="84004"/>
                  </a:lnTo>
                  <a:lnTo>
                    <a:pt x="314" y="95473"/>
                  </a:lnTo>
                  <a:lnTo>
                    <a:pt x="42" y="127814"/>
                  </a:lnTo>
                  <a:lnTo>
                    <a:pt x="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503"/>
            <p:cNvSpPr/>
            <p:nvPr/>
          </p:nvSpPr>
          <p:spPr>
            <a:xfrm>
              <a:off x="1500480" y="217944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148708" y="7620"/>
                  </a:lnTo>
                  <a:lnTo>
                    <a:pt x="154172" y="6774"/>
                  </a:lnTo>
                  <a:lnTo>
                    <a:pt x="159508" y="5362"/>
                  </a:lnTo>
                  <a:lnTo>
                    <a:pt x="164758" y="3575"/>
                  </a:lnTo>
                  <a:lnTo>
                    <a:pt x="169106" y="2383"/>
                  </a:lnTo>
                  <a:lnTo>
                    <a:pt x="172850" y="1589"/>
                  </a:lnTo>
                  <a:lnTo>
                    <a:pt x="176193" y="1060"/>
                  </a:lnTo>
                  <a:lnTo>
                    <a:pt x="179269" y="706"/>
                  </a:lnTo>
                  <a:lnTo>
                    <a:pt x="182166" y="471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504"/>
            <p:cNvSpPr/>
            <p:nvPr/>
          </p:nvSpPr>
          <p:spPr>
            <a:xfrm>
              <a:off x="1736640" y="2057400"/>
              <a:ext cx="45720" cy="20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45721" h="20574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2997"/>
                  </a:lnTo>
                  <a:lnTo>
                    <a:pt x="6561" y="17912"/>
                  </a:lnTo>
                  <a:lnTo>
                    <a:pt x="7760" y="20408"/>
                  </a:lnTo>
                  <a:lnTo>
                    <a:pt x="9407" y="22919"/>
                  </a:lnTo>
                  <a:lnTo>
                    <a:pt x="11352" y="25439"/>
                  </a:lnTo>
                  <a:lnTo>
                    <a:pt x="12648" y="29659"/>
                  </a:lnTo>
                  <a:lnTo>
                    <a:pt x="13512" y="35013"/>
                  </a:lnTo>
                  <a:lnTo>
                    <a:pt x="14088" y="41122"/>
                  </a:lnTo>
                  <a:lnTo>
                    <a:pt x="14472" y="46888"/>
                  </a:lnTo>
                  <a:lnTo>
                    <a:pt x="14728" y="52425"/>
                  </a:lnTo>
                  <a:lnTo>
                    <a:pt x="14899" y="57810"/>
                  </a:lnTo>
                  <a:lnTo>
                    <a:pt x="15859" y="63094"/>
                  </a:lnTo>
                  <a:lnTo>
                    <a:pt x="17346" y="68309"/>
                  </a:lnTo>
                  <a:lnTo>
                    <a:pt x="19184" y="73479"/>
                  </a:lnTo>
                  <a:lnTo>
                    <a:pt x="20409" y="78620"/>
                  </a:lnTo>
                  <a:lnTo>
                    <a:pt x="21226" y="83740"/>
                  </a:lnTo>
                  <a:lnTo>
                    <a:pt x="21771" y="88847"/>
                  </a:lnTo>
                  <a:lnTo>
                    <a:pt x="22981" y="94791"/>
                  </a:lnTo>
                  <a:lnTo>
                    <a:pt x="24634" y="101294"/>
                  </a:lnTo>
                  <a:lnTo>
                    <a:pt x="26583" y="108170"/>
                  </a:lnTo>
                  <a:lnTo>
                    <a:pt x="27882" y="114446"/>
                  </a:lnTo>
                  <a:lnTo>
                    <a:pt x="28748" y="120324"/>
                  </a:lnTo>
                  <a:lnTo>
                    <a:pt x="29325" y="125936"/>
                  </a:lnTo>
                  <a:lnTo>
                    <a:pt x="29710" y="131371"/>
                  </a:lnTo>
                  <a:lnTo>
                    <a:pt x="29967" y="136687"/>
                  </a:lnTo>
                  <a:lnTo>
                    <a:pt x="30252" y="147110"/>
                  </a:lnTo>
                  <a:lnTo>
                    <a:pt x="30471" y="183907"/>
                  </a:lnTo>
                  <a:lnTo>
                    <a:pt x="31321" y="186951"/>
                  </a:lnTo>
                  <a:lnTo>
                    <a:pt x="32734" y="189828"/>
                  </a:lnTo>
                  <a:lnTo>
                    <a:pt x="34523" y="192592"/>
                  </a:lnTo>
                  <a:lnTo>
                    <a:pt x="36562" y="195281"/>
                  </a:lnTo>
                  <a:lnTo>
                    <a:pt x="38768" y="197921"/>
                  </a:lnTo>
                  <a:lnTo>
                    <a:pt x="4572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505"/>
            <p:cNvSpPr/>
            <p:nvPr/>
          </p:nvSpPr>
          <p:spPr>
            <a:xfrm>
              <a:off x="1843560" y="2080080"/>
              <a:ext cx="272880" cy="190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72899" h="190117">
                  <a:moveTo>
                    <a:pt x="45588" y="0"/>
                  </a:moveTo>
                  <a:lnTo>
                    <a:pt x="45588" y="4045"/>
                  </a:lnTo>
                  <a:lnTo>
                    <a:pt x="44741" y="5237"/>
                  </a:lnTo>
                  <a:lnTo>
                    <a:pt x="43330" y="6031"/>
                  </a:lnTo>
                  <a:lnTo>
                    <a:pt x="41543" y="6561"/>
                  </a:lnTo>
                  <a:lnTo>
                    <a:pt x="40351" y="7761"/>
                  </a:lnTo>
                  <a:lnTo>
                    <a:pt x="39557" y="9407"/>
                  </a:lnTo>
                  <a:lnTo>
                    <a:pt x="37827" y="14341"/>
                  </a:lnTo>
                  <a:lnTo>
                    <a:pt x="36181" y="18027"/>
                  </a:lnTo>
                  <a:lnTo>
                    <a:pt x="34237" y="22178"/>
                  </a:lnTo>
                  <a:lnTo>
                    <a:pt x="32094" y="25792"/>
                  </a:lnTo>
                  <a:lnTo>
                    <a:pt x="29819" y="29048"/>
                  </a:lnTo>
                  <a:lnTo>
                    <a:pt x="25033" y="34924"/>
                  </a:lnTo>
                  <a:lnTo>
                    <a:pt x="20084" y="40357"/>
                  </a:lnTo>
                  <a:lnTo>
                    <a:pt x="17578" y="43838"/>
                  </a:lnTo>
                  <a:lnTo>
                    <a:pt x="15061" y="47852"/>
                  </a:lnTo>
                  <a:lnTo>
                    <a:pt x="12537" y="52221"/>
                  </a:lnTo>
                  <a:lnTo>
                    <a:pt x="10008" y="55981"/>
                  </a:lnTo>
                  <a:lnTo>
                    <a:pt x="7474" y="59334"/>
                  </a:lnTo>
                  <a:lnTo>
                    <a:pt x="4939" y="62416"/>
                  </a:lnTo>
                  <a:lnTo>
                    <a:pt x="2122" y="68098"/>
                  </a:lnTo>
                  <a:lnTo>
                    <a:pt x="870" y="73446"/>
                  </a:lnTo>
                  <a:lnTo>
                    <a:pt x="313" y="78645"/>
                  </a:lnTo>
                  <a:lnTo>
                    <a:pt x="66" y="83778"/>
                  </a:lnTo>
                  <a:lnTo>
                    <a:pt x="0" y="86332"/>
                  </a:lnTo>
                  <a:lnTo>
                    <a:pt x="802" y="88034"/>
                  </a:lnTo>
                  <a:lnTo>
                    <a:pt x="2184" y="89170"/>
                  </a:lnTo>
                  <a:lnTo>
                    <a:pt x="3952" y="89927"/>
                  </a:lnTo>
                  <a:lnTo>
                    <a:pt x="5131" y="91278"/>
                  </a:lnTo>
                  <a:lnTo>
                    <a:pt x="5917" y="93025"/>
                  </a:lnTo>
                  <a:lnTo>
                    <a:pt x="7178" y="97868"/>
                  </a:lnTo>
                  <a:lnTo>
                    <a:pt x="7281" y="97419"/>
                  </a:lnTo>
                  <a:lnTo>
                    <a:pt x="7396" y="94662"/>
                  </a:lnTo>
                  <a:lnTo>
                    <a:pt x="8273" y="93588"/>
                  </a:lnTo>
                  <a:lnTo>
                    <a:pt x="9705" y="92872"/>
                  </a:lnTo>
                  <a:lnTo>
                    <a:pt x="11506" y="92395"/>
                  </a:lnTo>
                  <a:lnTo>
                    <a:pt x="13553" y="90383"/>
                  </a:lnTo>
                  <a:lnTo>
                    <a:pt x="15765" y="87349"/>
                  </a:lnTo>
                  <a:lnTo>
                    <a:pt x="18086" y="83632"/>
                  </a:lnTo>
                  <a:lnTo>
                    <a:pt x="21327" y="80309"/>
                  </a:lnTo>
                  <a:lnTo>
                    <a:pt x="25180" y="77246"/>
                  </a:lnTo>
                  <a:lnTo>
                    <a:pt x="29443" y="74357"/>
                  </a:lnTo>
                  <a:lnTo>
                    <a:pt x="33131" y="70738"/>
                  </a:lnTo>
                  <a:lnTo>
                    <a:pt x="36437" y="66632"/>
                  </a:lnTo>
                  <a:lnTo>
                    <a:pt x="39487" y="62201"/>
                  </a:lnTo>
                  <a:lnTo>
                    <a:pt x="43214" y="58401"/>
                  </a:lnTo>
                  <a:lnTo>
                    <a:pt x="47392" y="55021"/>
                  </a:lnTo>
                  <a:lnTo>
                    <a:pt x="51871" y="51920"/>
                  </a:lnTo>
                  <a:lnTo>
                    <a:pt x="56550" y="48160"/>
                  </a:lnTo>
                  <a:lnTo>
                    <a:pt x="61363" y="43960"/>
                  </a:lnTo>
                  <a:lnTo>
                    <a:pt x="66265" y="39467"/>
                  </a:lnTo>
                  <a:lnTo>
                    <a:pt x="71225" y="35625"/>
                  </a:lnTo>
                  <a:lnTo>
                    <a:pt x="76226" y="32217"/>
                  </a:lnTo>
                  <a:lnTo>
                    <a:pt x="81253" y="29098"/>
                  </a:lnTo>
                  <a:lnTo>
                    <a:pt x="87145" y="26172"/>
                  </a:lnTo>
                  <a:lnTo>
                    <a:pt x="93613" y="23374"/>
                  </a:lnTo>
                  <a:lnTo>
                    <a:pt x="100465" y="20663"/>
                  </a:lnTo>
                  <a:lnTo>
                    <a:pt x="106726" y="18855"/>
                  </a:lnTo>
                  <a:lnTo>
                    <a:pt x="112593" y="17650"/>
                  </a:lnTo>
                  <a:lnTo>
                    <a:pt x="118198" y="16847"/>
                  </a:lnTo>
                  <a:lnTo>
                    <a:pt x="124475" y="16311"/>
                  </a:lnTo>
                  <a:lnTo>
                    <a:pt x="131199" y="15954"/>
                  </a:lnTo>
                  <a:lnTo>
                    <a:pt x="145444" y="15557"/>
                  </a:lnTo>
                  <a:lnTo>
                    <a:pt x="160242" y="15381"/>
                  </a:lnTo>
                  <a:lnTo>
                    <a:pt x="167744" y="16181"/>
                  </a:lnTo>
                  <a:lnTo>
                    <a:pt x="175285" y="17561"/>
                  </a:lnTo>
                  <a:lnTo>
                    <a:pt x="182853" y="19327"/>
                  </a:lnTo>
                  <a:lnTo>
                    <a:pt x="189591" y="21351"/>
                  </a:lnTo>
                  <a:lnTo>
                    <a:pt x="195777" y="23548"/>
                  </a:lnTo>
                  <a:lnTo>
                    <a:pt x="201594" y="25859"/>
                  </a:lnTo>
                  <a:lnTo>
                    <a:pt x="208012" y="29092"/>
                  </a:lnTo>
                  <a:lnTo>
                    <a:pt x="214831" y="32942"/>
                  </a:lnTo>
                  <a:lnTo>
                    <a:pt x="221917" y="37201"/>
                  </a:lnTo>
                  <a:lnTo>
                    <a:pt x="227487" y="41734"/>
                  </a:lnTo>
                  <a:lnTo>
                    <a:pt x="232048" y="46450"/>
                  </a:lnTo>
                  <a:lnTo>
                    <a:pt x="235934" y="51286"/>
                  </a:lnTo>
                  <a:lnTo>
                    <a:pt x="239372" y="56204"/>
                  </a:lnTo>
                  <a:lnTo>
                    <a:pt x="242511" y="61176"/>
                  </a:lnTo>
                  <a:lnTo>
                    <a:pt x="245450" y="66184"/>
                  </a:lnTo>
                  <a:lnTo>
                    <a:pt x="249103" y="71216"/>
                  </a:lnTo>
                  <a:lnTo>
                    <a:pt x="253231" y="76264"/>
                  </a:lnTo>
                  <a:lnTo>
                    <a:pt x="257677" y="81323"/>
                  </a:lnTo>
                  <a:lnTo>
                    <a:pt x="260640" y="87235"/>
                  </a:lnTo>
                  <a:lnTo>
                    <a:pt x="262616" y="93717"/>
                  </a:lnTo>
                  <a:lnTo>
                    <a:pt x="263934" y="100578"/>
                  </a:lnTo>
                  <a:lnTo>
                    <a:pt x="265659" y="106845"/>
                  </a:lnTo>
                  <a:lnTo>
                    <a:pt x="267655" y="112717"/>
                  </a:lnTo>
                  <a:lnTo>
                    <a:pt x="269833" y="118325"/>
                  </a:lnTo>
                  <a:lnTo>
                    <a:pt x="271285" y="123757"/>
                  </a:lnTo>
                  <a:lnTo>
                    <a:pt x="272252" y="129071"/>
                  </a:lnTo>
                  <a:lnTo>
                    <a:pt x="272898" y="134308"/>
                  </a:lnTo>
                  <a:lnTo>
                    <a:pt x="272481" y="139492"/>
                  </a:lnTo>
                  <a:lnTo>
                    <a:pt x="271357" y="144641"/>
                  </a:lnTo>
                  <a:lnTo>
                    <a:pt x="269761" y="149767"/>
                  </a:lnTo>
                  <a:lnTo>
                    <a:pt x="268697" y="154032"/>
                  </a:lnTo>
                  <a:lnTo>
                    <a:pt x="267987" y="157721"/>
                  </a:lnTo>
                  <a:lnTo>
                    <a:pt x="267514" y="161028"/>
                  </a:lnTo>
                  <a:lnTo>
                    <a:pt x="266352" y="164925"/>
                  </a:lnTo>
                  <a:lnTo>
                    <a:pt x="264731" y="169217"/>
                  </a:lnTo>
                  <a:lnTo>
                    <a:pt x="262803" y="173771"/>
                  </a:lnTo>
                  <a:lnTo>
                    <a:pt x="260672" y="176807"/>
                  </a:lnTo>
                  <a:lnTo>
                    <a:pt x="258404" y="178832"/>
                  </a:lnTo>
                  <a:lnTo>
                    <a:pt x="252779" y="181928"/>
                  </a:lnTo>
                  <a:lnTo>
                    <a:pt x="244635" y="186126"/>
                  </a:lnTo>
                  <a:lnTo>
                    <a:pt x="240093" y="187584"/>
                  </a:lnTo>
                  <a:lnTo>
                    <a:pt x="235371" y="188556"/>
                  </a:lnTo>
                  <a:lnTo>
                    <a:pt x="230530" y="189204"/>
                  </a:lnTo>
                  <a:lnTo>
                    <a:pt x="225609" y="189636"/>
                  </a:lnTo>
                  <a:lnTo>
                    <a:pt x="220636" y="189924"/>
                  </a:lnTo>
                  <a:lnTo>
                    <a:pt x="215626" y="190116"/>
                  </a:lnTo>
                  <a:lnTo>
                    <a:pt x="210594" y="189397"/>
                  </a:lnTo>
                  <a:lnTo>
                    <a:pt x="205545" y="188072"/>
                  </a:lnTo>
                  <a:lnTo>
                    <a:pt x="181231" y="179861"/>
                  </a:lnTo>
                  <a:lnTo>
                    <a:pt x="174963" y="177480"/>
                  </a:lnTo>
                  <a:lnTo>
                    <a:pt x="169092" y="175047"/>
                  </a:lnTo>
                  <a:lnTo>
                    <a:pt x="163484" y="172578"/>
                  </a:lnTo>
                  <a:lnTo>
                    <a:pt x="152737" y="167577"/>
                  </a:lnTo>
                  <a:lnTo>
                    <a:pt x="137028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506"/>
            <p:cNvSpPr/>
            <p:nvPr/>
          </p:nvSpPr>
          <p:spPr>
            <a:xfrm>
              <a:off x="1850760" y="203436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38">
                  <a:moveTo>
                    <a:pt x="0" y="15237"/>
                  </a:moveTo>
                  <a:lnTo>
                    <a:pt x="4045" y="11192"/>
                  </a:lnTo>
                  <a:lnTo>
                    <a:pt x="6930" y="10000"/>
                  </a:lnTo>
                  <a:lnTo>
                    <a:pt x="10547" y="9206"/>
                  </a:lnTo>
                  <a:lnTo>
                    <a:pt x="14651" y="8676"/>
                  </a:lnTo>
                  <a:lnTo>
                    <a:pt x="18234" y="8323"/>
                  </a:lnTo>
                  <a:lnTo>
                    <a:pt x="24473" y="7931"/>
                  </a:lnTo>
                  <a:lnTo>
                    <a:pt x="29016" y="6980"/>
                  </a:lnTo>
                  <a:lnTo>
                    <a:pt x="34584" y="5499"/>
                  </a:lnTo>
                  <a:lnTo>
                    <a:pt x="40836" y="3665"/>
                  </a:lnTo>
                  <a:lnTo>
                    <a:pt x="48391" y="2442"/>
                  </a:lnTo>
                  <a:lnTo>
                    <a:pt x="56814" y="1627"/>
                  </a:lnTo>
                  <a:lnTo>
                    <a:pt x="65816" y="1084"/>
                  </a:lnTo>
                  <a:lnTo>
                    <a:pt x="84850" y="480"/>
                  </a:lnTo>
                  <a:lnTo>
                    <a:pt x="146076" y="61"/>
                  </a:lnTo>
                  <a:lnTo>
                    <a:pt x="238266" y="0"/>
                  </a:lnTo>
                  <a:lnTo>
                    <a:pt x="247744" y="846"/>
                  </a:lnTo>
                  <a:lnTo>
                    <a:pt x="256603" y="2256"/>
                  </a:lnTo>
                  <a:lnTo>
                    <a:pt x="265048" y="4043"/>
                  </a:lnTo>
                  <a:lnTo>
                    <a:pt x="272373" y="5234"/>
                  </a:lnTo>
                  <a:lnTo>
                    <a:pt x="278949" y="6029"/>
                  </a:lnTo>
                  <a:lnTo>
                    <a:pt x="297180" y="761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507"/>
            <p:cNvSpPr/>
            <p:nvPr/>
          </p:nvSpPr>
          <p:spPr>
            <a:xfrm>
              <a:off x="2285280" y="211068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508"/>
            <p:cNvSpPr/>
            <p:nvPr/>
          </p:nvSpPr>
          <p:spPr>
            <a:xfrm>
              <a:off x="2300400" y="214884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53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6" y="6561"/>
                  </a:lnTo>
                  <a:lnTo>
                    <a:pt x="6931" y="7761"/>
                  </a:lnTo>
                  <a:lnTo>
                    <a:pt x="10547" y="9407"/>
                  </a:lnTo>
                  <a:lnTo>
                    <a:pt x="14652" y="11351"/>
                  </a:lnTo>
                  <a:lnTo>
                    <a:pt x="18235" y="12648"/>
                  </a:lnTo>
                  <a:lnTo>
                    <a:pt x="21470" y="13512"/>
                  </a:lnTo>
                  <a:lnTo>
                    <a:pt x="24473" y="14088"/>
                  </a:lnTo>
                  <a:lnTo>
                    <a:pt x="28169" y="14472"/>
                  </a:lnTo>
                  <a:lnTo>
                    <a:pt x="32326" y="14728"/>
                  </a:lnTo>
                  <a:lnTo>
                    <a:pt x="36791" y="14899"/>
                  </a:lnTo>
                  <a:lnTo>
                    <a:pt x="42307" y="15859"/>
                  </a:lnTo>
                  <a:lnTo>
                    <a:pt x="48525" y="17346"/>
                  </a:lnTo>
                  <a:lnTo>
                    <a:pt x="55210" y="19184"/>
                  </a:lnTo>
                  <a:lnTo>
                    <a:pt x="62207" y="20410"/>
                  </a:lnTo>
                  <a:lnTo>
                    <a:pt x="69411" y="21226"/>
                  </a:lnTo>
                  <a:lnTo>
                    <a:pt x="76754" y="21771"/>
                  </a:lnTo>
                  <a:lnTo>
                    <a:pt x="84190" y="22134"/>
                  </a:lnTo>
                  <a:lnTo>
                    <a:pt x="99225" y="22537"/>
                  </a:lnTo>
                  <a:lnTo>
                    <a:pt x="157039" y="22852"/>
                  </a:lnTo>
                  <a:lnTo>
                    <a:pt x="162265" y="22008"/>
                  </a:lnTo>
                  <a:lnTo>
                    <a:pt x="167444" y="20599"/>
                  </a:lnTo>
                  <a:lnTo>
                    <a:pt x="172589" y="18813"/>
                  </a:lnTo>
                  <a:lnTo>
                    <a:pt x="177713" y="17622"/>
                  </a:lnTo>
                  <a:lnTo>
                    <a:pt x="182822" y="16828"/>
                  </a:lnTo>
                  <a:lnTo>
                    <a:pt x="187921" y="16299"/>
                  </a:lnTo>
                  <a:lnTo>
                    <a:pt x="193015" y="15946"/>
                  </a:lnTo>
                  <a:lnTo>
                    <a:pt x="198103" y="15710"/>
                  </a:lnTo>
                  <a:lnTo>
                    <a:pt x="211097" y="15379"/>
                  </a:lnTo>
                  <a:lnTo>
                    <a:pt x="2209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509"/>
            <p:cNvSpPr/>
            <p:nvPr/>
          </p:nvSpPr>
          <p:spPr>
            <a:xfrm>
              <a:off x="2636280" y="2004120"/>
              <a:ext cx="212760" cy="174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12914" h="175261">
                  <a:moveTo>
                    <a:pt x="60513" y="0"/>
                  </a:moveTo>
                  <a:lnTo>
                    <a:pt x="56468" y="4045"/>
                  </a:lnTo>
                  <a:lnTo>
                    <a:pt x="55276" y="6084"/>
                  </a:lnTo>
                  <a:lnTo>
                    <a:pt x="53952" y="10606"/>
                  </a:lnTo>
                  <a:lnTo>
                    <a:pt x="51906" y="13844"/>
                  </a:lnTo>
                  <a:lnTo>
                    <a:pt x="48848" y="17696"/>
                  </a:lnTo>
                  <a:lnTo>
                    <a:pt x="45117" y="21957"/>
                  </a:lnTo>
                  <a:lnTo>
                    <a:pt x="38712" y="28950"/>
                  </a:lnTo>
                  <a:lnTo>
                    <a:pt x="35819" y="32000"/>
                  </a:lnTo>
                  <a:lnTo>
                    <a:pt x="33044" y="36574"/>
                  </a:lnTo>
                  <a:lnTo>
                    <a:pt x="30347" y="42162"/>
                  </a:lnTo>
                  <a:lnTo>
                    <a:pt x="27702" y="48428"/>
                  </a:lnTo>
                  <a:lnTo>
                    <a:pt x="22506" y="59906"/>
                  </a:lnTo>
                  <a:lnTo>
                    <a:pt x="14821" y="75888"/>
                  </a:lnTo>
                  <a:lnTo>
                    <a:pt x="4639" y="96458"/>
                  </a:lnTo>
                  <a:lnTo>
                    <a:pt x="2943" y="100712"/>
                  </a:lnTo>
                  <a:lnTo>
                    <a:pt x="1813" y="104395"/>
                  </a:lnTo>
                  <a:lnTo>
                    <a:pt x="1060" y="107697"/>
                  </a:lnTo>
                  <a:lnTo>
                    <a:pt x="558" y="111591"/>
                  </a:lnTo>
                  <a:lnTo>
                    <a:pt x="223" y="115881"/>
                  </a:lnTo>
                  <a:lnTo>
                    <a:pt x="0" y="120434"/>
                  </a:lnTo>
                  <a:lnTo>
                    <a:pt x="698" y="124316"/>
                  </a:lnTo>
                  <a:lnTo>
                    <a:pt x="2009" y="127751"/>
                  </a:lnTo>
                  <a:lnTo>
                    <a:pt x="3731" y="130887"/>
                  </a:lnTo>
                  <a:lnTo>
                    <a:pt x="5725" y="133825"/>
                  </a:lnTo>
                  <a:lnTo>
                    <a:pt x="7901" y="136630"/>
                  </a:lnTo>
                  <a:lnTo>
                    <a:pt x="10198" y="139347"/>
                  </a:lnTo>
                  <a:lnTo>
                    <a:pt x="13423" y="142005"/>
                  </a:lnTo>
                  <a:lnTo>
                    <a:pt x="17266" y="144623"/>
                  </a:lnTo>
                  <a:lnTo>
                    <a:pt x="21522" y="147215"/>
                  </a:lnTo>
                  <a:lnTo>
                    <a:pt x="26053" y="148944"/>
                  </a:lnTo>
                  <a:lnTo>
                    <a:pt x="30766" y="150096"/>
                  </a:lnTo>
                  <a:lnTo>
                    <a:pt x="35602" y="150864"/>
                  </a:lnTo>
                  <a:lnTo>
                    <a:pt x="41366" y="152223"/>
                  </a:lnTo>
                  <a:lnTo>
                    <a:pt x="47748" y="153975"/>
                  </a:lnTo>
                  <a:lnTo>
                    <a:pt x="54543" y="155990"/>
                  </a:lnTo>
                  <a:lnTo>
                    <a:pt x="60767" y="156487"/>
                  </a:lnTo>
                  <a:lnTo>
                    <a:pt x="66609" y="155971"/>
                  </a:lnTo>
                  <a:lnTo>
                    <a:pt x="72197" y="154781"/>
                  </a:lnTo>
                  <a:lnTo>
                    <a:pt x="78462" y="153987"/>
                  </a:lnTo>
                  <a:lnTo>
                    <a:pt x="85179" y="153458"/>
                  </a:lnTo>
                  <a:lnTo>
                    <a:pt x="92197" y="153106"/>
                  </a:lnTo>
                  <a:lnTo>
                    <a:pt x="98569" y="152024"/>
                  </a:lnTo>
                  <a:lnTo>
                    <a:pt x="104510" y="150456"/>
                  </a:lnTo>
                  <a:lnTo>
                    <a:pt x="110165" y="148564"/>
                  </a:lnTo>
                  <a:lnTo>
                    <a:pt x="115628" y="146456"/>
                  </a:lnTo>
                  <a:lnTo>
                    <a:pt x="120962" y="144204"/>
                  </a:lnTo>
                  <a:lnTo>
                    <a:pt x="126213" y="141856"/>
                  </a:lnTo>
                  <a:lnTo>
                    <a:pt x="130559" y="138598"/>
                  </a:lnTo>
                  <a:lnTo>
                    <a:pt x="134304" y="134732"/>
                  </a:lnTo>
                  <a:lnTo>
                    <a:pt x="137647" y="130461"/>
                  </a:lnTo>
                  <a:lnTo>
                    <a:pt x="140722" y="126767"/>
                  </a:lnTo>
                  <a:lnTo>
                    <a:pt x="143619" y="123458"/>
                  </a:lnTo>
                  <a:lnTo>
                    <a:pt x="146397" y="120406"/>
                  </a:lnTo>
                  <a:lnTo>
                    <a:pt x="148249" y="117524"/>
                  </a:lnTo>
                  <a:lnTo>
                    <a:pt x="150307" y="112064"/>
                  </a:lnTo>
                  <a:lnTo>
                    <a:pt x="151465" y="108275"/>
                  </a:lnTo>
                  <a:lnTo>
                    <a:pt x="151809" y="103108"/>
                  </a:lnTo>
                  <a:lnTo>
                    <a:pt x="151010" y="100912"/>
                  </a:lnTo>
                  <a:lnTo>
                    <a:pt x="147865" y="96214"/>
                  </a:lnTo>
                  <a:lnTo>
                    <a:pt x="145841" y="94623"/>
                  </a:lnTo>
                  <a:lnTo>
                    <a:pt x="143645" y="93562"/>
                  </a:lnTo>
                  <a:lnTo>
                    <a:pt x="141334" y="92855"/>
                  </a:lnTo>
                  <a:lnTo>
                    <a:pt x="139794" y="93230"/>
                  </a:lnTo>
                  <a:lnTo>
                    <a:pt x="138767" y="94326"/>
                  </a:lnTo>
                  <a:lnTo>
                    <a:pt x="138082" y="95905"/>
                  </a:lnTo>
                  <a:lnTo>
                    <a:pt x="135064" y="99915"/>
                  </a:lnTo>
                  <a:lnTo>
                    <a:pt x="133074" y="102170"/>
                  </a:lnTo>
                  <a:lnTo>
                    <a:pt x="130054" y="104520"/>
                  </a:lnTo>
                  <a:lnTo>
                    <a:pt x="126347" y="106934"/>
                  </a:lnTo>
                  <a:lnTo>
                    <a:pt x="122182" y="109389"/>
                  </a:lnTo>
                  <a:lnTo>
                    <a:pt x="119406" y="111873"/>
                  </a:lnTo>
                  <a:lnTo>
                    <a:pt x="117555" y="114375"/>
                  </a:lnTo>
                  <a:lnTo>
                    <a:pt x="116321" y="116890"/>
                  </a:lnTo>
                  <a:lnTo>
                    <a:pt x="115498" y="120260"/>
                  </a:lnTo>
                  <a:lnTo>
                    <a:pt x="114950" y="124200"/>
                  </a:lnTo>
                  <a:lnTo>
                    <a:pt x="114584" y="128520"/>
                  </a:lnTo>
                  <a:lnTo>
                    <a:pt x="114341" y="132247"/>
                  </a:lnTo>
                  <a:lnTo>
                    <a:pt x="114070" y="138645"/>
                  </a:lnTo>
                  <a:lnTo>
                    <a:pt x="114844" y="141537"/>
                  </a:lnTo>
                  <a:lnTo>
                    <a:pt x="117962" y="147008"/>
                  </a:lnTo>
                  <a:lnTo>
                    <a:pt x="120826" y="150498"/>
                  </a:lnTo>
                  <a:lnTo>
                    <a:pt x="124428" y="154519"/>
                  </a:lnTo>
                  <a:lnTo>
                    <a:pt x="128523" y="158893"/>
                  </a:lnTo>
                  <a:lnTo>
                    <a:pt x="132946" y="162655"/>
                  </a:lnTo>
                  <a:lnTo>
                    <a:pt x="137589" y="166010"/>
                  </a:lnTo>
                  <a:lnTo>
                    <a:pt x="142377" y="169094"/>
                  </a:lnTo>
                  <a:lnTo>
                    <a:pt x="148109" y="171149"/>
                  </a:lnTo>
                  <a:lnTo>
                    <a:pt x="154470" y="172520"/>
                  </a:lnTo>
                  <a:lnTo>
                    <a:pt x="161251" y="173433"/>
                  </a:lnTo>
                  <a:lnTo>
                    <a:pt x="168312" y="174042"/>
                  </a:lnTo>
                  <a:lnTo>
                    <a:pt x="175559" y="174448"/>
                  </a:lnTo>
                  <a:lnTo>
                    <a:pt x="189538" y="174899"/>
                  </a:lnTo>
                  <a:lnTo>
                    <a:pt x="212913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510"/>
            <p:cNvSpPr/>
            <p:nvPr/>
          </p:nvSpPr>
          <p:spPr>
            <a:xfrm>
              <a:off x="2917800" y="1973520"/>
              <a:ext cx="144360" cy="1904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571" h="190501">
                  <a:moveTo>
                    <a:pt x="30442" y="0"/>
                  </a:moveTo>
                  <a:lnTo>
                    <a:pt x="23136" y="0"/>
                  </a:lnTo>
                  <a:lnTo>
                    <a:pt x="22915" y="4045"/>
                  </a:lnTo>
                  <a:lnTo>
                    <a:pt x="22831" y="17912"/>
                  </a:lnTo>
                  <a:lnTo>
                    <a:pt x="21981" y="21255"/>
                  </a:lnTo>
                  <a:lnTo>
                    <a:pt x="20568" y="25177"/>
                  </a:lnTo>
                  <a:lnTo>
                    <a:pt x="18780" y="29485"/>
                  </a:lnTo>
                  <a:lnTo>
                    <a:pt x="16740" y="34050"/>
                  </a:lnTo>
                  <a:lnTo>
                    <a:pt x="12217" y="43638"/>
                  </a:lnTo>
                  <a:lnTo>
                    <a:pt x="9826" y="49412"/>
                  </a:lnTo>
                  <a:lnTo>
                    <a:pt x="7384" y="55801"/>
                  </a:lnTo>
                  <a:lnTo>
                    <a:pt x="4910" y="62601"/>
                  </a:lnTo>
                  <a:lnTo>
                    <a:pt x="3261" y="69674"/>
                  </a:lnTo>
                  <a:lnTo>
                    <a:pt x="2161" y="76929"/>
                  </a:lnTo>
                  <a:lnTo>
                    <a:pt x="1428" y="84306"/>
                  </a:lnTo>
                  <a:lnTo>
                    <a:pt x="939" y="90918"/>
                  </a:lnTo>
                  <a:lnTo>
                    <a:pt x="614" y="97018"/>
                  </a:lnTo>
                  <a:lnTo>
                    <a:pt x="397" y="102779"/>
                  </a:lnTo>
                  <a:lnTo>
                    <a:pt x="91" y="123022"/>
                  </a:lnTo>
                  <a:lnTo>
                    <a:pt x="0" y="141061"/>
                  </a:lnTo>
                  <a:lnTo>
                    <a:pt x="834" y="145688"/>
                  </a:lnTo>
                  <a:lnTo>
                    <a:pt x="2237" y="149618"/>
                  </a:lnTo>
                  <a:lnTo>
                    <a:pt x="4019" y="153086"/>
                  </a:lnTo>
                  <a:lnTo>
                    <a:pt x="6900" y="157091"/>
                  </a:lnTo>
                  <a:lnTo>
                    <a:pt x="10514" y="161454"/>
                  </a:lnTo>
                  <a:lnTo>
                    <a:pt x="14617" y="166056"/>
                  </a:lnTo>
                  <a:lnTo>
                    <a:pt x="19045" y="169971"/>
                  </a:lnTo>
                  <a:lnTo>
                    <a:pt x="23691" y="173427"/>
                  </a:lnTo>
                  <a:lnTo>
                    <a:pt x="28481" y="176578"/>
                  </a:lnTo>
                  <a:lnTo>
                    <a:pt x="33368" y="179525"/>
                  </a:lnTo>
                  <a:lnTo>
                    <a:pt x="38320" y="182337"/>
                  </a:lnTo>
                  <a:lnTo>
                    <a:pt x="43314" y="185058"/>
                  </a:lnTo>
                  <a:lnTo>
                    <a:pt x="49183" y="186872"/>
                  </a:lnTo>
                  <a:lnTo>
                    <a:pt x="55636" y="188081"/>
                  </a:lnTo>
                  <a:lnTo>
                    <a:pt x="62478" y="188888"/>
                  </a:lnTo>
                  <a:lnTo>
                    <a:pt x="68733" y="188578"/>
                  </a:lnTo>
                  <a:lnTo>
                    <a:pt x="74596" y="187526"/>
                  </a:lnTo>
                  <a:lnTo>
                    <a:pt x="80198" y="185977"/>
                  </a:lnTo>
                  <a:lnTo>
                    <a:pt x="85626" y="184098"/>
                  </a:lnTo>
                  <a:lnTo>
                    <a:pt x="90938" y="181999"/>
                  </a:lnTo>
                  <a:lnTo>
                    <a:pt x="96173" y="179753"/>
                  </a:lnTo>
                  <a:lnTo>
                    <a:pt x="101356" y="176562"/>
                  </a:lnTo>
                  <a:lnTo>
                    <a:pt x="106505" y="172741"/>
                  </a:lnTo>
                  <a:lnTo>
                    <a:pt x="111630" y="168501"/>
                  </a:lnTo>
                  <a:lnTo>
                    <a:pt x="116741" y="164827"/>
                  </a:lnTo>
                  <a:lnTo>
                    <a:pt x="121841" y="161532"/>
                  </a:lnTo>
                  <a:lnTo>
                    <a:pt x="126935" y="158488"/>
                  </a:lnTo>
                  <a:lnTo>
                    <a:pt x="131177" y="153919"/>
                  </a:lnTo>
                  <a:lnTo>
                    <a:pt x="134852" y="148332"/>
                  </a:lnTo>
                  <a:lnTo>
                    <a:pt x="138149" y="142068"/>
                  </a:lnTo>
                  <a:lnTo>
                    <a:pt x="140346" y="137045"/>
                  </a:lnTo>
                  <a:lnTo>
                    <a:pt x="141812" y="132851"/>
                  </a:lnTo>
                  <a:lnTo>
                    <a:pt x="142789" y="129207"/>
                  </a:lnTo>
                  <a:lnTo>
                    <a:pt x="143440" y="125085"/>
                  </a:lnTo>
                  <a:lnTo>
                    <a:pt x="143874" y="120643"/>
                  </a:lnTo>
                  <a:lnTo>
                    <a:pt x="144356" y="112039"/>
                  </a:lnTo>
                  <a:lnTo>
                    <a:pt x="144570" y="105393"/>
                  </a:lnTo>
                  <a:lnTo>
                    <a:pt x="143781" y="103282"/>
                  </a:lnTo>
                  <a:lnTo>
                    <a:pt x="142408" y="101875"/>
                  </a:lnTo>
                  <a:lnTo>
                    <a:pt x="138625" y="99464"/>
                  </a:lnTo>
                  <a:lnTo>
                    <a:pt x="134121" y="95571"/>
                  </a:lnTo>
                  <a:lnTo>
                    <a:pt x="131735" y="95041"/>
                  </a:lnTo>
                  <a:lnTo>
                    <a:pt x="129297" y="95534"/>
                  </a:lnTo>
                  <a:lnTo>
                    <a:pt x="126826" y="96709"/>
                  </a:lnTo>
                  <a:lnTo>
                    <a:pt x="124331" y="97493"/>
                  </a:lnTo>
                  <a:lnTo>
                    <a:pt x="121821" y="98015"/>
                  </a:lnTo>
                  <a:lnTo>
                    <a:pt x="119302" y="98363"/>
                  </a:lnTo>
                  <a:lnTo>
                    <a:pt x="116775" y="99442"/>
                  </a:lnTo>
                  <a:lnTo>
                    <a:pt x="114244" y="101008"/>
                  </a:lnTo>
                  <a:lnTo>
                    <a:pt x="111710" y="102899"/>
                  </a:lnTo>
                  <a:lnTo>
                    <a:pt x="109174" y="105853"/>
                  </a:lnTo>
                  <a:lnTo>
                    <a:pt x="106636" y="109515"/>
                  </a:lnTo>
                  <a:lnTo>
                    <a:pt x="104098" y="113650"/>
                  </a:lnTo>
                  <a:lnTo>
                    <a:pt x="102406" y="118100"/>
                  </a:lnTo>
                  <a:lnTo>
                    <a:pt x="101278" y="122760"/>
                  </a:lnTo>
                  <a:lnTo>
                    <a:pt x="100526" y="127560"/>
                  </a:lnTo>
                  <a:lnTo>
                    <a:pt x="100871" y="132453"/>
                  </a:lnTo>
                  <a:lnTo>
                    <a:pt x="101948" y="137409"/>
                  </a:lnTo>
                  <a:lnTo>
                    <a:pt x="103513" y="142406"/>
                  </a:lnTo>
                  <a:lnTo>
                    <a:pt x="106249" y="147431"/>
                  </a:lnTo>
                  <a:lnTo>
                    <a:pt x="109767" y="152474"/>
                  </a:lnTo>
                  <a:lnTo>
                    <a:pt x="113805" y="157529"/>
                  </a:lnTo>
                  <a:lnTo>
                    <a:pt x="118191" y="162593"/>
                  </a:lnTo>
                  <a:lnTo>
                    <a:pt x="122808" y="167662"/>
                  </a:lnTo>
                  <a:lnTo>
                    <a:pt x="127579" y="172735"/>
                  </a:lnTo>
                  <a:lnTo>
                    <a:pt x="130760" y="176963"/>
                  </a:lnTo>
                  <a:lnTo>
                    <a:pt x="132881" y="180629"/>
                  </a:lnTo>
                  <a:lnTo>
                    <a:pt x="137122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511"/>
            <p:cNvSpPr/>
            <p:nvPr/>
          </p:nvSpPr>
          <p:spPr>
            <a:xfrm>
              <a:off x="1424160" y="25146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0"/>
                  </a:moveTo>
                  <a:lnTo>
                    <a:pt x="33051" y="0"/>
                  </a:lnTo>
                  <a:lnTo>
                    <a:pt x="36427" y="847"/>
                  </a:lnTo>
                  <a:lnTo>
                    <a:pt x="40372" y="2258"/>
                  </a:lnTo>
                  <a:lnTo>
                    <a:pt x="44694" y="4045"/>
                  </a:lnTo>
                  <a:lnTo>
                    <a:pt x="49270" y="5237"/>
                  </a:lnTo>
                  <a:lnTo>
                    <a:pt x="54013" y="6031"/>
                  </a:lnTo>
                  <a:lnTo>
                    <a:pt x="58869" y="6561"/>
                  </a:lnTo>
                  <a:lnTo>
                    <a:pt x="63799" y="6914"/>
                  </a:lnTo>
                  <a:lnTo>
                    <a:pt x="68779" y="7150"/>
                  </a:lnTo>
                  <a:lnTo>
                    <a:pt x="78829" y="7411"/>
                  </a:lnTo>
                  <a:lnTo>
                    <a:pt x="12192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512"/>
            <p:cNvSpPr/>
            <p:nvPr/>
          </p:nvSpPr>
          <p:spPr>
            <a:xfrm>
              <a:off x="1744200" y="2392560"/>
              <a:ext cx="7560" cy="1825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593" h="182881">
                  <a:moveTo>
                    <a:pt x="7592" y="0"/>
                  </a:moveTo>
                  <a:lnTo>
                    <a:pt x="7592" y="50944"/>
                  </a:lnTo>
                  <a:lnTo>
                    <a:pt x="6746" y="55976"/>
                  </a:lnTo>
                  <a:lnTo>
                    <a:pt x="5334" y="61024"/>
                  </a:lnTo>
                  <a:lnTo>
                    <a:pt x="3547" y="66083"/>
                  </a:lnTo>
                  <a:lnTo>
                    <a:pt x="2355" y="71149"/>
                  </a:lnTo>
                  <a:lnTo>
                    <a:pt x="1561" y="76219"/>
                  </a:lnTo>
                  <a:lnTo>
                    <a:pt x="1031" y="81293"/>
                  </a:lnTo>
                  <a:lnTo>
                    <a:pt x="678" y="86369"/>
                  </a:lnTo>
                  <a:lnTo>
                    <a:pt x="443" y="91446"/>
                  </a:lnTo>
                  <a:lnTo>
                    <a:pt x="182" y="101603"/>
                  </a:lnTo>
                  <a:lnTo>
                    <a:pt x="0" y="131046"/>
                  </a:lnTo>
                  <a:lnTo>
                    <a:pt x="837" y="137317"/>
                  </a:lnTo>
                  <a:lnTo>
                    <a:pt x="2242" y="143191"/>
                  </a:lnTo>
                  <a:lnTo>
                    <a:pt x="4026" y="148801"/>
                  </a:lnTo>
                  <a:lnTo>
                    <a:pt x="5214" y="154234"/>
                  </a:lnTo>
                  <a:lnTo>
                    <a:pt x="6007" y="159549"/>
                  </a:lnTo>
                  <a:lnTo>
                    <a:pt x="6535" y="164786"/>
                  </a:lnTo>
                  <a:lnTo>
                    <a:pt x="6887" y="169124"/>
                  </a:lnTo>
                  <a:lnTo>
                    <a:pt x="7122" y="172863"/>
                  </a:lnTo>
                  <a:lnTo>
                    <a:pt x="7592" y="1828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513"/>
            <p:cNvSpPr/>
            <p:nvPr/>
          </p:nvSpPr>
          <p:spPr>
            <a:xfrm>
              <a:off x="1881360" y="2408040"/>
              <a:ext cx="211680" cy="205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1678" h="205741">
                  <a:moveTo>
                    <a:pt x="53328" y="0"/>
                  </a:moveTo>
                  <a:lnTo>
                    <a:pt x="53328" y="10606"/>
                  </a:lnTo>
                  <a:lnTo>
                    <a:pt x="52481" y="12998"/>
                  </a:lnTo>
                  <a:lnTo>
                    <a:pt x="49283" y="17912"/>
                  </a:lnTo>
                  <a:lnTo>
                    <a:pt x="48091" y="21255"/>
                  </a:lnTo>
                  <a:lnTo>
                    <a:pt x="47297" y="25177"/>
                  </a:lnTo>
                  <a:lnTo>
                    <a:pt x="46767" y="29485"/>
                  </a:lnTo>
                  <a:lnTo>
                    <a:pt x="44721" y="33203"/>
                  </a:lnTo>
                  <a:lnTo>
                    <a:pt x="41663" y="36529"/>
                  </a:lnTo>
                  <a:lnTo>
                    <a:pt x="37932" y="39593"/>
                  </a:lnTo>
                  <a:lnTo>
                    <a:pt x="35444" y="42482"/>
                  </a:lnTo>
                  <a:lnTo>
                    <a:pt x="33785" y="45255"/>
                  </a:lnTo>
                  <a:lnTo>
                    <a:pt x="31096" y="51440"/>
                  </a:lnTo>
                  <a:lnTo>
                    <a:pt x="24821" y="64442"/>
                  </a:lnTo>
                  <a:lnTo>
                    <a:pt x="12613" y="89024"/>
                  </a:lnTo>
                  <a:lnTo>
                    <a:pt x="10098" y="93216"/>
                  </a:lnTo>
                  <a:lnTo>
                    <a:pt x="7575" y="96858"/>
                  </a:lnTo>
                  <a:lnTo>
                    <a:pt x="432" y="106105"/>
                  </a:lnTo>
                  <a:lnTo>
                    <a:pt x="76" y="110957"/>
                  </a:lnTo>
                  <a:lnTo>
                    <a:pt x="0" y="107411"/>
                  </a:lnTo>
                  <a:lnTo>
                    <a:pt x="4037" y="102851"/>
                  </a:lnTo>
                  <a:lnTo>
                    <a:pt x="10537" y="98487"/>
                  </a:lnTo>
                  <a:lnTo>
                    <a:pt x="14640" y="96138"/>
                  </a:lnTo>
                  <a:lnTo>
                    <a:pt x="19070" y="92879"/>
                  </a:lnTo>
                  <a:lnTo>
                    <a:pt x="23716" y="89013"/>
                  </a:lnTo>
                  <a:lnTo>
                    <a:pt x="28507" y="84742"/>
                  </a:lnTo>
                  <a:lnTo>
                    <a:pt x="34240" y="81048"/>
                  </a:lnTo>
                  <a:lnTo>
                    <a:pt x="40603" y="77739"/>
                  </a:lnTo>
                  <a:lnTo>
                    <a:pt x="47385" y="74686"/>
                  </a:lnTo>
                  <a:lnTo>
                    <a:pt x="55293" y="71804"/>
                  </a:lnTo>
                  <a:lnTo>
                    <a:pt x="63951" y="69036"/>
                  </a:lnTo>
                  <a:lnTo>
                    <a:pt x="81756" y="63703"/>
                  </a:lnTo>
                  <a:lnTo>
                    <a:pt x="98136" y="58510"/>
                  </a:lnTo>
                  <a:lnTo>
                    <a:pt x="106906" y="56787"/>
                  </a:lnTo>
                  <a:lnTo>
                    <a:pt x="116140" y="55638"/>
                  </a:lnTo>
                  <a:lnTo>
                    <a:pt x="125683" y="54872"/>
                  </a:lnTo>
                  <a:lnTo>
                    <a:pt x="133738" y="55208"/>
                  </a:lnTo>
                  <a:lnTo>
                    <a:pt x="140801" y="56279"/>
                  </a:lnTo>
                  <a:lnTo>
                    <a:pt x="147203" y="57839"/>
                  </a:lnTo>
                  <a:lnTo>
                    <a:pt x="154012" y="58880"/>
                  </a:lnTo>
                  <a:lnTo>
                    <a:pt x="161091" y="59573"/>
                  </a:lnTo>
                  <a:lnTo>
                    <a:pt x="168350" y="60035"/>
                  </a:lnTo>
                  <a:lnTo>
                    <a:pt x="174882" y="62037"/>
                  </a:lnTo>
                  <a:lnTo>
                    <a:pt x="180931" y="65065"/>
                  </a:lnTo>
                  <a:lnTo>
                    <a:pt x="186657" y="68776"/>
                  </a:lnTo>
                  <a:lnTo>
                    <a:pt x="191320" y="72098"/>
                  </a:lnTo>
                  <a:lnTo>
                    <a:pt x="195276" y="75159"/>
                  </a:lnTo>
                  <a:lnTo>
                    <a:pt x="198760" y="78046"/>
                  </a:lnTo>
                  <a:lnTo>
                    <a:pt x="201929" y="81664"/>
                  </a:lnTo>
                  <a:lnTo>
                    <a:pt x="204889" y="85769"/>
                  </a:lnTo>
                  <a:lnTo>
                    <a:pt x="207709" y="90200"/>
                  </a:lnTo>
                  <a:lnTo>
                    <a:pt x="209589" y="94846"/>
                  </a:lnTo>
                  <a:lnTo>
                    <a:pt x="210842" y="99638"/>
                  </a:lnTo>
                  <a:lnTo>
                    <a:pt x="211677" y="104525"/>
                  </a:lnTo>
                  <a:lnTo>
                    <a:pt x="211387" y="109477"/>
                  </a:lnTo>
                  <a:lnTo>
                    <a:pt x="210348" y="114471"/>
                  </a:lnTo>
                  <a:lnTo>
                    <a:pt x="208808" y="119494"/>
                  </a:lnTo>
                  <a:lnTo>
                    <a:pt x="207781" y="125383"/>
                  </a:lnTo>
                  <a:lnTo>
                    <a:pt x="207097" y="131849"/>
                  </a:lnTo>
                  <a:lnTo>
                    <a:pt x="206640" y="138699"/>
                  </a:lnTo>
                  <a:lnTo>
                    <a:pt x="204643" y="144959"/>
                  </a:lnTo>
                  <a:lnTo>
                    <a:pt x="201618" y="150826"/>
                  </a:lnTo>
                  <a:lnTo>
                    <a:pt x="197908" y="156431"/>
                  </a:lnTo>
                  <a:lnTo>
                    <a:pt x="193741" y="161861"/>
                  </a:lnTo>
                  <a:lnTo>
                    <a:pt x="189270" y="167174"/>
                  </a:lnTo>
                  <a:lnTo>
                    <a:pt x="180634" y="176746"/>
                  </a:lnTo>
                  <a:lnTo>
                    <a:pt x="173973" y="183823"/>
                  </a:lnTo>
                  <a:lnTo>
                    <a:pt x="170164" y="186895"/>
                  </a:lnTo>
                  <a:lnTo>
                    <a:pt x="165932" y="189790"/>
                  </a:lnTo>
                  <a:lnTo>
                    <a:pt x="161417" y="192567"/>
                  </a:lnTo>
                  <a:lnTo>
                    <a:pt x="156714" y="194418"/>
                  </a:lnTo>
                  <a:lnTo>
                    <a:pt x="151885" y="195652"/>
                  </a:lnTo>
                  <a:lnTo>
                    <a:pt x="146973" y="196475"/>
                  </a:lnTo>
                  <a:lnTo>
                    <a:pt x="142004" y="197023"/>
                  </a:lnTo>
                  <a:lnTo>
                    <a:pt x="136999" y="197389"/>
                  </a:lnTo>
                  <a:lnTo>
                    <a:pt x="131969" y="197633"/>
                  </a:lnTo>
                  <a:lnTo>
                    <a:pt x="127769" y="198642"/>
                  </a:lnTo>
                  <a:lnTo>
                    <a:pt x="124122" y="200161"/>
                  </a:lnTo>
                  <a:lnTo>
                    <a:pt x="114288" y="2057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514"/>
            <p:cNvSpPr/>
            <p:nvPr/>
          </p:nvSpPr>
          <p:spPr>
            <a:xfrm>
              <a:off x="1965240" y="240012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515"/>
            <p:cNvSpPr/>
            <p:nvPr/>
          </p:nvSpPr>
          <p:spPr>
            <a:xfrm>
              <a:off x="2483280" y="2415600"/>
              <a:ext cx="121680" cy="3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1921" h="1">
                  <a:moveTo>
                    <a:pt x="0" y="0"/>
                  </a:moveTo>
                  <a:lnTo>
                    <a:pt x="1219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516"/>
            <p:cNvSpPr/>
            <p:nvPr/>
          </p:nvSpPr>
          <p:spPr>
            <a:xfrm>
              <a:off x="2712240" y="2308680"/>
              <a:ext cx="30240" cy="243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0388" h="243841">
                  <a:moveTo>
                    <a:pt x="7527" y="0"/>
                  </a:moveTo>
                  <a:lnTo>
                    <a:pt x="7527" y="55009"/>
                  </a:lnTo>
                  <a:lnTo>
                    <a:pt x="6681" y="61226"/>
                  </a:lnTo>
                  <a:lnTo>
                    <a:pt x="5270" y="67064"/>
                  </a:lnTo>
                  <a:lnTo>
                    <a:pt x="3482" y="72649"/>
                  </a:lnTo>
                  <a:lnTo>
                    <a:pt x="2290" y="79759"/>
                  </a:lnTo>
                  <a:lnTo>
                    <a:pt x="1496" y="87886"/>
                  </a:lnTo>
                  <a:lnTo>
                    <a:pt x="966" y="96691"/>
                  </a:lnTo>
                  <a:lnTo>
                    <a:pt x="378" y="113247"/>
                  </a:lnTo>
                  <a:lnTo>
                    <a:pt x="0" y="144572"/>
                  </a:lnTo>
                  <a:lnTo>
                    <a:pt x="816" y="152261"/>
                  </a:lnTo>
                  <a:lnTo>
                    <a:pt x="2206" y="159928"/>
                  </a:lnTo>
                  <a:lnTo>
                    <a:pt x="3980" y="167578"/>
                  </a:lnTo>
                  <a:lnTo>
                    <a:pt x="6009" y="175219"/>
                  </a:lnTo>
                  <a:lnTo>
                    <a:pt x="10521" y="190482"/>
                  </a:lnTo>
                  <a:lnTo>
                    <a:pt x="12063" y="197261"/>
                  </a:lnTo>
                  <a:lnTo>
                    <a:pt x="13091" y="203474"/>
                  </a:lnTo>
                  <a:lnTo>
                    <a:pt x="13776" y="209310"/>
                  </a:lnTo>
                  <a:lnTo>
                    <a:pt x="15080" y="214893"/>
                  </a:lnTo>
                  <a:lnTo>
                    <a:pt x="16796" y="220309"/>
                  </a:lnTo>
                  <a:lnTo>
                    <a:pt x="18786" y="225613"/>
                  </a:lnTo>
                  <a:lnTo>
                    <a:pt x="20960" y="229995"/>
                  </a:lnTo>
                  <a:lnTo>
                    <a:pt x="23256" y="233763"/>
                  </a:lnTo>
                  <a:lnTo>
                    <a:pt x="30387" y="2438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517"/>
            <p:cNvSpPr/>
            <p:nvPr/>
          </p:nvSpPr>
          <p:spPr>
            <a:xfrm>
              <a:off x="2856960" y="2316600"/>
              <a:ext cx="219240" cy="228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9280" h="228601">
                  <a:moveTo>
                    <a:pt x="30449" y="0"/>
                  </a:moveTo>
                  <a:lnTo>
                    <a:pt x="30449" y="6561"/>
                  </a:lnTo>
                  <a:lnTo>
                    <a:pt x="35686" y="13494"/>
                  </a:lnTo>
                  <a:lnTo>
                    <a:pt x="37010" y="18133"/>
                  </a:lnTo>
                  <a:lnTo>
                    <a:pt x="35341" y="25275"/>
                  </a:lnTo>
                  <a:lnTo>
                    <a:pt x="33710" y="29550"/>
                  </a:lnTo>
                  <a:lnTo>
                    <a:pt x="32623" y="34093"/>
                  </a:lnTo>
                  <a:lnTo>
                    <a:pt x="31898" y="38815"/>
                  </a:lnTo>
                  <a:lnTo>
                    <a:pt x="31415" y="43657"/>
                  </a:lnTo>
                  <a:lnTo>
                    <a:pt x="30247" y="48578"/>
                  </a:lnTo>
                  <a:lnTo>
                    <a:pt x="28621" y="53552"/>
                  </a:lnTo>
                  <a:lnTo>
                    <a:pt x="26690" y="58561"/>
                  </a:lnTo>
                  <a:lnTo>
                    <a:pt x="25403" y="63594"/>
                  </a:lnTo>
                  <a:lnTo>
                    <a:pt x="24545" y="68643"/>
                  </a:lnTo>
                  <a:lnTo>
                    <a:pt x="23973" y="73702"/>
                  </a:lnTo>
                  <a:lnTo>
                    <a:pt x="22745" y="78768"/>
                  </a:lnTo>
                  <a:lnTo>
                    <a:pt x="21080" y="83839"/>
                  </a:lnTo>
                  <a:lnTo>
                    <a:pt x="19123" y="88913"/>
                  </a:lnTo>
                  <a:lnTo>
                    <a:pt x="16972" y="93988"/>
                  </a:lnTo>
                  <a:lnTo>
                    <a:pt x="12323" y="104144"/>
                  </a:lnTo>
                  <a:lnTo>
                    <a:pt x="10745" y="108376"/>
                  </a:lnTo>
                  <a:lnTo>
                    <a:pt x="8992" y="115336"/>
                  </a:lnTo>
                  <a:lnTo>
                    <a:pt x="5955" y="121251"/>
                  </a:lnTo>
                  <a:lnTo>
                    <a:pt x="3960" y="124014"/>
                  </a:lnTo>
                  <a:lnTo>
                    <a:pt x="1743" y="129342"/>
                  </a:lnTo>
                  <a:lnTo>
                    <a:pt x="0" y="137025"/>
                  </a:lnTo>
                  <a:lnTo>
                    <a:pt x="4023" y="133075"/>
                  </a:lnTo>
                  <a:lnTo>
                    <a:pt x="5212" y="131050"/>
                  </a:lnTo>
                  <a:lnTo>
                    <a:pt x="7732" y="124155"/>
                  </a:lnTo>
                  <a:lnTo>
                    <a:pt x="11322" y="119245"/>
                  </a:lnTo>
                  <a:lnTo>
                    <a:pt x="14310" y="115903"/>
                  </a:lnTo>
                  <a:lnTo>
                    <a:pt x="22147" y="107675"/>
                  </a:lnTo>
                  <a:lnTo>
                    <a:pt x="27455" y="103110"/>
                  </a:lnTo>
                  <a:lnTo>
                    <a:pt x="33532" y="98373"/>
                  </a:lnTo>
                  <a:lnTo>
                    <a:pt x="40125" y="93522"/>
                  </a:lnTo>
                  <a:lnTo>
                    <a:pt x="47060" y="89441"/>
                  </a:lnTo>
                  <a:lnTo>
                    <a:pt x="54223" y="85875"/>
                  </a:lnTo>
                  <a:lnTo>
                    <a:pt x="61538" y="82650"/>
                  </a:lnTo>
                  <a:lnTo>
                    <a:pt x="68955" y="79653"/>
                  </a:lnTo>
                  <a:lnTo>
                    <a:pt x="83970" y="74066"/>
                  </a:lnTo>
                  <a:lnTo>
                    <a:pt x="91530" y="72237"/>
                  </a:lnTo>
                  <a:lnTo>
                    <a:pt x="99109" y="71018"/>
                  </a:lnTo>
                  <a:lnTo>
                    <a:pt x="106703" y="70206"/>
                  </a:lnTo>
                  <a:lnTo>
                    <a:pt x="115152" y="70510"/>
                  </a:lnTo>
                  <a:lnTo>
                    <a:pt x="124171" y="71560"/>
                  </a:lnTo>
                  <a:lnTo>
                    <a:pt x="133570" y="73107"/>
                  </a:lnTo>
                  <a:lnTo>
                    <a:pt x="141530" y="74984"/>
                  </a:lnTo>
                  <a:lnTo>
                    <a:pt x="148530" y="77083"/>
                  </a:lnTo>
                  <a:lnTo>
                    <a:pt x="175976" y="86535"/>
                  </a:lnTo>
                  <a:lnTo>
                    <a:pt x="182500" y="89863"/>
                  </a:lnTo>
                  <a:lnTo>
                    <a:pt x="188544" y="93776"/>
                  </a:lnTo>
                  <a:lnTo>
                    <a:pt x="194265" y="98077"/>
                  </a:lnTo>
                  <a:lnTo>
                    <a:pt x="198927" y="102638"/>
                  </a:lnTo>
                  <a:lnTo>
                    <a:pt x="202881" y="107372"/>
                  </a:lnTo>
                  <a:lnTo>
                    <a:pt x="206364" y="112221"/>
                  </a:lnTo>
                  <a:lnTo>
                    <a:pt x="209532" y="117148"/>
                  </a:lnTo>
                  <a:lnTo>
                    <a:pt x="212491" y="122125"/>
                  </a:lnTo>
                  <a:lnTo>
                    <a:pt x="215311" y="127137"/>
                  </a:lnTo>
                  <a:lnTo>
                    <a:pt x="217190" y="132171"/>
                  </a:lnTo>
                  <a:lnTo>
                    <a:pt x="218443" y="137221"/>
                  </a:lnTo>
                  <a:lnTo>
                    <a:pt x="219279" y="142281"/>
                  </a:lnTo>
                  <a:lnTo>
                    <a:pt x="218989" y="148194"/>
                  </a:lnTo>
                  <a:lnTo>
                    <a:pt x="217949" y="154676"/>
                  </a:lnTo>
                  <a:lnTo>
                    <a:pt x="216409" y="161537"/>
                  </a:lnTo>
                  <a:lnTo>
                    <a:pt x="214536" y="167805"/>
                  </a:lnTo>
                  <a:lnTo>
                    <a:pt x="212441" y="173677"/>
                  </a:lnTo>
                  <a:lnTo>
                    <a:pt x="210197" y="179285"/>
                  </a:lnTo>
                  <a:lnTo>
                    <a:pt x="207008" y="184716"/>
                  </a:lnTo>
                  <a:lnTo>
                    <a:pt x="203189" y="190031"/>
                  </a:lnTo>
                  <a:lnTo>
                    <a:pt x="198949" y="195267"/>
                  </a:lnTo>
                  <a:lnTo>
                    <a:pt x="194429" y="199605"/>
                  </a:lnTo>
                  <a:lnTo>
                    <a:pt x="189722" y="203343"/>
                  </a:lnTo>
                  <a:lnTo>
                    <a:pt x="184891" y="206682"/>
                  </a:lnTo>
                  <a:lnTo>
                    <a:pt x="179977" y="210601"/>
                  </a:lnTo>
                  <a:lnTo>
                    <a:pt x="175008" y="214908"/>
                  </a:lnTo>
                  <a:lnTo>
                    <a:pt x="170002" y="219472"/>
                  </a:lnTo>
                  <a:lnTo>
                    <a:pt x="164124" y="222515"/>
                  </a:lnTo>
                  <a:lnTo>
                    <a:pt x="157665" y="224543"/>
                  </a:lnTo>
                  <a:lnTo>
                    <a:pt x="150820" y="225895"/>
                  </a:lnTo>
                  <a:lnTo>
                    <a:pt x="144563" y="226797"/>
                  </a:lnTo>
                  <a:lnTo>
                    <a:pt x="138699" y="227398"/>
                  </a:lnTo>
                  <a:lnTo>
                    <a:pt x="133096" y="227799"/>
                  </a:lnTo>
                  <a:lnTo>
                    <a:pt x="127667" y="228066"/>
                  </a:lnTo>
                  <a:lnTo>
                    <a:pt x="117119" y="228363"/>
                  </a:lnTo>
                  <a:lnTo>
                    <a:pt x="99029" y="2286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518"/>
            <p:cNvSpPr/>
            <p:nvPr/>
          </p:nvSpPr>
          <p:spPr>
            <a:xfrm>
              <a:off x="2925360" y="232416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0">
                  <a:moveTo>
                    <a:pt x="0" y="7619"/>
                  </a:moveTo>
                  <a:lnTo>
                    <a:pt x="0" y="3574"/>
                  </a:lnTo>
                  <a:lnTo>
                    <a:pt x="847" y="2382"/>
                  </a:lnTo>
                  <a:lnTo>
                    <a:pt x="2258" y="1588"/>
                  </a:lnTo>
                  <a:lnTo>
                    <a:pt x="4045" y="1058"/>
                  </a:lnTo>
                  <a:lnTo>
                    <a:pt x="6083" y="705"/>
                  </a:lnTo>
                  <a:lnTo>
                    <a:pt x="8289" y="470"/>
                  </a:lnTo>
                  <a:lnTo>
                    <a:pt x="10606" y="313"/>
                  </a:lnTo>
                  <a:lnTo>
                    <a:pt x="15438" y="139"/>
                  </a:lnTo>
                  <a:lnTo>
                    <a:pt x="25176" y="40"/>
                  </a:lnTo>
                  <a:lnTo>
                    <a:pt x="84306" y="0"/>
                  </a:lnTo>
                  <a:lnTo>
                    <a:pt x="91764" y="846"/>
                  </a:lnTo>
                  <a:lnTo>
                    <a:pt x="99276" y="2257"/>
                  </a:lnTo>
                  <a:lnTo>
                    <a:pt x="106824" y="4044"/>
                  </a:lnTo>
                  <a:lnTo>
                    <a:pt x="114396" y="5236"/>
                  </a:lnTo>
                  <a:lnTo>
                    <a:pt x="121984" y="6030"/>
                  </a:lnTo>
                  <a:lnTo>
                    <a:pt x="129583" y="6560"/>
                  </a:lnTo>
                  <a:lnTo>
                    <a:pt x="136342" y="6913"/>
                  </a:lnTo>
                  <a:lnTo>
                    <a:pt x="148368" y="7305"/>
                  </a:lnTo>
                  <a:lnTo>
                    <a:pt x="167640" y="761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519"/>
            <p:cNvSpPr/>
            <p:nvPr/>
          </p:nvSpPr>
          <p:spPr>
            <a:xfrm>
              <a:off x="471600" y="284220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33595" y="7620"/>
                  </a:lnTo>
                  <a:lnTo>
                    <a:pt x="40177" y="6773"/>
                  </a:lnTo>
                  <a:lnTo>
                    <a:pt x="47104" y="5362"/>
                  </a:lnTo>
                  <a:lnTo>
                    <a:pt x="54263" y="3575"/>
                  </a:lnTo>
                  <a:lnTo>
                    <a:pt x="61575" y="2383"/>
                  </a:lnTo>
                  <a:lnTo>
                    <a:pt x="68990" y="1589"/>
                  </a:lnTo>
                  <a:lnTo>
                    <a:pt x="76474" y="1059"/>
                  </a:lnTo>
                  <a:lnTo>
                    <a:pt x="84002" y="706"/>
                  </a:lnTo>
                  <a:lnTo>
                    <a:pt x="99141" y="314"/>
                  </a:ln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520"/>
            <p:cNvSpPr/>
            <p:nvPr/>
          </p:nvSpPr>
          <p:spPr>
            <a:xfrm>
              <a:off x="776520" y="2705040"/>
              <a:ext cx="254160" cy="2584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4457" h="258627">
                  <a:moveTo>
                    <a:pt x="30480" y="22860"/>
                  </a:moveTo>
                  <a:lnTo>
                    <a:pt x="34525" y="18815"/>
                  </a:lnTo>
                  <a:lnTo>
                    <a:pt x="36564" y="17623"/>
                  </a:lnTo>
                  <a:lnTo>
                    <a:pt x="41086" y="16299"/>
                  </a:lnTo>
                  <a:lnTo>
                    <a:pt x="48176" y="15711"/>
                  </a:lnTo>
                  <a:lnTo>
                    <a:pt x="52437" y="15554"/>
                  </a:lnTo>
                  <a:lnTo>
                    <a:pt x="56972" y="14603"/>
                  </a:lnTo>
                  <a:lnTo>
                    <a:pt x="61688" y="13122"/>
                  </a:lnTo>
                  <a:lnTo>
                    <a:pt x="66525" y="11288"/>
                  </a:lnTo>
                  <a:lnTo>
                    <a:pt x="72290" y="10065"/>
                  </a:lnTo>
                  <a:lnTo>
                    <a:pt x="78674" y="9250"/>
                  </a:lnTo>
                  <a:lnTo>
                    <a:pt x="85469" y="8707"/>
                  </a:lnTo>
                  <a:lnTo>
                    <a:pt x="92539" y="7498"/>
                  </a:lnTo>
                  <a:lnTo>
                    <a:pt x="99793" y="5846"/>
                  </a:lnTo>
                  <a:lnTo>
                    <a:pt x="107169" y="3897"/>
                  </a:lnTo>
                  <a:lnTo>
                    <a:pt x="114626" y="2598"/>
                  </a:lnTo>
                  <a:lnTo>
                    <a:pt x="122137" y="1732"/>
                  </a:lnTo>
                  <a:lnTo>
                    <a:pt x="129685" y="1155"/>
                  </a:lnTo>
                  <a:lnTo>
                    <a:pt x="136410" y="770"/>
                  </a:lnTo>
                  <a:lnTo>
                    <a:pt x="148398" y="342"/>
                  </a:lnTo>
                  <a:lnTo>
                    <a:pt x="182727" y="30"/>
                  </a:lnTo>
                  <a:lnTo>
                    <a:pt x="204165" y="1"/>
                  </a:lnTo>
                  <a:lnTo>
                    <a:pt x="201228" y="0"/>
                  </a:lnTo>
                  <a:lnTo>
                    <a:pt x="199346" y="847"/>
                  </a:lnTo>
                  <a:lnTo>
                    <a:pt x="191804" y="6084"/>
                  </a:lnTo>
                  <a:lnTo>
                    <a:pt x="187982" y="8289"/>
                  </a:lnTo>
                  <a:lnTo>
                    <a:pt x="183742" y="10606"/>
                  </a:lnTo>
                  <a:lnTo>
                    <a:pt x="178374" y="12998"/>
                  </a:lnTo>
                  <a:lnTo>
                    <a:pt x="172257" y="15438"/>
                  </a:lnTo>
                  <a:lnTo>
                    <a:pt x="165638" y="17912"/>
                  </a:lnTo>
                  <a:lnTo>
                    <a:pt x="159532" y="21255"/>
                  </a:lnTo>
                  <a:lnTo>
                    <a:pt x="153768" y="25177"/>
                  </a:lnTo>
                  <a:lnTo>
                    <a:pt x="148232" y="29485"/>
                  </a:lnTo>
                  <a:lnTo>
                    <a:pt x="141154" y="34050"/>
                  </a:lnTo>
                  <a:lnTo>
                    <a:pt x="133050" y="38787"/>
                  </a:lnTo>
                  <a:lnTo>
                    <a:pt x="116707" y="47719"/>
                  </a:lnTo>
                  <a:lnTo>
                    <a:pt x="103799" y="54511"/>
                  </a:lnTo>
                  <a:lnTo>
                    <a:pt x="97986" y="58354"/>
                  </a:lnTo>
                  <a:lnTo>
                    <a:pt x="92417" y="62610"/>
                  </a:lnTo>
                  <a:lnTo>
                    <a:pt x="87012" y="67140"/>
                  </a:lnTo>
                  <a:lnTo>
                    <a:pt x="81005" y="74431"/>
                  </a:lnTo>
                  <a:lnTo>
                    <a:pt x="78336" y="80494"/>
                  </a:lnTo>
                  <a:lnTo>
                    <a:pt x="77149" y="86011"/>
                  </a:lnTo>
                  <a:lnTo>
                    <a:pt x="78880" y="93543"/>
                  </a:lnTo>
                  <a:lnTo>
                    <a:pt x="80527" y="97922"/>
                  </a:lnTo>
                  <a:lnTo>
                    <a:pt x="83318" y="101688"/>
                  </a:lnTo>
                  <a:lnTo>
                    <a:pt x="90935" y="108130"/>
                  </a:lnTo>
                  <a:lnTo>
                    <a:pt x="97030" y="111034"/>
                  </a:lnTo>
                  <a:lnTo>
                    <a:pt x="104480" y="113816"/>
                  </a:lnTo>
                  <a:lnTo>
                    <a:pt x="112833" y="116517"/>
                  </a:lnTo>
                  <a:lnTo>
                    <a:pt x="120942" y="118318"/>
                  </a:lnTo>
                  <a:lnTo>
                    <a:pt x="128888" y="119519"/>
                  </a:lnTo>
                  <a:lnTo>
                    <a:pt x="136726" y="120319"/>
                  </a:lnTo>
                  <a:lnTo>
                    <a:pt x="145337" y="121700"/>
                  </a:lnTo>
                  <a:lnTo>
                    <a:pt x="154465" y="123467"/>
                  </a:lnTo>
                  <a:lnTo>
                    <a:pt x="163936" y="125491"/>
                  </a:lnTo>
                  <a:lnTo>
                    <a:pt x="172791" y="128534"/>
                  </a:lnTo>
                  <a:lnTo>
                    <a:pt x="181234" y="132256"/>
                  </a:lnTo>
                  <a:lnTo>
                    <a:pt x="189403" y="136431"/>
                  </a:lnTo>
                  <a:lnTo>
                    <a:pt x="197389" y="140061"/>
                  </a:lnTo>
                  <a:lnTo>
                    <a:pt x="205253" y="143327"/>
                  </a:lnTo>
                  <a:lnTo>
                    <a:pt x="213035" y="146352"/>
                  </a:lnTo>
                  <a:lnTo>
                    <a:pt x="219917" y="149214"/>
                  </a:lnTo>
                  <a:lnTo>
                    <a:pt x="226198" y="151970"/>
                  </a:lnTo>
                  <a:lnTo>
                    <a:pt x="232079" y="154653"/>
                  </a:lnTo>
                  <a:lnTo>
                    <a:pt x="236846" y="157289"/>
                  </a:lnTo>
                  <a:lnTo>
                    <a:pt x="244401" y="162475"/>
                  </a:lnTo>
                  <a:lnTo>
                    <a:pt x="250580" y="169860"/>
                  </a:lnTo>
                  <a:lnTo>
                    <a:pt x="253414" y="174200"/>
                  </a:lnTo>
                  <a:lnTo>
                    <a:pt x="254456" y="177940"/>
                  </a:lnTo>
                  <a:lnTo>
                    <a:pt x="254304" y="181280"/>
                  </a:lnTo>
                  <a:lnTo>
                    <a:pt x="251877" y="188096"/>
                  </a:lnTo>
                  <a:lnTo>
                    <a:pt x="250045" y="192284"/>
                  </a:lnTo>
                  <a:lnTo>
                    <a:pt x="247977" y="196770"/>
                  </a:lnTo>
                  <a:lnTo>
                    <a:pt x="244905" y="200607"/>
                  </a:lnTo>
                  <a:lnTo>
                    <a:pt x="236976" y="207127"/>
                  </a:lnTo>
                  <a:lnTo>
                    <a:pt x="232490" y="210052"/>
                  </a:lnTo>
                  <a:lnTo>
                    <a:pt x="227807" y="212848"/>
                  </a:lnTo>
                  <a:lnTo>
                    <a:pt x="222991" y="215559"/>
                  </a:lnTo>
                  <a:lnTo>
                    <a:pt x="217241" y="219059"/>
                  </a:lnTo>
                  <a:lnTo>
                    <a:pt x="204078" y="227464"/>
                  </a:lnTo>
                  <a:lnTo>
                    <a:pt x="196165" y="231229"/>
                  </a:lnTo>
                  <a:lnTo>
                    <a:pt x="187504" y="234586"/>
                  </a:lnTo>
                  <a:lnTo>
                    <a:pt x="178343" y="237671"/>
                  </a:lnTo>
                  <a:lnTo>
                    <a:pt x="168848" y="240574"/>
                  </a:lnTo>
                  <a:lnTo>
                    <a:pt x="149268" y="246057"/>
                  </a:lnTo>
                  <a:lnTo>
                    <a:pt x="138459" y="248705"/>
                  </a:lnTo>
                  <a:lnTo>
                    <a:pt x="115160" y="253904"/>
                  </a:lnTo>
                  <a:lnTo>
                    <a:pt x="103866" y="255630"/>
                  </a:lnTo>
                  <a:lnTo>
                    <a:pt x="92951" y="256780"/>
                  </a:lnTo>
                  <a:lnTo>
                    <a:pt x="82287" y="257547"/>
                  </a:lnTo>
                  <a:lnTo>
                    <a:pt x="72638" y="258058"/>
                  </a:lnTo>
                  <a:lnTo>
                    <a:pt x="55144" y="258626"/>
                  </a:lnTo>
                  <a:lnTo>
                    <a:pt x="46922" y="257931"/>
                  </a:lnTo>
                  <a:lnTo>
                    <a:pt x="38902" y="256620"/>
                  </a:lnTo>
                  <a:lnTo>
                    <a:pt x="31014" y="254900"/>
                  </a:lnTo>
                  <a:lnTo>
                    <a:pt x="24063" y="253754"/>
                  </a:lnTo>
                  <a:lnTo>
                    <a:pt x="17735" y="252989"/>
                  </a:lnTo>
                  <a:lnTo>
                    <a:pt x="0" y="2514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521"/>
            <p:cNvSpPr/>
            <p:nvPr/>
          </p:nvSpPr>
          <p:spPr>
            <a:xfrm>
              <a:off x="1065960" y="2773800"/>
              <a:ext cx="144720" cy="1674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44781" h="167641">
                  <a:moveTo>
                    <a:pt x="144780" y="0"/>
                  </a:moveTo>
                  <a:lnTo>
                    <a:pt x="144780" y="4045"/>
                  </a:lnTo>
                  <a:lnTo>
                    <a:pt x="143933" y="6084"/>
                  </a:lnTo>
                  <a:lnTo>
                    <a:pt x="140735" y="10606"/>
                  </a:lnTo>
                  <a:lnTo>
                    <a:pt x="136491" y="15438"/>
                  </a:lnTo>
                  <a:lnTo>
                    <a:pt x="131783" y="20408"/>
                  </a:lnTo>
                  <a:lnTo>
                    <a:pt x="115296" y="37077"/>
                  </a:lnTo>
                  <a:lnTo>
                    <a:pt x="109884" y="41651"/>
                  </a:lnTo>
                  <a:lnTo>
                    <a:pt x="103736" y="46394"/>
                  </a:lnTo>
                  <a:lnTo>
                    <a:pt x="97097" y="51249"/>
                  </a:lnTo>
                  <a:lnTo>
                    <a:pt x="91825" y="57026"/>
                  </a:lnTo>
                  <a:lnTo>
                    <a:pt x="87463" y="63418"/>
                  </a:lnTo>
                  <a:lnTo>
                    <a:pt x="83709" y="70218"/>
                  </a:lnTo>
                  <a:lnTo>
                    <a:pt x="78666" y="77292"/>
                  </a:lnTo>
                  <a:lnTo>
                    <a:pt x="72764" y="84548"/>
                  </a:lnTo>
                  <a:lnTo>
                    <a:pt x="66289" y="91926"/>
                  </a:lnTo>
                  <a:lnTo>
                    <a:pt x="61126" y="98537"/>
                  </a:lnTo>
                  <a:lnTo>
                    <a:pt x="56837" y="104638"/>
                  </a:lnTo>
                  <a:lnTo>
                    <a:pt x="53132" y="110399"/>
                  </a:lnTo>
                  <a:lnTo>
                    <a:pt x="48968" y="115933"/>
                  </a:lnTo>
                  <a:lnTo>
                    <a:pt x="44499" y="121315"/>
                  </a:lnTo>
                  <a:lnTo>
                    <a:pt x="39826" y="126597"/>
                  </a:lnTo>
                  <a:lnTo>
                    <a:pt x="30118" y="136981"/>
                  </a:lnTo>
                  <a:lnTo>
                    <a:pt x="14134" y="153400"/>
                  </a:lnTo>
                  <a:lnTo>
                    <a:pt x="11116" y="155607"/>
                  </a:lnTo>
                  <a:lnTo>
                    <a:pt x="8257" y="157078"/>
                  </a:lnTo>
                  <a:lnTo>
                    <a:pt x="5505" y="158058"/>
                  </a:lnTo>
                  <a:lnTo>
                    <a:pt x="3670" y="159559"/>
                  </a:lnTo>
                  <a:lnTo>
                    <a:pt x="2447" y="161406"/>
                  </a:lnTo>
                  <a:lnTo>
                    <a:pt x="0" y="1676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522"/>
            <p:cNvSpPr/>
            <p:nvPr/>
          </p:nvSpPr>
          <p:spPr>
            <a:xfrm>
              <a:off x="1058400" y="2796480"/>
              <a:ext cx="236160" cy="121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36221" h="1219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7912" y="4045"/>
                  </a:lnTo>
                  <a:lnTo>
                    <a:pt x="21255" y="6084"/>
                  </a:lnTo>
                  <a:lnTo>
                    <a:pt x="25177" y="8289"/>
                  </a:lnTo>
                  <a:lnTo>
                    <a:pt x="29485" y="10606"/>
                  </a:lnTo>
                  <a:lnTo>
                    <a:pt x="34896" y="12997"/>
                  </a:lnTo>
                  <a:lnTo>
                    <a:pt x="41044" y="15438"/>
                  </a:lnTo>
                  <a:lnTo>
                    <a:pt x="47683" y="17912"/>
                  </a:lnTo>
                  <a:lnTo>
                    <a:pt x="54649" y="21255"/>
                  </a:lnTo>
                  <a:lnTo>
                    <a:pt x="61832" y="25177"/>
                  </a:lnTo>
                  <a:lnTo>
                    <a:pt x="69162" y="29485"/>
                  </a:lnTo>
                  <a:lnTo>
                    <a:pt x="77434" y="34050"/>
                  </a:lnTo>
                  <a:lnTo>
                    <a:pt x="95658" y="43638"/>
                  </a:lnTo>
                  <a:lnTo>
                    <a:pt x="104412" y="48565"/>
                  </a:lnTo>
                  <a:lnTo>
                    <a:pt x="112788" y="53544"/>
                  </a:lnTo>
                  <a:lnTo>
                    <a:pt x="128868" y="63590"/>
                  </a:lnTo>
                  <a:lnTo>
                    <a:pt x="144481" y="73700"/>
                  </a:lnTo>
                  <a:lnTo>
                    <a:pt x="153047" y="77920"/>
                  </a:lnTo>
                  <a:lnTo>
                    <a:pt x="162145" y="81580"/>
                  </a:lnTo>
                  <a:lnTo>
                    <a:pt x="171597" y="84867"/>
                  </a:lnTo>
                  <a:lnTo>
                    <a:pt x="180438" y="88751"/>
                  </a:lnTo>
                  <a:lnTo>
                    <a:pt x="188872" y="93034"/>
                  </a:lnTo>
                  <a:lnTo>
                    <a:pt x="204170" y="101462"/>
                  </a:lnTo>
                  <a:lnTo>
                    <a:pt x="216613" y="108030"/>
                  </a:lnTo>
                  <a:lnTo>
                    <a:pt x="221455" y="110967"/>
                  </a:lnTo>
                  <a:lnTo>
                    <a:pt x="225530" y="113771"/>
                  </a:lnTo>
                  <a:lnTo>
                    <a:pt x="236220" y="1219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523"/>
            <p:cNvSpPr/>
            <p:nvPr/>
          </p:nvSpPr>
          <p:spPr>
            <a:xfrm>
              <a:off x="1431720" y="2842200"/>
              <a:ext cx="99000" cy="4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99061" h="4391">
                  <a:moveTo>
                    <a:pt x="0" y="0"/>
                  </a:moveTo>
                  <a:lnTo>
                    <a:pt x="4045" y="4046"/>
                  </a:lnTo>
                  <a:lnTo>
                    <a:pt x="6084" y="4390"/>
                  </a:lnTo>
                  <a:lnTo>
                    <a:pt x="8289" y="3774"/>
                  </a:lnTo>
                  <a:lnTo>
                    <a:pt x="10606" y="2516"/>
                  </a:lnTo>
                  <a:lnTo>
                    <a:pt x="13844" y="1677"/>
                  </a:lnTo>
                  <a:lnTo>
                    <a:pt x="17696" y="1118"/>
                  </a:lnTo>
                  <a:lnTo>
                    <a:pt x="21957" y="745"/>
                  </a:lnTo>
                  <a:lnTo>
                    <a:pt x="27338" y="497"/>
                  </a:lnTo>
                  <a:lnTo>
                    <a:pt x="40090" y="221"/>
                  </a:lnTo>
                  <a:lnTo>
                    <a:pt x="990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524"/>
            <p:cNvSpPr/>
            <p:nvPr/>
          </p:nvSpPr>
          <p:spPr>
            <a:xfrm>
              <a:off x="1454760" y="2903040"/>
              <a:ext cx="114120" cy="2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14301" h="22861">
                  <a:moveTo>
                    <a:pt x="0" y="0"/>
                  </a:moveTo>
                  <a:lnTo>
                    <a:pt x="6561" y="6561"/>
                  </a:lnTo>
                  <a:lnTo>
                    <a:pt x="8607" y="6914"/>
                  </a:lnTo>
                  <a:lnTo>
                    <a:pt x="11665" y="7150"/>
                  </a:lnTo>
                  <a:lnTo>
                    <a:pt x="15397" y="7306"/>
                  </a:lnTo>
                  <a:lnTo>
                    <a:pt x="20425" y="8258"/>
                  </a:lnTo>
                  <a:lnTo>
                    <a:pt x="26316" y="9738"/>
                  </a:lnTo>
                  <a:lnTo>
                    <a:pt x="32785" y="11572"/>
                  </a:lnTo>
                  <a:lnTo>
                    <a:pt x="39636" y="12795"/>
                  </a:lnTo>
                  <a:lnTo>
                    <a:pt x="46744" y="13610"/>
                  </a:lnTo>
                  <a:lnTo>
                    <a:pt x="54023" y="14153"/>
                  </a:lnTo>
                  <a:lnTo>
                    <a:pt x="62262" y="14516"/>
                  </a:lnTo>
                  <a:lnTo>
                    <a:pt x="80448" y="14918"/>
                  </a:lnTo>
                  <a:lnTo>
                    <a:pt x="88345" y="15872"/>
                  </a:lnTo>
                  <a:lnTo>
                    <a:pt x="95303" y="17355"/>
                  </a:lnTo>
                  <a:lnTo>
                    <a:pt x="11430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525"/>
            <p:cNvSpPr/>
            <p:nvPr/>
          </p:nvSpPr>
          <p:spPr>
            <a:xfrm>
              <a:off x="1675800" y="2773800"/>
              <a:ext cx="212760" cy="2088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212747" h="208887">
                  <a:moveTo>
                    <a:pt x="45689" y="0"/>
                  </a:moveTo>
                  <a:lnTo>
                    <a:pt x="45689" y="6561"/>
                  </a:lnTo>
                  <a:lnTo>
                    <a:pt x="41644" y="11351"/>
                  </a:lnTo>
                  <a:lnTo>
                    <a:pt x="40452" y="13494"/>
                  </a:lnTo>
                  <a:lnTo>
                    <a:pt x="39128" y="18133"/>
                  </a:lnTo>
                  <a:lnTo>
                    <a:pt x="38540" y="23017"/>
                  </a:lnTo>
                  <a:lnTo>
                    <a:pt x="38383" y="25504"/>
                  </a:lnTo>
                  <a:lnTo>
                    <a:pt x="37432" y="28856"/>
                  </a:lnTo>
                  <a:lnTo>
                    <a:pt x="35951" y="32784"/>
                  </a:lnTo>
                  <a:lnTo>
                    <a:pt x="34117" y="37096"/>
                  </a:lnTo>
                  <a:lnTo>
                    <a:pt x="32894" y="40817"/>
                  </a:lnTo>
                  <a:lnTo>
                    <a:pt x="31536" y="47210"/>
                  </a:lnTo>
                  <a:lnTo>
                    <a:pt x="30327" y="50947"/>
                  </a:lnTo>
                  <a:lnTo>
                    <a:pt x="28674" y="55131"/>
                  </a:lnTo>
                  <a:lnTo>
                    <a:pt x="26726" y="59614"/>
                  </a:lnTo>
                  <a:lnTo>
                    <a:pt x="24580" y="63449"/>
                  </a:lnTo>
                  <a:lnTo>
                    <a:pt x="19939" y="69969"/>
                  </a:lnTo>
                  <a:lnTo>
                    <a:pt x="17515" y="73739"/>
                  </a:lnTo>
                  <a:lnTo>
                    <a:pt x="15053" y="77946"/>
                  </a:lnTo>
                  <a:lnTo>
                    <a:pt x="12565" y="82444"/>
                  </a:lnTo>
                  <a:lnTo>
                    <a:pt x="10907" y="86289"/>
                  </a:lnTo>
                  <a:lnTo>
                    <a:pt x="9801" y="89699"/>
                  </a:lnTo>
                  <a:lnTo>
                    <a:pt x="9064" y="92820"/>
                  </a:lnTo>
                  <a:lnTo>
                    <a:pt x="7725" y="94900"/>
                  </a:lnTo>
                  <a:lnTo>
                    <a:pt x="5986" y="96287"/>
                  </a:lnTo>
                  <a:lnTo>
                    <a:pt x="3981" y="97211"/>
                  </a:lnTo>
                  <a:lnTo>
                    <a:pt x="2644" y="98674"/>
                  </a:lnTo>
                  <a:lnTo>
                    <a:pt x="1752" y="100496"/>
                  </a:lnTo>
                  <a:lnTo>
                    <a:pt x="0" y="106573"/>
                  </a:lnTo>
                  <a:lnTo>
                    <a:pt x="6059" y="100576"/>
                  </a:lnTo>
                  <a:lnTo>
                    <a:pt x="21927" y="84720"/>
                  </a:lnTo>
                  <a:lnTo>
                    <a:pt x="27308" y="80187"/>
                  </a:lnTo>
                  <a:lnTo>
                    <a:pt x="33435" y="75471"/>
                  </a:lnTo>
                  <a:lnTo>
                    <a:pt x="40060" y="70634"/>
                  </a:lnTo>
                  <a:lnTo>
                    <a:pt x="46169" y="66563"/>
                  </a:lnTo>
                  <a:lnTo>
                    <a:pt x="51936" y="63002"/>
                  </a:lnTo>
                  <a:lnTo>
                    <a:pt x="57474" y="59781"/>
                  </a:lnTo>
                  <a:lnTo>
                    <a:pt x="63705" y="57634"/>
                  </a:lnTo>
                  <a:lnTo>
                    <a:pt x="70400" y="56202"/>
                  </a:lnTo>
                  <a:lnTo>
                    <a:pt x="77403" y="55248"/>
                  </a:lnTo>
                  <a:lnTo>
                    <a:pt x="84612" y="54612"/>
                  </a:lnTo>
                  <a:lnTo>
                    <a:pt x="91957" y="54188"/>
                  </a:lnTo>
                  <a:lnTo>
                    <a:pt x="106046" y="53717"/>
                  </a:lnTo>
                  <a:lnTo>
                    <a:pt x="117952" y="53508"/>
                  </a:lnTo>
                  <a:lnTo>
                    <a:pt x="125191" y="54298"/>
                  </a:lnTo>
                  <a:lnTo>
                    <a:pt x="133404" y="55672"/>
                  </a:lnTo>
                  <a:lnTo>
                    <a:pt x="142266" y="57435"/>
                  </a:lnTo>
                  <a:lnTo>
                    <a:pt x="149867" y="60303"/>
                  </a:lnTo>
                  <a:lnTo>
                    <a:pt x="156628" y="63909"/>
                  </a:lnTo>
                  <a:lnTo>
                    <a:pt x="162828" y="68006"/>
                  </a:lnTo>
                  <a:lnTo>
                    <a:pt x="168655" y="71584"/>
                  </a:lnTo>
                  <a:lnTo>
                    <a:pt x="174233" y="74816"/>
                  </a:lnTo>
                  <a:lnTo>
                    <a:pt x="179645" y="77817"/>
                  </a:lnTo>
                  <a:lnTo>
                    <a:pt x="184946" y="81512"/>
                  </a:lnTo>
                  <a:lnTo>
                    <a:pt x="190174" y="85668"/>
                  </a:lnTo>
                  <a:lnTo>
                    <a:pt x="195352" y="90132"/>
                  </a:lnTo>
                  <a:lnTo>
                    <a:pt x="199652" y="95648"/>
                  </a:lnTo>
                  <a:lnTo>
                    <a:pt x="203364" y="101865"/>
                  </a:lnTo>
                  <a:lnTo>
                    <a:pt x="206686" y="108550"/>
                  </a:lnTo>
                  <a:lnTo>
                    <a:pt x="208900" y="114700"/>
                  </a:lnTo>
                  <a:lnTo>
                    <a:pt x="210377" y="120493"/>
                  </a:lnTo>
                  <a:lnTo>
                    <a:pt x="211361" y="126049"/>
                  </a:lnTo>
                  <a:lnTo>
                    <a:pt x="212017" y="132293"/>
                  </a:lnTo>
                  <a:lnTo>
                    <a:pt x="212454" y="138995"/>
                  </a:lnTo>
                  <a:lnTo>
                    <a:pt x="212746" y="146003"/>
                  </a:lnTo>
                  <a:lnTo>
                    <a:pt x="211247" y="152369"/>
                  </a:lnTo>
                  <a:lnTo>
                    <a:pt x="208555" y="158306"/>
                  </a:lnTo>
                  <a:lnTo>
                    <a:pt x="205066" y="163957"/>
                  </a:lnTo>
                  <a:lnTo>
                    <a:pt x="201047" y="168571"/>
                  </a:lnTo>
                  <a:lnTo>
                    <a:pt x="196675" y="172494"/>
                  </a:lnTo>
                  <a:lnTo>
                    <a:pt x="192066" y="175956"/>
                  </a:lnTo>
                  <a:lnTo>
                    <a:pt x="187300" y="179957"/>
                  </a:lnTo>
                  <a:lnTo>
                    <a:pt x="182430" y="184318"/>
                  </a:lnTo>
                  <a:lnTo>
                    <a:pt x="177490" y="188919"/>
                  </a:lnTo>
                  <a:lnTo>
                    <a:pt x="171656" y="192833"/>
                  </a:lnTo>
                  <a:lnTo>
                    <a:pt x="165227" y="196288"/>
                  </a:lnTo>
                  <a:lnTo>
                    <a:pt x="158401" y="199439"/>
                  </a:lnTo>
                  <a:lnTo>
                    <a:pt x="151310" y="202386"/>
                  </a:lnTo>
                  <a:lnTo>
                    <a:pt x="144043" y="205197"/>
                  </a:lnTo>
                  <a:lnTo>
                    <a:pt x="136658" y="207918"/>
                  </a:lnTo>
                  <a:lnTo>
                    <a:pt x="130042" y="208886"/>
                  </a:lnTo>
                  <a:lnTo>
                    <a:pt x="123938" y="208684"/>
                  </a:lnTo>
                  <a:lnTo>
                    <a:pt x="118175" y="207702"/>
                  </a:lnTo>
                  <a:lnTo>
                    <a:pt x="110946" y="207048"/>
                  </a:lnTo>
                  <a:lnTo>
                    <a:pt x="102740" y="206612"/>
                  </a:lnTo>
                  <a:lnTo>
                    <a:pt x="77373" y="205912"/>
                  </a:lnTo>
                  <a:lnTo>
                    <a:pt x="73585" y="205008"/>
                  </a:lnTo>
                  <a:lnTo>
                    <a:pt x="70213" y="203559"/>
                  </a:lnTo>
                  <a:lnTo>
                    <a:pt x="60929" y="1981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526"/>
            <p:cNvSpPr/>
            <p:nvPr/>
          </p:nvSpPr>
          <p:spPr>
            <a:xfrm>
              <a:off x="1744200" y="273564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4046" y="4045"/>
                  </a:lnTo>
                  <a:lnTo>
                    <a:pt x="6084" y="5237"/>
                  </a:lnTo>
                  <a:lnTo>
                    <a:pt x="8289" y="6032"/>
                  </a:lnTo>
                  <a:lnTo>
                    <a:pt x="10606" y="6561"/>
                  </a:lnTo>
                  <a:lnTo>
                    <a:pt x="12997" y="6914"/>
                  </a:lnTo>
                  <a:lnTo>
                    <a:pt x="15439" y="7149"/>
                  </a:lnTo>
                  <a:lnTo>
                    <a:pt x="17912" y="7306"/>
                  </a:lnTo>
                  <a:lnTo>
                    <a:pt x="25177" y="7480"/>
                  </a:lnTo>
                  <a:lnTo>
                    <a:pt x="1828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527"/>
            <p:cNvSpPr/>
            <p:nvPr/>
          </p:nvSpPr>
          <p:spPr>
            <a:xfrm>
              <a:off x="2102400" y="2689920"/>
              <a:ext cx="36360" cy="236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6692" h="236221">
                  <a:moveTo>
                    <a:pt x="0" y="0"/>
                  </a:moveTo>
                  <a:lnTo>
                    <a:pt x="4046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0" y="6084"/>
                  </a:lnTo>
                  <a:lnTo>
                    <a:pt x="9407" y="8289"/>
                  </a:lnTo>
                  <a:lnTo>
                    <a:pt x="11352" y="10606"/>
                  </a:lnTo>
                  <a:lnTo>
                    <a:pt x="13494" y="12997"/>
                  </a:lnTo>
                  <a:lnTo>
                    <a:pt x="18133" y="17912"/>
                  </a:lnTo>
                  <a:lnTo>
                    <a:pt x="19709" y="21255"/>
                  </a:lnTo>
                  <a:lnTo>
                    <a:pt x="20759" y="25177"/>
                  </a:lnTo>
                  <a:lnTo>
                    <a:pt x="21460" y="29485"/>
                  </a:lnTo>
                  <a:lnTo>
                    <a:pt x="22773" y="34050"/>
                  </a:lnTo>
                  <a:lnTo>
                    <a:pt x="24495" y="38786"/>
                  </a:lnTo>
                  <a:lnTo>
                    <a:pt x="26490" y="43638"/>
                  </a:lnTo>
                  <a:lnTo>
                    <a:pt x="28667" y="49412"/>
                  </a:lnTo>
                  <a:lnTo>
                    <a:pt x="33343" y="62601"/>
                  </a:lnTo>
                  <a:lnTo>
                    <a:pt x="34929" y="69674"/>
                  </a:lnTo>
                  <a:lnTo>
                    <a:pt x="35986" y="76929"/>
                  </a:lnTo>
                  <a:lnTo>
                    <a:pt x="36691" y="84306"/>
                  </a:lnTo>
                  <a:lnTo>
                    <a:pt x="36314" y="92611"/>
                  </a:lnTo>
                  <a:lnTo>
                    <a:pt x="35216" y="101534"/>
                  </a:lnTo>
                  <a:lnTo>
                    <a:pt x="33637" y="110869"/>
                  </a:lnTo>
                  <a:lnTo>
                    <a:pt x="32585" y="119633"/>
                  </a:lnTo>
                  <a:lnTo>
                    <a:pt x="31883" y="128015"/>
                  </a:lnTo>
                  <a:lnTo>
                    <a:pt x="31416" y="136143"/>
                  </a:lnTo>
                  <a:lnTo>
                    <a:pt x="30896" y="151948"/>
                  </a:lnTo>
                  <a:lnTo>
                    <a:pt x="30562" y="182791"/>
                  </a:lnTo>
                  <a:lnTo>
                    <a:pt x="30480" y="2362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528"/>
            <p:cNvSpPr/>
            <p:nvPr/>
          </p:nvSpPr>
          <p:spPr>
            <a:xfrm>
              <a:off x="555840" y="3051000"/>
              <a:ext cx="563400" cy="11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63556" h="12011">
                  <a:moveTo>
                    <a:pt x="22535" y="4390"/>
                  </a:moveTo>
                  <a:lnTo>
                    <a:pt x="3371" y="4390"/>
                  </a:lnTo>
                  <a:lnTo>
                    <a:pt x="2139" y="3543"/>
                  </a:lnTo>
                  <a:lnTo>
                    <a:pt x="1318" y="2132"/>
                  </a:lnTo>
                  <a:lnTo>
                    <a:pt x="770" y="345"/>
                  </a:lnTo>
                  <a:lnTo>
                    <a:pt x="405" y="0"/>
                  </a:lnTo>
                  <a:lnTo>
                    <a:pt x="162" y="616"/>
                  </a:lnTo>
                  <a:lnTo>
                    <a:pt x="0" y="1875"/>
                  </a:lnTo>
                  <a:lnTo>
                    <a:pt x="738" y="2713"/>
                  </a:lnTo>
                  <a:lnTo>
                    <a:pt x="2077" y="3272"/>
                  </a:lnTo>
                  <a:lnTo>
                    <a:pt x="6265" y="4169"/>
                  </a:lnTo>
                  <a:lnTo>
                    <a:pt x="20105" y="4346"/>
                  </a:lnTo>
                  <a:lnTo>
                    <a:pt x="32462" y="4371"/>
                  </a:lnTo>
                  <a:lnTo>
                    <a:pt x="40160" y="5224"/>
                  </a:lnTo>
                  <a:lnTo>
                    <a:pt x="48678" y="6639"/>
                  </a:lnTo>
                  <a:lnTo>
                    <a:pt x="57744" y="8430"/>
                  </a:lnTo>
                  <a:lnTo>
                    <a:pt x="68021" y="9623"/>
                  </a:lnTo>
                  <a:lnTo>
                    <a:pt x="79106" y="10418"/>
                  </a:lnTo>
                  <a:lnTo>
                    <a:pt x="90729" y="10949"/>
                  </a:lnTo>
                  <a:lnTo>
                    <a:pt x="114932" y="11538"/>
                  </a:lnTo>
                  <a:lnTo>
                    <a:pt x="563555" y="120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529"/>
            <p:cNvSpPr/>
            <p:nvPr/>
          </p:nvSpPr>
          <p:spPr>
            <a:xfrm>
              <a:off x="1538640" y="3070800"/>
              <a:ext cx="640080" cy="15120"/>
            </a:xfrm>
            <a:custGeom>
              <a:avLst/>
              <a:gdLst>
                <a:gd name="textAreaLeft" fmla="*/ 0 w 640080"/>
                <a:gd name="textAreaRight" fmla="*/ 640440 w 640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40081" h="15233">
                  <a:moveTo>
                    <a:pt x="0" y="15232"/>
                  </a:moveTo>
                  <a:lnTo>
                    <a:pt x="4045" y="15232"/>
                  </a:lnTo>
                  <a:lnTo>
                    <a:pt x="6084" y="14385"/>
                  </a:lnTo>
                  <a:lnTo>
                    <a:pt x="8289" y="12974"/>
                  </a:lnTo>
                  <a:lnTo>
                    <a:pt x="10606" y="11187"/>
                  </a:lnTo>
                  <a:lnTo>
                    <a:pt x="12997" y="9995"/>
                  </a:lnTo>
                  <a:lnTo>
                    <a:pt x="15438" y="9201"/>
                  </a:lnTo>
                  <a:lnTo>
                    <a:pt x="17912" y="8671"/>
                  </a:lnTo>
                  <a:lnTo>
                    <a:pt x="22948" y="8318"/>
                  </a:lnTo>
                  <a:lnTo>
                    <a:pt x="37575" y="7926"/>
                  </a:lnTo>
                  <a:lnTo>
                    <a:pt x="157142" y="7620"/>
                  </a:lnTo>
                  <a:lnTo>
                    <a:pt x="175035" y="6771"/>
                  </a:lnTo>
                  <a:lnTo>
                    <a:pt x="193736" y="5358"/>
                  </a:lnTo>
                  <a:lnTo>
                    <a:pt x="212978" y="3569"/>
                  </a:lnTo>
                  <a:lnTo>
                    <a:pt x="232578" y="2377"/>
                  </a:lnTo>
                  <a:lnTo>
                    <a:pt x="272419" y="1052"/>
                  </a:lnTo>
                  <a:lnTo>
                    <a:pt x="379495" y="132"/>
                  </a:lnTo>
                  <a:lnTo>
                    <a:pt x="519107" y="0"/>
                  </a:lnTo>
                  <a:lnTo>
                    <a:pt x="535725" y="844"/>
                  </a:lnTo>
                  <a:lnTo>
                    <a:pt x="551036" y="2253"/>
                  </a:lnTo>
                  <a:lnTo>
                    <a:pt x="565478" y="4040"/>
                  </a:lnTo>
                  <a:lnTo>
                    <a:pt x="577645" y="5230"/>
                  </a:lnTo>
                  <a:lnTo>
                    <a:pt x="588297" y="6024"/>
                  </a:lnTo>
                  <a:lnTo>
                    <a:pt x="597938" y="6554"/>
                  </a:lnTo>
                  <a:lnTo>
                    <a:pt x="615424" y="7142"/>
                  </a:lnTo>
                  <a:lnTo>
                    <a:pt x="640080" y="76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530"/>
            <p:cNvSpPr/>
            <p:nvPr/>
          </p:nvSpPr>
          <p:spPr>
            <a:xfrm>
              <a:off x="1591920" y="319284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91059" y="7620"/>
                  </a:lnTo>
                  <a:lnTo>
                    <a:pt x="103886" y="6773"/>
                  </a:lnTo>
                  <a:lnTo>
                    <a:pt x="117518" y="5362"/>
                  </a:lnTo>
                  <a:lnTo>
                    <a:pt x="131685" y="3575"/>
                  </a:lnTo>
                  <a:lnTo>
                    <a:pt x="142823" y="2383"/>
                  </a:lnTo>
                  <a:lnTo>
                    <a:pt x="151942" y="1589"/>
                  </a:lnTo>
                  <a:lnTo>
                    <a:pt x="1752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531"/>
            <p:cNvSpPr/>
            <p:nvPr/>
          </p:nvSpPr>
          <p:spPr>
            <a:xfrm>
              <a:off x="1858680" y="3162240"/>
              <a:ext cx="173160" cy="1980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73271" h="198113">
                  <a:moveTo>
                    <a:pt x="0" y="15232"/>
                  </a:moveTo>
                  <a:lnTo>
                    <a:pt x="4045" y="11187"/>
                  </a:lnTo>
                  <a:lnTo>
                    <a:pt x="6930" y="9995"/>
                  </a:lnTo>
                  <a:lnTo>
                    <a:pt x="10547" y="9201"/>
                  </a:lnTo>
                  <a:lnTo>
                    <a:pt x="14651" y="8671"/>
                  </a:lnTo>
                  <a:lnTo>
                    <a:pt x="19081" y="8318"/>
                  </a:lnTo>
                  <a:lnTo>
                    <a:pt x="23727" y="8083"/>
                  </a:lnTo>
                  <a:lnTo>
                    <a:pt x="28518" y="7926"/>
                  </a:lnTo>
                  <a:lnTo>
                    <a:pt x="33405" y="6975"/>
                  </a:lnTo>
                  <a:lnTo>
                    <a:pt x="38357" y="5494"/>
                  </a:lnTo>
                  <a:lnTo>
                    <a:pt x="43351" y="3660"/>
                  </a:lnTo>
                  <a:lnTo>
                    <a:pt x="49221" y="2437"/>
                  </a:lnTo>
                  <a:lnTo>
                    <a:pt x="55674" y="1622"/>
                  </a:lnTo>
                  <a:lnTo>
                    <a:pt x="62516" y="1079"/>
                  </a:lnTo>
                  <a:lnTo>
                    <a:pt x="68771" y="716"/>
                  </a:lnTo>
                  <a:lnTo>
                    <a:pt x="80236" y="314"/>
                  </a:lnTo>
                  <a:lnTo>
                    <a:pt x="112574" y="34"/>
                  </a:lnTo>
                  <a:lnTo>
                    <a:pt x="130234" y="0"/>
                  </a:lnTo>
                  <a:lnTo>
                    <a:pt x="134236" y="844"/>
                  </a:lnTo>
                  <a:lnTo>
                    <a:pt x="138597" y="2253"/>
                  </a:lnTo>
                  <a:lnTo>
                    <a:pt x="149674" y="6553"/>
                  </a:lnTo>
                  <a:lnTo>
                    <a:pt x="149736" y="7753"/>
                  </a:lnTo>
                  <a:lnTo>
                    <a:pt x="148931" y="9400"/>
                  </a:lnTo>
                  <a:lnTo>
                    <a:pt x="145778" y="13486"/>
                  </a:lnTo>
                  <a:lnTo>
                    <a:pt x="141555" y="18125"/>
                  </a:lnTo>
                  <a:lnTo>
                    <a:pt x="138397" y="20547"/>
                  </a:lnTo>
                  <a:lnTo>
                    <a:pt x="134598" y="23009"/>
                  </a:lnTo>
                  <a:lnTo>
                    <a:pt x="130372" y="25496"/>
                  </a:lnTo>
                  <a:lnTo>
                    <a:pt x="125015" y="28002"/>
                  </a:lnTo>
                  <a:lnTo>
                    <a:pt x="118903" y="30518"/>
                  </a:lnTo>
                  <a:lnTo>
                    <a:pt x="112289" y="33043"/>
                  </a:lnTo>
                  <a:lnTo>
                    <a:pt x="105339" y="36419"/>
                  </a:lnTo>
                  <a:lnTo>
                    <a:pt x="98166" y="40364"/>
                  </a:lnTo>
                  <a:lnTo>
                    <a:pt x="90844" y="44686"/>
                  </a:lnTo>
                  <a:lnTo>
                    <a:pt x="83423" y="47568"/>
                  </a:lnTo>
                  <a:lnTo>
                    <a:pt x="75935" y="49489"/>
                  </a:lnTo>
                  <a:lnTo>
                    <a:pt x="68404" y="50770"/>
                  </a:lnTo>
                  <a:lnTo>
                    <a:pt x="61689" y="53318"/>
                  </a:lnTo>
                  <a:lnTo>
                    <a:pt x="55519" y="56709"/>
                  </a:lnTo>
                  <a:lnTo>
                    <a:pt x="49713" y="60663"/>
                  </a:lnTo>
                  <a:lnTo>
                    <a:pt x="44995" y="63300"/>
                  </a:lnTo>
                  <a:lnTo>
                    <a:pt x="41003" y="65057"/>
                  </a:lnTo>
                  <a:lnTo>
                    <a:pt x="37496" y="66229"/>
                  </a:lnTo>
                  <a:lnTo>
                    <a:pt x="35157" y="67856"/>
                  </a:lnTo>
                  <a:lnTo>
                    <a:pt x="33598" y="69788"/>
                  </a:lnTo>
                  <a:lnTo>
                    <a:pt x="32559" y="71923"/>
                  </a:lnTo>
                  <a:lnTo>
                    <a:pt x="31404" y="76552"/>
                  </a:lnTo>
                  <a:lnTo>
                    <a:pt x="31096" y="78972"/>
                  </a:lnTo>
                  <a:lnTo>
                    <a:pt x="32584" y="81432"/>
                  </a:lnTo>
                  <a:lnTo>
                    <a:pt x="35269" y="83919"/>
                  </a:lnTo>
                  <a:lnTo>
                    <a:pt x="38753" y="86423"/>
                  </a:lnTo>
                  <a:lnTo>
                    <a:pt x="43615" y="88940"/>
                  </a:lnTo>
                  <a:lnTo>
                    <a:pt x="49397" y="91464"/>
                  </a:lnTo>
                  <a:lnTo>
                    <a:pt x="55791" y="93993"/>
                  </a:lnTo>
                  <a:lnTo>
                    <a:pt x="62594" y="95680"/>
                  </a:lnTo>
                  <a:lnTo>
                    <a:pt x="69670" y="96804"/>
                  </a:lnTo>
                  <a:lnTo>
                    <a:pt x="76926" y="97553"/>
                  </a:lnTo>
                  <a:lnTo>
                    <a:pt x="84304" y="98900"/>
                  </a:lnTo>
                  <a:lnTo>
                    <a:pt x="91763" y="100644"/>
                  </a:lnTo>
                  <a:lnTo>
                    <a:pt x="99276" y="102653"/>
                  </a:lnTo>
                  <a:lnTo>
                    <a:pt x="114396" y="107144"/>
                  </a:lnTo>
                  <a:lnTo>
                    <a:pt x="121984" y="109526"/>
                  </a:lnTo>
                  <a:lnTo>
                    <a:pt x="128736" y="111962"/>
                  </a:lnTo>
                  <a:lnTo>
                    <a:pt x="134931" y="114432"/>
                  </a:lnTo>
                  <a:lnTo>
                    <a:pt x="140754" y="116925"/>
                  </a:lnTo>
                  <a:lnTo>
                    <a:pt x="146330" y="120281"/>
                  </a:lnTo>
                  <a:lnTo>
                    <a:pt x="151739" y="124212"/>
                  </a:lnTo>
                  <a:lnTo>
                    <a:pt x="157040" y="128525"/>
                  </a:lnTo>
                  <a:lnTo>
                    <a:pt x="161420" y="132247"/>
                  </a:lnTo>
                  <a:lnTo>
                    <a:pt x="165187" y="135576"/>
                  </a:lnTo>
                  <a:lnTo>
                    <a:pt x="168545" y="138641"/>
                  </a:lnTo>
                  <a:lnTo>
                    <a:pt x="170783" y="141531"/>
                  </a:lnTo>
                  <a:lnTo>
                    <a:pt x="173270" y="147001"/>
                  </a:lnTo>
                  <a:lnTo>
                    <a:pt x="172241" y="149644"/>
                  </a:lnTo>
                  <a:lnTo>
                    <a:pt x="169860" y="152254"/>
                  </a:lnTo>
                  <a:lnTo>
                    <a:pt x="166580" y="154840"/>
                  </a:lnTo>
                  <a:lnTo>
                    <a:pt x="162700" y="158258"/>
                  </a:lnTo>
                  <a:lnTo>
                    <a:pt x="158420" y="162229"/>
                  </a:lnTo>
                  <a:lnTo>
                    <a:pt x="153874" y="166570"/>
                  </a:lnTo>
                  <a:lnTo>
                    <a:pt x="148302" y="170311"/>
                  </a:lnTo>
                  <a:lnTo>
                    <a:pt x="142048" y="173651"/>
                  </a:lnTo>
                  <a:lnTo>
                    <a:pt x="135339" y="176725"/>
                  </a:lnTo>
                  <a:lnTo>
                    <a:pt x="128326" y="179621"/>
                  </a:lnTo>
                  <a:lnTo>
                    <a:pt x="121111" y="182398"/>
                  </a:lnTo>
                  <a:lnTo>
                    <a:pt x="113760" y="185096"/>
                  </a:lnTo>
                  <a:lnTo>
                    <a:pt x="105474" y="187741"/>
                  </a:lnTo>
                  <a:lnTo>
                    <a:pt x="96562" y="190352"/>
                  </a:lnTo>
                  <a:lnTo>
                    <a:pt x="87235" y="192938"/>
                  </a:lnTo>
                  <a:lnTo>
                    <a:pt x="77630" y="194663"/>
                  </a:lnTo>
                  <a:lnTo>
                    <a:pt x="67840" y="195813"/>
                  </a:lnTo>
                  <a:lnTo>
                    <a:pt x="50471" y="197090"/>
                  </a:lnTo>
                  <a:lnTo>
                    <a:pt x="39929" y="197658"/>
                  </a:lnTo>
                  <a:lnTo>
                    <a:pt x="27906" y="197910"/>
                  </a:lnTo>
                  <a:lnTo>
                    <a:pt x="7620" y="1981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532"/>
            <p:cNvSpPr/>
            <p:nvPr/>
          </p:nvSpPr>
          <p:spPr>
            <a:xfrm>
              <a:off x="403200" y="326880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4"/>
                  </a:lnTo>
                  <a:lnTo>
                    <a:pt x="6031" y="20603"/>
                  </a:lnTo>
                  <a:lnTo>
                    <a:pt x="6561" y="18815"/>
                  </a:lnTo>
                  <a:lnTo>
                    <a:pt x="7761" y="17623"/>
                  </a:lnTo>
                  <a:lnTo>
                    <a:pt x="9407" y="16829"/>
                  </a:lnTo>
                  <a:lnTo>
                    <a:pt x="11351" y="16299"/>
                  </a:lnTo>
                  <a:lnTo>
                    <a:pt x="14341" y="15946"/>
                  </a:lnTo>
                  <a:lnTo>
                    <a:pt x="18027" y="15711"/>
                  </a:lnTo>
                  <a:lnTo>
                    <a:pt x="22178" y="15554"/>
                  </a:lnTo>
                  <a:lnTo>
                    <a:pt x="27485" y="14603"/>
                  </a:lnTo>
                  <a:lnTo>
                    <a:pt x="33564" y="13122"/>
                  </a:lnTo>
                  <a:lnTo>
                    <a:pt x="40156" y="11288"/>
                  </a:lnTo>
                  <a:lnTo>
                    <a:pt x="47937" y="10065"/>
                  </a:lnTo>
                  <a:lnTo>
                    <a:pt x="56511" y="9250"/>
                  </a:lnTo>
                  <a:lnTo>
                    <a:pt x="65614" y="8707"/>
                  </a:lnTo>
                  <a:lnTo>
                    <a:pt x="75070" y="7498"/>
                  </a:lnTo>
                  <a:lnTo>
                    <a:pt x="84760" y="5845"/>
                  </a:lnTo>
                  <a:lnTo>
                    <a:pt x="94606" y="3897"/>
                  </a:lnTo>
                  <a:lnTo>
                    <a:pt x="102864" y="2598"/>
                  </a:lnTo>
                  <a:lnTo>
                    <a:pt x="110063" y="1732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533"/>
            <p:cNvSpPr/>
            <p:nvPr/>
          </p:nvSpPr>
          <p:spPr>
            <a:xfrm>
              <a:off x="730800" y="3177720"/>
              <a:ext cx="241560" cy="1900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41781" h="190400">
                  <a:moveTo>
                    <a:pt x="0" y="15139"/>
                  </a:moveTo>
                  <a:lnTo>
                    <a:pt x="29485" y="15139"/>
                  </a:lnTo>
                  <a:lnTo>
                    <a:pt x="34050" y="14292"/>
                  </a:lnTo>
                  <a:lnTo>
                    <a:pt x="38787" y="12881"/>
                  </a:lnTo>
                  <a:lnTo>
                    <a:pt x="43638" y="11094"/>
                  </a:lnTo>
                  <a:lnTo>
                    <a:pt x="49412" y="9902"/>
                  </a:lnTo>
                  <a:lnTo>
                    <a:pt x="55801" y="9108"/>
                  </a:lnTo>
                  <a:lnTo>
                    <a:pt x="62601" y="8579"/>
                  </a:lnTo>
                  <a:lnTo>
                    <a:pt x="69674" y="7379"/>
                  </a:lnTo>
                  <a:lnTo>
                    <a:pt x="76929" y="5732"/>
                  </a:lnTo>
                  <a:lnTo>
                    <a:pt x="84306" y="3788"/>
                  </a:lnTo>
                  <a:lnTo>
                    <a:pt x="91764" y="2492"/>
                  </a:lnTo>
                  <a:lnTo>
                    <a:pt x="99276" y="1628"/>
                  </a:lnTo>
                  <a:lnTo>
                    <a:pt x="106824" y="1051"/>
                  </a:lnTo>
                  <a:lnTo>
                    <a:pt x="114396" y="668"/>
                  </a:lnTo>
                  <a:lnTo>
                    <a:pt x="129583" y="241"/>
                  </a:lnTo>
                  <a:lnTo>
                    <a:pt x="152413" y="0"/>
                  </a:lnTo>
                  <a:lnTo>
                    <a:pt x="159182" y="813"/>
                  </a:lnTo>
                  <a:lnTo>
                    <a:pt x="165388" y="2202"/>
                  </a:lnTo>
                  <a:lnTo>
                    <a:pt x="179425" y="6469"/>
                  </a:lnTo>
                  <a:lnTo>
                    <a:pt x="183602" y="9310"/>
                  </a:lnTo>
                  <a:lnTo>
                    <a:pt x="185901" y="11253"/>
                  </a:lnTo>
                  <a:lnTo>
                    <a:pt x="187435" y="13395"/>
                  </a:lnTo>
                  <a:lnTo>
                    <a:pt x="189138" y="18033"/>
                  </a:lnTo>
                  <a:lnTo>
                    <a:pt x="187898" y="20455"/>
                  </a:lnTo>
                  <a:lnTo>
                    <a:pt x="182006" y="25404"/>
                  </a:lnTo>
                  <a:lnTo>
                    <a:pt x="176000" y="30426"/>
                  </a:lnTo>
                  <a:lnTo>
                    <a:pt x="168816" y="36326"/>
                  </a:lnTo>
                  <a:lnTo>
                    <a:pt x="163344" y="40271"/>
                  </a:lnTo>
                  <a:lnTo>
                    <a:pt x="157156" y="44593"/>
                  </a:lnTo>
                  <a:lnTo>
                    <a:pt x="151337" y="48322"/>
                  </a:lnTo>
                  <a:lnTo>
                    <a:pt x="145765" y="51654"/>
                  </a:lnTo>
                  <a:lnTo>
                    <a:pt x="140357" y="54723"/>
                  </a:lnTo>
                  <a:lnTo>
                    <a:pt x="129832" y="60389"/>
                  </a:lnTo>
                  <a:lnTo>
                    <a:pt x="124655" y="63086"/>
                  </a:lnTo>
                  <a:lnTo>
                    <a:pt x="120356" y="65731"/>
                  </a:lnTo>
                  <a:lnTo>
                    <a:pt x="113323" y="70927"/>
                  </a:lnTo>
                  <a:lnTo>
                    <a:pt x="111109" y="73497"/>
                  </a:lnTo>
                  <a:lnTo>
                    <a:pt x="109633" y="76058"/>
                  </a:lnTo>
                  <a:lnTo>
                    <a:pt x="107263" y="82206"/>
                  </a:lnTo>
                  <a:lnTo>
                    <a:pt x="108762" y="83557"/>
                  </a:lnTo>
                  <a:lnTo>
                    <a:pt x="114943" y="87316"/>
                  </a:lnTo>
                  <a:lnTo>
                    <a:pt x="123335" y="91809"/>
                  </a:lnTo>
                  <a:lnTo>
                    <a:pt x="127943" y="94192"/>
                  </a:lnTo>
                  <a:lnTo>
                    <a:pt x="132709" y="95781"/>
                  </a:lnTo>
                  <a:lnTo>
                    <a:pt x="137579" y="96841"/>
                  </a:lnTo>
                  <a:lnTo>
                    <a:pt x="142520" y="97547"/>
                  </a:lnTo>
                  <a:lnTo>
                    <a:pt x="149200" y="98864"/>
                  </a:lnTo>
                  <a:lnTo>
                    <a:pt x="165653" y="102586"/>
                  </a:lnTo>
                  <a:lnTo>
                    <a:pt x="173089" y="104764"/>
                  </a:lnTo>
                  <a:lnTo>
                    <a:pt x="179739" y="107062"/>
                  </a:lnTo>
                  <a:lnTo>
                    <a:pt x="185866" y="109441"/>
                  </a:lnTo>
                  <a:lnTo>
                    <a:pt x="199447" y="114342"/>
                  </a:lnTo>
                  <a:lnTo>
                    <a:pt x="206625" y="116834"/>
                  </a:lnTo>
                  <a:lnTo>
                    <a:pt x="213103" y="119343"/>
                  </a:lnTo>
                  <a:lnTo>
                    <a:pt x="219116" y="121861"/>
                  </a:lnTo>
                  <a:lnTo>
                    <a:pt x="224817" y="124387"/>
                  </a:lnTo>
                  <a:lnTo>
                    <a:pt x="229465" y="126918"/>
                  </a:lnTo>
                  <a:lnTo>
                    <a:pt x="236887" y="131988"/>
                  </a:lnTo>
                  <a:lnTo>
                    <a:pt x="239204" y="134525"/>
                  </a:lnTo>
                  <a:lnTo>
                    <a:pt x="240750" y="137063"/>
                  </a:lnTo>
                  <a:lnTo>
                    <a:pt x="241780" y="139601"/>
                  </a:lnTo>
                  <a:lnTo>
                    <a:pt x="241620" y="142140"/>
                  </a:lnTo>
                  <a:lnTo>
                    <a:pt x="240666" y="144680"/>
                  </a:lnTo>
                  <a:lnTo>
                    <a:pt x="237350" y="149759"/>
                  </a:lnTo>
                  <a:lnTo>
                    <a:pt x="233053" y="154839"/>
                  </a:lnTo>
                  <a:lnTo>
                    <a:pt x="229029" y="157379"/>
                  </a:lnTo>
                  <a:lnTo>
                    <a:pt x="223806" y="159919"/>
                  </a:lnTo>
                  <a:lnTo>
                    <a:pt x="217784" y="162459"/>
                  </a:lnTo>
                  <a:lnTo>
                    <a:pt x="206578" y="167539"/>
                  </a:lnTo>
                  <a:lnTo>
                    <a:pt x="201218" y="170079"/>
                  </a:lnTo>
                  <a:lnTo>
                    <a:pt x="195106" y="172619"/>
                  </a:lnTo>
                  <a:lnTo>
                    <a:pt x="188490" y="175159"/>
                  </a:lnTo>
                  <a:lnTo>
                    <a:pt x="174367" y="180239"/>
                  </a:lnTo>
                  <a:lnTo>
                    <a:pt x="159623" y="185319"/>
                  </a:lnTo>
                  <a:lnTo>
                    <a:pt x="152135" y="187012"/>
                  </a:lnTo>
                  <a:lnTo>
                    <a:pt x="144604" y="188142"/>
                  </a:lnTo>
                  <a:lnTo>
                    <a:pt x="137042" y="188894"/>
                  </a:lnTo>
                  <a:lnTo>
                    <a:pt x="129462" y="189395"/>
                  </a:lnTo>
                  <a:lnTo>
                    <a:pt x="121868" y="189730"/>
                  </a:lnTo>
                  <a:lnTo>
                    <a:pt x="101302" y="190201"/>
                  </a:lnTo>
                  <a:lnTo>
                    <a:pt x="60960" y="19039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534"/>
            <p:cNvSpPr/>
            <p:nvPr/>
          </p:nvSpPr>
          <p:spPr>
            <a:xfrm>
              <a:off x="715320" y="3604320"/>
              <a:ext cx="205560" cy="228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05741" h="228601">
                  <a:moveTo>
                    <a:pt x="205740" y="0"/>
                  </a:moveTo>
                  <a:lnTo>
                    <a:pt x="201695" y="4045"/>
                  </a:lnTo>
                  <a:lnTo>
                    <a:pt x="200503" y="6084"/>
                  </a:lnTo>
                  <a:lnTo>
                    <a:pt x="197980" y="12998"/>
                  </a:lnTo>
                  <a:lnTo>
                    <a:pt x="194389" y="17912"/>
                  </a:lnTo>
                  <a:lnTo>
                    <a:pt x="193092" y="21255"/>
                  </a:lnTo>
                  <a:lnTo>
                    <a:pt x="192228" y="25176"/>
                  </a:lnTo>
                  <a:lnTo>
                    <a:pt x="191652" y="29484"/>
                  </a:lnTo>
                  <a:lnTo>
                    <a:pt x="189575" y="34897"/>
                  </a:lnTo>
                  <a:lnTo>
                    <a:pt x="186496" y="41044"/>
                  </a:lnTo>
                  <a:lnTo>
                    <a:pt x="182751" y="47683"/>
                  </a:lnTo>
                  <a:lnTo>
                    <a:pt x="178561" y="54648"/>
                  </a:lnTo>
                  <a:lnTo>
                    <a:pt x="169389" y="69162"/>
                  </a:lnTo>
                  <a:lnTo>
                    <a:pt x="163726" y="76588"/>
                  </a:lnTo>
                  <a:lnTo>
                    <a:pt x="157411" y="84078"/>
                  </a:lnTo>
                  <a:lnTo>
                    <a:pt x="150660" y="91612"/>
                  </a:lnTo>
                  <a:lnTo>
                    <a:pt x="136387" y="106757"/>
                  </a:lnTo>
                  <a:lnTo>
                    <a:pt x="129025" y="114351"/>
                  </a:lnTo>
                  <a:lnTo>
                    <a:pt x="121577" y="122801"/>
                  </a:lnTo>
                  <a:lnTo>
                    <a:pt x="114071" y="131820"/>
                  </a:lnTo>
                  <a:lnTo>
                    <a:pt x="106527" y="141220"/>
                  </a:lnTo>
                  <a:lnTo>
                    <a:pt x="98958" y="149180"/>
                  </a:lnTo>
                  <a:lnTo>
                    <a:pt x="91372" y="156180"/>
                  </a:lnTo>
                  <a:lnTo>
                    <a:pt x="83775" y="162540"/>
                  </a:lnTo>
                  <a:lnTo>
                    <a:pt x="76170" y="169321"/>
                  </a:lnTo>
                  <a:lnTo>
                    <a:pt x="60947" y="183627"/>
                  </a:lnTo>
                  <a:lnTo>
                    <a:pt x="53331" y="190151"/>
                  </a:lnTo>
                  <a:lnTo>
                    <a:pt x="45714" y="196194"/>
                  </a:lnTo>
                  <a:lnTo>
                    <a:pt x="38096" y="201916"/>
                  </a:lnTo>
                  <a:lnTo>
                    <a:pt x="31324" y="206578"/>
                  </a:lnTo>
                  <a:lnTo>
                    <a:pt x="25116" y="210532"/>
                  </a:lnTo>
                  <a:lnTo>
                    <a:pt x="19284" y="214015"/>
                  </a:lnTo>
                  <a:lnTo>
                    <a:pt x="14550" y="217183"/>
                  </a:lnTo>
                  <a:lnTo>
                    <a:pt x="10546" y="220142"/>
                  </a:lnTo>
                  <a:lnTo>
                    <a:pt x="0" y="2286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535"/>
            <p:cNvSpPr/>
            <p:nvPr/>
          </p:nvSpPr>
          <p:spPr>
            <a:xfrm>
              <a:off x="707760" y="3657600"/>
              <a:ext cx="289440" cy="1674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89561" h="167641">
                  <a:moveTo>
                    <a:pt x="0" y="0"/>
                  </a:moveTo>
                  <a:lnTo>
                    <a:pt x="13867" y="0"/>
                  </a:lnTo>
                  <a:lnTo>
                    <a:pt x="19145" y="2258"/>
                  </a:lnTo>
                  <a:lnTo>
                    <a:pt x="27982" y="6930"/>
                  </a:lnTo>
                  <a:lnTo>
                    <a:pt x="33895" y="10547"/>
                  </a:lnTo>
                  <a:lnTo>
                    <a:pt x="54352" y="23727"/>
                  </a:lnTo>
                  <a:lnTo>
                    <a:pt x="61635" y="28518"/>
                  </a:lnTo>
                  <a:lnTo>
                    <a:pt x="69876" y="33405"/>
                  </a:lnTo>
                  <a:lnTo>
                    <a:pt x="78758" y="38357"/>
                  </a:lnTo>
                  <a:lnTo>
                    <a:pt x="97657" y="48374"/>
                  </a:lnTo>
                  <a:lnTo>
                    <a:pt x="117345" y="58470"/>
                  </a:lnTo>
                  <a:lnTo>
                    <a:pt x="127337" y="64381"/>
                  </a:lnTo>
                  <a:lnTo>
                    <a:pt x="137385" y="70860"/>
                  </a:lnTo>
                  <a:lnTo>
                    <a:pt x="147470" y="77720"/>
                  </a:lnTo>
                  <a:lnTo>
                    <a:pt x="167707" y="92116"/>
                  </a:lnTo>
                  <a:lnTo>
                    <a:pt x="187143" y="106133"/>
                  </a:lnTo>
                  <a:lnTo>
                    <a:pt x="213212" y="124392"/>
                  </a:lnTo>
                  <a:lnTo>
                    <a:pt x="241162" y="144666"/>
                  </a:lnTo>
                  <a:lnTo>
                    <a:pt x="257890" y="156301"/>
                  </a:lnTo>
                  <a:lnTo>
                    <a:pt x="265060" y="160081"/>
                  </a:lnTo>
                  <a:lnTo>
                    <a:pt x="271533" y="162600"/>
                  </a:lnTo>
                  <a:lnTo>
                    <a:pt x="289560" y="1676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536"/>
            <p:cNvSpPr/>
            <p:nvPr/>
          </p:nvSpPr>
          <p:spPr>
            <a:xfrm>
              <a:off x="1058400" y="367272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60805" y="0"/>
                  </a:lnTo>
                  <a:lnTo>
                    <a:pt x="69323" y="847"/>
                  </a:lnTo>
                  <a:lnTo>
                    <a:pt x="78389" y="2258"/>
                  </a:lnTo>
                  <a:lnTo>
                    <a:pt x="87819" y="4045"/>
                  </a:lnTo>
                  <a:lnTo>
                    <a:pt x="98339" y="5237"/>
                  </a:lnTo>
                  <a:lnTo>
                    <a:pt x="109587" y="6032"/>
                  </a:lnTo>
                  <a:lnTo>
                    <a:pt x="130832" y="6914"/>
                  </a:lnTo>
                  <a:lnTo>
                    <a:pt x="145919" y="7306"/>
                  </a:lnTo>
                  <a:lnTo>
                    <a:pt x="1828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537"/>
            <p:cNvSpPr/>
            <p:nvPr/>
          </p:nvSpPr>
          <p:spPr>
            <a:xfrm>
              <a:off x="1126800" y="3749040"/>
              <a:ext cx="152280" cy="21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52401" h="21681">
                  <a:moveTo>
                    <a:pt x="0" y="0"/>
                  </a:moveTo>
                  <a:lnTo>
                    <a:pt x="8091" y="4045"/>
                  </a:lnTo>
                  <a:lnTo>
                    <a:pt x="11320" y="6084"/>
                  </a:lnTo>
                  <a:lnTo>
                    <a:pt x="14320" y="8289"/>
                  </a:lnTo>
                  <a:lnTo>
                    <a:pt x="17167" y="10606"/>
                  </a:lnTo>
                  <a:lnTo>
                    <a:pt x="20758" y="12151"/>
                  </a:lnTo>
                  <a:lnTo>
                    <a:pt x="24845" y="13180"/>
                  </a:lnTo>
                  <a:lnTo>
                    <a:pt x="29264" y="13867"/>
                  </a:lnTo>
                  <a:lnTo>
                    <a:pt x="35596" y="15171"/>
                  </a:lnTo>
                  <a:lnTo>
                    <a:pt x="51662" y="18878"/>
                  </a:lnTo>
                  <a:lnTo>
                    <a:pt x="59842" y="20206"/>
                  </a:lnTo>
                  <a:lnTo>
                    <a:pt x="67834" y="21090"/>
                  </a:lnTo>
                  <a:lnTo>
                    <a:pt x="75703" y="21680"/>
                  </a:lnTo>
                  <a:lnTo>
                    <a:pt x="84335" y="21227"/>
                  </a:lnTo>
                  <a:lnTo>
                    <a:pt x="93477" y="20078"/>
                  </a:lnTo>
                  <a:lnTo>
                    <a:pt x="102958" y="18465"/>
                  </a:lnTo>
                  <a:lnTo>
                    <a:pt x="110972" y="17390"/>
                  </a:lnTo>
                  <a:lnTo>
                    <a:pt x="118008" y="16674"/>
                  </a:lnTo>
                  <a:lnTo>
                    <a:pt x="124392" y="16195"/>
                  </a:lnTo>
                  <a:lnTo>
                    <a:pt x="130341" y="15877"/>
                  </a:lnTo>
                  <a:lnTo>
                    <a:pt x="15240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538"/>
            <p:cNvSpPr/>
            <p:nvPr/>
          </p:nvSpPr>
          <p:spPr>
            <a:xfrm>
              <a:off x="1454760" y="3581280"/>
              <a:ext cx="21600" cy="28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1706" h="281941">
                  <a:moveTo>
                    <a:pt x="15144" y="0"/>
                  </a:moveTo>
                  <a:lnTo>
                    <a:pt x="15144" y="4045"/>
                  </a:lnTo>
                  <a:lnTo>
                    <a:pt x="15991" y="6930"/>
                  </a:lnTo>
                  <a:lnTo>
                    <a:pt x="17402" y="10547"/>
                  </a:lnTo>
                  <a:lnTo>
                    <a:pt x="19189" y="14651"/>
                  </a:lnTo>
                  <a:lnTo>
                    <a:pt x="20381" y="19927"/>
                  </a:lnTo>
                  <a:lnTo>
                    <a:pt x="21176" y="25985"/>
                  </a:lnTo>
                  <a:lnTo>
                    <a:pt x="21705" y="32564"/>
                  </a:lnTo>
                  <a:lnTo>
                    <a:pt x="21211" y="39489"/>
                  </a:lnTo>
                  <a:lnTo>
                    <a:pt x="20036" y="46646"/>
                  </a:lnTo>
                  <a:lnTo>
                    <a:pt x="18405" y="53958"/>
                  </a:lnTo>
                  <a:lnTo>
                    <a:pt x="17318" y="62218"/>
                  </a:lnTo>
                  <a:lnTo>
                    <a:pt x="16594" y="71112"/>
                  </a:lnTo>
                  <a:lnTo>
                    <a:pt x="16111" y="80428"/>
                  </a:lnTo>
                  <a:lnTo>
                    <a:pt x="14941" y="89179"/>
                  </a:lnTo>
                  <a:lnTo>
                    <a:pt x="13316" y="97552"/>
                  </a:lnTo>
                  <a:lnTo>
                    <a:pt x="11385" y="105675"/>
                  </a:lnTo>
                  <a:lnTo>
                    <a:pt x="10098" y="114476"/>
                  </a:lnTo>
                  <a:lnTo>
                    <a:pt x="9240" y="123731"/>
                  </a:lnTo>
                  <a:lnTo>
                    <a:pt x="8668" y="133288"/>
                  </a:lnTo>
                  <a:lnTo>
                    <a:pt x="8033" y="150679"/>
                  </a:lnTo>
                  <a:lnTo>
                    <a:pt x="7863" y="158873"/>
                  </a:lnTo>
                  <a:lnTo>
                    <a:pt x="6903" y="167722"/>
                  </a:lnTo>
                  <a:lnTo>
                    <a:pt x="5417" y="177008"/>
                  </a:lnTo>
                  <a:lnTo>
                    <a:pt x="3579" y="186586"/>
                  </a:lnTo>
                  <a:lnTo>
                    <a:pt x="2354" y="195510"/>
                  </a:lnTo>
                  <a:lnTo>
                    <a:pt x="1537" y="204000"/>
                  </a:lnTo>
                  <a:lnTo>
                    <a:pt x="993" y="212200"/>
                  </a:lnTo>
                  <a:lnTo>
                    <a:pt x="630" y="220207"/>
                  </a:lnTo>
                  <a:lnTo>
                    <a:pt x="226" y="235876"/>
                  </a:lnTo>
                  <a:lnTo>
                    <a:pt x="0" y="258978"/>
                  </a:lnTo>
                  <a:lnTo>
                    <a:pt x="814" y="264939"/>
                  </a:lnTo>
                  <a:lnTo>
                    <a:pt x="2204" y="269760"/>
                  </a:lnTo>
                  <a:lnTo>
                    <a:pt x="7524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Annotation539"/>
            <p:cNvSpPr/>
            <p:nvPr/>
          </p:nvSpPr>
          <p:spPr>
            <a:xfrm>
              <a:off x="1645200" y="3535560"/>
              <a:ext cx="258840" cy="3427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8829" h="342769">
                  <a:moveTo>
                    <a:pt x="0" y="37968"/>
                  </a:moveTo>
                  <a:lnTo>
                    <a:pt x="68856" y="37968"/>
                  </a:lnTo>
                  <a:lnTo>
                    <a:pt x="77231" y="37121"/>
                  </a:lnTo>
                  <a:lnTo>
                    <a:pt x="86201" y="35711"/>
                  </a:lnTo>
                  <a:lnTo>
                    <a:pt x="128975" y="27362"/>
                  </a:lnTo>
                  <a:lnTo>
                    <a:pt x="151021" y="22530"/>
                  </a:lnTo>
                  <a:lnTo>
                    <a:pt x="192768" y="12529"/>
                  </a:lnTo>
                  <a:lnTo>
                    <a:pt x="202172" y="10002"/>
                  </a:lnTo>
                  <a:lnTo>
                    <a:pt x="219394" y="4937"/>
                  </a:lnTo>
                  <a:lnTo>
                    <a:pt x="225849" y="3247"/>
                  </a:lnTo>
                  <a:lnTo>
                    <a:pt x="231000" y="2120"/>
                  </a:lnTo>
                  <a:lnTo>
                    <a:pt x="235280" y="1370"/>
                  </a:lnTo>
                  <a:lnTo>
                    <a:pt x="239827" y="869"/>
                  </a:lnTo>
                  <a:lnTo>
                    <a:pt x="244551" y="536"/>
                  </a:lnTo>
                  <a:lnTo>
                    <a:pt x="256210" y="0"/>
                  </a:lnTo>
                  <a:lnTo>
                    <a:pt x="257167" y="803"/>
                  </a:lnTo>
                  <a:lnTo>
                    <a:pt x="257805" y="2184"/>
                  </a:lnTo>
                  <a:lnTo>
                    <a:pt x="258513" y="5978"/>
                  </a:lnTo>
                  <a:lnTo>
                    <a:pt x="258828" y="10485"/>
                  </a:lnTo>
                  <a:lnTo>
                    <a:pt x="257219" y="13720"/>
                  </a:lnTo>
                  <a:lnTo>
                    <a:pt x="250915" y="21829"/>
                  </a:lnTo>
                  <a:lnTo>
                    <a:pt x="247710" y="27209"/>
                  </a:lnTo>
                  <a:lnTo>
                    <a:pt x="244726" y="33335"/>
                  </a:lnTo>
                  <a:lnTo>
                    <a:pt x="241891" y="39959"/>
                  </a:lnTo>
                  <a:lnTo>
                    <a:pt x="237461" y="47762"/>
                  </a:lnTo>
                  <a:lnTo>
                    <a:pt x="231967" y="56351"/>
                  </a:lnTo>
                  <a:lnTo>
                    <a:pt x="208945" y="90424"/>
                  </a:lnTo>
                  <a:lnTo>
                    <a:pt x="203644" y="99185"/>
                  </a:lnTo>
                  <a:lnTo>
                    <a:pt x="198416" y="108413"/>
                  </a:lnTo>
                  <a:lnTo>
                    <a:pt x="193237" y="117951"/>
                  </a:lnTo>
                  <a:lnTo>
                    <a:pt x="180710" y="139838"/>
                  </a:lnTo>
                  <a:lnTo>
                    <a:pt x="173813" y="151602"/>
                  </a:lnTo>
                  <a:lnTo>
                    <a:pt x="167522" y="162830"/>
                  </a:lnTo>
                  <a:lnTo>
                    <a:pt x="156017" y="184338"/>
                  </a:lnTo>
                  <a:lnTo>
                    <a:pt x="151425" y="195661"/>
                  </a:lnTo>
                  <a:lnTo>
                    <a:pt x="147516" y="207443"/>
                  </a:lnTo>
                  <a:lnTo>
                    <a:pt x="140916" y="230977"/>
                  </a:lnTo>
                  <a:lnTo>
                    <a:pt x="132440" y="262420"/>
                  </a:lnTo>
                  <a:lnTo>
                    <a:pt x="127160" y="279964"/>
                  </a:lnTo>
                  <a:lnTo>
                    <a:pt x="125414" y="288199"/>
                  </a:lnTo>
                  <a:lnTo>
                    <a:pt x="124249" y="296229"/>
                  </a:lnTo>
                  <a:lnTo>
                    <a:pt x="123473" y="304122"/>
                  </a:lnTo>
                  <a:lnTo>
                    <a:pt x="122955" y="311077"/>
                  </a:lnTo>
                  <a:lnTo>
                    <a:pt x="122610" y="317407"/>
                  </a:lnTo>
                  <a:lnTo>
                    <a:pt x="122125" y="332149"/>
                  </a:lnTo>
                  <a:lnTo>
                    <a:pt x="121920" y="34276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Annotation540"/>
            <p:cNvSpPr/>
            <p:nvPr/>
          </p:nvSpPr>
          <p:spPr>
            <a:xfrm>
              <a:off x="1690920" y="370332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7" y="6914"/>
                  </a:lnTo>
                  <a:lnTo>
                    <a:pt x="25985" y="7149"/>
                  </a:lnTo>
                  <a:lnTo>
                    <a:pt x="40335" y="7411"/>
                  </a:lnTo>
                  <a:lnTo>
                    <a:pt x="175893" y="7618"/>
                  </a:lnTo>
                  <a:lnTo>
                    <a:pt x="190076" y="8465"/>
                  </a:lnTo>
                  <a:lnTo>
                    <a:pt x="203764" y="9877"/>
                  </a:lnTo>
                  <a:lnTo>
                    <a:pt x="217123" y="11665"/>
                  </a:lnTo>
                  <a:lnTo>
                    <a:pt x="228568" y="12857"/>
                  </a:lnTo>
                  <a:lnTo>
                    <a:pt x="238739" y="13651"/>
                  </a:lnTo>
                  <a:lnTo>
                    <a:pt x="248059" y="14181"/>
                  </a:lnTo>
                  <a:lnTo>
                    <a:pt x="265188" y="14769"/>
                  </a:lnTo>
                  <a:lnTo>
                    <a:pt x="28956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Annotation541"/>
            <p:cNvSpPr/>
            <p:nvPr/>
          </p:nvSpPr>
          <p:spPr>
            <a:xfrm>
              <a:off x="1234080" y="3550680"/>
              <a:ext cx="90720" cy="1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0775" h="15241">
                  <a:moveTo>
                    <a:pt x="60473" y="0"/>
                  </a:moveTo>
                  <a:lnTo>
                    <a:pt x="83011" y="0"/>
                  </a:lnTo>
                  <a:lnTo>
                    <a:pt x="58048" y="0"/>
                  </a:lnTo>
                  <a:lnTo>
                    <a:pt x="52083" y="847"/>
                  </a:lnTo>
                  <a:lnTo>
                    <a:pt x="46413" y="2258"/>
                  </a:lnTo>
                  <a:lnTo>
                    <a:pt x="40940" y="4045"/>
                  </a:lnTo>
                  <a:lnTo>
                    <a:pt x="35597" y="5237"/>
                  </a:lnTo>
                  <a:lnTo>
                    <a:pt x="30343" y="6031"/>
                  </a:lnTo>
                  <a:lnTo>
                    <a:pt x="25146" y="6561"/>
                  </a:lnTo>
                  <a:lnTo>
                    <a:pt x="20835" y="6914"/>
                  </a:lnTo>
                  <a:lnTo>
                    <a:pt x="17115" y="7149"/>
                  </a:lnTo>
                  <a:lnTo>
                    <a:pt x="10723" y="7411"/>
                  </a:lnTo>
                  <a:lnTo>
                    <a:pt x="0" y="7612"/>
                  </a:lnTo>
                  <a:lnTo>
                    <a:pt x="90774" y="7621"/>
                  </a:lnTo>
                  <a:lnTo>
                    <a:pt x="73771" y="7621"/>
                  </a:lnTo>
                  <a:lnTo>
                    <a:pt x="70185" y="8467"/>
                  </a:lnTo>
                  <a:lnTo>
                    <a:pt x="66101" y="9878"/>
                  </a:lnTo>
                  <a:lnTo>
                    <a:pt x="61685" y="11665"/>
                  </a:lnTo>
                  <a:lnTo>
                    <a:pt x="56201" y="12857"/>
                  </a:lnTo>
                  <a:lnTo>
                    <a:pt x="50005" y="13652"/>
                  </a:lnTo>
                  <a:lnTo>
                    <a:pt x="38041" y="14534"/>
                  </a:lnTo>
                  <a:lnTo>
                    <a:pt x="29901" y="14926"/>
                  </a:lnTo>
                  <a:lnTo>
                    <a:pt x="23461" y="15101"/>
                  </a:lnTo>
                  <a:lnTo>
                    <a:pt x="7598" y="15238"/>
                  </a:lnTo>
                  <a:lnTo>
                    <a:pt x="22373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Annotation542"/>
            <p:cNvSpPr/>
            <p:nvPr/>
          </p:nvSpPr>
          <p:spPr>
            <a:xfrm>
              <a:off x="5783040" y="1480320"/>
              <a:ext cx="509760" cy="46224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510021" h="462468">
                  <a:moveTo>
                    <a:pt x="0" y="432337"/>
                  </a:moveTo>
                  <a:lnTo>
                    <a:pt x="11352" y="443688"/>
                  </a:lnTo>
                  <a:lnTo>
                    <a:pt x="22178" y="450470"/>
                  </a:lnTo>
                  <a:lnTo>
                    <a:pt x="33563" y="453096"/>
                  </a:lnTo>
                  <a:lnTo>
                    <a:pt x="47091" y="455110"/>
                  </a:lnTo>
                  <a:lnTo>
                    <a:pt x="61569" y="458827"/>
                  </a:lnTo>
                  <a:lnTo>
                    <a:pt x="76471" y="461044"/>
                  </a:lnTo>
                  <a:lnTo>
                    <a:pt x="84001" y="461635"/>
                  </a:lnTo>
                  <a:lnTo>
                    <a:pt x="93254" y="462029"/>
                  </a:lnTo>
                  <a:lnTo>
                    <a:pt x="114824" y="462467"/>
                  </a:lnTo>
                  <a:lnTo>
                    <a:pt x="126503" y="461737"/>
                  </a:lnTo>
                  <a:lnTo>
                    <a:pt x="138522" y="460404"/>
                  </a:lnTo>
                  <a:lnTo>
                    <a:pt x="150768" y="458668"/>
                  </a:lnTo>
                  <a:lnTo>
                    <a:pt x="162318" y="457511"/>
                  </a:lnTo>
                  <a:lnTo>
                    <a:pt x="173406" y="456740"/>
                  </a:lnTo>
                  <a:lnTo>
                    <a:pt x="184184" y="456225"/>
                  </a:lnTo>
                  <a:lnTo>
                    <a:pt x="195603" y="454189"/>
                  </a:lnTo>
                  <a:lnTo>
                    <a:pt x="207449" y="451139"/>
                  </a:lnTo>
                  <a:lnTo>
                    <a:pt x="219579" y="447411"/>
                  </a:lnTo>
                  <a:lnTo>
                    <a:pt x="231900" y="444080"/>
                  </a:lnTo>
                  <a:lnTo>
                    <a:pt x="244347" y="441012"/>
                  </a:lnTo>
                  <a:lnTo>
                    <a:pt x="256877" y="438121"/>
                  </a:lnTo>
                  <a:lnTo>
                    <a:pt x="269465" y="433653"/>
                  </a:lnTo>
                  <a:lnTo>
                    <a:pt x="282090" y="428134"/>
                  </a:lnTo>
                  <a:lnTo>
                    <a:pt x="294740" y="421915"/>
                  </a:lnTo>
                  <a:lnTo>
                    <a:pt x="307407" y="416076"/>
                  </a:lnTo>
                  <a:lnTo>
                    <a:pt x="332770" y="405072"/>
                  </a:lnTo>
                  <a:lnTo>
                    <a:pt x="344614" y="398921"/>
                  </a:lnTo>
                  <a:lnTo>
                    <a:pt x="355895" y="392279"/>
                  </a:lnTo>
                  <a:lnTo>
                    <a:pt x="378309" y="378127"/>
                  </a:lnTo>
                  <a:lnTo>
                    <a:pt x="402382" y="363370"/>
                  </a:lnTo>
                  <a:lnTo>
                    <a:pt x="413882" y="355033"/>
                  </a:lnTo>
                  <a:lnTo>
                    <a:pt x="424934" y="346087"/>
                  </a:lnTo>
                  <a:lnTo>
                    <a:pt x="435690" y="336737"/>
                  </a:lnTo>
                  <a:lnTo>
                    <a:pt x="444553" y="327117"/>
                  </a:lnTo>
                  <a:lnTo>
                    <a:pt x="452156" y="317317"/>
                  </a:lnTo>
                  <a:lnTo>
                    <a:pt x="458918" y="307397"/>
                  </a:lnTo>
                  <a:lnTo>
                    <a:pt x="473204" y="287344"/>
                  </a:lnTo>
                  <a:lnTo>
                    <a:pt x="480569" y="277255"/>
                  </a:lnTo>
                  <a:lnTo>
                    <a:pt x="486326" y="267142"/>
                  </a:lnTo>
                  <a:lnTo>
                    <a:pt x="491011" y="257014"/>
                  </a:lnTo>
                  <a:lnTo>
                    <a:pt x="494981" y="246875"/>
                  </a:lnTo>
                  <a:lnTo>
                    <a:pt x="498474" y="235882"/>
                  </a:lnTo>
                  <a:lnTo>
                    <a:pt x="501650" y="224321"/>
                  </a:lnTo>
                  <a:lnTo>
                    <a:pt x="504613" y="212379"/>
                  </a:lnTo>
                  <a:lnTo>
                    <a:pt x="506589" y="201032"/>
                  </a:lnTo>
                  <a:lnTo>
                    <a:pt x="507906" y="190080"/>
                  </a:lnTo>
                  <a:lnTo>
                    <a:pt x="508784" y="179393"/>
                  </a:lnTo>
                  <a:lnTo>
                    <a:pt x="509370" y="168034"/>
                  </a:lnTo>
                  <a:lnTo>
                    <a:pt x="510020" y="144125"/>
                  </a:lnTo>
                  <a:lnTo>
                    <a:pt x="508500" y="132669"/>
                  </a:lnTo>
                  <a:lnTo>
                    <a:pt x="505794" y="121645"/>
                  </a:lnTo>
                  <a:lnTo>
                    <a:pt x="502296" y="110909"/>
                  </a:lnTo>
                  <a:lnTo>
                    <a:pt x="497424" y="100365"/>
                  </a:lnTo>
                  <a:lnTo>
                    <a:pt x="491636" y="89949"/>
                  </a:lnTo>
                  <a:lnTo>
                    <a:pt x="485238" y="79618"/>
                  </a:lnTo>
                  <a:lnTo>
                    <a:pt x="478432" y="70191"/>
                  </a:lnTo>
                  <a:lnTo>
                    <a:pt x="471355" y="61367"/>
                  </a:lnTo>
                  <a:lnTo>
                    <a:pt x="464097" y="52943"/>
                  </a:lnTo>
                  <a:lnTo>
                    <a:pt x="455871" y="45635"/>
                  </a:lnTo>
                  <a:lnTo>
                    <a:pt x="447001" y="39069"/>
                  </a:lnTo>
                  <a:lnTo>
                    <a:pt x="437701" y="32998"/>
                  </a:lnTo>
                  <a:lnTo>
                    <a:pt x="428114" y="27258"/>
                  </a:lnTo>
                  <a:lnTo>
                    <a:pt x="418337" y="21738"/>
                  </a:lnTo>
                  <a:lnTo>
                    <a:pt x="408432" y="16364"/>
                  </a:lnTo>
                  <a:lnTo>
                    <a:pt x="398441" y="11935"/>
                  </a:lnTo>
                  <a:lnTo>
                    <a:pt x="388394" y="8136"/>
                  </a:lnTo>
                  <a:lnTo>
                    <a:pt x="378309" y="4756"/>
                  </a:lnTo>
                  <a:lnTo>
                    <a:pt x="367353" y="2503"/>
                  </a:lnTo>
                  <a:lnTo>
                    <a:pt x="355815" y="1001"/>
                  </a:lnTo>
                  <a:lnTo>
                    <a:pt x="343891" y="0"/>
                  </a:lnTo>
                  <a:lnTo>
                    <a:pt x="330860" y="179"/>
                  </a:lnTo>
                  <a:lnTo>
                    <a:pt x="317094" y="1145"/>
                  </a:lnTo>
                  <a:lnTo>
                    <a:pt x="302836" y="2636"/>
                  </a:lnTo>
                  <a:lnTo>
                    <a:pt x="288251" y="6169"/>
                  </a:lnTo>
                  <a:lnTo>
                    <a:pt x="273447" y="11065"/>
                  </a:lnTo>
                  <a:lnTo>
                    <a:pt x="258498" y="16869"/>
                  </a:lnTo>
                  <a:lnTo>
                    <a:pt x="244299" y="23279"/>
                  </a:lnTo>
                  <a:lnTo>
                    <a:pt x="230600" y="30091"/>
                  </a:lnTo>
                  <a:lnTo>
                    <a:pt x="217233" y="37173"/>
                  </a:lnTo>
                  <a:lnTo>
                    <a:pt x="204089" y="45281"/>
                  </a:lnTo>
                  <a:lnTo>
                    <a:pt x="191093" y="54073"/>
                  </a:lnTo>
                  <a:lnTo>
                    <a:pt x="178195" y="63321"/>
                  </a:lnTo>
                  <a:lnTo>
                    <a:pt x="166210" y="73720"/>
                  </a:lnTo>
                  <a:lnTo>
                    <a:pt x="154834" y="84886"/>
                  </a:lnTo>
                  <a:lnTo>
                    <a:pt x="143862" y="96563"/>
                  </a:lnTo>
                  <a:lnTo>
                    <a:pt x="133162" y="108581"/>
                  </a:lnTo>
                  <a:lnTo>
                    <a:pt x="112241" y="133223"/>
                  </a:lnTo>
                  <a:lnTo>
                    <a:pt x="103614" y="146568"/>
                  </a:lnTo>
                  <a:lnTo>
                    <a:pt x="96169" y="160544"/>
                  </a:lnTo>
                  <a:lnTo>
                    <a:pt x="89513" y="174942"/>
                  </a:lnTo>
                  <a:lnTo>
                    <a:pt x="83382" y="189620"/>
                  </a:lnTo>
                  <a:lnTo>
                    <a:pt x="77601" y="204486"/>
                  </a:lnTo>
                  <a:lnTo>
                    <a:pt x="72054" y="219476"/>
                  </a:lnTo>
                  <a:lnTo>
                    <a:pt x="67510" y="233703"/>
                  </a:lnTo>
                  <a:lnTo>
                    <a:pt x="63633" y="247421"/>
                  </a:lnTo>
                  <a:lnTo>
                    <a:pt x="60202" y="260800"/>
                  </a:lnTo>
                  <a:lnTo>
                    <a:pt x="58761" y="274799"/>
                  </a:lnTo>
                  <a:lnTo>
                    <a:pt x="58648" y="289212"/>
                  </a:lnTo>
                  <a:lnTo>
                    <a:pt x="59418" y="303900"/>
                  </a:lnTo>
                  <a:lnTo>
                    <a:pt x="61626" y="317079"/>
                  </a:lnTo>
                  <a:lnTo>
                    <a:pt x="64791" y="329252"/>
                  </a:lnTo>
                  <a:lnTo>
                    <a:pt x="68594" y="340753"/>
                  </a:lnTo>
                  <a:lnTo>
                    <a:pt x="73669" y="351808"/>
                  </a:lnTo>
                  <a:lnTo>
                    <a:pt x="79593" y="362564"/>
                  </a:lnTo>
                  <a:lnTo>
                    <a:pt x="86082" y="373122"/>
                  </a:lnTo>
                  <a:lnTo>
                    <a:pt x="92948" y="382700"/>
                  </a:lnTo>
                  <a:lnTo>
                    <a:pt x="100066" y="391626"/>
                  </a:lnTo>
                  <a:lnTo>
                    <a:pt x="107350" y="400116"/>
                  </a:lnTo>
                  <a:lnTo>
                    <a:pt x="116441" y="408317"/>
                  </a:lnTo>
                  <a:lnTo>
                    <a:pt x="126733" y="416323"/>
                  </a:lnTo>
                  <a:lnTo>
                    <a:pt x="137829" y="424201"/>
                  </a:lnTo>
                  <a:lnTo>
                    <a:pt x="150306" y="430300"/>
                  </a:lnTo>
                  <a:lnTo>
                    <a:pt x="163704" y="435212"/>
                  </a:lnTo>
                  <a:lnTo>
                    <a:pt x="177716" y="439334"/>
                  </a:lnTo>
                  <a:lnTo>
                    <a:pt x="192137" y="442082"/>
                  </a:lnTo>
                  <a:lnTo>
                    <a:pt x="206832" y="443914"/>
                  </a:lnTo>
                  <a:lnTo>
                    <a:pt x="221707" y="445135"/>
                  </a:lnTo>
                  <a:lnTo>
                    <a:pt x="236705" y="445102"/>
                  </a:lnTo>
                  <a:lnTo>
                    <a:pt x="251783" y="444234"/>
                  </a:lnTo>
                  <a:lnTo>
                    <a:pt x="283778" y="441011"/>
                  </a:lnTo>
                  <a:lnTo>
                    <a:pt x="320575" y="436757"/>
                  </a:lnTo>
                  <a:lnTo>
                    <a:pt x="339023" y="432743"/>
                  </a:lnTo>
                  <a:lnTo>
                    <a:pt x="357249" y="427528"/>
                  </a:lnTo>
                  <a:lnTo>
                    <a:pt x="375327" y="421511"/>
                  </a:lnTo>
                  <a:lnTo>
                    <a:pt x="393304" y="414960"/>
                  </a:lnTo>
                  <a:lnTo>
                    <a:pt x="429084" y="400907"/>
                  </a:lnTo>
                  <a:lnTo>
                    <a:pt x="444383" y="394450"/>
                  </a:lnTo>
                  <a:lnTo>
                    <a:pt x="495301" y="37137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Annotation543"/>
            <p:cNvSpPr/>
            <p:nvPr/>
          </p:nvSpPr>
          <p:spPr>
            <a:xfrm>
              <a:off x="6887880" y="1532520"/>
              <a:ext cx="447480" cy="402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447483" h="402917">
                  <a:moveTo>
                    <a:pt x="0" y="334336"/>
                  </a:moveTo>
                  <a:lnTo>
                    <a:pt x="6562" y="334336"/>
                  </a:lnTo>
                  <a:lnTo>
                    <a:pt x="19577" y="339573"/>
                  </a:lnTo>
                  <a:lnTo>
                    <a:pt x="28739" y="340897"/>
                  </a:lnTo>
                  <a:lnTo>
                    <a:pt x="40713" y="343743"/>
                  </a:lnTo>
                  <a:lnTo>
                    <a:pt x="47463" y="345687"/>
                  </a:lnTo>
                  <a:lnTo>
                    <a:pt x="55348" y="346984"/>
                  </a:lnTo>
                  <a:lnTo>
                    <a:pt x="63993" y="347848"/>
                  </a:lnTo>
                  <a:lnTo>
                    <a:pt x="73142" y="348424"/>
                  </a:lnTo>
                  <a:lnTo>
                    <a:pt x="92339" y="349064"/>
                  </a:lnTo>
                  <a:lnTo>
                    <a:pt x="136304" y="349475"/>
                  </a:lnTo>
                  <a:lnTo>
                    <a:pt x="148442" y="348662"/>
                  </a:lnTo>
                  <a:lnTo>
                    <a:pt x="160768" y="347273"/>
                  </a:lnTo>
                  <a:lnTo>
                    <a:pt x="173219" y="345501"/>
                  </a:lnTo>
                  <a:lnTo>
                    <a:pt x="198342" y="341274"/>
                  </a:lnTo>
                  <a:lnTo>
                    <a:pt x="266040" y="329166"/>
                  </a:lnTo>
                  <a:lnTo>
                    <a:pt x="289549" y="324136"/>
                  </a:lnTo>
                  <a:lnTo>
                    <a:pt x="301406" y="320763"/>
                  </a:lnTo>
                  <a:lnTo>
                    <a:pt x="313544" y="316820"/>
                  </a:lnTo>
                  <a:lnTo>
                    <a:pt x="325870" y="312499"/>
                  </a:lnTo>
                  <a:lnTo>
                    <a:pt x="337473" y="307925"/>
                  </a:lnTo>
                  <a:lnTo>
                    <a:pt x="348595" y="303182"/>
                  </a:lnTo>
                  <a:lnTo>
                    <a:pt x="359397" y="298327"/>
                  </a:lnTo>
                  <a:lnTo>
                    <a:pt x="369137" y="292550"/>
                  </a:lnTo>
                  <a:lnTo>
                    <a:pt x="378173" y="286159"/>
                  </a:lnTo>
                  <a:lnTo>
                    <a:pt x="386735" y="279358"/>
                  </a:lnTo>
                  <a:lnTo>
                    <a:pt x="394983" y="272284"/>
                  </a:lnTo>
                  <a:lnTo>
                    <a:pt x="403023" y="265028"/>
                  </a:lnTo>
                  <a:lnTo>
                    <a:pt x="410922" y="257651"/>
                  </a:lnTo>
                  <a:lnTo>
                    <a:pt x="417882" y="249346"/>
                  </a:lnTo>
                  <a:lnTo>
                    <a:pt x="424214" y="240422"/>
                  </a:lnTo>
                  <a:lnTo>
                    <a:pt x="430129" y="231087"/>
                  </a:lnTo>
                  <a:lnTo>
                    <a:pt x="434919" y="221477"/>
                  </a:lnTo>
                  <a:lnTo>
                    <a:pt x="438960" y="211683"/>
                  </a:lnTo>
                  <a:lnTo>
                    <a:pt x="442500" y="201767"/>
                  </a:lnTo>
                  <a:lnTo>
                    <a:pt x="444859" y="191770"/>
                  </a:lnTo>
                  <a:lnTo>
                    <a:pt x="446434" y="181719"/>
                  </a:lnTo>
                  <a:lnTo>
                    <a:pt x="447482" y="171631"/>
                  </a:lnTo>
                  <a:lnTo>
                    <a:pt x="447334" y="160673"/>
                  </a:lnTo>
                  <a:lnTo>
                    <a:pt x="446390" y="149134"/>
                  </a:lnTo>
                  <a:lnTo>
                    <a:pt x="444913" y="137208"/>
                  </a:lnTo>
                  <a:lnTo>
                    <a:pt x="442235" y="125871"/>
                  </a:lnTo>
                  <a:lnTo>
                    <a:pt x="438756" y="114926"/>
                  </a:lnTo>
                  <a:lnTo>
                    <a:pt x="434744" y="104243"/>
                  </a:lnTo>
                  <a:lnTo>
                    <a:pt x="429530" y="93734"/>
                  </a:lnTo>
                  <a:lnTo>
                    <a:pt x="423512" y="83341"/>
                  </a:lnTo>
                  <a:lnTo>
                    <a:pt x="416962" y="73026"/>
                  </a:lnTo>
                  <a:lnTo>
                    <a:pt x="408361" y="63609"/>
                  </a:lnTo>
                  <a:lnTo>
                    <a:pt x="398395" y="54792"/>
                  </a:lnTo>
                  <a:lnTo>
                    <a:pt x="387516" y="46373"/>
                  </a:lnTo>
                  <a:lnTo>
                    <a:pt x="375184" y="39067"/>
                  </a:lnTo>
                  <a:lnTo>
                    <a:pt x="361883" y="32504"/>
                  </a:lnTo>
                  <a:lnTo>
                    <a:pt x="334404" y="20695"/>
                  </a:lnTo>
                  <a:lnTo>
                    <a:pt x="308079" y="9802"/>
                  </a:lnTo>
                  <a:lnTo>
                    <a:pt x="294286" y="6220"/>
                  </a:lnTo>
                  <a:lnTo>
                    <a:pt x="280011" y="3832"/>
                  </a:lnTo>
                  <a:lnTo>
                    <a:pt x="265414" y="2240"/>
                  </a:lnTo>
                  <a:lnTo>
                    <a:pt x="251450" y="1179"/>
                  </a:lnTo>
                  <a:lnTo>
                    <a:pt x="237905" y="471"/>
                  </a:lnTo>
                  <a:lnTo>
                    <a:pt x="224644" y="0"/>
                  </a:lnTo>
                  <a:lnTo>
                    <a:pt x="210723" y="532"/>
                  </a:lnTo>
                  <a:lnTo>
                    <a:pt x="196361" y="1733"/>
                  </a:lnTo>
                  <a:lnTo>
                    <a:pt x="181708" y="3381"/>
                  </a:lnTo>
                  <a:lnTo>
                    <a:pt x="168552" y="7019"/>
                  </a:lnTo>
                  <a:lnTo>
                    <a:pt x="156395" y="11985"/>
                  </a:lnTo>
                  <a:lnTo>
                    <a:pt x="144903" y="17835"/>
                  </a:lnTo>
                  <a:lnTo>
                    <a:pt x="133008" y="24275"/>
                  </a:lnTo>
                  <a:lnTo>
                    <a:pt x="108505" y="38205"/>
                  </a:lnTo>
                  <a:lnTo>
                    <a:pt x="96889" y="46322"/>
                  </a:lnTo>
                  <a:lnTo>
                    <a:pt x="85759" y="55120"/>
                  </a:lnTo>
                  <a:lnTo>
                    <a:pt x="74954" y="64372"/>
                  </a:lnTo>
                  <a:lnTo>
                    <a:pt x="66056" y="73927"/>
                  </a:lnTo>
                  <a:lnTo>
                    <a:pt x="58430" y="83683"/>
                  </a:lnTo>
                  <a:lnTo>
                    <a:pt x="51654" y="93574"/>
                  </a:lnTo>
                  <a:lnTo>
                    <a:pt x="46290" y="104401"/>
                  </a:lnTo>
                  <a:lnTo>
                    <a:pt x="41867" y="115853"/>
                  </a:lnTo>
                  <a:lnTo>
                    <a:pt x="38072" y="127721"/>
                  </a:lnTo>
                  <a:lnTo>
                    <a:pt x="35540" y="140713"/>
                  </a:lnTo>
                  <a:lnTo>
                    <a:pt x="33854" y="154454"/>
                  </a:lnTo>
                  <a:lnTo>
                    <a:pt x="32729" y="168695"/>
                  </a:lnTo>
                  <a:lnTo>
                    <a:pt x="32826" y="182422"/>
                  </a:lnTo>
                  <a:lnTo>
                    <a:pt x="33738" y="195806"/>
                  </a:lnTo>
                  <a:lnTo>
                    <a:pt x="35191" y="208963"/>
                  </a:lnTo>
                  <a:lnTo>
                    <a:pt x="37855" y="221967"/>
                  </a:lnTo>
                  <a:lnTo>
                    <a:pt x="41323" y="234870"/>
                  </a:lnTo>
                  <a:lnTo>
                    <a:pt x="45329" y="247705"/>
                  </a:lnTo>
                  <a:lnTo>
                    <a:pt x="51386" y="259649"/>
                  </a:lnTo>
                  <a:lnTo>
                    <a:pt x="58811" y="270998"/>
                  </a:lnTo>
                  <a:lnTo>
                    <a:pt x="91016" y="313546"/>
                  </a:lnTo>
                  <a:lnTo>
                    <a:pt x="100470" y="323016"/>
                  </a:lnTo>
                  <a:lnTo>
                    <a:pt x="111007" y="331869"/>
                  </a:lnTo>
                  <a:lnTo>
                    <a:pt x="122264" y="340312"/>
                  </a:lnTo>
                  <a:lnTo>
                    <a:pt x="133157" y="347633"/>
                  </a:lnTo>
                  <a:lnTo>
                    <a:pt x="143805" y="354208"/>
                  </a:lnTo>
                  <a:lnTo>
                    <a:pt x="154289" y="360284"/>
                  </a:lnTo>
                  <a:lnTo>
                    <a:pt x="165513" y="366028"/>
                  </a:lnTo>
                  <a:lnTo>
                    <a:pt x="177228" y="371551"/>
                  </a:lnTo>
                  <a:lnTo>
                    <a:pt x="189272" y="376926"/>
                  </a:lnTo>
                  <a:lnTo>
                    <a:pt x="201535" y="381356"/>
                  </a:lnTo>
                  <a:lnTo>
                    <a:pt x="213943" y="385156"/>
                  </a:lnTo>
                  <a:lnTo>
                    <a:pt x="237326" y="391636"/>
                  </a:lnTo>
                  <a:lnTo>
                    <a:pt x="256185" y="397338"/>
                  </a:lnTo>
                  <a:lnTo>
                    <a:pt x="264770" y="399198"/>
                  </a:lnTo>
                  <a:lnTo>
                    <a:pt x="273033" y="400437"/>
                  </a:lnTo>
                  <a:lnTo>
                    <a:pt x="297180" y="40291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Annotation544"/>
            <p:cNvSpPr/>
            <p:nvPr/>
          </p:nvSpPr>
          <p:spPr>
            <a:xfrm>
              <a:off x="5585040" y="2030400"/>
              <a:ext cx="325440" cy="277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5540" h="278050">
                  <a:moveTo>
                    <a:pt x="121920" y="57433"/>
                  </a:moveTo>
                  <a:lnTo>
                    <a:pt x="121920" y="50127"/>
                  </a:lnTo>
                  <a:lnTo>
                    <a:pt x="125965" y="45861"/>
                  </a:lnTo>
                  <a:lnTo>
                    <a:pt x="128003" y="44638"/>
                  </a:lnTo>
                  <a:lnTo>
                    <a:pt x="134917" y="42071"/>
                  </a:lnTo>
                  <a:lnTo>
                    <a:pt x="144022" y="36325"/>
                  </a:lnTo>
                  <a:lnTo>
                    <a:pt x="149355" y="34047"/>
                  </a:lnTo>
                  <a:lnTo>
                    <a:pt x="155450" y="31683"/>
                  </a:lnTo>
                  <a:lnTo>
                    <a:pt x="168996" y="26797"/>
                  </a:lnTo>
                  <a:lnTo>
                    <a:pt x="176164" y="24309"/>
                  </a:lnTo>
                  <a:lnTo>
                    <a:pt x="184330" y="21804"/>
                  </a:lnTo>
                  <a:lnTo>
                    <a:pt x="202433" y="16762"/>
                  </a:lnTo>
                  <a:lnTo>
                    <a:pt x="231666" y="9164"/>
                  </a:lnTo>
                  <a:lnTo>
                    <a:pt x="241650" y="7474"/>
                  </a:lnTo>
                  <a:lnTo>
                    <a:pt x="251693" y="6347"/>
                  </a:lnTo>
                  <a:lnTo>
                    <a:pt x="261776" y="5596"/>
                  </a:lnTo>
                  <a:lnTo>
                    <a:pt x="271037" y="4248"/>
                  </a:lnTo>
                  <a:lnTo>
                    <a:pt x="279752" y="2503"/>
                  </a:lnTo>
                  <a:lnTo>
                    <a:pt x="288101" y="493"/>
                  </a:lnTo>
                  <a:lnTo>
                    <a:pt x="295360" y="0"/>
                  </a:lnTo>
                  <a:lnTo>
                    <a:pt x="301894" y="517"/>
                  </a:lnTo>
                  <a:lnTo>
                    <a:pt x="307943" y="1709"/>
                  </a:lnTo>
                  <a:lnTo>
                    <a:pt x="316922" y="3034"/>
                  </a:lnTo>
                  <a:lnTo>
                    <a:pt x="325539" y="3884"/>
                  </a:lnTo>
                  <a:lnTo>
                    <a:pt x="325399" y="4800"/>
                  </a:lnTo>
                  <a:lnTo>
                    <a:pt x="322986" y="8076"/>
                  </a:lnTo>
                  <a:lnTo>
                    <a:pt x="316834" y="14612"/>
                  </a:lnTo>
                  <a:lnTo>
                    <a:pt x="312823" y="18726"/>
                  </a:lnTo>
                  <a:lnTo>
                    <a:pt x="306762" y="22315"/>
                  </a:lnTo>
                  <a:lnTo>
                    <a:pt x="299335" y="25554"/>
                  </a:lnTo>
                  <a:lnTo>
                    <a:pt x="290997" y="28561"/>
                  </a:lnTo>
                  <a:lnTo>
                    <a:pt x="282898" y="32258"/>
                  </a:lnTo>
                  <a:lnTo>
                    <a:pt x="274958" y="36416"/>
                  </a:lnTo>
                  <a:lnTo>
                    <a:pt x="267126" y="40882"/>
                  </a:lnTo>
                  <a:lnTo>
                    <a:pt x="258517" y="46399"/>
                  </a:lnTo>
                  <a:lnTo>
                    <a:pt x="249391" y="52617"/>
                  </a:lnTo>
                  <a:lnTo>
                    <a:pt x="222625" y="71246"/>
                  </a:lnTo>
                  <a:lnTo>
                    <a:pt x="214457" y="76802"/>
                  </a:lnTo>
                  <a:lnTo>
                    <a:pt x="206471" y="81352"/>
                  </a:lnTo>
                  <a:lnTo>
                    <a:pt x="198608" y="85233"/>
                  </a:lnTo>
                  <a:lnTo>
                    <a:pt x="190825" y="88666"/>
                  </a:lnTo>
                  <a:lnTo>
                    <a:pt x="184790" y="92648"/>
                  </a:lnTo>
                  <a:lnTo>
                    <a:pt x="179921" y="96996"/>
                  </a:lnTo>
                  <a:lnTo>
                    <a:pt x="173098" y="105497"/>
                  </a:lnTo>
                  <a:lnTo>
                    <a:pt x="170065" y="112097"/>
                  </a:lnTo>
                  <a:lnTo>
                    <a:pt x="170104" y="115042"/>
                  </a:lnTo>
                  <a:lnTo>
                    <a:pt x="170975" y="117853"/>
                  </a:lnTo>
                  <a:lnTo>
                    <a:pt x="172404" y="120573"/>
                  </a:lnTo>
                  <a:lnTo>
                    <a:pt x="175049" y="122386"/>
                  </a:lnTo>
                  <a:lnTo>
                    <a:pt x="182505" y="124401"/>
                  </a:lnTo>
                  <a:lnTo>
                    <a:pt x="191462" y="127554"/>
                  </a:lnTo>
                  <a:lnTo>
                    <a:pt x="196222" y="129581"/>
                  </a:lnTo>
                  <a:lnTo>
                    <a:pt x="201934" y="130932"/>
                  </a:lnTo>
                  <a:lnTo>
                    <a:pt x="208283" y="131832"/>
                  </a:lnTo>
                  <a:lnTo>
                    <a:pt x="215055" y="132433"/>
                  </a:lnTo>
                  <a:lnTo>
                    <a:pt x="222110" y="133679"/>
                  </a:lnTo>
                  <a:lnTo>
                    <a:pt x="229353" y="135357"/>
                  </a:lnTo>
                  <a:lnTo>
                    <a:pt x="236722" y="137322"/>
                  </a:lnTo>
                  <a:lnTo>
                    <a:pt x="251684" y="141764"/>
                  </a:lnTo>
                  <a:lnTo>
                    <a:pt x="259229" y="144134"/>
                  </a:lnTo>
                  <a:lnTo>
                    <a:pt x="266799" y="145714"/>
                  </a:lnTo>
                  <a:lnTo>
                    <a:pt x="274386" y="146767"/>
                  </a:lnTo>
                  <a:lnTo>
                    <a:pt x="281984" y="147469"/>
                  </a:lnTo>
                  <a:lnTo>
                    <a:pt x="288743" y="149630"/>
                  </a:lnTo>
                  <a:lnTo>
                    <a:pt x="294942" y="152765"/>
                  </a:lnTo>
                  <a:lnTo>
                    <a:pt x="300768" y="156547"/>
                  </a:lnTo>
                  <a:lnTo>
                    <a:pt x="309499" y="163008"/>
                  </a:lnTo>
                  <a:lnTo>
                    <a:pt x="313013" y="165917"/>
                  </a:lnTo>
                  <a:lnTo>
                    <a:pt x="315355" y="168702"/>
                  </a:lnTo>
                  <a:lnTo>
                    <a:pt x="316917" y="171406"/>
                  </a:lnTo>
                  <a:lnTo>
                    <a:pt x="317958" y="174055"/>
                  </a:lnTo>
                  <a:lnTo>
                    <a:pt x="317805" y="177514"/>
                  </a:lnTo>
                  <a:lnTo>
                    <a:pt x="315378" y="185874"/>
                  </a:lnTo>
                  <a:lnTo>
                    <a:pt x="312699" y="189627"/>
                  </a:lnTo>
                  <a:lnTo>
                    <a:pt x="305206" y="196055"/>
                  </a:lnTo>
                  <a:lnTo>
                    <a:pt x="299991" y="199801"/>
                  </a:lnTo>
                  <a:lnTo>
                    <a:pt x="280515" y="213164"/>
                  </a:lnTo>
                  <a:lnTo>
                    <a:pt x="266067" y="222884"/>
                  </a:lnTo>
                  <a:lnTo>
                    <a:pt x="257812" y="227847"/>
                  </a:lnTo>
                  <a:lnTo>
                    <a:pt x="248921" y="232849"/>
                  </a:lnTo>
                  <a:lnTo>
                    <a:pt x="230012" y="242922"/>
                  </a:lnTo>
                  <a:lnTo>
                    <a:pt x="210319" y="253044"/>
                  </a:lnTo>
                  <a:lnTo>
                    <a:pt x="200325" y="257267"/>
                  </a:lnTo>
                  <a:lnTo>
                    <a:pt x="190277" y="260929"/>
                  </a:lnTo>
                  <a:lnTo>
                    <a:pt x="180192" y="264217"/>
                  </a:lnTo>
                  <a:lnTo>
                    <a:pt x="169234" y="266409"/>
                  </a:lnTo>
                  <a:lnTo>
                    <a:pt x="157697" y="267870"/>
                  </a:lnTo>
                  <a:lnTo>
                    <a:pt x="145770" y="268845"/>
                  </a:lnTo>
                  <a:lnTo>
                    <a:pt x="134433" y="270341"/>
                  </a:lnTo>
                  <a:lnTo>
                    <a:pt x="123490" y="272185"/>
                  </a:lnTo>
                  <a:lnTo>
                    <a:pt x="112807" y="274261"/>
                  </a:lnTo>
                  <a:lnTo>
                    <a:pt x="102297" y="275645"/>
                  </a:lnTo>
                  <a:lnTo>
                    <a:pt x="91905" y="276568"/>
                  </a:lnTo>
                  <a:lnTo>
                    <a:pt x="81589" y="277183"/>
                  </a:lnTo>
                  <a:lnTo>
                    <a:pt x="63356" y="277866"/>
                  </a:lnTo>
                  <a:lnTo>
                    <a:pt x="54937" y="278049"/>
                  </a:lnTo>
                  <a:lnTo>
                    <a:pt x="47631" y="277323"/>
                  </a:lnTo>
                  <a:lnTo>
                    <a:pt x="41067" y="275994"/>
                  </a:lnTo>
                  <a:lnTo>
                    <a:pt x="34998" y="274260"/>
                  </a:lnTo>
                  <a:lnTo>
                    <a:pt x="25997" y="270076"/>
                  </a:lnTo>
                  <a:lnTo>
                    <a:pt x="18328" y="265395"/>
                  </a:lnTo>
                  <a:lnTo>
                    <a:pt x="9274" y="260491"/>
                  </a:lnTo>
                  <a:lnTo>
                    <a:pt x="6183" y="257999"/>
                  </a:lnTo>
                  <a:lnTo>
                    <a:pt x="4122" y="255490"/>
                  </a:lnTo>
                  <a:lnTo>
                    <a:pt x="0" y="24793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Annotation545"/>
            <p:cNvSpPr/>
            <p:nvPr/>
          </p:nvSpPr>
          <p:spPr>
            <a:xfrm>
              <a:off x="5937120" y="2126520"/>
              <a:ext cx="325800" cy="151920"/>
            </a:xfrm>
            <a:custGeom>
              <a:avLst/>
              <a:gdLst>
                <a:gd name="textAreaLeft" fmla="*/ 0 w 325800"/>
                <a:gd name="textAreaRight" fmla="*/ 325800 w 325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26126" h="151936">
                  <a:moveTo>
                    <a:pt x="82284" y="52875"/>
                  </a:moveTo>
                  <a:lnTo>
                    <a:pt x="93636" y="41524"/>
                  </a:lnTo>
                  <a:lnTo>
                    <a:pt x="94932" y="39381"/>
                  </a:lnTo>
                  <a:lnTo>
                    <a:pt x="96372" y="34742"/>
                  </a:lnTo>
                  <a:lnTo>
                    <a:pt x="97183" y="31416"/>
                  </a:lnTo>
                  <a:lnTo>
                    <a:pt x="97297" y="29256"/>
                  </a:lnTo>
                  <a:lnTo>
                    <a:pt x="97423" y="22340"/>
                  </a:lnTo>
                  <a:lnTo>
                    <a:pt x="96610" y="18972"/>
                  </a:lnTo>
                  <a:lnTo>
                    <a:pt x="95222" y="15879"/>
                  </a:lnTo>
                  <a:lnTo>
                    <a:pt x="93449" y="12971"/>
                  </a:lnTo>
                  <a:lnTo>
                    <a:pt x="91421" y="10186"/>
                  </a:lnTo>
                  <a:lnTo>
                    <a:pt x="89222" y="7482"/>
                  </a:lnTo>
                  <a:lnTo>
                    <a:pt x="86909" y="4833"/>
                  </a:lnTo>
                  <a:lnTo>
                    <a:pt x="84521" y="3067"/>
                  </a:lnTo>
                  <a:lnTo>
                    <a:pt x="79609" y="1105"/>
                  </a:lnTo>
                  <a:lnTo>
                    <a:pt x="72347" y="233"/>
                  </a:lnTo>
                  <a:lnTo>
                    <a:pt x="68039" y="0"/>
                  </a:lnTo>
                  <a:lnTo>
                    <a:pt x="58737" y="2000"/>
                  </a:lnTo>
                  <a:lnTo>
                    <a:pt x="49806" y="5711"/>
                  </a:lnTo>
                  <a:lnTo>
                    <a:pt x="43014" y="10182"/>
                  </a:lnTo>
                  <a:lnTo>
                    <a:pt x="39171" y="13406"/>
                  </a:lnTo>
                  <a:lnTo>
                    <a:pt x="34915" y="17249"/>
                  </a:lnTo>
                  <a:lnTo>
                    <a:pt x="30384" y="21505"/>
                  </a:lnTo>
                  <a:lnTo>
                    <a:pt x="26518" y="26881"/>
                  </a:lnTo>
                  <a:lnTo>
                    <a:pt x="23093" y="33006"/>
                  </a:lnTo>
                  <a:lnTo>
                    <a:pt x="19963" y="39629"/>
                  </a:lnTo>
                  <a:lnTo>
                    <a:pt x="17030" y="46584"/>
                  </a:lnTo>
                  <a:lnTo>
                    <a:pt x="14228" y="53761"/>
                  </a:lnTo>
                  <a:lnTo>
                    <a:pt x="8857" y="68509"/>
                  </a:lnTo>
                  <a:lnTo>
                    <a:pt x="3647" y="83530"/>
                  </a:lnTo>
                  <a:lnTo>
                    <a:pt x="1920" y="90245"/>
                  </a:lnTo>
                  <a:lnTo>
                    <a:pt x="768" y="96415"/>
                  </a:lnTo>
                  <a:lnTo>
                    <a:pt x="0" y="102222"/>
                  </a:lnTo>
                  <a:lnTo>
                    <a:pt x="334" y="106940"/>
                  </a:lnTo>
                  <a:lnTo>
                    <a:pt x="1405" y="110932"/>
                  </a:lnTo>
                  <a:lnTo>
                    <a:pt x="2964" y="114440"/>
                  </a:lnTo>
                  <a:lnTo>
                    <a:pt x="5698" y="118471"/>
                  </a:lnTo>
                  <a:lnTo>
                    <a:pt x="9213" y="122853"/>
                  </a:lnTo>
                  <a:lnTo>
                    <a:pt x="13250" y="127467"/>
                  </a:lnTo>
                  <a:lnTo>
                    <a:pt x="17635" y="131390"/>
                  </a:lnTo>
                  <a:lnTo>
                    <a:pt x="22251" y="134851"/>
                  </a:lnTo>
                  <a:lnTo>
                    <a:pt x="27023" y="138006"/>
                  </a:lnTo>
                  <a:lnTo>
                    <a:pt x="36839" y="141511"/>
                  </a:lnTo>
                  <a:lnTo>
                    <a:pt x="41828" y="142446"/>
                  </a:lnTo>
                  <a:lnTo>
                    <a:pt x="47693" y="143069"/>
                  </a:lnTo>
                  <a:lnTo>
                    <a:pt x="54143" y="143484"/>
                  </a:lnTo>
                  <a:lnTo>
                    <a:pt x="60984" y="143761"/>
                  </a:lnTo>
                  <a:lnTo>
                    <a:pt x="67237" y="143099"/>
                  </a:lnTo>
                  <a:lnTo>
                    <a:pt x="73099" y="141811"/>
                  </a:lnTo>
                  <a:lnTo>
                    <a:pt x="84975" y="138122"/>
                  </a:lnTo>
                  <a:lnTo>
                    <a:pt x="98721" y="133661"/>
                  </a:lnTo>
                  <a:lnTo>
                    <a:pt x="104248" y="130439"/>
                  </a:lnTo>
                  <a:lnTo>
                    <a:pt x="108781" y="126598"/>
                  </a:lnTo>
                  <a:lnTo>
                    <a:pt x="112648" y="122343"/>
                  </a:lnTo>
                  <a:lnTo>
                    <a:pt x="116073" y="117814"/>
                  </a:lnTo>
                  <a:lnTo>
                    <a:pt x="119203" y="113101"/>
                  </a:lnTo>
                  <a:lnTo>
                    <a:pt x="122137" y="108266"/>
                  </a:lnTo>
                  <a:lnTo>
                    <a:pt x="124940" y="102502"/>
                  </a:lnTo>
                  <a:lnTo>
                    <a:pt x="127654" y="96120"/>
                  </a:lnTo>
                  <a:lnTo>
                    <a:pt x="130311" y="89325"/>
                  </a:lnTo>
                  <a:lnTo>
                    <a:pt x="132928" y="83102"/>
                  </a:lnTo>
                  <a:lnTo>
                    <a:pt x="138095" y="71671"/>
                  </a:lnTo>
                  <a:lnTo>
                    <a:pt x="139811" y="67099"/>
                  </a:lnTo>
                  <a:lnTo>
                    <a:pt x="140956" y="63205"/>
                  </a:lnTo>
                  <a:lnTo>
                    <a:pt x="141718" y="59761"/>
                  </a:lnTo>
                  <a:lnTo>
                    <a:pt x="142227" y="56619"/>
                  </a:lnTo>
                  <a:lnTo>
                    <a:pt x="142566" y="53678"/>
                  </a:lnTo>
                  <a:lnTo>
                    <a:pt x="143233" y="45401"/>
                  </a:lnTo>
                  <a:lnTo>
                    <a:pt x="143243" y="55874"/>
                  </a:lnTo>
                  <a:lnTo>
                    <a:pt x="144090" y="58261"/>
                  </a:lnTo>
                  <a:lnTo>
                    <a:pt x="145501" y="60699"/>
                  </a:lnTo>
                  <a:lnTo>
                    <a:pt x="147289" y="63171"/>
                  </a:lnTo>
                  <a:lnTo>
                    <a:pt x="149327" y="66512"/>
                  </a:lnTo>
                  <a:lnTo>
                    <a:pt x="151533" y="70433"/>
                  </a:lnTo>
                  <a:lnTo>
                    <a:pt x="153850" y="74740"/>
                  </a:lnTo>
                  <a:lnTo>
                    <a:pt x="157088" y="79305"/>
                  </a:lnTo>
                  <a:lnTo>
                    <a:pt x="160940" y="84042"/>
                  </a:lnTo>
                  <a:lnTo>
                    <a:pt x="165201" y="88893"/>
                  </a:lnTo>
                  <a:lnTo>
                    <a:pt x="170582" y="92974"/>
                  </a:lnTo>
                  <a:lnTo>
                    <a:pt x="176710" y="96541"/>
                  </a:lnTo>
                  <a:lnTo>
                    <a:pt x="183334" y="99766"/>
                  </a:lnTo>
                  <a:lnTo>
                    <a:pt x="190291" y="103609"/>
                  </a:lnTo>
                  <a:lnTo>
                    <a:pt x="197469" y="107864"/>
                  </a:lnTo>
                  <a:lnTo>
                    <a:pt x="204794" y="112395"/>
                  </a:lnTo>
                  <a:lnTo>
                    <a:pt x="212217" y="116262"/>
                  </a:lnTo>
                  <a:lnTo>
                    <a:pt x="219706" y="119686"/>
                  </a:lnTo>
                  <a:lnTo>
                    <a:pt x="227239" y="122816"/>
                  </a:lnTo>
                  <a:lnTo>
                    <a:pt x="234801" y="125749"/>
                  </a:lnTo>
                  <a:lnTo>
                    <a:pt x="249976" y="131266"/>
                  </a:lnTo>
                  <a:lnTo>
                    <a:pt x="272800" y="139132"/>
                  </a:lnTo>
                  <a:lnTo>
                    <a:pt x="281261" y="141706"/>
                  </a:lnTo>
                  <a:lnTo>
                    <a:pt x="299694" y="146824"/>
                  </a:lnTo>
                  <a:lnTo>
                    <a:pt x="306811" y="148528"/>
                  </a:lnTo>
                  <a:lnTo>
                    <a:pt x="312403" y="149664"/>
                  </a:lnTo>
                  <a:lnTo>
                    <a:pt x="326125" y="15193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Annotation546"/>
            <p:cNvSpPr/>
            <p:nvPr/>
          </p:nvSpPr>
          <p:spPr>
            <a:xfrm>
              <a:off x="6423120" y="2072520"/>
              <a:ext cx="30240" cy="20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0482" h="205741">
                  <a:moveTo>
                    <a:pt x="0" y="0"/>
                  </a:moveTo>
                  <a:lnTo>
                    <a:pt x="0" y="4045"/>
                  </a:lnTo>
                  <a:lnTo>
                    <a:pt x="846" y="6930"/>
                  </a:lnTo>
                  <a:lnTo>
                    <a:pt x="2258" y="10547"/>
                  </a:lnTo>
                  <a:lnTo>
                    <a:pt x="4046" y="14651"/>
                  </a:lnTo>
                  <a:lnTo>
                    <a:pt x="5237" y="19081"/>
                  </a:lnTo>
                  <a:lnTo>
                    <a:pt x="6032" y="23727"/>
                  </a:lnTo>
                  <a:lnTo>
                    <a:pt x="6561" y="28518"/>
                  </a:lnTo>
                  <a:lnTo>
                    <a:pt x="7761" y="33405"/>
                  </a:lnTo>
                  <a:lnTo>
                    <a:pt x="9407" y="38357"/>
                  </a:lnTo>
                  <a:lnTo>
                    <a:pt x="11351" y="43351"/>
                  </a:lnTo>
                  <a:lnTo>
                    <a:pt x="12648" y="49221"/>
                  </a:lnTo>
                  <a:lnTo>
                    <a:pt x="13512" y="55674"/>
                  </a:lnTo>
                  <a:lnTo>
                    <a:pt x="14088" y="62516"/>
                  </a:lnTo>
                  <a:lnTo>
                    <a:pt x="14472" y="69617"/>
                  </a:lnTo>
                  <a:lnTo>
                    <a:pt x="14899" y="84281"/>
                  </a:lnTo>
                  <a:lnTo>
                    <a:pt x="15210" y="129580"/>
                  </a:lnTo>
                  <a:lnTo>
                    <a:pt x="16067" y="136340"/>
                  </a:lnTo>
                  <a:lnTo>
                    <a:pt x="17485" y="142540"/>
                  </a:lnTo>
                  <a:lnTo>
                    <a:pt x="19277" y="148367"/>
                  </a:lnTo>
                  <a:lnTo>
                    <a:pt x="20471" y="153945"/>
                  </a:lnTo>
                  <a:lnTo>
                    <a:pt x="21268" y="159356"/>
                  </a:lnTo>
                  <a:lnTo>
                    <a:pt x="21799" y="164658"/>
                  </a:lnTo>
                  <a:lnTo>
                    <a:pt x="22999" y="169885"/>
                  </a:lnTo>
                  <a:lnTo>
                    <a:pt x="24646" y="175064"/>
                  </a:lnTo>
                  <a:lnTo>
                    <a:pt x="26591" y="180209"/>
                  </a:lnTo>
                  <a:lnTo>
                    <a:pt x="27887" y="184486"/>
                  </a:lnTo>
                  <a:lnTo>
                    <a:pt x="28752" y="188184"/>
                  </a:lnTo>
                  <a:lnTo>
                    <a:pt x="30138" y="196158"/>
                  </a:lnTo>
                  <a:lnTo>
                    <a:pt x="30328" y="199506"/>
                  </a:lnTo>
                  <a:lnTo>
                    <a:pt x="30481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Annotation547"/>
            <p:cNvSpPr/>
            <p:nvPr/>
          </p:nvSpPr>
          <p:spPr>
            <a:xfrm>
              <a:off x="6347160" y="217152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1" h="1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Annotation548"/>
            <p:cNvSpPr/>
            <p:nvPr/>
          </p:nvSpPr>
          <p:spPr>
            <a:xfrm>
              <a:off x="6667200" y="2005200"/>
              <a:ext cx="241920" cy="2620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42162" h="262310">
                  <a:moveTo>
                    <a:pt x="0" y="21792"/>
                  </a:moveTo>
                  <a:lnTo>
                    <a:pt x="10606" y="21792"/>
                  </a:lnTo>
                  <a:lnTo>
                    <a:pt x="12998" y="20945"/>
                  </a:lnTo>
                  <a:lnTo>
                    <a:pt x="20408" y="16555"/>
                  </a:lnTo>
                  <a:lnTo>
                    <a:pt x="27967" y="14032"/>
                  </a:lnTo>
                  <a:lnTo>
                    <a:pt x="33031" y="10441"/>
                  </a:lnTo>
                  <a:lnTo>
                    <a:pt x="36415" y="9144"/>
                  </a:lnTo>
                  <a:lnTo>
                    <a:pt x="40363" y="8280"/>
                  </a:lnTo>
                  <a:lnTo>
                    <a:pt x="44690" y="7704"/>
                  </a:lnTo>
                  <a:lnTo>
                    <a:pt x="49266" y="7320"/>
                  </a:lnTo>
                  <a:lnTo>
                    <a:pt x="54011" y="7064"/>
                  </a:lnTo>
                  <a:lnTo>
                    <a:pt x="63798" y="6780"/>
                  </a:lnTo>
                  <a:lnTo>
                    <a:pt x="73792" y="6653"/>
                  </a:lnTo>
                  <a:lnTo>
                    <a:pt x="78829" y="5773"/>
                  </a:lnTo>
                  <a:lnTo>
                    <a:pt x="83879" y="4339"/>
                  </a:lnTo>
                  <a:lnTo>
                    <a:pt x="88939" y="2537"/>
                  </a:lnTo>
                  <a:lnTo>
                    <a:pt x="95700" y="1335"/>
                  </a:lnTo>
                  <a:lnTo>
                    <a:pt x="103593" y="534"/>
                  </a:lnTo>
                  <a:lnTo>
                    <a:pt x="112242" y="0"/>
                  </a:lnTo>
                  <a:lnTo>
                    <a:pt x="119701" y="491"/>
                  </a:lnTo>
                  <a:lnTo>
                    <a:pt x="126368" y="1664"/>
                  </a:lnTo>
                  <a:lnTo>
                    <a:pt x="132505" y="3294"/>
                  </a:lnTo>
                  <a:lnTo>
                    <a:pt x="139136" y="4380"/>
                  </a:lnTo>
                  <a:lnTo>
                    <a:pt x="146098" y="5104"/>
                  </a:lnTo>
                  <a:lnTo>
                    <a:pt x="153278" y="5586"/>
                  </a:lnTo>
                  <a:lnTo>
                    <a:pt x="165773" y="6123"/>
                  </a:lnTo>
                  <a:lnTo>
                    <a:pt x="171476" y="6266"/>
                  </a:lnTo>
                  <a:lnTo>
                    <a:pt x="176970" y="7208"/>
                  </a:lnTo>
                  <a:lnTo>
                    <a:pt x="182327" y="8683"/>
                  </a:lnTo>
                  <a:lnTo>
                    <a:pt x="187592" y="10513"/>
                  </a:lnTo>
                  <a:lnTo>
                    <a:pt x="192794" y="12579"/>
                  </a:lnTo>
                  <a:lnTo>
                    <a:pt x="197956" y="14803"/>
                  </a:lnTo>
                  <a:lnTo>
                    <a:pt x="210317" y="20412"/>
                  </a:lnTo>
                  <a:lnTo>
                    <a:pt x="211331" y="21718"/>
                  </a:lnTo>
                  <a:lnTo>
                    <a:pt x="212007" y="23436"/>
                  </a:lnTo>
                  <a:lnTo>
                    <a:pt x="212458" y="25428"/>
                  </a:lnTo>
                  <a:lnTo>
                    <a:pt x="211065" y="27603"/>
                  </a:lnTo>
                  <a:lnTo>
                    <a:pt x="205002" y="32277"/>
                  </a:lnTo>
                  <a:lnTo>
                    <a:pt x="201015" y="35555"/>
                  </a:lnTo>
                  <a:lnTo>
                    <a:pt x="196663" y="39434"/>
                  </a:lnTo>
                  <a:lnTo>
                    <a:pt x="187313" y="48260"/>
                  </a:lnTo>
                  <a:lnTo>
                    <a:pt x="177512" y="57827"/>
                  </a:lnTo>
                  <a:lnTo>
                    <a:pt x="170835" y="61902"/>
                  </a:lnTo>
                  <a:lnTo>
                    <a:pt x="162996" y="65465"/>
                  </a:lnTo>
                  <a:lnTo>
                    <a:pt x="154385" y="68687"/>
                  </a:lnTo>
                  <a:lnTo>
                    <a:pt x="145256" y="72529"/>
                  </a:lnTo>
                  <a:lnTo>
                    <a:pt x="135784" y="76783"/>
                  </a:lnTo>
                  <a:lnTo>
                    <a:pt x="126083" y="81313"/>
                  </a:lnTo>
                  <a:lnTo>
                    <a:pt x="117076" y="86026"/>
                  </a:lnTo>
                  <a:lnTo>
                    <a:pt x="108531" y="90862"/>
                  </a:lnTo>
                  <a:lnTo>
                    <a:pt x="100294" y="95778"/>
                  </a:lnTo>
                  <a:lnTo>
                    <a:pt x="93110" y="99903"/>
                  </a:lnTo>
                  <a:lnTo>
                    <a:pt x="80611" y="106744"/>
                  </a:lnTo>
                  <a:lnTo>
                    <a:pt x="75754" y="109753"/>
                  </a:lnTo>
                  <a:lnTo>
                    <a:pt x="71669" y="112606"/>
                  </a:lnTo>
                  <a:lnTo>
                    <a:pt x="68100" y="115355"/>
                  </a:lnTo>
                  <a:lnTo>
                    <a:pt x="65720" y="118034"/>
                  </a:lnTo>
                  <a:lnTo>
                    <a:pt x="64133" y="120667"/>
                  </a:lnTo>
                  <a:lnTo>
                    <a:pt x="62371" y="125850"/>
                  </a:lnTo>
                  <a:lnTo>
                    <a:pt x="61587" y="130975"/>
                  </a:lnTo>
                  <a:lnTo>
                    <a:pt x="63071" y="132681"/>
                  </a:lnTo>
                  <a:lnTo>
                    <a:pt x="65754" y="133818"/>
                  </a:lnTo>
                  <a:lnTo>
                    <a:pt x="73251" y="135928"/>
                  </a:lnTo>
                  <a:lnTo>
                    <a:pt x="77621" y="137676"/>
                  </a:lnTo>
                  <a:lnTo>
                    <a:pt x="82227" y="139688"/>
                  </a:lnTo>
                  <a:lnTo>
                    <a:pt x="87838" y="141876"/>
                  </a:lnTo>
                  <a:lnTo>
                    <a:pt x="100846" y="146565"/>
                  </a:lnTo>
                  <a:lnTo>
                    <a:pt x="107871" y="148154"/>
                  </a:lnTo>
                  <a:lnTo>
                    <a:pt x="115095" y="149213"/>
                  </a:lnTo>
                  <a:lnTo>
                    <a:pt x="122449" y="149920"/>
                  </a:lnTo>
                  <a:lnTo>
                    <a:pt x="130740" y="151237"/>
                  </a:lnTo>
                  <a:lnTo>
                    <a:pt x="139653" y="152962"/>
                  </a:lnTo>
                  <a:lnTo>
                    <a:pt x="148982" y="154959"/>
                  </a:lnTo>
                  <a:lnTo>
                    <a:pt x="157741" y="157137"/>
                  </a:lnTo>
                  <a:lnTo>
                    <a:pt x="166121" y="159435"/>
                  </a:lnTo>
                  <a:lnTo>
                    <a:pt x="182205" y="164247"/>
                  </a:lnTo>
                  <a:lnTo>
                    <a:pt x="197820" y="169207"/>
                  </a:lnTo>
                  <a:lnTo>
                    <a:pt x="204694" y="171716"/>
                  </a:lnTo>
                  <a:lnTo>
                    <a:pt x="210969" y="174234"/>
                  </a:lnTo>
                  <a:lnTo>
                    <a:pt x="216846" y="176760"/>
                  </a:lnTo>
                  <a:lnTo>
                    <a:pt x="221611" y="179291"/>
                  </a:lnTo>
                  <a:lnTo>
                    <a:pt x="229162" y="184360"/>
                  </a:lnTo>
                  <a:lnTo>
                    <a:pt x="235341" y="191694"/>
                  </a:lnTo>
                  <a:lnTo>
                    <a:pt x="240063" y="199751"/>
                  </a:lnTo>
                  <a:lnTo>
                    <a:pt x="242161" y="206154"/>
                  </a:lnTo>
                  <a:lnTo>
                    <a:pt x="241873" y="209047"/>
                  </a:lnTo>
                  <a:lnTo>
                    <a:pt x="240836" y="211822"/>
                  </a:lnTo>
                  <a:lnTo>
                    <a:pt x="239296" y="214518"/>
                  </a:lnTo>
                  <a:lnTo>
                    <a:pt x="233073" y="219773"/>
                  </a:lnTo>
                  <a:lnTo>
                    <a:pt x="217790" y="229749"/>
                  </a:lnTo>
                  <a:lnTo>
                    <a:pt x="211233" y="234090"/>
                  </a:lnTo>
                  <a:lnTo>
                    <a:pt x="204322" y="237830"/>
                  </a:lnTo>
                  <a:lnTo>
                    <a:pt x="197175" y="241171"/>
                  </a:lnTo>
                  <a:lnTo>
                    <a:pt x="189870" y="244245"/>
                  </a:lnTo>
                  <a:lnTo>
                    <a:pt x="181613" y="247141"/>
                  </a:lnTo>
                  <a:lnTo>
                    <a:pt x="172723" y="249918"/>
                  </a:lnTo>
                  <a:lnTo>
                    <a:pt x="163408" y="252616"/>
                  </a:lnTo>
                  <a:lnTo>
                    <a:pt x="154660" y="254415"/>
                  </a:lnTo>
                  <a:lnTo>
                    <a:pt x="146286" y="255614"/>
                  </a:lnTo>
                  <a:lnTo>
                    <a:pt x="138164" y="256413"/>
                  </a:lnTo>
                  <a:lnTo>
                    <a:pt x="129363" y="256946"/>
                  </a:lnTo>
                  <a:lnTo>
                    <a:pt x="110552" y="257539"/>
                  </a:lnTo>
                  <a:lnTo>
                    <a:pt x="101642" y="258543"/>
                  </a:lnTo>
                  <a:lnTo>
                    <a:pt x="93161" y="260059"/>
                  </a:lnTo>
                  <a:lnTo>
                    <a:pt x="84967" y="261917"/>
                  </a:lnTo>
                  <a:lnTo>
                    <a:pt x="76119" y="262309"/>
                  </a:lnTo>
                  <a:lnTo>
                    <a:pt x="66832" y="261723"/>
                  </a:lnTo>
                  <a:lnTo>
                    <a:pt x="57255" y="260486"/>
                  </a:lnTo>
                  <a:lnTo>
                    <a:pt x="49177" y="259662"/>
                  </a:lnTo>
                  <a:lnTo>
                    <a:pt x="42098" y="259112"/>
                  </a:lnTo>
                  <a:lnTo>
                    <a:pt x="30563" y="258501"/>
                  </a:lnTo>
                  <a:lnTo>
                    <a:pt x="22615" y="258229"/>
                  </a:lnTo>
                  <a:lnTo>
                    <a:pt x="19310" y="257310"/>
                  </a:lnTo>
                  <a:lnTo>
                    <a:pt x="13380" y="254031"/>
                  </a:lnTo>
                  <a:lnTo>
                    <a:pt x="7620" y="25039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Annotation549"/>
            <p:cNvSpPr/>
            <p:nvPr/>
          </p:nvSpPr>
          <p:spPr>
            <a:xfrm>
              <a:off x="7108920" y="213372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33">
                  <a:moveTo>
                    <a:pt x="0" y="7592"/>
                  </a:moveTo>
                  <a:lnTo>
                    <a:pt x="8090" y="3547"/>
                  </a:lnTo>
                  <a:lnTo>
                    <a:pt x="12167" y="2355"/>
                  </a:lnTo>
                  <a:lnTo>
                    <a:pt x="16578" y="1561"/>
                  </a:lnTo>
                  <a:lnTo>
                    <a:pt x="21212" y="1031"/>
                  </a:lnTo>
                  <a:lnTo>
                    <a:pt x="25148" y="678"/>
                  </a:lnTo>
                  <a:lnTo>
                    <a:pt x="28619" y="443"/>
                  </a:lnTo>
                  <a:lnTo>
                    <a:pt x="31779" y="286"/>
                  </a:lnTo>
                  <a:lnTo>
                    <a:pt x="42063" y="112"/>
                  </a:lnTo>
                  <a:lnTo>
                    <a:pt x="69362" y="0"/>
                  </a:lnTo>
                  <a:lnTo>
                    <a:pt x="77569" y="837"/>
                  </a:lnTo>
                  <a:lnTo>
                    <a:pt x="86426" y="2242"/>
                  </a:lnTo>
                  <a:lnTo>
                    <a:pt x="95717" y="4025"/>
                  </a:lnTo>
                  <a:lnTo>
                    <a:pt x="104452" y="5214"/>
                  </a:lnTo>
                  <a:lnTo>
                    <a:pt x="112815" y="6007"/>
                  </a:lnTo>
                  <a:lnTo>
                    <a:pt x="120930" y="6535"/>
                  </a:lnTo>
                  <a:lnTo>
                    <a:pt x="129726" y="6887"/>
                  </a:lnTo>
                  <a:lnTo>
                    <a:pt x="148532" y="7279"/>
                  </a:lnTo>
                  <a:lnTo>
                    <a:pt x="156594" y="8230"/>
                  </a:lnTo>
                  <a:lnTo>
                    <a:pt x="163663" y="9711"/>
                  </a:lnTo>
                  <a:lnTo>
                    <a:pt x="170069" y="11545"/>
                  </a:lnTo>
                  <a:lnTo>
                    <a:pt x="176033" y="12767"/>
                  </a:lnTo>
                  <a:lnTo>
                    <a:pt x="181702" y="13582"/>
                  </a:lnTo>
                  <a:lnTo>
                    <a:pt x="187174" y="14125"/>
                  </a:lnTo>
                  <a:lnTo>
                    <a:pt x="191670" y="15334"/>
                  </a:lnTo>
                  <a:lnTo>
                    <a:pt x="195513" y="16987"/>
                  </a:lnTo>
                  <a:lnTo>
                    <a:pt x="205740" y="228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550"/>
            <p:cNvSpPr/>
            <p:nvPr/>
          </p:nvSpPr>
          <p:spPr>
            <a:xfrm>
              <a:off x="7116840" y="2209680"/>
              <a:ext cx="220680" cy="11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20981" h="11802">
                  <a:moveTo>
                    <a:pt x="0" y="0"/>
                  </a:moveTo>
                  <a:lnTo>
                    <a:pt x="4046" y="4045"/>
                  </a:lnTo>
                  <a:lnTo>
                    <a:pt x="6930" y="5237"/>
                  </a:lnTo>
                  <a:lnTo>
                    <a:pt x="10548" y="6031"/>
                  </a:lnTo>
                  <a:lnTo>
                    <a:pt x="14651" y="6561"/>
                  </a:lnTo>
                  <a:lnTo>
                    <a:pt x="19927" y="7761"/>
                  </a:lnTo>
                  <a:lnTo>
                    <a:pt x="25986" y="9407"/>
                  </a:lnTo>
                  <a:lnTo>
                    <a:pt x="32563" y="11352"/>
                  </a:lnTo>
                  <a:lnTo>
                    <a:pt x="40337" y="11801"/>
                  </a:lnTo>
                  <a:lnTo>
                    <a:pt x="48904" y="11254"/>
                  </a:lnTo>
                  <a:lnTo>
                    <a:pt x="58003" y="10043"/>
                  </a:lnTo>
                  <a:lnTo>
                    <a:pt x="67456" y="9235"/>
                  </a:lnTo>
                  <a:lnTo>
                    <a:pt x="77144" y="8697"/>
                  </a:lnTo>
                  <a:lnTo>
                    <a:pt x="86990" y="8338"/>
                  </a:lnTo>
                  <a:lnTo>
                    <a:pt x="121072" y="7833"/>
                  </a:lnTo>
                  <a:lnTo>
                    <a:pt x="132361" y="6915"/>
                  </a:lnTo>
                  <a:lnTo>
                    <a:pt x="143274" y="5457"/>
                  </a:lnTo>
                  <a:lnTo>
                    <a:pt x="153937" y="3638"/>
                  </a:lnTo>
                  <a:lnTo>
                    <a:pt x="163584" y="2425"/>
                  </a:lnTo>
                  <a:lnTo>
                    <a:pt x="172556" y="1617"/>
                  </a:lnTo>
                  <a:lnTo>
                    <a:pt x="181078" y="1078"/>
                  </a:lnTo>
                  <a:lnTo>
                    <a:pt x="197319" y="479"/>
                  </a:ln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551"/>
            <p:cNvSpPr/>
            <p:nvPr/>
          </p:nvSpPr>
          <p:spPr>
            <a:xfrm>
              <a:off x="7494840" y="1996560"/>
              <a:ext cx="231120" cy="2358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31370" h="236075">
                  <a:moveTo>
                    <a:pt x="18009" y="7618"/>
                  </a:moveTo>
                  <a:lnTo>
                    <a:pt x="24571" y="1057"/>
                  </a:lnTo>
                  <a:lnTo>
                    <a:pt x="27417" y="469"/>
                  </a:lnTo>
                  <a:lnTo>
                    <a:pt x="33778" y="138"/>
                  </a:lnTo>
                  <a:lnTo>
                    <a:pt x="39410" y="60"/>
                  </a:lnTo>
                  <a:lnTo>
                    <a:pt x="87177" y="0"/>
                  </a:lnTo>
                  <a:lnTo>
                    <a:pt x="94601" y="846"/>
                  </a:lnTo>
                  <a:lnTo>
                    <a:pt x="102090" y="2257"/>
                  </a:lnTo>
                  <a:lnTo>
                    <a:pt x="109623" y="4044"/>
                  </a:lnTo>
                  <a:lnTo>
                    <a:pt x="116339" y="6082"/>
                  </a:lnTo>
                  <a:lnTo>
                    <a:pt x="122509" y="8287"/>
                  </a:lnTo>
                  <a:lnTo>
                    <a:pt x="128316" y="10604"/>
                  </a:lnTo>
                  <a:lnTo>
                    <a:pt x="133881" y="12996"/>
                  </a:lnTo>
                  <a:lnTo>
                    <a:pt x="144579" y="17910"/>
                  </a:lnTo>
                  <a:lnTo>
                    <a:pt x="160122" y="25437"/>
                  </a:lnTo>
                  <a:lnTo>
                    <a:pt x="163551" y="28811"/>
                  </a:lnTo>
                  <a:lnTo>
                    <a:pt x="165836" y="32753"/>
                  </a:lnTo>
                  <a:lnTo>
                    <a:pt x="167361" y="37075"/>
                  </a:lnTo>
                  <a:lnTo>
                    <a:pt x="168377" y="41649"/>
                  </a:lnTo>
                  <a:lnTo>
                    <a:pt x="169054" y="46392"/>
                  </a:lnTo>
                  <a:lnTo>
                    <a:pt x="169506" y="51248"/>
                  </a:lnTo>
                  <a:lnTo>
                    <a:pt x="168113" y="56178"/>
                  </a:lnTo>
                  <a:lnTo>
                    <a:pt x="165492" y="61158"/>
                  </a:lnTo>
                  <a:lnTo>
                    <a:pt x="162052" y="66171"/>
                  </a:lnTo>
                  <a:lnTo>
                    <a:pt x="158064" y="71207"/>
                  </a:lnTo>
                  <a:lnTo>
                    <a:pt x="153713" y="76257"/>
                  </a:lnTo>
                  <a:lnTo>
                    <a:pt x="149119" y="81318"/>
                  </a:lnTo>
                  <a:lnTo>
                    <a:pt x="143515" y="86384"/>
                  </a:lnTo>
                  <a:lnTo>
                    <a:pt x="137239" y="91456"/>
                  </a:lnTo>
                  <a:lnTo>
                    <a:pt x="130516" y="96530"/>
                  </a:lnTo>
                  <a:lnTo>
                    <a:pt x="122647" y="101606"/>
                  </a:lnTo>
                  <a:lnTo>
                    <a:pt x="114014" y="106683"/>
                  </a:lnTo>
                  <a:lnTo>
                    <a:pt x="104873" y="111761"/>
                  </a:lnTo>
                  <a:lnTo>
                    <a:pt x="95392" y="117687"/>
                  </a:lnTo>
                  <a:lnTo>
                    <a:pt x="85684" y="124177"/>
                  </a:lnTo>
                  <a:lnTo>
                    <a:pt x="49816" y="148799"/>
                  </a:lnTo>
                  <a:lnTo>
                    <a:pt x="26023" y="164784"/>
                  </a:lnTo>
                  <a:lnTo>
                    <a:pt x="19964" y="169969"/>
                  </a:lnTo>
                  <a:lnTo>
                    <a:pt x="15081" y="175118"/>
                  </a:lnTo>
                  <a:lnTo>
                    <a:pt x="10977" y="180245"/>
                  </a:lnTo>
                  <a:lnTo>
                    <a:pt x="7395" y="185356"/>
                  </a:lnTo>
                  <a:lnTo>
                    <a:pt x="4159" y="190457"/>
                  </a:lnTo>
                  <a:lnTo>
                    <a:pt x="1156" y="195551"/>
                  </a:lnTo>
                  <a:lnTo>
                    <a:pt x="0" y="200640"/>
                  </a:lnTo>
                  <a:lnTo>
                    <a:pt x="77" y="205726"/>
                  </a:lnTo>
                  <a:lnTo>
                    <a:pt x="975" y="210810"/>
                  </a:lnTo>
                  <a:lnTo>
                    <a:pt x="3266" y="215046"/>
                  </a:lnTo>
                  <a:lnTo>
                    <a:pt x="10328" y="222011"/>
                  </a:lnTo>
                  <a:lnTo>
                    <a:pt x="15428" y="225053"/>
                  </a:lnTo>
                  <a:lnTo>
                    <a:pt x="21369" y="227928"/>
                  </a:lnTo>
                  <a:lnTo>
                    <a:pt x="27869" y="230691"/>
                  </a:lnTo>
                  <a:lnTo>
                    <a:pt x="36436" y="232534"/>
                  </a:lnTo>
                  <a:lnTo>
                    <a:pt x="46380" y="233762"/>
                  </a:lnTo>
                  <a:lnTo>
                    <a:pt x="57244" y="234580"/>
                  </a:lnTo>
                  <a:lnTo>
                    <a:pt x="68720" y="235126"/>
                  </a:lnTo>
                  <a:lnTo>
                    <a:pt x="92758" y="235733"/>
                  </a:lnTo>
                  <a:lnTo>
                    <a:pt x="130092" y="236074"/>
                  </a:lnTo>
                  <a:lnTo>
                    <a:pt x="143530" y="235275"/>
                  </a:lnTo>
                  <a:lnTo>
                    <a:pt x="157570" y="233896"/>
                  </a:lnTo>
                  <a:lnTo>
                    <a:pt x="172010" y="232130"/>
                  </a:lnTo>
                  <a:lnTo>
                    <a:pt x="185023" y="230106"/>
                  </a:lnTo>
                  <a:lnTo>
                    <a:pt x="197085" y="227910"/>
                  </a:lnTo>
                  <a:lnTo>
                    <a:pt x="231369" y="22097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552"/>
            <p:cNvSpPr/>
            <p:nvPr/>
          </p:nvSpPr>
          <p:spPr>
            <a:xfrm>
              <a:off x="7833600" y="1950840"/>
              <a:ext cx="167040" cy="174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67158" h="175023">
                  <a:moveTo>
                    <a:pt x="75717" y="0"/>
                  </a:moveTo>
                  <a:lnTo>
                    <a:pt x="75717" y="10606"/>
                  </a:lnTo>
                  <a:lnTo>
                    <a:pt x="74870" y="13844"/>
                  </a:lnTo>
                  <a:lnTo>
                    <a:pt x="73459" y="17696"/>
                  </a:lnTo>
                  <a:lnTo>
                    <a:pt x="71672" y="21957"/>
                  </a:lnTo>
                  <a:lnTo>
                    <a:pt x="68787" y="26491"/>
                  </a:lnTo>
                  <a:lnTo>
                    <a:pt x="65170" y="31208"/>
                  </a:lnTo>
                  <a:lnTo>
                    <a:pt x="61066" y="36045"/>
                  </a:lnTo>
                  <a:lnTo>
                    <a:pt x="57483" y="40963"/>
                  </a:lnTo>
                  <a:lnTo>
                    <a:pt x="54248" y="45936"/>
                  </a:lnTo>
                  <a:lnTo>
                    <a:pt x="51244" y="50944"/>
                  </a:lnTo>
                  <a:lnTo>
                    <a:pt x="43392" y="63282"/>
                  </a:lnTo>
                  <a:lnTo>
                    <a:pt x="38927" y="70128"/>
                  </a:lnTo>
                  <a:lnTo>
                    <a:pt x="34257" y="76385"/>
                  </a:lnTo>
                  <a:lnTo>
                    <a:pt x="29450" y="82250"/>
                  </a:lnTo>
                  <a:lnTo>
                    <a:pt x="24553" y="87853"/>
                  </a:lnTo>
                  <a:lnTo>
                    <a:pt x="20440" y="94129"/>
                  </a:lnTo>
                  <a:lnTo>
                    <a:pt x="16853" y="100852"/>
                  </a:lnTo>
                  <a:lnTo>
                    <a:pt x="10608" y="114250"/>
                  </a:lnTo>
                  <a:lnTo>
                    <a:pt x="5011" y="125849"/>
                  </a:lnTo>
                  <a:lnTo>
                    <a:pt x="3180" y="131313"/>
                  </a:lnTo>
                  <a:lnTo>
                    <a:pt x="1959" y="136649"/>
                  </a:lnTo>
                  <a:lnTo>
                    <a:pt x="1145" y="141899"/>
                  </a:lnTo>
                  <a:lnTo>
                    <a:pt x="603" y="146246"/>
                  </a:lnTo>
                  <a:lnTo>
                    <a:pt x="241" y="149991"/>
                  </a:lnTo>
                  <a:lnTo>
                    <a:pt x="0" y="153334"/>
                  </a:lnTo>
                  <a:lnTo>
                    <a:pt x="686" y="157256"/>
                  </a:lnTo>
                  <a:lnTo>
                    <a:pt x="1990" y="161564"/>
                  </a:lnTo>
                  <a:lnTo>
                    <a:pt x="3706" y="166129"/>
                  </a:lnTo>
                  <a:lnTo>
                    <a:pt x="7389" y="169173"/>
                  </a:lnTo>
                  <a:lnTo>
                    <a:pt x="12385" y="171202"/>
                  </a:lnTo>
                  <a:lnTo>
                    <a:pt x="18255" y="172555"/>
                  </a:lnTo>
                  <a:lnTo>
                    <a:pt x="24709" y="173456"/>
                  </a:lnTo>
                  <a:lnTo>
                    <a:pt x="31552" y="174057"/>
                  </a:lnTo>
                  <a:lnTo>
                    <a:pt x="38654" y="174458"/>
                  </a:lnTo>
                  <a:lnTo>
                    <a:pt x="57833" y="174904"/>
                  </a:lnTo>
                  <a:lnTo>
                    <a:pt x="68875" y="175022"/>
                  </a:lnTo>
                  <a:lnTo>
                    <a:pt x="80469" y="174255"/>
                  </a:lnTo>
                  <a:lnTo>
                    <a:pt x="92431" y="172897"/>
                  </a:lnTo>
                  <a:lnTo>
                    <a:pt x="104640" y="171145"/>
                  </a:lnTo>
                  <a:lnTo>
                    <a:pt x="114472" y="169130"/>
                  </a:lnTo>
                  <a:lnTo>
                    <a:pt x="122721" y="166940"/>
                  </a:lnTo>
                  <a:lnTo>
                    <a:pt x="129913" y="164633"/>
                  </a:lnTo>
                  <a:lnTo>
                    <a:pt x="137247" y="163095"/>
                  </a:lnTo>
                  <a:lnTo>
                    <a:pt x="144678" y="162070"/>
                  </a:lnTo>
                  <a:lnTo>
                    <a:pt x="167157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553"/>
            <p:cNvSpPr/>
            <p:nvPr/>
          </p:nvSpPr>
          <p:spPr>
            <a:xfrm>
              <a:off x="7886160" y="1950840"/>
              <a:ext cx="137160" cy="380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7161" h="381001">
                  <a:moveTo>
                    <a:pt x="137160" y="0"/>
                  </a:moveTo>
                  <a:lnTo>
                    <a:pt x="137160" y="21957"/>
                  </a:lnTo>
                  <a:lnTo>
                    <a:pt x="134902" y="31208"/>
                  </a:lnTo>
                  <a:lnTo>
                    <a:pt x="131076" y="41810"/>
                  </a:lnTo>
                  <a:lnTo>
                    <a:pt x="126554" y="54989"/>
                  </a:lnTo>
                  <a:lnTo>
                    <a:pt x="124163" y="62906"/>
                  </a:lnTo>
                  <a:lnTo>
                    <a:pt x="119248" y="80734"/>
                  </a:lnTo>
                  <a:lnTo>
                    <a:pt x="111721" y="109811"/>
                  </a:lnTo>
                  <a:lnTo>
                    <a:pt x="108347" y="120621"/>
                  </a:lnTo>
                  <a:lnTo>
                    <a:pt x="104405" y="132060"/>
                  </a:lnTo>
                  <a:lnTo>
                    <a:pt x="95509" y="156907"/>
                  </a:lnTo>
                  <a:lnTo>
                    <a:pt x="85911" y="184883"/>
                  </a:lnTo>
                  <a:lnTo>
                    <a:pt x="80134" y="199456"/>
                  </a:lnTo>
                  <a:lnTo>
                    <a:pt x="73743" y="214250"/>
                  </a:lnTo>
                  <a:lnTo>
                    <a:pt x="59868" y="244236"/>
                  </a:lnTo>
                  <a:lnTo>
                    <a:pt x="37777" y="290524"/>
                  </a:lnTo>
                  <a:lnTo>
                    <a:pt x="22716" y="324138"/>
                  </a:lnTo>
                  <a:lnTo>
                    <a:pt x="16837" y="338012"/>
                  </a:lnTo>
                  <a:lnTo>
                    <a:pt x="12072" y="349801"/>
                  </a:lnTo>
                  <a:lnTo>
                    <a:pt x="0" y="3810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554"/>
            <p:cNvSpPr/>
            <p:nvPr/>
          </p:nvSpPr>
          <p:spPr>
            <a:xfrm>
              <a:off x="6293520" y="249156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555"/>
            <p:cNvSpPr/>
            <p:nvPr/>
          </p:nvSpPr>
          <p:spPr>
            <a:xfrm>
              <a:off x="6636600" y="2346840"/>
              <a:ext cx="216000" cy="227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216339" h="228148">
                  <a:moveTo>
                    <a:pt x="30480" y="45716"/>
                  </a:moveTo>
                  <a:lnTo>
                    <a:pt x="30480" y="31563"/>
                  </a:lnTo>
                  <a:lnTo>
                    <a:pt x="34525" y="26753"/>
                  </a:lnTo>
                  <a:lnTo>
                    <a:pt x="41086" y="19966"/>
                  </a:lnTo>
                  <a:lnTo>
                    <a:pt x="43478" y="18389"/>
                  </a:lnTo>
                  <a:lnTo>
                    <a:pt x="48393" y="16637"/>
                  </a:lnTo>
                  <a:lnTo>
                    <a:pt x="51735" y="15324"/>
                  </a:lnTo>
                  <a:lnTo>
                    <a:pt x="55657" y="13601"/>
                  </a:lnTo>
                  <a:lnTo>
                    <a:pt x="64530" y="9430"/>
                  </a:lnTo>
                  <a:lnTo>
                    <a:pt x="74118" y="4753"/>
                  </a:lnTo>
                  <a:lnTo>
                    <a:pt x="79045" y="3168"/>
                  </a:lnTo>
                  <a:lnTo>
                    <a:pt x="84024" y="2110"/>
                  </a:lnTo>
                  <a:lnTo>
                    <a:pt x="89035" y="1406"/>
                  </a:lnTo>
                  <a:lnTo>
                    <a:pt x="94917" y="936"/>
                  </a:lnTo>
                  <a:lnTo>
                    <a:pt x="101379" y="623"/>
                  </a:lnTo>
                  <a:lnTo>
                    <a:pt x="115331" y="275"/>
                  </a:lnTo>
                  <a:lnTo>
                    <a:pt x="165569" y="0"/>
                  </a:lnTo>
                  <a:lnTo>
                    <a:pt x="166259" y="845"/>
                  </a:lnTo>
                  <a:lnTo>
                    <a:pt x="167027" y="4042"/>
                  </a:lnTo>
                  <a:lnTo>
                    <a:pt x="166384" y="6080"/>
                  </a:lnTo>
                  <a:lnTo>
                    <a:pt x="163414" y="10602"/>
                  </a:lnTo>
                  <a:lnTo>
                    <a:pt x="157013" y="15434"/>
                  </a:lnTo>
                  <a:lnTo>
                    <a:pt x="152935" y="17908"/>
                  </a:lnTo>
                  <a:lnTo>
                    <a:pt x="146830" y="20404"/>
                  </a:lnTo>
                  <a:lnTo>
                    <a:pt x="139373" y="22915"/>
                  </a:lnTo>
                  <a:lnTo>
                    <a:pt x="131016" y="25435"/>
                  </a:lnTo>
                  <a:lnTo>
                    <a:pt x="123751" y="27962"/>
                  </a:lnTo>
                  <a:lnTo>
                    <a:pt x="117213" y="30494"/>
                  </a:lnTo>
                  <a:lnTo>
                    <a:pt x="111163" y="33028"/>
                  </a:lnTo>
                  <a:lnTo>
                    <a:pt x="104589" y="35564"/>
                  </a:lnTo>
                  <a:lnTo>
                    <a:pt x="90510" y="40639"/>
                  </a:lnTo>
                  <a:lnTo>
                    <a:pt x="68305" y="48257"/>
                  </a:lnTo>
                  <a:lnTo>
                    <a:pt x="62470" y="50797"/>
                  </a:lnTo>
                  <a:lnTo>
                    <a:pt x="57733" y="53337"/>
                  </a:lnTo>
                  <a:lnTo>
                    <a:pt x="53729" y="55877"/>
                  </a:lnTo>
                  <a:lnTo>
                    <a:pt x="51059" y="58416"/>
                  </a:lnTo>
                  <a:lnTo>
                    <a:pt x="49280" y="60956"/>
                  </a:lnTo>
                  <a:lnTo>
                    <a:pt x="48093" y="63496"/>
                  </a:lnTo>
                  <a:lnTo>
                    <a:pt x="48149" y="66036"/>
                  </a:lnTo>
                  <a:lnTo>
                    <a:pt x="49032" y="68576"/>
                  </a:lnTo>
                  <a:lnTo>
                    <a:pt x="52272" y="73656"/>
                  </a:lnTo>
                  <a:lnTo>
                    <a:pt x="56534" y="78736"/>
                  </a:lnTo>
                  <a:lnTo>
                    <a:pt x="60549" y="81276"/>
                  </a:lnTo>
                  <a:lnTo>
                    <a:pt x="65766" y="83816"/>
                  </a:lnTo>
                  <a:lnTo>
                    <a:pt x="71784" y="86356"/>
                  </a:lnTo>
                  <a:lnTo>
                    <a:pt x="78337" y="88896"/>
                  </a:lnTo>
                  <a:lnTo>
                    <a:pt x="92389" y="93976"/>
                  </a:lnTo>
                  <a:lnTo>
                    <a:pt x="100540" y="95669"/>
                  </a:lnTo>
                  <a:lnTo>
                    <a:pt x="109360" y="96798"/>
                  </a:lnTo>
                  <a:lnTo>
                    <a:pt x="118627" y="97551"/>
                  </a:lnTo>
                  <a:lnTo>
                    <a:pt x="128191" y="98899"/>
                  </a:lnTo>
                  <a:lnTo>
                    <a:pt x="137954" y="100645"/>
                  </a:lnTo>
                  <a:lnTo>
                    <a:pt x="147849" y="102655"/>
                  </a:lnTo>
                  <a:lnTo>
                    <a:pt x="156986" y="104842"/>
                  </a:lnTo>
                  <a:lnTo>
                    <a:pt x="165618" y="107147"/>
                  </a:lnTo>
                  <a:lnTo>
                    <a:pt x="173912" y="109530"/>
                  </a:lnTo>
                  <a:lnTo>
                    <a:pt x="181135" y="111965"/>
                  </a:lnTo>
                  <a:lnTo>
                    <a:pt x="187643" y="114436"/>
                  </a:lnTo>
                  <a:lnTo>
                    <a:pt x="193675" y="116929"/>
                  </a:lnTo>
                  <a:lnTo>
                    <a:pt x="198543" y="120285"/>
                  </a:lnTo>
                  <a:lnTo>
                    <a:pt x="202636" y="124215"/>
                  </a:lnTo>
                  <a:lnTo>
                    <a:pt x="206211" y="128529"/>
                  </a:lnTo>
                  <a:lnTo>
                    <a:pt x="209440" y="133098"/>
                  </a:lnTo>
                  <a:lnTo>
                    <a:pt x="212440" y="137838"/>
                  </a:lnTo>
                  <a:lnTo>
                    <a:pt x="215287" y="142690"/>
                  </a:lnTo>
                  <a:lnTo>
                    <a:pt x="216338" y="146772"/>
                  </a:lnTo>
                  <a:lnTo>
                    <a:pt x="216192" y="150340"/>
                  </a:lnTo>
                  <a:lnTo>
                    <a:pt x="215248" y="153566"/>
                  </a:lnTo>
                  <a:lnTo>
                    <a:pt x="212925" y="157409"/>
                  </a:lnTo>
                  <a:lnTo>
                    <a:pt x="209683" y="161665"/>
                  </a:lnTo>
                  <a:lnTo>
                    <a:pt x="205829" y="166195"/>
                  </a:lnTo>
                  <a:lnTo>
                    <a:pt x="201566" y="170062"/>
                  </a:lnTo>
                  <a:lnTo>
                    <a:pt x="197030" y="173487"/>
                  </a:lnTo>
                  <a:lnTo>
                    <a:pt x="173540" y="189112"/>
                  </a:lnTo>
                  <a:lnTo>
                    <a:pt x="165647" y="192960"/>
                  </a:lnTo>
                  <a:lnTo>
                    <a:pt x="156998" y="196372"/>
                  </a:lnTo>
                  <a:lnTo>
                    <a:pt x="147846" y="199493"/>
                  </a:lnTo>
                  <a:lnTo>
                    <a:pt x="138356" y="202421"/>
                  </a:lnTo>
                  <a:lnTo>
                    <a:pt x="118783" y="207932"/>
                  </a:lnTo>
                  <a:lnTo>
                    <a:pt x="79468" y="218368"/>
                  </a:lnTo>
                  <a:lnTo>
                    <a:pt x="62413" y="223486"/>
                  </a:lnTo>
                  <a:lnTo>
                    <a:pt x="55156" y="225189"/>
                  </a:lnTo>
                  <a:lnTo>
                    <a:pt x="48624" y="226325"/>
                  </a:lnTo>
                  <a:lnTo>
                    <a:pt x="42576" y="227082"/>
                  </a:lnTo>
                  <a:lnTo>
                    <a:pt x="36004" y="227587"/>
                  </a:lnTo>
                  <a:lnTo>
                    <a:pt x="29083" y="227923"/>
                  </a:lnTo>
                  <a:lnTo>
                    <a:pt x="21929" y="228147"/>
                  </a:lnTo>
                  <a:lnTo>
                    <a:pt x="16313" y="227450"/>
                  </a:lnTo>
                  <a:lnTo>
                    <a:pt x="11722" y="226139"/>
                  </a:lnTo>
                  <a:lnTo>
                    <a:pt x="7815" y="224418"/>
                  </a:lnTo>
                  <a:lnTo>
                    <a:pt x="5210" y="222424"/>
                  </a:lnTo>
                  <a:lnTo>
                    <a:pt x="3474" y="220248"/>
                  </a:lnTo>
                  <a:lnTo>
                    <a:pt x="0" y="21335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556"/>
            <p:cNvSpPr/>
            <p:nvPr/>
          </p:nvSpPr>
          <p:spPr>
            <a:xfrm>
              <a:off x="7459560" y="2408040"/>
              <a:ext cx="91440" cy="75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1">
                  <a:moveTo>
                    <a:pt x="0" y="0"/>
                  </a:moveTo>
                  <a:lnTo>
                    <a:pt x="14651" y="0"/>
                  </a:lnTo>
                  <a:lnTo>
                    <a:pt x="19081" y="847"/>
                  </a:lnTo>
                  <a:lnTo>
                    <a:pt x="23727" y="2258"/>
                  </a:lnTo>
                  <a:lnTo>
                    <a:pt x="28518" y="4046"/>
                  </a:lnTo>
                  <a:lnTo>
                    <a:pt x="34252" y="5237"/>
                  </a:lnTo>
                  <a:lnTo>
                    <a:pt x="40614" y="6031"/>
                  </a:lnTo>
                  <a:lnTo>
                    <a:pt x="47396" y="6561"/>
                  </a:lnTo>
                  <a:lnTo>
                    <a:pt x="53611" y="6914"/>
                  </a:lnTo>
                  <a:lnTo>
                    <a:pt x="65031" y="7306"/>
                  </a:lnTo>
                  <a:lnTo>
                    <a:pt x="9144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557"/>
            <p:cNvSpPr/>
            <p:nvPr/>
          </p:nvSpPr>
          <p:spPr>
            <a:xfrm>
              <a:off x="7741440" y="2377440"/>
              <a:ext cx="218880" cy="1825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8879" h="182853">
                  <a:moveTo>
                    <a:pt x="0" y="7592"/>
                  </a:moveTo>
                  <a:lnTo>
                    <a:pt x="4045" y="7592"/>
                  </a:lnTo>
                  <a:lnTo>
                    <a:pt x="10547" y="5334"/>
                  </a:lnTo>
                  <a:lnTo>
                    <a:pt x="14651" y="3547"/>
                  </a:lnTo>
                  <a:lnTo>
                    <a:pt x="19080" y="2355"/>
                  </a:lnTo>
                  <a:lnTo>
                    <a:pt x="23726" y="1561"/>
                  </a:lnTo>
                  <a:lnTo>
                    <a:pt x="28518" y="1031"/>
                  </a:lnTo>
                  <a:lnTo>
                    <a:pt x="34251" y="678"/>
                  </a:lnTo>
                  <a:lnTo>
                    <a:pt x="47396" y="286"/>
                  </a:lnTo>
                  <a:lnTo>
                    <a:pt x="102193" y="0"/>
                  </a:lnTo>
                  <a:lnTo>
                    <a:pt x="112155" y="837"/>
                  </a:lnTo>
                  <a:lnTo>
                    <a:pt x="122184" y="2242"/>
                  </a:lnTo>
                  <a:lnTo>
                    <a:pt x="132256" y="4026"/>
                  </a:lnTo>
                  <a:lnTo>
                    <a:pt x="141510" y="5214"/>
                  </a:lnTo>
                  <a:lnTo>
                    <a:pt x="150221" y="6007"/>
                  </a:lnTo>
                  <a:lnTo>
                    <a:pt x="158568" y="6535"/>
                  </a:lnTo>
                  <a:lnTo>
                    <a:pt x="172356" y="7122"/>
                  </a:lnTo>
                  <a:lnTo>
                    <a:pt x="178404" y="7279"/>
                  </a:lnTo>
                  <a:lnTo>
                    <a:pt x="183283" y="8230"/>
                  </a:lnTo>
                  <a:lnTo>
                    <a:pt x="187382" y="9711"/>
                  </a:lnTo>
                  <a:lnTo>
                    <a:pt x="190962" y="11544"/>
                  </a:lnTo>
                  <a:lnTo>
                    <a:pt x="193348" y="13614"/>
                  </a:lnTo>
                  <a:lnTo>
                    <a:pt x="194939" y="15840"/>
                  </a:lnTo>
                  <a:lnTo>
                    <a:pt x="195999" y="18171"/>
                  </a:lnTo>
                  <a:lnTo>
                    <a:pt x="195013" y="19724"/>
                  </a:lnTo>
                  <a:lnTo>
                    <a:pt x="192662" y="20760"/>
                  </a:lnTo>
                  <a:lnTo>
                    <a:pt x="189401" y="21451"/>
                  </a:lnTo>
                  <a:lnTo>
                    <a:pt x="185535" y="22758"/>
                  </a:lnTo>
                  <a:lnTo>
                    <a:pt x="181262" y="24476"/>
                  </a:lnTo>
                  <a:lnTo>
                    <a:pt x="176722" y="26468"/>
                  </a:lnTo>
                  <a:lnTo>
                    <a:pt x="170308" y="28643"/>
                  </a:lnTo>
                  <a:lnTo>
                    <a:pt x="162645" y="30939"/>
                  </a:lnTo>
                  <a:lnTo>
                    <a:pt x="145100" y="35749"/>
                  </a:lnTo>
                  <a:lnTo>
                    <a:pt x="126014" y="40708"/>
                  </a:lnTo>
                  <a:lnTo>
                    <a:pt x="116183" y="42370"/>
                  </a:lnTo>
                  <a:lnTo>
                    <a:pt x="106242" y="43477"/>
                  </a:lnTo>
                  <a:lnTo>
                    <a:pt x="96228" y="44216"/>
                  </a:lnTo>
                  <a:lnTo>
                    <a:pt x="87012" y="45554"/>
                  </a:lnTo>
                  <a:lnTo>
                    <a:pt x="78327" y="47294"/>
                  </a:lnTo>
                  <a:lnTo>
                    <a:pt x="69998" y="49300"/>
                  </a:lnTo>
                  <a:lnTo>
                    <a:pt x="62752" y="51484"/>
                  </a:lnTo>
                  <a:lnTo>
                    <a:pt x="56228" y="53787"/>
                  </a:lnTo>
                  <a:lnTo>
                    <a:pt x="50185" y="56168"/>
                  </a:lnTo>
                  <a:lnTo>
                    <a:pt x="46157" y="58603"/>
                  </a:lnTo>
                  <a:lnTo>
                    <a:pt x="43471" y="61073"/>
                  </a:lnTo>
                  <a:lnTo>
                    <a:pt x="41680" y="63566"/>
                  </a:lnTo>
                  <a:lnTo>
                    <a:pt x="41334" y="65228"/>
                  </a:lnTo>
                  <a:lnTo>
                    <a:pt x="41948" y="66336"/>
                  </a:lnTo>
                  <a:lnTo>
                    <a:pt x="45738" y="68414"/>
                  </a:lnTo>
                  <a:lnTo>
                    <a:pt x="53065" y="72160"/>
                  </a:lnTo>
                  <a:lnTo>
                    <a:pt x="58237" y="75190"/>
                  </a:lnTo>
                  <a:lnTo>
                    <a:pt x="70756" y="83074"/>
                  </a:lnTo>
                  <a:lnTo>
                    <a:pt x="78497" y="86700"/>
                  </a:lnTo>
                  <a:lnTo>
                    <a:pt x="87045" y="89964"/>
                  </a:lnTo>
                  <a:lnTo>
                    <a:pt x="96130" y="92987"/>
                  </a:lnTo>
                  <a:lnTo>
                    <a:pt x="106420" y="95848"/>
                  </a:lnTo>
                  <a:lnTo>
                    <a:pt x="117513" y="98603"/>
                  </a:lnTo>
                  <a:lnTo>
                    <a:pt x="129142" y="101286"/>
                  </a:lnTo>
                  <a:lnTo>
                    <a:pt x="139435" y="104768"/>
                  </a:lnTo>
                  <a:lnTo>
                    <a:pt x="148836" y="108783"/>
                  </a:lnTo>
                  <a:lnTo>
                    <a:pt x="157644" y="113153"/>
                  </a:lnTo>
                  <a:lnTo>
                    <a:pt x="166056" y="116912"/>
                  </a:lnTo>
                  <a:lnTo>
                    <a:pt x="174205" y="120266"/>
                  </a:lnTo>
                  <a:lnTo>
                    <a:pt x="182176" y="123348"/>
                  </a:lnTo>
                  <a:lnTo>
                    <a:pt x="189184" y="126249"/>
                  </a:lnTo>
                  <a:lnTo>
                    <a:pt x="195549" y="129030"/>
                  </a:lnTo>
                  <a:lnTo>
                    <a:pt x="201487" y="131731"/>
                  </a:lnTo>
                  <a:lnTo>
                    <a:pt x="206291" y="134378"/>
                  </a:lnTo>
                  <a:lnTo>
                    <a:pt x="210341" y="136989"/>
                  </a:lnTo>
                  <a:lnTo>
                    <a:pt x="213887" y="139577"/>
                  </a:lnTo>
                  <a:lnTo>
                    <a:pt x="216251" y="142149"/>
                  </a:lnTo>
                  <a:lnTo>
                    <a:pt x="217827" y="144710"/>
                  </a:lnTo>
                  <a:lnTo>
                    <a:pt x="218878" y="147264"/>
                  </a:lnTo>
                  <a:lnTo>
                    <a:pt x="217886" y="149813"/>
                  </a:lnTo>
                  <a:lnTo>
                    <a:pt x="215530" y="152360"/>
                  </a:lnTo>
                  <a:lnTo>
                    <a:pt x="212267" y="154904"/>
                  </a:lnTo>
                  <a:lnTo>
                    <a:pt x="207551" y="157446"/>
                  </a:lnTo>
                  <a:lnTo>
                    <a:pt x="201867" y="159989"/>
                  </a:lnTo>
                  <a:lnTo>
                    <a:pt x="195538" y="162530"/>
                  </a:lnTo>
                  <a:lnTo>
                    <a:pt x="181732" y="167611"/>
                  </a:lnTo>
                  <a:lnTo>
                    <a:pt x="174494" y="170152"/>
                  </a:lnTo>
                  <a:lnTo>
                    <a:pt x="167131" y="171845"/>
                  </a:lnTo>
                  <a:lnTo>
                    <a:pt x="159681" y="172974"/>
                  </a:lnTo>
                  <a:lnTo>
                    <a:pt x="152173" y="173727"/>
                  </a:lnTo>
                  <a:lnTo>
                    <a:pt x="143782" y="174229"/>
                  </a:lnTo>
                  <a:lnTo>
                    <a:pt x="125428" y="174786"/>
                  </a:lnTo>
                  <a:lnTo>
                    <a:pt x="96054" y="175100"/>
                  </a:lnTo>
                  <a:lnTo>
                    <a:pt x="86049" y="175991"/>
                  </a:lnTo>
                  <a:lnTo>
                    <a:pt x="75993" y="177431"/>
                  </a:lnTo>
                  <a:lnTo>
                    <a:pt x="65902" y="179238"/>
                  </a:lnTo>
                  <a:lnTo>
                    <a:pt x="57481" y="180443"/>
                  </a:lnTo>
                  <a:lnTo>
                    <a:pt x="50173" y="181246"/>
                  </a:lnTo>
                  <a:lnTo>
                    <a:pt x="30479" y="1828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558"/>
            <p:cNvSpPr/>
            <p:nvPr/>
          </p:nvSpPr>
          <p:spPr>
            <a:xfrm>
              <a:off x="5760360" y="2750760"/>
              <a:ext cx="268560" cy="2966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68738" h="296718">
                  <a:moveTo>
                    <a:pt x="7621" y="15139"/>
                  </a:moveTo>
                  <a:lnTo>
                    <a:pt x="15711" y="15139"/>
                  </a:lnTo>
                  <a:lnTo>
                    <a:pt x="19787" y="14292"/>
                  </a:lnTo>
                  <a:lnTo>
                    <a:pt x="24198" y="12881"/>
                  </a:lnTo>
                  <a:lnTo>
                    <a:pt x="28832" y="11094"/>
                  </a:lnTo>
                  <a:lnTo>
                    <a:pt x="35308" y="9902"/>
                  </a:lnTo>
                  <a:lnTo>
                    <a:pt x="43012" y="9108"/>
                  </a:lnTo>
                  <a:lnTo>
                    <a:pt x="51535" y="8578"/>
                  </a:lnTo>
                  <a:lnTo>
                    <a:pt x="60603" y="7378"/>
                  </a:lnTo>
                  <a:lnTo>
                    <a:pt x="70035" y="5732"/>
                  </a:lnTo>
                  <a:lnTo>
                    <a:pt x="79710" y="3788"/>
                  </a:lnTo>
                  <a:lnTo>
                    <a:pt x="90394" y="2491"/>
                  </a:lnTo>
                  <a:lnTo>
                    <a:pt x="101749" y="1627"/>
                  </a:lnTo>
                  <a:lnTo>
                    <a:pt x="113553" y="1051"/>
                  </a:lnTo>
                  <a:lnTo>
                    <a:pt x="135700" y="411"/>
                  </a:lnTo>
                  <a:lnTo>
                    <a:pt x="173466" y="0"/>
                  </a:lnTo>
                  <a:lnTo>
                    <a:pt x="180838" y="813"/>
                  </a:lnTo>
                  <a:lnTo>
                    <a:pt x="187445" y="2202"/>
                  </a:lnTo>
                  <a:lnTo>
                    <a:pt x="193543" y="3974"/>
                  </a:lnTo>
                  <a:lnTo>
                    <a:pt x="199303" y="5156"/>
                  </a:lnTo>
                  <a:lnTo>
                    <a:pt x="204834" y="5944"/>
                  </a:lnTo>
                  <a:lnTo>
                    <a:pt x="210217" y="6469"/>
                  </a:lnTo>
                  <a:lnTo>
                    <a:pt x="213804" y="7665"/>
                  </a:lnTo>
                  <a:lnTo>
                    <a:pt x="216197" y="9310"/>
                  </a:lnTo>
                  <a:lnTo>
                    <a:pt x="217791" y="11253"/>
                  </a:lnTo>
                  <a:lnTo>
                    <a:pt x="218008" y="14242"/>
                  </a:lnTo>
                  <a:lnTo>
                    <a:pt x="215990" y="22078"/>
                  </a:lnTo>
                  <a:lnTo>
                    <a:pt x="213420" y="25692"/>
                  </a:lnTo>
                  <a:lnTo>
                    <a:pt x="206049" y="31964"/>
                  </a:lnTo>
                  <a:lnTo>
                    <a:pt x="194871" y="39833"/>
                  </a:lnTo>
                  <a:lnTo>
                    <a:pt x="188334" y="44301"/>
                  </a:lnTo>
                  <a:lnTo>
                    <a:pt x="181436" y="48127"/>
                  </a:lnTo>
                  <a:lnTo>
                    <a:pt x="174297" y="51525"/>
                  </a:lnTo>
                  <a:lnTo>
                    <a:pt x="166998" y="54636"/>
                  </a:lnTo>
                  <a:lnTo>
                    <a:pt x="149857" y="62609"/>
                  </a:lnTo>
                  <a:lnTo>
                    <a:pt x="140545" y="67106"/>
                  </a:lnTo>
                  <a:lnTo>
                    <a:pt x="131797" y="71797"/>
                  </a:lnTo>
                  <a:lnTo>
                    <a:pt x="123425" y="76617"/>
                  </a:lnTo>
                  <a:lnTo>
                    <a:pt x="115303" y="81525"/>
                  </a:lnTo>
                  <a:lnTo>
                    <a:pt x="107349" y="85643"/>
                  </a:lnTo>
                  <a:lnTo>
                    <a:pt x="99506" y="89235"/>
                  </a:lnTo>
                  <a:lnTo>
                    <a:pt x="91738" y="92476"/>
                  </a:lnTo>
                  <a:lnTo>
                    <a:pt x="85712" y="95484"/>
                  </a:lnTo>
                  <a:lnTo>
                    <a:pt x="80848" y="98336"/>
                  </a:lnTo>
                  <a:lnTo>
                    <a:pt x="76759" y="101083"/>
                  </a:lnTo>
                  <a:lnTo>
                    <a:pt x="74032" y="103762"/>
                  </a:lnTo>
                  <a:lnTo>
                    <a:pt x="72215" y="106394"/>
                  </a:lnTo>
                  <a:lnTo>
                    <a:pt x="71003" y="108996"/>
                  </a:lnTo>
                  <a:lnTo>
                    <a:pt x="71043" y="111577"/>
                  </a:lnTo>
                  <a:lnTo>
                    <a:pt x="71915" y="114144"/>
                  </a:lnTo>
                  <a:lnTo>
                    <a:pt x="73343" y="116703"/>
                  </a:lnTo>
                  <a:lnTo>
                    <a:pt x="75989" y="118408"/>
                  </a:lnTo>
                  <a:lnTo>
                    <a:pt x="83444" y="120303"/>
                  </a:lnTo>
                  <a:lnTo>
                    <a:pt x="96917" y="123403"/>
                  </a:lnTo>
                  <a:lnTo>
                    <a:pt x="105252" y="125415"/>
                  </a:lnTo>
                  <a:lnTo>
                    <a:pt x="169442" y="139692"/>
                  </a:lnTo>
                  <a:lnTo>
                    <a:pt x="231075" y="154847"/>
                  </a:lnTo>
                  <a:lnTo>
                    <a:pt x="239564" y="158231"/>
                  </a:lnTo>
                  <a:lnTo>
                    <a:pt x="246916" y="162180"/>
                  </a:lnTo>
                  <a:lnTo>
                    <a:pt x="253511" y="166507"/>
                  </a:lnTo>
                  <a:lnTo>
                    <a:pt x="258753" y="171084"/>
                  </a:lnTo>
                  <a:lnTo>
                    <a:pt x="263096" y="175829"/>
                  </a:lnTo>
                  <a:lnTo>
                    <a:pt x="266837" y="180686"/>
                  </a:lnTo>
                  <a:lnTo>
                    <a:pt x="268485" y="184770"/>
                  </a:lnTo>
                  <a:lnTo>
                    <a:pt x="268737" y="188340"/>
                  </a:lnTo>
                  <a:lnTo>
                    <a:pt x="266759" y="195411"/>
                  </a:lnTo>
                  <a:lnTo>
                    <a:pt x="263057" y="204197"/>
                  </a:lnTo>
                  <a:lnTo>
                    <a:pt x="259191" y="208911"/>
                  </a:lnTo>
                  <a:lnTo>
                    <a:pt x="254074" y="213747"/>
                  </a:lnTo>
                  <a:lnTo>
                    <a:pt x="248123" y="218665"/>
                  </a:lnTo>
                  <a:lnTo>
                    <a:pt x="241616" y="223636"/>
                  </a:lnTo>
                  <a:lnTo>
                    <a:pt x="234737" y="228644"/>
                  </a:lnTo>
                  <a:lnTo>
                    <a:pt x="220321" y="238723"/>
                  </a:lnTo>
                  <a:lnTo>
                    <a:pt x="205447" y="248847"/>
                  </a:lnTo>
                  <a:lnTo>
                    <a:pt x="197079" y="253071"/>
                  </a:lnTo>
                  <a:lnTo>
                    <a:pt x="188113" y="256734"/>
                  </a:lnTo>
                  <a:lnTo>
                    <a:pt x="178748" y="260023"/>
                  </a:lnTo>
                  <a:lnTo>
                    <a:pt x="169119" y="263908"/>
                  </a:lnTo>
                  <a:lnTo>
                    <a:pt x="159313" y="268192"/>
                  </a:lnTo>
                  <a:lnTo>
                    <a:pt x="149389" y="272741"/>
                  </a:lnTo>
                  <a:lnTo>
                    <a:pt x="139386" y="276620"/>
                  </a:lnTo>
                  <a:lnTo>
                    <a:pt x="129331" y="280053"/>
                  </a:lnTo>
                  <a:lnTo>
                    <a:pt x="119240" y="283189"/>
                  </a:lnTo>
                  <a:lnTo>
                    <a:pt x="109127" y="285279"/>
                  </a:lnTo>
                  <a:lnTo>
                    <a:pt x="98998" y="286672"/>
                  </a:lnTo>
                  <a:lnTo>
                    <a:pt x="88859" y="287601"/>
                  </a:lnTo>
                  <a:lnTo>
                    <a:pt x="79560" y="289067"/>
                  </a:lnTo>
                  <a:lnTo>
                    <a:pt x="70820" y="290891"/>
                  </a:lnTo>
                  <a:lnTo>
                    <a:pt x="62453" y="292954"/>
                  </a:lnTo>
                  <a:lnTo>
                    <a:pt x="54336" y="294329"/>
                  </a:lnTo>
                  <a:lnTo>
                    <a:pt x="46384" y="295246"/>
                  </a:lnTo>
                  <a:lnTo>
                    <a:pt x="32469" y="296264"/>
                  </a:lnTo>
                  <a:lnTo>
                    <a:pt x="23461" y="296717"/>
                  </a:lnTo>
                  <a:lnTo>
                    <a:pt x="19874" y="295991"/>
                  </a:lnTo>
                  <a:lnTo>
                    <a:pt x="10780" y="291771"/>
                  </a:lnTo>
                  <a:lnTo>
                    <a:pt x="8034" y="291000"/>
                  </a:lnTo>
                  <a:lnTo>
                    <a:pt x="0" y="2894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559"/>
            <p:cNvSpPr/>
            <p:nvPr/>
          </p:nvSpPr>
          <p:spPr>
            <a:xfrm>
              <a:off x="6057720" y="2873880"/>
              <a:ext cx="372960" cy="16632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66320"/>
                <a:gd name="textAreaBottom" fmla="*/ 166320 h 166320"/>
              </a:gdLst>
              <a:ahLst/>
              <a:rect l="textAreaLeft" t="textAreaTop" r="textAreaRight" b="textAreaBottom"/>
              <a:pathLst>
                <a:path w="373211" h="166472">
                  <a:moveTo>
                    <a:pt x="60790" y="36931"/>
                  </a:moveTo>
                  <a:lnTo>
                    <a:pt x="60790" y="30370"/>
                  </a:lnTo>
                  <a:lnTo>
                    <a:pt x="63048" y="25266"/>
                  </a:lnTo>
                  <a:lnTo>
                    <a:pt x="67351" y="16282"/>
                  </a:lnTo>
                  <a:lnTo>
                    <a:pt x="67940" y="12796"/>
                  </a:lnTo>
                  <a:lnTo>
                    <a:pt x="68317" y="7705"/>
                  </a:lnTo>
                  <a:lnTo>
                    <a:pt x="68383" y="2777"/>
                  </a:lnTo>
                  <a:lnTo>
                    <a:pt x="68401" y="0"/>
                  </a:lnTo>
                  <a:lnTo>
                    <a:pt x="67558" y="457"/>
                  </a:lnTo>
                  <a:lnTo>
                    <a:pt x="62325" y="5146"/>
                  </a:lnTo>
                  <a:lnTo>
                    <a:pt x="54566" y="12743"/>
                  </a:lnTo>
                  <a:lnTo>
                    <a:pt x="32365" y="34885"/>
                  </a:lnTo>
                  <a:lnTo>
                    <a:pt x="27447" y="40647"/>
                  </a:lnTo>
                  <a:lnTo>
                    <a:pt x="22474" y="47028"/>
                  </a:lnTo>
                  <a:lnTo>
                    <a:pt x="17467" y="53823"/>
                  </a:lnTo>
                  <a:lnTo>
                    <a:pt x="13281" y="60046"/>
                  </a:lnTo>
                  <a:lnTo>
                    <a:pt x="9644" y="65887"/>
                  </a:lnTo>
                  <a:lnTo>
                    <a:pt x="6373" y="71475"/>
                  </a:lnTo>
                  <a:lnTo>
                    <a:pt x="4191" y="77740"/>
                  </a:lnTo>
                  <a:lnTo>
                    <a:pt x="2738" y="84457"/>
                  </a:lnTo>
                  <a:lnTo>
                    <a:pt x="1768" y="91475"/>
                  </a:lnTo>
                  <a:lnTo>
                    <a:pt x="1123" y="97001"/>
                  </a:lnTo>
                  <a:lnTo>
                    <a:pt x="691" y="101531"/>
                  </a:lnTo>
                  <a:lnTo>
                    <a:pt x="404" y="105398"/>
                  </a:lnTo>
                  <a:lnTo>
                    <a:pt x="213" y="108822"/>
                  </a:lnTo>
                  <a:lnTo>
                    <a:pt x="0" y="114885"/>
                  </a:lnTo>
                  <a:lnTo>
                    <a:pt x="1637" y="117687"/>
                  </a:lnTo>
                  <a:lnTo>
                    <a:pt x="4421" y="120402"/>
                  </a:lnTo>
                  <a:lnTo>
                    <a:pt x="7971" y="123058"/>
                  </a:lnTo>
                  <a:lnTo>
                    <a:pt x="11184" y="125676"/>
                  </a:lnTo>
                  <a:lnTo>
                    <a:pt x="17012" y="130842"/>
                  </a:lnTo>
                  <a:lnTo>
                    <a:pt x="21445" y="131712"/>
                  </a:lnTo>
                  <a:lnTo>
                    <a:pt x="26940" y="131445"/>
                  </a:lnTo>
                  <a:lnTo>
                    <a:pt x="33143" y="130420"/>
                  </a:lnTo>
                  <a:lnTo>
                    <a:pt x="44551" y="127024"/>
                  </a:lnTo>
                  <a:lnTo>
                    <a:pt x="56113" y="122692"/>
                  </a:lnTo>
                  <a:lnTo>
                    <a:pt x="69718" y="117945"/>
                  </a:lnTo>
                  <a:lnTo>
                    <a:pt x="76056" y="115494"/>
                  </a:lnTo>
                  <a:lnTo>
                    <a:pt x="87612" y="110512"/>
                  </a:lnTo>
                  <a:lnTo>
                    <a:pt x="93065" y="107152"/>
                  </a:lnTo>
                  <a:lnTo>
                    <a:pt x="98394" y="103218"/>
                  </a:lnTo>
                  <a:lnTo>
                    <a:pt x="103638" y="98903"/>
                  </a:lnTo>
                  <a:lnTo>
                    <a:pt x="107982" y="95179"/>
                  </a:lnTo>
                  <a:lnTo>
                    <a:pt x="111724" y="91850"/>
                  </a:lnTo>
                  <a:lnTo>
                    <a:pt x="115067" y="88783"/>
                  </a:lnTo>
                  <a:lnTo>
                    <a:pt x="117295" y="85046"/>
                  </a:lnTo>
                  <a:lnTo>
                    <a:pt x="118779" y="80861"/>
                  </a:lnTo>
                  <a:lnTo>
                    <a:pt x="119770" y="76378"/>
                  </a:lnTo>
                  <a:lnTo>
                    <a:pt x="121276" y="72542"/>
                  </a:lnTo>
                  <a:lnTo>
                    <a:pt x="123128" y="69138"/>
                  </a:lnTo>
                  <a:lnTo>
                    <a:pt x="128137" y="61638"/>
                  </a:lnTo>
                  <a:lnTo>
                    <a:pt x="129395" y="61022"/>
                  </a:lnTo>
                  <a:lnTo>
                    <a:pt x="136644" y="59839"/>
                  </a:lnTo>
                  <a:lnTo>
                    <a:pt x="136888" y="63851"/>
                  </a:lnTo>
                  <a:lnTo>
                    <a:pt x="137768" y="66730"/>
                  </a:lnTo>
                  <a:lnTo>
                    <a:pt x="139203" y="70344"/>
                  </a:lnTo>
                  <a:lnTo>
                    <a:pt x="141005" y="74446"/>
                  </a:lnTo>
                  <a:lnTo>
                    <a:pt x="145266" y="83520"/>
                  </a:lnTo>
                  <a:lnTo>
                    <a:pt x="147587" y="88311"/>
                  </a:lnTo>
                  <a:lnTo>
                    <a:pt x="150828" y="92351"/>
                  </a:lnTo>
                  <a:lnTo>
                    <a:pt x="154683" y="95891"/>
                  </a:lnTo>
                  <a:lnTo>
                    <a:pt x="158945" y="99097"/>
                  </a:lnTo>
                  <a:lnTo>
                    <a:pt x="170454" y="107176"/>
                  </a:lnTo>
                  <a:lnTo>
                    <a:pt x="198540" y="126160"/>
                  </a:lnTo>
                  <a:lnTo>
                    <a:pt x="206810" y="130284"/>
                  </a:lnTo>
                  <a:lnTo>
                    <a:pt x="215709" y="133880"/>
                  </a:lnTo>
                  <a:lnTo>
                    <a:pt x="250282" y="145734"/>
                  </a:lnTo>
                  <a:lnTo>
                    <a:pt x="259085" y="148413"/>
                  </a:lnTo>
                  <a:lnTo>
                    <a:pt x="277897" y="153647"/>
                  </a:lnTo>
                  <a:lnTo>
                    <a:pt x="307528" y="161354"/>
                  </a:lnTo>
                  <a:lnTo>
                    <a:pt x="316722" y="163060"/>
                  </a:lnTo>
                  <a:lnTo>
                    <a:pt x="325392" y="164197"/>
                  </a:lnTo>
                  <a:lnTo>
                    <a:pt x="333711" y="164955"/>
                  </a:lnTo>
                  <a:lnTo>
                    <a:pt x="340951" y="165460"/>
                  </a:lnTo>
                  <a:lnTo>
                    <a:pt x="347470" y="165797"/>
                  </a:lnTo>
                  <a:lnTo>
                    <a:pt x="362478" y="166271"/>
                  </a:lnTo>
                  <a:lnTo>
                    <a:pt x="373210" y="16647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560"/>
            <p:cNvSpPr/>
            <p:nvPr/>
          </p:nvSpPr>
          <p:spPr>
            <a:xfrm>
              <a:off x="6446160" y="288036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6561" y="16299"/>
                  </a:lnTo>
                  <a:lnTo>
                    <a:pt x="9407" y="15711"/>
                  </a:lnTo>
                  <a:lnTo>
                    <a:pt x="11352" y="15554"/>
                  </a:lnTo>
                  <a:lnTo>
                    <a:pt x="15188" y="14603"/>
                  </a:lnTo>
                  <a:lnTo>
                    <a:pt x="20286" y="13122"/>
                  </a:lnTo>
                  <a:lnTo>
                    <a:pt x="26224" y="11288"/>
                  </a:lnTo>
                  <a:lnTo>
                    <a:pt x="31876" y="9218"/>
                  </a:lnTo>
                  <a:lnTo>
                    <a:pt x="37337" y="6992"/>
                  </a:lnTo>
                  <a:lnTo>
                    <a:pt x="42672" y="4662"/>
                  </a:lnTo>
                  <a:lnTo>
                    <a:pt x="50461" y="3108"/>
                  </a:lnTo>
                  <a:lnTo>
                    <a:pt x="59888" y="2072"/>
                  </a:lnTo>
                  <a:lnTo>
                    <a:pt x="70405" y="1382"/>
                  </a:lnTo>
                  <a:lnTo>
                    <a:pt x="88865" y="614"/>
                  </a:lnTo>
                  <a:lnTo>
                    <a:pt x="106382" y="273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561"/>
            <p:cNvSpPr/>
            <p:nvPr/>
          </p:nvSpPr>
          <p:spPr>
            <a:xfrm>
              <a:off x="6522120" y="2910600"/>
              <a:ext cx="144720" cy="216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44781" h="21773">
                  <a:moveTo>
                    <a:pt x="0" y="0"/>
                  </a:moveTo>
                  <a:lnTo>
                    <a:pt x="0" y="7306"/>
                  </a:lnTo>
                  <a:lnTo>
                    <a:pt x="847" y="8257"/>
                  </a:lnTo>
                  <a:lnTo>
                    <a:pt x="4046" y="11573"/>
                  </a:lnTo>
                  <a:lnTo>
                    <a:pt x="6084" y="12795"/>
                  </a:lnTo>
                  <a:lnTo>
                    <a:pt x="8289" y="13610"/>
                  </a:lnTo>
                  <a:lnTo>
                    <a:pt x="10606" y="14153"/>
                  </a:lnTo>
                  <a:lnTo>
                    <a:pt x="13844" y="14516"/>
                  </a:lnTo>
                  <a:lnTo>
                    <a:pt x="17696" y="14757"/>
                  </a:lnTo>
                  <a:lnTo>
                    <a:pt x="21958" y="14918"/>
                  </a:lnTo>
                  <a:lnTo>
                    <a:pt x="27338" y="15872"/>
                  </a:lnTo>
                  <a:lnTo>
                    <a:pt x="33466" y="17355"/>
                  </a:lnTo>
                  <a:lnTo>
                    <a:pt x="40091" y="19190"/>
                  </a:lnTo>
                  <a:lnTo>
                    <a:pt x="47894" y="20413"/>
                  </a:lnTo>
                  <a:lnTo>
                    <a:pt x="56482" y="21229"/>
                  </a:lnTo>
                  <a:lnTo>
                    <a:pt x="65596" y="21772"/>
                  </a:lnTo>
                  <a:lnTo>
                    <a:pt x="74211" y="21288"/>
                  </a:lnTo>
                  <a:lnTo>
                    <a:pt x="82494" y="20119"/>
                  </a:lnTo>
                  <a:lnTo>
                    <a:pt x="90556" y="18493"/>
                  </a:lnTo>
                  <a:lnTo>
                    <a:pt x="97624" y="17409"/>
                  </a:lnTo>
                  <a:lnTo>
                    <a:pt x="104029" y="16685"/>
                  </a:lnTo>
                  <a:lnTo>
                    <a:pt x="109993" y="16204"/>
                  </a:lnTo>
                  <a:lnTo>
                    <a:pt x="116509" y="15883"/>
                  </a:lnTo>
                  <a:lnTo>
                    <a:pt x="14478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562"/>
            <p:cNvSpPr/>
            <p:nvPr/>
          </p:nvSpPr>
          <p:spPr>
            <a:xfrm>
              <a:off x="6817320" y="2759760"/>
              <a:ext cx="198720" cy="215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8735" h="215786">
                  <a:moveTo>
                    <a:pt x="25180" y="44289"/>
                  </a:moveTo>
                  <a:lnTo>
                    <a:pt x="35786" y="33683"/>
                  </a:lnTo>
                  <a:lnTo>
                    <a:pt x="38178" y="32138"/>
                  </a:lnTo>
                  <a:lnTo>
                    <a:pt x="43093" y="30422"/>
                  </a:lnTo>
                  <a:lnTo>
                    <a:pt x="46435" y="28271"/>
                  </a:lnTo>
                  <a:lnTo>
                    <a:pt x="50357" y="25144"/>
                  </a:lnTo>
                  <a:lnTo>
                    <a:pt x="54665" y="21366"/>
                  </a:lnTo>
                  <a:lnTo>
                    <a:pt x="60076" y="18847"/>
                  </a:lnTo>
                  <a:lnTo>
                    <a:pt x="66225" y="17168"/>
                  </a:lnTo>
                  <a:lnTo>
                    <a:pt x="72863" y="16048"/>
                  </a:lnTo>
                  <a:lnTo>
                    <a:pt x="80675" y="14455"/>
                  </a:lnTo>
                  <a:lnTo>
                    <a:pt x="98387" y="10427"/>
                  </a:lnTo>
                  <a:lnTo>
                    <a:pt x="107005" y="8168"/>
                  </a:lnTo>
                  <a:lnTo>
                    <a:pt x="115290" y="5815"/>
                  </a:lnTo>
                  <a:lnTo>
                    <a:pt x="123354" y="3400"/>
                  </a:lnTo>
                  <a:lnTo>
                    <a:pt x="132116" y="1790"/>
                  </a:lnTo>
                  <a:lnTo>
                    <a:pt x="141344" y="716"/>
                  </a:lnTo>
                  <a:lnTo>
                    <a:pt x="150882" y="0"/>
                  </a:lnTo>
                  <a:lnTo>
                    <a:pt x="158934" y="370"/>
                  </a:lnTo>
                  <a:lnTo>
                    <a:pt x="165998" y="1463"/>
                  </a:lnTo>
                  <a:lnTo>
                    <a:pt x="172398" y="3038"/>
                  </a:lnTo>
                  <a:lnTo>
                    <a:pt x="177512" y="4089"/>
                  </a:lnTo>
                  <a:lnTo>
                    <a:pt x="181768" y="4789"/>
                  </a:lnTo>
                  <a:lnTo>
                    <a:pt x="185452" y="5256"/>
                  </a:lnTo>
                  <a:lnTo>
                    <a:pt x="188754" y="6413"/>
                  </a:lnTo>
                  <a:lnTo>
                    <a:pt x="194683" y="9958"/>
                  </a:lnTo>
                  <a:lnTo>
                    <a:pt x="196601" y="12088"/>
                  </a:lnTo>
                  <a:lnTo>
                    <a:pt x="197881" y="14355"/>
                  </a:lnTo>
                  <a:lnTo>
                    <a:pt x="198734" y="16713"/>
                  </a:lnTo>
                  <a:lnTo>
                    <a:pt x="197610" y="19132"/>
                  </a:lnTo>
                  <a:lnTo>
                    <a:pt x="191844" y="24077"/>
                  </a:lnTo>
                  <a:lnTo>
                    <a:pt x="187937" y="27428"/>
                  </a:lnTo>
                  <a:lnTo>
                    <a:pt x="183638" y="31355"/>
                  </a:lnTo>
                  <a:lnTo>
                    <a:pt x="179079" y="35667"/>
                  </a:lnTo>
                  <a:lnTo>
                    <a:pt x="173499" y="40234"/>
                  </a:lnTo>
                  <a:lnTo>
                    <a:pt x="167239" y="44973"/>
                  </a:lnTo>
                  <a:lnTo>
                    <a:pt x="160527" y="49825"/>
                  </a:lnTo>
                  <a:lnTo>
                    <a:pt x="153511" y="55599"/>
                  </a:lnTo>
                  <a:lnTo>
                    <a:pt x="146293" y="61989"/>
                  </a:lnTo>
                  <a:lnTo>
                    <a:pt x="138943" y="68789"/>
                  </a:lnTo>
                  <a:lnTo>
                    <a:pt x="130656" y="75016"/>
                  </a:lnTo>
                  <a:lnTo>
                    <a:pt x="121744" y="80860"/>
                  </a:lnTo>
                  <a:lnTo>
                    <a:pt x="112416" y="86450"/>
                  </a:lnTo>
                  <a:lnTo>
                    <a:pt x="102811" y="92717"/>
                  </a:lnTo>
                  <a:lnTo>
                    <a:pt x="93020" y="99434"/>
                  </a:lnTo>
                  <a:lnTo>
                    <a:pt x="83107" y="106452"/>
                  </a:lnTo>
                  <a:lnTo>
                    <a:pt x="73111" y="112825"/>
                  </a:lnTo>
                  <a:lnTo>
                    <a:pt x="63060" y="118766"/>
                  </a:lnTo>
                  <a:lnTo>
                    <a:pt x="52974" y="124420"/>
                  </a:lnTo>
                  <a:lnTo>
                    <a:pt x="44556" y="130730"/>
                  </a:lnTo>
                  <a:lnTo>
                    <a:pt x="37251" y="137477"/>
                  </a:lnTo>
                  <a:lnTo>
                    <a:pt x="24618" y="150899"/>
                  </a:lnTo>
                  <a:lnTo>
                    <a:pt x="13360" y="162509"/>
                  </a:lnTo>
                  <a:lnTo>
                    <a:pt x="8833" y="167976"/>
                  </a:lnTo>
                  <a:lnTo>
                    <a:pt x="4968" y="173314"/>
                  </a:lnTo>
                  <a:lnTo>
                    <a:pt x="1546" y="178565"/>
                  </a:lnTo>
                  <a:lnTo>
                    <a:pt x="110" y="182913"/>
                  </a:lnTo>
                  <a:lnTo>
                    <a:pt x="0" y="186659"/>
                  </a:lnTo>
                  <a:lnTo>
                    <a:pt x="773" y="190002"/>
                  </a:lnTo>
                  <a:lnTo>
                    <a:pt x="2136" y="193924"/>
                  </a:lnTo>
                  <a:lnTo>
                    <a:pt x="3890" y="198233"/>
                  </a:lnTo>
                  <a:lnTo>
                    <a:pt x="5907" y="202798"/>
                  </a:lnTo>
                  <a:lnTo>
                    <a:pt x="9791" y="205842"/>
                  </a:lnTo>
                  <a:lnTo>
                    <a:pt x="14921" y="207871"/>
                  </a:lnTo>
                  <a:lnTo>
                    <a:pt x="20881" y="209224"/>
                  </a:lnTo>
                  <a:lnTo>
                    <a:pt x="27394" y="210972"/>
                  </a:lnTo>
                  <a:lnTo>
                    <a:pt x="41404" y="215173"/>
                  </a:lnTo>
                  <a:lnTo>
                    <a:pt x="50389" y="215785"/>
                  </a:lnTo>
                  <a:lnTo>
                    <a:pt x="60613" y="215346"/>
                  </a:lnTo>
                  <a:lnTo>
                    <a:pt x="71662" y="214207"/>
                  </a:lnTo>
                  <a:lnTo>
                    <a:pt x="84107" y="213448"/>
                  </a:lnTo>
                  <a:lnTo>
                    <a:pt x="111484" y="212604"/>
                  </a:lnTo>
                  <a:lnTo>
                    <a:pt x="162340" y="2119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563"/>
            <p:cNvSpPr/>
            <p:nvPr/>
          </p:nvSpPr>
          <p:spPr>
            <a:xfrm>
              <a:off x="7208280" y="2728080"/>
              <a:ext cx="30240" cy="281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0481" h="281941">
                  <a:moveTo>
                    <a:pt x="30480" y="0"/>
                  </a:moveTo>
                  <a:lnTo>
                    <a:pt x="30480" y="6561"/>
                  </a:lnTo>
                  <a:lnTo>
                    <a:pt x="29634" y="8607"/>
                  </a:lnTo>
                  <a:lnTo>
                    <a:pt x="26435" y="15397"/>
                  </a:lnTo>
                  <a:lnTo>
                    <a:pt x="25243" y="19578"/>
                  </a:lnTo>
                  <a:lnTo>
                    <a:pt x="24449" y="24059"/>
                  </a:lnTo>
                  <a:lnTo>
                    <a:pt x="23919" y="28739"/>
                  </a:lnTo>
                  <a:lnTo>
                    <a:pt x="22720" y="34399"/>
                  </a:lnTo>
                  <a:lnTo>
                    <a:pt x="21074" y="40713"/>
                  </a:lnTo>
                  <a:lnTo>
                    <a:pt x="19130" y="47462"/>
                  </a:lnTo>
                  <a:lnTo>
                    <a:pt x="17833" y="53655"/>
                  </a:lnTo>
                  <a:lnTo>
                    <a:pt x="16968" y="59477"/>
                  </a:lnTo>
                  <a:lnTo>
                    <a:pt x="16392" y="65051"/>
                  </a:lnTo>
                  <a:lnTo>
                    <a:pt x="15162" y="72154"/>
                  </a:lnTo>
                  <a:lnTo>
                    <a:pt x="13495" y="80276"/>
                  </a:lnTo>
                  <a:lnTo>
                    <a:pt x="11536" y="89077"/>
                  </a:lnTo>
                  <a:lnTo>
                    <a:pt x="9385" y="97485"/>
                  </a:lnTo>
                  <a:lnTo>
                    <a:pt x="7103" y="105630"/>
                  </a:lnTo>
                  <a:lnTo>
                    <a:pt x="4736" y="113600"/>
                  </a:lnTo>
                  <a:lnTo>
                    <a:pt x="3158" y="122300"/>
                  </a:lnTo>
                  <a:lnTo>
                    <a:pt x="2104" y="131487"/>
                  </a:lnTo>
                  <a:lnTo>
                    <a:pt x="1403" y="140998"/>
                  </a:lnTo>
                  <a:lnTo>
                    <a:pt x="935" y="149879"/>
                  </a:lnTo>
                  <a:lnTo>
                    <a:pt x="416" y="166520"/>
                  </a:lnTo>
                  <a:lnTo>
                    <a:pt x="82" y="198745"/>
                  </a:lnTo>
                  <a:lnTo>
                    <a:pt x="0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564"/>
            <p:cNvSpPr/>
            <p:nvPr/>
          </p:nvSpPr>
          <p:spPr>
            <a:xfrm>
              <a:off x="5722200" y="3101400"/>
              <a:ext cx="571320" cy="151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71501" h="15241">
                  <a:moveTo>
                    <a:pt x="0" y="0"/>
                  </a:moveTo>
                  <a:lnTo>
                    <a:pt x="302369" y="0"/>
                  </a:lnTo>
                  <a:lnTo>
                    <a:pt x="315879" y="847"/>
                  </a:lnTo>
                  <a:lnTo>
                    <a:pt x="329966" y="2258"/>
                  </a:lnTo>
                  <a:lnTo>
                    <a:pt x="344437" y="4045"/>
                  </a:lnTo>
                  <a:lnTo>
                    <a:pt x="357472" y="5237"/>
                  </a:lnTo>
                  <a:lnTo>
                    <a:pt x="369548" y="6031"/>
                  </a:lnTo>
                  <a:lnTo>
                    <a:pt x="380986" y="6561"/>
                  </a:lnTo>
                  <a:lnTo>
                    <a:pt x="404982" y="7150"/>
                  </a:lnTo>
                  <a:lnTo>
                    <a:pt x="520274" y="7612"/>
                  </a:lnTo>
                  <a:lnTo>
                    <a:pt x="528883" y="8461"/>
                  </a:lnTo>
                  <a:lnTo>
                    <a:pt x="536315" y="9874"/>
                  </a:lnTo>
                  <a:lnTo>
                    <a:pt x="542963" y="11663"/>
                  </a:lnTo>
                  <a:lnTo>
                    <a:pt x="549089" y="12855"/>
                  </a:lnTo>
                  <a:lnTo>
                    <a:pt x="554867" y="13650"/>
                  </a:lnTo>
                  <a:lnTo>
                    <a:pt x="57150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565"/>
            <p:cNvSpPr/>
            <p:nvPr/>
          </p:nvSpPr>
          <p:spPr>
            <a:xfrm>
              <a:off x="6590880" y="3055680"/>
              <a:ext cx="677880" cy="3780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78181" h="38101">
                  <a:moveTo>
                    <a:pt x="0" y="38100"/>
                  </a:moveTo>
                  <a:lnTo>
                    <a:pt x="36406" y="25964"/>
                  </a:lnTo>
                  <a:lnTo>
                    <a:pt x="52212" y="21543"/>
                  </a:lnTo>
                  <a:lnTo>
                    <a:pt x="67828" y="17749"/>
                  </a:lnTo>
                  <a:lnTo>
                    <a:pt x="105120" y="9621"/>
                  </a:lnTo>
                  <a:lnTo>
                    <a:pt x="117494" y="8107"/>
                  </a:lnTo>
                  <a:lnTo>
                    <a:pt x="170938" y="2779"/>
                  </a:lnTo>
                  <a:lnTo>
                    <a:pt x="189709" y="1235"/>
                  </a:lnTo>
                  <a:lnTo>
                    <a:pt x="210350" y="244"/>
                  </a:lnTo>
                  <a:lnTo>
                    <a:pt x="229119" y="919"/>
                  </a:lnTo>
                  <a:lnTo>
                    <a:pt x="234873" y="2306"/>
                  </a:lnTo>
                  <a:lnTo>
                    <a:pt x="240402" y="4078"/>
                  </a:lnTo>
                  <a:lnTo>
                    <a:pt x="253319" y="3788"/>
                  </a:lnTo>
                  <a:lnTo>
                    <a:pt x="260319" y="2525"/>
                  </a:lnTo>
                  <a:lnTo>
                    <a:pt x="267526" y="1684"/>
                  </a:lnTo>
                  <a:lnTo>
                    <a:pt x="282308" y="748"/>
                  </a:lnTo>
                  <a:lnTo>
                    <a:pt x="301859" y="333"/>
                  </a:lnTo>
                  <a:lnTo>
                    <a:pt x="588093" y="0"/>
                  </a:lnTo>
                  <a:lnTo>
                    <a:pt x="598648" y="847"/>
                  </a:lnTo>
                  <a:lnTo>
                    <a:pt x="609072" y="2258"/>
                  </a:lnTo>
                  <a:lnTo>
                    <a:pt x="619408" y="4046"/>
                  </a:lnTo>
                  <a:lnTo>
                    <a:pt x="628839" y="5237"/>
                  </a:lnTo>
                  <a:lnTo>
                    <a:pt x="637666" y="6031"/>
                  </a:lnTo>
                  <a:lnTo>
                    <a:pt x="654247" y="6914"/>
                  </a:lnTo>
                  <a:lnTo>
                    <a:pt x="674299" y="7481"/>
                  </a:lnTo>
                  <a:lnTo>
                    <a:pt x="673053" y="7527"/>
                  </a:lnTo>
                  <a:lnTo>
                    <a:pt x="673069" y="7558"/>
                  </a:lnTo>
                  <a:lnTo>
                    <a:pt x="6781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566"/>
            <p:cNvSpPr/>
            <p:nvPr/>
          </p:nvSpPr>
          <p:spPr>
            <a:xfrm>
              <a:off x="5843880" y="3169800"/>
              <a:ext cx="295920" cy="2325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96247" h="232596">
                  <a:moveTo>
                    <a:pt x="0" y="15144"/>
                  </a:moveTo>
                  <a:lnTo>
                    <a:pt x="15396" y="15144"/>
                  </a:lnTo>
                  <a:lnTo>
                    <a:pt x="20423" y="14297"/>
                  </a:lnTo>
                  <a:lnTo>
                    <a:pt x="26315" y="12886"/>
                  </a:lnTo>
                  <a:lnTo>
                    <a:pt x="32784" y="11099"/>
                  </a:lnTo>
                  <a:lnTo>
                    <a:pt x="39635" y="9907"/>
                  </a:lnTo>
                  <a:lnTo>
                    <a:pt x="46744" y="9113"/>
                  </a:lnTo>
                  <a:lnTo>
                    <a:pt x="54022" y="8583"/>
                  </a:lnTo>
                  <a:lnTo>
                    <a:pt x="62262" y="8230"/>
                  </a:lnTo>
                  <a:lnTo>
                    <a:pt x="80447" y="7838"/>
                  </a:lnTo>
                  <a:lnTo>
                    <a:pt x="90884" y="6887"/>
                  </a:lnTo>
                  <a:lnTo>
                    <a:pt x="102075" y="5406"/>
                  </a:lnTo>
                  <a:lnTo>
                    <a:pt x="113771" y="3572"/>
                  </a:lnTo>
                  <a:lnTo>
                    <a:pt x="125800" y="2349"/>
                  </a:lnTo>
                  <a:lnTo>
                    <a:pt x="138054" y="1534"/>
                  </a:lnTo>
                  <a:lnTo>
                    <a:pt x="150455" y="991"/>
                  </a:lnTo>
                  <a:lnTo>
                    <a:pt x="175524" y="387"/>
                  </a:lnTo>
                  <a:lnTo>
                    <a:pt x="218022" y="0"/>
                  </a:lnTo>
                  <a:lnTo>
                    <a:pt x="227474" y="814"/>
                  </a:lnTo>
                  <a:lnTo>
                    <a:pt x="237163" y="2205"/>
                  </a:lnTo>
                  <a:lnTo>
                    <a:pt x="247008" y="3978"/>
                  </a:lnTo>
                  <a:lnTo>
                    <a:pt x="255265" y="5160"/>
                  </a:lnTo>
                  <a:lnTo>
                    <a:pt x="262463" y="5948"/>
                  </a:lnTo>
                  <a:lnTo>
                    <a:pt x="268955" y="6473"/>
                  </a:lnTo>
                  <a:lnTo>
                    <a:pt x="274977" y="6824"/>
                  </a:lnTo>
                  <a:lnTo>
                    <a:pt x="286183" y="7213"/>
                  </a:lnTo>
                  <a:lnTo>
                    <a:pt x="289848" y="8163"/>
                  </a:lnTo>
                  <a:lnTo>
                    <a:pt x="292292" y="9644"/>
                  </a:lnTo>
                  <a:lnTo>
                    <a:pt x="293921" y="11477"/>
                  </a:lnTo>
                  <a:lnTo>
                    <a:pt x="295008" y="13546"/>
                  </a:lnTo>
                  <a:lnTo>
                    <a:pt x="296214" y="18103"/>
                  </a:lnTo>
                  <a:lnTo>
                    <a:pt x="293996" y="19657"/>
                  </a:lnTo>
                  <a:lnTo>
                    <a:pt x="284757" y="21383"/>
                  </a:lnTo>
                  <a:lnTo>
                    <a:pt x="278738" y="22690"/>
                  </a:lnTo>
                  <a:lnTo>
                    <a:pt x="272186" y="24408"/>
                  </a:lnTo>
                  <a:lnTo>
                    <a:pt x="265276" y="26400"/>
                  </a:lnTo>
                  <a:lnTo>
                    <a:pt x="250827" y="30871"/>
                  </a:lnTo>
                  <a:lnTo>
                    <a:pt x="243417" y="33249"/>
                  </a:lnTo>
                  <a:lnTo>
                    <a:pt x="235091" y="36527"/>
                  </a:lnTo>
                  <a:lnTo>
                    <a:pt x="226154" y="40406"/>
                  </a:lnTo>
                  <a:lnTo>
                    <a:pt x="216810" y="44686"/>
                  </a:lnTo>
                  <a:lnTo>
                    <a:pt x="208039" y="48385"/>
                  </a:lnTo>
                  <a:lnTo>
                    <a:pt x="199653" y="51698"/>
                  </a:lnTo>
                  <a:lnTo>
                    <a:pt x="183561" y="57637"/>
                  </a:lnTo>
                  <a:lnTo>
                    <a:pt x="167942" y="63099"/>
                  </a:lnTo>
                  <a:lnTo>
                    <a:pt x="161068" y="65741"/>
                  </a:lnTo>
                  <a:lnTo>
                    <a:pt x="154792" y="68348"/>
                  </a:lnTo>
                  <a:lnTo>
                    <a:pt x="148914" y="70933"/>
                  </a:lnTo>
                  <a:lnTo>
                    <a:pt x="140127" y="76064"/>
                  </a:lnTo>
                  <a:lnTo>
                    <a:pt x="136597" y="78617"/>
                  </a:lnTo>
                  <a:lnTo>
                    <a:pt x="134244" y="81166"/>
                  </a:lnTo>
                  <a:lnTo>
                    <a:pt x="132676" y="83712"/>
                  </a:lnTo>
                  <a:lnTo>
                    <a:pt x="131631" y="86256"/>
                  </a:lnTo>
                  <a:lnTo>
                    <a:pt x="132627" y="89645"/>
                  </a:lnTo>
                  <a:lnTo>
                    <a:pt x="134985" y="93598"/>
                  </a:lnTo>
                  <a:lnTo>
                    <a:pt x="138250" y="97927"/>
                  </a:lnTo>
                  <a:lnTo>
                    <a:pt x="142966" y="101659"/>
                  </a:lnTo>
                  <a:lnTo>
                    <a:pt x="148651" y="104994"/>
                  </a:lnTo>
                  <a:lnTo>
                    <a:pt x="154980" y="108064"/>
                  </a:lnTo>
                  <a:lnTo>
                    <a:pt x="161740" y="110958"/>
                  </a:lnTo>
                  <a:lnTo>
                    <a:pt x="168787" y="113733"/>
                  </a:lnTo>
                  <a:lnTo>
                    <a:pt x="176024" y="116430"/>
                  </a:lnTo>
                  <a:lnTo>
                    <a:pt x="184236" y="119922"/>
                  </a:lnTo>
                  <a:lnTo>
                    <a:pt x="202391" y="128316"/>
                  </a:lnTo>
                  <a:lnTo>
                    <a:pt x="211127" y="132079"/>
                  </a:lnTo>
                  <a:lnTo>
                    <a:pt x="219491" y="135434"/>
                  </a:lnTo>
                  <a:lnTo>
                    <a:pt x="227607" y="138517"/>
                  </a:lnTo>
                  <a:lnTo>
                    <a:pt x="235558" y="142266"/>
                  </a:lnTo>
                  <a:lnTo>
                    <a:pt x="243399" y="146459"/>
                  </a:lnTo>
                  <a:lnTo>
                    <a:pt x="251166" y="150947"/>
                  </a:lnTo>
                  <a:lnTo>
                    <a:pt x="258037" y="155633"/>
                  </a:lnTo>
                  <a:lnTo>
                    <a:pt x="264311" y="160450"/>
                  </a:lnTo>
                  <a:lnTo>
                    <a:pt x="270187" y="165354"/>
                  </a:lnTo>
                  <a:lnTo>
                    <a:pt x="275798" y="169471"/>
                  </a:lnTo>
                  <a:lnTo>
                    <a:pt x="281232" y="173062"/>
                  </a:lnTo>
                  <a:lnTo>
                    <a:pt x="286548" y="176303"/>
                  </a:lnTo>
                  <a:lnTo>
                    <a:pt x="290092" y="180157"/>
                  </a:lnTo>
                  <a:lnTo>
                    <a:pt x="292454" y="184419"/>
                  </a:lnTo>
                  <a:lnTo>
                    <a:pt x="294029" y="188954"/>
                  </a:lnTo>
                  <a:lnTo>
                    <a:pt x="295079" y="192824"/>
                  </a:lnTo>
                  <a:lnTo>
                    <a:pt x="296246" y="199382"/>
                  </a:lnTo>
                  <a:lnTo>
                    <a:pt x="294017" y="202316"/>
                  </a:lnTo>
                  <a:lnTo>
                    <a:pt x="284767" y="207834"/>
                  </a:lnTo>
                  <a:lnTo>
                    <a:pt x="269325" y="215700"/>
                  </a:lnTo>
                  <a:lnTo>
                    <a:pt x="262523" y="218275"/>
                  </a:lnTo>
                  <a:lnTo>
                    <a:pt x="254602" y="220838"/>
                  </a:lnTo>
                  <a:lnTo>
                    <a:pt x="245935" y="223394"/>
                  </a:lnTo>
                  <a:lnTo>
                    <a:pt x="236770" y="225097"/>
                  </a:lnTo>
                  <a:lnTo>
                    <a:pt x="227272" y="226233"/>
                  </a:lnTo>
                  <a:lnTo>
                    <a:pt x="217556" y="226990"/>
                  </a:lnTo>
                  <a:lnTo>
                    <a:pt x="207690" y="228341"/>
                  </a:lnTo>
                  <a:lnTo>
                    <a:pt x="197727" y="230089"/>
                  </a:lnTo>
                  <a:lnTo>
                    <a:pt x="187698" y="232101"/>
                  </a:lnTo>
                  <a:lnTo>
                    <a:pt x="176778" y="232595"/>
                  </a:lnTo>
                  <a:lnTo>
                    <a:pt x="165265" y="232078"/>
                  </a:lnTo>
                  <a:lnTo>
                    <a:pt x="153356" y="230887"/>
                  </a:lnTo>
                  <a:lnTo>
                    <a:pt x="142031" y="230092"/>
                  </a:lnTo>
                  <a:lnTo>
                    <a:pt x="131094" y="229563"/>
                  </a:lnTo>
                  <a:lnTo>
                    <a:pt x="109910" y="228975"/>
                  </a:lnTo>
                  <a:lnTo>
                    <a:pt x="89207" y="228713"/>
                  </a:lnTo>
                  <a:lnTo>
                    <a:pt x="78944" y="227797"/>
                  </a:lnTo>
                  <a:lnTo>
                    <a:pt x="68716" y="226339"/>
                  </a:lnTo>
                  <a:lnTo>
                    <a:pt x="58510" y="224521"/>
                  </a:lnTo>
                  <a:lnTo>
                    <a:pt x="50014" y="222462"/>
                  </a:lnTo>
                  <a:lnTo>
                    <a:pt x="42655" y="220243"/>
                  </a:lnTo>
                  <a:lnTo>
                    <a:pt x="36057" y="217916"/>
                  </a:lnTo>
                  <a:lnTo>
                    <a:pt x="30811" y="216366"/>
                  </a:lnTo>
                  <a:lnTo>
                    <a:pt x="22725" y="214643"/>
                  </a:lnTo>
                  <a:lnTo>
                    <a:pt x="20229" y="213336"/>
                  </a:lnTo>
                  <a:lnTo>
                    <a:pt x="18567" y="211619"/>
                  </a:lnTo>
                  <a:lnTo>
                    <a:pt x="15240" y="2056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567"/>
            <p:cNvSpPr/>
            <p:nvPr/>
          </p:nvSpPr>
          <p:spPr>
            <a:xfrm>
              <a:off x="6910920" y="3116880"/>
              <a:ext cx="255600" cy="212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55887" h="212686">
                  <a:moveTo>
                    <a:pt x="0" y="14918"/>
                  </a:moveTo>
                  <a:lnTo>
                    <a:pt x="4046" y="14918"/>
                  </a:lnTo>
                  <a:lnTo>
                    <a:pt x="10548" y="12660"/>
                  </a:lnTo>
                  <a:lnTo>
                    <a:pt x="14651" y="10873"/>
                  </a:lnTo>
                  <a:lnTo>
                    <a:pt x="19081" y="9681"/>
                  </a:lnTo>
                  <a:lnTo>
                    <a:pt x="23727" y="8887"/>
                  </a:lnTo>
                  <a:lnTo>
                    <a:pt x="28519" y="8357"/>
                  </a:lnTo>
                  <a:lnTo>
                    <a:pt x="34252" y="8004"/>
                  </a:lnTo>
                  <a:lnTo>
                    <a:pt x="47396" y="7612"/>
                  </a:lnTo>
                  <a:lnTo>
                    <a:pt x="54457" y="6661"/>
                  </a:lnTo>
                  <a:lnTo>
                    <a:pt x="61706" y="5180"/>
                  </a:lnTo>
                  <a:lnTo>
                    <a:pt x="69077" y="3346"/>
                  </a:lnTo>
                  <a:lnTo>
                    <a:pt x="78224" y="2123"/>
                  </a:lnTo>
                  <a:lnTo>
                    <a:pt x="88557" y="1308"/>
                  </a:lnTo>
                  <a:lnTo>
                    <a:pt x="99678" y="765"/>
                  </a:lnTo>
                  <a:lnTo>
                    <a:pt x="121066" y="161"/>
                  </a:lnTo>
                  <a:lnTo>
                    <a:pt x="131512" y="0"/>
                  </a:lnTo>
                  <a:lnTo>
                    <a:pt x="141860" y="739"/>
                  </a:lnTo>
                  <a:lnTo>
                    <a:pt x="152147" y="2079"/>
                  </a:lnTo>
                  <a:lnTo>
                    <a:pt x="162391" y="3819"/>
                  </a:lnTo>
                  <a:lnTo>
                    <a:pt x="171761" y="4979"/>
                  </a:lnTo>
                  <a:lnTo>
                    <a:pt x="180547" y="5752"/>
                  </a:lnTo>
                  <a:lnTo>
                    <a:pt x="188945" y="6267"/>
                  </a:lnTo>
                  <a:lnTo>
                    <a:pt x="205049" y="6840"/>
                  </a:lnTo>
                  <a:lnTo>
                    <a:pt x="212900" y="6992"/>
                  </a:lnTo>
                  <a:lnTo>
                    <a:pt x="218979" y="7941"/>
                  </a:lnTo>
                  <a:lnTo>
                    <a:pt x="223880" y="9420"/>
                  </a:lnTo>
                  <a:lnTo>
                    <a:pt x="231582" y="12475"/>
                  </a:lnTo>
                  <a:lnTo>
                    <a:pt x="237827" y="13832"/>
                  </a:lnTo>
                  <a:lnTo>
                    <a:pt x="239832" y="15041"/>
                  </a:lnTo>
                  <a:lnTo>
                    <a:pt x="241168" y="16694"/>
                  </a:lnTo>
                  <a:lnTo>
                    <a:pt x="242059" y="18642"/>
                  </a:lnTo>
                  <a:lnTo>
                    <a:pt x="240959" y="19940"/>
                  </a:lnTo>
                  <a:lnTo>
                    <a:pt x="238533" y="20806"/>
                  </a:lnTo>
                  <a:lnTo>
                    <a:pt x="235222" y="21384"/>
                  </a:lnTo>
                  <a:lnTo>
                    <a:pt x="230474" y="22615"/>
                  </a:lnTo>
                  <a:lnTo>
                    <a:pt x="224769" y="24283"/>
                  </a:lnTo>
                  <a:lnTo>
                    <a:pt x="218427" y="26241"/>
                  </a:lnTo>
                  <a:lnTo>
                    <a:pt x="202347" y="30675"/>
                  </a:lnTo>
                  <a:lnTo>
                    <a:pt x="125175" y="50498"/>
                  </a:lnTo>
                  <a:lnTo>
                    <a:pt x="108127" y="55567"/>
                  </a:lnTo>
                  <a:lnTo>
                    <a:pt x="84249" y="63181"/>
                  </a:lnTo>
                  <a:lnTo>
                    <a:pt x="78179" y="65720"/>
                  </a:lnTo>
                  <a:lnTo>
                    <a:pt x="73287" y="68259"/>
                  </a:lnTo>
                  <a:lnTo>
                    <a:pt x="69177" y="70799"/>
                  </a:lnTo>
                  <a:lnTo>
                    <a:pt x="66439" y="73339"/>
                  </a:lnTo>
                  <a:lnTo>
                    <a:pt x="64612" y="75879"/>
                  </a:lnTo>
                  <a:lnTo>
                    <a:pt x="62583" y="80958"/>
                  </a:lnTo>
                  <a:lnTo>
                    <a:pt x="61682" y="86038"/>
                  </a:lnTo>
                  <a:lnTo>
                    <a:pt x="63135" y="88578"/>
                  </a:lnTo>
                  <a:lnTo>
                    <a:pt x="69264" y="93658"/>
                  </a:lnTo>
                  <a:lnTo>
                    <a:pt x="86281" y="105323"/>
                  </a:lnTo>
                  <a:lnTo>
                    <a:pt x="93928" y="109055"/>
                  </a:lnTo>
                  <a:lnTo>
                    <a:pt x="102412" y="112389"/>
                  </a:lnTo>
                  <a:lnTo>
                    <a:pt x="111454" y="115459"/>
                  </a:lnTo>
                  <a:lnTo>
                    <a:pt x="120870" y="118352"/>
                  </a:lnTo>
                  <a:lnTo>
                    <a:pt x="140362" y="123824"/>
                  </a:lnTo>
                  <a:lnTo>
                    <a:pt x="151148" y="127316"/>
                  </a:lnTo>
                  <a:lnTo>
                    <a:pt x="162572" y="131336"/>
                  </a:lnTo>
                  <a:lnTo>
                    <a:pt x="174422" y="135710"/>
                  </a:lnTo>
                  <a:lnTo>
                    <a:pt x="184862" y="140320"/>
                  </a:lnTo>
                  <a:lnTo>
                    <a:pt x="194360" y="145086"/>
                  </a:lnTo>
                  <a:lnTo>
                    <a:pt x="203233" y="149956"/>
                  </a:lnTo>
                  <a:lnTo>
                    <a:pt x="211690" y="154050"/>
                  </a:lnTo>
                  <a:lnTo>
                    <a:pt x="219867" y="157626"/>
                  </a:lnTo>
                  <a:lnTo>
                    <a:pt x="227858" y="160857"/>
                  </a:lnTo>
                  <a:lnTo>
                    <a:pt x="234879" y="163858"/>
                  </a:lnTo>
                  <a:lnTo>
                    <a:pt x="247195" y="169449"/>
                  </a:lnTo>
                  <a:lnTo>
                    <a:pt x="251157" y="172125"/>
                  </a:lnTo>
                  <a:lnTo>
                    <a:pt x="253798" y="174756"/>
                  </a:lnTo>
                  <a:lnTo>
                    <a:pt x="255558" y="177357"/>
                  </a:lnTo>
                  <a:lnTo>
                    <a:pt x="255886" y="179937"/>
                  </a:lnTo>
                  <a:lnTo>
                    <a:pt x="255257" y="182504"/>
                  </a:lnTo>
                  <a:lnTo>
                    <a:pt x="252301" y="187615"/>
                  </a:lnTo>
                  <a:lnTo>
                    <a:pt x="248165" y="192708"/>
                  </a:lnTo>
                  <a:lnTo>
                    <a:pt x="244184" y="195251"/>
                  </a:lnTo>
                  <a:lnTo>
                    <a:pt x="238989" y="197793"/>
                  </a:lnTo>
                  <a:lnTo>
                    <a:pt x="232986" y="200335"/>
                  </a:lnTo>
                  <a:lnTo>
                    <a:pt x="226444" y="202030"/>
                  </a:lnTo>
                  <a:lnTo>
                    <a:pt x="219543" y="203159"/>
                  </a:lnTo>
                  <a:lnTo>
                    <a:pt x="212402" y="203912"/>
                  </a:lnTo>
                  <a:lnTo>
                    <a:pt x="205101" y="205261"/>
                  </a:lnTo>
                  <a:lnTo>
                    <a:pt x="197694" y="207006"/>
                  </a:lnTo>
                  <a:lnTo>
                    <a:pt x="190216" y="209017"/>
                  </a:lnTo>
                  <a:lnTo>
                    <a:pt x="182691" y="210357"/>
                  </a:lnTo>
                  <a:lnTo>
                    <a:pt x="175134" y="211251"/>
                  </a:lnTo>
                  <a:lnTo>
                    <a:pt x="167556" y="211847"/>
                  </a:lnTo>
                  <a:lnTo>
                    <a:pt x="159117" y="212244"/>
                  </a:lnTo>
                  <a:lnTo>
                    <a:pt x="140709" y="212685"/>
                  </a:lnTo>
                  <a:lnTo>
                    <a:pt x="132753" y="211956"/>
                  </a:lnTo>
                  <a:lnTo>
                    <a:pt x="125756" y="210624"/>
                  </a:lnTo>
                  <a:lnTo>
                    <a:pt x="119398" y="208888"/>
                  </a:lnTo>
                  <a:lnTo>
                    <a:pt x="113465" y="207732"/>
                  </a:lnTo>
                  <a:lnTo>
                    <a:pt x="107817" y="206960"/>
                  </a:lnTo>
                  <a:lnTo>
                    <a:pt x="102357" y="206446"/>
                  </a:lnTo>
                  <a:lnTo>
                    <a:pt x="97872" y="206104"/>
                  </a:lnTo>
                  <a:lnTo>
                    <a:pt x="90630" y="205723"/>
                  </a:lnTo>
                  <a:lnTo>
                    <a:pt x="84590" y="205553"/>
                  </a:lnTo>
                  <a:lnTo>
                    <a:pt x="76200" y="20541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568"/>
            <p:cNvSpPr/>
            <p:nvPr/>
          </p:nvSpPr>
          <p:spPr>
            <a:xfrm>
              <a:off x="5917320" y="3569400"/>
              <a:ext cx="391320" cy="17172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91408" h="171967">
                  <a:moveTo>
                    <a:pt x="170427" y="19566"/>
                  </a:moveTo>
                  <a:lnTo>
                    <a:pt x="184580" y="5413"/>
                  </a:lnTo>
                  <a:lnTo>
                    <a:pt x="184095" y="5051"/>
                  </a:lnTo>
                  <a:lnTo>
                    <a:pt x="181300" y="4648"/>
                  </a:lnTo>
                  <a:lnTo>
                    <a:pt x="180216" y="3694"/>
                  </a:lnTo>
                  <a:lnTo>
                    <a:pt x="179492" y="2211"/>
                  </a:lnTo>
                  <a:lnTo>
                    <a:pt x="179011" y="377"/>
                  </a:lnTo>
                  <a:lnTo>
                    <a:pt x="176996" y="0"/>
                  </a:lnTo>
                  <a:lnTo>
                    <a:pt x="166918" y="2668"/>
                  </a:lnTo>
                  <a:lnTo>
                    <a:pt x="160965" y="3589"/>
                  </a:lnTo>
                  <a:lnTo>
                    <a:pt x="150982" y="8514"/>
                  </a:lnTo>
                  <a:lnTo>
                    <a:pt x="144763" y="12198"/>
                  </a:lnTo>
                  <a:lnTo>
                    <a:pt x="131081" y="20807"/>
                  </a:lnTo>
                  <a:lnTo>
                    <a:pt x="123876" y="25473"/>
                  </a:lnTo>
                  <a:lnTo>
                    <a:pt x="115687" y="31124"/>
                  </a:lnTo>
                  <a:lnTo>
                    <a:pt x="97556" y="44176"/>
                  </a:lnTo>
                  <a:lnTo>
                    <a:pt x="88827" y="51213"/>
                  </a:lnTo>
                  <a:lnTo>
                    <a:pt x="80467" y="58444"/>
                  </a:lnTo>
                  <a:lnTo>
                    <a:pt x="72353" y="65805"/>
                  </a:lnTo>
                  <a:lnTo>
                    <a:pt x="64405" y="72405"/>
                  </a:lnTo>
                  <a:lnTo>
                    <a:pt x="56565" y="78499"/>
                  </a:lnTo>
                  <a:lnTo>
                    <a:pt x="48799" y="84255"/>
                  </a:lnTo>
                  <a:lnTo>
                    <a:pt x="41082" y="90632"/>
                  </a:lnTo>
                  <a:lnTo>
                    <a:pt x="33397" y="97423"/>
                  </a:lnTo>
                  <a:lnTo>
                    <a:pt x="25733" y="104491"/>
                  </a:lnTo>
                  <a:lnTo>
                    <a:pt x="19778" y="110896"/>
                  </a:lnTo>
                  <a:lnTo>
                    <a:pt x="14962" y="116859"/>
                  </a:lnTo>
                  <a:lnTo>
                    <a:pt x="10903" y="122528"/>
                  </a:lnTo>
                  <a:lnTo>
                    <a:pt x="7351" y="128001"/>
                  </a:lnTo>
                  <a:lnTo>
                    <a:pt x="4136" y="133343"/>
                  </a:lnTo>
                  <a:lnTo>
                    <a:pt x="1147" y="138597"/>
                  </a:lnTo>
                  <a:lnTo>
                    <a:pt x="0" y="142947"/>
                  </a:lnTo>
                  <a:lnTo>
                    <a:pt x="83" y="146694"/>
                  </a:lnTo>
                  <a:lnTo>
                    <a:pt x="984" y="150038"/>
                  </a:lnTo>
                  <a:lnTo>
                    <a:pt x="2432" y="153114"/>
                  </a:lnTo>
                  <a:lnTo>
                    <a:pt x="4244" y="156011"/>
                  </a:lnTo>
                  <a:lnTo>
                    <a:pt x="6298" y="158790"/>
                  </a:lnTo>
                  <a:lnTo>
                    <a:pt x="15354" y="164134"/>
                  </a:lnTo>
                  <a:lnTo>
                    <a:pt x="21325" y="166745"/>
                  </a:lnTo>
                  <a:lnTo>
                    <a:pt x="27846" y="168485"/>
                  </a:lnTo>
                  <a:lnTo>
                    <a:pt x="34733" y="169646"/>
                  </a:lnTo>
                  <a:lnTo>
                    <a:pt x="41864" y="170420"/>
                  </a:lnTo>
                  <a:lnTo>
                    <a:pt x="49159" y="170088"/>
                  </a:lnTo>
                  <a:lnTo>
                    <a:pt x="56562" y="169021"/>
                  </a:lnTo>
                  <a:lnTo>
                    <a:pt x="64037" y="167463"/>
                  </a:lnTo>
                  <a:lnTo>
                    <a:pt x="81374" y="163474"/>
                  </a:lnTo>
                  <a:lnTo>
                    <a:pt x="90738" y="161224"/>
                  </a:lnTo>
                  <a:lnTo>
                    <a:pt x="100368" y="158032"/>
                  </a:lnTo>
                  <a:lnTo>
                    <a:pt x="110174" y="154210"/>
                  </a:lnTo>
                  <a:lnTo>
                    <a:pt x="120099" y="149969"/>
                  </a:lnTo>
                  <a:lnTo>
                    <a:pt x="129255" y="145448"/>
                  </a:lnTo>
                  <a:lnTo>
                    <a:pt x="137899" y="140740"/>
                  </a:lnTo>
                  <a:lnTo>
                    <a:pt x="146201" y="135909"/>
                  </a:lnTo>
                  <a:lnTo>
                    <a:pt x="153430" y="130995"/>
                  </a:lnTo>
                  <a:lnTo>
                    <a:pt x="159942" y="126025"/>
                  </a:lnTo>
                  <a:lnTo>
                    <a:pt x="165977" y="121019"/>
                  </a:lnTo>
                  <a:lnTo>
                    <a:pt x="170847" y="115988"/>
                  </a:lnTo>
                  <a:lnTo>
                    <a:pt x="174941" y="110940"/>
                  </a:lnTo>
                  <a:lnTo>
                    <a:pt x="178516" y="105882"/>
                  </a:lnTo>
                  <a:lnTo>
                    <a:pt x="181747" y="100817"/>
                  </a:lnTo>
                  <a:lnTo>
                    <a:pt x="184747" y="95747"/>
                  </a:lnTo>
                  <a:lnTo>
                    <a:pt x="187593" y="90673"/>
                  </a:lnTo>
                  <a:lnTo>
                    <a:pt x="189492" y="85597"/>
                  </a:lnTo>
                  <a:lnTo>
                    <a:pt x="190757" y="80520"/>
                  </a:lnTo>
                  <a:lnTo>
                    <a:pt x="191600" y="75442"/>
                  </a:lnTo>
                  <a:lnTo>
                    <a:pt x="192163" y="71210"/>
                  </a:lnTo>
                  <a:lnTo>
                    <a:pt x="192537" y="67542"/>
                  </a:lnTo>
                  <a:lnTo>
                    <a:pt x="192787" y="64250"/>
                  </a:lnTo>
                  <a:lnTo>
                    <a:pt x="192953" y="61209"/>
                  </a:lnTo>
                  <a:lnTo>
                    <a:pt x="193139" y="55572"/>
                  </a:lnTo>
                  <a:lnTo>
                    <a:pt x="192341" y="53730"/>
                  </a:lnTo>
                  <a:lnTo>
                    <a:pt x="190963" y="52502"/>
                  </a:lnTo>
                  <a:lnTo>
                    <a:pt x="189198" y="51683"/>
                  </a:lnTo>
                  <a:lnTo>
                    <a:pt x="188021" y="50291"/>
                  </a:lnTo>
                  <a:lnTo>
                    <a:pt x="187236" y="48516"/>
                  </a:lnTo>
                  <a:lnTo>
                    <a:pt x="185759" y="42782"/>
                  </a:lnTo>
                  <a:lnTo>
                    <a:pt x="185694" y="46577"/>
                  </a:lnTo>
                  <a:lnTo>
                    <a:pt x="186532" y="48580"/>
                  </a:lnTo>
                  <a:lnTo>
                    <a:pt x="189720" y="53064"/>
                  </a:lnTo>
                  <a:lnTo>
                    <a:pt x="193959" y="57878"/>
                  </a:lnTo>
                  <a:lnTo>
                    <a:pt x="196275" y="60348"/>
                  </a:lnTo>
                  <a:lnTo>
                    <a:pt x="198666" y="63687"/>
                  </a:lnTo>
                  <a:lnTo>
                    <a:pt x="201106" y="67607"/>
                  </a:lnTo>
                  <a:lnTo>
                    <a:pt x="203580" y="71913"/>
                  </a:lnTo>
                  <a:lnTo>
                    <a:pt x="207769" y="75631"/>
                  </a:lnTo>
                  <a:lnTo>
                    <a:pt x="213101" y="78956"/>
                  </a:lnTo>
                  <a:lnTo>
                    <a:pt x="219197" y="82019"/>
                  </a:lnTo>
                  <a:lnTo>
                    <a:pt x="224953" y="85755"/>
                  </a:lnTo>
                  <a:lnTo>
                    <a:pt x="230484" y="89939"/>
                  </a:lnTo>
                  <a:lnTo>
                    <a:pt x="235866" y="94421"/>
                  </a:lnTo>
                  <a:lnTo>
                    <a:pt x="241146" y="99103"/>
                  </a:lnTo>
                  <a:lnTo>
                    <a:pt x="251529" y="108820"/>
                  </a:lnTo>
                  <a:lnTo>
                    <a:pt x="257515" y="113782"/>
                  </a:lnTo>
                  <a:lnTo>
                    <a:pt x="264045" y="118784"/>
                  </a:lnTo>
                  <a:lnTo>
                    <a:pt x="270939" y="123811"/>
                  </a:lnTo>
                  <a:lnTo>
                    <a:pt x="278075" y="128009"/>
                  </a:lnTo>
                  <a:lnTo>
                    <a:pt x="285372" y="131655"/>
                  </a:lnTo>
                  <a:lnTo>
                    <a:pt x="292778" y="134932"/>
                  </a:lnTo>
                  <a:lnTo>
                    <a:pt x="300254" y="137964"/>
                  </a:lnTo>
                  <a:lnTo>
                    <a:pt x="315334" y="143589"/>
                  </a:lnTo>
                  <a:lnTo>
                    <a:pt x="338105" y="151517"/>
                  </a:lnTo>
                  <a:lnTo>
                    <a:pt x="344865" y="154100"/>
                  </a:lnTo>
                  <a:lnTo>
                    <a:pt x="356893" y="159228"/>
                  </a:lnTo>
                  <a:lnTo>
                    <a:pt x="367883" y="164329"/>
                  </a:lnTo>
                  <a:lnTo>
                    <a:pt x="377565" y="168572"/>
                  </a:lnTo>
                  <a:lnTo>
                    <a:pt x="388422" y="171296"/>
                  </a:lnTo>
                  <a:lnTo>
                    <a:pt x="391407" y="17196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569"/>
            <p:cNvSpPr/>
            <p:nvPr/>
          </p:nvSpPr>
          <p:spPr>
            <a:xfrm>
              <a:off x="6408000" y="360432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570"/>
            <p:cNvSpPr/>
            <p:nvPr/>
          </p:nvSpPr>
          <p:spPr>
            <a:xfrm>
              <a:off x="6461280" y="3687840"/>
              <a:ext cx="91440" cy="151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1441" h="15241">
                  <a:moveTo>
                    <a:pt x="0" y="0"/>
                  </a:moveTo>
                  <a:lnTo>
                    <a:pt x="10606" y="0"/>
                  </a:lnTo>
                  <a:lnTo>
                    <a:pt x="13844" y="847"/>
                  </a:lnTo>
                  <a:lnTo>
                    <a:pt x="17696" y="2258"/>
                  </a:lnTo>
                  <a:lnTo>
                    <a:pt x="21957" y="4045"/>
                  </a:lnTo>
                  <a:lnTo>
                    <a:pt x="27338" y="5237"/>
                  </a:lnTo>
                  <a:lnTo>
                    <a:pt x="33466" y="6031"/>
                  </a:lnTo>
                  <a:lnTo>
                    <a:pt x="40090" y="6561"/>
                  </a:lnTo>
                  <a:lnTo>
                    <a:pt x="47047" y="7761"/>
                  </a:lnTo>
                  <a:lnTo>
                    <a:pt x="54224" y="9407"/>
                  </a:lnTo>
                  <a:lnTo>
                    <a:pt x="61550" y="11352"/>
                  </a:lnTo>
                  <a:lnTo>
                    <a:pt x="68127" y="12648"/>
                  </a:lnTo>
                  <a:lnTo>
                    <a:pt x="74204" y="13512"/>
                  </a:lnTo>
                  <a:lnTo>
                    <a:pt x="9144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571"/>
            <p:cNvSpPr/>
            <p:nvPr/>
          </p:nvSpPr>
          <p:spPr>
            <a:xfrm>
              <a:off x="6788880" y="3474720"/>
              <a:ext cx="263160" cy="2739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63145" h="274293">
                  <a:moveTo>
                    <a:pt x="0" y="22832"/>
                  </a:moveTo>
                  <a:lnTo>
                    <a:pt x="7307" y="22832"/>
                  </a:lnTo>
                  <a:lnTo>
                    <a:pt x="7527" y="18787"/>
                  </a:lnTo>
                  <a:lnTo>
                    <a:pt x="8405" y="17595"/>
                  </a:lnTo>
                  <a:lnTo>
                    <a:pt x="9837" y="16801"/>
                  </a:lnTo>
                  <a:lnTo>
                    <a:pt x="13685" y="15918"/>
                  </a:lnTo>
                  <a:lnTo>
                    <a:pt x="21459" y="15422"/>
                  </a:lnTo>
                  <a:lnTo>
                    <a:pt x="38828" y="15253"/>
                  </a:lnTo>
                  <a:lnTo>
                    <a:pt x="117431" y="15213"/>
                  </a:lnTo>
                  <a:lnTo>
                    <a:pt x="127394" y="14366"/>
                  </a:lnTo>
                  <a:lnTo>
                    <a:pt x="137423" y="12955"/>
                  </a:lnTo>
                  <a:lnTo>
                    <a:pt x="147495" y="11167"/>
                  </a:lnTo>
                  <a:lnTo>
                    <a:pt x="156751" y="9976"/>
                  </a:lnTo>
                  <a:lnTo>
                    <a:pt x="165461" y="9181"/>
                  </a:lnTo>
                  <a:lnTo>
                    <a:pt x="173807" y="8651"/>
                  </a:lnTo>
                  <a:lnTo>
                    <a:pt x="189855" y="8063"/>
                  </a:lnTo>
                  <a:lnTo>
                    <a:pt x="216807" y="7685"/>
                  </a:lnTo>
                  <a:lnTo>
                    <a:pt x="233196" y="7620"/>
                  </a:lnTo>
                  <a:lnTo>
                    <a:pt x="237591" y="6764"/>
                  </a:lnTo>
                  <a:lnTo>
                    <a:pt x="247821" y="2361"/>
                  </a:lnTo>
                  <a:lnTo>
                    <a:pt x="255368" y="680"/>
                  </a:lnTo>
                  <a:lnTo>
                    <a:pt x="258827" y="182"/>
                  </a:lnTo>
                  <a:lnTo>
                    <a:pt x="263144" y="34"/>
                  </a:lnTo>
                  <a:lnTo>
                    <a:pt x="261451" y="0"/>
                  </a:lnTo>
                  <a:lnTo>
                    <a:pt x="260661" y="837"/>
                  </a:lnTo>
                  <a:lnTo>
                    <a:pt x="260133" y="2242"/>
                  </a:lnTo>
                  <a:lnTo>
                    <a:pt x="259782" y="4025"/>
                  </a:lnTo>
                  <a:lnTo>
                    <a:pt x="258702" y="5214"/>
                  </a:lnTo>
                  <a:lnTo>
                    <a:pt x="257134" y="6007"/>
                  </a:lnTo>
                  <a:lnTo>
                    <a:pt x="255242" y="6535"/>
                  </a:lnTo>
                  <a:lnTo>
                    <a:pt x="253135" y="8581"/>
                  </a:lnTo>
                  <a:lnTo>
                    <a:pt x="248536" y="15370"/>
                  </a:lnTo>
                  <a:lnTo>
                    <a:pt x="241411" y="21773"/>
                  </a:lnTo>
                  <a:lnTo>
                    <a:pt x="237141" y="24666"/>
                  </a:lnTo>
                  <a:lnTo>
                    <a:pt x="232601" y="28289"/>
                  </a:lnTo>
                  <a:lnTo>
                    <a:pt x="227881" y="32396"/>
                  </a:lnTo>
                  <a:lnTo>
                    <a:pt x="223040" y="36828"/>
                  </a:lnTo>
                  <a:lnTo>
                    <a:pt x="218967" y="42323"/>
                  </a:lnTo>
                  <a:lnTo>
                    <a:pt x="215404" y="48526"/>
                  </a:lnTo>
                  <a:lnTo>
                    <a:pt x="212184" y="55201"/>
                  </a:lnTo>
                  <a:lnTo>
                    <a:pt x="208342" y="62192"/>
                  </a:lnTo>
                  <a:lnTo>
                    <a:pt x="204088" y="69392"/>
                  </a:lnTo>
                  <a:lnTo>
                    <a:pt x="199559" y="76732"/>
                  </a:lnTo>
                  <a:lnTo>
                    <a:pt x="194846" y="83319"/>
                  </a:lnTo>
                  <a:lnTo>
                    <a:pt x="190011" y="89403"/>
                  </a:lnTo>
                  <a:lnTo>
                    <a:pt x="185094" y="95152"/>
                  </a:lnTo>
                  <a:lnTo>
                    <a:pt x="180122" y="101526"/>
                  </a:lnTo>
                  <a:lnTo>
                    <a:pt x="175115" y="108314"/>
                  </a:lnTo>
                  <a:lnTo>
                    <a:pt x="165035" y="122631"/>
                  </a:lnTo>
                  <a:lnTo>
                    <a:pt x="154912" y="137461"/>
                  </a:lnTo>
                  <a:lnTo>
                    <a:pt x="150687" y="144971"/>
                  </a:lnTo>
                  <a:lnTo>
                    <a:pt x="147025" y="152518"/>
                  </a:lnTo>
                  <a:lnTo>
                    <a:pt x="140697" y="166830"/>
                  </a:lnTo>
                  <a:lnTo>
                    <a:pt x="135064" y="178836"/>
                  </a:lnTo>
                  <a:lnTo>
                    <a:pt x="131529" y="185255"/>
                  </a:lnTo>
                  <a:lnTo>
                    <a:pt x="127480" y="192074"/>
                  </a:lnTo>
                  <a:lnTo>
                    <a:pt x="123087" y="199160"/>
                  </a:lnTo>
                  <a:lnTo>
                    <a:pt x="120157" y="205577"/>
                  </a:lnTo>
                  <a:lnTo>
                    <a:pt x="118205" y="211549"/>
                  </a:lnTo>
                  <a:lnTo>
                    <a:pt x="116903" y="217224"/>
                  </a:lnTo>
                  <a:lnTo>
                    <a:pt x="115190" y="222700"/>
                  </a:lnTo>
                  <a:lnTo>
                    <a:pt x="113200" y="228044"/>
                  </a:lnTo>
                  <a:lnTo>
                    <a:pt x="111027" y="233300"/>
                  </a:lnTo>
                  <a:lnTo>
                    <a:pt x="108611" y="241398"/>
                  </a:lnTo>
                  <a:lnTo>
                    <a:pt x="107539" y="247819"/>
                  </a:lnTo>
                  <a:lnTo>
                    <a:pt x="107061" y="253495"/>
                  </a:lnTo>
                  <a:lnTo>
                    <a:pt x="106088" y="256194"/>
                  </a:lnTo>
                  <a:lnTo>
                    <a:pt x="100699" y="264351"/>
                  </a:lnTo>
                  <a:lnTo>
                    <a:pt x="100153" y="265125"/>
                  </a:lnTo>
                  <a:lnTo>
                    <a:pt x="99546" y="268242"/>
                  </a:lnTo>
                  <a:lnTo>
                    <a:pt x="99060" y="27429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572"/>
            <p:cNvSpPr/>
            <p:nvPr/>
          </p:nvSpPr>
          <p:spPr>
            <a:xfrm>
              <a:off x="6850080" y="36043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3">
                  <a:moveTo>
                    <a:pt x="0" y="15212"/>
                  </a:moveTo>
                  <a:lnTo>
                    <a:pt x="0" y="8652"/>
                  </a:lnTo>
                  <a:lnTo>
                    <a:pt x="847" y="8298"/>
                  </a:lnTo>
                  <a:lnTo>
                    <a:pt x="4046" y="7906"/>
                  </a:lnTo>
                  <a:lnTo>
                    <a:pt x="8289" y="7731"/>
                  </a:lnTo>
                  <a:lnTo>
                    <a:pt x="10606" y="7685"/>
                  </a:lnTo>
                  <a:lnTo>
                    <a:pt x="13844" y="6807"/>
                  </a:lnTo>
                  <a:lnTo>
                    <a:pt x="17696" y="5376"/>
                  </a:lnTo>
                  <a:lnTo>
                    <a:pt x="21958" y="3575"/>
                  </a:lnTo>
                  <a:lnTo>
                    <a:pt x="26492" y="2374"/>
                  </a:lnTo>
                  <a:lnTo>
                    <a:pt x="31208" y="1573"/>
                  </a:lnTo>
                  <a:lnTo>
                    <a:pt x="36045" y="1040"/>
                  </a:lnTo>
                  <a:lnTo>
                    <a:pt x="40963" y="684"/>
                  </a:lnTo>
                  <a:lnTo>
                    <a:pt x="45936" y="447"/>
                  </a:lnTo>
                  <a:lnTo>
                    <a:pt x="56822" y="183"/>
                  </a:lnTo>
                  <a:lnTo>
                    <a:pt x="87853" y="0"/>
                  </a:lnTo>
                  <a:lnTo>
                    <a:pt x="94129" y="838"/>
                  </a:lnTo>
                  <a:lnTo>
                    <a:pt x="100852" y="2242"/>
                  </a:lnTo>
                  <a:lnTo>
                    <a:pt x="107875" y="4026"/>
                  </a:lnTo>
                  <a:lnTo>
                    <a:pt x="114250" y="5215"/>
                  </a:lnTo>
                  <a:lnTo>
                    <a:pt x="120194" y="6007"/>
                  </a:lnTo>
                  <a:lnTo>
                    <a:pt x="125849" y="6535"/>
                  </a:lnTo>
                  <a:lnTo>
                    <a:pt x="130467" y="6888"/>
                  </a:lnTo>
                  <a:lnTo>
                    <a:pt x="134391" y="7123"/>
                  </a:lnTo>
                  <a:lnTo>
                    <a:pt x="137854" y="7279"/>
                  </a:lnTo>
                  <a:lnTo>
                    <a:pt x="141856" y="8230"/>
                  </a:lnTo>
                  <a:lnTo>
                    <a:pt x="146217" y="9711"/>
                  </a:lnTo>
                  <a:lnTo>
                    <a:pt x="150818" y="11545"/>
                  </a:lnTo>
                  <a:lnTo>
                    <a:pt x="155578" y="12768"/>
                  </a:lnTo>
                  <a:lnTo>
                    <a:pt x="160446" y="13582"/>
                  </a:lnTo>
                  <a:lnTo>
                    <a:pt x="165385" y="14126"/>
                  </a:lnTo>
                  <a:lnTo>
                    <a:pt x="170369" y="14488"/>
                  </a:lnTo>
                  <a:lnTo>
                    <a:pt x="175387" y="14729"/>
                  </a:lnTo>
                  <a:lnTo>
                    <a:pt x="188280" y="15069"/>
                  </a:lnTo>
                  <a:lnTo>
                    <a:pt x="198120" y="152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60" y="838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each equation.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54160" y="1517760"/>
          <a:ext cx="31366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517760"/>
                    <a:ext cx="3136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4819680" y="1517760"/>
          <a:ext cx="35053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1517760"/>
                    <a:ext cx="3505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22588"/>
          <p:cNvGrpSpPr/>
          <p:nvPr/>
        </p:nvGrpSpPr>
        <p:grpSpPr>
          <a:xfrm>
            <a:off x="114480" y="2003400"/>
            <a:ext cx="8135640" cy="2895480"/>
            <a:chOff x="114480" y="2003400"/>
            <a:chExt cx="8135640" cy="2895480"/>
          </a:xfrm>
        </p:grpSpPr>
        <p:sp>
          <p:nvSpPr>
            <p:cNvPr id="143" name="SMARTInkAnnotation379"/>
            <p:cNvSpPr/>
            <p:nvPr/>
          </p:nvSpPr>
          <p:spPr>
            <a:xfrm>
              <a:off x="792360" y="2056680"/>
              <a:ext cx="332640" cy="32724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32943" h="327513">
                  <a:moveTo>
                    <a:pt x="7527" y="60826"/>
                  </a:moveTo>
                  <a:lnTo>
                    <a:pt x="0" y="60826"/>
                  </a:lnTo>
                  <a:lnTo>
                    <a:pt x="3980" y="56781"/>
                  </a:lnTo>
                  <a:lnTo>
                    <a:pt x="10466" y="52537"/>
                  </a:lnTo>
                  <a:lnTo>
                    <a:pt x="19840" y="47829"/>
                  </a:lnTo>
                  <a:lnTo>
                    <a:pt x="25896" y="45388"/>
                  </a:lnTo>
                  <a:lnTo>
                    <a:pt x="32473" y="42914"/>
                  </a:lnTo>
                  <a:lnTo>
                    <a:pt x="40244" y="39571"/>
                  </a:lnTo>
                  <a:lnTo>
                    <a:pt x="57910" y="31342"/>
                  </a:lnTo>
                  <a:lnTo>
                    <a:pt x="68209" y="27623"/>
                  </a:lnTo>
                  <a:lnTo>
                    <a:pt x="79309" y="24297"/>
                  </a:lnTo>
                  <a:lnTo>
                    <a:pt x="123494" y="12876"/>
                  </a:lnTo>
                  <a:lnTo>
                    <a:pt x="135639" y="10233"/>
                  </a:lnTo>
                  <a:lnTo>
                    <a:pt x="162679" y="5038"/>
                  </a:lnTo>
                  <a:lnTo>
                    <a:pt x="176155" y="3314"/>
                  </a:lnTo>
                  <a:lnTo>
                    <a:pt x="189372" y="2165"/>
                  </a:lnTo>
                  <a:lnTo>
                    <a:pt x="202417" y="1398"/>
                  </a:lnTo>
                  <a:lnTo>
                    <a:pt x="225943" y="547"/>
                  </a:lnTo>
                  <a:lnTo>
                    <a:pt x="260551" y="0"/>
                  </a:lnTo>
                  <a:lnTo>
                    <a:pt x="266803" y="802"/>
                  </a:lnTo>
                  <a:lnTo>
                    <a:pt x="272664" y="2183"/>
                  </a:lnTo>
                  <a:lnTo>
                    <a:pt x="278265" y="3951"/>
                  </a:lnTo>
                  <a:lnTo>
                    <a:pt x="281999" y="5976"/>
                  </a:lnTo>
                  <a:lnTo>
                    <a:pt x="284489" y="8173"/>
                  </a:lnTo>
                  <a:lnTo>
                    <a:pt x="286148" y="10484"/>
                  </a:lnTo>
                  <a:lnTo>
                    <a:pt x="285561" y="12871"/>
                  </a:lnTo>
                  <a:lnTo>
                    <a:pt x="283476" y="15309"/>
                  </a:lnTo>
                  <a:lnTo>
                    <a:pt x="280393" y="17782"/>
                  </a:lnTo>
                  <a:lnTo>
                    <a:pt x="272452" y="27302"/>
                  </a:lnTo>
                  <a:lnTo>
                    <a:pt x="267964" y="33397"/>
                  </a:lnTo>
                  <a:lnTo>
                    <a:pt x="261585" y="39153"/>
                  </a:lnTo>
                  <a:lnTo>
                    <a:pt x="253946" y="44684"/>
                  </a:lnTo>
                  <a:lnTo>
                    <a:pt x="245466" y="50064"/>
                  </a:lnTo>
                  <a:lnTo>
                    <a:pt x="236426" y="55345"/>
                  </a:lnTo>
                  <a:lnTo>
                    <a:pt x="227013" y="60559"/>
                  </a:lnTo>
                  <a:lnTo>
                    <a:pt x="217351" y="65728"/>
                  </a:lnTo>
                  <a:lnTo>
                    <a:pt x="207523" y="71714"/>
                  </a:lnTo>
                  <a:lnTo>
                    <a:pt x="197584" y="78245"/>
                  </a:lnTo>
                  <a:lnTo>
                    <a:pt x="161345" y="102931"/>
                  </a:lnTo>
                  <a:lnTo>
                    <a:pt x="154099" y="108369"/>
                  </a:lnTo>
                  <a:lnTo>
                    <a:pt x="147575" y="113688"/>
                  </a:lnTo>
                  <a:lnTo>
                    <a:pt x="141532" y="118928"/>
                  </a:lnTo>
                  <a:lnTo>
                    <a:pt x="137504" y="124114"/>
                  </a:lnTo>
                  <a:lnTo>
                    <a:pt x="134819" y="129264"/>
                  </a:lnTo>
                  <a:lnTo>
                    <a:pt x="131834" y="138656"/>
                  </a:lnTo>
                  <a:lnTo>
                    <a:pt x="130508" y="145653"/>
                  </a:lnTo>
                  <a:lnTo>
                    <a:pt x="131848" y="148704"/>
                  </a:lnTo>
                  <a:lnTo>
                    <a:pt x="134434" y="151584"/>
                  </a:lnTo>
                  <a:lnTo>
                    <a:pt x="137852" y="154352"/>
                  </a:lnTo>
                  <a:lnTo>
                    <a:pt x="143517" y="157043"/>
                  </a:lnTo>
                  <a:lnTo>
                    <a:pt x="150680" y="159684"/>
                  </a:lnTo>
                  <a:lnTo>
                    <a:pt x="158843" y="162291"/>
                  </a:lnTo>
                  <a:lnTo>
                    <a:pt x="168518" y="164876"/>
                  </a:lnTo>
                  <a:lnTo>
                    <a:pt x="179201" y="167446"/>
                  </a:lnTo>
                  <a:lnTo>
                    <a:pt x="212205" y="175108"/>
                  </a:lnTo>
                  <a:lnTo>
                    <a:pt x="222719" y="177654"/>
                  </a:lnTo>
                  <a:lnTo>
                    <a:pt x="245690" y="182741"/>
                  </a:lnTo>
                  <a:lnTo>
                    <a:pt x="257742" y="185283"/>
                  </a:lnTo>
                  <a:lnTo>
                    <a:pt x="269164" y="188670"/>
                  </a:lnTo>
                  <a:lnTo>
                    <a:pt x="280165" y="192622"/>
                  </a:lnTo>
                  <a:lnTo>
                    <a:pt x="290886" y="196950"/>
                  </a:lnTo>
                  <a:lnTo>
                    <a:pt x="299726" y="200682"/>
                  </a:lnTo>
                  <a:lnTo>
                    <a:pt x="314064" y="207086"/>
                  </a:lnTo>
                  <a:lnTo>
                    <a:pt x="319412" y="210826"/>
                  </a:lnTo>
                  <a:lnTo>
                    <a:pt x="327612" y="219497"/>
                  </a:lnTo>
                  <a:lnTo>
                    <a:pt x="330137" y="224180"/>
                  </a:lnTo>
                  <a:lnTo>
                    <a:pt x="332942" y="233899"/>
                  </a:lnTo>
                  <a:lnTo>
                    <a:pt x="331997" y="238861"/>
                  </a:lnTo>
                  <a:lnTo>
                    <a:pt x="326431" y="248890"/>
                  </a:lnTo>
                  <a:lnTo>
                    <a:pt x="318313" y="256735"/>
                  </a:lnTo>
                  <a:lnTo>
                    <a:pt x="299708" y="270426"/>
                  </a:lnTo>
                  <a:lnTo>
                    <a:pt x="291214" y="276760"/>
                  </a:lnTo>
                  <a:lnTo>
                    <a:pt x="282165" y="281828"/>
                  </a:lnTo>
                  <a:lnTo>
                    <a:pt x="272746" y="286054"/>
                  </a:lnTo>
                  <a:lnTo>
                    <a:pt x="263080" y="289718"/>
                  </a:lnTo>
                  <a:lnTo>
                    <a:pt x="252402" y="293007"/>
                  </a:lnTo>
                  <a:lnTo>
                    <a:pt x="241050" y="296047"/>
                  </a:lnTo>
                  <a:lnTo>
                    <a:pt x="229249" y="298920"/>
                  </a:lnTo>
                  <a:lnTo>
                    <a:pt x="217149" y="302529"/>
                  </a:lnTo>
                  <a:lnTo>
                    <a:pt x="204848" y="306628"/>
                  </a:lnTo>
                  <a:lnTo>
                    <a:pt x="192415" y="311054"/>
                  </a:lnTo>
                  <a:lnTo>
                    <a:pt x="180739" y="314851"/>
                  </a:lnTo>
                  <a:lnTo>
                    <a:pt x="169568" y="318229"/>
                  </a:lnTo>
                  <a:lnTo>
                    <a:pt x="158734" y="321328"/>
                  </a:lnTo>
                  <a:lnTo>
                    <a:pt x="148125" y="323394"/>
                  </a:lnTo>
                  <a:lnTo>
                    <a:pt x="137666" y="324771"/>
                  </a:lnTo>
                  <a:lnTo>
                    <a:pt x="127306" y="325690"/>
                  </a:lnTo>
                  <a:lnTo>
                    <a:pt x="117013" y="326302"/>
                  </a:lnTo>
                  <a:lnTo>
                    <a:pt x="96546" y="326982"/>
                  </a:lnTo>
                  <a:lnTo>
                    <a:pt x="56190" y="327454"/>
                  </a:lnTo>
                  <a:lnTo>
                    <a:pt x="37554" y="327512"/>
                  </a:lnTo>
                  <a:lnTo>
                    <a:pt x="34318" y="326670"/>
                  </a:lnTo>
                  <a:lnTo>
                    <a:pt x="31314" y="325262"/>
                  </a:lnTo>
                  <a:lnTo>
                    <a:pt x="22767" y="31990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380"/>
            <p:cNvSpPr/>
            <p:nvPr/>
          </p:nvSpPr>
          <p:spPr>
            <a:xfrm>
              <a:off x="1150560" y="2155680"/>
              <a:ext cx="205560" cy="213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05741" h="213361">
                  <a:moveTo>
                    <a:pt x="205740" y="0"/>
                  </a:moveTo>
                  <a:lnTo>
                    <a:pt x="205740" y="15397"/>
                  </a:lnTo>
                  <a:lnTo>
                    <a:pt x="204894" y="18731"/>
                  </a:lnTo>
                  <a:lnTo>
                    <a:pt x="201695" y="24694"/>
                  </a:lnTo>
                  <a:lnTo>
                    <a:pt x="199657" y="28316"/>
                  </a:lnTo>
                  <a:lnTo>
                    <a:pt x="195134" y="36856"/>
                  </a:lnTo>
                  <a:lnTo>
                    <a:pt x="191050" y="42351"/>
                  </a:lnTo>
                  <a:lnTo>
                    <a:pt x="185787" y="48554"/>
                  </a:lnTo>
                  <a:lnTo>
                    <a:pt x="179738" y="55229"/>
                  </a:lnTo>
                  <a:lnTo>
                    <a:pt x="166244" y="69420"/>
                  </a:lnTo>
                  <a:lnTo>
                    <a:pt x="159089" y="76760"/>
                  </a:lnTo>
                  <a:lnTo>
                    <a:pt x="150933" y="83347"/>
                  </a:lnTo>
                  <a:lnTo>
                    <a:pt x="142108" y="89431"/>
                  </a:lnTo>
                  <a:lnTo>
                    <a:pt x="132839" y="95181"/>
                  </a:lnTo>
                  <a:lnTo>
                    <a:pt x="124120" y="102401"/>
                  </a:lnTo>
                  <a:lnTo>
                    <a:pt x="115767" y="110601"/>
                  </a:lnTo>
                  <a:lnTo>
                    <a:pt x="107658" y="119454"/>
                  </a:lnTo>
                  <a:lnTo>
                    <a:pt x="99712" y="127049"/>
                  </a:lnTo>
                  <a:lnTo>
                    <a:pt x="91875" y="133806"/>
                  </a:lnTo>
                  <a:lnTo>
                    <a:pt x="84110" y="140004"/>
                  </a:lnTo>
                  <a:lnTo>
                    <a:pt x="76393" y="146676"/>
                  </a:lnTo>
                  <a:lnTo>
                    <a:pt x="68709" y="153664"/>
                  </a:lnTo>
                  <a:lnTo>
                    <a:pt x="54244" y="167355"/>
                  </a:lnTo>
                  <a:lnTo>
                    <a:pt x="25854" y="195208"/>
                  </a:lnTo>
                  <a:lnTo>
                    <a:pt x="21469" y="198719"/>
                  </a:lnTo>
                  <a:lnTo>
                    <a:pt x="17699" y="201059"/>
                  </a:lnTo>
                  <a:lnTo>
                    <a:pt x="14340" y="202620"/>
                  </a:lnTo>
                  <a:lnTo>
                    <a:pt x="8349" y="206611"/>
                  </a:lnTo>
                  <a:lnTo>
                    <a:pt x="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381"/>
            <p:cNvSpPr/>
            <p:nvPr/>
          </p:nvSpPr>
          <p:spPr>
            <a:xfrm>
              <a:off x="1203840" y="2239560"/>
              <a:ext cx="174960" cy="835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75261" h="838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2997" y="8607"/>
                  </a:lnTo>
                  <a:lnTo>
                    <a:pt x="15438" y="11665"/>
                  </a:lnTo>
                  <a:lnTo>
                    <a:pt x="17912" y="15397"/>
                  </a:lnTo>
                  <a:lnTo>
                    <a:pt x="22101" y="18731"/>
                  </a:lnTo>
                  <a:lnTo>
                    <a:pt x="27434" y="21801"/>
                  </a:lnTo>
                  <a:lnTo>
                    <a:pt x="33530" y="24694"/>
                  </a:lnTo>
                  <a:lnTo>
                    <a:pt x="40133" y="28316"/>
                  </a:lnTo>
                  <a:lnTo>
                    <a:pt x="47075" y="32424"/>
                  </a:lnTo>
                  <a:lnTo>
                    <a:pt x="61562" y="41504"/>
                  </a:lnTo>
                  <a:lnTo>
                    <a:pt x="76468" y="51184"/>
                  </a:lnTo>
                  <a:lnTo>
                    <a:pt x="83999" y="55289"/>
                  </a:lnTo>
                  <a:lnTo>
                    <a:pt x="91559" y="58873"/>
                  </a:lnTo>
                  <a:lnTo>
                    <a:pt x="99140" y="62109"/>
                  </a:lnTo>
                  <a:lnTo>
                    <a:pt x="107580" y="65112"/>
                  </a:lnTo>
                  <a:lnTo>
                    <a:pt x="116593" y="67962"/>
                  </a:lnTo>
                  <a:lnTo>
                    <a:pt x="125989" y="70708"/>
                  </a:lnTo>
                  <a:lnTo>
                    <a:pt x="133946" y="73385"/>
                  </a:lnTo>
                  <a:lnTo>
                    <a:pt x="140944" y="76017"/>
                  </a:lnTo>
                  <a:lnTo>
                    <a:pt x="147302" y="78618"/>
                  </a:lnTo>
                  <a:lnTo>
                    <a:pt x="153235" y="80352"/>
                  </a:lnTo>
                  <a:lnTo>
                    <a:pt x="158883" y="81508"/>
                  </a:lnTo>
                  <a:lnTo>
                    <a:pt x="175260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382"/>
            <p:cNvSpPr/>
            <p:nvPr/>
          </p:nvSpPr>
          <p:spPr>
            <a:xfrm>
              <a:off x="1554480" y="2102400"/>
              <a:ext cx="53280" cy="2131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53341" h="213361">
                  <a:moveTo>
                    <a:pt x="0" y="0"/>
                  </a:moveTo>
                  <a:lnTo>
                    <a:pt x="0" y="13867"/>
                  </a:lnTo>
                  <a:lnTo>
                    <a:pt x="847" y="16018"/>
                  </a:lnTo>
                  <a:lnTo>
                    <a:pt x="2258" y="19145"/>
                  </a:lnTo>
                  <a:lnTo>
                    <a:pt x="4046" y="22923"/>
                  </a:lnTo>
                  <a:lnTo>
                    <a:pt x="5237" y="27136"/>
                  </a:lnTo>
                  <a:lnTo>
                    <a:pt x="6031" y="31637"/>
                  </a:lnTo>
                  <a:lnTo>
                    <a:pt x="6561" y="36332"/>
                  </a:lnTo>
                  <a:lnTo>
                    <a:pt x="6914" y="42848"/>
                  </a:lnTo>
                  <a:lnTo>
                    <a:pt x="7306" y="59119"/>
                  </a:lnTo>
                  <a:lnTo>
                    <a:pt x="8258" y="67353"/>
                  </a:lnTo>
                  <a:lnTo>
                    <a:pt x="9739" y="75382"/>
                  </a:lnTo>
                  <a:lnTo>
                    <a:pt x="11573" y="83274"/>
                  </a:lnTo>
                  <a:lnTo>
                    <a:pt x="12795" y="91076"/>
                  </a:lnTo>
                  <a:lnTo>
                    <a:pt x="13610" y="98818"/>
                  </a:lnTo>
                  <a:lnTo>
                    <a:pt x="14154" y="106518"/>
                  </a:lnTo>
                  <a:lnTo>
                    <a:pt x="16209" y="114192"/>
                  </a:lnTo>
                  <a:lnTo>
                    <a:pt x="19273" y="121848"/>
                  </a:lnTo>
                  <a:lnTo>
                    <a:pt x="23008" y="129492"/>
                  </a:lnTo>
                  <a:lnTo>
                    <a:pt x="25499" y="137128"/>
                  </a:lnTo>
                  <a:lnTo>
                    <a:pt x="27159" y="144759"/>
                  </a:lnTo>
                  <a:lnTo>
                    <a:pt x="28266" y="152386"/>
                  </a:lnTo>
                  <a:lnTo>
                    <a:pt x="29851" y="159164"/>
                  </a:lnTo>
                  <a:lnTo>
                    <a:pt x="31754" y="165376"/>
                  </a:lnTo>
                  <a:lnTo>
                    <a:pt x="33870" y="171211"/>
                  </a:lnTo>
                  <a:lnTo>
                    <a:pt x="36126" y="176794"/>
                  </a:lnTo>
                  <a:lnTo>
                    <a:pt x="38478" y="182209"/>
                  </a:lnTo>
                  <a:lnTo>
                    <a:pt x="40892" y="187513"/>
                  </a:lnTo>
                  <a:lnTo>
                    <a:pt x="43348" y="191895"/>
                  </a:lnTo>
                  <a:lnTo>
                    <a:pt x="45832" y="195664"/>
                  </a:lnTo>
                  <a:lnTo>
                    <a:pt x="48335" y="199022"/>
                  </a:lnTo>
                  <a:lnTo>
                    <a:pt x="50003" y="202108"/>
                  </a:lnTo>
                  <a:lnTo>
                    <a:pt x="51116" y="205012"/>
                  </a:lnTo>
                  <a:lnTo>
                    <a:pt x="5334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383"/>
            <p:cNvSpPr/>
            <p:nvPr/>
          </p:nvSpPr>
          <p:spPr>
            <a:xfrm>
              <a:off x="1447560" y="221652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4045" y="22860"/>
                  </a:lnTo>
                  <a:lnTo>
                    <a:pt x="6084" y="22013"/>
                  </a:lnTo>
                  <a:lnTo>
                    <a:pt x="8289" y="20602"/>
                  </a:lnTo>
                  <a:lnTo>
                    <a:pt x="10606" y="18814"/>
                  </a:lnTo>
                  <a:lnTo>
                    <a:pt x="13844" y="17623"/>
                  </a:lnTo>
                  <a:lnTo>
                    <a:pt x="17696" y="16829"/>
                  </a:lnTo>
                  <a:lnTo>
                    <a:pt x="21957" y="16299"/>
                  </a:lnTo>
                  <a:lnTo>
                    <a:pt x="28185" y="15946"/>
                  </a:lnTo>
                  <a:lnTo>
                    <a:pt x="44136" y="15554"/>
                  </a:lnTo>
                  <a:lnTo>
                    <a:pt x="76201" y="15333"/>
                  </a:lnTo>
                  <a:lnTo>
                    <a:pt x="88054" y="14455"/>
                  </a:lnTo>
                  <a:lnTo>
                    <a:pt x="100189" y="13023"/>
                  </a:lnTo>
                  <a:lnTo>
                    <a:pt x="112513" y="11222"/>
                  </a:lnTo>
                  <a:lnTo>
                    <a:pt x="124115" y="10021"/>
                  </a:lnTo>
                  <a:lnTo>
                    <a:pt x="135237" y="9221"/>
                  </a:lnTo>
                  <a:lnTo>
                    <a:pt x="146038" y="8687"/>
                  </a:lnTo>
                  <a:lnTo>
                    <a:pt x="155779" y="7485"/>
                  </a:lnTo>
                  <a:lnTo>
                    <a:pt x="164813" y="5837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384"/>
            <p:cNvSpPr/>
            <p:nvPr/>
          </p:nvSpPr>
          <p:spPr>
            <a:xfrm>
              <a:off x="1801800" y="2079360"/>
              <a:ext cx="247680" cy="2268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48022" h="226922">
                  <a:moveTo>
                    <a:pt x="11801" y="0"/>
                  </a:moveTo>
                  <a:lnTo>
                    <a:pt x="11801" y="21957"/>
                  </a:lnTo>
                  <a:lnTo>
                    <a:pt x="10954" y="26492"/>
                  </a:lnTo>
                  <a:lnTo>
                    <a:pt x="9543" y="31208"/>
                  </a:lnTo>
                  <a:lnTo>
                    <a:pt x="7756" y="36045"/>
                  </a:lnTo>
                  <a:lnTo>
                    <a:pt x="6564" y="41810"/>
                  </a:lnTo>
                  <a:lnTo>
                    <a:pt x="5770" y="48194"/>
                  </a:lnTo>
                  <a:lnTo>
                    <a:pt x="5240" y="54989"/>
                  </a:lnTo>
                  <a:lnTo>
                    <a:pt x="4040" y="62906"/>
                  </a:lnTo>
                  <a:lnTo>
                    <a:pt x="2394" y="71571"/>
                  </a:lnTo>
                  <a:lnTo>
                    <a:pt x="450" y="80734"/>
                  </a:lnTo>
                  <a:lnTo>
                    <a:pt x="0" y="89383"/>
                  </a:lnTo>
                  <a:lnTo>
                    <a:pt x="547" y="97688"/>
                  </a:lnTo>
                  <a:lnTo>
                    <a:pt x="1759" y="105766"/>
                  </a:lnTo>
                  <a:lnTo>
                    <a:pt x="2566" y="114537"/>
                  </a:lnTo>
                  <a:lnTo>
                    <a:pt x="3104" y="123772"/>
                  </a:lnTo>
                  <a:lnTo>
                    <a:pt x="3703" y="142216"/>
                  </a:lnTo>
                  <a:lnTo>
                    <a:pt x="3968" y="158881"/>
                  </a:lnTo>
                  <a:lnTo>
                    <a:pt x="5733" y="166881"/>
                  </a:lnTo>
                  <a:lnTo>
                    <a:pt x="8602" y="174754"/>
                  </a:lnTo>
                  <a:lnTo>
                    <a:pt x="18473" y="195712"/>
                  </a:lnTo>
                  <a:lnTo>
                    <a:pt x="21330" y="201595"/>
                  </a:lnTo>
                  <a:lnTo>
                    <a:pt x="25773" y="206363"/>
                  </a:lnTo>
                  <a:lnTo>
                    <a:pt x="31276" y="210389"/>
                  </a:lnTo>
                  <a:lnTo>
                    <a:pt x="37484" y="213920"/>
                  </a:lnTo>
                  <a:lnTo>
                    <a:pt x="48898" y="220100"/>
                  </a:lnTo>
                  <a:lnTo>
                    <a:pt x="54312" y="222933"/>
                  </a:lnTo>
                  <a:lnTo>
                    <a:pt x="60462" y="224822"/>
                  </a:lnTo>
                  <a:lnTo>
                    <a:pt x="67102" y="226082"/>
                  </a:lnTo>
                  <a:lnTo>
                    <a:pt x="74068" y="226921"/>
                  </a:lnTo>
                  <a:lnTo>
                    <a:pt x="81252" y="226634"/>
                  </a:lnTo>
                  <a:lnTo>
                    <a:pt x="88582" y="225596"/>
                  </a:lnTo>
                  <a:lnTo>
                    <a:pt x="96008" y="224057"/>
                  </a:lnTo>
                  <a:lnTo>
                    <a:pt x="102652" y="222185"/>
                  </a:lnTo>
                  <a:lnTo>
                    <a:pt x="108775" y="220090"/>
                  </a:lnTo>
                  <a:lnTo>
                    <a:pt x="114551" y="217847"/>
                  </a:lnTo>
                  <a:lnTo>
                    <a:pt x="119247" y="214658"/>
                  </a:lnTo>
                  <a:lnTo>
                    <a:pt x="123225" y="210839"/>
                  </a:lnTo>
                  <a:lnTo>
                    <a:pt x="126724" y="206599"/>
                  </a:lnTo>
                  <a:lnTo>
                    <a:pt x="129056" y="202080"/>
                  </a:lnTo>
                  <a:lnTo>
                    <a:pt x="130611" y="197373"/>
                  </a:lnTo>
                  <a:lnTo>
                    <a:pt x="131648" y="192542"/>
                  </a:lnTo>
                  <a:lnTo>
                    <a:pt x="132339" y="186781"/>
                  </a:lnTo>
                  <a:lnTo>
                    <a:pt x="132799" y="180401"/>
                  </a:lnTo>
                  <a:lnTo>
                    <a:pt x="133107" y="173607"/>
                  </a:lnTo>
                  <a:lnTo>
                    <a:pt x="131618" y="166539"/>
                  </a:lnTo>
                  <a:lnTo>
                    <a:pt x="128932" y="159286"/>
                  </a:lnTo>
                  <a:lnTo>
                    <a:pt x="125449" y="151911"/>
                  </a:lnTo>
                  <a:lnTo>
                    <a:pt x="121433" y="145300"/>
                  </a:lnTo>
                  <a:lnTo>
                    <a:pt x="117062" y="139200"/>
                  </a:lnTo>
                  <a:lnTo>
                    <a:pt x="112455" y="133440"/>
                  </a:lnTo>
                  <a:lnTo>
                    <a:pt x="107691" y="128753"/>
                  </a:lnTo>
                  <a:lnTo>
                    <a:pt x="102820" y="124782"/>
                  </a:lnTo>
                  <a:lnTo>
                    <a:pt x="97881" y="121288"/>
                  </a:lnTo>
                  <a:lnTo>
                    <a:pt x="92047" y="118112"/>
                  </a:lnTo>
                  <a:lnTo>
                    <a:pt x="85619" y="115148"/>
                  </a:lnTo>
                  <a:lnTo>
                    <a:pt x="78793" y="112326"/>
                  </a:lnTo>
                  <a:lnTo>
                    <a:pt x="72549" y="110444"/>
                  </a:lnTo>
                  <a:lnTo>
                    <a:pt x="66693" y="109189"/>
                  </a:lnTo>
                  <a:lnTo>
                    <a:pt x="61096" y="108353"/>
                  </a:lnTo>
                  <a:lnTo>
                    <a:pt x="55670" y="108642"/>
                  </a:lnTo>
                  <a:lnTo>
                    <a:pt x="50361" y="109681"/>
                  </a:lnTo>
                  <a:lnTo>
                    <a:pt x="45128" y="111221"/>
                  </a:lnTo>
                  <a:lnTo>
                    <a:pt x="40792" y="113094"/>
                  </a:lnTo>
                  <a:lnTo>
                    <a:pt x="33717" y="117433"/>
                  </a:lnTo>
                  <a:lnTo>
                    <a:pt x="31492" y="119775"/>
                  </a:lnTo>
                  <a:lnTo>
                    <a:pt x="30008" y="122184"/>
                  </a:lnTo>
                  <a:lnTo>
                    <a:pt x="29019" y="124636"/>
                  </a:lnTo>
                  <a:lnTo>
                    <a:pt x="29206" y="128811"/>
                  </a:lnTo>
                  <a:lnTo>
                    <a:pt x="30178" y="134134"/>
                  </a:lnTo>
                  <a:lnTo>
                    <a:pt x="31672" y="140222"/>
                  </a:lnTo>
                  <a:lnTo>
                    <a:pt x="33515" y="145975"/>
                  </a:lnTo>
                  <a:lnTo>
                    <a:pt x="35591" y="151504"/>
                  </a:lnTo>
                  <a:lnTo>
                    <a:pt x="37821" y="156883"/>
                  </a:lnTo>
                  <a:lnTo>
                    <a:pt x="41001" y="162162"/>
                  </a:lnTo>
                  <a:lnTo>
                    <a:pt x="44814" y="167375"/>
                  </a:lnTo>
                  <a:lnTo>
                    <a:pt x="49050" y="172543"/>
                  </a:lnTo>
                  <a:lnTo>
                    <a:pt x="55260" y="176836"/>
                  </a:lnTo>
                  <a:lnTo>
                    <a:pt x="62787" y="180544"/>
                  </a:lnTo>
                  <a:lnTo>
                    <a:pt x="71192" y="183863"/>
                  </a:lnTo>
                  <a:lnTo>
                    <a:pt x="80182" y="187768"/>
                  </a:lnTo>
                  <a:lnTo>
                    <a:pt x="99202" y="196624"/>
                  </a:lnTo>
                  <a:lnTo>
                    <a:pt x="109861" y="200509"/>
                  </a:lnTo>
                  <a:lnTo>
                    <a:pt x="121201" y="203946"/>
                  </a:lnTo>
                  <a:lnTo>
                    <a:pt x="132994" y="207084"/>
                  </a:lnTo>
                  <a:lnTo>
                    <a:pt x="144243" y="209176"/>
                  </a:lnTo>
                  <a:lnTo>
                    <a:pt x="155129" y="210571"/>
                  </a:lnTo>
                  <a:lnTo>
                    <a:pt x="165773" y="211501"/>
                  </a:lnTo>
                  <a:lnTo>
                    <a:pt x="175409" y="212121"/>
                  </a:lnTo>
                  <a:lnTo>
                    <a:pt x="192889" y="212809"/>
                  </a:lnTo>
                  <a:lnTo>
                    <a:pt x="221055" y="213197"/>
                  </a:lnTo>
                  <a:lnTo>
                    <a:pt x="228350" y="212405"/>
                  </a:lnTo>
                  <a:lnTo>
                    <a:pt x="234061" y="211030"/>
                  </a:lnTo>
                  <a:lnTo>
                    <a:pt x="248021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385"/>
            <p:cNvSpPr/>
            <p:nvPr/>
          </p:nvSpPr>
          <p:spPr>
            <a:xfrm>
              <a:off x="2187000" y="2079360"/>
              <a:ext cx="22320" cy="20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538" h="205741">
                  <a:moveTo>
                    <a:pt x="22537" y="0"/>
                  </a:moveTo>
                  <a:lnTo>
                    <a:pt x="22537" y="28739"/>
                  </a:lnTo>
                  <a:lnTo>
                    <a:pt x="21691" y="33553"/>
                  </a:lnTo>
                  <a:lnTo>
                    <a:pt x="20279" y="38455"/>
                  </a:lnTo>
                  <a:lnTo>
                    <a:pt x="18492" y="43417"/>
                  </a:lnTo>
                  <a:lnTo>
                    <a:pt x="17300" y="49265"/>
                  </a:lnTo>
                  <a:lnTo>
                    <a:pt x="16506" y="55703"/>
                  </a:lnTo>
                  <a:lnTo>
                    <a:pt x="15976" y="62536"/>
                  </a:lnTo>
                  <a:lnTo>
                    <a:pt x="14777" y="69630"/>
                  </a:lnTo>
                  <a:lnTo>
                    <a:pt x="13130" y="76900"/>
                  </a:lnTo>
                  <a:lnTo>
                    <a:pt x="11186" y="84287"/>
                  </a:lnTo>
                  <a:lnTo>
                    <a:pt x="9890" y="91751"/>
                  </a:lnTo>
                  <a:lnTo>
                    <a:pt x="9025" y="99267"/>
                  </a:lnTo>
                  <a:lnTo>
                    <a:pt x="8449" y="106819"/>
                  </a:lnTo>
                  <a:lnTo>
                    <a:pt x="8065" y="114392"/>
                  </a:lnTo>
                  <a:lnTo>
                    <a:pt x="7639" y="129581"/>
                  </a:lnTo>
                  <a:lnTo>
                    <a:pt x="6678" y="137187"/>
                  </a:lnTo>
                  <a:lnTo>
                    <a:pt x="5191" y="144798"/>
                  </a:lnTo>
                  <a:lnTo>
                    <a:pt x="3353" y="152412"/>
                  </a:lnTo>
                  <a:lnTo>
                    <a:pt x="2128" y="159181"/>
                  </a:lnTo>
                  <a:lnTo>
                    <a:pt x="1311" y="165388"/>
                  </a:lnTo>
                  <a:lnTo>
                    <a:pt x="766" y="171218"/>
                  </a:lnTo>
                  <a:lnTo>
                    <a:pt x="403" y="176799"/>
                  </a:lnTo>
                  <a:lnTo>
                    <a:pt x="161" y="182213"/>
                  </a:lnTo>
                  <a:lnTo>
                    <a:pt x="0" y="187515"/>
                  </a:lnTo>
                  <a:lnTo>
                    <a:pt x="739" y="191897"/>
                  </a:lnTo>
                  <a:lnTo>
                    <a:pt x="2079" y="195665"/>
                  </a:lnTo>
                  <a:lnTo>
                    <a:pt x="7297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386"/>
            <p:cNvSpPr/>
            <p:nvPr/>
          </p:nvSpPr>
          <p:spPr>
            <a:xfrm>
              <a:off x="2072520" y="2186280"/>
              <a:ext cx="205560" cy="30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5741" h="30481">
                  <a:moveTo>
                    <a:pt x="0" y="0"/>
                  </a:moveTo>
                  <a:lnTo>
                    <a:pt x="8091" y="0"/>
                  </a:lnTo>
                  <a:lnTo>
                    <a:pt x="12167" y="847"/>
                  </a:lnTo>
                  <a:lnTo>
                    <a:pt x="16578" y="2258"/>
                  </a:lnTo>
                  <a:lnTo>
                    <a:pt x="21212" y="4046"/>
                  </a:lnTo>
                  <a:lnTo>
                    <a:pt x="27688" y="5237"/>
                  </a:lnTo>
                  <a:lnTo>
                    <a:pt x="35392" y="6032"/>
                  </a:lnTo>
                  <a:lnTo>
                    <a:pt x="43915" y="6561"/>
                  </a:lnTo>
                  <a:lnTo>
                    <a:pt x="52983" y="7761"/>
                  </a:lnTo>
                  <a:lnTo>
                    <a:pt x="62416" y="9407"/>
                  </a:lnTo>
                  <a:lnTo>
                    <a:pt x="72090" y="11352"/>
                  </a:lnTo>
                  <a:lnTo>
                    <a:pt x="91871" y="15770"/>
                  </a:lnTo>
                  <a:lnTo>
                    <a:pt x="101888" y="18133"/>
                  </a:lnTo>
                  <a:lnTo>
                    <a:pt x="113645" y="19709"/>
                  </a:lnTo>
                  <a:lnTo>
                    <a:pt x="126563" y="20759"/>
                  </a:lnTo>
                  <a:lnTo>
                    <a:pt x="140256" y="21460"/>
                  </a:lnTo>
                  <a:lnTo>
                    <a:pt x="151077" y="22773"/>
                  </a:lnTo>
                  <a:lnTo>
                    <a:pt x="159985" y="24496"/>
                  </a:lnTo>
                  <a:lnTo>
                    <a:pt x="167617" y="26491"/>
                  </a:lnTo>
                  <a:lnTo>
                    <a:pt x="175244" y="27821"/>
                  </a:lnTo>
                  <a:lnTo>
                    <a:pt x="182870" y="28707"/>
                  </a:lnTo>
                  <a:lnTo>
                    <a:pt x="205740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387"/>
            <p:cNvSpPr/>
            <p:nvPr/>
          </p:nvSpPr>
          <p:spPr>
            <a:xfrm>
              <a:off x="2385000" y="2079360"/>
              <a:ext cx="167400" cy="2286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641" h="228601">
                  <a:moveTo>
                    <a:pt x="167640" y="0"/>
                  </a:moveTo>
                  <a:lnTo>
                    <a:pt x="167640" y="6561"/>
                  </a:lnTo>
                  <a:lnTo>
                    <a:pt x="163595" y="11352"/>
                  </a:lnTo>
                  <a:lnTo>
                    <a:pt x="162403" y="14341"/>
                  </a:lnTo>
                  <a:lnTo>
                    <a:pt x="161609" y="18027"/>
                  </a:lnTo>
                  <a:lnTo>
                    <a:pt x="161079" y="22178"/>
                  </a:lnTo>
                  <a:lnTo>
                    <a:pt x="159880" y="26639"/>
                  </a:lnTo>
                  <a:lnTo>
                    <a:pt x="158233" y="31306"/>
                  </a:lnTo>
                  <a:lnTo>
                    <a:pt x="156289" y="36111"/>
                  </a:lnTo>
                  <a:lnTo>
                    <a:pt x="151871" y="48223"/>
                  </a:lnTo>
                  <a:lnTo>
                    <a:pt x="149507" y="55009"/>
                  </a:lnTo>
                  <a:lnTo>
                    <a:pt x="146238" y="62072"/>
                  </a:lnTo>
                  <a:lnTo>
                    <a:pt x="142366" y="69322"/>
                  </a:lnTo>
                  <a:lnTo>
                    <a:pt x="138091" y="76694"/>
                  </a:lnTo>
                  <a:lnTo>
                    <a:pt x="132700" y="84996"/>
                  </a:lnTo>
                  <a:lnTo>
                    <a:pt x="126567" y="93918"/>
                  </a:lnTo>
                  <a:lnTo>
                    <a:pt x="113825" y="112014"/>
                  </a:lnTo>
                  <a:lnTo>
                    <a:pt x="102518" y="128524"/>
                  </a:lnTo>
                  <a:lnTo>
                    <a:pt x="96286" y="136483"/>
                  </a:lnTo>
                  <a:lnTo>
                    <a:pt x="89590" y="144329"/>
                  </a:lnTo>
                  <a:lnTo>
                    <a:pt x="76225" y="158973"/>
                  </a:lnTo>
                  <a:lnTo>
                    <a:pt x="64640" y="171126"/>
                  </a:lnTo>
                  <a:lnTo>
                    <a:pt x="21855" y="214353"/>
                  </a:lnTo>
                  <a:lnTo>
                    <a:pt x="18803" y="216562"/>
                  </a:lnTo>
                  <a:lnTo>
                    <a:pt x="15922" y="218035"/>
                  </a:lnTo>
                  <a:lnTo>
                    <a:pt x="13155" y="219017"/>
                  </a:lnTo>
                  <a:lnTo>
                    <a:pt x="10463" y="220518"/>
                  </a:lnTo>
                  <a:lnTo>
                    <a:pt x="7822" y="222365"/>
                  </a:lnTo>
                  <a:lnTo>
                    <a:pt x="0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388"/>
            <p:cNvSpPr/>
            <p:nvPr/>
          </p:nvSpPr>
          <p:spPr>
            <a:xfrm>
              <a:off x="2377440" y="2170800"/>
              <a:ext cx="243720" cy="91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43841" h="91441">
                  <a:moveTo>
                    <a:pt x="0" y="0"/>
                  </a:moveTo>
                  <a:lnTo>
                    <a:pt x="10606" y="0"/>
                  </a:lnTo>
                  <a:lnTo>
                    <a:pt x="17696" y="2258"/>
                  </a:lnTo>
                  <a:lnTo>
                    <a:pt x="21958" y="4045"/>
                  </a:lnTo>
                  <a:lnTo>
                    <a:pt x="27339" y="6084"/>
                  </a:lnTo>
                  <a:lnTo>
                    <a:pt x="40091" y="10606"/>
                  </a:lnTo>
                  <a:lnTo>
                    <a:pt x="47047" y="13844"/>
                  </a:lnTo>
                  <a:lnTo>
                    <a:pt x="54225" y="17696"/>
                  </a:lnTo>
                  <a:lnTo>
                    <a:pt x="61550" y="21957"/>
                  </a:lnTo>
                  <a:lnTo>
                    <a:pt x="76463" y="31208"/>
                  </a:lnTo>
                  <a:lnTo>
                    <a:pt x="83995" y="36045"/>
                  </a:lnTo>
                  <a:lnTo>
                    <a:pt x="93250" y="40117"/>
                  </a:lnTo>
                  <a:lnTo>
                    <a:pt x="103654" y="43678"/>
                  </a:lnTo>
                  <a:lnTo>
                    <a:pt x="114822" y="46898"/>
                  </a:lnTo>
                  <a:lnTo>
                    <a:pt x="125655" y="50739"/>
                  </a:lnTo>
                  <a:lnTo>
                    <a:pt x="136263" y="54993"/>
                  </a:lnTo>
                  <a:lnTo>
                    <a:pt x="146722" y="59522"/>
                  </a:lnTo>
                  <a:lnTo>
                    <a:pt x="157081" y="63388"/>
                  </a:lnTo>
                  <a:lnTo>
                    <a:pt x="167374" y="66812"/>
                  </a:lnTo>
                  <a:lnTo>
                    <a:pt x="177623" y="69941"/>
                  </a:lnTo>
                  <a:lnTo>
                    <a:pt x="198041" y="75676"/>
                  </a:lnTo>
                  <a:lnTo>
                    <a:pt x="208227" y="78391"/>
                  </a:lnTo>
                  <a:lnTo>
                    <a:pt x="216712" y="81047"/>
                  </a:lnTo>
                  <a:lnTo>
                    <a:pt x="224061" y="83665"/>
                  </a:lnTo>
                  <a:lnTo>
                    <a:pt x="243840" y="914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389"/>
            <p:cNvSpPr/>
            <p:nvPr/>
          </p:nvSpPr>
          <p:spPr>
            <a:xfrm>
              <a:off x="2743200" y="2148120"/>
              <a:ext cx="182880" cy="223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2881" h="22519">
                  <a:moveTo>
                    <a:pt x="0" y="0"/>
                  </a:moveTo>
                  <a:lnTo>
                    <a:pt x="6561" y="6561"/>
                  </a:lnTo>
                  <a:lnTo>
                    <a:pt x="11665" y="7150"/>
                  </a:lnTo>
                  <a:lnTo>
                    <a:pt x="15397" y="7306"/>
                  </a:lnTo>
                  <a:lnTo>
                    <a:pt x="20424" y="8258"/>
                  </a:lnTo>
                  <a:lnTo>
                    <a:pt x="26316" y="9739"/>
                  </a:lnTo>
                  <a:lnTo>
                    <a:pt x="32784" y="11572"/>
                  </a:lnTo>
                  <a:lnTo>
                    <a:pt x="39636" y="12795"/>
                  </a:lnTo>
                  <a:lnTo>
                    <a:pt x="46744" y="13610"/>
                  </a:lnTo>
                  <a:lnTo>
                    <a:pt x="54023" y="14154"/>
                  </a:lnTo>
                  <a:lnTo>
                    <a:pt x="61415" y="15362"/>
                  </a:lnTo>
                  <a:lnTo>
                    <a:pt x="68884" y="17015"/>
                  </a:lnTo>
                  <a:lnTo>
                    <a:pt x="76402" y="18964"/>
                  </a:lnTo>
                  <a:lnTo>
                    <a:pt x="83955" y="20262"/>
                  </a:lnTo>
                  <a:lnTo>
                    <a:pt x="91530" y="21128"/>
                  </a:lnTo>
                  <a:lnTo>
                    <a:pt x="99120" y="21705"/>
                  </a:lnTo>
                  <a:lnTo>
                    <a:pt x="106720" y="22090"/>
                  </a:lnTo>
                  <a:lnTo>
                    <a:pt x="121938" y="22518"/>
                  </a:lnTo>
                  <a:lnTo>
                    <a:pt x="129552" y="21785"/>
                  </a:lnTo>
                  <a:lnTo>
                    <a:pt x="137168" y="20450"/>
                  </a:lnTo>
                  <a:lnTo>
                    <a:pt x="144785" y="18714"/>
                  </a:lnTo>
                  <a:lnTo>
                    <a:pt x="151557" y="17556"/>
                  </a:lnTo>
                  <a:lnTo>
                    <a:pt x="157764" y="16784"/>
                  </a:lnTo>
                  <a:lnTo>
                    <a:pt x="163596" y="16269"/>
                  </a:lnTo>
                  <a:lnTo>
                    <a:pt x="168331" y="15926"/>
                  </a:lnTo>
                  <a:lnTo>
                    <a:pt x="1828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390"/>
            <p:cNvSpPr/>
            <p:nvPr/>
          </p:nvSpPr>
          <p:spPr>
            <a:xfrm>
              <a:off x="2773440" y="219384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8">
                  <a:moveTo>
                    <a:pt x="0" y="0"/>
                  </a:moveTo>
                  <a:lnTo>
                    <a:pt x="0" y="6561"/>
                  </a:lnTo>
                  <a:lnTo>
                    <a:pt x="1693" y="6914"/>
                  </a:lnTo>
                  <a:lnTo>
                    <a:pt x="4516" y="7149"/>
                  </a:lnTo>
                  <a:lnTo>
                    <a:pt x="8091" y="7306"/>
                  </a:lnTo>
                  <a:lnTo>
                    <a:pt x="12167" y="8257"/>
                  </a:lnTo>
                  <a:lnTo>
                    <a:pt x="16578" y="9738"/>
                  </a:lnTo>
                  <a:lnTo>
                    <a:pt x="21212" y="11572"/>
                  </a:lnTo>
                  <a:lnTo>
                    <a:pt x="26841" y="12795"/>
                  </a:lnTo>
                  <a:lnTo>
                    <a:pt x="33134" y="13610"/>
                  </a:lnTo>
                  <a:lnTo>
                    <a:pt x="39869" y="14153"/>
                  </a:lnTo>
                  <a:lnTo>
                    <a:pt x="46900" y="14516"/>
                  </a:lnTo>
                  <a:lnTo>
                    <a:pt x="61484" y="14918"/>
                  </a:lnTo>
                  <a:lnTo>
                    <a:pt x="169753" y="15237"/>
                  </a:lnTo>
                  <a:lnTo>
                    <a:pt x="175822" y="14392"/>
                  </a:lnTo>
                  <a:lnTo>
                    <a:pt x="181561" y="12981"/>
                  </a:lnTo>
                  <a:lnTo>
                    <a:pt x="19812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391"/>
            <p:cNvSpPr/>
            <p:nvPr/>
          </p:nvSpPr>
          <p:spPr>
            <a:xfrm>
              <a:off x="3018240" y="2003400"/>
              <a:ext cx="158760" cy="2818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58854" h="281933">
                  <a:moveTo>
                    <a:pt x="143784" y="7612"/>
                  </a:moveTo>
                  <a:lnTo>
                    <a:pt x="136478" y="306"/>
                  </a:lnTo>
                  <a:lnTo>
                    <a:pt x="132212" y="85"/>
                  </a:lnTo>
                  <a:lnTo>
                    <a:pt x="107654" y="0"/>
                  </a:lnTo>
                  <a:lnTo>
                    <a:pt x="101918" y="844"/>
                  </a:lnTo>
                  <a:lnTo>
                    <a:pt x="95553" y="2254"/>
                  </a:lnTo>
                  <a:lnTo>
                    <a:pt x="88770" y="4040"/>
                  </a:lnTo>
                  <a:lnTo>
                    <a:pt x="81708" y="6924"/>
                  </a:lnTo>
                  <a:lnTo>
                    <a:pt x="74461" y="10540"/>
                  </a:lnTo>
                  <a:lnTo>
                    <a:pt x="67088" y="14644"/>
                  </a:lnTo>
                  <a:lnTo>
                    <a:pt x="60480" y="19073"/>
                  </a:lnTo>
                  <a:lnTo>
                    <a:pt x="54382" y="23720"/>
                  </a:lnTo>
                  <a:lnTo>
                    <a:pt x="48623" y="28510"/>
                  </a:lnTo>
                  <a:lnTo>
                    <a:pt x="42243" y="34245"/>
                  </a:lnTo>
                  <a:lnTo>
                    <a:pt x="28382" y="47389"/>
                  </a:lnTo>
                  <a:lnTo>
                    <a:pt x="10343" y="65024"/>
                  </a:lnTo>
                  <a:lnTo>
                    <a:pt x="6563" y="70440"/>
                  </a:lnTo>
                  <a:lnTo>
                    <a:pt x="4044" y="75744"/>
                  </a:lnTo>
                  <a:lnTo>
                    <a:pt x="2365" y="80973"/>
                  </a:lnTo>
                  <a:lnTo>
                    <a:pt x="498" y="89041"/>
                  </a:lnTo>
                  <a:lnTo>
                    <a:pt x="0" y="92378"/>
                  </a:lnTo>
                  <a:lnTo>
                    <a:pt x="515" y="95450"/>
                  </a:lnTo>
                  <a:lnTo>
                    <a:pt x="3345" y="101120"/>
                  </a:lnTo>
                  <a:lnTo>
                    <a:pt x="6132" y="103817"/>
                  </a:lnTo>
                  <a:lnTo>
                    <a:pt x="9683" y="106462"/>
                  </a:lnTo>
                  <a:lnTo>
                    <a:pt x="13743" y="109072"/>
                  </a:lnTo>
                  <a:lnTo>
                    <a:pt x="18990" y="110812"/>
                  </a:lnTo>
                  <a:lnTo>
                    <a:pt x="25029" y="111972"/>
                  </a:lnTo>
                  <a:lnTo>
                    <a:pt x="31594" y="112745"/>
                  </a:lnTo>
                  <a:lnTo>
                    <a:pt x="38510" y="113261"/>
                  </a:lnTo>
                  <a:lnTo>
                    <a:pt x="45662" y="113605"/>
                  </a:lnTo>
                  <a:lnTo>
                    <a:pt x="52969" y="113834"/>
                  </a:lnTo>
                  <a:lnTo>
                    <a:pt x="60381" y="113140"/>
                  </a:lnTo>
                  <a:lnTo>
                    <a:pt x="67862" y="111831"/>
                  </a:lnTo>
                  <a:lnTo>
                    <a:pt x="75390" y="110111"/>
                  </a:lnTo>
                  <a:lnTo>
                    <a:pt x="82101" y="108118"/>
                  </a:lnTo>
                  <a:lnTo>
                    <a:pt x="88269" y="105943"/>
                  </a:lnTo>
                  <a:lnTo>
                    <a:pt x="94074" y="103646"/>
                  </a:lnTo>
                  <a:lnTo>
                    <a:pt x="99638" y="101268"/>
                  </a:lnTo>
                  <a:lnTo>
                    <a:pt x="110335" y="96368"/>
                  </a:lnTo>
                  <a:lnTo>
                    <a:pt x="115558" y="93030"/>
                  </a:lnTo>
                  <a:lnTo>
                    <a:pt x="120733" y="89110"/>
                  </a:lnTo>
                  <a:lnTo>
                    <a:pt x="125877" y="84804"/>
                  </a:lnTo>
                  <a:lnTo>
                    <a:pt x="131000" y="80240"/>
                  </a:lnTo>
                  <a:lnTo>
                    <a:pt x="141206" y="70654"/>
                  </a:lnTo>
                  <a:lnTo>
                    <a:pt x="152428" y="59782"/>
                  </a:lnTo>
                  <a:lnTo>
                    <a:pt x="154627" y="56785"/>
                  </a:lnTo>
                  <a:lnTo>
                    <a:pt x="158155" y="48150"/>
                  </a:lnTo>
                  <a:lnTo>
                    <a:pt x="158445" y="47338"/>
                  </a:lnTo>
                  <a:lnTo>
                    <a:pt x="158638" y="47643"/>
                  </a:lnTo>
                  <a:lnTo>
                    <a:pt x="158853" y="50239"/>
                  </a:lnTo>
                  <a:lnTo>
                    <a:pt x="158063" y="51270"/>
                  </a:lnTo>
                  <a:lnTo>
                    <a:pt x="156690" y="51957"/>
                  </a:lnTo>
                  <a:lnTo>
                    <a:pt x="154928" y="52416"/>
                  </a:lnTo>
                  <a:lnTo>
                    <a:pt x="152907" y="54414"/>
                  </a:lnTo>
                  <a:lnTo>
                    <a:pt x="148403" y="61151"/>
                  </a:lnTo>
                  <a:lnTo>
                    <a:pt x="143579" y="69790"/>
                  </a:lnTo>
                  <a:lnTo>
                    <a:pt x="141108" y="74464"/>
                  </a:lnTo>
                  <a:lnTo>
                    <a:pt x="138613" y="80120"/>
                  </a:lnTo>
                  <a:lnTo>
                    <a:pt x="136103" y="86431"/>
                  </a:lnTo>
                  <a:lnTo>
                    <a:pt x="131057" y="100216"/>
                  </a:lnTo>
                  <a:lnTo>
                    <a:pt x="118381" y="137305"/>
                  </a:lnTo>
                  <a:lnTo>
                    <a:pt x="116689" y="145721"/>
                  </a:lnTo>
                  <a:lnTo>
                    <a:pt x="115561" y="154718"/>
                  </a:lnTo>
                  <a:lnTo>
                    <a:pt x="114808" y="164103"/>
                  </a:lnTo>
                  <a:lnTo>
                    <a:pt x="113460" y="172899"/>
                  </a:lnTo>
                  <a:lnTo>
                    <a:pt x="111715" y="181303"/>
                  </a:lnTo>
                  <a:lnTo>
                    <a:pt x="109705" y="189446"/>
                  </a:lnTo>
                  <a:lnTo>
                    <a:pt x="108365" y="197415"/>
                  </a:lnTo>
                  <a:lnTo>
                    <a:pt x="107471" y="205267"/>
                  </a:lnTo>
                  <a:lnTo>
                    <a:pt x="106875" y="213042"/>
                  </a:lnTo>
                  <a:lnTo>
                    <a:pt x="106478" y="219919"/>
                  </a:lnTo>
                  <a:lnTo>
                    <a:pt x="106037" y="232075"/>
                  </a:lnTo>
                  <a:lnTo>
                    <a:pt x="105789" y="248439"/>
                  </a:lnTo>
                  <a:lnTo>
                    <a:pt x="105684" y="2819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392"/>
            <p:cNvSpPr/>
            <p:nvPr/>
          </p:nvSpPr>
          <p:spPr>
            <a:xfrm>
              <a:off x="3234600" y="2003400"/>
              <a:ext cx="156600" cy="2865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56935" h="286612">
                  <a:moveTo>
                    <a:pt x="49604" y="0"/>
                  </a:moveTo>
                  <a:lnTo>
                    <a:pt x="49604" y="10606"/>
                  </a:lnTo>
                  <a:lnTo>
                    <a:pt x="47346" y="17696"/>
                  </a:lnTo>
                  <a:lnTo>
                    <a:pt x="45559" y="21957"/>
                  </a:lnTo>
                  <a:lnTo>
                    <a:pt x="43521" y="27338"/>
                  </a:lnTo>
                  <a:lnTo>
                    <a:pt x="38998" y="40091"/>
                  </a:lnTo>
                  <a:lnTo>
                    <a:pt x="36607" y="47894"/>
                  </a:lnTo>
                  <a:lnTo>
                    <a:pt x="31692" y="65595"/>
                  </a:lnTo>
                  <a:lnTo>
                    <a:pt x="29196" y="75904"/>
                  </a:lnTo>
                  <a:lnTo>
                    <a:pt x="24165" y="98646"/>
                  </a:lnTo>
                  <a:lnTo>
                    <a:pt x="20791" y="109791"/>
                  </a:lnTo>
                  <a:lnTo>
                    <a:pt x="16849" y="120607"/>
                  </a:lnTo>
                  <a:lnTo>
                    <a:pt x="12527" y="131205"/>
                  </a:lnTo>
                  <a:lnTo>
                    <a:pt x="9647" y="141657"/>
                  </a:lnTo>
                  <a:lnTo>
                    <a:pt x="7726" y="152011"/>
                  </a:lnTo>
                  <a:lnTo>
                    <a:pt x="6445" y="162301"/>
                  </a:lnTo>
                  <a:lnTo>
                    <a:pt x="4745" y="172547"/>
                  </a:lnTo>
                  <a:lnTo>
                    <a:pt x="2764" y="182765"/>
                  </a:lnTo>
                  <a:lnTo>
                    <a:pt x="598" y="192963"/>
                  </a:lnTo>
                  <a:lnTo>
                    <a:pt x="0" y="202302"/>
                  </a:lnTo>
                  <a:lnTo>
                    <a:pt x="448" y="211068"/>
                  </a:lnTo>
                  <a:lnTo>
                    <a:pt x="1593" y="219452"/>
                  </a:lnTo>
                  <a:lnTo>
                    <a:pt x="3204" y="227582"/>
                  </a:lnTo>
                  <a:lnTo>
                    <a:pt x="5124" y="235541"/>
                  </a:lnTo>
                  <a:lnTo>
                    <a:pt x="7251" y="243388"/>
                  </a:lnTo>
                  <a:lnTo>
                    <a:pt x="10362" y="250312"/>
                  </a:lnTo>
                  <a:lnTo>
                    <a:pt x="14129" y="256621"/>
                  </a:lnTo>
                  <a:lnTo>
                    <a:pt x="18334" y="262521"/>
                  </a:lnTo>
                  <a:lnTo>
                    <a:pt x="22831" y="268147"/>
                  </a:lnTo>
                  <a:lnTo>
                    <a:pt x="27522" y="273592"/>
                  </a:lnTo>
                  <a:lnTo>
                    <a:pt x="32342" y="278914"/>
                  </a:lnTo>
                  <a:lnTo>
                    <a:pt x="38096" y="282463"/>
                  </a:lnTo>
                  <a:lnTo>
                    <a:pt x="44472" y="284829"/>
                  </a:lnTo>
                  <a:lnTo>
                    <a:pt x="51263" y="286406"/>
                  </a:lnTo>
                  <a:lnTo>
                    <a:pt x="58330" y="286611"/>
                  </a:lnTo>
                  <a:lnTo>
                    <a:pt x="65581" y="285900"/>
                  </a:lnTo>
                  <a:lnTo>
                    <a:pt x="72956" y="284580"/>
                  </a:lnTo>
                  <a:lnTo>
                    <a:pt x="80411" y="282007"/>
                  </a:lnTo>
                  <a:lnTo>
                    <a:pt x="87922" y="278598"/>
                  </a:lnTo>
                  <a:lnTo>
                    <a:pt x="95469" y="274632"/>
                  </a:lnTo>
                  <a:lnTo>
                    <a:pt x="103041" y="269448"/>
                  </a:lnTo>
                  <a:lnTo>
                    <a:pt x="110629" y="263452"/>
                  </a:lnTo>
                  <a:lnTo>
                    <a:pt x="118227" y="256915"/>
                  </a:lnTo>
                  <a:lnTo>
                    <a:pt x="124986" y="250016"/>
                  </a:lnTo>
                  <a:lnTo>
                    <a:pt x="131186" y="242878"/>
                  </a:lnTo>
                  <a:lnTo>
                    <a:pt x="137012" y="235579"/>
                  </a:lnTo>
                  <a:lnTo>
                    <a:pt x="142589" y="227326"/>
                  </a:lnTo>
                  <a:lnTo>
                    <a:pt x="148001" y="218437"/>
                  </a:lnTo>
                  <a:lnTo>
                    <a:pt x="153302" y="209125"/>
                  </a:lnTo>
                  <a:lnTo>
                    <a:pt x="155989" y="200377"/>
                  </a:lnTo>
                  <a:lnTo>
                    <a:pt x="156934" y="192005"/>
                  </a:lnTo>
                  <a:lnTo>
                    <a:pt x="156718" y="183883"/>
                  </a:lnTo>
                  <a:lnTo>
                    <a:pt x="155726" y="175929"/>
                  </a:lnTo>
                  <a:lnTo>
                    <a:pt x="154219" y="168086"/>
                  </a:lnTo>
                  <a:lnTo>
                    <a:pt x="152368" y="160317"/>
                  </a:lnTo>
                  <a:lnTo>
                    <a:pt x="149440" y="152598"/>
                  </a:lnTo>
                  <a:lnTo>
                    <a:pt x="145794" y="144912"/>
                  </a:lnTo>
                  <a:lnTo>
                    <a:pt x="141671" y="137248"/>
                  </a:lnTo>
                  <a:lnTo>
                    <a:pt x="136382" y="130446"/>
                  </a:lnTo>
                  <a:lnTo>
                    <a:pt x="130316" y="124217"/>
                  </a:lnTo>
                  <a:lnTo>
                    <a:pt x="123732" y="118371"/>
                  </a:lnTo>
                  <a:lnTo>
                    <a:pt x="115956" y="112781"/>
                  </a:lnTo>
                  <a:lnTo>
                    <a:pt x="107385" y="107361"/>
                  </a:lnTo>
                  <a:lnTo>
                    <a:pt x="90525" y="97669"/>
                  </a:lnTo>
                  <a:lnTo>
                    <a:pt x="77386" y="90540"/>
                  </a:lnTo>
                  <a:lnTo>
                    <a:pt x="70666" y="88300"/>
                  </a:lnTo>
                  <a:lnTo>
                    <a:pt x="63645" y="86807"/>
                  </a:lnTo>
                  <a:lnTo>
                    <a:pt x="41984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393"/>
            <p:cNvSpPr/>
            <p:nvPr/>
          </p:nvSpPr>
          <p:spPr>
            <a:xfrm>
              <a:off x="780840" y="2567160"/>
              <a:ext cx="194040" cy="1785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94366" h="178616">
                  <a:moveTo>
                    <a:pt x="72445" y="0"/>
                  </a:moveTo>
                  <a:lnTo>
                    <a:pt x="72445" y="10606"/>
                  </a:lnTo>
                  <a:lnTo>
                    <a:pt x="71598" y="13844"/>
                  </a:lnTo>
                  <a:lnTo>
                    <a:pt x="70187" y="17696"/>
                  </a:lnTo>
                  <a:lnTo>
                    <a:pt x="68400" y="21958"/>
                  </a:lnTo>
                  <a:lnTo>
                    <a:pt x="66362" y="26492"/>
                  </a:lnTo>
                  <a:lnTo>
                    <a:pt x="61839" y="36045"/>
                  </a:lnTo>
                  <a:lnTo>
                    <a:pt x="47006" y="66083"/>
                  </a:lnTo>
                  <a:lnTo>
                    <a:pt x="43632" y="71995"/>
                  </a:lnTo>
                  <a:lnTo>
                    <a:pt x="39690" y="78477"/>
                  </a:lnTo>
                  <a:lnTo>
                    <a:pt x="35368" y="85338"/>
                  </a:lnTo>
                  <a:lnTo>
                    <a:pt x="31641" y="91605"/>
                  </a:lnTo>
                  <a:lnTo>
                    <a:pt x="28309" y="97477"/>
                  </a:lnTo>
                  <a:lnTo>
                    <a:pt x="25241" y="103085"/>
                  </a:lnTo>
                  <a:lnTo>
                    <a:pt x="21502" y="109363"/>
                  </a:lnTo>
                  <a:lnTo>
                    <a:pt x="12833" y="123112"/>
                  </a:lnTo>
                  <a:lnTo>
                    <a:pt x="9844" y="129488"/>
                  </a:lnTo>
                  <a:lnTo>
                    <a:pt x="7851" y="135432"/>
                  </a:lnTo>
                  <a:lnTo>
                    <a:pt x="6522" y="141088"/>
                  </a:lnTo>
                  <a:lnTo>
                    <a:pt x="4790" y="145705"/>
                  </a:lnTo>
                  <a:lnTo>
                    <a:pt x="2788" y="149630"/>
                  </a:lnTo>
                  <a:lnTo>
                    <a:pt x="607" y="153094"/>
                  </a:lnTo>
                  <a:lnTo>
                    <a:pt x="0" y="156249"/>
                  </a:lnTo>
                  <a:lnTo>
                    <a:pt x="442" y="159199"/>
                  </a:lnTo>
                  <a:lnTo>
                    <a:pt x="1583" y="162013"/>
                  </a:lnTo>
                  <a:lnTo>
                    <a:pt x="4037" y="164735"/>
                  </a:lnTo>
                  <a:lnTo>
                    <a:pt x="7366" y="167397"/>
                  </a:lnTo>
                  <a:lnTo>
                    <a:pt x="11279" y="170018"/>
                  </a:lnTo>
                  <a:lnTo>
                    <a:pt x="15581" y="172612"/>
                  </a:lnTo>
                  <a:lnTo>
                    <a:pt x="20142" y="175188"/>
                  </a:lnTo>
                  <a:lnTo>
                    <a:pt x="24877" y="177752"/>
                  </a:lnTo>
                  <a:lnTo>
                    <a:pt x="31419" y="178615"/>
                  </a:lnTo>
                  <a:lnTo>
                    <a:pt x="39168" y="178343"/>
                  </a:lnTo>
                  <a:lnTo>
                    <a:pt x="47720" y="177315"/>
                  </a:lnTo>
                  <a:lnTo>
                    <a:pt x="57655" y="175784"/>
                  </a:lnTo>
                  <a:lnTo>
                    <a:pt x="79983" y="171824"/>
                  </a:lnTo>
                  <a:lnTo>
                    <a:pt x="116353" y="164834"/>
                  </a:lnTo>
                  <a:lnTo>
                    <a:pt x="128811" y="161536"/>
                  </a:lnTo>
                  <a:lnTo>
                    <a:pt x="141349" y="157644"/>
                  </a:lnTo>
                  <a:lnTo>
                    <a:pt x="153941" y="153356"/>
                  </a:lnTo>
                  <a:lnTo>
                    <a:pt x="164029" y="150498"/>
                  </a:lnTo>
                  <a:lnTo>
                    <a:pt x="172448" y="148592"/>
                  </a:lnTo>
                  <a:lnTo>
                    <a:pt x="194365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394"/>
            <p:cNvSpPr/>
            <p:nvPr/>
          </p:nvSpPr>
          <p:spPr>
            <a:xfrm>
              <a:off x="1013760" y="2582280"/>
              <a:ext cx="37440" cy="304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37757" h="304801">
                  <a:moveTo>
                    <a:pt x="37756" y="0"/>
                  </a:moveTo>
                  <a:lnTo>
                    <a:pt x="31195" y="6561"/>
                  </a:lnTo>
                  <a:lnTo>
                    <a:pt x="30607" y="9407"/>
                  </a:lnTo>
                  <a:lnTo>
                    <a:pt x="30276" y="18028"/>
                  </a:lnTo>
                  <a:lnTo>
                    <a:pt x="30229" y="22178"/>
                  </a:lnTo>
                  <a:lnTo>
                    <a:pt x="29352" y="26639"/>
                  </a:lnTo>
                  <a:lnTo>
                    <a:pt x="27920" y="31306"/>
                  </a:lnTo>
                  <a:lnTo>
                    <a:pt x="26119" y="36111"/>
                  </a:lnTo>
                  <a:lnTo>
                    <a:pt x="24918" y="41007"/>
                  </a:lnTo>
                  <a:lnTo>
                    <a:pt x="24117" y="45965"/>
                  </a:lnTo>
                  <a:lnTo>
                    <a:pt x="23584" y="50963"/>
                  </a:lnTo>
                  <a:lnTo>
                    <a:pt x="23228" y="56835"/>
                  </a:lnTo>
                  <a:lnTo>
                    <a:pt x="22832" y="70134"/>
                  </a:lnTo>
                  <a:lnTo>
                    <a:pt x="21880" y="77236"/>
                  </a:lnTo>
                  <a:lnTo>
                    <a:pt x="20399" y="84510"/>
                  </a:lnTo>
                  <a:lnTo>
                    <a:pt x="18565" y="91900"/>
                  </a:lnTo>
                  <a:lnTo>
                    <a:pt x="17342" y="100213"/>
                  </a:lnTo>
                  <a:lnTo>
                    <a:pt x="16527" y="109142"/>
                  </a:lnTo>
                  <a:lnTo>
                    <a:pt x="15983" y="118482"/>
                  </a:lnTo>
                  <a:lnTo>
                    <a:pt x="14774" y="127248"/>
                  </a:lnTo>
                  <a:lnTo>
                    <a:pt x="13122" y="135632"/>
                  </a:lnTo>
                  <a:lnTo>
                    <a:pt x="11173" y="143761"/>
                  </a:lnTo>
                  <a:lnTo>
                    <a:pt x="9874" y="152567"/>
                  </a:lnTo>
                  <a:lnTo>
                    <a:pt x="9008" y="161825"/>
                  </a:lnTo>
                  <a:lnTo>
                    <a:pt x="8431" y="171383"/>
                  </a:lnTo>
                  <a:lnTo>
                    <a:pt x="7199" y="180296"/>
                  </a:lnTo>
                  <a:lnTo>
                    <a:pt x="5531" y="188777"/>
                  </a:lnTo>
                  <a:lnTo>
                    <a:pt x="3573" y="196971"/>
                  </a:lnTo>
                  <a:lnTo>
                    <a:pt x="2267" y="205821"/>
                  </a:lnTo>
                  <a:lnTo>
                    <a:pt x="1397" y="215107"/>
                  </a:lnTo>
                  <a:lnTo>
                    <a:pt x="817" y="224685"/>
                  </a:lnTo>
                  <a:lnTo>
                    <a:pt x="172" y="242100"/>
                  </a:lnTo>
                  <a:lnTo>
                    <a:pt x="0" y="250300"/>
                  </a:lnTo>
                  <a:lnTo>
                    <a:pt x="732" y="257460"/>
                  </a:lnTo>
                  <a:lnTo>
                    <a:pt x="2067" y="263927"/>
                  </a:lnTo>
                  <a:lnTo>
                    <a:pt x="3803" y="269931"/>
                  </a:lnTo>
                  <a:lnTo>
                    <a:pt x="5808" y="275627"/>
                  </a:lnTo>
                  <a:lnTo>
                    <a:pt x="7990" y="281118"/>
                  </a:lnTo>
                  <a:lnTo>
                    <a:pt x="10292" y="286472"/>
                  </a:lnTo>
                  <a:lnTo>
                    <a:pt x="12674" y="290888"/>
                  </a:lnTo>
                  <a:lnTo>
                    <a:pt x="15108" y="294679"/>
                  </a:lnTo>
                  <a:lnTo>
                    <a:pt x="22516" y="3048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395"/>
            <p:cNvSpPr/>
            <p:nvPr/>
          </p:nvSpPr>
          <p:spPr>
            <a:xfrm>
              <a:off x="1081800" y="26510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60021" h="220981">
                  <a:moveTo>
                    <a:pt x="160020" y="0"/>
                  </a:moveTo>
                  <a:lnTo>
                    <a:pt x="160020" y="29485"/>
                  </a:lnTo>
                  <a:lnTo>
                    <a:pt x="158327" y="34896"/>
                  </a:lnTo>
                  <a:lnTo>
                    <a:pt x="155505" y="41044"/>
                  </a:lnTo>
                  <a:lnTo>
                    <a:pt x="151930" y="47683"/>
                  </a:lnTo>
                  <a:lnTo>
                    <a:pt x="148700" y="54649"/>
                  </a:lnTo>
                  <a:lnTo>
                    <a:pt x="145700" y="61832"/>
                  </a:lnTo>
                  <a:lnTo>
                    <a:pt x="142853" y="69162"/>
                  </a:lnTo>
                  <a:lnTo>
                    <a:pt x="139262" y="76588"/>
                  </a:lnTo>
                  <a:lnTo>
                    <a:pt x="135175" y="84078"/>
                  </a:lnTo>
                  <a:lnTo>
                    <a:pt x="130757" y="91612"/>
                  </a:lnTo>
                  <a:lnTo>
                    <a:pt x="121332" y="106757"/>
                  </a:lnTo>
                  <a:lnTo>
                    <a:pt x="101484" y="137175"/>
                  </a:lnTo>
                  <a:lnTo>
                    <a:pt x="95596" y="144790"/>
                  </a:lnTo>
                  <a:lnTo>
                    <a:pt x="89131" y="152407"/>
                  </a:lnTo>
                  <a:lnTo>
                    <a:pt x="82281" y="160025"/>
                  </a:lnTo>
                  <a:lnTo>
                    <a:pt x="75174" y="166796"/>
                  </a:lnTo>
                  <a:lnTo>
                    <a:pt x="67896" y="173005"/>
                  </a:lnTo>
                  <a:lnTo>
                    <a:pt x="60504" y="178836"/>
                  </a:lnTo>
                  <a:lnTo>
                    <a:pt x="53883" y="184417"/>
                  </a:lnTo>
                  <a:lnTo>
                    <a:pt x="47775" y="189832"/>
                  </a:lnTo>
                  <a:lnTo>
                    <a:pt x="42010" y="195134"/>
                  </a:lnTo>
                  <a:lnTo>
                    <a:pt x="36474" y="199517"/>
                  </a:lnTo>
                  <a:lnTo>
                    <a:pt x="31089" y="203284"/>
                  </a:lnTo>
                  <a:lnTo>
                    <a:pt x="25806" y="206643"/>
                  </a:lnTo>
                  <a:lnTo>
                    <a:pt x="21437" y="208882"/>
                  </a:lnTo>
                  <a:lnTo>
                    <a:pt x="17678" y="210375"/>
                  </a:lnTo>
                  <a:lnTo>
                    <a:pt x="14326" y="211370"/>
                  </a:lnTo>
                  <a:lnTo>
                    <a:pt x="11244" y="212880"/>
                  </a:lnTo>
                  <a:lnTo>
                    <a:pt x="8343" y="214733"/>
                  </a:lnTo>
                  <a:lnTo>
                    <a:pt x="0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396"/>
            <p:cNvSpPr/>
            <p:nvPr/>
          </p:nvSpPr>
          <p:spPr>
            <a:xfrm>
              <a:off x="1081800" y="2753280"/>
              <a:ext cx="274320" cy="1108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74321" h="111071">
                  <a:moveTo>
                    <a:pt x="0" y="4390"/>
                  </a:moveTo>
                  <a:lnTo>
                    <a:pt x="8091" y="345"/>
                  </a:lnTo>
                  <a:lnTo>
                    <a:pt x="11320" y="0"/>
                  </a:lnTo>
                  <a:lnTo>
                    <a:pt x="14320" y="617"/>
                  </a:lnTo>
                  <a:lnTo>
                    <a:pt x="19911" y="2713"/>
                  </a:lnTo>
                  <a:lnTo>
                    <a:pt x="25218" y="3645"/>
                  </a:lnTo>
                  <a:lnTo>
                    <a:pt x="32657" y="4059"/>
                  </a:lnTo>
                  <a:lnTo>
                    <a:pt x="37011" y="4169"/>
                  </a:lnTo>
                  <a:lnTo>
                    <a:pt x="43301" y="5090"/>
                  </a:lnTo>
                  <a:lnTo>
                    <a:pt x="50881" y="6550"/>
                  </a:lnTo>
                  <a:lnTo>
                    <a:pt x="59320" y="8370"/>
                  </a:lnTo>
                  <a:lnTo>
                    <a:pt x="66640" y="10430"/>
                  </a:lnTo>
                  <a:lnTo>
                    <a:pt x="73213" y="12650"/>
                  </a:lnTo>
                  <a:lnTo>
                    <a:pt x="79289" y="14977"/>
                  </a:lnTo>
                  <a:lnTo>
                    <a:pt x="86726" y="17375"/>
                  </a:lnTo>
                  <a:lnTo>
                    <a:pt x="95071" y="19820"/>
                  </a:lnTo>
                  <a:lnTo>
                    <a:pt x="104021" y="22297"/>
                  </a:lnTo>
                  <a:lnTo>
                    <a:pt x="111680" y="25641"/>
                  </a:lnTo>
                  <a:lnTo>
                    <a:pt x="118480" y="29564"/>
                  </a:lnTo>
                  <a:lnTo>
                    <a:pt x="145606" y="48027"/>
                  </a:lnTo>
                  <a:lnTo>
                    <a:pt x="190573" y="78091"/>
                  </a:lnTo>
                  <a:lnTo>
                    <a:pt x="198168" y="82310"/>
                  </a:lnTo>
                  <a:lnTo>
                    <a:pt x="205772" y="85970"/>
                  </a:lnTo>
                  <a:lnTo>
                    <a:pt x="213381" y="89257"/>
                  </a:lnTo>
                  <a:lnTo>
                    <a:pt x="221841" y="92295"/>
                  </a:lnTo>
                  <a:lnTo>
                    <a:pt x="230867" y="95167"/>
                  </a:lnTo>
                  <a:lnTo>
                    <a:pt x="240272" y="97928"/>
                  </a:lnTo>
                  <a:lnTo>
                    <a:pt x="248234" y="100615"/>
                  </a:lnTo>
                  <a:lnTo>
                    <a:pt x="255237" y="103254"/>
                  </a:lnTo>
                  <a:lnTo>
                    <a:pt x="274320" y="11107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397"/>
            <p:cNvSpPr/>
            <p:nvPr/>
          </p:nvSpPr>
          <p:spPr>
            <a:xfrm>
              <a:off x="1531440" y="264348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101" h="2286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7760"/>
                  </a:lnTo>
                  <a:lnTo>
                    <a:pt x="6031" y="9407"/>
                  </a:lnTo>
                  <a:lnTo>
                    <a:pt x="6561" y="11351"/>
                  </a:lnTo>
                  <a:lnTo>
                    <a:pt x="7761" y="14341"/>
                  </a:lnTo>
                  <a:lnTo>
                    <a:pt x="9407" y="18027"/>
                  </a:lnTo>
                  <a:lnTo>
                    <a:pt x="11352" y="22178"/>
                  </a:lnTo>
                  <a:lnTo>
                    <a:pt x="12648" y="26639"/>
                  </a:lnTo>
                  <a:lnTo>
                    <a:pt x="13512" y="31306"/>
                  </a:lnTo>
                  <a:lnTo>
                    <a:pt x="14088" y="36110"/>
                  </a:lnTo>
                  <a:lnTo>
                    <a:pt x="15319" y="41007"/>
                  </a:lnTo>
                  <a:lnTo>
                    <a:pt x="16986" y="45965"/>
                  </a:lnTo>
                  <a:lnTo>
                    <a:pt x="18944" y="50963"/>
                  </a:lnTo>
                  <a:lnTo>
                    <a:pt x="20249" y="56835"/>
                  </a:lnTo>
                  <a:lnTo>
                    <a:pt x="21120" y="63290"/>
                  </a:lnTo>
                  <a:lnTo>
                    <a:pt x="21700" y="70133"/>
                  </a:lnTo>
                  <a:lnTo>
                    <a:pt x="22933" y="78082"/>
                  </a:lnTo>
                  <a:lnTo>
                    <a:pt x="24602" y="86768"/>
                  </a:lnTo>
                  <a:lnTo>
                    <a:pt x="26562" y="95946"/>
                  </a:lnTo>
                  <a:lnTo>
                    <a:pt x="27868" y="104604"/>
                  </a:lnTo>
                  <a:lnTo>
                    <a:pt x="28739" y="112916"/>
                  </a:lnTo>
                  <a:lnTo>
                    <a:pt x="29319" y="120997"/>
                  </a:lnTo>
                  <a:lnTo>
                    <a:pt x="30553" y="128925"/>
                  </a:lnTo>
                  <a:lnTo>
                    <a:pt x="32222" y="136750"/>
                  </a:lnTo>
                  <a:lnTo>
                    <a:pt x="34182" y="144506"/>
                  </a:lnTo>
                  <a:lnTo>
                    <a:pt x="35488" y="152218"/>
                  </a:lnTo>
                  <a:lnTo>
                    <a:pt x="36358" y="159898"/>
                  </a:lnTo>
                  <a:lnTo>
                    <a:pt x="36939" y="167559"/>
                  </a:lnTo>
                  <a:lnTo>
                    <a:pt x="37326" y="174359"/>
                  </a:lnTo>
                  <a:lnTo>
                    <a:pt x="37756" y="186431"/>
                  </a:lnTo>
                  <a:lnTo>
                    <a:pt x="38032" y="207131"/>
                  </a:lnTo>
                  <a:lnTo>
                    <a:pt x="38100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MARTInkAnnotation398"/>
            <p:cNvSpPr/>
            <p:nvPr/>
          </p:nvSpPr>
          <p:spPr>
            <a:xfrm>
              <a:off x="1417320" y="2788200"/>
              <a:ext cx="137160" cy="3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61" h="1">
                  <a:moveTo>
                    <a:pt x="0" y="0"/>
                  </a:moveTo>
                  <a:lnTo>
                    <a:pt x="1371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MARTInkAnnotation399"/>
            <p:cNvSpPr/>
            <p:nvPr/>
          </p:nvSpPr>
          <p:spPr>
            <a:xfrm>
              <a:off x="1701000" y="2635920"/>
              <a:ext cx="226800" cy="203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226911" h="204037">
                  <a:moveTo>
                    <a:pt x="51650" y="7592"/>
                  </a:moveTo>
                  <a:lnTo>
                    <a:pt x="59243" y="0"/>
                  </a:lnTo>
                  <a:lnTo>
                    <a:pt x="59268" y="17141"/>
                  </a:lnTo>
                  <a:lnTo>
                    <a:pt x="58422" y="20731"/>
                  </a:lnTo>
                  <a:lnTo>
                    <a:pt x="57011" y="24818"/>
                  </a:lnTo>
                  <a:lnTo>
                    <a:pt x="55224" y="29237"/>
                  </a:lnTo>
                  <a:lnTo>
                    <a:pt x="53186" y="33875"/>
                  </a:lnTo>
                  <a:lnTo>
                    <a:pt x="48664" y="43544"/>
                  </a:lnTo>
                  <a:lnTo>
                    <a:pt x="46273" y="50187"/>
                  </a:lnTo>
                  <a:lnTo>
                    <a:pt x="43832" y="58002"/>
                  </a:lnTo>
                  <a:lnTo>
                    <a:pt x="41358" y="66599"/>
                  </a:lnTo>
                  <a:lnTo>
                    <a:pt x="37169" y="74870"/>
                  </a:lnTo>
                  <a:lnTo>
                    <a:pt x="31836" y="82924"/>
                  </a:lnTo>
                  <a:lnTo>
                    <a:pt x="25741" y="90833"/>
                  </a:lnTo>
                  <a:lnTo>
                    <a:pt x="20830" y="98646"/>
                  </a:lnTo>
                  <a:lnTo>
                    <a:pt x="16711" y="106395"/>
                  </a:lnTo>
                  <a:lnTo>
                    <a:pt x="13117" y="114101"/>
                  </a:lnTo>
                  <a:lnTo>
                    <a:pt x="9875" y="121778"/>
                  </a:lnTo>
                  <a:lnTo>
                    <a:pt x="6867" y="129436"/>
                  </a:lnTo>
                  <a:lnTo>
                    <a:pt x="4014" y="137081"/>
                  </a:lnTo>
                  <a:lnTo>
                    <a:pt x="2113" y="144718"/>
                  </a:lnTo>
                  <a:lnTo>
                    <a:pt x="846" y="152350"/>
                  </a:lnTo>
                  <a:lnTo>
                    <a:pt x="0" y="159977"/>
                  </a:lnTo>
                  <a:lnTo>
                    <a:pt x="284" y="166755"/>
                  </a:lnTo>
                  <a:lnTo>
                    <a:pt x="1319" y="172968"/>
                  </a:lnTo>
                  <a:lnTo>
                    <a:pt x="2856" y="178802"/>
                  </a:lnTo>
                  <a:lnTo>
                    <a:pt x="4728" y="183539"/>
                  </a:lnTo>
                  <a:lnTo>
                    <a:pt x="6822" y="187543"/>
                  </a:lnTo>
                  <a:lnTo>
                    <a:pt x="9065" y="191060"/>
                  </a:lnTo>
                  <a:lnTo>
                    <a:pt x="13100" y="194250"/>
                  </a:lnTo>
                  <a:lnTo>
                    <a:pt x="18330" y="197224"/>
                  </a:lnTo>
                  <a:lnTo>
                    <a:pt x="24357" y="200054"/>
                  </a:lnTo>
                  <a:lnTo>
                    <a:pt x="30068" y="201940"/>
                  </a:lnTo>
                  <a:lnTo>
                    <a:pt x="35569" y="203197"/>
                  </a:lnTo>
                  <a:lnTo>
                    <a:pt x="40929" y="204036"/>
                  </a:lnTo>
                  <a:lnTo>
                    <a:pt x="47043" y="203747"/>
                  </a:lnTo>
                  <a:lnTo>
                    <a:pt x="53659" y="202709"/>
                  </a:lnTo>
                  <a:lnTo>
                    <a:pt x="60609" y="201170"/>
                  </a:lnTo>
                  <a:lnTo>
                    <a:pt x="67783" y="199298"/>
                  </a:lnTo>
                  <a:lnTo>
                    <a:pt x="75105" y="197202"/>
                  </a:lnTo>
                  <a:lnTo>
                    <a:pt x="82527" y="194959"/>
                  </a:lnTo>
                  <a:lnTo>
                    <a:pt x="89168" y="192617"/>
                  </a:lnTo>
                  <a:lnTo>
                    <a:pt x="95289" y="190209"/>
                  </a:lnTo>
                  <a:lnTo>
                    <a:pt x="101063" y="187756"/>
                  </a:lnTo>
                  <a:lnTo>
                    <a:pt x="106605" y="184428"/>
                  </a:lnTo>
                  <a:lnTo>
                    <a:pt x="111994" y="180516"/>
                  </a:lnTo>
                  <a:lnTo>
                    <a:pt x="117279" y="176215"/>
                  </a:lnTo>
                  <a:lnTo>
                    <a:pt x="121649" y="171654"/>
                  </a:lnTo>
                  <a:lnTo>
                    <a:pt x="125410" y="166920"/>
                  </a:lnTo>
                  <a:lnTo>
                    <a:pt x="128763" y="162071"/>
                  </a:lnTo>
                  <a:lnTo>
                    <a:pt x="131845" y="157992"/>
                  </a:lnTo>
                  <a:lnTo>
                    <a:pt x="134747" y="154425"/>
                  </a:lnTo>
                  <a:lnTo>
                    <a:pt x="137528" y="151200"/>
                  </a:lnTo>
                  <a:lnTo>
                    <a:pt x="140618" y="145360"/>
                  </a:lnTo>
                  <a:lnTo>
                    <a:pt x="141442" y="142618"/>
                  </a:lnTo>
                  <a:lnTo>
                    <a:pt x="141145" y="139942"/>
                  </a:lnTo>
                  <a:lnTo>
                    <a:pt x="140100" y="137312"/>
                  </a:lnTo>
                  <a:lnTo>
                    <a:pt x="138557" y="134712"/>
                  </a:lnTo>
                  <a:lnTo>
                    <a:pt x="136681" y="132979"/>
                  </a:lnTo>
                  <a:lnTo>
                    <a:pt x="134584" y="131823"/>
                  </a:lnTo>
                  <a:lnTo>
                    <a:pt x="129996" y="130539"/>
                  </a:lnTo>
                  <a:lnTo>
                    <a:pt x="125135" y="129969"/>
                  </a:lnTo>
                  <a:lnTo>
                    <a:pt x="122653" y="130663"/>
                  </a:lnTo>
                  <a:lnTo>
                    <a:pt x="117638" y="133693"/>
                  </a:lnTo>
                  <a:lnTo>
                    <a:pt x="112587" y="137861"/>
                  </a:lnTo>
                  <a:lnTo>
                    <a:pt x="110055" y="140158"/>
                  </a:lnTo>
                  <a:lnTo>
                    <a:pt x="108367" y="143383"/>
                  </a:lnTo>
                  <a:lnTo>
                    <a:pt x="107241" y="147226"/>
                  </a:lnTo>
                  <a:lnTo>
                    <a:pt x="106491" y="151481"/>
                  </a:lnTo>
                  <a:lnTo>
                    <a:pt x="106837" y="155165"/>
                  </a:lnTo>
                  <a:lnTo>
                    <a:pt x="107915" y="158467"/>
                  </a:lnTo>
                  <a:lnTo>
                    <a:pt x="109480" y="161516"/>
                  </a:lnTo>
                  <a:lnTo>
                    <a:pt x="112217" y="165241"/>
                  </a:lnTo>
                  <a:lnTo>
                    <a:pt x="115734" y="169418"/>
                  </a:lnTo>
                  <a:lnTo>
                    <a:pt x="119773" y="173896"/>
                  </a:lnTo>
                  <a:lnTo>
                    <a:pt x="124159" y="177728"/>
                  </a:lnTo>
                  <a:lnTo>
                    <a:pt x="128776" y="181130"/>
                  </a:lnTo>
                  <a:lnTo>
                    <a:pt x="133547" y="184244"/>
                  </a:lnTo>
                  <a:lnTo>
                    <a:pt x="140115" y="186320"/>
                  </a:lnTo>
                  <a:lnTo>
                    <a:pt x="147880" y="187704"/>
                  </a:lnTo>
                  <a:lnTo>
                    <a:pt x="156443" y="188627"/>
                  </a:lnTo>
                  <a:lnTo>
                    <a:pt x="165539" y="190089"/>
                  </a:lnTo>
                  <a:lnTo>
                    <a:pt x="174989" y="191910"/>
                  </a:lnTo>
                  <a:lnTo>
                    <a:pt x="184676" y="193971"/>
                  </a:lnTo>
                  <a:lnTo>
                    <a:pt x="193674" y="194498"/>
                  </a:lnTo>
                  <a:lnTo>
                    <a:pt x="202213" y="194002"/>
                  </a:lnTo>
                  <a:lnTo>
                    <a:pt x="226910" y="19047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MARTInkAnnotation400"/>
            <p:cNvSpPr/>
            <p:nvPr/>
          </p:nvSpPr>
          <p:spPr>
            <a:xfrm>
              <a:off x="2004120" y="271944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1" h="1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MARTInkAnnotation401"/>
            <p:cNvSpPr/>
            <p:nvPr/>
          </p:nvSpPr>
          <p:spPr>
            <a:xfrm>
              <a:off x="2095560" y="2765160"/>
              <a:ext cx="152280" cy="1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2401" h="14174">
                  <a:moveTo>
                    <a:pt x="0" y="0"/>
                  </a:moveTo>
                  <a:lnTo>
                    <a:pt x="0" y="7306"/>
                  </a:lnTo>
                  <a:lnTo>
                    <a:pt x="4516" y="7480"/>
                  </a:lnTo>
                  <a:lnTo>
                    <a:pt x="8091" y="7527"/>
                  </a:lnTo>
                  <a:lnTo>
                    <a:pt x="12167" y="8405"/>
                  </a:lnTo>
                  <a:lnTo>
                    <a:pt x="16578" y="9837"/>
                  </a:lnTo>
                  <a:lnTo>
                    <a:pt x="21212" y="11638"/>
                  </a:lnTo>
                  <a:lnTo>
                    <a:pt x="26842" y="12839"/>
                  </a:lnTo>
                  <a:lnTo>
                    <a:pt x="33134" y="13639"/>
                  </a:lnTo>
                  <a:lnTo>
                    <a:pt x="39869" y="14173"/>
                  </a:lnTo>
                  <a:lnTo>
                    <a:pt x="47746" y="13682"/>
                  </a:lnTo>
                  <a:lnTo>
                    <a:pt x="56384" y="12508"/>
                  </a:lnTo>
                  <a:lnTo>
                    <a:pt x="65530" y="10879"/>
                  </a:lnTo>
                  <a:lnTo>
                    <a:pt x="74166" y="9793"/>
                  </a:lnTo>
                  <a:lnTo>
                    <a:pt x="82465" y="9068"/>
                  </a:lnTo>
                  <a:lnTo>
                    <a:pt x="90536" y="8586"/>
                  </a:lnTo>
                  <a:lnTo>
                    <a:pt x="110794" y="8049"/>
                  </a:lnTo>
                  <a:lnTo>
                    <a:pt x="122123" y="7906"/>
                  </a:lnTo>
                  <a:lnTo>
                    <a:pt x="130522" y="6964"/>
                  </a:lnTo>
                  <a:lnTo>
                    <a:pt x="136968" y="5489"/>
                  </a:lnTo>
                  <a:lnTo>
                    <a:pt x="1524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MARTInkAnnotation402"/>
            <p:cNvSpPr/>
            <p:nvPr/>
          </p:nvSpPr>
          <p:spPr>
            <a:xfrm>
              <a:off x="2340000" y="2544480"/>
              <a:ext cx="166680" cy="293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66738" h="293401">
                  <a:moveTo>
                    <a:pt x="143877" y="7527"/>
                  </a:moveTo>
                  <a:lnTo>
                    <a:pt x="143877" y="966"/>
                  </a:lnTo>
                  <a:lnTo>
                    <a:pt x="143030" y="613"/>
                  </a:lnTo>
                  <a:lnTo>
                    <a:pt x="139832" y="221"/>
                  </a:lnTo>
                  <a:lnTo>
                    <a:pt x="135588" y="47"/>
                  </a:lnTo>
                  <a:lnTo>
                    <a:pt x="133271" y="0"/>
                  </a:lnTo>
                  <a:lnTo>
                    <a:pt x="130033" y="816"/>
                  </a:lnTo>
                  <a:lnTo>
                    <a:pt x="126181" y="2206"/>
                  </a:lnTo>
                  <a:lnTo>
                    <a:pt x="121920" y="3980"/>
                  </a:lnTo>
                  <a:lnTo>
                    <a:pt x="116539" y="6009"/>
                  </a:lnTo>
                  <a:lnTo>
                    <a:pt x="96830" y="12910"/>
                  </a:lnTo>
                  <a:lnTo>
                    <a:pt x="82327" y="17822"/>
                  </a:lnTo>
                  <a:lnTo>
                    <a:pt x="74904" y="22010"/>
                  </a:lnTo>
                  <a:lnTo>
                    <a:pt x="67415" y="27343"/>
                  </a:lnTo>
                  <a:lnTo>
                    <a:pt x="59882" y="33437"/>
                  </a:lnTo>
                  <a:lnTo>
                    <a:pt x="53167" y="39194"/>
                  </a:lnTo>
                  <a:lnTo>
                    <a:pt x="46997" y="44725"/>
                  </a:lnTo>
                  <a:lnTo>
                    <a:pt x="41191" y="50106"/>
                  </a:lnTo>
                  <a:lnTo>
                    <a:pt x="35626" y="56233"/>
                  </a:lnTo>
                  <a:lnTo>
                    <a:pt x="30223" y="62858"/>
                  </a:lnTo>
                  <a:lnTo>
                    <a:pt x="24928" y="69814"/>
                  </a:lnTo>
                  <a:lnTo>
                    <a:pt x="14528" y="84317"/>
                  </a:lnTo>
                  <a:lnTo>
                    <a:pt x="9385" y="91740"/>
                  </a:lnTo>
                  <a:lnTo>
                    <a:pt x="5955" y="97536"/>
                  </a:lnTo>
                  <a:lnTo>
                    <a:pt x="2145" y="106233"/>
                  </a:lnTo>
                  <a:lnTo>
                    <a:pt x="452" y="115179"/>
                  </a:lnTo>
                  <a:lnTo>
                    <a:pt x="0" y="119935"/>
                  </a:lnTo>
                  <a:lnTo>
                    <a:pt x="546" y="123952"/>
                  </a:lnTo>
                  <a:lnTo>
                    <a:pt x="3410" y="130674"/>
                  </a:lnTo>
                  <a:lnTo>
                    <a:pt x="6206" y="132805"/>
                  </a:lnTo>
                  <a:lnTo>
                    <a:pt x="9763" y="134226"/>
                  </a:lnTo>
                  <a:lnTo>
                    <a:pt x="13828" y="135173"/>
                  </a:lnTo>
                  <a:lnTo>
                    <a:pt x="18231" y="135804"/>
                  </a:lnTo>
                  <a:lnTo>
                    <a:pt x="22860" y="136225"/>
                  </a:lnTo>
                  <a:lnTo>
                    <a:pt x="27639" y="136506"/>
                  </a:lnTo>
                  <a:lnTo>
                    <a:pt x="33365" y="135846"/>
                  </a:lnTo>
                  <a:lnTo>
                    <a:pt x="39722" y="134560"/>
                  </a:lnTo>
                  <a:lnTo>
                    <a:pt x="46500" y="132856"/>
                  </a:lnTo>
                  <a:lnTo>
                    <a:pt x="53559" y="130873"/>
                  </a:lnTo>
                  <a:lnTo>
                    <a:pt x="68176" y="126412"/>
                  </a:lnTo>
                  <a:lnTo>
                    <a:pt x="74783" y="123190"/>
                  </a:lnTo>
                  <a:lnTo>
                    <a:pt x="80881" y="119349"/>
                  </a:lnTo>
                  <a:lnTo>
                    <a:pt x="86639" y="115095"/>
                  </a:lnTo>
                  <a:lnTo>
                    <a:pt x="92172" y="110566"/>
                  </a:lnTo>
                  <a:lnTo>
                    <a:pt x="97554" y="105853"/>
                  </a:lnTo>
                  <a:lnTo>
                    <a:pt x="102835" y="101018"/>
                  </a:lnTo>
                  <a:lnTo>
                    <a:pt x="113218" y="91130"/>
                  </a:lnTo>
                  <a:lnTo>
                    <a:pt x="118358" y="86122"/>
                  </a:lnTo>
                  <a:lnTo>
                    <a:pt x="123478" y="81937"/>
                  </a:lnTo>
                  <a:lnTo>
                    <a:pt x="128584" y="78301"/>
                  </a:lnTo>
                  <a:lnTo>
                    <a:pt x="133682" y="75029"/>
                  </a:lnTo>
                  <a:lnTo>
                    <a:pt x="137080" y="72002"/>
                  </a:lnTo>
                  <a:lnTo>
                    <a:pt x="139346" y="69137"/>
                  </a:lnTo>
                  <a:lnTo>
                    <a:pt x="140856" y="66380"/>
                  </a:lnTo>
                  <a:lnTo>
                    <a:pt x="142710" y="64543"/>
                  </a:lnTo>
                  <a:lnTo>
                    <a:pt x="144792" y="63317"/>
                  </a:lnTo>
                  <a:lnTo>
                    <a:pt x="147027" y="62501"/>
                  </a:lnTo>
                  <a:lnTo>
                    <a:pt x="147670" y="61956"/>
                  </a:lnTo>
                  <a:lnTo>
                    <a:pt x="147252" y="61593"/>
                  </a:lnTo>
                  <a:lnTo>
                    <a:pt x="144544" y="61011"/>
                  </a:lnTo>
                  <a:lnTo>
                    <a:pt x="140029" y="69000"/>
                  </a:lnTo>
                  <a:lnTo>
                    <a:pt x="133329" y="82092"/>
                  </a:lnTo>
                  <a:lnTo>
                    <a:pt x="130919" y="87717"/>
                  </a:lnTo>
                  <a:lnTo>
                    <a:pt x="128465" y="94007"/>
                  </a:lnTo>
                  <a:lnTo>
                    <a:pt x="123480" y="107770"/>
                  </a:lnTo>
                  <a:lnTo>
                    <a:pt x="118443" y="122353"/>
                  </a:lnTo>
                  <a:lnTo>
                    <a:pt x="116761" y="130644"/>
                  </a:lnTo>
                  <a:lnTo>
                    <a:pt x="115640" y="139558"/>
                  </a:lnTo>
                  <a:lnTo>
                    <a:pt x="114892" y="148888"/>
                  </a:lnTo>
                  <a:lnTo>
                    <a:pt x="114394" y="157648"/>
                  </a:lnTo>
                  <a:lnTo>
                    <a:pt x="113840" y="174154"/>
                  </a:lnTo>
                  <a:lnTo>
                    <a:pt x="113455" y="219165"/>
                  </a:lnTo>
                  <a:lnTo>
                    <a:pt x="113436" y="227359"/>
                  </a:lnTo>
                  <a:lnTo>
                    <a:pt x="114269" y="234515"/>
                  </a:lnTo>
                  <a:lnTo>
                    <a:pt x="115672" y="240979"/>
                  </a:lnTo>
                  <a:lnTo>
                    <a:pt x="119488" y="253523"/>
                  </a:lnTo>
                  <a:lnTo>
                    <a:pt x="124006" y="267565"/>
                  </a:lnTo>
                  <a:lnTo>
                    <a:pt x="127243" y="273173"/>
                  </a:lnTo>
                  <a:lnTo>
                    <a:pt x="131095" y="277757"/>
                  </a:lnTo>
                  <a:lnTo>
                    <a:pt x="135356" y="281660"/>
                  </a:lnTo>
                  <a:lnTo>
                    <a:pt x="139043" y="284263"/>
                  </a:lnTo>
                  <a:lnTo>
                    <a:pt x="142347" y="285997"/>
                  </a:lnTo>
                  <a:lnTo>
                    <a:pt x="145397" y="287154"/>
                  </a:lnTo>
                  <a:lnTo>
                    <a:pt x="148277" y="288772"/>
                  </a:lnTo>
                  <a:lnTo>
                    <a:pt x="151044" y="290697"/>
                  </a:lnTo>
                  <a:lnTo>
                    <a:pt x="153735" y="292827"/>
                  </a:lnTo>
                  <a:lnTo>
                    <a:pt x="156376" y="293400"/>
                  </a:lnTo>
                  <a:lnTo>
                    <a:pt x="158983" y="292936"/>
                  </a:lnTo>
                  <a:lnTo>
                    <a:pt x="166737" y="28946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MARTInkAnnotation403"/>
            <p:cNvSpPr/>
            <p:nvPr/>
          </p:nvSpPr>
          <p:spPr>
            <a:xfrm>
              <a:off x="2599920" y="2559600"/>
              <a:ext cx="149040" cy="2419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49121" h="242191">
                  <a:moveTo>
                    <a:pt x="66976" y="0"/>
                  </a:moveTo>
                  <a:lnTo>
                    <a:pt x="62931" y="4045"/>
                  </a:lnTo>
                  <a:lnTo>
                    <a:pt x="60893" y="5237"/>
                  </a:lnTo>
                  <a:lnTo>
                    <a:pt x="56370" y="6561"/>
                  </a:lnTo>
                  <a:lnTo>
                    <a:pt x="54826" y="8607"/>
                  </a:lnTo>
                  <a:lnTo>
                    <a:pt x="53109" y="15397"/>
                  </a:lnTo>
                  <a:lnTo>
                    <a:pt x="50958" y="19578"/>
                  </a:lnTo>
                  <a:lnTo>
                    <a:pt x="47831" y="24058"/>
                  </a:lnTo>
                  <a:lnTo>
                    <a:pt x="44053" y="28739"/>
                  </a:lnTo>
                  <a:lnTo>
                    <a:pt x="40687" y="34399"/>
                  </a:lnTo>
                  <a:lnTo>
                    <a:pt x="37596" y="40713"/>
                  </a:lnTo>
                  <a:lnTo>
                    <a:pt x="34690" y="47462"/>
                  </a:lnTo>
                  <a:lnTo>
                    <a:pt x="26944" y="63992"/>
                  </a:lnTo>
                  <a:lnTo>
                    <a:pt x="22508" y="73141"/>
                  </a:lnTo>
                  <a:lnTo>
                    <a:pt x="18704" y="82627"/>
                  </a:lnTo>
                  <a:lnTo>
                    <a:pt x="15322" y="92338"/>
                  </a:lnTo>
                  <a:lnTo>
                    <a:pt x="12220" y="102199"/>
                  </a:lnTo>
                  <a:lnTo>
                    <a:pt x="6516" y="122186"/>
                  </a:lnTo>
                  <a:lnTo>
                    <a:pt x="3809" y="132258"/>
                  </a:lnTo>
                  <a:lnTo>
                    <a:pt x="2005" y="141512"/>
                  </a:lnTo>
                  <a:lnTo>
                    <a:pt x="802" y="150221"/>
                  </a:lnTo>
                  <a:lnTo>
                    <a:pt x="0" y="158567"/>
                  </a:lnTo>
                  <a:lnTo>
                    <a:pt x="312" y="166672"/>
                  </a:lnTo>
                  <a:lnTo>
                    <a:pt x="1366" y="174614"/>
                  </a:lnTo>
                  <a:lnTo>
                    <a:pt x="2917" y="182450"/>
                  </a:lnTo>
                  <a:lnTo>
                    <a:pt x="4796" y="189366"/>
                  </a:lnTo>
                  <a:lnTo>
                    <a:pt x="6896" y="195671"/>
                  </a:lnTo>
                  <a:lnTo>
                    <a:pt x="9143" y="201567"/>
                  </a:lnTo>
                  <a:lnTo>
                    <a:pt x="12334" y="207192"/>
                  </a:lnTo>
                  <a:lnTo>
                    <a:pt x="16155" y="212634"/>
                  </a:lnTo>
                  <a:lnTo>
                    <a:pt x="20395" y="217956"/>
                  </a:lnTo>
                  <a:lnTo>
                    <a:pt x="25762" y="222351"/>
                  </a:lnTo>
                  <a:lnTo>
                    <a:pt x="31880" y="226127"/>
                  </a:lnTo>
                  <a:lnTo>
                    <a:pt x="38499" y="229491"/>
                  </a:lnTo>
                  <a:lnTo>
                    <a:pt x="45451" y="232581"/>
                  </a:lnTo>
                  <a:lnTo>
                    <a:pt x="52626" y="235487"/>
                  </a:lnTo>
                  <a:lnTo>
                    <a:pt x="59950" y="238271"/>
                  </a:lnTo>
                  <a:lnTo>
                    <a:pt x="67372" y="240128"/>
                  </a:lnTo>
                  <a:lnTo>
                    <a:pt x="74860" y="241365"/>
                  </a:lnTo>
                  <a:lnTo>
                    <a:pt x="82392" y="242190"/>
                  </a:lnTo>
                  <a:lnTo>
                    <a:pt x="89953" y="241047"/>
                  </a:lnTo>
                  <a:lnTo>
                    <a:pt x="97534" y="238591"/>
                  </a:lnTo>
                  <a:lnTo>
                    <a:pt x="111884" y="232194"/>
                  </a:lnTo>
                  <a:lnTo>
                    <a:pt x="123906" y="226528"/>
                  </a:lnTo>
                  <a:lnTo>
                    <a:pt x="128636" y="222139"/>
                  </a:lnTo>
                  <a:lnTo>
                    <a:pt x="132637" y="216673"/>
                  </a:lnTo>
                  <a:lnTo>
                    <a:pt x="136150" y="210488"/>
                  </a:lnTo>
                  <a:lnTo>
                    <a:pt x="139338" y="203826"/>
                  </a:lnTo>
                  <a:lnTo>
                    <a:pt x="142311" y="196844"/>
                  </a:lnTo>
                  <a:lnTo>
                    <a:pt x="145139" y="189649"/>
                  </a:lnTo>
                  <a:lnTo>
                    <a:pt x="147025" y="181466"/>
                  </a:lnTo>
                  <a:lnTo>
                    <a:pt x="148282" y="172624"/>
                  </a:lnTo>
                  <a:lnTo>
                    <a:pt x="149120" y="163343"/>
                  </a:lnTo>
                  <a:lnTo>
                    <a:pt x="148832" y="154615"/>
                  </a:lnTo>
                  <a:lnTo>
                    <a:pt x="147794" y="146257"/>
                  </a:lnTo>
                  <a:lnTo>
                    <a:pt x="146254" y="138144"/>
                  </a:lnTo>
                  <a:lnTo>
                    <a:pt x="143535" y="131043"/>
                  </a:lnTo>
                  <a:lnTo>
                    <a:pt x="140029" y="124615"/>
                  </a:lnTo>
                  <a:lnTo>
                    <a:pt x="135998" y="118637"/>
                  </a:lnTo>
                  <a:lnTo>
                    <a:pt x="130771" y="112958"/>
                  </a:lnTo>
                  <a:lnTo>
                    <a:pt x="124746" y="107479"/>
                  </a:lnTo>
                  <a:lnTo>
                    <a:pt x="118189" y="102133"/>
                  </a:lnTo>
                  <a:lnTo>
                    <a:pt x="112972" y="97721"/>
                  </a:lnTo>
                  <a:lnTo>
                    <a:pt x="108646" y="93934"/>
                  </a:lnTo>
                  <a:lnTo>
                    <a:pt x="97456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MARTInkAnnotation404"/>
            <p:cNvSpPr/>
            <p:nvPr/>
          </p:nvSpPr>
          <p:spPr>
            <a:xfrm>
              <a:off x="846000" y="3039840"/>
              <a:ext cx="205200" cy="1368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5306" h="137020">
                  <a:moveTo>
                    <a:pt x="30045" y="0"/>
                  </a:moveTo>
                  <a:lnTo>
                    <a:pt x="30045" y="11351"/>
                  </a:lnTo>
                  <a:lnTo>
                    <a:pt x="29198" y="13494"/>
                  </a:lnTo>
                  <a:lnTo>
                    <a:pt x="27787" y="15769"/>
                  </a:lnTo>
                  <a:lnTo>
                    <a:pt x="26000" y="18133"/>
                  </a:lnTo>
                  <a:lnTo>
                    <a:pt x="24808" y="20555"/>
                  </a:lnTo>
                  <a:lnTo>
                    <a:pt x="24014" y="23017"/>
                  </a:lnTo>
                  <a:lnTo>
                    <a:pt x="23484" y="25504"/>
                  </a:lnTo>
                  <a:lnTo>
                    <a:pt x="23131" y="28010"/>
                  </a:lnTo>
                  <a:lnTo>
                    <a:pt x="22896" y="30526"/>
                  </a:lnTo>
                  <a:lnTo>
                    <a:pt x="22739" y="33051"/>
                  </a:lnTo>
                  <a:lnTo>
                    <a:pt x="21787" y="36427"/>
                  </a:lnTo>
                  <a:lnTo>
                    <a:pt x="20307" y="40372"/>
                  </a:lnTo>
                  <a:lnTo>
                    <a:pt x="18473" y="44694"/>
                  </a:lnTo>
                  <a:lnTo>
                    <a:pt x="14178" y="54013"/>
                  </a:lnTo>
                  <a:lnTo>
                    <a:pt x="4521" y="73793"/>
                  </a:lnTo>
                  <a:lnTo>
                    <a:pt x="2869" y="78829"/>
                  </a:lnTo>
                  <a:lnTo>
                    <a:pt x="1768" y="83879"/>
                  </a:lnTo>
                  <a:lnTo>
                    <a:pt x="1033" y="88939"/>
                  </a:lnTo>
                  <a:lnTo>
                    <a:pt x="544" y="93160"/>
                  </a:lnTo>
                  <a:lnTo>
                    <a:pt x="217" y="96820"/>
                  </a:lnTo>
                  <a:lnTo>
                    <a:pt x="0" y="100106"/>
                  </a:lnTo>
                  <a:lnTo>
                    <a:pt x="702" y="103991"/>
                  </a:lnTo>
                  <a:lnTo>
                    <a:pt x="2016" y="108274"/>
                  </a:lnTo>
                  <a:lnTo>
                    <a:pt x="3739" y="112823"/>
                  </a:lnTo>
                  <a:lnTo>
                    <a:pt x="6581" y="116702"/>
                  </a:lnTo>
                  <a:lnTo>
                    <a:pt x="10169" y="120134"/>
                  </a:lnTo>
                  <a:lnTo>
                    <a:pt x="14254" y="123270"/>
                  </a:lnTo>
                  <a:lnTo>
                    <a:pt x="19518" y="126207"/>
                  </a:lnTo>
                  <a:lnTo>
                    <a:pt x="25567" y="129011"/>
                  </a:lnTo>
                  <a:lnTo>
                    <a:pt x="32140" y="131728"/>
                  </a:lnTo>
                  <a:lnTo>
                    <a:pt x="39908" y="133538"/>
                  </a:lnTo>
                  <a:lnTo>
                    <a:pt x="48473" y="134746"/>
                  </a:lnTo>
                  <a:lnTo>
                    <a:pt x="57571" y="135551"/>
                  </a:lnTo>
                  <a:lnTo>
                    <a:pt x="67022" y="136087"/>
                  </a:lnTo>
                  <a:lnTo>
                    <a:pt x="86555" y="136683"/>
                  </a:lnTo>
                  <a:lnTo>
                    <a:pt x="120637" y="137019"/>
                  </a:lnTo>
                  <a:lnTo>
                    <a:pt x="132773" y="136219"/>
                  </a:lnTo>
                  <a:lnTo>
                    <a:pt x="145097" y="134840"/>
                  </a:lnTo>
                  <a:lnTo>
                    <a:pt x="157546" y="133073"/>
                  </a:lnTo>
                  <a:lnTo>
                    <a:pt x="168386" y="131049"/>
                  </a:lnTo>
                  <a:lnTo>
                    <a:pt x="178152" y="128853"/>
                  </a:lnTo>
                  <a:lnTo>
                    <a:pt x="205305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MARTInkAnnotation405"/>
            <p:cNvSpPr/>
            <p:nvPr/>
          </p:nvSpPr>
          <p:spPr>
            <a:xfrm>
              <a:off x="1051920" y="3062520"/>
              <a:ext cx="22320" cy="281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2446" h="281941">
                  <a:moveTo>
                    <a:pt x="22445" y="0"/>
                  </a:moveTo>
                  <a:lnTo>
                    <a:pt x="22445" y="54989"/>
                  </a:lnTo>
                  <a:lnTo>
                    <a:pt x="21598" y="61213"/>
                  </a:lnTo>
                  <a:lnTo>
                    <a:pt x="20187" y="67055"/>
                  </a:lnTo>
                  <a:lnTo>
                    <a:pt x="18400" y="72643"/>
                  </a:lnTo>
                  <a:lnTo>
                    <a:pt x="17208" y="79756"/>
                  </a:lnTo>
                  <a:lnTo>
                    <a:pt x="16414" y="87884"/>
                  </a:lnTo>
                  <a:lnTo>
                    <a:pt x="15884" y="96689"/>
                  </a:lnTo>
                  <a:lnTo>
                    <a:pt x="14685" y="105946"/>
                  </a:lnTo>
                  <a:lnTo>
                    <a:pt x="13038" y="115504"/>
                  </a:lnTo>
                  <a:lnTo>
                    <a:pt x="11094" y="125263"/>
                  </a:lnTo>
                  <a:lnTo>
                    <a:pt x="6676" y="145137"/>
                  </a:lnTo>
                  <a:lnTo>
                    <a:pt x="4312" y="155178"/>
                  </a:lnTo>
                  <a:lnTo>
                    <a:pt x="2736" y="165258"/>
                  </a:lnTo>
                  <a:lnTo>
                    <a:pt x="1686" y="175366"/>
                  </a:lnTo>
                  <a:lnTo>
                    <a:pt x="986" y="185490"/>
                  </a:lnTo>
                  <a:lnTo>
                    <a:pt x="519" y="195627"/>
                  </a:lnTo>
                  <a:lnTo>
                    <a:pt x="0" y="215921"/>
                  </a:lnTo>
                  <a:lnTo>
                    <a:pt x="708" y="225227"/>
                  </a:lnTo>
                  <a:lnTo>
                    <a:pt x="2027" y="233972"/>
                  </a:lnTo>
                  <a:lnTo>
                    <a:pt x="3753" y="242341"/>
                  </a:lnTo>
                  <a:lnTo>
                    <a:pt x="5751" y="249614"/>
                  </a:lnTo>
                  <a:lnTo>
                    <a:pt x="7929" y="256156"/>
                  </a:lnTo>
                  <a:lnTo>
                    <a:pt x="10227" y="262211"/>
                  </a:lnTo>
                  <a:lnTo>
                    <a:pt x="11760" y="267094"/>
                  </a:lnTo>
                  <a:lnTo>
                    <a:pt x="12782" y="271196"/>
                  </a:lnTo>
                  <a:lnTo>
                    <a:pt x="14825" y="2819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406"/>
            <p:cNvSpPr/>
            <p:nvPr/>
          </p:nvSpPr>
          <p:spPr>
            <a:xfrm>
              <a:off x="1143000" y="31770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1" h="190501">
                  <a:moveTo>
                    <a:pt x="152400" y="0"/>
                  </a:moveTo>
                  <a:lnTo>
                    <a:pt x="152400" y="4045"/>
                  </a:lnTo>
                  <a:lnTo>
                    <a:pt x="150707" y="6084"/>
                  </a:lnTo>
                  <a:lnTo>
                    <a:pt x="147885" y="8289"/>
                  </a:lnTo>
                  <a:lnTo>
                    <a:pt x="144310" y="10606"/>
                  </a:lnTo>
                  <a:lnTo>
                    <a:pt x="141080" y="14691"/>
                  </a:lnTo>
                  <a:lnTo>
                    <a:pt x="138080" y="19954"/>
                  </a:lnTo>
                  <a:lnTo>
                    <a:pt x="135233" y="26002"/>
                  </a:lnTo>
                  <a:lnTo>
                    <a:pt x="131643" y="32575"/>
                  </a:lnTo>
                  <a:lnTo>
                    <a:pt x="127555" y="39497"/>
                  </a:lnTo>
                  <a:lnTo>
                    <a:pt x="123137" y="46651"/>
                  </a:lnTo>
                  <a:lnTo>
                    <a:pt x="117651" y="53961"/>
                  </a:lnTo>
                  <a:lnTo>
                    <a:pt x="111454" y="61374"/>
                  </a:lnTo>
                  <a:lnTo>
                    <a:pt x="104783" y="68856"/>
                  </a:lnTo>
                  <a:lnTo>
                    <a:pt x="98642" y="76384"/>
                  </a:lnTo>
                  <a:lnTo>
                    <a:pt x="92855" y="83943"/>
                  </a:lnTo>
                  <a:lnTo>
                    <a:pt x="67354" y="118369"/>
                  </a:lnTo>
                  <a:lnTo>
                    <a:pt x="60990" y="126326"/>
                  </a:lnTo>
                  <a:lnTo>
                    <a:pt x="55053" y="133324"/>
                  </a:lnTo>
                  <a:lnTo>
                    <a:pt x="49402" y="139683"/>
                  </a:lnTo>
                  <a:lnTo>
                    <a:pt x="38608" y="151263"/>
                  </a:lnTo>
                  <a:lnTo>
                    <a:pt x="10660" y="179804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407"/>
            <p:cNvSpPr/>
            <p:nvPr/>
          </p:nvSpPr>
          <p:spPr>
            <a:xfrm>
              <a:off x="1150560" y="3184560"/>
              <a:ext cx="228600" cy="1371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28601" h="13716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084" y="6914"/>
                  </a:lnTo>
                  <a:lnTo>
                    <a:pt x="10606" y="7306"/>
                  </a:lnTo>
                  <a:lnTo>
                    <a:pt x="13844" y="9104"/>
                  </a:lnTo>
                  <a:lnTo>
                    <a:pt x="17696" y="11996"/>
                  </a:lnTo>
                  <a:lnTo>
                    <a:pt x="21957" y="15617"/>
                  </a:lnTo>
                  <a:lnTo>
                    <a:pt x="27338" y="19725"/>
                  </a:lnTo>
                  <a:lnTo>
                    <a:pt x="33466" y="24157"/>
                  </a:lnTo>
                  <a:lnTo>
                    <a:pt x="54225" y="38484"/>
                  </a:lnTo>
                  <a:lnTo>
                    <a:pt x="83995" y="58496"/>
                  </a:lnTo>
                  <a:lnTo>
                    <a:pt x="91557" y="64398"/>
                  </a:lnTo>
                  <a:lnTo>
                    <a:pt x="99138" y="70871"/>
                  </a:lnTo>
                  <a:lnTo>
                    <a:pt x="106732" y="77728"/>
                  </a:lnTo>
                  <a:lnTo>
                    <a:pt x="115181" y="83992"/>
                  </a:lnTo>
                  <a:lnTo>
                    <a:pt x="124201" y="89861"/>
                  </a:lnTo>
                  <a:lnTo>
                    <a:pt x="133601" y="95468"/>
                  </a:lnTo>
                  <a:lnTo>
                    <a:pt x="142407" y="100052"/>
                  </a:lnTo>
                  <a:lnTo>
                    <a:pt x="150818" y="103955"/>
                  </a:lnTo>
                  <a:lnTo>
                    <a:pt x="158966" y="107403"/>
                  </a:lnTo>
                  <a:lnTo>
                    <a:pt x="167784" y="111395"/>
                  </a:lnTo>
                  <a:lnTo>
                    <a:pt x="186613" y="120347"/>
                  </a:lnTo>
                  <a:lnTo>
                    <a:pt x="193835" y="123412"/>
                  </a:lnTo>
                  <a:lnTo>
                    <a:pt x="199497" y="125454"/>
                  </a:lnTo>
                  <a:lnTo>
                    <a:pt x="204118" y="126817"/>
                  </a:lnTo>
                  <a:lnTo>
                    <a:pt x="208892" y="128571"/>
                  </a:lnTo>
                  <a:lnTo>
                    <a:pt x="213768" y="130587"/>
                  </a:lnTo>
                  <a:lnTo>
                    <a:pt x="228600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408"/>
            <p:cNvSpPr/>
            <p:nvPr/>
          </p:nvSpPr>
          <p:spPr>
            <a:xfrm>
              <a:off x="1485720" y="320724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409"/>
            <p:cNvSpPr/>
            <p:nvPr/>
          </p:nvSpPr>
          <p:spPr>
            <a:xfrm>
              <a:off x="1531440" y="3276000"/>
              <a:ext cx="121680" cy="147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21921" h="14928">
                  <a:moveTo>
                    <a:pt x="0" y="7620"/>
                  </a:moveTo>
                  <a:lnTo>
                    <a:pt x="0" y="11666"/>
                  </a:lnTo>
                  <a:lnTo>
                    <a:pt x="1693" y="12857"/>
                  </a:lnTo>
                  <a:lnTo>
                    <a:pt x="4516" y="13651"/>
                  </a:lnTo>
                  <a:lnTo>
                    <a:pt x="8091" y="14181"/>
                  </a:lnTo>
                  <a:lnTo>
                    <a:pt x="11320" y="14534"/>
                  </a:lnTo>
                  <a:lnTo>
                    <a:pt x="14320" y="14769"/>
                  </a:lnTo>
                  <a:lnTo>
                    <a:pt x="17167" y="14927"/>
                  </a:lnTo>
                  <a:lnTo>
                    <a:pt x="22451" y="14184"/>
                  </a:lnTo>
                  <a:lnTo>
                    <a:pt x="29361" y="12843"/>
                  </a:lnTo>
                  <a:lnTo>
                    <a:pt x="46069" y="9094"/>
                  </a:lnTo>
                  <a:lnTo>
                    <a:pt x="64784" y="4606"/>
                  </a:lnTo>
                  <a:lnTo>
                    <a:pt x="73669" y="3071"/>
                  </a:lnTo>
                  <a:lnTo>
                    <a:pt x="82133" y="2048"/>
                  </a:lnTo>
                  <a:lnTo>
                    <a:pt x="90315" y="1365"/>
                  </a:lnTo>
                  <a:lnTo>
                    <a:pt x="97464" y="910"/>
                  </a:lnTo>
                  <a:lnTo>
                    <a:pt x="1219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410"/>
            <p:cNvSpPr/>
            <p:nvPr/>
          </p:nvSpPr>
          <p:spPr>
            <a:xfrm>
              <a:off x="1823040" y="3016800"/>
              <a:ext cx="164880" cy="151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64937" h="151820">
                  <a:moveTo>
                    <a:pt x="127461" y="0"/>
                  </a:moveTo>
                  <a:lnTo>
                    <a:pt x="120900" y="0"/>
                  </a:lnTo>
                  <a:lnTo>
                    <a:pt x="115796" y="2258"/>
                  </a:lnTo>
                  <a:lnTo>
                    <a:pt x="98722" y="10606"/>
                  </a:lnTo>
                  <a:lnTo>
                    <a:pt x="93062" y="14691"/>
                  </a:lnTo>
                  <a:lnTo>
                    <a:pt x="86748" y="19954"/>
                  </a:lnTo>
                  <a:lnTo>
                    <a:pt x="79999" y="26003"/>
                  </a:lnTo>
                  <a:lnTo>
                    <a:pt x="65727" y="39497"/>
                  </a:lnTo>
                  <a:lnTo>
                    <a:pt x="58365" y="46651"/>
                  </a:lnTo>
                  <a:lnTo>
                    <a:pt x="50917" y="53114"/>
                  </a:lnTo>
                  <a:lnTo>
                    <a:pt x="43412" y="59116"/>
                  </a:lnTo>
                  <a:lnTo>
                    <a:pt x="35868" y="64811"/>
                  </a:lnTo>
                  <a:lnTo>
                    <a:pt x="29146" y="71147"/>
                  </a:lnTo>
                  <a:lnTo>
                    <a:pt x="22971" y="77911"/>
                  </a:lnTo>
                  <a:lnTo>
                    <a:pt x="17161" y="84961"/>
                  </a:lnTo>
                  <a:lnTo>
                    <a:pt x="12441" y="91354"/>
                  </a:lnTo>
                  <a:lnTo>
                    <a:pt x="8448" y="97309"/>
                  </a:lnTo>
                  <a:lnTo>
                    <a:pt x="4939" y="102973"/>
                  </a:lnTo>
                  <a:lnTo>
                    <a:pt x="2600" y="108442"/>
                  </a:lnTo>
                  <a:lnTo>
                    <a:pt x="1040" y="113781"/>
                  </a:lnTo>
                  <a:lnTo>
                    <a:pt x="0" y="119034"/>
                  </a:lnTo>
                  <a:lnTo>
                    <a:pt x="154" y="124230"/>
                  </a:lnTo>
                  <a:lnTo>
                    <a:pt x="1103" y="129386"/>
                  </a:lnTo>
                  <a:lnTo>
                    <a:pt x="2582" y="134518"/>
                  </a:lnTo>
                  <a:lnTo>
                    <a:pt x="5262" y="138785"/>
                  </a:lnTo>
                  <a:lnTo>
                    <a:pt x="8742" y="142477"/>
                  </a:lnTo>
                  <a:lnTo>
                    <a:pt x="12755" y="145784"/>
                  </a:lnTo>
                  <a:lnTo>
                    <a:pt x="17970" y="147989"/>
                  </a:lnTo>
                  <a:lnTo>
                    <a:pt x="23987" y="149460"/>
                  </a:lnTo>
                  <a:lnTo>
                    <a:pt x="30539" y="150440"/>
                  </a:lnTo>
                  <a:lnTo>
                    <a:pt x="37446" y="151093"/>
                  </a:lnTo>
                  <a:lnTo>
                    <a:pt x="44591" y="151529"/>
                  </a:lnTo>
                  <a:lnTo>
                    <a:pt x="51895" y="151819"/>
                  </a:lnTo>
                  <a:lnTo>
                    <a:pt x="59304" y="151166"/>
                  </a:lnTo>
                  <a:lnTo>
                    <a:pt x="66783" y="149884"/>
                  </a:lnTo>
                  <a:lnTo>
                    <a:pt x="82713" y="146202"/>
                  </a:lnTo>
                  <a:lnTo>
                    <a:pt x="101082" y="141743"/>
                  </a:lnTo>
                  <a:lnTo>
                    <a:pt x="109875" y="138522"/>
                  </a:lnTo>
                  <a:lnTo>
                    <a:pt x="118277" y="134681"/>
                  </a:lnTo>
                  <a:lnTo>
                    <a:pt x="126418" y="130428"/>
                  </a:lnTo>
                  <a:lnTo>
                    <a:pt x="133540" y="125899"/>
                  </a:lnTo>
                  <a:lnTo>
                    <a:pt x="139980" y="121186"/>
                  </a:lnTo>
                  <a:lnTo>
                    <a:pt x="145967" y="116351"/>
                  </a:lnTo>
                  <a:lnTo>
                    <a:pt x="150805" y="110587"/>
                  </a:lnTo>
                  <a:lnTo>
                    <a:pt x="154877" y="104205"/>
                  </a:lnTo>
                  <a:lnTo>
                    <a:pt x="158439" y="97410"/>
                  </a:lnTo>
                  <a:lnTo>
                    <a:pt x="160813" y="91187"/>
                  </a:lnTo>
                  <a:lnTo>
                    <a:pt x="162396" y="85345"/>
                  </a:lnTo>
                  <a:lnTo>
                    <a:pt x="163451" y="79756"/>
                  </a:lnTo>
                  <a:lnTo>
                    <a:pt x="164154" y="73491"/>
                  </a:lnTo>
                  <a:lnTo>
                    <a:pt x="164623" y="66774"/>
                  </a:lnTo>
                  <a:lnTo>
                    <a:pt x="164936" y="59756"/>
                  </a:lnTo>
                  <a:lnTo>
                    <a:pt x="164297" y="54231"/>
                  </a:lnTo>
                  <a:lnTo>
                    <a:pt x="163026" y="49701"/>
                  </a:lnTo>
                  <a:lnTo>
                    <a:pt x="161331" y="45834"/>
                  </a:lnTo>
                  <a:lnTo>
                    <a:pt x="158508" y="42409"/>
                  </a:lnTo>
                  <a:lnTo>
                    <a:pt x="154932" y="39280"/>
                  </a:lnTo>
                  <a:lnTo>
                    <a:pt x="150855" y="36347"/>
                  </a:lnTo>
                  <a:lnTo>
                    <a:pt x="146444" y="34391"/>
                  </a:lnTo>
                  <a:lnTo>
                    <a:pt x="141810" y="33088"/>
                  </a:lnTo>
                  <a:lnTo>
                    <a:pt x="137027" y="32218"/>
                  </a:lnTo>
                  <a:lnTo>
                    <a:pt x="133838" y="30792"/>
                  </a:lnTo>
                  <a:lnTo>
                    <a:pt x="131713" y="28995"/>
                  </a:lnTo>
                  <a:lnTo>
                    <a:pt x="130296" y="26950"/>
                  </a:lnTo>
                  <a:lnTo>
                    <a:pt x="128504" y="26434"/>
                  </a:lnTo>
                  <a:lnTo>
                    <a:pt x="126463" y="26935"/>
                  </a:lnTo>
                  <a:lnTo>
                    <a:pt x="119841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11"/>
            <p:cNvSpPr/>
            <p:nvPr/>
          </p:nvSpPr>
          <p:spPr>
            <a:xfrm>
              <a:off x="1828800" y="3177000"/>
              <a:ext cx="136440" cy="151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36778" h="151908">
                  <a:moveTo>
                    <a:pt x="68344" y="30480"/>
                  </a:moveTo>
                  <a:lnTo>
                    <a:pt x="61783" y="30480"/>
                  </a:lnTo>
                  <a:lnTo>
                    <a:pt x="58937" y="32738"/>
                  </a:lnTo>
                  <a:lnTo>
                    <a:pt x="56993" y="34526"/>
                  </a:lnTo>
                  <a:lnTo>
                    <a:pt x="46166" y="45131"/>
                  </a:lnTo>
                  <a:lnTo>
                    <a:pt x="32234" y="58998"/>
                  </a:lnTo>
                  <a:lnTo>
                    <a:pt x="28184" y="63886"/>
                  </a:lnTo>
                  <a:lnTo>
                    <a:pt x="24637" y="68837"/>
                  </a:lnTo>
                  <a:lnTo>
                    <a:pt x="21426" y="73831"/>
                  </a:lnTo>
                  <a:lnTo>
                    <a:pt x="17592" y="78854"/>
                  </a:lnTo>
                  <a:lnTo>
                    <a:pt x="13343" y="83896"/>
                  </a:lnTo>
                  <a:lnTo>
                    <a:pt x="8817" y="88951"/>
                  </a:lnTo>
                  <a:lnTo>
                    <a:pt x="5799" y="94860"/>
                  </a:lnTo>
                  <a:lnTo>
                    <a:pt x="3787" y="101340"/>
                  </a:lnTo>
                  <a:lnTo>
                    <a:pt x="2446" y="108200"/>
                  </a:lnTo>
                  <a:lnTo>
                    <a:pt x="1552" y="114467"/>
                  </a:lnTo>
                  <a:lnTo>
                    <a:pt x="956" y="120338"/>
                  </a:lnTo>
                  <a:lnTo>
                    <a:pt x="294" y="130530"/>
                  </a:lnTo>
                  <a:lnTo>
                    <a:pt x="0" y="137882"/>
                  </a:lnTo>
                  <a:lnTo>
                    <a:pt x="1614" y="141028"/>
                  </a:lnTo>
                  <a:lnTo>
                    <a:pt x="4384" y="143972"/>
                  </a:lnTo>
                  <a:lnTo>
                    <a:pt x="7924" y="146782"/>
                  </a:lnTo>
                  <a:lnTo>
                    <a:pt x="11978" y="148654"/>
                  </a:lnTo>
                  <a:lnTo>
                    <a:pt x="16373" y="149903"/>
                  </a:lnTo>
                  <a:lnTo>
                    <a:pt x="20997" y="150735"/>
                  </a:lnTo>
                  <a:lnTo>
                    <a:pt x="27466" y="151290"/>
                  </a:lnTo>
                  <a:lnTo>
                    <a:pt x="35165" y="151660"/>
                  </a:lnTo>
                  <a:lnTo>
                    <a:pt x="43685" y="151907"/>
                  </a:lnTo>
                  <a:lnTo>
                    <a:pt x="51905" y="151224"/>
                  </a:lnTo>
                  <a:lnTo>
                    <a:pt x="59924" y="149923"/>
                  </a:lnTo>
                  <a:lnTo>
                    <a:pt x="67811" y="148209"/>
                  </a:lnTo>
                  <a:lnTo>
                    <a:pt x="75609" y="146219"/>
                  </a:lnTo>
                  <a:lnTo>
                    <a:pt x="83347" y="144046"/>
                  </a:lnTo>
                  <a:lnTo>
                    <a:pt x="91046" y="141750"/>
                  </a:lnTo>
                  <a:lnTo>
                    <a:pt x="97872" y="138527"/>
                  </a:lnTo>
                  <a:lnTo>
                    <a:pt x="104116" y="134685"/>
                  </a:lnTo>
                  <a:lnTo>
                    <a:pt x="109972" y="130430"/>
                  </a:lnTo>
                  <a:lnTo>
                    <a:pt x="114723" y="125053"/>
                  </a:lnTo>
                  <a:lnTo>
                    <a:pt x="118737" y="118929"/>
                  </a:lnTo>
                  <a:lnTo>
                    <a:pt x="122259" y="112306"/>
                  </a:lnTo>
                  <a:lnTo>
                    <a:pt x="125454" y="105350"/>
                  </a:lnTo>
                  <a:lnTo>
                    <a:pt x="128431" y="98174"/>
                  </a:lnTo>
                  <a:lnTo>
                    <a:pt x="131262" y="90849"/>
                  </a:lnTo>
                  <a:lnTo>
                    <a:pt x="133149" y="83426"/>
                  </a:lnTo>
                  <a:lnTo>
                    <a:pt x="134408" y="75937"/>
                  </a:lnTo>
                  <a:lnTo>
                    <a:pt x="135246" y="68405"/>
                  </a:lnTo>
                  <a:lnTo>
                    <a:pt x="135806" y="61690"/>
                  </a:lnTo>
                  <a:lnTo>
                    <a:pt x="136179" y="55520"/>
                  </a:lnTo>
                  <a:lnTo>
                    <a:pt x="136593" y="44149"/>
                  </a:lnTo>
                  <a:lnTo>
                    <a:pt x="136777" y="33451"/>
                  </a:lnTo>
                  <a:lnTo>
                    <a:pt x="135979" y="29074"/>
                  </a:lnTo>
                  <a:lnTo>
                    <a:pt x="134601" y="25309"/>
                  </a:lnTo>
                  <a:lnTo>
                    <a:pt x="128616" y="13708"/>
                  </a:lnTo>
                  <a:lnTo>
                    <a:pt x="121684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12"/>
            <p:cNvSpPr/>
            <p:nvPr/>
          </p:nvSpPr>
          <p:spPr>
            <a:xfrm>
              <a:off x="2051640" y="3039840"/>
              <a:ext cx="158040" cy="1663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58177" h="166416">
                  <a:moveTo>
                    <a:pt x="66736" y="0"/>
                  </a:moveTo>
                  <a:lnTo>
                    <a:pt x="66736" y="17912"/>
                  </a:lnTo>
                  <a:lnTo>
                    <a:pt x="65889" y="20408"/>
                  </a:lnTo>
                  <a:lnTo>
                    <a:pt x="62691" y="25439"/>
                  </a:lnTo>
                  <a:lnTo>
                    <a:pt x="60652" y="28813"/>
                  </a:lnTo>
                  <a:lnTo>
                    <a:pt x="58447" y="32755"/>
                  </a:lnTo>
                  <a:lnTo>
                    <a:pt x="56130" y="37077"/>
                  </a:lnTo>
                  <a:lnTo>
                    <a:pt x="54586" y="41651"/>
                  </a:lnTo>
                  <a:lnTo>
                    <a:pt x="53556" y="46394"/>
                  </a:lnTo>
                  <a:lnTo>
                    <a:pt x="52870" y="51249"/>
                  </a:lnTo>
                  <a:lnTo>
                    <a:pt x="51565" y="56180"/>
                  </a:lnTo>
                  <a:lnTo>
                    <a:pt x="49849" y="61160"/>
                  </a:lnTo>
                  <a:lnTo>
                    <a:pt x="47858" y="66173"/>
                  </a:lnTo>
                  <a:lnTo>
                    <a:pt x="44838" y="71209"/>
                  </a:lnTo>
                  <a:lnTo>
                    <a:pt x="41130" y="76259"/>
                  </a:lnTo>
                  <a:lnTo>
                    <a:pt x="36966" y="81320"/>
                  </a:lnTo>
                  <a:lnTo>
                    <a:pt x="33343" y="86386"/>
                  </a:lnTo>
                  <a:lnTo>
                    <a:pt x="30081" y="91458"/>
                  </a:lnTo>
                  <a:lnTo>
                    <a:pt x="27059" y="96532"/>
                  </a:lnTo>
                  <a:lnTo>
                    <a:pt x="19187" y="108943"/>
                  </a:lnTo>
                  <a:lnTo>
                    <a:pt x="14716" y="115809"/>
                  </a:lnTo>
                  <a:lnTo>
                    <a:pt x="10890" y="121232"/>
                  </a:lnTo>
                  <a:lnTo>
                    <a:pt x="7492" y="125695"/>
                  </a:lnTo>
                  <a:lnTo>
                    <a:pt x="4380" y="129517"/>
                  </a:lnTo>
                  <a:lnTo>
                    <a:pt x="2305" y="133758"/>
                  </a:lnTo>
                  <a:lnTo>
                    <a:pt x="922" y="138278"/>
                  </a:lnTo>
                  <a:lnTo>
                    <a:pt x="0" y="142986"/>
                  </a:lnTo>
                  <a:lnTo>
                    <a:pt x="233" y="146970"/>
                  </a:lnTo>
                  <a:lnTo>
                    <a:pt x="1234" y="150474"/>
                  </a:lnTo>
                  <a:lnTo>
                    <a:pt x="2748" y="153656"/>
                  </a:lnTo>
                  <a:lnTo>
                    <a:pt x="4604" y="155777"/>
                  </a:lnTo>
                  <a:lnTo>
                    <a:pt x="6688" y="157191"/>
                  </a:lnTo>
                  <a:lnTo>
                    <a:pt x="8924" y="158134"/>
                  </a:lnTo>
                  <a:lnTo>
                    <a:pt x="18182" y="161440"/>
                  </a:lnTo>
                  <a:lnTo>
                    <a:pt x="24207" y="163507"/>
                  </a:lnTo>
                  <a:lnTo>
                    <a:pt x="30763" y="164885"/>
                  </a:lnTo>
                  <a:lnTo>
                    <a:pt x="37674" y="165803"/>
                  </a:lnTo>
                  <a:lnTo>
                    <a:pt x="44821" y="166415"/>
                  </a:lnTo>
                  <a:lnTo>
                    <a:pt x="53820" y="165977"/>
                  </a:lnTo>
                  <a:lnTo>
                    <a:pt x="64052" y="164838"/>
                  </a:lnTo>
                  <a:lnTo>
                    <a:pt x="75107" y="163232"/>
                  </a:lnTo>
                  <a:lnTo>
                    <a:pt x="85863" y="162162"/>
                  </a:lnTo>
                  <a:lnTo>
                    <a:pt x="96421" y="161448"/>
                  </a:lnTo>
                  <a:lnTo>
                    <a:pt x="106846" y="160972"/>
                  </a:lnTo>
                  <a:lnTo>
                    <a:pt x="115489" y="159808"/>
                  </a:lnTo>
                  <a:lnTo>
                    <a:pt x="122945" y="158185"/>
                  </a:lnTo>
                  <a:lnTo>
                    <a:pt x="129609" y="156257"/>
                  </a:lnTo>
                  <a:lnTo>
                    <a:pt x="135745" y="154972"/>
                  </a:lnTo>
                  <a:lnTo>
                    <a:pt x="141529" y="154115"/>
                  </a:lnTo>
                  <a:lnTo>
                    <a:pt x="158176" y="152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13"/>
            <p:cNvSpPr/>
            <p:nvPr/>
          </p:nvSpPr>
          <p:spPr>
            <a:xfrm>
              <a:off x="2202120" y="3031920"/>
              <a:ext cx="60840" cy="26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0961" h="266701">
                  <a:moveTo>
                    <a:pt x="60960" y="0"/>
                  </a:moveTo>
                  <a:lnTo>
                    <a:pt x="56915" y="4046"/>
                  </a:lnTo>
                  <a:lnTo>
                    <a:pt x="55723" y="6084"/>
                  </a:lnTo>
                  <a:lnTo>
                    <a:pt x="54399" y="10606"/>
                  </a:lnTo>
                  <a:lnTo>
                    <a:pt x="53811" y="17696"/>
                  </a:lnTo>
                  <a:lnTo>
                    <a:pt x="53550" y="26492"/>
                  </a:lnTo>
                  <a:lnTo>
                    <a:pt x="53433" y="36045"/>
                  </a:lnTo>
                  <a:lnTo>
                    <a:pt x="52556" y="41810"/>
                  </a:lnTo>
                  <a:lnTo>
                    <a:pt x="51123" y="48194"/>
                  </a:lnTo>
                  <a:lnTo>
                    <a:pt x="49322" y="54989"/>
                  </a:lnTo>
                  <a:lnTo>
                    <a:pt x="48122" y="62906"/>
                  </a:lnTo>
                  <a:lnTo>
                    <a:pt x="47321" y="71570"/>
                  </a:lnTo>
                  <a:lnTo>
                    <a:pt x="46787" y="80734"/>
                  </a:lnTo>
                  <a:lnTo>
                    <a:pt x="45585" y="89383"/>
                  </a:lnTo>
                  <a:lnTo>
                    <a:pt x="43937" y="97688"/>
                  </a:lnTo>
                  <a:lnTo>
                    <a:pt x="27836" y="162926"/>
                  </a:lnTo>
                  <a:lnTo>
                    <a:pt x="24484" y="172964"/>
                  </a:lnTo>
                  <a:lnTo>
                    <a:pt x="20556" y="183043"/>
                  </a:lnTo>
                  <a:lnTo>
                    <a:pt x="16244" y="193149"/>
                  </a:lnTo>
                  <a:lnTo>
                    <a:pt x="12522" y="204119"/>
                  </a:lnTo>
                  <a:lnTo>
                    <a:pt x="9195" y="215666"/>
                  </a:lnTo>
                  <a:lnTo>
                    <a:pt x="6130" y="227598"/>
                  </a:lnTo>
                  <a:lnTo>
                    <a:pt x="4087" y="237245"/>
                  </a:lnTo>
                  <a:lnTo>
                    <a:pt x="2724" y="245370"/>
                  </a:lnTo>
                  <a:lnTo>
                    <a:pt x="0" y="2667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414"/>
            <p:cNvSpPr/>
            <p:nvPr/>
          </p:nvSpPr>
          <p:spPr>
            <a:xfrm>
              <a:off x="960120" y="3611160"/>
              <a:ext cx="190440" cy="174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0501" h="175261">
                  <a:moveTo>
                    <a:pt x="190500" y="0"/>
                  </a:moveTo>
                  <a:lnTo>
                    <a:pt x="190500" y="4045"/>
                  </a:lnTo>
                  <a:lnTo>
                    <a:pt x="189653" y="6083"/>
                  </a:lnTo>
                  <a:lnTo>
                    <a:pt x="186455" y="10606"/>
                  </a:lnTo>
                  <a:lnTo>
                    <a:pt x="183570" y="13844"/>
                  </a:lnTo>
                  <a:lnTo>
                    <a:pt x="175849" y="21957"/>
                  </a:lnTo>
                  <a:lnTo>
                    <a:pt x="172266" y="26492"/>
                  </a:lnTo>
                  <a:lnTo>
                    <a:pt x="169031" y="31208"/>
                  </a:lnTo>
                  <a:lnTo>
                    <a:pt x="166027" y="36045"/>
                  </a:lnTo>
                  <a:lnTo>
                    <a:pt x="161485" y="40963"/>
                  </a:lnTo>
                  <a:lnTo>
                    <a:pt x="155917" y="45935"/>
                  </a:lnTo>
                  <a:lnTo>
                    <a:pt x="149664" y="50944"/>
                  </a:lnTo>
                  <a:lnTo>
                    <a:pt x="142956" y="55976"/>
                  </a:lnTo>
                  <a:lnTo>
                    <a:pt x="128730" y="66082"/>
                  </a:lnTo>
                  <a:lnTo>
                    <a:pt x="122226" y="71995"/>
                  </a:lnTo>
                  <a:lnTo>
                    <a:pt x="116198" y="78477"/>
                  </a:lnTo>
                  <a:lnTo>
                    <a:pt x="110485" y="85338"/>
                  </a:lnTo>
                  <a:lnTo>
                    <a:pt x="103290" y="92452"/>
                  </a:lnTo>
                  <a:lnTo>
                    <a:pt x="95107" y="99735"/>
                  </a:lnTo>
                  <a:lnTo>
                    <a:pt x="86265" y="107130"/>
                  </a:lnTo>
                  <a:lnTo>
                    <a:pt x="77830" y="113753"/>
                  </a:lnTo>
                  <a:lnTo>
                    <a:pt x="69667" y="119862"/>
                  </a:lnTo>
                  <a:lnTo>
                    <a:pt x="53823" y="131166"/>
                  </a:lnTo>
                  <a:lnTo>
                    <a:pt x="38315" y="141834"/>
                  </a:lnTo>
                  <a:lnTo>
                    <a:pt x="31470" y="147049"/>
                  </a:lnTo>
                  <a:lnTo>
                    <a:pt x="25213" y="152219"/>
                  </a:lnTo>
                  <a:lnTo>
                    <a:pt x="14593" y="161633"/>
                  </a:lnTo>
                  <a:lnTo>
                    <a:pt x="0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415"/>
            <p:cNvSpPr/>
            <p:nvPr/>
          </p:nvSpPr>
          <p:spPr>
            <a:xfrm>
              <a:off x="1028520" y="3626640"/>
              <a:ext cx="236160" cy="1522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6221" h="152401">
                  <a:moveTo>
                    <a:pt x="0" y="0"/>
                  </a:moveTo>
                  <a:lnTo>
                    <a:pt x="4045" y="4045"/>
                  </a:lnTo>
                  <a:lnTo>
                    <a:pt x="10547" y="8289"/>
                  </a:lnTo>
                  <a:lnTo>
                    <a:pt x="14651" y="10606"/>
                  </a:lnTo>
                  <a:lnTo>
                    <a:pt x="18234" y="12997"/>
                  </a:lnTo>
                  <a:lnTo>
                    <a:pt x="21470" y="15439"/>
                  </a:lnTo>
                  <a:lnTo>
                    <a:pt x="24473" y="17912"/>
                  </a:lnTo>
                  <a:lnTo>
                    <a:pt x="28169" y="21255"/>
                  </a:lnTo>
                  <a:lnTo>
                    <a:pt x="36790" y="29484"/>
                  </a:lnTo>
                  <a:lnTo>
                    <a:pt x="43154" y="34050"/>
                  </a:lnTo>
                  <a:lnTo>
                    <a:pt x="50783" y="38786"/>
                  </a:lnTo>
                  <a:lnTo>
                    <a:pt x="59255" y="43638"/>
                  </a:lnTo>
                  <a:lnTo>
                    <a:pt x="66597" y="48565"/>
                  </a:lnTo>
                  <a:lnTo>
                    <a:pt x="73185" y="53544"/>
                  </a:lnTo>
                  <a:lnTo>
                    <a:pt x="79270" y="58556"/>
                  </a:lnTo>
                  <a:lnTo>
                    <a:pt x="95062" y="70898"/>
                  </a:lnTo>
                  <a:lnTo>
                    <a:pt x="104015" y="77746"/>
                  </a:lnTo>
                  <a:lnTo>
                    <a:pt x="112523" y="84851"/>
                  </a:lnTo>
                  <a:lnTo>
                    <a:pt x="120736" y="92127"/>
                  </a:lnTo>
                  <a:lnTo>
                    <a:pt x="128750" y="99518"/>
                  </a:lnTo>
                  <a:lnTo>
                    <a:pt x="137480" y="106139"/>
                  </a:lnTo>
                  <a:lnTo>
                    <a:pt x="146687" y="112246"/>
                  </a:lnTo>
                  <a:lnTo>
                    <a:pt x="156211" y="118011"/>
                  </a:lnTo>
                  <a:lnTo>
                    <a:pt x="165948" y="123548"/>
                  </a:lnTo>
                  <a:lnTo>
                    <a:pt x="185797" y="134215"/>
                  </a:lnTo>
                  <a:lnTo>
                    <a:pt x="207922" y="145695"/>
                  </a:lnTo>
                  <a:lnTo>
                    <a:pt x="213968" y="147930"/>
                  </a:lnTo>
                  <a:lnTo>
                    <a:pt x="219692" y="149420"/>
                  </a:lnTo>
                  <a:lnTo>
                    <a:pt x="236220" y="152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416"/>
            <p:cNvSpPr/>
            <p:nvPr/>
          </p:nvSpPr>
          <p:spPr>
            <a:xfrm>
              <a:off x="1394280" y="365688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417"/>
            <p:cNvSpPr/>
            <p:nvPr/>
          </p:nvSpPr>
          <p:spPr>
            <a:xfrm>
              <a:off x="1440000" y="371808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24473" y="22860"/>
                  </a:lnTo>
                  <a:lnTo>
                    <a:pt x="29016" y="22014"/>
                  </a:lnTo>
                  <a:lnTo>
                    <a:pt x="34584" y="20602"/>
                  </a:lnTo>
                  <a:lnTo>
                    <a:pt x="40836" y="18815"/>
                  </a:lnTo>
                  <a:lnTo>
                    <a:pt x="75204" y="9863"/>
                  </a:lnTo>
                  <a:lnTo>
                    <a:pt x="94666" y="4948"/>
                  </a:lnTo>
                  <a:lnTo>
                    <a:pt x="102904" y="3298"/>
                  </a:lnTo>
                  <a:lnTo>
                    <a:pt x="110090" y="2199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418"/>
            <p:cNvSpPr/>
            <p:nvPr/>
          </p:nvSpPr>
          <p:spPr>
            <a:xfrm>
              <a:off x="1783080" y="3527280"/>
              <a:ext cx="167400" cy="213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67641" h="213220">
                  <a:moveTo>
                    <a:pt x="0" y="0"/>
                  </a:moveTo>
                  <a:lnTo>
                    <a:pt x="17912" y="0"/>
                  </a:lnTo>
                  <a:lnTo>
                    <a:pt x="21255" y="847"/>
                  </a:lnTo>
                  <a:lnTo>
                    <a:pt x="25177" y="2258"/>
                  </a:lnTo>
                  <a:lnTo>
                    <a:pt x="29485" y="4045"/>
                  </a:lnTo>
                  <a:lnTo>
                    <a:pt x="34896" y="5237"/>
                  </a:lnTo>
                  <a:lnTo>
                    <a:pt x="41044" y="6031"/>
                  </a:lnTo>
                  <a:lnTo>
                    <a:pt x="47683" y="6561"/>
                  </a:lnTo>
                  <a:lnTo>
                    <a:pt x="54649" y="7761"/>
                  </a:lnTo>
                  <a:lnTo>
                    <a:pt x="61832" y="9407"/>
                  </a:lnTo>
                  <a:lnTo>
                    <a:pt x="69162" y="11351"/>
                  </a:lnTo>
                  <a:lnTo>
                    <a:pt x="76588" y="12648"/>
                  </a:lnTo>
                  <a:lnTo>
                    <a:pt x="84079" y="13512"/>
                  </a:lnTo>
                  <a:lnTo>
                    <a:pt x="91613" y="14088"/>
                  </a:lnTo>
                  <a:lnTo>
                    <a:pt x="98328" y="15319"/>
                  </a:lnTo>
                  <a:lnTo>
                    <a:pt x="104499" y="16986"/>
                  </a:lnTo>
                  <a:lnTo>
                    <a:pt x="110306" y="18944"/>
                  </a:lnTo>
                  <a:lnTo>
                    <a:pt x="115871" y="21943"/>
                  </a:lnTo>
                  <a:lnTo>
                    <a:pt x="121274" y="25635"/>
                  </a:lnTo>
                  <a:lnTo>
                    <a:pt x="126569" y="29790"/>
                  </a:lnTo>
                  <a:lnTo>
                    <a:pt x="130946" y="33407"/>
                  </a:lnTo>
                  <a:lnTo>
                    <a:pt x="134711" y="36665"/>
                  </a:lnTo>
                  <a:lnTo>
                    <a:pt x="138067" y="39683"/>
                  </a:lnTo>
                  <a:lnTo>
                    <a:pt x="144055" y="45295"/>
                  </a:lnTo>
                  <a:lnTo>
                    <a:pt x="146837" y="47977"/>
                  </a:lnTo>
                  <a:lnTo>
                    <a:pt x="147844" y="51458"/>
                  </a:lnTo>
                  <a:lnTo>
                    <a:pt x="147670" y="55472"/>
                  </a:lnTo>
                  <a:lnTo>
                    <a:pt x="146706" y="59841"/>
                  </a:lnTo>
                  <a:lnTo>
                    <a:pt x="144371" y="64448"/>
                  </a:lnTo>
                  <a:lnTo>
                    <a:pt x="141121" y="69212"/>
                  </a:lnTo>
                  <a:lnTo>
                    <a:pt x="137260" y="74081"/>
                  </a:lnTo>
                  <a:lnTo>
                    <a:pt x="132994" y="78174"/>
                  </a:lnTo>
                  <a:lnTo>
                    <a:pt x="128456" y="81750"/>
                  </a:lnTo>
                  <a:lnTo>
                    <a:pt x="123737" y="84980"/>
                  </a:lnTo>
                  <a:lnTo>
                    <a:pt x="118898" y="89673"/>
                  </a:lnTo>
                  <a:lnTo>
                    <a:pt x="113979" y="95342"/>
                  </a:lnTo>
                  <a:lnTo>
                    <a:pt x="109006" y="101662"/>
                  </a:lnTo>
                  <a:lnTo>
                    <a:pt x="102304" y="107568"/>
                  </a:lnTo>
                  <a:lnTo>
                    <a:pt x="94449" y="113198"/>
                  </a:lnTo>
                  <a:lnTo>
                    <a:pt x="69472" y="129214"/>
                  </a:lnTo>
                  <a:lnTo>
                    <a:pt x="38276" y="149796"/>
                  </a:lnTo>
                  <a:lnTo>
                    <a:pt x="31445" y="154897"/>
                  </a:lnTo>
                  <a:lnTo>
                    <a:pt x="25196" y="159991"/>
                  </a:lnTo>
                  <a:lnTo>
                    <a:pt x="14585" y="169321"/>
                  </a:lnTo>
                  <a:lnTo>
                    <a:pt x="7047" y="176289"/>
                  </a:lnTo>
                  <a:lnTo>
                    <a:pt x="4698" y="180180"/>
                  </a:lnTo>
                  <a:lnTo>
                    <a:pt x="3132" y="184466"/>
                  </a:lnTo>
                  <a:lnTo>
                    <a:pt x="2088" y="189017"/>
                  </a:lnTo>
                  <a:lnTo>
                    <a:pt x="1392" y="192899"/>
                  </a:lnTo>
                  <a:lnTo>
                    <a:pt x="619" y="199468"/>
                  </a:lnTo>
                  <a:lnTo>
                    <a:pt x="2106" y="202406"/>
                  </a:lnTo>
                  <a:lnTo>
                    <a:pt x="4791" y="205211"/>
                  </a:lnTo>
                  <a:lnTo>
                    <a:pt x="8274" y="207927"/>
                  </a:lnTo>
                  <a:lnTo>
                    <a:pt x="13136" y="209738"/>
                  </a:lnTo>
                  <a:lnTo>
                    <a:pt x="18917" y="210945"/>
                  </a:lnTo>
                  <a:lnTo>
                    <a:pt x="25312" y="211750"/>
                  </a:lnTo>
                  <a:lnTo>
                    <a:pt x="32961" y="212287"/>
                  </a:lnTo>
                  <a:lnTo>
                    <a:pt x="41448" y="212645"/>
                  </a:lnTo>
                  <a:lnTo>
                    <a:pt x="60754" y="213042"/>
                  </a:lnTo>
                  <a:lnTo>
                    <a:pt x="83447" y="213219"/>
                  </a:lnTo>
                  <a:lnTo>
                    <a:pt x="96271" y="212419"/>
                  </a:lnTo>
                  <a:lnTo>
                    <a:pt x="109901" y="211039"/>
                  </a:lnTo>
                  <a:lnTo>
                    <a:pt x="124067" y="209273"/>
                  </a:lnTo>
                  <a:lnTo>
                    <a:pt x="135205" y="208095"/>
                  </a:lnTo>
                  <a:lnTo>
                    <a:pt x="144323" y="207310"/>
                  </a:lnTo>
                  <a:lnTo>
                    <a:pt x="16764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19"/>
            <p:cNvSpPr/>
            <p:nvPr/>
          </p:nvSpPr>
          <p:spPr>
            <a:xfrm>
              <a:off x="2141280" y="3519720"/>
              <a:ext cx="30240" cy="182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0481" h="182881">
                  <a:moveTo>
                    <a:pt x="0" y="0"/>
                  </a:moveTo>
                  <a:lnTo>
                    <a:pt x="0" y="55210"/>
                  </a:lnTo>
                  <a:lnTo>
                    <a:pt x="847" y="62206"/>
                  </a:lnTo>
                  <a:lnTo>
                    <a:pt x="2258" y="69411"/>
                  </a:lnTo>
                  <a:lnTo>
                    <a:pt x="17912" y="132575"/>
                  </a:lnTo>
                  <a:lnTo>
                    <a:pt x="19561" y="140877"/>
                  </a:lnTo>
                  <a:lnTo>
                    <a:pt x="20661" y="148104"/>
                  </a:lnTo>
                  <a:lnTo>
                    <a:pt x="21394" y="154616"/>
                  </a:lnTo>
                  <a:lnTo>
                    <a:pt x="22729" y="160651"/>
                  </a:lnTo>
                  <a:lnTo>
                    <a:pt x="24466" y="166367"/>
                  </a:lnTo>
                  <a:lnTo>
                    <a:pt x="30480" y="1828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20"/>
            <p:cNvSpPr/>
            <p:nvPr/>
          </p:nvSpPr>
          <p:spPr>
            <a:xfrm>
              <a:off x="5280480" y="2117520"/>
              <a:ext cx="83520" cy="205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83821" h="205741">
                  <a:moveTo>
                    <a:pt x="83820" y="0"/>
                  </a:moveTo>
                  <a:lnTo>
                    <a:pt x="83820" y="28739"/>
                  </a:lnTo>
                  <a:lnTo>
                    <a:pt x="82973" y="33553"/>
                  </a:lnTo>
                  <a:lnTo>
                    <a:pt x="81562" y="38455"/>
                  </a:lnTo>
                  <a:lnTo>
                    <a:pt x="77737" y="49265"/>
                  </a:lnTo>
                  <a:lnTo>
                    <a:pt x="65908" y="84287"/>
                  </a:lnTo>
                  <a:lnTo>
                    <a:pt x="62565" y="91751"/>
                  </a:lnTo>
                  <a:lnTo>
                    <a:pt x="58644" y="99267"/>
                  </a:lnTo>
                  <a:lnTo>
                    <a:pt x="54336" y="106819"/>
                  </a:lnTo>
                  <a:lnTo>
                    <a:pt x="50617" y="114392"/>
                  </a:lnTo>
                  <a:lnTo>
                    <a:pt x="47292" y="121982"/>
                  </a:lnTo>
                  <a:lnTo>
                    <a:pt x="44228" y="129581"/>
                  </a:lnTo>
                  <a:lnTo>
                    <a:pt x="40492" y="137187"/>
                  </a:lnTo>
                  <a:lnTo>
                    <a:pt x="36308" y="144798"/>
                  </a:lnTo>
                  <a:lnTo>
                    <a:pt x="31825" y="152412"/>
                  </a:lnTo>
                  <a:lnTo>
                    <a:pt x="22329" y="167645"/>
                  </a:lnTo>
                  <a:lnTo>
                    <a:pt x="17426" y="175264"/>
                  </a:lnTo>
                  <a:lnTo>
                    <a:pt x="13311" y="182036"/>
                  </a:lnTo>
                  <a:lnTo>
                    <a:pt x="9720" y="188244"/>
                  </a:lnTo>
                  <a:lnTo>
                    <a:pt x="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421"/>
            <p:cNvSpPr/>
            <p:nvPr/>
          </p:nvSpPr>
          <p:spPr>
            <a:xfrm>
              <a:off x="5417640" y="2026440"/>
              <a:ext cx="190440" cy="2959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190501" h="296140">
                  <a:moveTo>
                    <a:pt x="0" y="83363"/>
                  </a:moveTo>
                  <a:lnTo>
                    <a:pt x="4045" y="75273"/>
                  </a:lnTo>
                  <a:lnTo>
                    <a:pt x="6931" y="72043"/>
                  </a:lnTo>
                  <a:lnTo>
                    <a:pt x="10546" y="69043"/>
                  </a:lnTo>
                  <a:lnTo>
                    <a:pt x="14651" y="66196"/>
                  </a:lnTo>
                  <a:lnTo>
                    <a:pt x="17387" y="63452"/>
                  </a:lnTo>
                  <a:lnTo>
                    <a:pt x="19212" y="60776"/>
                  </a:lnTo>
                  <a:lnTo>
                    <a:pt x="20428" y="58145"/>
                  </a:lnTo>
                  <a:lnTo>
                    <a:pt x="23779" y="54698"/>
                  </a:lnTo>
                  <a:lnTo>
                    <a:pt x="28553" y="50706"/>
                  </a:lnTo>
                  <a:lnTo>
                    <a:pt x="34275" y="46352"/>
                  </a:lnTo>
                  <a:lnTo>
                    <a:pt x="39783" y="41756"/>
                  </a:lnTo>
                  <a:lnTo>
                    <a:pt x="45149" y="36998"/>
                  </a:lnTo>
                  <a:lnTo>
                    <a:pt x="50420" y="32133"/>
                  </a:lnTo>
                  <a:lnTo>
                    <a:pt x="56473" y="28043"/>
                  </a:lnTo>
                  <a:lnTo>
                    <a:pt x="63049" y="24470"/>
                  </a:lnTo>
                  <a:lnTo>
                    <a:pt x="82181" y="15395"/>
                  </a:lnTo>
                  <a:lnTo>
                    <a:pt x="87808" y="12651"/>
                  </a:lnTo>
                  <a:lnTo>
                    <a:pt x="94099" y="9975"/>
                  </a:lnTo>
                  <a:lnTo>
                    <a:pt x="100833" y="7345"/>
                  </a:lnTo>
                  <a:lnTo>
                    <a:pt x="107861" y="4744"/>
                  </a:lnTo>
                  <a:lnTo>
                    <a:pt x="114241" y="3011"/>
                  </a:lnTo>
                  <a:lnTo>
                    <a:pt x="120188" y="1855"/>
                  </a:lnTo>
                  <a:lnTo>
                    <a:pt x="125845" y="1084"/>
                  </a:lnTo>
                  <a:lnTo>
                    <a:pt x="132157" y="571"/>
                  </a:lnTo>
                  <a:lnTo>
                    <a:pt x="138905" y="228"/>
                  </a:lnTo>
                  <a:lnTo>
                    <a:pt x="145943" y="0"/>
                  </a:lnTo>
                  <a:lnTo>
                    <a:pt x="152329" y="694"/>
                  </a:lnTo>
                  <a:lnTo>
                    <a:pt x="158280" y="2004"/>
                  </a:lnTo>
                  <a:lnTo>
                    <a:pt x="163940" y="3724"/>
                  </a:lnTo>
                  <a:lnTo>
                    <a:pt x="168560" y="5717"/>
                  </a:lnTo>
                  <a:lnTo>
                    <a:pt x="172487" y="7892"/>
                  </a:lnTo>
                  <a:lnTo>
                    <a:pt x="175952" y="10189"/>
                  </a:lnTo>
                  <a:lnTo>
                    <a:pt x="179108" y="12567"/>
                  </a:lnTo>
                  <a:lnTo>
                    <a:pt x="184872" y="17467"/>
                  </a:lnTo>
                  <a:lnTo>
                    <a:pt x="186748" y="20806"/>
                  </a:lnTo>
                  <a:lnTo>
                    <a:pt x="188833" y="29031"/>
                  </a:lnTo>
                  <a:lnTo>
                    <a:pt x="189389" y="34442"/>
                  </a:lnTo>
                  <a:lnTo>
                    <a:pt x="189759" y="40589"/>
                  </a:lnTo>
                  <a:lnTo>
                    <a:pt x="190006" y="47227"/>
                  </a:lnTo>
                  <a:lnTo>
                    <a:pt x="189324" y="54192"/>
                  </a:lnTo>
                  <a:lnTo>
                    <a:pt x="188023" y="61376"/>
                  </a:lnTo>
                  <a:lnTo>
                    <a:pt x="186308" y="68705"/>
                  </a:lnTo>
                  <a:lnTo>
                    <a:pt x="183472" y="76131"/>
                  </a:lnTo>
                  <a:lnTo>
                    <a:pt x="179888" y="83622"/>
                  </a:lnTo>
                  <a:lnTo>
                    <a:pt x="175806" y="91156"/>
                  </a:lnTo>
                  <a:lnTo>
                    <a:pt x="170544" y="98718"/>
                  </a:lnTo>
                  <a:lnTo>
                    <a:pt x="164496" y="106300"/>
                  </a:lnTo>
                  <a:lnTo>
                    <a:pt x="157924" y="113894"/>
                  </a:lnTo>
                  <a:lnTo>
                    <a:pt x="151003" y="122344"/>
                  </a:lnTo>
                  <a:lnTo>
                    <a:pt x="136539" y="140764"/>
                  </a:lnTo>
                  <a:lnTo>
                    <a:pt x="128279" y="150417"/>
                  </a:lnTo>
                  <a:lnTo>
                    <a:pt x="119386" y="160239"/>
                  </a:lnTo>
                  <a:lnTo>
                    <a:pt x="101320" y="179337"/>
                  </a:lnTo>
                  <a:lnTo>
                    <a:pt x="84825" y="196291"/>
                  </a:lnTo>
                  <a:lnTo>
                    <a:pt x="76870" y="205215"/>
                  </a:lnTo>
                  <a:lnTo>
                    <a:pt x="69026" y="214551"/>
                  </a:lnTo>
                  <a:lnTo>
                    <a:pt x="61258" y="224162"/>
                  </a:lnTo>
                  <a:lnTo>
                    <a:pt x="54386" y="232262"/>
                  </a:lnTo>
                  <a:lnTo>
                    <a:pt x="48110" y="239356"/>
                  </a:lnTo>
                  <a:lnTo>
                    <a:pt x="42234" y="245778"/>
                  </a:lnTo>
                  <a:lnTo>
                    <a:pt x="37469" y="251753"/>
                  </a:lnTo>
                  <a:lnTo>
                    <a:pt x="33446" y="257430"/>
                  </a:lnTo>
                  <a:lnTo>
                    <a:pt x="29917" y="262908"/>
                  </a:lnTo>
                  <a:lnTo>
                    <a:pt x="27565" y="268253"/>
                  </a:lnTo>
                  <a:lnTo>
                    <a:pt x="25997" y="273509"/>
                  </a:lnTo>
                  <a:lnTo>
                    <a:pt x="24952" y="278707"/>
                  </a:lnTo>
                  <a:lnTo>
                    <a:pt x="25101" y="283019"/>
                  </a:lnTo>
                  <a:lnTo>
                    <a:pt x="26047" y="286740"/>
                  </a:lnTo>
                  <a:lnTo>
                    <a:pt x="27525" y="290068"/>
                  </a:lnTo>
                  <a:lnTo>
                    <a:pt x="31050" y="292286"/>
                  </a:lnTo>
                  <a:lnTo>
                    <a:pt x="35940" y="293765"/>
                  </a:lnTo>
                  <a:lnTo>
                    <a:pt x="41740" y="294751"/>
                  </a:lnTo>
                  <a:lnTo>
                    <a:pt x="48147" y="295409"/>
                  </a:lnTo>
                  <a:lnTo>
                    <a:pt x="54958" y="295847"/>
                  </a:lnTo>
                  <a:lnTo>
                    <a:pt x="62039" y="296139"/>
                  </a:lnTo>
                  <a:lnTo>
                    <a:pt x="70145" y="295487"/>
                  </a:lnTo>
                  <a:lnTo>
                    <a:pt x="78937" y="294206"/>
                  </a:lnTo>
                  <a:lnTo>
                    <a:pt x="121426" y="286066"/>
                  </a:lnTo>
                  <a:lnTo>
                    <a:pt x="131751" y="284538"/>
                  </a:lnTo>
                  <a:lnTo>
                    <a:pt x="141174" y="283520"/>
                  </a:lnTo>
                  <a:lnTo>
                    <a:pt x="149996" y="282841"/>
                  </a:lnTo>
                  <a:lnTo>
                    <a:pt x="158418" y="281542"/>
                  </a:lnTo>
                  <a:lnTo>
                    <a:pt x="166572" y="279829"/>
                  </a:lnTo>
                  <a:lnTo>
                    <a:pt x="190500" y="27386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422"/>
            <p:cNvSpPr/>
            <p:nvPr/>
          </p:nvSpPr>
          <p:spPr>
            <a:xfrm>
              <a:off x="5814000" y="2117520"/>
              <a:ext cx="83520" cy="22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8382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8" y="6031"/>
                  </a:lnTo>
                  <a:lnTo>
                    <a:pt x="13867" y="7307"/>
                  </a:lnTo>
                  <a:lnTo>
                    <a:pt x="16018" y="7411"/>
                  </a:lnTo>
                  <a:lnTo>
                    <a:pt x="22924" y="7527"/>
                  </a:lnTo>
                  <a:lnTo>
                    <a:pt x="27136" y="8405"/>
                  </a:lnTo>
                  <a:lnTo>
                    <a:pt x="31637" y="9837"/>
                  </a:lnTo>
                  <a:lnTo>
                    <a:pt x="36331" y="11638"/>
                  </a:lnTo>
                  <a:lnTo>
                    <a:pt x="41154" y="12839"/>
                  </a:lnTo>
                  <a:lnTo>
                    <a:pt x="46063" y="13639"/>
                  </a:lnTo>
                  <a:lnTo>
                    <a:pt x="51029" y="14173"/>
                  </a:lnTo>
                  <a:lnTo>
                    <a:pt x="56032" y="14529"/>
                  </a:lnTo>
                  <a:lnTo>
                    <a:pt x="61062" y="14766"/>
                  </a:lnTo>
                  <a:lnTo>
                    <a:pt x="66107" y="14924"/>
                  </a:lnTo>
                  <a:lnTo>
                    <a:pt x="70318" y="15876"/>
                  </a:lnTo>
                  <a:lnTo>
                    <a:pt x="73973" y="17358"/>
                  </a:lnTo>
                  <a:lnTo>
                    <a:pt x="83820" y="22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423"/>
            <p:cNvSpPr/>
            <p:nvPr/>
          </p:nvSpPr>
          <p:spPr>
            <a:xfrm>
              <a:off x="5836680" y="22240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2" h="15241">
                  <a:moveTo>
                    <a:pt x="0" y="0"/>
                  </a:moveTo>
                  <a:lnTo>
                    <a:pt x="8091" y="4045"/>
                  </a:lnTo>
                  <a:lnTo>
                    <a:pt x="11321" y="6084"/>
                  </a:lnTo>
                  <a:lnTo>
                    <a:pt x="14321" y="8289"/>
                  </a:lnTo>
                  <a:lnTo>
                    <a:pt x="17167" y="10606"/>
                  </a:lnTo>
                  <a:lnTo>
                    <a:pt x="21605" y="12151"/>
                  </a:lnTo>
                  <a:lnTo>
                    <a:pt x="27104" y="13180"/>
                  </a:lnTo>
                  <a:lnTo>
                    <a:pt x="33309" y="13867"/>
                  </a:lnTo>
                  <a:lnTo>
                    <a:pt x="39987" y="14325"/>
                  </a:lnTo>
                  <a:lnTo>
                    <a:pt x="46977" y="14630"/>
                  </a:lnTo>
                  <a:lnTo>
                    <a:pt x="61519" y="14969"/>
                  </a:lnTo>
                  <a:lnTo>
                    <a:pt x="160021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424"/>
            <p:cNvSpPr/>
            <p:nvPr/>
          </p:nvSpPr>
          <p:spPr>
            <a:xfrm>
              <a:off x="6179760" y="215568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94601" y="7620"/>
                  </a:lnTo>
                  <a:lnTo>
                    <a:pt x="102860" y="6773"/>
                  </a:lnTo>
                  <a:lnTo>
                    <a:pt x="110060" y="5362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425"/>
            <p:cNvSpPr/>
            <p:nvPr/>
          </p:nvSpPr>
          <p:spPr>
            <a:xfrm>
              <a:off x="6444360" y="2012040"/>
              <a:ext cx="172440" cy="113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2718" h="113071">
                  <a:moveTo>
                    <a:pt x="116401" y="14153"/>
                  </a:moveTo>
                  <a:lnTo>
                    <a:pt x="116401" y="10108"/>
                  </a:lnTo>
                  <a:lnTo>
                    <a:pt x="117248" y="8916"/>
                  </a:lnTo>
                  <a:lnTo>
                    <a:pt x="118659" y="8122"/>
                  </a:lnTo>
                  <a:lnTo>
                    <a:pt x="122962" y="6847"/>
                  </a:lnTo>
                  <a:lnTo>
                    <a:pt x="123315" y="5896"/>
                  </a:lnTo>
                  <a:lnTo>
                    <a:pt x="123708" y="2581"/>
                  </a:lnTo>
                  <a:lnTo>
                    <a:pt x="123928" y="0"/>
                  </a:lnTo>
                  <a:lnTo>
                    <a:pt x="123994" y="3280"/>
                  </a:lnTo>
                  <a:lnTo>
                    <a:pt x="123156" y="5211"/>
                  </a:lnTo>
                  <a:lnTo>
                    <a:pt x="121752" y="7345"/>
                  </a:lnTo>
                  <a:lnTo>
                    <a:pt x="119968" y="9614"/>
                  </a:lnTo>
                  <a:lnTo>
                    <a:pt x="116239" y="11974"/>
                  </a:lnTo>
                  <a:lnTo>
                    <a:pt x="111213" y="14394"/>
                  </a:lnTo>
                  <a:lnTo>
                    <a:pt x="105322" y="16853"/>
                  </a:lnTo>
                  <a:lnTo>
                    <a:pt x="98855" y="20187"/>
                  </a:lnTo>
                  <a:lnTo>
                    <a:pt x="92005" y="24102"/>
                  </a:lnTo>
                  <a:lnTo>
                    <a:pt x="84897" y="28406"/>
                  </a:lnTo>
                  <a:lnTo>
                    <a:pt x="70225" y="37703"/>
                  </a:lnTo>
                  <a:lnTo>
                    <a:pt x="62757" y="42553"/>
                  </a:lnTo>
                  <a:lnTo>
                    <a:pt x="54392" y="47480"/>
                  </a:lnTo>
                  <a:lnTo>
                    <a:pt x="45428" y="52458"/>
                  </a:lnTo>
                  <a:lnTo>
                    <a:pt x="36066" y="57469"/>
                  </a:lnTo>
                  <a:lnTo>
                    <a:pt x="28132" y="62504"/>
                  </a:lnTo>
                  <a:lnTo>
                    <a:pt x="21148" y="67554"/>
                  </a:lnTo>
                  <a:lnTo>
                    <a:pt x="14799" y="72613"/>
                  </a:lnTo>
                  <a:lnTo>
                    <a:pt x="9720" y="77680"/>
                  </a:lnTo>
                  <a:lnTo>
                    <a:pt x="5487" y="82751"/>
                  </a:lnTo>
                  <a:lnTo>
                    <a:pt x="1818" y="87825"/>
                  </a:lnTo>
                  <a:lnTo>
                    <a:pt x="220" y="92055"/>
                  </a:lnTo>
                  <a:lnTo>
                    <a:pt x="0" y="95721"/>
                  </a:lnTo>
                  <a:lnTo>
                    <a:pt x="701" y="99011"/>
                  </a:lnTo>
                  <a:lnTo>
                    <a:pt x="2014" y="102052"/>
                  </a:lnTo>
                  <a:lnTo>
                    <a:pt x="3737" y="104926"/>
                  </a:lnTo>
                  <a:lnTo>
                    <a:pt x="5732" y="107688"/>
                  </a:lnTo>
                  <a:lnTo>
                    <a:pt x="9601" y="109530"/>
                  </a:lnTo>
                  <a:lnTo>
                    <a:pt x="14721" y="110758"/>
                  </a:lnTo>
                  <a:lnTo>
                    <a:pt x="20674" y="111576"/>
                  </a:lnTo>
                  <a:lnTo>
                    <a:pt x="28030" y="112122"/>
                  </a:lnTo>
                  <a:lnTo>
                    <a:pt x="36320" y="112486"/>
                  </a:lnTo>
                  <a:lnTo>
                    <a:pt x="54563" y="112890"/>
                  </a:lnTo>
                  <a:lnTo>
                    <a:pt x="73959" y="113070"/>
                  </a:lnTo>
                  <a:lnTo>
                    <a:pt x="83874" y="111424"/>
                  </a:lnTo>
                  <a:lnTo>
                    <a:pt x="93870" y="108634"/>
                  </a:lnTo>
                  <a:lnTo>
                    <a:pt x="130201" y="96034"/>
                  </a:lnTo>
                  <a:lnTo>
                    <a:pt x="137454" y="92447"/>
                  </a:lnTo>
                  <a:lnTo>
                    <a:pt x="143984" y="88362"/>
                  </a:lnTo>
                  <a:lnTo>
                    <a:pt x="150030" y="83946"/>
                  </a:lnTo>
                  <a:lnTo>
                    <a:pt x="154907" y="80155"/>
                  </a:lnTo>
                  <a:lnTo>
                    <a:pt x="159005" y="76781"/>
                  </a:lnTo>
                  <a:lnTo>
                    <a:pt x="162584" y="73685"/>
                  </a:lnTo>
                  <a:lnTo>
                    <a:pt x="165816" y="69928"/>
                  </a:lnTo>
                  <a:lnTo>
                    <a:pt x="168818" y="65729"/>
                  </a:lnTo>
                  <a:lnTo>
                    <a:pt x="171666" y="61237"/>
                  </a:lnTo>
                  <a:lnTo>
                    <a:pt x="172717" y="56549"/>
                  </a:lnTo>
                  <a:lnTo>
                    <a:pt x="172572" y="51731"/>
                  </a:lnTo>
                  <a:lnTo>
                    <a:pt x="171628" y="46825"/>
                  </a:lnTo>
                  <a:lnTo>
                    <a:pt x="170153" y="42708"/>
                  </a:lnTo>
                  <a:lnTo>
                    <a:pt x="168322" y="39116"/>
                  </a:lnTo>
                  <a:lnTo>
                    <a:pt x="166256" y="35875"/>
                  </a:lnTo>
                  <a:lnTo>
                    <a:pt x="163184" y="33714"/>
                  </a:lnTo>
                  <a:lnTo>
                    <a:pt x="159443" y="32274"/>
                  </a:lnTo>
                  <a:lnTo>
                    <a:pt x="155256" y="31314"/>
                  </a:lnTo>
                  <a:lnTo>
                    <a:pt x="150771" y="30673"/>
                  </a:lnTo>
                  <a:lnTo>
                    <a:pt x="146087" y="30247"/>
                  </a:lnTo>
                  <a:lnTo>
                    <a:pt x="137216" y="29772"/>
                  </a:lnTo>
                  <a:lnTo>
                    <a:pt x="130449" y="29562"/>
                  </a:lnTo>
                  <a:lnTo>
                    <a:pt x="116401" y="2939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426"/>
            <p:cNvSpPr/>
            <p:nvPr/>
          </p:nvSpPr>
          <p:spPr>
            <a:xfrm>
              <a:off x="6428880" y="2155680"/>
              <a:ext cx="175320" cy="158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75408" h="158348">
                  <a:moveTo>
                    <a:pt x="124163" y="30480"/>
                  </a:moveTo>
                  <a:lnTo>
                    <a:pt x="109512" y="30480"/>
                  </a:lnTo>
                  <a:lnTo>
                    <a:pt x="105083" y="31327"/>
                  </a:lnTo>
                  <a:lnTo>
                    <a:pt x="100436" y="32738"/>
                  </a:lnTo>
                  <a:lnTo>
                    <a:pt x="95645" y="34525"/>
                  </a:lnTo>
                  <a:lnTo>
                    <a:pt x="89911" y="37410"/>
                  </a:lnTo>
                  <a:lnTo>
                    <a:pt x="83549" y="41027"/>
                  </a:lnTo>
                  <a:lnTo>
                    <a:pt x="76767" y="45131"/>
                  </a:lnTo>
                  <a:lnTo>
                    <a:pt x="62458" y="54207"/>
                  </a:lnTo>
                  <a:lnTo>
                    <a:pt x="32576" y="73832"/>
                  </a:lnTo>
                  <a:lnTo>
                    <a:pt x="25852" y="79701"/>
                  </a:lnTo>
                  <a:lnTo>
                    <a:pt x="19676" y="86154"/>
                  </a:lnTo>
                  <a:lnTo>
                    <a:pt x="13865" y="92996"/>
                  </a:lnTo>
                  <a:lnTo>
                    <a:pt x="9144" y="100098"/>
                  </a:lnTo>
                  <a:lnTo>
                    <a:pt x="5150" y="107372"/>
                  </a:lnTo>
                  <a:lnTo>
                    <a:pt x="1641" y="114761"/>
                  </a:lnTo>
                  <a:lnTo>
                    <a:pt x="148" y="121381"/>
                  </a:lnTo>
                  <a:lnTo>
                    <a:pt x="0" y="127487"/>
                  </a:lnTo>
                  <a:lnTo>
                    <a:pt x="748" y="133252"/>
                  </a:lnTo>
                  <a:lnTo>
                    <a:pt x="2939" y="137941"/>
                  </a:lnTo>
                  <a:lnTo>
                    <a:pt x="6093" y="141914"/>
                  </a:lnTo>
                  <a:lnTo>
                    <a:pt x="9890" y="145410"/>
                  </a:lnTo>
                  <a:lnTo>
                    <a:pt x="14961" y="148587"/>
                  </a:lnTo>
                  <a:lnTo>
                    <a:pt x="20882" y="151551"/>
                  </a:lnTo>
                  <a:lnTo>
                    <a:pt x="27369" y="154374"/>
                  </a:lnTo>
                  <a:lnTo>
                    <a:pt x="35927" y="156256"/>
                  </a:lnTo>
                  <a:lnTo>
                    <a:pt x="45866" y="157511"/>
                  </a:lnTo>
                  <a:lnTo>
                    <a:pt x="56725" y="158347"/>
                  </a:lnTo>
                  <a:lnTo>
                    <a:pt x="67351" y="158058"/>
                  </a:lnTo>
                  <a:lnTo>
                    <a:pt x="77821" y="157019"/>
                  </a:lnTo>
                  <a:lnTo>
                    <a:pt x="88188" y="155479"/>
                  </a:lnTo>
                  <a:lnTo>
                    <a:pt x="97640" y="153606"/>
                  </a:lnTo>
                  <a:lnTo>
                    <a:pt x="106481" y="151511"/>
                  </a:lnTo>
                  <a:lnTo>
                    <a:pt x="114916" y="149267"/>
                  </a:lnTo>
                  <a:lnTo>
                    <a:pt x="123079" y="146078"/>
                  </a:lnTo>
                  <a:lnTo>
                    <a:pt x="131059" y="142259"/>
                  </a:lnTo>
                  <a:lnTo>
                    <a:pt x="138920" y="138020"/>
                  </a:lnTo>
                  <a:lnTo>
                    <a:pt x="145855" y="133500"/>
                  </a:lnTo>
                  <a:lnTo>
                    <a:pt x="152171" y="128793"/>
                  </a:lnTo>
                  <a:lnTo>
                    <a:pt x="158075" y="123962"/>
                  </a:lnTo>
                  <a:lnTo>
                    <a:pt x="162858" y="119048"/>
                  </a:lnTo>
                  <a:lnTo>
                    <a:pt x="166892" y="114079"/>
                  </a:lnTo>
                  <a:lnTo>
                    <a:pt x="170429" y="109073"/>
                  </a:lnTo>
                  <a:lnTo>
                    <a:pt x="172787" y="103195"/>
                  </a:lnTo>
                  <a:lnTo>
                    <a:pt x="174359" y="96737"/>
                  </a:lnTo>
                  <a:lnTo>
                    <a:pt x="175407" y="89891"/>
                  </a:lnTo>
                  <a:lnTo>
                    <a:pt x="175259" y="82788"/>
                  </a:lnTo>
                  <a:lnTo>
                    <a:pt x="174313" y="75512"/>
                  </a:lnTo>
                  <a:lnTo>
                    <a:pt x="172837" y="68121"/>
                  </a:lnTo>
                  <a:lnTo>
                    <a:pt x="171006" y="60654"/>
                  </a:lnTo>
                  <a:lnTo>
                    <a:pt x="168938" y="53136"/>
                  </a:lnTo>
                  <a:lnTo>
                    <a:pt x="166713" y="45584"/>
                  </a:lnTo>
                  <a:lnTo>
                    <a:pt x="163537" y="38856"/>
                  </a:lnTo>
                  <a:lnTo>
                    <a:pt x="159725" y="32677"/>
                  </a:lnTo>
                  <a:lnTo>
                    <a:pt x="155491" y="26865"/>
                  </a:lnTo>
                  <a:lnTo>
                    <a:pt x="150975" y="22143"/>
                  </a:lnTo>
                  <a:lnTo>
                    <a:pt x="146272" y="18149"/>
                  </a:lnTo>
                  <a:lnTo>
                    <a:pt x="141442" y="14639"/>
                  </a:lnTo>
                  <a:lnTo>
                    <a:pt x="137375" y="11453"/>
                  </a:lnTo>
                  <a:lnTo>
                    <a:pt x="133817" y="8482"/>
                  </a:lnTo>
                  <a:lnTo>
                    <a:pt x="124163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427"/>
            <p:cNvSpPr/>
            <p:nvPr/>
          </p:nvSpPr>
          <p:spPr>
            <a:xfrm>
              <a:off x="6697800" y="217836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428"/>
            <p:cNvSpPr/>
            <p:nvPr/>
          </p:nvSpPr>
          <p:spPr>
            <a:xfrm>
              <a:off x="6936120" y="2033640"/>
              <a:ext cx="173160" cy="2505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73340" h="250832">
                  <a:moveTo>
                    <a:pt x="81900" y="0"/>
                  </a:moveTo>
                  <a:lnTo>
                    <a:pt x="81900" y="4045"/>
                  </a:lnTo>
                  <a:lnTo>
                    <a:pt x="81053" y="6084"/>
                  </a:lnTo>
                  <a:lnTo>
                    <a:pt x="77855" y="10606"/>
                  </a:lnTo>
                  <a:lnTo>
                    <a:pt x="75816" y="14691"/>
                  </a:lnTo>
                  <a:lnTo>
                    <a:pt x="73611" y="19954"/>
                  </a:lnTo>
                  <a:lnTo>
                    <a:pt x="71294" y="26003"/>
                  </a:lnTo>
                  <a:lnTo>
                    <a:pt x="66462" y="39497"/>
                  </a:lnTo>
                  <a:lnTo>
                    <a:pt x="63988" y="46651"/>
                  </a:lnTo>
                  <a:lnTo>
                    <a:pt x="60646" y="53961"/>
                  </a:lnTo>
                  <a:lnTo>
                    <a:pt x="56723" y="61374"/>
                  </a:lnTo>
                  <a:lnTo>
                    <a:pt x="52415" y="68856"/>
                  </a:lnTo>
                  <a:lnTo>
                    <a:pt x="48698" y="77231"/>
                  </a:lnTo>
                  <a:lnTo>
                    <a:pt x="45371" y="86201"/>
                  </a:lnTo>
                  <a:lnTo>
                    <a:pt x="42308" y="95567"/>
                  </a:lnTo>
                  <a:lnTo>
                    <a:pt x="38571" y="105198"/>
                  </a:lnTo>
                  <a:lnTo>
                    <a:pt x="34388" y="115006"/>
                  </a:lnTo>
                  <a:lnTo>
                    <a:pt x="25224" y="134934"/>
                  </a:lnTo>
                  <a:lnTo>
                    <a:pt x="15506" y="155080"/>
                  </a:lnTo>
                  <a:lnTo>
                    <a:pt x="11391" y="165193"/>
                  </a:lnTo>
                  <a:lnTo>
                    <a:pt x="7800" y="175322"/>
                  </a:lnTo>
                  <a:lnTo>
                    <a:pt x="4561" y="185462"/>
                  </a:lnTo>
                  <a:lnTo>
                    <a:pt x="2400" y="194761"/>
                  </a:lnTo>
                  <a:lnTo>
                    <a:pt x="960" y="203501"/>
                  </a:lnTo>
                  <a:lnTo>
                    <a:pt x="0" y="211867"/>
                  </a:lnTo>
                  <a:lnTo>
                    <a:pt x="207" y="219138"/>
                  </a:lnTo>
                  <a:lnTo>
                    <a:pt x="1191" y="225679"/>
                  </a:lnTo>
                  <a:lnTo>
                    <a:pt x="2695" y="231733"/>
                  </a:lnTo>
                  <a:lnTo>
                    <a:pt x="4544" y="236615"/>
                  </a:lnTo>
                  <a:lnTo>
                    <a:pt x="8855" y="244298"/>
                  </a:lnTo>
                  <a:lnTo>
                    <a:pt x="12037" y="246685"/>
                  </a:lnTo>
                  <a:lnTo>
                    <a:pt x="15851" y="248277"/>
                  </a:lnTo>
                  <a:lnTo>
                    <a:pt x="20087" y="249338"/>
                  </a:lnTo>
                  <a:lnTo>
                    <a:pt x="25452" y="250045"/>
                  </a:lnTo>
                  <a:lnTo>
                    <a:pt x="31569" y="250517"/>
                  </a:lnTo>
                  <a:lnTo>
                    <a:pt x="38185" y="250831"/>
                  </a:lnTo>
                  <a:lnTo>
                    <a:pt x="45137" y="250194"/>
                  </a:lnTo>
                  <a:lnTo>
                    <a:pt x="52312" y="248923"/>
                  </a:lnTo>
                  <a:lnTo>
                    <a:pt x="59634" y="247229"/>
                  </a:lnTo>
                  <a:lnTo>
                    <a:pt x="67056" y="244406"/>
                  </a:lnTo>
                  <a:lnTo>
                    <a:pt x="74544" y="240831"/>
                  </a:lnTo>
                  <a:lnTo>
                    <a:pt x="82076" y="236754"/>
                  </a:lnTo>
                  <a:lnTo>
                    <a:pt x="88790" y="231496"/>
                  </a:lnTo>
                  <a:lnTo>
                    <a:pt x="94961" y="225451"/>
                  </a:lnTo>
                  <a:lnTo>
                    <a:pt x="100766" y="218881"/>
                  </a:lnTo>
                  <a:lnTo>
                    <a:pt x="111734" y="207065"/>
                  </a:lnTo>
                  <a:lnTo>
                    <a:pt x="117030" y="201543"/>
                  </a:lnTo>
                  <a:lnTo>
                    <a:pt x="121407" y="196169"/>
                  </a:lnTo>
                  <a:lnTo>
                    <a:pt x="125170" y="190893"/>
                  </a:lnTo>
                  <a:lnTo>
                    <a:pt x="128527" y="185682"/>
                  </a:lnTo>
                  <a:lnTo>
                    <a:pt x="130764" y="181361"/>
                  </a:lnTo>
                  <a:lnTo>
                    <a:pt x="133251" y="174303"/>
                  </a:lnTo>
                  <a:lnTo>
                    <a:pt x="134355" y="168344"/>
                  </a:lnTo>
                  <a:lnTo>
                    <a:pt x="134848" y="162873"/>
                  </a:lnTo>
                  <a:lnTo>
                    <a:pt x="135123" y="155880"/>
                  </a:lnTo>
                  <a:lnTo>
                    <a:pt x="135187" y="153946"/>
                  </a:lnTo>
                  <a:lnTo>
                    <a:pt x="133511" y="154278"/>
                  </a:lnTo>
                  <a:lnTo>
                    <a:pt x="130701" y="155345"/>
                  </a:lnTo>
                  <a:lnTo>
                    <a:pt x="127134" y="156903"/>
                  </a:lnTo>
                  <a:lnTo>
                    <a:pt x="123909" y="158789"/>
                  </a:lnTo>
                  <a:lnTo>
                    <a:pt x="120912" y="160893"/>
                  </a:lnTo>
                  <a:lnTo>
                    <a:pt x="118069" y="163142"/>
                  </a:lnTo>
                  <a:lnTo>
                    <a:pt x="115326" y="166335"/>
                  </a:lnTo>
                  <a:lnTo>
                    <a:pt x="112651" y="170156"/>
                  </a:lnTo>
                  <a:lnTo>
                    <a:pt x="110020" y="174398"/>
                  </a:lnTo>
                  <a:lnTo>
                    <a:pt x="107420" y="178918"/>
                  </a:lnTo>
                  <a:lnTo>
                    <a:pt x="102273" y="188457"/>
                  </a:lnTo>
                  <a:lnTo>
                    <a:pt x="100561" y="193372"/>
                  </a:lnTo>
                  <a:lnTo>
                    <a:pt x="99421" y="198341"/>
                  </a:lnTo>
                  <a:lnTo>
                    <a:pt x="98661" y="203348"/>
                  </a:lnTo>
                  <a:lnTo>
                    <a:pt x="98154" y="208378"/>
                  </a:lnTo>
                  <a:lnTo>
                    <a:pt x="97815" y="213426"/>
                  </a:lnTo>
                  <a:lnTo>
                    <a:pt x="97589" y="218484"/>
                  </a:lnTo>
                  <a:lnTo>
                    <a:pt x="98287" y="222703"/>
                  </a:lnTo>
                  <a:lnTo>
                    <a:pt x="101319" y="229648"/>
                  </a:lnTo>
                  <a:lnTo>
                    <a:pt x="105005" y="231839"/>
                  </a:lnTo>
                  <a:lnTo>
                    <a:pt x="110003" y="233299"/>
                  </a:lnTo>
                  <a:lnTo>
                    <a:pt x="115875" y="234273"/>
                  </a:lnTo>
                  <a:lnTo>
                    <a:pt x="122330" y="234922"/>
                  </a:lnTo>
                  <a:lnTo>
                    <a:pt x="129174" y="235355"/>
                  </a:lnTo>
                  <a:lnTo>
                    <a:pt x="146424" y="235964"/>
                  </a:lnTo>
                  <a:lnTo>
                    <a:pt x="159155" y="236144"/>
                  </a:lnTo>
                  <a:lnTo>
                    <a:pt x="173339" y="2362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429"/>
            <p:cNvSpPr/>
            <p:nvPr/>
          </p:nvSpPr>
          <p:spPr>
            <a:xfrm>
              <a:off x="7150680" y="2163240"/>
              <a:ext cx="358200" cy="11268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58269" h="112787">
                  <a:moveTo>
                    <a:pt x="4390" y="30480"/>
                  </a:moveTo>
                  <a:lnTo>
                    <a:pt x="4390" y="34525"/>
                  </a:lnTo>
                  <a:lnTo>
                    <a:pt x="3544" y="36564"/>
                  </a:lnTo>
                  <a:lnTo>
                    <a:pt x="2131" y="38769"/>
                  </a:lnTo>
                  <a:lnTo>
                    <a:pt x="344" y="41086"/>
                  </a:lnTo>
                  <a:lnTo>
                    <a:pt x="0" y="42631"/>
                  </a:lnTo>
                  <a:lnTo>
                    <a:pt x="616" y="43660"/>
                  </a:lnTo>
                  <a:lnTo>
                    <a:pt x="1874" y="44347"/>
                  </a:lnTo>
                  <a:lnTo>
                    <a:pt x="2713" y="46498"/>
                  </a:lnTo>
                  <a:lnTo>
                    <a:pt x="3272" y="49626"/>
                  </a:lnTo>
                  <a:lnTo>
                    <a:pt x="3645" y="53404"/>
                  </a:lnTo>
                  <a:lnTo>
                    <a:pt x="3892" y="56769"/>
                  </a:lnTo>
                  <a:lnTo>
                    <a:pt x="4059" y="59859"/>
                  </a:lnTo>
                  <a:lnTo>
                    <a:pt x="4168" y="62766"/>
                  </a:lnTo>
                  <a:lnTo>
                    <a:pt x="5089" y="66398"/>
                  </a:lnTo>
                  <a:lnTo>
                    <a:pt x="6550" y="70512"/>
                  </a:lnTo>
                  <a:lnTo>
                    <a:pt x="8370" y="74948"/>
                  </a:lnTo>
                  <a:lnTo>
                    <a:pt x="10429" y="78752"/>
                  </a:lnTo>
                  <a:lnTo>
                    <a:pt x="12650" y="82135"/>
                  </a:lnTo>
                  <a:lnTo>
                    <a:pt x="14975" y="85237"/>
                  </a:lnTo>
                  <a:lnTo>
                    <a:pt x="17375" y="88151"/>
                  </a:lnTo>
                  <a:lnTo>
                    <a:pt x="19819" y="90940"/>
                  </a:lnTo>
                  <a:lnTo>
                    <a:pt x="22296" y="93647"/>
                  </a:lnTo>
                  <a:lnTo>
                    <a:pt x="27305" y="98912"/>
                  </a:lnTo>
                  <a:lnTo>
                    <a:pt x="29827" y="101501"/>
                  </a:lnTo>
                  <a:lnTo>
                    <a:pt x="33202" y="104074"/>
                  </a:lnTo>
                  <a:lnTo>
                    <a:pt x="37144" y="106636"/>
                  </a:lnTo>
                  <a:lnTo>
                    <a:pt x="41467" y="109191"/>
                  </a:lnTo>
                  <a:lnTo>
                    <a:pt x="50783" y="112030"/>
                  </a:lnTo>
                  <a:lnTo>
                    <a:pt x="55638" y="112786"/>
                  </a:lnTo>
                  <a:lnTo>
                    <a:pt x="65549" y="111369"/>
                  </a:lnTo>
                  <a:lnTo>
                    <a:pt x="82906" y="105812"/>
                  </a:lnTo>
                  <a:lnTo>
                    <a:pt x="111528" y="96349"/>
                  </a:lnTo>
                  <a:lnTo>
                    <a:pt x="118148" y="93019"/>
                  </a:lnTo>
                  <a:lnTo>
                    <a:pt x="124255" y="89106"/>
                  </a:lnTo>
                  <a:lnTo>
                    <a:pt x="130020" y="84804"/>
                  </a:lnTo>
                  <a:lnTo>
                    <a:pt x="134710" y="81089"/>
                  </a:lnTo>
                  <a:lnTo>
                    <a:pt x="138683" y="77766"/>
                  </a:lnTo>
                  <a:lnTo>
                    <a:pt x="142179" y="74704"/>
                  </a:lnTo>
                  <a:lnTo>
                    <a:pt x="145356" y="70970"/>
                  </a:lnTo>
                  <a:lnTo>
                    <a:pt x="148321" y="66786"/>
                  </a:lnTo>
                  <a:lnTo>
                    <a:pt x="151144" y="62304"/>
                  </a:lnTo>
                  <a:lnTo>
                    <a:pt x="153873" y="58470"/>
                  </a:lnTo>
                  <a:lnTo>
                    <a:pt x="156539" y="55066"/>
                  </a:lnTo>
                  <a:lnTo>
                    <a:pt x="164273" y="45882"/>
                  </a:lnTo>
                  <a:lnTo>
                    <a:pt x="164349" y="48050"/>
                  </a:lnTo>
                  <a:lnTo>
                    <a:pt x="164408" y="75206"/>
                  </a:lnTo>
                  <a:lnTo>
                    <a:pt x="166103" y="78924"/>
                  </a:lnTo>
                  <a:lnTo>
                    <a:pt x="168924" y="82249"/>
                  </a:lnTo>
                  <a:lnTo>
                    <a:pt x="172500" y="85313"/>
                  </a:lnTo>
                  <a:lnTo>
                    <a:pt x="176576" y="88202"/>
                  </a:lnTo>
                  <a:lnTo>
                    <a:pt x="180988" y="90975"/>
                  </a:lnTo>
                  <a:lnTo>
                    <a:pt x="185621" y="93670"/>
                  </a:lnTo>
                  <a:lnTo>
                    <a:pt x="191251" y="96313"/>
                  </a:lnTo>
                  <a:lnTo>
                    <a:pt x="197543" y="98922"/>
                  </a:lnTo>
                  <a:lnTo>
                    <a:pt x="204279" y="101508"/>
                  </a:lnTo>
                  <a:lnTo>
                    <a:pt x="212156" y="103232"/>
                  </a:lnTo>
                  <a:lnTo>
                    <a:pt x="220795" y="104382"/>
                  </a:lnTo>
                  <a:lnTo>
                    <a:pt x="229940" y="105148"/>
                  </a:lnTo>
                  <a:lnTo>
                    <a:pt x="239423" y="105659"/>
                  </a:lnTo>
                  <a:lnTo>
                    <a:pt x="258991" y="106226"/>
                  </a:lnTo>
                  <a:lnTo>
                    <a:pt x="285003" y="106546"/>
                  </a:lnTo>
                  <a:lnTo>
                    <a:pt x="292219" y="105744"/>
                  </a:lnTo>
                  <a:lnTo>
                    <a:pt x="298723" y="104363"/>
                  </a:lnTo>
                  <a:lnTo>
                    <a:pt x="304751" y="102595"/>
                  </a:lnTo>
                  <a:lnTo>
                    <a:pt x="310464" y="101417"/>
                  </a:lnTo>
                  <a:lnTo>
                    <a:pt x="321328" y="100107"/>
                  </a:lnTo>
                  <a:lnTo>
                    <a:pt x="325748" y="98065"/>
                  </a:lnTo>
                  <a:lnTo>
                    <a:pt x="329542" y="95010"/>
                  </a:lnTo>
                  <a:lnTo>
                    <a:pt x="336016" y="87947"/>
                  </a:lnTo>
                  <a:lnTo>
                    <a:pt x="341714" y="81985"/>
                  </a:lnTo>
                  <a:lnTo>
                    <a:pt x="344420" y="78363"/>
                  </a:lnTo>
                  <a:lnTo>
                    <a:pt x="347071" y="74255"/>
                  </a:lnTo>
                  <a:lnTo>
                    <a:pt x="349683" y="69824"/>
                  </a:lnTo>
                  <a:lnTo>
                    <a:pt x="352272" y="66023"/>
                  </a:lnTo>
                  <a:lnTo>
                    <a:pt x="354845" y="62642"/>
                  </a:lnTo>
                  <a:lnTo>
                    <a:pt x="357407" y="59541"/>
                  </a:lnTo>
                  <a:lnTo>
                    <a:pt x="358268" y="56627"/>
                  </a:lnTo>
                  <a:lnTo>
                    <a:pt x="357994" y="53838"/>
                  </a:lnTo>
                  <a:lnTo>
                    <a:pt x="356966" y="51132"/>
                  </a:lnTo>
                  <a:lnTo>
                    <a:pt x="356281" y="47635"/>
                  </a:lnTo>
                  <a:lnTo>
                    <a:pt x="355824" y="43610"/>
                  </a:lnTo>
                  <a:lnTo>
                    <a:pt x="355519" y="39233"/>
                  </a:lnTo>
                  <a:lnTo>
                    <a:pt x="354469" y="35469"/>
                  </a:lnTo>
                  <a:lnTo>
                    <a:pt x="352923" y="32113"/>
                  </a:lnTo>
                  <a:lnTo>
                    <a:pt x="351045" y="29029"/>
                  </a:lnTo>
                  <a:lnTo>
                    <a:pt x="348947" y="26126"/>
                  </a:lnTo>
                  <a:lnTo>
                    <a:pt x="346701" y="23344"/>
                  </a:lnTo>
                  <a:lnTo>
                    <a:pt x="344357" y="20642"/>
                  </a:lnTo>
                  <a:lnTo>
                    <a:pt x="341948" y="17995"/>
                  </a:lnTo>
                  <a:lnTo>
                    <a:pt x="337013" y="12796"/>
                  </a:lnTo>
                  <a:lnTo>
                    <a:pt x="329475" y="5109"/>
                  </a:lnTo>
                  <a:lnTo>
                    <a:pt x="326947" y="3406"/>
                  </a:lnTo>
                  <a:lnTo>
                    <a:pt x="31681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430"/>
            <p:cNvSpPr/>
            <p:nvPr/>
          </p:nvSpPr>
          <p:spPr>
            <a:xfrm>
              <a:off x="7651440" y="2155680"/>
              <a:ext cx="166320" cy="75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6582" h="7621">
                  <a:moveTo>
                    <a:pt x="6561" y="0"/>
                  </a:moveTo>
                  <a:lnTo>
                    <a:pt x="0" y="0"/>
                  </a:lnTo>
                  <a:lnTo>
                    <a:pt x="9640" y="0"/>
                  </a:lnTo>
                  <a:lnTo>
                    <a:pt x="12001" y="847"/>
                  </a:lnTo>
                  <a:lnTo>
                    <a:pt x="14421" y="2258"/>
                  </a:lnTo>
                  <a:lnTo>
                    <a:pt x="16882" y="4045"/>
                  </a:lnTo>
                  <a:lnTo>
                    <a:pt x="20215" y="5237"/>
                  </a:lnTo>
                  <a:lnTo>
                    <a:pt x="24131" y="6031"/>
                  </a:lnTo>
                  <a:lnTo>
                    <a:pt x="28434" y="6561"/>
                  </a:lnTo>
                  <a:lnTo>
                    <a:pt x="33843" y="6914"/>
                  </a:lnTo>
                  <a:lnTo>
                    <a:pt x="39989" y="7149"/>
                  </a:lnTo>
                  <a:lnTo>
                    <a:pt x="54438" y="7411"/>
                  </a:lnTo>
                  <a:lnTo>
                    <a:pt x="166581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431"/>
            <p:cNvSpPr/>
            <p:nvPr/>
          </p:nvSpPr>
          <p:spPr>
            <a:xfrm>
              <a:off x="7894440" y="2041200"/>
              <a:ext cx="45360" cy="220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368" h="220981">
                  <a:moveTo>
                    <a:pt x="45367" y="0"/>
                  </a:moveTo>
                  <a:lnTo>
                    <a:pt x="45367" y="22178"/>
                  </a:lnTo>
                  <a:lnTo>
                    <a:pt x="44521" y="25792"/>
                  </a:lnTo>
                  <a:lnTo>
                    <a:pt x="43108" y="29048"/>
                  </a:lnTo>
                  <a:lnTo>
                    <a:pt x="41322" y="32066"/>
                  </a:lnTo>
                  <a:lnTo>
                    <a:pt x="39284" y="36617"/>
                  </a:lnTo>
                  <a:lnTo>
                    <a:pt x="37079" y="42191"/>
                  </a:lnTo>
                  <a:lnTo>
                    <a:pt x="34762" y="48447"/>
                  </a:lnTo>
                  <a:lnTo>
                    <a:pt x="32369" y="54312"/>
                  </a:lnTo>
                  <a:lnTo>
                    <a:pt x="29929" y="59915"/>
                  </a:lnTo>
                  <a:lnTo>
                    <a:pt x="27455" y="65343"/>
                  </a:lnTo>
                  <a:lnTo>
                    <a:pt x="24959" y="71502"/>
                  </a:lnTo>
                  <a:lnTo>
                    <a:pt x="22448" y="78148"/>
                  </a:lnTo>
                  <a:lnTo>
                    <a:pt x="17401" y="92306"/>
                  </a:lnTo>
                  <a:lnTo>
                    <a:pt x="12337" y="107065"/>
                  </a:lnTo>
                  <a:lnTo>
                    <a:pt x="10647" y="114556"/>
                  </a:lnTo>
                  <a:lnTo>
                    <a:pt x="9519" y="122091"/>
                  </a:lnTo>
                  <a:lnTo>
                    <a:pt x="8769" y="129654"/>
                  </a:lnTo>
                  <a:lnTo>
                    <a:pt x="7421" y="137236"/>
                  </a:lnTo>
                  <a:lnTo>
                    <a:pt x="5677" y="144831"/>
                  </a:lnTo>
                  <a:lnTo>
                    <a:pt x="3667" y="152434"/>
                  </a:lnTo>
                  <a:lnTo>
                    <a:pt x="2328" y="159196"/>
                  </a:lnTo>
                  <a:lnTo>
                    <a:pt x="1435" y="165397"/>
                  </a:lnTo>
                  <a:lnTo>
                    <a:pt x="840" y="171225"/>
                  </a:lnTo>
                  <a:lnTo>
                    <a:pt x="442" y="176803"/>
                  </a:lnTo>
                  <a:lnTo>
                    <a:pt x="177" y="182215"/>
                  </a:lnTo>
                  <a:lnTo>
                    <a:pt x="0" y="187517"/>
                  </a:lnTo>
                  <a:lnTo>
                    <a:pt x="730" y="191898"/>
                  </a:lnTo>
                  <a:lnTo>
                    <a:pt x="2063" y="195665"/>
                  </a:lnTo>
                  <a:lnTo>
                    <a:pt x="3798" y="199024"/>
                  </a:lnTo>
                  <a:lnTo>
                    <a:pt x="4954" y="202955"/>
                  </a:lnTo>
                  <a:lnTo>
                    <a:pt x="5725" y="207270"/>
                  </a:lnTo>
                  <a:lnTo>
                    <a:pt x="6239" y="211840"/>
                  </a:lnTo>
                  <a:lnTo>
                    <a:pt x="7428" y="214887"/>
                  </a:lnTo>
                  <a:lnTo>
                    <a:pt x="9068" y="216918"/>
                  </a:lnTo>
                  <a:lnTo>
                    <a:pt x="14888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432"/>
            <p:cNvSpPr/>
            <p:nvPr/>
          </p:nvSpPr>
          <p:spPr>
            <a:xfrm>
              <a:off x="8001360" y="2041200"/>
              <a:ext cx="248760" cy="20556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48964" h="205741">
                  <a:moveTo>
                    <a:pt x="75754" y="0"/>
                  </a:moveTo>
                  <a:lnTo>
                    <a:pt x="71708" y="0"/>
                  </a:lnTo>
                  <a:lnTo>
                    <a:pt x="70517" y="847"/>
                  </a:lnTo>
                  <a:lnTo>
                    <a:pt x="69722" y="2258"/>
                  </a:lnTo>
                  <a:lnTo>
                    <a:pt x="68227" y="7307"/>
                  </a:lnTo>
                  <a:lnTo>
                    <a:pt x="68162" y="11573"/>
                  </a:lnTo>
                  <a:lnTo>
                    <a:pt x="67306" y="14488"/>
                  </a:lnTo>
                  <a:lnTo>
                    <a:pt x="65888" y="18126"/>
                  </a:lnTo>
                  <a:lnTo>
                    <a:pt x="64097" y="22244"/>
                  </a:lnTo>
                  <a:lnTo>
                    <a:pt x="62902" y="25836"/>
                  </a:lnTo>
                  <a:lnTo>
                    <a:pt x="61576" y="32085"/>
                  </a:lnTo>
                  <a:lnTo>
                    <a:pt x="60376" y="35783"/>
                  </a:lnTo>
                  <a:lnTo>
                    <a:pt x="58728" y="39942"/>
                  </a:lnTo>
                  <a:lnTo>
                    <a:pt x="56783" y="44408"/>
                  </a:lnTo>
                  <a:lnTo>
                    <a:pt x="53793" y="49079"/>
                  </a:lnTo>
                  <a:lnTo>
                    <a:pt x="50107" y="53886"/>
                  </a:lnTo>
                  <a:lnTo>
                    <a:pt x="45956" y="58784"/>
                  </a:lnTo>
                  <a:lnTo>
                    <a:pt x="42342" y="63743"/>
                  </a:lnTo>
                  <a:lnTo>
                    <a:pt x="39086" y="68742"/>
                  </a:lnTo>
                  <a:lnTo>
                    <a:pt x="36069" y="73768"/>
                  </a:lnTo>
                  <a:lnTo>
                    <a:pt x="33211" y="78812"/>
                  </a:lnTo>
                  <a:lnTo>
                    <a:pt x="27776" y="88932"/>
                  </a:lnTo>
                  <a:lnTo>
                    <a:pt x="25142" y="93155"/>
                  </a:lnTo>
                  <a:lnTo>
                    <a:pt x="22539" y="96816"/>
                  </a:lnTo>
                  <a:lnTo>
                    <a:pt x="17390" y="103143"/>
                  </a:lnTo>
                  <a:lnTo>
                    <a:pt x="12279" y="108777"/>
                  </a:lnTo>
                  <a:lnTo>
                    <a:pt x="7185" y="114103"/>
                  </a:lnTo>
                  <a:lnTo>
                    <a:pt x="0" y="121463"/>
                  </a:lnTo>
                  <a:lnTo>
                    <a:pt x="2010" y="121717"/>
                  </a:lnTo>
                  <a:lnTo>
                    <a:pt x="3731" y="121785"/>
                  </a:lnTo>
                  <a:lnTo>
                    <a:pt x="5725" y="120983"/>
                  </a:lnTo>
                  <a:lnTo>
                    <a:pt x="13423" y="115810"/>
                  </a:lnTo>
                  <a:lnTo>
                    <a:pt x="17267" y="113613"/>
                  </a:lnTo>
                  <a:lnTo>
                    <a:pt x="21523" y="111302"/>
                  </a:lnTo>
                  <a:lnTo>
                    <a:pt x="26900" y="108915"/>
                  </a:lnTo>
                  <a:lnTo>
                    <a:pt x="33025" y="106476"/>
                  </a:lnTo>
                  <a:lnTo>
                    <a:pt x="39647" y="104004"/>
                  </a:lnTo>
                  <a:lnTo>
                    <a:pt x="47449" y="100663"/>
                  </a:lnTo>
                  <a:lnTo>
                    <a:pt x="65150" y="92435"/>
                  </a:lnTo>
                  <a:lnTo>
                    <a:pt x="74610" y="88717"/>
                  </a:lnTo>
                  <a:lnTo>
                    <a:pt x="84305" y="85391"/>
                  </a:lnTo>
                  <a:lnTo>
                    <a:pt x="94156" y="82327"/>
                  </a:lnTo>
                  <a:lnTo>
                    <a:pt x="104955" y="80285"/>
                  </a:lnTo>
                  <a:lnTo>
                    <a:pt x="116387" y="78923"/>
                  </a:lnTo>
                  <a:lnTo>
                    <a:pt x="128244" y="78016"/>
                  </a:lnTo>
                  <a:lnTo>
                    <a:pt x="138687" y="77411"/>
                  </a:lnTo>
                  <a:lnTo>
                    <a:pt x="157064" y="76738"/>
                  </a:lnTo>
                  <a:lnTo>
                    <a:pt x="167214" y="77405"/>
                  </a:lnTo>
                  <a:lnTo>
                    <a:pt x="178213" y="78697"/>
                  </a:lnTo>
                  <a:lnTo>
                    <a:pt x="189780" y="80405"/>
                  </a:lnTo>
                  <a:lnTo>
                    <a:pt x="199184" y="83236"/>
                  </a:lnTo>
                  <a:lnTo>
                    <a:pt x="207147" y="86818"/>
                  </a:lnTo>
                  <a:lnTo>
                    <a:pt x="214150" y="90899"/>
                  </a:lnTo>
                  <a:lnTo>
                    <a:pt x="220512" y="95312"/>
                  </a:lnTo>
                  <a:lnTo>
                    <a:pt x="226446" y="99948"/>
                  </a:lnTo>
                  <a:lnTo>
                    <a:pt x="232095" y="104732"/>
                  </a:lnTo>
                  <a:lnTo>
                    <a:pt x="236708" y="109615"/>
                  </a:lnTo>
                  <a:lnTo>
                    <a:pt x="240629" y="114563"/>
                  </a:lnTo>
                  <a:lnTo>
                    <a:pt x="244092" y="119556"/>
                  </a:lnTo>
                  <a:lnTo>
                    <a:pt x="246398" y="124577"/>
                  </a:lnTo>
                  <a:lnTo>
                    <a:pt x="247937" y="129618"/>
                  </a:lnTo>
                  <a:lnTo>
                    <a:pt x="248963" y="134672"/>
                  </a:lnTo>
                  <a:lnTo>
                    <a:pt x="247953" y="139735"/>
                  </a:lnTo>
                  <a:lnTo>
                    <a:pt x="245586" y="144803"/>
                  </a:lnTo>
                  <a:lnTo>
                    <a:pt x="242316" y="149876"/>
                  </a:lnTo>
                  <a:lnTo>
                    <a:pt x="238442" y="154950"/>
                  </a:lnTo>
                  <a:lnTo>
                    <a:pt x="234166" y="160027"/>
                  </a:lnTo>
                  <a:lnTo>
                    <a:pt x="229622" y="165105"/>
                  </a:lnTo>
                  <a:lnTo>
                    <a:pt x="224052" y="170183"/>
                  </a:lnTo>
                  <a:lnTo>
                    <a:pt x="217799" y="175262"/>
                  </a:lnTo>
                  <a:lnTo>
                    <a:pt x="211090" y="180342"/>
                  </a:lnTo>
                  <a:lnTo>
                    <a:pt x="202385" y="185421"/>
                  </a:lnTo>
                  <a:lnTo>
                    <a:pt x="192348" y="190501"/>
                  </a:lnTo>
                  <a:lnTo>
                    <a:pt x="181424" y="195580"/>
                  </a:lnTo>
                  <a:lnTo>
                    <a:pt x="170753" y="198967"/>
                  </a:lnTo>
                  <a:lnTo>
                    <a:pt x="160254" y="201225"/>
                  </a:lnTo>
                  <a:lnTo>
                    <a:pt x="149866" y="202730"/>
                  </a:lnTo>
                  <a:lnTo>
                    <a:pt x="139555" y="203733"/>
                  </a:lnTo>
                  <a:lnTo>
                    <a:pt x="129295" y="204402"/>
                  </a:lnTo>
                  <a:lnTo>
                    <a:pt x="109710" y="205145"/>
                  </a:lnTo>
                  <a:lnTo>
                    <a:pt x="78698" y="205623"/>
                  </a:lnTo>
                  <a:lnTo>
                    <a:pt x="60514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433"/>
            <p:cNvSpPr/>
            <p:nvPr/>
          </p:nvSpPr>
          <p:spPr>
            <a:xfrm>
              <a:off x="8046720" y="200340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0"/>
                  </a:moveTo>
                  <a:lnTo>
                    <a:pt x="44900" y="0"/>
                  </a:lnTo>
                  <a:lnTo>
                    <a:pt x="51946" y="847"/>
                  </a:lnTo>
                  <a:lnTo>
                    <a:pt x="60877" y="2258"/>
                  </a:lnTo>
                  <a:lnTo>
                    <a:pt x="82090" y="6084"/>
                  </a:lnTo>
                  <a:lnTo>
                    <a:pt x="105629" y="10606"/>
                  </a:lnTo>
                  <a:lnTo>
                    <a:pt x="116139" y="12151"/>
                  </a:lnTo>
                  <a:lnTo>
                    <a:pt x="125686" y="13181"/>
                  </a:lnTo>
                  <a:lnTo>
                    <a:pt x="134590" y="13867"/>
                  </a:lnTo>
                  <a:lnTo>
                    <a:pt x="143067" y="15171"/>
                  </a:lnTo>
                  <a:lnTo>
                    <a:pt x="151257" y="16887"/>
                  </a:lnTo>
                  <a:lnTo>
                    <a:pt x="175260" y="22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434"/>
            <p:cNvSpPr/>
            <p:nvPr/>
          </p:nvSpPr>
          <p:spPr>
            <a:xfrm>
              <a:off x="5166360" y="2574720"/>
              <a:ext cx="60840" cy="1904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961" h="190501">
                  <a:moveTo>
                    <a:pt x="60960" y="0"/>
                  </a:moveTo>
                  <a:lnTo>
                    <a:pt x="60960" y="10606"/>
                  </a:lnTo>
                  <a:lnTo>
                    <a:pt x="60114" y="12998"/>
                  </a:lnTo>
                  <a:lnTo>
                    <a:pt x="58702" y="15438"/>
                  </a:lnTo>
                  <a:lnTo>
                    <a:pt x="56915" y="17913"/>
                  </a:lnTo>
                  <a:lnTo>
                    <a:pt x="55724" y="22102"/>
                  </a:lnTo>
                  <a:lnTo>
                    <a:pt x="54929" y="27434"/>
                  </a:lnTo>
                  <a:lnTo>
                    <a:pt x="54399" y="33530"/>
                  </a:lnTo>
                  <a:lnTo>
                    <a:pt x="53200" y="40133"/>
                  </a:lnTo>
                  <a:lnTo>
                    <a:pt x="51553" y="47075"/>
                  </a:lnTo>
                  <a:lnTo>
                    <a:pt x="45190" y="71240"/>
                  </a:lnTo>
                  <a:lnTo>
                    <a:pt x="42827" y="80513"/>
                  </a:lnTo>
                  <a:lnTo>
                    <a:pt x="39558" y="89235"/>
                  </a:lnTo>
                  <a:lnTo>
                    <a:pt x="35685" y="97590"/>
                  </a:lnTo>
                  <a:lnTo>
                    <a:pt x="31411" y="105700"/>
                  </a:lnTo>
                  <a:lnTo>
                    <a:pt x="27714" y="114494"/>
                  </a:lnTo>
                  <a:lnTo>
                    <a:pt x="24402" y="123742"/>
                  </a:lnTo>
                  <a:lnTo>
                    <a:pt x="21349" y="133295"/>
                  </a:lnTo>
                  <a:lnTo>
                    <a:pt x="17619" y="142203"/>
                  </a:lnTo>
                  <a:lnTo>
                    <a:pt x="13439" y="150682"/>
                  </a:lnTo>
                  <a:lnTo>
                    <a:pt x="8959" y="158875"/>
                  </a:lnTo>
                  <a:lnTo>
                    <a:pt x="5973" y="166030"/>
                  </a:lnTo>
                  <a:lnTo>
                    <a:pt x="3982" y="172493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435"/>
            <p:cNvSpPr/>
            <p:nvPr/>
          </p:nvSpPr>
          <p:spPr>
            <a:xfrm>
              <a:off x="5349240" y="2491560"/>
              <a:ext cx="129240" cy="2736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73600"/>
                <a:gd name="textAreaBottom" fmla="*/ 273600 h 273600"/>
              </a:gdLst>
              <a:ahLst/>
              <a:rect l="textAreaLeft" t="textAreaTop" r="textAreaRight" b="textAreaBottom"/>
              <a:pathLst>
                <a:path w="129540" h="273740">
                  <a:moveTo>
                    <a:pt x="0" y="37663"/>
                  </a:moveTo>
                  <a:lnTo>
                    <a:pt x="18878" y="18785"/>
                  </a:lnTo>
                  <a:lnTo>
                    <a:pt x="21898" y="16611"/>
                  </a:lnTo>
                  <a:lnTo>
                    <a:pt x="25605" y="14315"/>
                  </a:lnTo>
                  <a:lnTo>
                    <a:pt x="29770" y="11938"/>
                  </a:lnTo>
                  <a:lnTo>
                    <a:pt x="33393" y="9506"/>
                  </a:lnTo>
                  <a:lnTo>
                    <a:pt x="36655" y="7038"/>
                  </a:lnTo>
                  <a:lnTo>
                    <a:pt x="39677" y="4547"/>
                  </a:lnTo>
                  <a:lnTo>
                    <a:pt x="43384" y="2885"/>
                  </a:lnTo>
                  <a:lnTo>
                    <a:pt x="47549" y="1778"/>
                  </a:lnTo>
                  <a:lnTo>
                    <a:pt x="52019" y="1040"/>
                  </a:lnTo>
                  <a:lnTo>
                    <a:pt x="56692" y="547"/>
                  </a:lnTo>
                  <a:lnTo>
                    <a:pt x="61501" y="219"/>
                  </a:lnTo>
                  <a:lnTo>
                    <a:pt x="66401" y="0"/>
                  </a:lnTo>
                  <a:lnTo>
                    <a:pt x="71360" y="701"/>
                  </a:lnTo>
                  <a:lnTo>
                    <a:pt x="76360" y="2015"/>
                  </a:lnTo>
                  <a:lnTo>
                    <a:pt x="81386" y="3738"/>
                  </a:lnTo>
                  <a:lnTo>
                    <a:pt x="85583" y="5733"/>
                  </a:lnTo>
                  <a:lnTo>
                    <a:pt x="89229" y="7909"/>
                  </a:lnTo>
                  <a:lnTo>
                    <a:pt x="92506" y="10207"/>
                  </a:lnTo>
                  <a:lnTo>
                    <a:pt x="95537" y="12586"/>
                  </a:lnTo>
                  <a:lnTo>
                    <a:pt x="98404" y="15018"/>
                  </a:lnTo>
                  <a:lnTo>
                    <a:pt x="101163" y="17486"/>
                  </a:lnTo>
                  <a:lnTo>
                    <a:pt x="103001" y="20825"/>
                  </a:lnTo>
                  <a:lnTo>
                    <a:pt x="105044" y="29051"/>
                  </a:lnTo>
                  <a:lnTo>
                    <a:pt x="105590" y="33615"/>
                  </a:lnTo>
                  <a:lnTo>
                    <a:pt x="105952" y="38351"/>
                  </a:lnTo>
                  <a:lnTo>
                    <a:pt x="106195" y="43202"/>
                  </a:lnTo>
                  <a:lnTo>
                    <a:pt x="106464" y="55365"/>
                  </a:lnTo>
                  <a:lnTo>
                    <a:pt x="106535" y="62164"/>
                  </a:lnTo>
                  <a:lnTo>
                    <a:pt x="105737" y="68390"/>
                  </a:lnTo>
                  <a:lnTo>
                    <a:pt x="104357" y="74235"/>
                  </a:lnTo>
                  <a:lnTo>
                    <a:pt x="96061" y="99826"/>
                  </a:lnTo>
                  <a:lnTo>
                    <a:pt x="92827" y="107045"/>
                  </a:lnTo>
                  <a:lnTo>
                    <a:pt x="88978" y="114398"/>
                  </a:lnTo>
                  <a:lnTo>
                    <a:pt x="84718" y="121840"/>
                  </a:lnTo>
                  <a:lnTo>
                    <a:pt x="80185" y="129341"/>
                  </a:lnTo>
                  <a:lnTo>
                    <a:pt x="70633" y="144449"/>
                  </a:lnTo>
                  <a:lnTo>
                    <a:pt x="25387" y="212926"/>
                  </a:lnTo>
                  <a:lnTo>
                    <a:pt x="21158" y="219698"/>
                  </a:lnTo>
                  <a:lnTo>
                    <a:pt x="17492" y="225907"/>
                  </a:lnTo>
                  <a:lnTo>
                    <a:pt x="14201" y="231739"/>
                  </a:lnTo>
                  <a:lnTo>
                    <a:pt x="8287" y="242735"/>
                  </a:lnTo>
                  <a:lnTo>
                    <a:pt x="5524" y="248037"/>
                  </a:lnTo>
                  <a:lnTo>
                    <a:pt x="2455" y="256187"/>
                  </a:lnTo>
                  <a:lnTo>
                    <a:pt x="1637" y="259546"/>
                  </a:lnTo>
                  <a:lnTo>
                    <a:pt x="2785" y="262632"/>
                  </a:lnTo>
                  <a:lnTo>
                    <a:pt x="5243" y="265536"/>
                  </a:lnTo>
                  <a:lnTo>
                    <a:pt x="8575" y="268318"/>
                  </a:lnTo>
                  <a:lnTo>
                    <a:pt x="11643" y="270173"/>
                  </a:lnTo>
                  <a:lnTo>
                    <a:pt x="14535" y="271410"/>
                  </a:lnTo>
                  <a:lnTo>
                    <a:pt x="17310" y="272234"/>
                  </a:lnTo>
                  <a:lnTo>
                    <a:pt x="20853" y="272784"/>
                  </a:lnTo>
                  <a:lnTo>
                    <a:pt x="24908" y="273151"/>
                  </a:lnTo>
                  <a:lnTo>
                    <a:pt x="29305" y="273395"/>
                  </a:lnTo>
                  <a:lnTo>
                    <a:pt x="40964" y="273666"/>
                  </a:lnTo>
                  <a:lnTo>
                    <a:pt x="47629" y="273739"/>
                  </a:lnTo>
                  <a:lnTo>
                    <a:pt x="54613" y="272940"/>
                  </a:lnTo>
                  <a:lnTo>
                    <a:pt x="61808" y="271561"/>
                  </a:lnTo>
                  <a:lnTo>
                    <a:pt x="95652" y="263265"/>
                  </a:lnTo>
                  <a:lnTo>
                    <a:pt x="103561" y="261724"/>
                  </a:lnTo>
                  <a:lnTo>
                    <a:pt x="110527" y="260697"/>
                  </a:lnTo>
                  <a:lnTo>
                    <a:pt x="129539" y="25864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436"/>
            <p:cNvSpPr/>
            <p:nvPr/>
          </p:nvSpPr>
          <p:spPr>
            <a:xfrm>
              <a:off x="5676840" y="2574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21958" y="0"/>
                  </a:lnTo>
                  <a:lnTo>
                    <a:pt x="25645" y="847"/>
                  </a:lnTo>
                  <a:lnTo>
                    <a:pt x="28950" y="2258"/>
                  </a:lnTo>
                  <a:lnTo>
                    <a:pt x="32000" y="4046"/>
                  </a:lnTo>
                  <a:lnTo>
                    <a:pt x="35727" y="5237"/>
                  </a:lnTo>
                  <a:lnTo>
                    <a:pt x="39905" y="6031"/>
                  </a:lnTo>
                  <a:lnTo>
                    <a:pt x="44383" y="6561"/>
                  </a:lnTo>
                  <a:lnTo>
                    <a:pt x="49909" y="6914"/>
                  </a:lnTo>
                  <a:lnTo>
                    <a:pt x="56132" y="7150"/>
                  </a:lnTo>
                  <a:lnTo>
                    <a:pt x="74769" y="7481"/>
                  </a:lnTo>
                  <a:lnTo>
                    <a:pt x="9906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437"/>
            <p:cNvSpPr/>
            <p:nvPr/>
          </p:nvSpPr>
          <p:spPr>
            <a:xfrm>
              <a:off x="5684400" y="267372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0" y="6561"/>
                  </a:lnTo>
                  <a:lnTo>
                    <a:pt x="1694" y="6914"/>
                  </a:lnTo>
                  <a:lnTo>
                    <a:pt x="4516" y="7150"/>
                  </a:lnTo>
                  <a:lnTo>
                    <a:pt x="8091" y="7306"/>
                  </a:lnTo>
                  <a:lnTo>
                    <a:pt x="11321" y="8258"/>
                  </a:lnTo>
                  <a:lnTo>
                    <a:pt x="14321" y="9738"/>
                  </a:lnTo>
                  <a:lnTo>
                    <a:pt x="17167" y="11573"/>
                  </a:lnTo>
                  <a:lnTo>
                    <a:pt x="20758" y="12795"/>
                  </a:lnTo>
                  <a:lnTo>
                    <a:pt x="24845" y="13610"/>
                  </a:lnTo>
                  <a:lnTo>
                    <a:pt x="29264" y="14153"/>
                  </a:lnTo>
                  <a:lnTo>
                    <a:pt x="34749" y="14516"/>
                  </a:lnTo>
                  <a:lnTo>
                    <a:pt x="40946" y="14757"/>
                  </a:lnTo>
                  <a:lnTo>
                    <a:pt x="54605" y="15026"/>
                  </a:lnTo>
                  <a:lnTo>
                    <a:pt x="12954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438"/>
            <p:cNvSpPr/>
            <p:nvPr/>
          </p:nvSpPr>
          <p:spPr>
            <a:xfrm>
              <a:off x="5996880" y="262800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0" h="1">
                  <a:moveTo>
                    <a:pt x="0" y="0"/>
                  </a:moveTo>
                  <a:lnTo>
                    <a:pt x="1295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439"/>
            <p:cNvSpPr/>
            <p:nvPr/>
          </p:nvSpPr>
          <p:spPr>
            <a:xfrm>
              <a:off x="6204600" y="2552040"/>
              <a:ext cx="160200" cy="2127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60210" h="212998">
                  <a:moveTo>
                    <a:pt x="5529" y="22737"/>
                  </a:moveTo>
                  <a:lnTo>
                    <a:pt x="9575" y="22737"/>
                  </a:lnTo>
                  <a:lnTo>
                    <a:pt x="12460" y="21890"/>
                  </a:lnTo>
                  <a:lnTo>
                    <a:pt x="16076" y="20479"/>
                  </a:lnTo>
                  <a:lnTo>
                    <a:pt x="20181" y="18692"/>
                  </a:lnTo>
                  <a:lnTo>
                    <a:pt x="23763" y="17500"/>
                  </a:lnTo>
                  <a:lnTo>
                    <a:pt x="26999" y="16706"/>
                  </a:lnTo>
                  <a:lnTo>
                    <a:pt x="30002" y="16176"/>
                  </a:lnTo>
                  <a:lnTo>
                    <a:pt x="34545" y="14976"/>
                  </a:lnTo>
                  <a:lnTo>
                    <a:pt x="46365" y="11386"/>
                  </a:lnTo>
                  <a:lnTo>
                    <a:pt x="67300" y="4604"/>
                  </a:lnTo>
                  <a:lnTo>
                    <a:pt x="74650" y="3028"/>
                  </a:lnTo>
                  <a:lnTo>
                    <a:pt x="82090" y="1978"/>
                  </a:lnTo>
                  <a:lnTo>
                    <a:pt x="89590" y="1277"/>
                  </a:lnTo>
                  <a:lnTo>
                    <a:pt x="96283" y="810"/>
                  </a:lnTo>
                  <a:lnTo>
                    <a:pt x="102439" y="499"/>
                  </a:lnTo>
                  <a:lnTo>
                    <a:pt x="108236" y="292"/>
                  </a:lnTo>
                  <a:lnTo>
                    <a:pt x="128530" y="0"/>
                  </a:lnTo>
                  <a:lnTo>
                    <a:pt x="134943" y="805"/>
                  </a:lnTo>
                  <a:lnTo>
                    <a:pt x="140912" y="2189"/>
                  </a:lnTo>
                  <a:lnTo>
                    <a:pt x="146584" y="3958"/>
                  </a:lnTo>
                  <a:lnTo>
                    <a:pt x="151213" y="5985"/>
                  </a:lnTo>
                  <a:lnTo>
                    <a:pt x="155145" y="8182"/>
                  </a:lnTo>
                  <a:lnTo>
                    <a:pt x="158613" y="10494"/>
                  </a:lnTo>
                  <a:lnTo>
                    <a:pt x="160078" y="13728"/>
                  </a:lnTo>
                  <a:lnTo>
                    <a:pt x="160209" y="17578"/>
                  </a:lnTo>
                  <a:lnTo>
                    <a:pt x="159449" y="21837"/>
                  </a:lnTo>
                  <a:lnTo>
                    <a:pt x="158943" y="26371"/>
                  </a:lnTo>
                  <a:lnTo>
                    <a:pt x="158605" y="31086"/>
                  </a:lnTo>
                  <a:lnTo>
                    <a:pt x="158380" y="35923"/>
                  </a:lnTo>
                  <a:lnTo>
                    <a:pt x="156536" y="40841"/>
                  </a:lnTo>
                  <a:lnTo>
                    <a:pt x="153615" y="45813"/>
                  </a:lnTo>
                  <a:lnTo>
                    <a:pt x="149973" y="50821"/>
                  </a:lnTo>
                  <a:lnTo>
                    <a:pt x="145005" y="56700"/>
                  </a:lnTo>
                  <a:lnTo>
                    <a:pt x="139153" y="63159"/>
                  </a:lnTo>
                  <a:lnTo>
                    <a:pt x="125878" y="77109"/>
                  </a:lnTo>
                  <a:lnTo>
                    <a:pt x="111511" y="91775"/>
                  </a:lnTo>
                  <a:lnTo>
                    <a:pt x="103277" y="99243"/>
                  </a:lnTo>
                  <a:lnTo>
                    <a:pt x="94401" y="106761"/>
                  </a:lnTo>
                  <a:lnTo>
                    <a:pt x="85097" y="114313"/>
                  </a:lnTo>
                  <a:lnTo>
                    <a:pt x="76355" y="121888"/>
                  </a:lnTo>
                  <a:lnTo>
                    <a:pt x="67986" y="129477"/>
                  </a:lnTo>
                  <a:lnTo>
                    <a:pt x="51915" y="144684"/>
                  </a:lnTo>
                  <a:lnTo>
                    <a:pt x="4967" y="190967"/>
                  </a:lnTo>
                  <a:lnTo>
                    <a:pt x="2614" y="195004"/>
                  </a:lnTo>
                  <a:lnTo>
                    <a:pt x="1046" y="199388"/>
                  </a:lnTo>
                  <a:lnTo>
                    <a:pt x="0" y="204004"/>
                  </a:lnTo>
                  <a:lnTo>
                    <a:pt x="149" y="207082"/>
                  </a:lnTo>
                  <a:lnTo>
                    <a:pt x="1097" y="209134"/>
                  </a:lnTo>
                  <a:lnTo>
                    <a:pt x="2574" y="210501"/>
                  </a:lnTo>
                  <a:lnTo>
                    <a:pt x="6946" y="211414"/>
                  </a:lnTo>
                  <a:lnTo>
                    <a:pt x="13247" y="212022"/>
                  </a:lnTo>
                  <a:lnTo>
                    <a:pt x="20835" y="212427"/>
                  </a:lnTo>
                  <a:lnTo>
                    <a:pt x="36038" y="212877"/>
                  </a:lnTo>
                  <a:lnTo>
                    <a:pt x="43648" y="212997"/>
                  </a:lnTo>
                  <a:lnTo>
                    <a:pt x="50415" y="212231"/>
                  </a:lnTo>
                  <a:lnTo>
                    <a:pt x="56620" y="210873"/>
                  </a:lnTo>
                  <a:lnTo>
                    <a:pt x="62450" y="209121"/>
                  </a:lnTo>
                  <a:lnTo>
                    <a:pt x="68877" y="207953"/>
                  </a:lnTo>
                  <a:lnTo>
                    <a:pt x="75701" y="207174"/>
                  </a:lnTo>
                  <a:lnTo>
                    <a:pt x="96970" y="20561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440"/>
            <p:cNvSpPr/>
            <p:nvPr/>
          </p:nvSpPr>
          <p:spPr>
            <a:xfrm>
              <a:off x="6446520" y="2521440"/>
              <a:ext cx="232920" cy="2890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3255" h="289112">
                  <a:moveTo>
                    <a:pt x="7621" y="7527"/>
                  </a:moveTo>
                  <a:lnTo>
                    <a:pt x="42920" y="7527"/>
                  </a:lnTo>
                  <a:lnTo>
                    <a:pt x="48934" y="6680"/>
                  </a:lnTo>
                  <a:lnTo>
                    <a:pt x="55483" y="5269"/>
                  </a:lnTo>
                  <a:lnTo>
                    <a:pt x="62389" y="3482"/>
                  </a:lnTo>
                  <a:lnTo>
                    <a:pt x="70379" y="2290"/>
                  </a:lnTo>
                  <a:lnTo>
                    <a:pt x="79093" y="1496"/>
                  </a:lnTo>
                  <a:lnTo>
                    <a:pt x="88288" y="966"/>
                  </a:lnTo>
                  <a:lnTo>
                    <a:pt x="107537" y="378"/>
                  </a:lnTo>
                  <a:lnTo>
                    <a:pt x="147489" y="0"/>
                  </a:lnTo>
                  <a:lnTo>
                    <a:pt x="156746" y="816"/>
                  </a:lnTo>
                  <a:lnTo>
                    <a:pt x="165457" y="2206"/>
                  </a:lnTo>
                  <a:lnTo>
                    <a:pt x="173805" y="3980"/>
                  </a:lnTo>
                  <a:lnTo>
                    <a:pt x="181064" y="5162"/>
                  </a:lnTo>
                  <a:lnTo>
                    <a:pt x="187595" y="5950"/>
                  </a:lnTo>
                  <a:lnTo>
                    <a:pt x="193644" y="6476"/>
                  </a:lnTo>
                  <a:lnTo>
                    <a:pt x="198522" y="7673"/>
                  </a:lnTo>
                  <a:lnTo>
                    <a:pt x="202621" y="9318"/>
                  </a:lnTo>
                  <a:lnTo>
                    <a:pt x="206201" y="11261"/>
                  </a:lnTo>
                  <a:lnTo>
                    <a:pt x="208587" y="14250"/>
                  </a:lnTo>
                  <a:lnTo>
                    <a:pt x="210178" y="17935"/>
                  </a:lnTo>
                  <a:lnTo>
                    <a:pt x="211239" y="22086"/>
                  </a:lnTo>
                  <a:lnTo>
                    <a:pt x="211099" y="25700"/>
                  </a:lnTo>
                  <a:lnTo>
                    <a:pt x="210159" y="28955"/>
                  </a:lnTo>
                  <a:lnTo>
                    <a:pt x="208687" y="31973"/>
                  </a:lnTo>
                  <a:lnTo>
                    <a:pt x="202534" y="39841"/>
                  </a:lnTo>
                  <a:lnTo>
                    <a:pt x="198522" y="44309"/>
                  </a:lnTo>
                  <a:lnTo>
                    <a:pt x="193308" y="48982"/>
                  </a:lnTo>
                  <a:lnTo>
                    <a:pt x="187292" y="53790"/>
                  </a:lnTo>
                  <a:lnTo>
                    <a:pt x="180741" y="58689"/>
                  </a:lnTo>
                  <a:lnTo>
                    <a:pt x="172988" y="63649"/>
                  </a:lnTo>
                  <a:lnTo>
                    <a:pt x="164432" y="68648"/>
                  </a:lnTo>
                  <a:lnTo>
                    <a:pt x="155341" y="73674"/>
                  </a:lnTo>
                  <a:lnTo>
                    <a:pt x="136209" y="83775"/>
                  </a:lnTo>
                  <a:lnTo>
                    <a:pt x="126366" y="88839"/>
                  </a:lnTo>
                  <a:lnTo>
                    <a:pt x="117265" y="93062"/>
                  </a:lnTo>
                  <a:lnTo>
                    <a:pt x="108656" y="96723"/>
                  </a:lnTo>
                  <a:lnTo>
                    <a:pt x="100377" y="100011"/>
                  </a:lnTo>
                  <a:lnTo>
                    <a:pt x="93165" y="103896"/>
                  </a:lnTo>
                  <a:lnTo>
                    <a:pt x="86663" y="108180"/>
                  </a:lnTo>
                  <a:lnTo>
                    <a:pt x="80636" y="112729"/>
                  </a:lnTo>
                  <a:lnTo>
                    <a:pt x="74924" y="116608"/>
                  </a:lnTo>
                  <a:lnTo>
                    <a:pt x="69423" y="120041"/>
                  </a:lnTo>
                  <a:lnTo>
                    <a:pt x="64062" y="123176"/>
                  </a:lnTo>
                  <a:lnTo>
                    <a:pt x="60488" y="126114"/>
                  </a:lnTo>
                  <a:lnTo>
                    <a:pt x="58105" y="128918"/>
                  </a:lnTo>
                  <a:lnTo>
                    <a:pt x="56516" y="131634"/>
                  </a:lnTo>
                  <a:lnTo>
                    <a:pt x="56305" y="134292"/>
                  </a:lnTo>
                  <a:lnTo>
                    <a:pt x="57009" y="136910"/>
                  </a:lnTo>
                  <a:lnTo>
                    <a:pt x="58326" y="139502"/>
                  </a:lnTo>
                  <a:lnTo>
                    <a:pt x="60898" y="141231"/>
                  </a:lnTo>
                  <a:lnTo>
                    <a:pt x="64305" y="142383"/>
                  </a:lnTo>
                  <a:lnTo>
                    <a:pt x="68271" y="143151"/>
                  </a:lnTo>
                  <a:lnTo>
                    <a:pt x="73453" y="144510"/>
                  </a:lnTo>
                  <a:lnTo>
                    <a:pt x="79448" y="146262"/>
                  </a:lnTo>
                  <a:lnTo>
                    <a:pt x="100022" y="152774"/>
                  </a:lnTo>
                  <a:lnTo>
                    <a:pt x="107322" y="155158"/>
                  </a:lnTo>
                  <a:lnTo>
                    <a:pt x="115575" y="156748"/>
                  </a:lnTo>
                  <a:lnTo>
                    <a:pt x="124463" y="157808"/>
                  </a:lnTo>
                  <a:lnTo>
                    <a:pt x="133775" y="158514"/>
                  </a:lnTo>
                  <a:lnTo>
                    <a:pt x="143370" y="159832"/>
                  </a:lnTo>
                  <a:lnTo>
                    <a:pt x="153154" y="161557"/>
                  </a:lnTo>
                  <a:lnTo>
                    <a:pt x="163062" y="163554"/>
                  </a:lnTo>
                  <a:lnTo>
                    <a:pt x="172209" y="165731"/>
                  </a:lnTo>
                  <a:lnTo>
                    <a:pt x="180845" y="168030"/>
                  </a:lnTo>
                  <a:lnTo>
                    <a:pt x="189144" y="170409"/>
                  </a:lnTo>
                  <a:lnTo>
                    <a:pt x="196369" y="173688"/>
                  </a:lnTo>
                  <a:lnTo>
                    <a:pt x="202879" y="177568"/>
                  </a:lnTo>
                  <a:lnTo>
                    <a:pt x="208913" y="181848"/>
                  </a:lnTo>
                  <a:lnTo>
                    <a:pt x="214628" y="185547"/>
                  </a:lnTo>
                  <a:lnTo>
                    <a:pt x="220133" y="188861"/>
                  </a:lnTo>
                  <a:lnTo>
                    <a:pt x="225495" y="191916"/>
                  </a:lnTo>
                  <a:lnTo>
                    <a:pt x="229070" y="195646"/>
                  </a:lnTo>
                  <a:lnTo>
                    <a:pt x="231453" y="199827"/>
                  </a:lnTo>
                  <a:lnTo>
                    <a:pt x="233042" y="204307"/>
                  </a:lnTo>
                  <a:lnTo>
                    <a:pt x="233254" y="208987"/>
                  </a:lnTo>
                  <a:lnTo>
                    <a:pt x="232550" y="213800"/>
                  </a:lnTo>
                  <a:lnTo>
                    <a:pt x="229509" y="222818"/>
                  </a:lnTo>
                  <a:lnTo>
                    <a:pt x="225335" y="229647"/>
                  </a:lnTo>
                  <a:lnTo>
                    <a:pt x="218400" y="237763"/>
                  </a:lnTo>
                  <a:lnTo>
                    <a:pt x="214180" y="242298"/>
                  </a:lnTo>
                  <a:lnTo>
                    <a:pt x="208826" y="247014"/>
                  </a:lnTo>
                  <a:lnTo>
                    <a:pt x="202718" y="251852"/>
                  </a:lnTo>
                  <a:lnTo>
                    <a:pt x="196106" y="256770"/>
                  </a:lnTo>
                  <a:lnTo>
                    <a:pt x="188311" y="260896"/>
                  </a:lnTo>
                  <a:lnTo>
                    <a:pt x="179727" y="264493"/>
                  </a:lnTo>
                  <a:lnTo>
                    <a:pt x="145663" y="276350"/>
                  </a:lnTo>
                  <a:lnTo>
                    <a:pt x="137749" y="278182"/>
                  </a:lnTo>
                  <a:lnTo>
                    <a:pt x="129932" y="279403"/>
                  </a:lnTo>
                  <a:lnTo>
                    <a:pt x="122181" y="280218"/>
                  </a:lnTo>
                  <a:lnTo>
                    <a:pt x="113628" y="281608"/>
                  </a:lnTo>
                  <a:lnTo>
                    <a:pt x="104539" y="283381"/>
                  </a:lnTo>
                  <a:lnTo>
                    <a:pt x="95092" y="285410"/>
                  </a:lnTo>
                  <a:lnTo>
                    <a:pt x="86255" y="286762"/>
                  </a:lnTo>
                  <a:lnTo>
                    <a:pt x="77824" y="287664"/>
                  </a:lnTo>
                  <a:lnTo>
                    <a:pt x="69663" y="288265"/>
                  </a:lnTo>
                  <a:lnTo>
                    <a:pt x="61682" y="288666"/>
                  </a:lnTo>
                  <a:lnTo>
                    <a:pt x="46041" y="289111"/>
                  </a:lnTo>
                  <a:lnTo>
                    <a:pt x="39161" y="288383"/>
                  </a:lnTo>
                  <a:lnTo>
                    <a:pt x="32881" y="287051"/>
                  </a:lnTo>
                  <a:lnTo>
                    <a:pt x="27001" y="285316"/>
                  </a:lnTo>
                  <a:lnTo>
                    <a:pt x="22234" y="283313"/>
                  </a:lnTo>
                  <a:lnTo>
                    <a:pt x="18209" y="281131"/>
                  </a:lnTo>
                  <a:lnTo>
                    <a:pt x="11480" y="276449"/>
                  </a:lnTo>
                  <a:lnTo>
                    <a:pt x="5667" y="271546"/>
                  </a:lnTo>
                  <a:lnTo>
                    <a:pt x="0" y="26660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441"/>
            <p:cNvSpPr/>
            <p:nvPr/>
          </p:nvSpPr>
          <p:spPr>
            <a:xfrm>
              <a:off x="6796800" y="265104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0"/>
                  </a:moveTo>
                  <a:lnTo>
                    <a:pt x="109813" y="0"/>
                  </a:lnTo>
                  <a:lnTo>
                    <a:pt x="119775" y="847"/>
                  </a:lnTo>
                  <a:lnTo>
                    <a:pt x="129805" y="2258"/>
                  </a:lnTo>
                  <a:lnTo>
                    <a:pt x="139876" y="4045"/>
                  </a:lnTo>
                  <a:lnTo>
                    <a:pt x="148284" y="5237"/>
                  </a:lnTo>
                  <a:lnTo>
                    <a:pt x="155582" y="6031"/>
                  </a:lnTo>
                  <a:lnTo>
                    <a:pt x="162142" y="6561"/>
                  </a:lnTo>
                  <a:lnTo>
                    <a:pt x="168208" y="6914"/>
                  </a:lnTo>
                  <a:lnTo>
                    <a:pt x="19050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442"/>
            <p:cNvSpPr/>
            <p:nvPr/>
          </p:nvSpPr>
          <p:spPr>
            <a:xfrm>
              <a:off x="7102440" y="2529000"/>
              <a:ext cx="197280" cy="228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7547" h="228601">
                  <a:moveTo>
                    <a:pt x="75626" y="0"/>
                  </a:moveTo>
                  <a:lnTo>
                    <a:pt x="64275" y="22703"/>
                  </a:lnTo>
                  <a:lnTo>
                    <a:pt x="62132" y="27835"/>
                  </a:lnTo>
                  <a:lnTo>
                    <a:pt x="59857" y="33797"/>
                  </a:lnTo>
                  <a:lnTo>
                    <a:pt x="57493" y="40311"/>
                  </a:lnTo>
                  <a:lnTo>
                    <a:pt x="54225" y="47194"/>
                  </a:lnTo>
                  <a:lnTo>
                    <a:pt x="50351" y="54323"/>
                  </a:lnTo>
                  <a:lnTo>
                    <a:pt x="46076" y="61615"/>
                  </a:lnTo>
                  <a:lnTo>
                    <a:pt x="41533" y="69864"/>
                  </a:lnTo>
                  <a:lnTo>
                    <a:pt x="31969" y="88060"/>
                  </a:lnTo>
                  <a:lnTo>
                    <a:pt x="17065" y="117344"/>
                  </a:lnTo>
                  <a:lnTo>
                    <a:pt x="12878" y="126489"/>
                  </a:lnTo>
                  <a:lnTo>
                    <a:pt x="9241" y="135126"/>
                  </a:lnTo>
                  <a:lnTo>
                    <a:pt x="5970" y="143424"/>
                  </a:lnTo>
                  <a:lnTo>
                    <a:pt x="3789" y="151496"/>
                  </a:lnTo>
                  <a:lnTo>
                    <a:pt x="2334" y="159418"/>
                  </a:lnTo>
                  <a:lnTo>
                    <a:pt x="1365" y="167238"/>
                  </a:lnTo>
                  <a:lnTo>
                    <a:pt x="719" y="174992"/>
                  </a:lnTo>
                  <a:lnTo>
                    <a:pt x="288" y="182702"/>
                  </a:lnTo>
                  <a:lnTo>
                    <a:pt x="0" y="190381"/>
                  </a:lnTo>
                  <a:lnTo>
                    <a:pt x="1502" y="196347"/>
                  </a:lnTo>
                  <a:lnTo>
                    <a:pt x="4197" y="201172"/>
                  </a:lnTo>
                  <a:lnTo>
                    <a:pt x="7687" y="205235"/>
                  </a:lnTo>
                  <a:lnTo>
                    <a:pt x="11706" y="208790"/>
                  </a:lnTo>
                  <a:lnTo>
                    <a:pt x="16080" y="212007"/>
                  </a:lnTo>
                  <a:lnTo>
                    <a:pt x="20689" y="214998"/>
                  </a:lnTo>
                  <a:lnTo>
                    <a:pt x="26301" y="217839"/>
                  </a:lnTo>
                  <a:lnTo>
                    <a:pt x="32582" y="220580"/>
                  </a:lnTo>
                  <a:lnTo>
                    <a:pt x="39310" y="223253"/>
                  </a:lnTo>
                  <a:lnTo>
                    <a:pt x="47182" y="225035"/>
                  </a:lnTo>
                  <a:lnTo>
                    <a:pt x="55818" y="226224"/>
                  </a:lnTo>
                  <a:lnTo>
                    <a:pt x="64960" y="227016"/>
                  </a:lnTo>
                  <a:lnTo>
                    <a:pt x="73595" y="226698"/>
                  </a:lnTo>
                  <a:lnTo>
                    <a:pt x="81893" y="225638"/>
                  </a:lnTo>
                  <a:lnTo>
                    <a:pt x="89964" y="224086"/>
                  </a:lnTo>
                  <a:lnTo>
                    <a:pt x="97885" y="222204"/>
                  </a:lnTo>
                  <a:lnTo>
                    <a:pt x="105705" y="220103"/>
                  </a:lnTo>
                  <a:lnTo>
                    <a:pt x="113459" y="217855"/>
                  </a:lnTo>
                  <a:lnTo>
                    <a:pt x="121168" y="214664"/>
                  </a:lnTo>
                  <a:lnTo>
                    <a:pt x="128847" y="210842"/>
                  </a:lnTo>
                  <a:lnTo>
                    <a:pt x="136507" y="206602"/>
                  </a:lnTo>
                  <a:lnTo>
                    <a:pt x="143307" y="202081"/>
                  </a:lnTo>
                  <a:lnTo>
                    <a:pt x="149533" y="197374"/>
                  </a:lnTo>
                  <a:lnTo>
                    <a:pt x="155377" y="192543"/>
                  </a:lnTo>
                  <a:lnTo>
                    <a:pt x="159274" y="187629"/>
                  </a:lnTo>
                  <a:lnTo>
                    <a:pt x="161872" y="182659"/>
                  </a:lnTo>
                  <a:lnTo>
                    <a:pt x="163603" y="177653"/>
                  </a:lnTo>
                  <a:lnTo>
                    <a:pt x="164757" y="173469"/>
                  </a:lnTo>
                  <a:lnTo>
                    <a:pt x="166040" y="166562"/>
                  </a:lnTo>
                  <a:lnTo>
                    <a:pt x="166609" y="160670"/>
                  </a:lnTo>
                  <a:lnTo>
                    <a:pt x="166762" y="157913"/>
                  </a:lnTo>
                  <a:lnTo>
                    <a:pt x="165170" y="155229"/>
                  </a:lnTo>
                  <a:lnTo>
                    <a:pt x="162416" y="152593"/>
                  </a:lnTo>
                  <a:lnTo>
                    <a:pt x="158886" y="149988"/>
                  </a:lnTo>
                  <a:lnTo>
                    <a:pt x="154839" y="148252"/>
                  </a:lnTo>
                  <a:lnTo>
                    <a:pt x="150447" y="147095"/>
                  </a:lnTo>
                  <a:lnTo>
                    <a:pt x="145828" y="146323"/>
                  </a:lnTo>
                  <a:lnTo>
                    <a:pt x="141054" y="146656"/>
                  </a:lnTo>
                  <a:lnTo>
                    <a:pt x="136178" y="147724"/>
                  </a:lnTo>
                  <a:lnTo>
                    <a:pt x="112140" y="155522"/>
                  </a:lnTo>
                  <a:lnTo>
                    <a:pt x="106742" y="157868"/>
                  </a:lnTo>
                  <a:lnTo>
                    <a:pt x="102297" y="160279"/>
                  </a:lnTo>
                  <a:lnTo>
                    <a:pt x="98487" y="162733"/>
                  </a:lnTo>
                  <a:lnTo>
                    <a:pt x="95100" y="166062"/>
                  </a:lnTo>
                  <a:lnTo>
                    <a:pt x="91995" y="169975"/>
                  </a:lnTo>
                  <a:lnTo>
                    <a:pt x="89079" y="174276"/>
                  </a:lnTo>
                  <a:lnTo>
                    <a:pt x="87135" y="178838"/>
                  </a:lnTo>
                  <a:lnTo>
                    <a:pt x="85839" y="183572"/>
                  </a:lnTo>
                  <a:lnTo>
                    <a:pt x="84975" y="188421"/>
                  </a:lnTo>
                  <a:lnTo>
                    <a:pt x="85245" y="192501"/>
                  </a:lnTo>
                  <a:lnTo>
                    <a:pt x="86272" y="196067"/>
                  </a:lnTo>
                  <a:lnTo>
                    <a:pt x="87804" y="199292"/>
                  </a:lnTo>
                  <a:lnTo>
                    <a:pt x="90518" y="203135"/>
                  </a:lnTo>
                  <a:lnTo>
                    <a:pt x="94021" y="207390"/>
                  </a:lnTo>
                  <a:lnTo>
                    <a:pt x="98049" y="211920"/>
                  </a:lnTo>
                  <a:lnTo>
                    <a:pt x="104122" y="214940"/>
                  </a:lnTo>
                  <a:lnTo>
                    <a:pt x="111557" y="216954"/>
                  </a:lnTo>
                  <a:lnTo>
                    <a:pt x="119900" y="218296"/>
                  </a:lnTo>
                  <a:lnTo>
                    <a:pt x="128849" y="220037"/>
                  </a:lnTo>
                  <a:lnTo>
                    <a:pt x="147823" y="224230"/>
                  </a:lnTo>
                  <a:lnTo>
                    <a:pt x="155930" y="225687"/>
                  </a:lnTo>
                  <a:lnTo>
                    <a:pt x="163030" y="226658"/>
                  </a:lnTo>
                  <a:lnTo>
                    <a:pt x="169455" y="227305"/>
                  </a:lnTo>
                  <a:lnTo>
                    <a:pt x="175432" y="227737"/>
                  </a:lnTo>
                  <a:lnTo>
                    <a:pt x="181110" y="228025"/>
                  </a:lnTo>
                  <a:lnTo>
                    <a:pt x="197546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443"/>
            <p:cNvSpPr/>
            <p:nvPr/>
          </p:nvSpPr>
          <p:spPr>
            <a:xfrm>
              <a:off x="7345440" y="2651040"/>
              <a:ext cx="379080" cy="986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79210" h="98918">
                  <a:moveTo>
                    <a:pt x="0" y="7620"/>
                  </a:moveTo>
                  <a:lnTo>
                    <a:pt x="11351" y="18971"/>
                  </a:lnTo>
                  <a:lnTo>
                    <a:pt x="12647" y="21114"/>
                  </a:lnTo>
                  <a:lnTo>
                    <a:pt x="13511" y="23390"/>
                  </a:lnTo>
                  <a:lnTo>
                    <a:pt x="14088" y="25753"/>
                  </a:lnTo>
                  <a:lnTo>
                    <a:pt x="15319" y="28175"/>
                  </a:lnTo>
                  <a:lnTo>
                    <a:pt x="16985" y="30637"/>
                  </a:lnTo>
                  <a:lnTo>
                    <a:pt x="18943" y="33125"/>
                  </a:lnTo>
                  <a:lnTo>
                    <a:pt x="20249" y="36477"/>
                  </a:lnTo>
                  <a:lnTo>
                    <a:pt x="21120" y="40404"/>
                  </a:lnTo>
                  <a:lnTo>
                    <a:pt x="21700" y="44716"/>
                  </a:lnTo>
                  <a:lnTo>
                    <a:pt x="22934" y="49284"/>
                  </a:lnTo>
                  <a:lnTo>
                    <a:pt x="24602" y="54023"/>
                  </a:lnTo>
                  <a:lnTo>
                    <a:pt x="26561" y="58875"/>
                  </a:lnTo>
                  <a:lnTo>
                    <a:pt x="28715" y="63804"/>
                  </a:lnTo>
                  <a:lnTo>
                    <a:pt x="33363" y="73795"/>
                  </a:lnTo>
                  <a:lnTo>
                    <a:pt x="36635" y="77983"/>
                  </a:lnTo>
                  <a:lnTo>
                    <a:pt x="40511" y="81622"/>
                  </a:lnTo>
                  <a:lnTo>
                    <a:pt x="44787" y="84895"/>
                  </a:lnTo>
                  <a:lnTo>
                    <a:pt x="49332" y="87923"/>
                  </a:lnTo>
                  <a:lnTo>
                    <a:pt x="54054" y="90789"/>
                  </a:lnTo>
                  <a:lnTo>
                    <a:pt x="58896" y="93546"/>
                  </a:lnTo>
                  <a:lnTo>
                    <a:pt x="68791" y="96609"/>
                  </a:lnTo>
                  <a:lnTo>
                    <a:pt x="79680" y="97971"/>
                  </a:lnTo>
                  <a:lnTo>
                    <a:pt x="86141" y="98334"/>
                  </a:lnTo>
                  <a:lnTo>
                    <a:pt x="99245" y="98737"/>
                  </a:lnTo>
                  <a:lnTo>
                    <a:pt x="110713" y="98917"/>
                  </a:lnTo>
                  <a:lnTo>
                    <a:pt x="116988" y="98118"/>
                  </a:lnTo>
                  <a:lnTo>
                    <a:pt x="123713" y="96739"/>
                  </a:lnTo>
                  <a:lnTo>
                    <a:pt x="130736" y="94972"/>
                  </a:lnTo>
                  <a:lnTo>
                    <a:pt x="136263" y="92948"/>
                  </a:lnTo>
                  <a:lnTo>
                    <a:pt x="140795" y="90752"/>
                  </a:lnTo>
                  <a:lnTo>
                    <a:pt x="144663" y="88442"/>
                  </a:lnTo>
                  <a:lnTo>
                    <a:pt x="148935" y="86054"/>
                  </a:lnTo>
                  <a:lnTo>
                    <a:pt x="158197" y="81144"/>
                  </a:lnTo>
                  <a:lnTo>
                    <a:pt x="162192" y="78650"/>
                  </a:lnTo>
                  <a:lnTo>
                    <a:pt x="165702" y="76140"/>
                  </a:lnTo>
                  <a:lnTo>
                    <a:pt x="168887" y="73620"/>
                  </a:lnTo>
                  <a:lnTo>
                    <a:pt x="171012" y="71093"/>
                  </a:lnTo>
                  <a:lnTo>
                    <a:pt x="172428" y="68562"/>
                  </a:lnTo>
                  <a:lnTo>
                    <a:pt x="173371" y="66028"/>
                  </a:lnTo>
                  <a:lnTo>
                    <a:pt x="174001" y="63492"/>
                  </a:lnTo>
                  <a:lnTo>
                    <a:pt x="174421" y="60955"/>
                  </a:lnTo>
                  <a:lnTo>
                    <a:pt x="174701" y="58416"/>
                  </a:lnTo>
                  <a:lnTo>
                    <a:pt x="174041" y="55878"/>
                  </a:lnTo>
                  <a:lnTo>
                    <a:pt x="172754" y="53338"/>
                  </a:lnTo>
                  <a:lnTo>
                    <a:pt x="171049" y="50799"/>
                  </a:lnTo>
                  <a:lnTo>
                    <a:pt x="169066" y="49106"/>
                  </a:lnTo>
                  <a:lnTo>
                    <a:pt x="166897" y="47978"/>
                  </a:lnTo>
                  <a:lnTo>
                    <a:pt x="162230" y="46723"/>
                  </a:lnTo>
                  <a:lnTo>
                    <a:pt x="153862" y="45852"/>
                  </a:lnTo>
                  <a:lnTo>
                    <a:pt x="154221" y="46655"/>
                  </a:lnTo>
                  <a:lnTo>
                    <a:pt x="155307" y="48037"/>
                  </a:lnTo>
                  <a:lnTo>
                    <a:pt x="156878" y="49804"/>
                  </a:lnTo>
                  <a:lnTo>
                    <a:pt x="159618" y="51830"/>
                  </a:lnTo>
                  <a:lnTo>
                    <a:pt x="163139" y="54027"/>
                  </a:lnTo>
                  <a:lnTo>
                    <a:pt x="167180" y="56338"/>
                  </a:lnTo>
                  <a:lnTo>
                    <a:pt x="171566" y="59572"/>
                  </a:lnTo>
                  <a:lnTo>
                    <a:pt x="176185" y="63422"/>
                  </a:lnTo>
                  <a:lnTo>
                    <a:pt x="180956" y="67681"/>
                  </a:lnTo>
                  <a:lnTo>
                    <a:pt x="187524" y="71368"/>
                  </a:lnTo>
                  <a:lnTo>
                    <a:pt x="195290" y="74672"/>
                  </a:lnTo>
                  <a:lnTo>
                    <a:pt x="228041" y="86058"/>
                  </a:lnTo>
                  <a:lnTo>
                    <a:pt x="237541" y="87852"/>
                  </a:lnTo>
                  <a:lnTo>
                    <a:pt x="248107" y="89048"/>
                  </a:lnTo>
                  <a:lnTo>
                    <a:pt x="259384" y="89846"/>
                  </a:lnTo>
                  <a:lnTo>
                    <a:pt x="271137" y="91224"/>
                  </a:lnTo>
                  <a:lnTo>
                    <a:pt x="283204" y="92989"/>
                  </a:lnTo>
                  <a:lnTo>
                    <a:pt x="295482" y="95013"/>
                  </a:lnTo>
                  <a:lnTo>
                    <a:pt x="306209" y="96362"/>
                  </a:lnTo>
                  <a:lnTo>
                    <a:pt x="315899" y="97261"/>
                  </a:lnTo>
                  <a:lnTo>
                    <a:pt x="324899" y="97861"/>
                  </a:lnTo>
                  <a:lnTo>
                    <a:pt x="333440" y="97414"/>
                  </a:lnTo>
                  <a:lnTo>
                    <a:pt x="341672" y="96269"/>
                  </a:lnTo>
                  <a:lnTo>
                    <a:pt x="349702" y="94660"/>
                  </a:lnTo>
                  <a:lnTo>
                    <a:pt x="360880" y="92871"/>
                  </a:lnTo>
                  <a:lnTo>
                    <a:pt x="365048" y="92394"/>
                  </a:lnTo>
                  <a:lnTo>
                    <a:pt x="368671" y="91230"/>
                  </a:lnTo>
                  <a:lnTo>
                    <a:pt x="371935" y="89606"/>
                  </a:lnTo>
                  <a:lnTo>
                    <a:pt x="374956" y="87677"/>
                  </a:lnTo>
                  <a:lnTo>
                    <a:pt x="376972" y="84699"/>
                  </a:lnTo>
                  <a:lnTo>
                    <a:pt x="378313" y="81019"/>
                  </a:lnTo>
                  <a:lnTo>
                    <a:pt x="379209" y="76872"/>
                  </a:lnTo>
                  <a:lnTo>
                    <a:pt x="378958" y="72415"/>
                  </a:lnTo>
                  <a:lnTo>
                    <a:pt x="377946" y="67750"/>
                  </a:lnTo>
                  <a:lnTo>
                    <a:pt x="376424" y="62947"/>
                  </a:lnTo>
                  <a:lnTo>
                    <a:pt x="374563" y="58051"/>
                  </a:lnTo>
                  <a:lnTo>
                    <a:pt x="372475" y="53094"/>
                  </a:lnTo>
                  <a:lnTo>
                    <a:pt x="370237" y="48096"/>
                  </a:lnTo>
                  <a:lnTo>
                    <a:pt x="367051" y="43071"/>
                  </a:lnTo>
                  <a:lnTo>
                    <a:pt x="363234" y="38027"/>
                  </a:lnTo>
                  <a:lnTo>
                    <a:pt x="358996" y="32971"/>
                  </a:lnTo>
                  <a:lnTo>
                    <a:pt x="354476" y="27908"/>
                  </a:lnTo>
                  <a:lnTo>
                    <a:pt x="344941" y="17765"/>
                  </a:lnTo>
                  <a:lnTo>
                    <a:pt x="334098" y="6581"/>
                  </a:lnTo>
                  <a:lnTo>
                    <a:pt x="331105" y="4388"/>
                  </a:lnTo>
                  <a:lnTo>
                    <a:pt x="328264" y="2925"/>
                  </a:lnTo>
                  <a:lnTo>
                    <a:pt x="3200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444"/>
            <p:cNvSpPr/>
            <p:nvPr/>
          </p:nvSpPr>
          <p:spPr>
            <a:xfrm>
              <a:off x="5913000" y="2963520"/>
              <a:ext cx="7560" cy="1674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7622" h="167641">
                  <a:moveTo>
                    <a:pt x="7621" y="0"/>
                  </a:moveTo>
                  <a:lnTo>
                    <a:pt x="7621" y="79956"/>
                  </a:lnTo>
                  <a:lnTo>
                    <a:pt x="6774" y="86324"/>
                  </a:lnTo>
                  <a:lnTo>
                    <a:pt x="5363" y="93109"/>
                  </a:lnTo>
                  <a:lnTo>
                    <a:pt x="3575" y="100173"/>
                  </a:lnTo>
                  <a:lnTo>
                    <a:pt x="2384" y="107422"/>
                  </a:lnTo>
                  <a:lnTo>
                    <a:pt x="1589" y="114795"/>
                  </a:lnTo>
                  <a:lnTo>
                    <a:pt x="1059" y="122250"/>
                  </a:lnTo>
                  <a:lnTo>
                    <a:pt x="707" y="128913"/>
                  </a:lnTo>
                  <a:lnTo>
                    <a:pt x="314" y="140833"/>
                  </a:lnTo>
                  <a:lnTo>
                    <a:pt x="0" y="1676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445"/>
            <p:cNvSpPr/>
            <p:nvPr/>
          </p:nvSpPr>
          <p:spPr>
            <a:xfrm>
              <a:off x="5890320" y="302436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41">
                  <a:moveTo>
                    <a:pt x="0" y="0"/>
                  </a:moveTo>
                  <a:lnTo>
                    <a:pt x="33530" y="0"/>
                  </a:lnTo>
                  <a:lnTo>
                    <a:pt x="40133" y="847"/>
                  </a:lnTo>
                  <a:lnTo>
                    <a:pt x="47076" y="2258"/>
                  </a:lnTo>
                  <a:lnTo>
                    <a:pt x="54244" y="4045"/>
                  </a:lnTo>
                  <a:lnTo>
                    <a:pt x="61562" y="5237"/>
                  </a:lnTo>
                  <a:lnTo>
                    <a:pt x="68982" y="6031"/>
                  </a:lnTo>
                  <a:lnTo>
                    <a:pt x="76468" y="6561"/>
                  </a:lnTo>
                  <a:lnTo>
                    <a:pt x="83999" y="7760"/>
                  </a:lnTo>
                  <a:lnTo>
                    <a:pt x="91559" y="9407"/>
                  </a:lnTo>
                  <a:lnTo>
                    <a:pt x="99140" y="11352"/>
                  </a:lnTo>
                  <a:lnTo>
                    <a:pt x="105040" y="12647"/>
                  </a:lnTo>
                  <a:lnTo>
                    <a:pt x="109820" y="13512"/>
                  </a:lnTo>
                  <a:lnTo>
                    <a:pt x="12192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446"/>
            <p:cNvSpPr/>
            <p:nvPr/>
          </p:nvSpPr>
          <p:spPr>
            <a:xfrm>
              <a:off x="6103440" y="2910240"/>
              <a:ext cx="167400" cy="2278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67641" h="228011">
                  <a:moveTo>
                    <a:pt x="0" y="38089"/>
                  </a:moveTo>
                  <a:lnTo>
                    <a:pt x="0" y="19956"/>
                  </a:lnTo>
                  <a:lnTo>
                    <a:pt x="847" y="18381"/>
                  </a:lnTo>
                  <a:lnTo>
                    <a:pt x="2258" y="17330"/>
                  </a:lnTo>
                  <a:lnTo>
                    <a:pt x="4046" y="16630"/>
                  </a:lnTo>
                  <a:lnTo>
                    <a:pt x="8289" y="13594"/>
                  </a:lnTo>
                  <a:lnTo>
                    <a:pt x="12998" y="9422"/>
                  </a:lnTo>
                  <a:lnTo>
                    <a:pt x="17913" y="4746"/>
                  </a:lnTo>
                  <a:lnTo>
                    <a:pt x="22102" y="3161"/>
                  </a:lnTo>
                  <a:lnTo>
                    <a:pt x="27434" y="2104"/>
                  </a:lnTo>
                  <a:lnTo>
                    <a:pt x="33529" y="1399"/>
                  </a:lnTo>
                  <a:lnTo>
                    <a:pt x="39287" y="929"/>
                  </a:lnTo>
                  <a:lnTo>
                    <a:pt x="44817" y="616"/>
                  </a:lnTo>
                  <a:lnTo>
                    <a:pt x="50198" y="407"/>
                  </a:lnTo>
                  <a:lnTo>
                    <a:pt x="69907" y="113"/>
                  </a:lnTo>
                  <a:lnTo>
                    <a:pt x="107856" y="0"/>
                  </a:lnTo>
                  <a:lnTo>
                    <a:pt x="114237" y="843"/>
                  </a:lnTo>
                  <a:lnTo>
                    <a:pt x="120184" y="2252"/>
                  </a:lnTo>
                  <a:lnTo>
                    <a:pt x="125843" y="4037"/>
                  </a:lnTo>
                  <a:lnTo>
                    <a:pt x="130462" y="6075"/>
                  </a:lnTo>
                  <a:lnTo>
                    <a:pt x="134388" y="8280"/>
                  </a:lnTo>
                  <a:lnTo>
                    <a:pt x="137852" y="10596"/>
                  </a:lnTo>
                  <a:lnTo>
                    <a:pt x="141008" y="12987"/>
                  </a:lnTo>
                  <a:lnTo>
                    <a:pt x="143959" y="15428"/>
                  </a:lnTo>
                  <a:lnTo>
                    <a:pt x="146772" y="17902"/>
                  </a:lnTo>
                  <a:lnTo>
                    <a:pt x="148648" y="21244"/>
                  </a:lnTo>
                  <a:lnTo>
                    <a:pt x="149899" y="25166"/>
                  </a:lnTo>
                  <a:lnTo>
                    <a:pt x="150733" y="29474"/>
                  </a:lnTo>
                  <a:lnTo>
                    <a:pt x="150442" y="34039"/>
                  </a:lnTo>
                  <a:lnTo>
                    <a:pt x="149401" y="38776"/>
                  </a:lnTo>
                  <a:lnTo>
                    <a:pt x="147860" y="43627"/>
                  </a:lnTo>
                  <a:lnTo>
                    <a:pt x="145987" y="48554"/>
                  </a:lnTo>
                  <a:lnTo>
                    <a:pt x="143891" y="53533"/>
                  </a:lnTo>
                  <a:lnTo>
                    <a:pt x="141648" y="58545"/>
                  </a:lnTo>
                  <a:lnTo>
                    <a:pt x="138458" y="64426"/>
                  </a:lnTo>
                  <a:lnTo>
                    <a:pt x="134639" y="70887"/>
                  </a:lnTo>
                  <a:lnTo>
                    <a:pt x="130400" y="77734"/>
                  </a:lnTo>
                  <a:lnTo>
                    <a:pt x="125033" y="84839"/>
                  </a:lnTo>
                  <a:lnTo>
                    <a:pt x="118915" y="92116"/>
                  </a:lnTo>
                  <a:lnTo>
                    <a:pt x="112297" y="99507"/>
                  </a:lnTo>
                  <a:lnTo>
                    <a:pt x="98170" y="114493"/>
                  </a:lnTo>
                  <a:lnTo>
                    <a:pt x="90846" y="122045"/>
                  </a:lnTo>
                  <a:lnTo>
                    <a:pt x="84271" y="129620"/>
                  </a:lnTo>
                  <a:lnTo>
                    <a:pt x="78194" y="137210"/>
                  </a:lnTo>
                  <a:lnTo>
                    <a:pt x="72450" y="144809"/>
                  </a:lnTo>
                  <a:lnTo>
                    <a:pt x="66927" y="151569"/>
                  </a:lnTo>
                  <a:lnTo>
                    <a:pt x="61551" y="157769"/>
                  </a:lnTo>
                  <a:lnTo>
                    <a:pt x="56275" y="163596"/>
                  </a:lnTo>
                  <a:lnTo>
                    <a:pt x="51909" y="169174"/>
                  </a:lnTo>
                  <a:lnTo>
                    <a:pt x="48154" y="174586"/>
                  </a:lnTo>
                  <a:lnTo>
                    <a:pt x="44803" y="179887"/>
                  </a:lnTo>
                  <a:lnTo>
                    <a:pt x="41722" y="185114"/>
                  </a:lnTo>
                  <a:lnTo>
                    <a:pt x="38821" y="190293"/>
                  </a:lnTo>
                  <a:lnTo>
                    <a:pt x="36041" y="195438"/>
                  </a:lnTo>
                  <a:lnTo>
                    <a:pt x="35034" y="200562"/>
                  </a:lnTo>
                  <a:lnTo>
                    <a:pt x="35210" y="205671"/>
                  </a:lnTo>
                  <a:lnTo>
                    <a:pt x="36173" y="210770"/>
                  </a:lnTo>
                  <a:lnTo>
                    <a:pt x="37662" y="215017"/>
                  </a:lnTo>
                  <a:lnTo>
                    <a:pt x="41575" y="221993"/>
                  </a:lnTo>
                  <a:lnTo>
                    <a:pt x="44649" y="224191"/>
                  </a:lnTo>
                  <a:lnTo>
                    <a:pt x="48393" y="225657"/>
                  </a:lnTo>
                  <a:lnTo>
                    <a:pt x="52582" y="226635"/>
                  </a:lnTo>
                  <a:lnTo>
                    <a:pt x="58762" y="227286"/>
                  </a:lnTo>
                  <a:lnTo>
                    <a:pt x="66268" y="227720"/>
                  </a:lnTo>
                  <a:lnTo>
                    <a:pt x="74658" y="228010"/>
                  </a:lnTo>
                  <a:lnTo>
                    <a:pt x="84486" y="227356"/>
                  </a:lnTo>
                  <a:lnTo>
                    <a:pt x="95270" y="226074"/>
                  </a:lnTo>
                  <a:lnTo>
                    <a:pt x="106694" y="224373"/>
                  </a:lnTo>
                  <a:lnTo>
                    <a:pt x="116003" y="223238"/>
                  </a:lnTo>
                  <a:lnTo>
                    <a:pt x="123902" y="222482"/>
                  </a:lnTo>
                  <a:lnTo>
                    <a:pt x="130861" y="221978"/>
                  </a:lnTo>
                  <a:lnTo>
                    <a:pt x="138041" y="221642"/>
                  </a:lnTo>
                  <a:lnTo>
                    <a:pt x="167640" y="22096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447"/>
            <p:cNvSpPr/>
            <p:nvPr/>
          </p:nvSpPr>
          <p:spPr>
            <a:xfrm>
              <a:off x="6454080" y="2951280"/>
              <a:ext cx="181800" cy="194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81884" h="194891">
                  <a:moveTo>
                    <a:pt x="0" y="4390"/>
                  </a:moveTo>
                  <a:lnTo>
                    <a:pt x="47395" y="4390"/>
                  </a:lnTo>
                  <a:lnTo>
                    <a:pt x="54456" y="3544"/>
                  </a:lnTo>
                  <a:lnTo>
                    <a:pt x="61705" y="2132"/>
                  </a:lnTo>
                  <a:lnTo>
                    <a:pt x="69076" y="345"/>
                  </a:lnTo>
                  <a:lnTo>
                    <a:pt x="77377" y="0"/>
                  </a:lnTo>
                  <a:lnTo>
                    <a:pt x="86298" y="617"/>
                  </a:lnTo>
                  <a:lnTo>
                    <a:pt x="95632" y="1875"/>
                  </a:lnTo>
                  <a:lnTo>
                    <a:pt x="104394" y="2713"/>
                  </a:lnTo>
                  <a:lnTo>
                    <a:pt x="112776" y="3272"/>
                  </a:lnTo>
                  <a:lnTo>
                    <a:pt x="120903" y="3645"/>
                  </a:lnTo>
                  <a:lnTo>
                    <a:pt x="136707" y="4059"/>
                  </a:lnTo>
                  <a:lnTo>
                    <a:pt x="144479" y="4169"/>
                  </a:lnTo>
                  <a:lnTo>
                    <a:pt x="151352" y="5090"/>
                  </a:lnTo>
                  <a:lnTo>
                    <a:pt x="157628" y="6550"/>
                  </a:lnTo>
                  <a:lnTo>
                    <a:pt x="163505" y="8370"/>
                  </a:lnTo>
                  <a:lnTo>
                    <a:pt x="168270" y="10430"/>
                  </a:lnTo>
                  <a:lnTo>
                    <a:pt x="172292" y="12650"/>
                  </a:lnTo>
                  <a:lnTo>
                    <a:pt x="180787" y="18251"/>
                  </a:lnTo>
                  <a:lnTo>
                    <a:pt x="180639" y="19558"/>
                  </a:lnTo>
                  <a:lnTo>
                    <a:pt x="178214" y="23267"/>
                  </a:lnTo>
                  <a:lnTo>
                    <a:pt x="175536" y="26288"/>
                  </a:lnTo>
                  <a:lnTo>
                    <a:pt x="168045" y="34161"/>
                  </a:lnTo>
                  <a:lnTo>
                    <a:pt x="163676" y="37784"/>
                  </a:lnTo>
                  <a:lnTo>
                    <a:pt x="159069" y="41046"/>
                  </a:lnTo>
                  <a:lnTo>
                    <a:pt x="154306" y="44067"/>
                  </a:lnTo>
                  <a:lnTo>
                    <a:pt x="148590" y="46929"/>
                  </a:lnTo>
                  <a:lnTo>
                    <a:pt x="142240" y="49682"/>
                  </a:lnTo>
                  <a:lnTo>
                    <a:pt x="135466" y="52365"/>
                  </a:lnTo>
                  <a:lnTo>
                    <a:pt x="121167" y="57603"/>
                  </a:lnTo>
                  <a:lnTo>
                    <a:pt x="91290" y="67865"/>
                  </a:lnTo>
                  <a:lnTo>
                    <a:pt x="84566" y="70413"/>
                  </a:lnTo>
                  <a:lnTo>
                    <a:pt x="78391" y="72959"/>
                  </a:lnTo>
                  <a:lnTo>
                    <a:pt x="72581" y="75503"/>
                  </a:lnTo>
                  <a:lnTo>
                    <a:pt x="67860" y="77199"/>
                  </a:lnTo>
                  <a:lnTo>
                    <a:pt x="63867" y="78329"/>
                  </a:lnTo>
                  <a:lnTo>
                    <a:pt x="55419" y="80143"/>
                  </a:lnTo>
                  <a:lnTo>
                    <a:pt x="54725" y="81139"/>
                  </a:lnTo>
                  <a:lnTo>
                    <a:pt x="53956" y="84503"/>
                  </a:lnTo>
                  <a:lnTo>
                    <a:pt x="54597" y="85739"/>
                  </a:lnTo>
                  <a:lnTo>
                    <a:pt x="55871" y="86563"/>
                  </a:lnTo>
                  <a:lnTo>
                    <a:pt x="92479" y="98720"/>
                  </a:lnTo>
                  <a:lnTo>
                    <a:pt x="99753" y="100297"/>
                  </a:lnTo>
                  <a:lnTo>
                    <a:pt x="107141" y="101348"/>
                  </a:lnTo>
                  <a:lnTo>
                    <a:pt x="114608" y="102049"/>
                  </a:lnTo>
                  <a:lnTo>
                    <a:pt x="121278" y="104209"/>
                  </a:lnTo>
                  <a:lnTo>
                    <a:pt x="127419" y="107343"/>
                  </a:lnTo>
                  <a:lnTo>
                    <a:pt x="133205" y="111125"/>
                  </a:lnTo>
                  <a:lnTo>
                    <a:pt x="139603" y="114494"/>
                  </a:lnTo>
                  <a:lnTo>
                    <a:pt x="146409" y="117586"/>
                  </a:lnTo>
                  <a:lnTo>
                    <a:pt x="153486" y="120494"/>
                  </a:lnTo>
                  <a:lnTo>
                    <a:pt x="159896" y="123280"/>
                  </a:lnTo>
                  <a:lnTo>
                    <a:pt x="171535" y="128632"/>
                  </a:lnTo>
                  <a:lnTo>
                    <a:pt x="175316" y="131245"/>
                  </a:lnTo>
                  <a:lnTo>
                    <a:pt x="177838" y="133833"/>
                  </a:lnTo>
                  <a:lnTo>
                    <a:pt x="179518" y="136406"/>
                  </a:lnTo>
                  <a:lnTo>
                    <a:pt x="180639" y="139814"/>
                  </a:lnTo>
                  <a:lnTo>
                    <a:pt x="181385" y="143779"/>
                  </a:lnTo>
                  <a:lnTo>
                    <a:pt x="181883" y="148116"/>
                  </a:lnTo>
                  <a:lnTo>
                    <a:pt x="181369" y="151854"/>
                  </a:lnTo>
                  <a:lnTo>
                    <a:pt x="180179" y="155193"/>
                  </a:lnTo>
                  <a:lnTo>
                    <a:pt x="178539" y="158266"/>
                  </a:lnTo>
                  <a:lnTo>
                    <a:pt x="175752" y="162007"/>
                  </a:lnTo>
                  <a:lnTo>
                    <a:pt x="172202" y="166195"/>
                  </a:lnTo>
                  <a:lnTo>
                    <a:pt x="168141" y="170680"/>
                  </a:lnTo>
                  <a:lnTo>
                    <a:pt x="162893" y="173670"/>
                  </a:lnTo>
                  <a:lnTo>
                    <a:pt x="156855" y="175663"/>
                  </a:lnTo>
                  <a:lnTo>
                    <a:pt x="150290" y="176993"/>
                  </a:lnTo>
                  <a:lnTo>
                    <a:pt x="143373" y="178725"/>
                  </a:lnTo>
                  <a:lnTo>
                    <a:pt x="136222" y="180727"/>
                  </a:lnTo>
                  <a:lnTo>
                    <a:pt x="128914" y="182908"/>
                  </a:lnTo>
                  <a:lnTo>
                    <a:pt x="111764" y="187589"/>
                  </a:lnTo>
                  <a:lnTo>
                    <a:pt x="102449" y="190023"/>
                  </a:lnTo>
                  <a:lnTo>
                    <a:pt x="92852" y="191645"/>
                  </a:lnTo>
                  <a:lnTo>
                    <a:pt x="83068" y="192727"/>
                  </a:lnTo>
                  <a:lnTo>
                    <a:pt x="73157" y="193448"/>
                  </a:lnTo>
                  <a:lnTo>
                    <a:pt x="63165" y="193929"/>
                  </a:lnTo>
                  <a:lnTo>
                    <a:pt x="43031" y="194463"/>
                  </a:lnTo>
                  <a:lnTo>
                    <a:pt x="7620" y="19489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448"/>
            <p:cNvSpPr/>
            <p:nvPr/>
          </p:nvSpPr>
          <p:spPr>
            <a:xfrm>
              <a:off x="4838760" y="3070080"/>
              <a:ext cx="99000" cy="30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9061" h="30481">
                  <a:moveTo>
                    <a:pt x="0" y="0"/>
                  </a:moveTo>
                  <a:lnTo>
                    <a:pt x="4045" y="4046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3844" y="7760"/>
                  </a:lnTo>
                  <a:lnTo>
                    <a:pt x="17696" y="9407"/>
                  </a:lnTo>
                  <a:lnTo>
                    <a:pt x="26491" y="13494"/>
                  </a:lnTo>
                  <a:lnTo>
                    <a:pt x="36045" y="18133"/>
                  </a:lnTo>
                  <a:lnTo>
                    <a:pt x="42657" y="20555"/>
                  </a:lnTo>
                  <a:lnTo>
                    <a:pt x="50451" y="23017"/>
                  </a:lnTo>
                  <a:lnTo>
                    <a:pt x="59034" y="25505"/>
                  </a:lnTo>
                  <a:lnTo>
                    <a:pt x="65603" y="27163"/>
                  </a:lnTo>
                  <a:lnTo>
                    <a:pt x="70828" y="28269"/>
                  </a:lnTo>
                  <a:lnTo>
                    <a:pt x="75159" y="29006"/>
                  </a:lnTo>
                  <a:lnTo>
                    <a:pt x="79739" y="29497"/>
                  </a:lnTo>
                  <a:lnTo>
                    <a:pt x="84487" y="29825"/>
                  </a:lnTo>
                  <a:lnTo>
                    <a:pt x="99060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449"/>
            <p:cNvSpPr/>
            <p:nvPr/>
          </p:nvSpPr>
          <p:spPr>
            <a:xfrm>
              <a:off x="5295960" y="2940480"/>
              <a:ext cx="200880" cy="205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01100" h="205740">
                  <a:moveTo>
                    <a:pt x="0" y="7619"/>
                  </a:moveTo>
                  <a:lnTo>
                    <a:pt x="4045" y="3574"/>
                  </a:lnTo>
                  <a:lnTo>
                    <a:pt x="6931" y="2382"/>
                  </a:lnTo>
                  <a:lnTo>
                    <a:pt x="10546" y="1588"/>
                  </a:lnTo>
                  <a:lnTo>
                    <a:pt x="14651" y="1058"/>
                  </a:lnTo>
                  <a:lnTo>
                    <a:pt x="19081" y="705"/>
                  </a:lnTo>
                  <a:lnTo>
                    <a:pt x="23727" y="470"/>
                  </a:lnTo>
                  <a:lnTo>
                    <a:pt x="28518" y="313"/>
                  </a:lnTo>
                  <a:lnTo>
                    <a:pt x="54458" y="61"/>
                  </a:lnTo>
                  <a:lnTo>
                    <a:pt x="125822" y="0"/>
                  </a:lnTo>
                  <a:lnTo>
                    <a:pt x="131294" y="846"/>
                  </a:lnTo>
                  <a:lnTo>
                    <a:pt x="136636" y="2257"/>
                  </a:lnTo>
                  <a:lnTo>
                    <a:pt x="141891" y="4045"/>
                  </a:lnTo>
                  <a:lnTo>
                    <a:pt x="145394" y="6083"/>
                  </a:lnTo>
                  <a:lnTo>
                    <a:pt x="147729" y="8288"/>
                  </a:lnTo>
                  <a:lnTo>
                    <a:pt x="149287" y="10605"/>
                  </a:lnTo>
                  <a:lnTo>
                    <a:pt x="150325" y="13843"/>
                  </a:lnTo>
                  <a:lnTo>
                    <a:pt x="151016" y="17695"/>
                  </a:lnTo>
                  <a:lnTo>
                    <a:pt x="151478" y="21957"/>
                  </a:lnTo>
                  <a:lnTo>
                    <a:pt x="150092" y="25644"/>
                  </a:lnTo>
                  <a:lnTo>
                    <a:pt x="147475" y="28949"/>
                  </a:lnTo>
                  <a:lnTo>
                    <a:pt x="144037" y="31999"/>
                  </a:lnTo>
                  <a:lnTo>
                    <a:pt x="135701" y="39903"/>
                  </a:lnTo>
                  <a:lnTo>
                    <a:pt x="131107" y="44382"/>
                  </a:lnTo>
                  <a:lnTo>
                    <a:pt x="125506" y="49061"/>
                  </a:lnTo>
                  <a:lnTo>
                    <a:pt x="119230" y="53874"/>
                  </a:lnTo>
                  <a:lnTo>
                    <a:pt x="112507" y="58776"/>
                  </a:lnTo>
                  <a:lnTo>
                    <a:pt x="106331" y="62890"/>
                  </a:lnTo>
                  <a:lnTo>
                    <a:pt x="100521" y="66480"/>
                  </a:lnTo>
                  <a:lnTo>
                    <a:pt x="94954" y="69720"/>
                  </a:lnTo>
                  <a:lnTo>
                    <a:pt x="81995" y="77835"/>
                  </a:lnTo>
                  <a:lnTo>
                    <a:pt x="74984" y="82370"/>
                  </a:lnTo>
                  <a:lnTo>
                    <a:pt x="68616" y="86240"/>
                  </a:lnTo>
                  <a:lnTo>
                    <a:pt x="62678" y="89666"/>
                  </a:lnTo>
                  <a:lnTo>
                    <a:pt x="57024" y="92797"/>
                  </a:lnTo>
                  <a:lnTo>
                    <a:pt x="52410" y="94885"/>
                  </a:lnTo>
                  <a:lnTo>
                    <a:pt x="48486" y="96276"/>
                  </a:lnTo>
                  <a:lnTo>
                    <a:pt x="43563" y="97822"/>
                  </a:lnTo>
                  <a:lnTo>
                    <a:pt x="43435" y="98234"/>
                  </a:lnTo>
                  <a:lnTo>
                    <a:pt x="44197" y="98510"/>
                  </a:lnTo>
                  <a:lnTo>
                    <a:pt x="49314" y="102941"/>
                  </a:lnTo>
                  <a:lnTo>
                    <a:pt x="52350" y="104187"/>
                  </a:lnTo>
                  <a:lnTo>
                    <a:pt x="56066" y="105018"/>
                  </a:lnTo>
                  <a:lnTo>
                    <a:pt x="60238" y="105572"/>
                  </a:lnTo>
                  <a:lnTo>
                    <a:pt x="65558" y="105941"/>
                  </a:lnTo>
                  <a:lnTo>
                    <a:pt x="71646" y="106187"/>
                  </a:lnTo>
                  <a:lnTo>
                    <a:pt x="78244" y="106351"/>
                  </a:lnTo>
                  <a:lnTo>
                    <a:pt x="86030" y="107307"/>
                  </a:lnTo>
                  <a:lnTo>
                    <a:pt x="94606" y="108791"/>
                  </a:lnTo>
                  <a:lnTo>
                    <a:pt x="103711" y="110627"/>
                  </a:lnTo>
                  <a:lnTo>
                    <a:pt x="113168" y="111851"/>
                  </a:lnTo>
                  <a:lnTo>
                    <a:pt x="122858" y="112667"/>
                  </a:lnTo>
                  <a:lnTo>
                    <a:pt x="132706" y="113211"/>
                  </a:lnTo>
                  <a:lnTo>
                    <a:pt x="150420" y="113816"/>
                  </a:lnTo>
                  <a:lnTo>
                    <a:pt x="158701" y="113977"/>
                  </a:lnTo>
                  <a:lnTo>
                    <a:pt x="165914" y="114931"/>
                  </a:lnTo>
                  <a:lnTo>
                    <a:pt x="172416" y="116414"/>
                  </a:lnTo>
                  <a:lnTo>
                    <a:pt x="178445" y="118249"/>
                  </a:lnTo>
                  <a:lnTo>
                    <a:pt x="183310" y="120319"/>
                  </a:lnTo>
                  <a:lnTo>
                    <a:pt x="187399" y="122546"/>
                  </a:lnTo>
                  <a:lnTo>
                    <a:pt x="190973" y="124877"/>
                  </a:lnTo>
                  <a:lnTo>
                    <a:pt x="197202" y="129725"/>
                  </a:lnTo>
                  <a:lnTo>
                    <a:pt x="200048" y="132203"/>
                  </a:lnTo>
                  <a:lnTo>
                    <a:pt x="201099" y="135548"/>
                  </a:lnTo>
                  <a:lnTo>
                    <a:pt x="200953" y="139472"/>
                  </a:lnTo>
                  <a:lnTo>
                    <a:pt x="200009" y="143781"/>
                  </a:lnTo>
                  <a:lnTo>
                    <a:pt x="198532" y="147501"/>
                  </a:lnTo>
                  <a:lnTo>
                    <a:pt x="194635" y="153891"/>
                  </a:lnTo>
                  <a:lnTo>
                    <a:pt x="192410" y="157627"/>
                  </a:lnTo>
                  <a:lnTo>
                    <a:pt x="190080" y="161811"/>
                  </a:lnTo>
                  <a:lnTo>
                    <a:pt x="187680" y="166294"/>
                  </a:lnTo>
                  <a:lnTo>
                    <a:pt x="184387" y="170129"/>
                  </a:lnTo>
                  <a:lnTo>
                    <a:pt x="180498" y="173532"/>
                  </a:lnTo>
                  <a:lnTo>
                    <a:pt x="176212" y="176648"/>
                  </a:lnTo>
                  <a:lnTo>
                    <a:pt x="170814" y="179572"/>
                  </a:lnTo>
                  <a:lnTo>
                    <a:pt x="164677" y="182368"/>
                  </a:lnTo>
                  <a:lnTo>
                    <a:pt x="158045" y="185078"/>
                  </a:lnTo>
                  <a:lnTo>
                    <a:pt x="151930" y="187732"/>
                  </a:lnTo>
                  <a:lnTo>
                    <a:pt x="140620" y="192938"/>
                  </a:lnTo>
                  <a:lnTo>
                    <a:pt x="134387" y="194665"/>
                  </a:lnTo>
                  <a:lnTo>
                    <a:pt x="127691" y="195817"/>
                  </a:lnTo>
                  <a:lnTo>
                    <a:pt x="120687" y="196584"/>
                  </a:lnTo>
                  <a:lnTo>
                    <a:pt x="114325" y="197942"/>
                  </a:lnTo>
                  <a:lnTo>
                    <a:pt x="108390" y="199695"/>
                  </a:lnTo>
                  <a:lnTo>
                    <a:pt x="102740" y="201709"/>
                  </a:lnTo>
                  <a:lnTo>
                    <a:pt x="97280" y="203053"/>
                  </a:lnTo>
                  <a:lnTo>
                    <a:pt x="91947" y="203948"/>
                  </a:lnTo>
                  <a:lnTo>
                    <a:pt x="86698" y="204545"/>
                  </a:lnTo>
                  <a:lnTo>
                    <a:pt x="81505" y="204943"/>
                  </a:lnTo>
                  <a:lnTo>
                    <a:pt x="76350" y="205209"/>
                  </a:lnTo>
                  <a:lnTo>
                    <a:pt x="66107" y="205503"/>
                  </a:lnTo>
                  <a:lnTo>
                    <a:pt x="45720" y="20573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450"/>
            <p:cNvSpPr/>
            <p:nvPr/>
          </p:nvSpPr>
          <p:spPr>
            <a:xfrm>
              <a:off x="4793040" y="3024360"/>
              <a:ext cx="45720" cy="190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5721" h="190501">
                  <a:moveTo>
                    <a:pt x="45720" y="0"/>
                  </a:moveTo>
                  <a:lnTo>
                    <a:pt x="45720" y="4045"/>
                  </a:lnTo>
                  <a:lnTo>
                    <a:pt x="44874" y="6084"/>
                  </a:lnTo>
                  <a:lnTo>
                    <a:pt x="43462" y="8289"/>
                  </a:lnTo>
                  <a:lnTo>
                    <a:pt x="41675" y="10606"/>
                  </a:lnTo>
                  <a:lnTo>
                    <a:pt x="40483" y="12997"/>
                  </a:lnTo>
                  <a:lnTo>
                    <a:pt x="39159" y="17912"/>
                  </a:lnTo>
                  <a:lnTo>
                    <a:pt x="38806" y="21255"/>
                  </a:lnTo>
                  <a:lnTo>
                    <a:pt x="38571" y="25177"/>
                  </a:lnTo>
                  <a:lnTo>
                    <a:pt x="38414" y="29485"/>
                  </a:lnTo>
                  <a:lnTo>
                    <a:pt x="37463" y="34049"/>
                  </a:lnTo>
                  <a:lnTo>
                    <a:pt x="35982" y="38786"/>
                  </a:lnTo>
                  <a:lnTo>
                    <a:pt x="34148" y="43638"/>
                  </a:lnTo>
                  <a:lnTo>
                    <a:pt x="27522" y="62601"/>
                  </a:lnTo>
                  <a:lnTo>
                    <a:pt x="12664" y="106824"/>
                  </a:lnTo>
                  <a:lnTo>
                    <a:pt x="10982" y="115243"/>
                  </a:lnTo>
                  <a:lnTo>
                    <a:pt x="9862" y="124242"/>
                  </a:lnTo>
                  <a:lnTo>
                    <a:pt x="9114" y="133628"/>
                  </a:lnTo>
                  <a:lnTo>
                    <a:pt x="7770" y="141579"/>
                  </a:lnTo>
                  <a:lnTo>
                    <a:pt x="6026" y="148572"/>
                  </a:lnTo>
                  <a:lnTo>
                    <a:pt x="4018" y="154928"/>
                  </a:lnTo>
                  <a:lnTo>
                    <a:pt x="2678" y="160859"/>
                  </a:lnTo>
                  <a:lnTo>
                    <a:pt x="1785" y="166506"/>
                  </a:lnTo>
                  <a:lnTo>
                    <a:pt x="1190" y="171964"/>
                  </a:lnTo>
                  <a:lnTo>
                    <a:pt x="793" y="176449"/>
                  </a:lnTo>
                  <a:lnTo>
                    <a:pt x="530" y="180286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451"/>
            <p:cNvSpPr/>
            <p:nvPr/>
          </p:nvSpPr>
          <p:spPr>
            <a:xfrm>
              <a:off x="5067360" y="2972160"/>
              <a:ext cx="144000" cy="162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44156" h="162150">
                  <a:moveTo>
                    <a:pt x="7592" y="29298"/>
                  </a:moveTo>
                  <a:lnTo>
                    <a:pt x="66" y="29298"/>
                  </a:lnTo>
                  <a:lnTo>
                    <a:pt x="0" y="25253"/>
                  </a:lnTo>
                  <a:lnTo>
                    <a:pt x="838" y="24061"/>
                  </a:lnTo>
                  <a:lnTo>
                    <a:pt x="2242" y="23267"/>
                  </a:lnTo>
                  <a:lnTo>
                    <a:pt x="4026" y="22737"/>
                  </a:lnTo>
                  <a:lnTo>
                    <a:pt x="8265" y="19891"/>
                  </a:lnTo>
                  <a:lnTo>
                    <a:pt x="10581" y="17947"/>
                  </a:lnTo>
                  <a:lnTo>
                    <a:pt x="13818" y="15804"/>
                  </a:lnTo>
                  <a:lnTo>
                    <a:pt x="17669" y="13529"/>
                  </a:lnTo>
                  <a:lnTo>
                    <a:pt x="21930" y="11165"/>
                  </a:lnTo>
                  <a:lnTo>
                    <a:pt x="27311" y="9590"/>
                  </a:lnTo>
                  <a:lnTo>
                    <a:pt x="33439" y="8539"/>
                  </a:lnTo>
                  <a:lnTo>
                    <a:pt x="40063" y="7839"/>
                  </a:lnTo>
                  <a:lnTo>
                    <a:pt x="47019" y="6525"/>
                  </a:lnTo>
                  <a:lnTo>
                    <a:pt x="54197" y="4803"/>
                  </a:lnTo>
                  <a:lnTo>
                    <a:pt x="61523" y="2808"/>
                  </a:lnTo>
                  <a:lnTo>
                    <a:pt x="69793" y="1478"/>
                  </a:lnTo>
                  <a:lnTo>
                    <a:pt x="78692" y="591"/>
                  </a:lnTo>
                  <a:lnTo>
                    <a:pt x="88012" y="0"/>
                  </a:lnTo>
                  <a:lnTo>
                    <a:pt x="95919" y="453"/>
                  </a:lnTo>
                  <a:lnTo>
                    <a:pt x="102884" y="1601"/>
                  </a:lnTo>
                  <a:lnTo>
                    <a:pt x="109220" y="3214"/>
                  </a:lnTo>
                  <a:lnTo>
                    <a:pt x="115137" y="4289"/>
                  </a:lnTo>
                  <a:lnTo>
                    <a:pt x="120775" y="5005"/>
                  </a:lnTo>
                  <a:lnTo>
                    <a:pt x="126228" y="5483"/>
                  </a:lnTo>
                  <a:lnTo>
                    <a:pt x="130710" y="6648"/>
                  </a:lnTo>
                  <a:lnTo>
                    <a:pt x="134544" y="8271"/>
                  </a:lnTo>
                  <a:lnTo>
                    <a:pt x="137947" y="10200"/>
                  </a:lnTo>
                  <a:lnTo>
                    <a:pt x="140215" y="13180"/>
                  </a:lnTo>
                  <a:lnTo>
                    <a:pt x="141728" y="16859"/>
                  </a:lnTo>
                  <a:lnTo>
                    <a:pt x="142735" y="21005"/>
                  </a:lnTo>
                  <a:lnTo>
                    <a:pt x="143408" y="25463"/>
                  </a:lnTo>
                  <a:lnTo>
                    <a:pt x="143856" y="30128"/>
                  </a:lnTo>
                  <a:lnTo>
                    <a:pt x="144155" y="34931"/>
                  </a:lnTo>
                  <a:lnTo>
                    <a:pt x="142661" y="40674"/>
                  </a:lnTo>
                  <a:lnTo>
                    <a:pt x="139972" y="47042"/>
                  </a:lnTo>
                  <a:lnTo>
                    <a:pt x="136485" y="53827"/>
                  </a:lnTo>
                  <a:lnTo>
                    <a:pt x="132468" y="60044"/>
                  </a:lnTo>
                  <a:lnTo>
                    <a:pt x="128096" y="65882"/>
                  </a:lnTo>
                  <a:lnTo>
                    <a:pt x="123488" y="71467"/>
                  </a:lnTo>
                  <a:lnTo>
                    <a:pt x="117030" y="77731"/>
                  </a:lnTo>
                  <a:lnTo>
                    <a:pt x="109337" y="84447"/>
                  </a:lnTo>
                  <a:lnTo>
                    <a:pt x="100822" y="91464"/>
                  </a:lnTo>
                  <a:lnTo>
                    <a:pt x="92606" y="98682"/>
                  </a:lnTo>
                  <a:lnTo>
                    <a:pt x="84588" y="106034"/>
                  </a:lnTo>
                  <a:lnTo>
                    <a:pt x="68906" y="120976"/>
                  </a:lnTo>
                  <a:lnTo>
                    <a:pt x="27342" y="16214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452"/>
            <p:cNvSpPr/>
            <p:nvPr/>
          </p:nvSpPr>
          <p:spPr>
            <a:xfrm>
              <a:off x="5139720" y="3138840"/>
              <a:ext cx="49320" cy="13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9432" h="13376">
                  <a:moveTo>
                    <a:pt x="0" y="13375"/>
                  </a:moveTo>
                  <a:lnTo>
                    <a:pt x="886" y="13064"/>
                  </a:lnTo>
                  <a:lnTo>
                    <a:pt x="7754" y="11249"/>
                  </a:lnTo>
                  <a:lnTo>
                    <a:pt x="14026" y="10040"/>
                  </a:lnTo>
                  <a:lnTo>
                    <a:pt x="20748" y="8387"/>
                  </a:lnTo>
                  <a:lnTo>
                    <a:pt x="27769" y="6438"/>
                  </a:lnTo>
                  <a:lnTo>
                    <a:pt x="-16105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453"/>
            <p:cNvSpPr/>
            <p:nvPr/>
          </p:nvSpPr>
          <p:spPr>
            <a:xfrm>
              <a:off x="4930200" y="3344760"/>
              <a:ext cx="284760" cy="235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84921" h="235692">
                  <a:moveTo>
                    <a:pt x="83820" y="22758"/>
                  </a:moveTo>
                  <a:lnTo>
                    <a:pt x="87864" y="18713"/>
                  </a:lnTo>
                  <a:lnTo>
                    <a:pt x="90750" y="17521"/>
                  </a:lnTo>
                  <a:lnTo>
                    <a:pt x="98471" y="16197"/>
                  </a:lnTo>
                  <a:lnTo>
                    <a:pt x="102900" y="14998"/>
                  </a:lnTo>
                  <a:lnTo>
                    <a:pt x="107546" y="13351"/>
                  </a:lnTo>
                  <a:lnTo>
                    <a:pt x="112337" y="11407"/>
                  </a:lnTo>
                  <a:lnTo>
                    <a:pt x="118918" y="10110"/>
                  </a:lnTo>
                  <a:lnTo>
                    <a:pt x="126692" y="9246"/>
                  </a:lnTo>
                  <a:lnTo>
                    <a:pt x="135261" y="8670"/>
                  </a:lnTo>
                  <a:lnTo>
                    <a:pt x="144361" y="7439"/>
                  </a:lnTo>
                  <a:lnTo>
                    <a:pt x="153813" y="5772"/>
                  </a:lnTo>
                  <a:lnTo>
                    <a:pt x="163502" y="3814"/>
                  </a:lnTo>
                  <a:lnTo>
                    <a:pt x="172501" y="2509"/>
                  </a:lnTo>
                  <a:lnTo>
                    <a:pt x="181040" y="1639"/>
                  </a:lnTo>
                  <a:lnTo>
                    <a:pt x="189274" y="1058"/>
                  </a:lnTo>
                  <a:lnTo>
                    <a:pt x="198149" y="672"/>
                  </a:lnTo>
                  <a:lnTo>
                    <a:pt x="217041" y="242"/>
                  </a:lnTo>
                  <a:lnTo>
                    <a:pt x="242672" y="0"/>
                  </a:lnTo>
                  <a:lnTo>
                    <a:pt x="249835" y="813"/>
                  </a:lnTo>
                  <a:lnTo>
                    <a:pt x="256303" y="2201"/>
                  </a:lnTo>
                  <a:lnTo>
                    <a:pt x="262308" y="3974"/>
                  </a:lnTo>
                  <a:lnTo>
                    <a:pt x="267159" y="5155"/>
                  </a:lnTo>
                  <a:lnTo>
                    <a:pt x="274806" y="6468"/>
                  </a:lnTo>
                  <a:lnTo>
                    <a:pt x="281027" y="7051"/>
                  </a:lnTo>
                  <a:lnTo>
                    <a:pt x="283871" y="7207"/>
                  </a:lnTo>
                  <a:lnTo>
                    <a:pt x="284920" y="8157"/>
                  </a:lnTo>
                  <a:lnTo>
                    <a:pt x="284773" y="9638"/>
                  </a:lnTo>
                  <a:lnTo>
                    <a:pt x="283829" y="11471"/>
                  </a:lnTo>
                  <a:lnTo>
                    <a:pt x="278264" y="15766"/>
                  </a:lnTo>
                  <a:lnTo>
                    <a:pt x="274409" y="18097"/>
                  </a:lnTo>
                  <a:lnTo>
                    <a:pt x="269299" y="20497"/>
                  </a:lnTo>
                  <a:lnTo>
                    <a:pt x="263353" y="22944"/>
                  </a:lnTo>
                  <a:lnTo>
                    <a:pt x="256848" y="25422"/>
                  </a:lnTo>
                  <a:lnTo>
                    <a:pt x="249125" y="27921"/>
                  </a:lnTo>
                  <a:lnTo>
                    <a:pt x="240590" y="30433"/>
                  </a:lnTo>
                  <a:lnTo>
                    <a:pt x="231514" y="32955"/>
                  </a:lnTo>
                  <a:lnTo>
                    <a:pt x="222922" y="36329"/>
                  </a:lnTo>
                  <a:lnTo>
                    <a:pt x="214654" y="40272"/>
                  </a:lnTo>
                  <a:lnTo>
                    <a:pt x="197848" y="49169"/>
                  </a:lnTo>
                  <a:lnTo>
                    <a:pt x="140482" y="78232"/>
                  </a:lnTo>
                  <a:lnTo>
                    <a:pt x="132145" y="83537"/>
                  </a:lnTo>
                  <a:lnTo>
                    <a:pt x="128736" y="86138"/>
                  </a:lnTo>
                  <a:lnTo>
                    <a:pt x="126464" y="88718"/>
                  </a:lnTo>
                  <a:lnTo>
                    <a:pt x="124949" y="91285"/>
                  </a:lnTo>
                  <a:lnTo>
                    <a:pt x="123939" y="93843"/>
                  </a:lnTo>
                  <a:lnTo>
                    <a:pt x="124113" y="96394"/>
                  </a:lnTo>
                  <a:lnTo>
                    <a:pt x="125075" y="98942"/>
                  </a:lnTo>
                  <a:lnTo>
                    <a:pt x="126563" y="101487"/>
                  </a:lnTo>
                  <a:lnTo>
                    <a:pt x="132732" y="106574"/>
                  </a:lnTo>
                  <a:lnTo>
                    <a:pt x="136748" y="109115"/>
                  </a:lnTo>
                  <a:lnTo>
                    <a:pt x="141966" y="111656"/>
                  </a:lnTo>
                  <a:lnTo>
                    <a:pt x="147984" y="114197"/>
                  </a:lnTo>
                  <a:lnTo>
                    <a:pt x="154535" y="116737"/>
                  </a:lnTo>
                  <a:lnTo>
                    <a:pt x="162290" y="119277"/>
                  </a:lnTo>
                  <a:lnTo>
                    <a:pt x="170847" y="121818"/>
                  </a:lnTo>
                  <a:lnTo>
                    <a:pt x="179938" y="124357"/>
                  </a:lnTo>
                  <a:lnTo>
                    <a:pt x="196811" y="129438"/>
                  </a:lnTo>
                  <a:lnTo>
                    <a:pt x="204868" y="131978"/>
                  </a:lnTo>
                  <a:lnTo>
                    <a:pt x="222850" y="137058"/>
                  </a:lnTo>
                  <a:lnTo>
                    <a:pt x="232386" y="139598"/>
                  </a:lnTo>
                  <a:lnTo>
                    <a:pt x="240437" y="142138"/>
                  </a:lnTo>
                  <a:lnTo>
                    <a:pt x="247499" y="144678"/>
                  </a:lnTo>
                  <a:lnTo>
                    <a:pt x="253898" y="147218"/>
                  </a:lnTo>
                  <a:lnTo>
                    <a:pt x="259012" y="149758"/>
                  </a:lnTo>
                  <a:lnTo>
                    <a:pt x="266952" y="154838"/>
                  </a:lnTo>
                  <a:lnTo>
                    <a:pt x="269408" y="158225"/>
                  </a:lnTo>
                  <a:lnTo>
                    <a:pt x="271045" y="162176"/>
                  </a:lnTo>
                  <a:lnTo>
                    <a:pt x="272136" y="166503"/>
                  </a:lnTo>
                  <a:lnTo>
                    <a:pt x="272017" y="170235"/>
                  </a:lnTo>
                  <a:lnTo>
                    <a:pt x="271092" y="173569"/>
                  </a:lnTo>
                  <a:lnTo>
                    <a:pt x="269628" y="176639"/>
                  </a:lnTo>
                  <a:lnTo>
                    <a:pt x="266958" y="180379"/>
                  </a:lnTo>
                  <a:lnTo>
                    <a:pt x="263485" y="184565"/>
                  </a:lnTo>
                  <a:lnTo>
                    <a:pt x="259477" y="189050"/>
                  </a:lnTo>
                  <a:lnTo>
                    <a:pt x="253418" y="192885"/>
                  </a:lnTo>
                  <a:lnTo>
                    <a:pt x="245992" y="196290"/>
                  </a:lnTo>
                  <a:lnTo>
                    <a:pt x="237654" y="199406"/>
                  </a:lnTo>
                  <a:lnTo>
                    <a:pt x="229556" y="203177"/>
                  </a:lnTo>
                  <a:lnTo>
                    <a:pt x="221618" y="207384"/>
                  </a:lnTo>
                  <a:lnTo>
                    <a:pt x="213785" y="211882"/>
                  </a:lnTo>
                  <a:lnTo>
                    <a:pt x="204330" y="214881"/>
                  </a:lnTo>
                  <a:lnTo>
                    <a:pt x="193793" y="216880"/>
                  </a:lnTo>
                  <a:lnTo>
                    <a:pt x="182535" y="218213"/>
                  </a:lnTo>
                  <a:lnTo>
                    <a:pt x="170796" y="219948"/>
                  </a:lnTo>
                  <a:lnTo>
                    <a:pt x="146465" y="224133"/>
                  </a:lnTo>
                  <a:lnTo>
                    <a:pt x="108966" y="231250"/>
                  </a:lnTo>
                  <a:lnTo>
                    <a:pt x="97197" y="232872"/>
                  </a:lnTo>
                  <a:lnTo>
                    <a:pt x="85964" y="233955"/>
                  </a:lnTo>
                  <a:lnTo>
                    <a:pt x="75090" y="234676"/>
                  </a:lnTo>
                  <a:lnTo>
                    <a:pt x="56233" y="235477"/>
                  </a:lnTo>
                  <a:lnTo>
                    <a:pt x="47648" y="235691"/>
                  </a:lnTo>
                  <a:lnTo>
                    <a:pt x="39386" y="234986"/>
                  </a:lnTo>
                  <a:lnTo>
                    <a:pt x="31337" y="233670"/>
                  </a:lnTo>
                  <a:lnTo>
                    <a:pt x="23431" y="231946"/>
                  </a:lnTo>
                  <a:lnTo>
                    <a:pt x="17314" y="229950"/>
                  </a:lnTo>
                  <a:lnTo>
                    <a:pt x="12389" y="227773"/>
                  </a:lnTo>
                  <a:lnTo>
                    <a:pt x="8259" y="225474"/>
                  </a:lnTo>
                  <a:lnTo>
                    <a:pt x="5506" y="223096"/>
                  </a:lnTo>
                  <a:lnTo>
                    <a:pt x="3670" y="220663"/>
                  </a:lnTo>
                  <a:lnTo>
                    <a:pt x="1631" y="215703"/>
                  </a:lnTo>
                  <a:lnTo>
                    <a:pt x="1087" y="213194"/>
                  </a:lnTo>
                  <a:lnTo>
                    <a:pt x="0" y="20563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454"/>
            <p:cNvSpPr/>
            <p:nvPr/>
          </p:nvSpPr>
          <p:spPr>
            <a:xfrm>
              <a:off x="5265360" y="3344400"/>
              <a:ext cx="211320" cy="2250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11415" h="225048">
                  <a:moveTo>
                    <a:pt x="76037" y="0"/>
                  </a:moveTo>
                  <a:lnTo>
                    <a:pt x="71992" y="4045"/>
                  </a:lnTo>
                  <a:lnTo>
                    <a:pt x="70801" y="6930"/>
                  </a:lnTo>
                  <a:lnTo>
                    <a:pt x="70006" y="10547"/>
                  </a:lnTo>
                  <a:lnTo>
                    <a:pt x="69476" y="14651"/>
                  </a:lnTo>
                  <a:lnTo>
                    <a:pt x="68277" y="18234"/>
                  </a:lnTo>
                  <a:lnTo>
                    <a:pt x="64686" y="24473"/>
                  </a:lnTo>
                  <a:lnTo>
                    <a:pt x="61696" y="27322"/>
                  </a:lnTo>
                  <a:lnTo>
                    <a:pt x="58010" y="30068"/>
                  </a:lnTo>
                  <a:lnTo>
                    <a:pt x="53859" y="32746"/>
                  </a:lnTo>
                  <a:lnTo>
                    <a:pt x="49398" y="36224"/>
                  </a:lnTo>
                  <a:lnTo>
                    <a:pt x="44732" y="40236"/>
                  </a:lnTo>
                  <a:lnTo>
                    <a:pt x="35877" y="48362"/>
                  </a:lnTo>
                  <a:lnTo>
                    <a:pt x="29119" y="54797"/>
                  </a:lnTo>
                  <a:lnTo>
                    <a:pt x="25285" y="57698"/>
                  </a:lnTo>
                  <a:lnTo>
                    <a:pt x="21036" y="60479"/>
                  </a:lnTo>
                  <a:lnTo>
                    <a:pt x="16510" y="63179"/>
                  </a:lnTo>
                  <a:lnTo>
                    <a:pt x="12645" y="65826"/>
                  </a:lnTo>
                  <a:lnTo>
                    <a:pt x="6095" y="71025"/>
                  </a:lnTo>
                  <a:lnTo>
                    <a:pt x="4009" y="73597"/>
                  </a:lnTo>
                  <a:lnTo>
                    <a:pt x="2619" y="76158"/>
                  </a:lnTo>
                  <a:lnTo>
                    <a:pt x="0" y="83372"/>
                  </a:lnTo>
                  <a:lnTo>
                    <a:pt x="4426" y="85878"/>
                  </a:lnTo>
                  <a:lnTo>
                    <a:pt x="7976" y="87733"/>
                  </a:lnTo>
                  <a:lnTo>
                    <a:pt x="12037" y="88968"/>
                  </a:lnTo>
                  <a:lnTo>
                    <a:pt x="16437" y="89792"/>
                  </a:lnTo>
                  <a:lnTo>
                    <a:pt x="21063" y="90342"/>
                  </a:lnTo>
                  <a:lnTo>
                    <a:pt x="26688" y="90708"/>
                  </a:lnTo>
                  <a:lnTo>
                    <a:pt x="32978" y="90952"/>
                  </a:lnTo>
                  <a:lnTo>
                    <a:pt x="47586" y="91223"/>
                  </a:lnTo>
                  <a:lnTo>
                    <a:pt x="65368" y="91344"/>
                  </a:lnTo>
                  <a:lnTo>
                    <a:pt x="75698" y="92222"/>
                  </a:lnTo>
                  <a:lnTo>
                    <a:pt x="86817" y="93655"/>
                  </a:lnTo>
                  <a:lnTo>
                    <a:pt x="98464" y="95456"/>
                  </a:lnTo>
                  <a:lnTo>
                    <a:pt x="109615" y="96658"/>
                  </a:lnTo>
                  <a:lnTo>
                    <a:pt x="120436" y="97458"/>
                  </a:lnTo>
                  <a:lnTo>
                    <a:pt x="131036" y="97992"/>
                  </a:lnTo>
                  <a:lnTo>
                    <a:pt x="140644" y="99195"/>
                  </a:lnTo>
                  <a:lnTo>
                    <a:pt x="149588" y="100843"/>
                  </a:lnTo>
                  <a:lnTo>
                    <a:pt x="158091" y="102789"/>
                  </a:lnTo>
                  <a:lnTo>
                    <a:pt x="166300" y="105779"/>
                  </a:lnTo>
                  <a:lnTo>
                    <a:pt x="174312" y="109466"/>
                  </a:lnTo>
                  <a:lnTo>
                    <a:pt x="182194" y="113618"/>
                  </a:lnTo>
                  <a:lnTo>
                    <a:pt x="188296" y="118078"/>
                  </a:lnTo>
                  <a:lnTo>
                    <a:pt x="193209" y="122746"/>
                  </a:lnTo>
                  <a:lnTo>
                    <a:pt x="197332" y="127550"/>
                  </a:lnTo>
                  <a:lnTo>
                    <a:pt x="200928" y="131600"/>
                  </a:lnTo>
                  <a:lnTo>
                    <a:pt x="207179" y="138358"/>
                  </a:lnTo>
                  <a:lnTo>
                    <a:pt x="209186" y="142192"/>
                  </a:lnTo>
                  <a:lnTo>
                    <a:pt x="210523" y="146441"/>
                  </a:lnTo>
                  <a:lnTo>
                    <a:pt x="211414" y="150967"/>
                  </a:lnTo>
                  <a:lnTo>
                    <a:pt x="211163" y="155678"/>
                  </a:lnTo>
                  <a:lnTo>
                    <a:pt x="210147" y="160513"/>
                  </a:lnTo>
                  <a:lnTo>
                    <a:pt x="208625" y="165429"/>
                  </a:lnTo>
                  <a:lnTo>
                    <a:pt x="206762" y="170399"/>
                  </a:lnTo>
                  <a:lnTo>
                    <a:pt x="204674" y="175406"/>
                  </a:lnTo>
                  <a:lnTo>
                    <a:pt x="202435" y="180437"/>
                  </a:lnTo>
                  <a:lnTo>
                    <a:pt x="199249" y="185485"/>
                  </a:lnTo>
                  <a:lnTo>
                    <a:pt x="195432" y="190543"/>
                  </a:lnTo>
                  <a:lnTo>
                    <a:pt x="191194" y="195609"/>
                  </a:lnTo>
                  <a:lnTo>
                    <a:pt x="186675" y="199833"/>
                  </a:lnTo>
                  <a:lnTo>
                    <a:pt x="181969" y="203495"/>
                  </a:lnTo>
                  <a:lnTo>
                    <a:pt x="177139" y="206783"/>
                  </a:lnTo>
                  <a:lnTo>
                    <a:pt x="172225" y="209822"/>
                  </a:lnTo>
                  <a:lnTo>
                    <a:pt x="167256" y="212695"/>
                  </a:lnTo>
                  <a:lnTo>
                    <a:pt x="162250" y="215457"/>
                  </a:lnTo>
                  <a:lnTo>
                    <a:pt x="156372" y="217298"/>
                  </a:lnTo>
                  <a:lnTo>
                    <a:pt x="149914" y="218525"/>
                  </a:lnTo>
                  <a:lnTo>
                    <a:pt x="143068" y="219344"/>
                  </a:lnTo>
                  <a:lnTo>
                    <a:pt x="136812" y="220736"/>
                  </a:lnTo>
                  <a:lnTo>
                    <a:pt x="130947" y="222510"/>
                  </a:lnTo>
                  <a:lnTo>
                    <a:pt x="125344" y="224540"/>
                  </a:lnTo>
                  <a:lnTo>
                    <a:pt x="119915" y="225047"/>
                  </a:lnTo>
                  <a:lnTo>
                    <a:pt x="114603" y="224538"/>
                  </a:lnTo>
                  <a:lnTo>
                    <a:pt x="109368" y="223352"/>
                  </a:lnTo>
                  <a:lnTo>
                    <a:pt x="102491" y="222562"/>
                  </a:lnTo>
                  <a:lnTo>
                    <a:pt x="94520" y="222034"/>
                  </a:lnTo>
                  <a:lnTo>
                    <a:pt x="85819" y="221683"/>
                  </a:lnTo>
                  <a:lnTo>
                    <a:pt x="79171" y="220602"/>
                  </a:lnTo>
                  <a:lnTo>
                    <a:pt x="73894" y="219035"/>
                  </a:lnTo>
                  <a:lnTo>
                    <a:pt x="60798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455"/>
            <p:cNvSpPr/>
            <p:nvPr/>
          </p:nvSpPr>
          <p:spPr>
            <a:xfrm>
              <a:off x="5318640" y="33292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7620"/>
                  </a:moveTo>
                  <a:lnTo>
                    <a:pt x="15397" y="7620"/>
                  </a:lnTo>
                  <a:lnTo>
                    <a:pt x="19578" y="6773"/>
                  </a:lnTo>
                  <a:lnTo>
                    <a:pt x="24058" y="5362"/>
                  </a:lnTo>
                  <a:lnTo>
                    <a:pt x="28739" y="3575"/>
                  </a:lnTo>
                  <a:lnTo>
                    <a:pt x="33553" y="2383"/>
                  </a:lnTo>
                  <a:lnTo>
                    <a:pt x="38455" y="1589"/>
                  </a:lnTo>
                  <a:lnTo>
                    <a:pt x="43417" y="1059"/>
                  </a:lnTo>
                  <a:lnTo>
                    <a:pt x="48418" y="706"/>
                  </a:lnTo>
                  <a:lnTo>
                    <a:pt x="53446" y="471"/>
                  </a:lnTo>
                  <a:lnTo>
                    <a:pt x="63547" y="209"/>
                  </a:lnTo>
                  <a:lnTo>
                    <a:pt x="1371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MARTInkAnnotation456"/>
            <p:cNvSpPr/>
            <p:nvPr/>
          </p:nvSpPr>
          <p:spPr>
            <a:xfrm>
              <a:off x="5707440" y="344376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0"/>
                  </a:moveTo>
                  <a:lnTo>
                    <a:pt x="13122" y="0"/>
                  </a:lnTo>
                  <a:lnTo>
                    <a:pt x="16368" y="847"/>
                  </a:lnTo>
                  <a:lnTo>
                    <a:pt x="26748" y="4045"/>
                  </a:lnTo>
                  <a:lnTo>
                    <a:pt x="33072" y="5237"/>
                  </a:lnTo>
                  <a:lnTo>
                    <a:pt x="39828" y="6032"/>
                  </a:lnTo>
                  <a:lnTo>
                    <a:pt x="52415" y="6914"/>
                  </a:lnTo>
                  <a:lnTo>
                    <a:pt x="60831" y="7307"/>
                  </a:lnTo>
                  <a:lnTo>
                    <a:pt x="69651" y="7481"/>
                  </a:lnTo>
                  <a:lnTo>
                    <a:pt x="8382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MARTInkAnnotation457"/>
            <p:cNvSpPr/>
            <p:nvPr/>
          </p:nvSpPr>
          <p:spPr>
            <a:xfrm>
              <a:off x="5737680" y="3497040"/>
              <a:ext cx="91440" cy="75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1">
                  <a:moveTo>
                    <a:pt x="0" y="0"/>
                  </a:moveTo>
                  <a:lnTo>
                    <a:pt x="21212" y="0"/>
                  </a:lnTo>
                  <a:lnTo>
                    <a:pt x="26842" y="847"/>
                  </a:lnTo>
                  <a:lnTo>
                    <a:pt x="33134" y="2258"/>
                  </a:lnTo>
                  <a:lnTo>
                    <a:pt x="39869" y="4045"/>
                  </a:lnTo>
                  <a:lnTo>
                    <a:pt x="46899" y="5237"/>
                  </a:lnTo>
                  <a:lnTo>
                    <a:pt x="54127" y="6031"/>
                  </a:lnTo>
                  <a:lnTo>
                    <a:pt x="61484" y="6561"/>
                  </a:lnTo>
                  <a:lnTo>
                    <a:pt x="68083" y="6914"/>
                  </a:lnTo>
                  <a:lnTo>
                    <a:pt x="9144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MARTInkAnnotation458"/>
            <p:cNvSpPr/>
            <p:nvPr/>
          </p:nvSpPr>
          <p:spPr>
            <a:xfrm>
              <a:off x="6012000" y="34282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2" h="7621">
                  <a:moveTo>
                    <a:pt x="0" y="0"/>
                  </a:moveTo>
                  <a:lnTo>
                    <a:pt x="6561" y="0"/>
                  </a:lnTo>
                  <a:lnTo>
                    <a:pt x="8608" y="847"/>
                  </a:lnTo>
                  <a:lnTo>
                    <a:pt x="11665" y="2258"/>
                  </a:lnTo>
                  <a:lnTo>
                    <a:pt x="15397" y="4045"/>
                  </a:lnTo>
                  <a:lnTo>
                    <a:pt x="20425" y="5237"/>
                  </a:lnTo>
                  <a:lnTo>
                    <a:pt x="26316" y="6032"/>
                  </a:lnTo>
                  <a:lnTo>
                    <a:pt x="32784" y="6561"/>
                  </a:lnTo>
                  <a:lnTo>
                    <a:pt x="38790" y="6914"/>
                  </a:lnTo>
                  <a:lnTo>
                    <a:pt x="49978" y="7307"/>
                  </a:lnTo>
                  <a:lnTo>
                    <a:pt x="117769" y="7608"/>
                  </a:lnTo>
                  <a:lnTo>
                    <a:pt x="137161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MARTInkAnnotation459"/>
            <p:cNvSpPr/>
            <p:nvPr/>
          </p:nvSpPr>
          <p:spPr>
            <a:xfrm>
              <a:off x="6219720" y="332928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01763" h="220800">
                  <a:moveTo>
                    <a:pt x="89491" y="0"/>
                  </a:moveTo>
                  <a:lnTo>
                    <a:pt x="89491" y="4045"/>
                  </a:lnTo>
                  <a:lnTo>
                    <a:pt x="88644" y="6084"/>
                  </a:lnTo>
                  <a:lnTo>
                    <a:pt x="85445" y="10606"/>
                  </a:lnTo>
                  <a:lnTo>
                    <a:pt x="84254" y="12997"/>
                  </a:lnTo>
                  <a:lnTo>
                    <a:pt x="82930" y="17912"/>
                  </a:lnTo>
                  <a:lnTo>
                    <a:pt x="80884" y="21255"/>
                  </a:lnTo>
                  <a:lnTo>
                    <a:pt x="77826" y="25177"/>
                  </a:lnTo>
                  <a:lnTo>
                    <a:pt x="74094" y="29485"/>
                  </a:lnTo>
                  <a:lnTo>
                    <a:pt x="69913" y="34896"/>
                  </a:lnTo>
                  <a:lnTo>
                    <a:pt x="65433" y="41044"/>
                  </a:lnTo>
                  <a:lnTo>
                    <a:pt x="55939" y="54648"/>
                  </a:lnTo>
                  <a:lnTo>
                    <a:pt x="31001" y="91612"/>
                  </a:lnTo>
                  <a:lnTo>
                    <a:pt x="25944" y="100022"/>
                  </a:lnTo>
                  <a:lnTo>
                    <a:pt x="20879" y="109014"/>
                  </a:lnTo>
                  <a:lnTo>
                    <a:pt x="15810" y="118396"/>
                  </a:lnTo>
                  <a:lnTo>
                    <a:pt x="11584" y="127191"/>
                  </a:lnTo>
                  <a:lnTo>
                    <a:pt x="7919" y="135594"/>
                  </a:lnTo>
                  <a:lnTo>
                    <a:pt x="4630" y="143736"/>
                  </a:lnTo>
                  <a:lnTo>
                    <a:pt x="2436" y="150858"/>
                  </a:lnTo>
                  <a:lnTo>
                    <a:pt x="975" y="157298"/>
                  </a:lnTo>
                  <a:lnTo>
                    <a:pt x="0" y="163286"/>
                  </a:lnTo>
                  <a:lnTo>
                    <a:pt x="197" y="169817"/>
                  </a:lnTo>
                  <a:lnTo>
                    <a:pt x="1175" y="176712"/>
                  </a:lnTo>
                  <a:lnTo>
                    <a:pt x="2674" y="183847"/>
                  </a:lnTo>
                  <a:lnTo>
                    <a:pt x="5366" y="190298"/>
                  </a:lnTo>
                  <a:lnTo>
                    <a:pt x="8854" y="196292"/>
                  </a:lnTo>
                  <a:lnTo>
                    <a:pt x="12873" y="201982"/>
                  </a:lnTo>
                  <a:lnTo>
                    <a:pt x="18092" y="206621"/>
                  </a:lnTo>
                  <a:lnTo>
                    <a:pt x="24112" y="210561"/>
                  </a:lnTo>
                  <a:lnTo>
                    <a:pt x="30665" y="214034"/>
                  </a:lnTo>
                  <a:lnTo>
                    <a:pt x="38420" y="216350"/>
                  </a:lnTo>
                  <a:lnTo>
                    <a:pt x="46977" y="217893"/>
                  </a:lnTo>
                  <a:lnTo>
                    <a:pt x="56068" y="218922"/>
                  </a:lnTo>
                  <a:lnTo>
                    <a:pt x="65516" y="219608"/>
                  </a:lnTo>
                  <a:lnTo>
                    <a:pt x="75201" y="220065"/>
                  </a:lnTo>
                  <a:lnTo>
                    <a:pt x="94994" y="220574"/>
                  </a:lnTo>
                  <a:lnTo>
                    <a:pt x="115078" y="220799"/>
                  </a:lnTo>
                  <a:lnTo>
                    <a:pt x="125176" y="219166"/>
                  </a:lnTo>
                  <a:lnTo>
                    <a:pt x="135295" y="216384"/>
                  </a:lnTo>
                  <a:lnTo>
                    <a:pt x="145427" y="212836"/>
                  </a:lnTo>
                  <a:lnTo>
                    <a:pt x="153875" y="208778"/>
                  </a:lnTo>
                  <a:lnTo>
                    <a:pt x="161201" y="204378"/>
                  </a:lnTo>
                  <a:lnTo>
                    <a:pt x="167777" y="199752"/>
                  </a:lnTo>
                  <a:lnTo>
                    <a:pt x="173855" y="194975"/>
                  </a:lnTo>
                  <a:lnTo>
                    <a:pt x="179601" y="190097"/>
                  </a:lnTo>
                  <a:lnTo>
                    <a:pt x="185124" y="185151"/>
                  </a:lnTo>
                  <a:lnTo>
                    <a:pt x="189654" y="180161"/>
                  </a:lnTo>
                  <a:lnTo>
                    <a:pt x="193520" y="175141"/>
                  </a:lnTo>
                  <a:lnTo>
                    <a:pt x="196943" y="170101"/>
                  </a:lnTo>
                  <a:lnTo>
                    <a:pt x="199226" y="165894"/>
                  </a:lnTo>
                  <a:lnTo>
                    <a:pt x="200747" y="162243"/>
                  </a:lnTo>
                  <a:lnTo>
                    <a:pt x="201762" y="158962"/>
                  </a:lnTo>
                  <a:lnTo>
                    <a:pt x="201592" y="155081"/>
                  </a:lnTo>
                  <a:lnTo>
                    <a:pt x="200632" y="150801"/>
                  </a:lnTo>
                  <a:lnTo>
                    <a:pt x="199145" y="146254"/>
                  </a:lnTo>
                  <a:lnTo>
                    <a:pt x="196461" y="142376"/>
                  </a:lnTo>
                  <a:lnTo>
                    <a:pt x="192977" y="138944"/>
                  </a:lnTo>
                  <a:lnTo>
                    <a:pt x="188962" y="135809"/>
                  </a:lnTo>
                  <a:lnTo>
                    <a:pt x="183745" y="132873"/>
                  </a:lnTo>
                  <a:lnTo>
                    <a:pt x="177727" y="130069"/>
                  </a:lnTo>
                  <a:lnTo>
                    <a:pt x="171175" y="127353"/>
                  </a:lnTo>
                  <a:lnTo>
                    <a:pt x="165114" y="126388"/>
                  </a:lnTo>
                  <a:lnTo>
                    <a:pt x="159380" y="126592"/>
                  </a:lnTo>
                  <a:lnTo>
                    <a:pt x="153863" y="127575"/>
                  </a:lnTo>
                  <a:lnTo>
                    <a:pt x="147646" y="128230"/>
                  </a:lnTo>
                  <a:lnTo>
                    <a:pt x="140961" y="128667"/>
                  </a:lnTo>
                  <a:lnTo>
                    <a:pt x="127606" y="129152"/>
                  </a:lnTo>
                  <a:lnTo>
                    <a:pt x="116027" y="129367"/>
                  </a:lnTo>
                  <a:lnTo>
                    <a:pt x="110568" y="131118"/>
                  </a:lnTo>
                  <a:lnTo>
                    <a:pt x="105235" y="133979"/>
                  </a:lnTo>
                  <a:lnTo>
                    <a:pt x="99987" y="137579"/>
                  </a:lnTo>
                  <a:lnTo>
                    <a:pt x="96488" y="140826"/>
                  </a:lnTo>
                  <a:lnTo>
                    <a:pt x="94156" y="143838"/>
                  </a:lnTo>
                  <a:lnTo>
                    <a:pt x="91565" y="149441"/>
                  </a:lnTo>
                  <a:lnTo>
                    <a:pt x="90412" y="154754"/>
                  </a:lnTo>
                  <a:lnTo>
                    <a:pt x="90952" y="158203"/>
                  </a:lnTo>
                  <a:lnTo>
                    <a:pt x="92158" y="162195"/>
                  </a:lnTo>
                  <a:lnTo>
                    <a:pt x="93810" y="166550"/>
                  </a:lnTo>
                  <a:lnTo>
                    <a:pt x="97449" y="170300"/>
                  </a:lnTo>
                  <a:lnTo>
                    <a:pt x="102416" y="173647"/>
                  </a:lnTo>
                  <a:lnTo>
                    <a:pt x="124594" y="185102"/>
                  </a:lnTo>
                  <a:lnTo>
                    <a:pt x="131520" y="187748"/>
                  </a:lnTo>
                  <a:lnTo>
                    <a:pt x="139524" y="190358"/>
                  </a:lnTo>
                  <a:lnTo>
                    <a:pt x="148246" y="192946"/>
                  </a:lnTo>
                  <a:lnTo>
                    <a:pt x="155755" y="194670"/>
                  </a:lnTo>
                  <a:lnTo>
                    <a:pt x="162453" y="195820"/>
                  </a:lnTo>
                  <a:lnTo>
                    <a:pt x="168612" y="196587"/>
                  </a:lnTo>
                  <a:lnTo>
                    <a:pt x="174412" y="197098"/>
                  </a:lnTo>
                  <a:lnTo>
                    <a:pt x="179972" y="197439"/>
                  </a:lnTo>
                  <a:lnTo>
                    <a:pt x="196171" y="1981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MARTInkAnnotation460"/>
            <p:cNvSpPr/>
            <p:nvPr/>
          </p:nvSpPr>
          <p:spPr>
            <a:xfrm>
              <a:off x="6507360" y="3367440"/>
              <a:ext cx="409320" cy="1670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09380" h="167186">
                  <a:moveTo>
                    <a:pt x="0" y="53340"/>
                  </a:moveTo>
                  <a:lnTo>
                    <a:pt x="7307" y="60646"/>
                  </a:lnTo>
                  <a:lnTo>
                    <a:pt x="7527" y="64912"/>
                  </a:lnTo>
                  <a:lnTo>
                    <a:pt x="7593" y="71538"/>
                  </a:lnTo>
                  <a:lnTo>
                    <a:pt x="8449" y="73939"/>
                  </a:lnTo>
                  <a:lnTo>
                    <a:pt x="11657" y="78864"/>
                  </a:lnTo>
                  <a:lnTo>
                    <a:pt x="12851" y="82209"/>
                  </a:lnTo>
                  <a:lnTo>
                    <a:pt x="13648" y="86133"/>
                  </a:lnTo>
                  <a:lnTo>
                    <a:pt x="14179" y="90442"/>
                  </a:lnTo>
                  <a:lnTo>
                    <a:pt x="14532" y="94161"/>
                  </a:lnTo>
                  <a:lnTo>
                    <a:pt x="14768" y="97488"/>
                  </a:lnTo>
                  <a:lnTo>
                    <a:pt x="14926" y="100552"/>
                  </a:lnTo>
                  <a:lnTo>
                    <a:pt x="15877" y="104288"/>
                  </a:lnTo>
                  <a:lnTo>
                    <a:pt x="17358" y="108472"/>
                  </a:lnTo>
                  <a:lnTo>
                    <a:pt x="19192" y="112955"/>
                  </a:lnTo>
                  <a:lnTo>
                    <a:pt x="20415" y="116790"/>
                  </a:lnTo>
                  <a:lnTo>
                    <a:pt x="21229" y="120193"/>
                  </a:lnTo>
                  <a:lnTo>
                    <a:pt x="21773" y="123309"/>
                  </a:lnTo>
                  <a:lnTo>
                    <a:pt x="22982" y="127079"/>
                  </a:lnTo>
                  <a:lnTo>
                    <a:pt x="24634" y="131286"/>
                  </a:lnTo>
                  <a:lnTo>
                    <a:pt x="26583" y="135784"/>
                  </a:lnTo>
                  <a:lnTo>
                    <a:pt x="28729" y="139629"/>
                  </a:lnTo>
                  <a:lnTo>
                    <a:pt x="31006" y="143039"/>
                  </a:lnTo>
                  <a:lnTo>
                    <a:pt x="33371" y="146159"/>
                  </a:lnTo>
                  <a:lnTo>
                    <a:pt x="35794" y="149086"/>
                  </a:lnTo>
                  <a:lnTo>
                    <a:pt x="38255" y="151884"/>
                  </a:lnTo>
                  <a:lnTo>
                    <a:pt x="40744" y="154596"/>
                  </a:lnTo>
                  <a:lnTo>
                    <a:pt x="44943" y="157251"/>
                  </a:lnTo>
                  <a:lnTo>
                    <a:pt x="56381" y="162458"/>
                  </a:lnTo>
                  <a:lnTo>
                    <a:pt x="62988" y="164185"/>
                  </a:lnTo>
                  <a:lnTo>
                    <a:pt x="69932" y="165337"/>
                  </a:lnTo>
                  <a:lnTo>
                    <a:pt x="77102" y="166104"/>
                  </a:lnTo>
                  <a:lnTo>
                    <a:pt x="89583" y="166957"/>
                  </a:lnTo>
                  <a:lnTo>
                    <a:pt x="95282" y="167185"/>
                  </a:lnTo>
                  <a:lnTo>
                    <a:pt x="101621" y="166490"/>
                  </a:lnTo>
                  <a:lnTo>
                    <a:pt x="108387" y="165180"/>
                  </a:lnTo>
                  <a:lnTo>
                    <a:pt x="115438" y="163460"/>
                  </a:lnTo>
                  <a:lnTo>
                    <a:pt x="122679" y="160620"/>
                  </a:lnTo>
                  <a:lnTo>
                    <a:pt x="130046" y="157033"/>
                  </a:lnTo>
                  <a:lnTo>
                    <a:pt x="137497" y="152949"/>
                  </a:lnTo>
                  <a:lnTo>
                    <a:pt x="145005" y="149379"/>
                  </a:lnTo>
                  <a:lnTo>
                    <a:pt x="152550" y="146153"/>
                  </a:lnTo>
                  <a:lnTo>
                    <a:pt x="160120" y="143155"/>
                  </a:lnTo>
                  <a:lnTo>
                    <a:pt x="166013" y="140310"/>
                  </a:lnTo>
                  <a:lnTo>
                    <a:pt x="170789" y="137567"/>
                  </a:lnTo>
                  <a:lnTo>
                    <a:pt x="174819" y="134891"/>
                  </a:lnTo>
                  <a:lnTo>
                    <a:pt x="178353" y="132261"/>
                  </a:lnTo>
                  <a:lnTo>
                    <a:pt x="184537" y="127080"/>
                  </a:lnTo>
                  <a:lnTo>
                    <a:pt x="186525" y="123667"/>
                  </a:lnTo>
                  <a:lnTo>
                    <a:pt x="187850" y="119698"/>
                  </a:lnTo>
                  <a:lnTo>
                    <a:pt x="189976" y="109252"/>
                  </a:lnTo>
                  <a:lnTo>
                    <a:pt x="190268" y="105565"/>
                  </a:lnTo>
                  <a:lnTo>
                    <a:pt x="190345" y="103397"/>
                  </a:lnTo>
                  <a:lnTo>
                    <a:pt x="189551" y="101951"/>
                  </a:lnTo>
                  <a:lnTo>
                    <a:pt x="188173" y="100987"/>
                  </a:lnTo>
                  <a:lnTo>
                    <a:pt x="183926" y="99441"/>
                  </a:lnTo>
                  <a:lnTo>
                    <a:pt x="184424" y="99314"/>
                  </a:lnTo>
                  <a:lnTo>
                    <a:pt x="187235" y="99173"/>
                  </a:lnTo>
                  <a:lnTo>
                    <a:pt x="188324" y="99982"/>
                  </a:lnTo>
                  <a:lnTo>
                    <a:pt x="189049" y="101368"/>
                  </a:lnTo>
                  <a:lnTo>
                    <a:pt x="189533" y="103139"/>
                  </a:lnTo>
                  <a:lnTo>
                    <a:pt x="191548" y="105166"/>
                  </a:lnTo>
                  <a:lnTo>
                    <a:pt x="198304" y="109676"/>
                  </a:lnTo>
                  <a:lnTo>
                    <a:pt x="206951" y="114502"/>
                  </a:lnTo>
                  <a:lnTo>
                    <a:pt x="211627" y="116975"/>
                  </a:lnTo>
                  <a:lnTo>
                    <a:pt x="217285" y="120316"/>
                  </a:lnTo>
                  <a:lnTo>
                    <a:pt x="230344" y="128545"/>
                  </a:lnTo>
                  <a:lnTo>
                    <a:pt x="239076" y="131417"/>
                  </a:lnTo>
                  <a:lnTo>
                    <a:pt x="249131" y="133332"/>
                  </a:lnTo>
                  <a:lnTo>
                    <a:pt x="260068" y="134607"/>
                  </a:lnTo>
                  <a:lnTo>
                    <a:pt x="269898" y="136305"/>
                  </a:lnTo>
                  <a:lnTo>
                    <a:pt x="278993" y="138283"/>
                  </a:lnTo>
                  <a:lnTo>
                    <a:pt x="287595" y="140449"/>
                  </a:lnTo>
                  <a:lnTo>
                    <a:pt x="308443" y="145113"/>
                  </a:lnTo>
                  <a:lnTo>
                    <a:pt x="319928" y="147542"/>
                  </a:lnTo>
                  <a:lnTo>
                    <a:pt x="330125" y="148315"/>
                  </a:lnTo>
                  <a:lnTo>
                    <a:pt x="339464" y="147983"/>
                  </a:lnTo>
                  <a:lnTo>
                    <a:pt x="348229" y="146915"/>
                  </a:lnTo>
                  <a:lnTo>
                    <a:pt x="356613" y="146204"/>
                  </a:lnTo>
                  <a:lnTo>
                    <a:pt x="364742" y="145729"/>
                  </a:lnTo>
                  <a:lnTo>
                    <a:pt x="372702" y="145413"/>
                  </a:lnTo>
                  <a:lnTo>
                    <a:pt x="379701" y="144355"/>
                  </a:lnTo>
                  <a:lnTo>
                    <a:pt x="391994" y="140922"/>
                  </a:lnTo>
                  <a:lnTo>
                    <a:pt x="400844" y="136574"/>
                  </a:lnTo>
                  <a:lnTo>
                    <a:pt x="404390" y="134230"/>
                  </a:lnTo>
                  <a:lnTo>
                    <a:pt x="406753" y="130126"/>
                  </a:lnTo>
                  <a:lnTo>
                    <a:pt x="408329" y="124851"/>
                  </a:lnTo>
                  <a:lnTo>
                    <a:pt x="409379" y="118794"/>
                  </a:lnTo>
                  <a:lnTo>
                    <a:pt x="409233" y="113063"/>
                  </a:lnTo>
                  <a:lnTo>
                    <a:pt x="408289" y="107548"/>
                  </a:lnTo>
                  <a:lnTo>
                    <a:pt x="406813" y="102179"/>
                  </a:lnTo>
                  <a:lnTo>
                    <a:pt x="402914" y="89439"/>
                  </a:lnTo>
                  <a:lnTo>
                    <a:pt x="400689" y="82486"/>
                  </a:lnTo>
                  <a:lnTo>
                    <a:pt x="397512" y="75311"/>
                  </a:lnTo>
                  <a:lnTo>
                    <a:pt x="393702" y="67987"/>
                  </a:lnTo>
                  <a:lnTo>
                    <a:pt x="389468" y="60565"/>
                  </a:lnTo>
                  <a:lnTo>
                    <a:pt x="384952" y="53923"/>
                  </a:lnTo>
                  <a:lnTo>
                    <a:pt x="380248" y="47802"/>
                  </a:lnTo>
                  <a:lnTo>
                    <a:pt x="375419" y="42028"/>
                  </a:lnTo>
                  <a:lnTo>
                    <a:pt x="370506" y="36486"/>
                  </a:lnTo>
                  <a:lnTo>
                    <a:pt x="360532" y="25811"/>
                  </a:lnTo>
                  <a:lnTo>
                    <a:pt x="355500" y="21441"/>
                  </a:lnTo>
                  <a:lnTo>
                    <a:pt x="350454" y="17681"/>
                  </a:lnTo>
                  <a:lnTo>
                    <a:pt x="345396" y="14327"/>
                  </a:lnTo>
                  <a:lnTo>
                    <a:pt x="341178" y="11244"/>
                  </a:lnTo>
                  <a:lnTo>
                    <a:pt x="337518" y="8343"/>
                  </a:lnTo>
                  <a:lnTo>
                    <a:pt x="3276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MARTInkAnnotation461"/>
            <p:cNvSpPr/>
            <p:nvPr/>
          </p:nvSpPr>
          <p:spPr>
            <a:xfrm>
              <a:off x="6126480" y="3596040"/>
              <a:ext cx="716040" cy="151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16281" h="15232">
                  <a:moveTo>
                    <a:pt x="0" y="15231"/>
                  </a:moveTo>
                  <a:lnTo>
                    <a:pt x="12136" y="15231"/>
                  </a:lnTo>
                  <a:lnTo>
                    <a:pt x="18251" y="14384"/>
                  </a:lnTo>
                  <a:lnTo>
                    <a:pt x="24867" y="12974"/>
                  </a:lnTo>
                  <a:lnTo>
                    <a:pt x="31817" y="11186"/>
                  </a:lnTo>
                  <a:lnTo>
                    <a:pt x="38993" y="9994"/>
                  </a:lnTo>
                  <a:lnTo>
                    <a:pt x="46314" y="9200"/>
                  </a:lnTo>
                  <a:lnTo>
                    <a:pt x="53736" y="8670"/>
                  </a:lnTo>
                  <a:lnTo>
                    <a:pt x="64611" y="8317"/>
                  </a:lnTo>
                  <a:lnTo>
                    <a:pt x="92499" y="7925"/>
                  </a:lnTo>
                  <a:lnTo>
                    <a:pt x="108232" y="6974"/>
                  </a:lnTo>
                  <a:lnTo>
                    <a:pt x="124649" y="5493"/>
                  </a:lnTo>
                  <a:lnTo>
                    <a:pt x="141519" y="3659"/>
                  </a:lnTo>
                  <a:lnTo>
                    <a:pt x="160386" y="2436"/>
                  </a:lnTo>
                  <a:lnTo>
                    <a:pt x="180584" y="1621"/>
                  </a:lnTo>
                  <a:lnTo>
                    <a:pt x="224193" y="716"/>
                  </a:lnTo>
                  <a:lnTo>
                    <a:pt x="501952" y="0"/>
                  </a:lnTo>
                  <a:lnTo>
                    <a:pt x="527674" y="843"/>
                  </a:lnTo>
                  <a:lnTo>
                    <a:pt x="552443" y="2253"/>
                  </a:lnTo>
                  <a:lnTo>
                    <a:pt x="576575" y="4039"/>
                  </a:lnTo>
                  <a:lnTo>
                    <a:pt x="599437" y="5230"/>
                  </a:lnTo>
                  <a:lnTo>
                    <a:pt x="642901" y="6553"/>
                  </a:lnTo>
                  <a:lnTo>
                    <a:pt x="660587" y="7752"/>
                  </a:lnTo>
                  <a:lnTo>
                    <a:pt x="675764" y="9399"/>
                  </a:lnTo>
                  <a:lnTo>
                    <a:pt x="716280" y="1523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MARTInkAnnotation462"/>
            <p:cNvSpPr/>
            <p:nvPr/>
          </p:nvSpPr>
          <p:spPr>
            <a:xfrm>
              <a:off x="5006160" y="3672360"/>
              <a:ext cx="586440" cy="378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6740" h="38101">
                  <a:moveTo>
                    <a:pt x="0" y="38100"/>
                  </a:moveTo>
                  <a:lnTo>
                    <a:pt x="8090" y="34055"/>
                  </a:lnTo>
                  <a:lnTo>
                    <a:pt x="13013" y="32864"/>
                  </a:lnTo>
                  <a:lnTo>
                    <a:pt x="18836" y="32069"/>
                  </a:lnTo>
                  <a:lnTo>
                    <a:pt x="36907" y="30951"/>
                  </a:lnTo>
                  <a:lnTo>
                    <a:pt x="50269" y="30689"/>
                  </a:lnTo>
                  <a:lnTo>
                    <a:pt x="70319" y="30573"/>
                  </a:lnTo>
                  <a:lnTo>
                    <a:pt x="83286" y="29695"/>
                  </a:lnTo>
                  <a:lnTo>
                    <a:pt x="97857" y="28264"/>
                  </a:lnTo>
                  <a:lnTo>
                    <a:pt x="167872" y="19882"/>
                  </a:lnTo>
                  <a:lnTo>
                    <a:pt x="188114" y="18335"/>
                  </a:lnTo>
                  <a:lnTo>
                    <a:pt x="209229" y="17303"/>
                  </a:lnTo>
                  <a:lnTo>
                    <a:pt x="230926" y="16616"/>
                  </a:lnTo>
                  <a:lnTo>
                    <a:pt x="253857" y="15310"/>
                  </a:lnTo>
                  <a:lnTo>
                    <a:pt x="301914" y="11602"/>
                  </a:lnTo>
                  <a:lnTo>
                    <a:pt x="372524" y="4755"/>
                  </a:lnTo>
                  <a:lnTo>
                    <a:pt x="397362" y="3170"/>
                  </a:lnTo>
                  <a:lnTo>
                    <a:pt x="423235" y="2114"/>
                  </a:lnTo>
                  <a:lnTo>
                    <a:pt x="507405" y="418"/>
                  </a:lnTo>
                  <a:lnTo>
                    <a:pt x="5867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MARTInkAnnotation463"/>
            <p:cNvSpPr/>
            <p:nvPr/>
          </p:nvSpPr>
          <p:spPr>
            <a:xfrm>
              <a:off x="4907160" y="38779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MARTInkAnnotation464"/>
            <p:cNvSpPr/>
            <p:nvPr/>
          </p:nvSpPr>
          <p:spPr>
            <a:xfrm>
              <a:off x="5167800" y="3801600"/>
              <a:ext cx="280080" cy="1904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80401" h="190501">
                  <a:moveTo>
                    <a:pt x="67041" y="0"/>
                  </a:moveTo>
                  <a:lnTo>
                    <a:pt x="67041" y="4045"/>
                  </a:lnTo>
                  <a:lnTo>
                    <a:pt x="66194" y="6083"/>
                  </a:lnTo>
                  <a:lnTo>
                    <a:pt x="62995" y="10606"/>
                  </a:lnTo>
                  <a:lnTo>
                    <a:pt x="60479" y="13867"/>
                  </a:lnTo>
                  <a:lnTo>
                    <a:pt x="57633" y="19146"/>
                  </a:lnTo>
                  <a:lnTo>
                    <a:pt x="55689" y="22924"/>
                  </a:lnTo>
                  <a:lnTo>
                    <a:pt x="52699" y="27983"/>
                  </a:lnTo>
                  <a:lnTo>
                    <a:pt x="44862" y="40377"/>
                  </a:lnTo>
                  <a:lnTo>
                    <a:pt x="30929" y="61635"/>
                  </a:lnTo>
                  <a:lnTo>
                    <a:pt x="26880" y="69030"/>
                  </a:lnTo>
                  <a:lnTo>
                    <a:pt x="23333" y="76500"/>
                  </a:lnTo>
                  <a:lnTo>
                    <a:pt x="20122" y="84020"/>
                  </a:lnTo>
                  <a:lnTo>
                    <a:pt x="17135" y="91573"/>
                  </a:lnTo>
                  <a:lnTo>
                    <a:pt x="11558" y="106739"/>
                  </a:lnTo>
                  <a:lnTo>
                    <a:pt x="3658" y="129558"/>
                  </a:lnTo>
                  <a:lnTo>
                    <a:pt x="1926" y="136325"/>
                  </a:lnTo>
                  <a:lnTo>
                    <a:pt x="770" y="142530"/>
                  </a:lnTo>
                  <a:lnTo>
                    <a:pt x="0" y="148360"/>
                  </a:lnTo>
                  <a:lnTo>
                    <a:pt x="1180" y="153940"/>
                  </a:lnTo>
                  <a:lnTo>
                    <a:pt x="3660" y="159354"/>
                  </a:lnTo>
                  <a:lnTo>
                    <a:pt x="7007" y="164656"/>
                  </a:lnTo>
                  <a:lnTo>
                    <a:pt x="10931" y="169038"/>
                  </a:lnTo>
                  <a:lnTo>
                    <a:pt x="15241" y="172805"/>
                  </a:lnTo>
                  <a:lnTo>
                    <a:pt x="19807" y="176163"/>
                  </a:lnTo>
                  <a:lnTo>
                    <a:pt x="26238" y="178402"/>
                  </a:lnTo>
                  <a:lnTo>
                    <a:pt x="33912" y="179895"/>
                  </a:lnTo>
                  <a:lnTo>
                    <a:pt x="42415" y="180890"/>
                  </a:lnTo>
                  <a:lnTo>
                    <a:pt x="51470" y="180707"/>
                  </a:lnTo>
                  <a:lnTo>
                    <a:pt x="60893" y="179738"/>
                  </a:lnTo>
                  <a:lnTo>
                    <a:pt x="70562" y="178245"/>
                  </a:lnTo>
                  <a:lnTo>
                    <a:pt x="80395" y="175557"/>
                  </a:lnTo>
                  <a:lnTo>
                    <a:pt x="90337" y="172072"/>
                  </a:lnTo>
                  <a:lnTo>
                    <a:pt x="134672" y="154311"/>
                  </a:lnTo>
                  <a:lnTo>
                    <a:pt x="145994" y="149440"/>
                  </a:lnTo>
                  <a:lnTo>
                    <a:pt x="167606" y="139514"/>
                  </a:lnTo>
                  <a:lnTo>
                    <a:pt x="177264" y="134496"/>
                  </a:lnTo>
                  <a:lnTo>
                    <a:pt x="186243" y="129457"/>
                  </a:lnTo>
                  <a:lnTo>
                    <a:pt x="194769" y="124405"/>
                  </a:lnTo>
                  <a:lnTo>
                    <a:pt x="201299" y="119343"/>
                  </a:lnTo>
                  <a:lnTo>
                    <a:pt x="206500" y="114276"/>
                  </a:lnTo>
                  <a:lnTo>
                    <a:pt x="210813" y="109204"/>
                  </a:lnTo>
                  <a:lnTo>
                    <a:pt x="213689" y="104976"/>
                  </a:lnTo>
                  <a:lnTo>
                    <a:pt x="215606" y="101311"/>
                  </a:lnTo>
                  <a:lnTo>
                    <a:pt x="216884" y="98021"/>
                  </a:lnTo>
                  <a:lnTo>
                    <a:pt x="218304" y="92107"/>
                  </a:lnTo>
                  <a:lnTo>
                    <a:pt x="218683" y="89345"/>
                  </a:lnTo>
                  <a:lnTo>
                    <a:pt x="218088" y="86657"/>
                  </a:lnTo>
                  <a:lnTo>
                    <a:pt x="215171" y="81412"/>
                  </a:lnTo>
                  <a:lnTo>
                    <a:pt x="212360" y="79675"/>
                  </a:lnTo>
                  <a:lnTo>
                    <a:pt x="204722" y="77744"/>
                  </a:lnTo>
                  <a:lnTo>
                    <a:pt x="200315" y="78076"/>
                  </a:lnTo>
                  <a:lnTo>
                    <a:pt x="195684" y="79144"/>
                  </a:lnTo>
                  <a:lnTo>
                    <a:pt x="190903" y="80703"/>
                  </a:lnTo>
                  <a:lnTo>
                    <a:pt x="186022" y="82589"/>
                  </a:lnTo>
                  <a:lnTo>
                    <a:pt x="181074" y="84692"/>
                  </a:lnTo>
                  <a:lnTo>
                    <a:pt x="171062" y="89287"/>
                  </a:lnTo>
                  <a:lnTo>
                    <a:pt x="160968" y="94152"/>
                  </a:lnTo>
                  <a:lnTo>
                    <a:pt x="156752" y="97482"/>
                  </a:lnTo>
                  <a:lnTo>
                    <a:pt x="153094" y="101395"/>
                  </a:lnTo>
                  <a:lnTo>
                    <a:pt x="149810" y="105697"/>
                  </a:lnTo>
                  <a:lnTo>
                    <a:pt x="147620" y="110258"/>
                  </a:lnTo>
                  <a:lnTo>
                    <a:pt x="146160" y="114992"/>
                  </a:lnTo>
                  <a:lnTo>
                    <a:pt x="145187" y="119841"/>
                  </a:lnTo>
                  <a:lnTo>
                    <a:pt x="145385" y="124768"/>
                  </a:lnTo>
                  <a:lnTo>
                    <a:pt x="146363" y="129745"/>
                  </a:lnTo>
                  <a:lnTo>
                    <a:pt x="147862" y="134757"/>
                  </a:lnTo>
                  <a:lnTo>
                    <a:pt x="149708" y="139791"/>
                  </a:lnTo>
                  <a:lnTo>
                    <a:pt x="151785" y="144841"/>
                  </a:lnTo>
                  <a:lnTo>
                    <a:pt x="154017" y="149901"/>
                  </a:lnTo>
                  <a:lnTo>
                    <a:pt x="158891" y="154967"/>
                  </a:lnTo>
                  <a:lnTo>
                    <a:pt x="165528" y="160038"/>
                  </a:lnTo>
                  <a:lnTo>
                    <a:pt x="173338" y="165112"/>
                  </a:lnTo>
                  <a:lnTo>
                    <a:pt x="181932" y="169342"/>
                  </a:lnTo>
                  <a:lnTo>
                    <a:pt x="191048" y="173008"/>
                  </a:lnTo>
                  <a:lnTo>
                    <a:pt x="200513" y="176299"/>
                  </a:lnTo>
                  <a:lnTo>
                    <a:pt x="211055" y="179339"/>
                  </a:lnTo>
                  <a:lnTo>
                    <a:pt x="222317" y="182213"/>
                  </a:lnTo>
                  <a:lnTo>
                    <a:pt x="234058" y="184975"/>
                  </a:lnTo>
                  <a:lnTo>
                    <a:pt x="244425" y="186817"/>
                  </a:lnTo>
                  <a:lnTo>
                    <a:pt x="253877" y="188045"/>
                  </a:lnTo>
                  <a:lnTo>
                    <a:pt x="28040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465"/>
            <p:cNvSpPr/>
            <p:nvPr/>
          </p:nvSpPr>
          <p:spPr>
            <a:xfrm>
              <a:off x="6172200" y="378648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2" h="7621">
                  <a:moveTo>
                    <a:pt x="0" y="7620"/>
                  </a:moveTo>
                  <a:lnTo>
                    <a:pt x="79463" y="7620"/>
                  </a:lnTo>
                  <a:lnTo>
                    <a:pt x="90229" y="6773"/>
                  </a:lnTo>
                  <a:lnTo>
                    <a:pt x="101639" y="5363"/>
                  </a:lnTo>
                  <a:lnTo>
                    <a:pt x="113480" y="3575"/>
                  </a:lnTo>
                  <a:lnTo>
                    <a:pt x="125607" y="2383"/>
                  </a:lnTo>
                  <a:lnTo>
                    <a:pt x="137925" y="1589"/>
                  </a:lnTo>
                  <a:lnTo>
                    <a:pt x="160360" y="706"/>
                  </a:lnTo>
                  <a:lnTo>
                    <a:pt x="182511" y="209"/>
                  </a:lnTo>
                  <a:lnTo>
                    <a:pt x="20574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466"/>
            <p:cNvSpPr/>
            <p:nvPr/>
          </p:nvSpPr>
          <p:spPr>
            <a:xfrm>
              <a:off x="6473880" y="3718080"/>
              <a:ext cx="201240" cy="167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01275" h="167469">
                  <a:moveTo>
                    <a:pt x="79354" y="0"/>
                  </a:moveTo>
                  <a:lnTo>
                    <a:pt x="72793" y="0"/>
                  </a:lnTo>
                  <a:lnTo>
                    <a:pt x="72440" y="847"/>
                  </a:lnTo>
                  <a:lnTo>
                    <a:pt x="72047" y="4045"/>
                  </a:lnTo>
                  <a:lnTo>
                    <a:pt x="71096" y="5237"/>
                  </a:lnTo>
                  <a:lnTo>
                    <a:pt x="69615" y="6031"/>
                  </a:lnTo>
                  <a:lnTo>
                    <a:pt x="67782" y="6561"/>
                  </a:lnTo>
                  <a:lnTo>
                    <a:pt x="64866" y="8607"/>
                  </a:lnTo>
                  <a:lnTo>
                    <a:pt x="61229" y="11665"/>
                  </a:lnTo>
                  <a:lnTo>
                    <a:pt x="57110" y="15397"/>
                  </a:lnTo>
                  <a:lnTo>
                    <a:pt x="48019" y="24059"/>
                  </a:lnTo>
                  <a:lnTo>
                    <a:pt x="43224" y="28739"/>
                  </a:lnTo>
                  <a:lnTo>
                    <a:pt x="39180" y="33552"/>
                  </a:lnTo>
                  <a:lnTo>
                    <a:pt x="35638" y="38455"/>
                  </a:lnTo>
                  <a:lnTo>
                    <a:pt x="19825" y="62536"/>
                  </a:lnTo>
                  <a:lnTo>
                    <a:pt x="15961" y="68784"/>
                  </a:lnTo>
                  <a:lnTo>
                    <a:pt x="12539" y="74643"/>
                  </a:lnTo>
                  <a:lnTo>
                    <a:pt x="9411" y="80242"/>
                  </a:lnTo>
                  <a:lnTo>
                    <a:pt x="6478" y="86514"/>
                  </a:lnTo>
                  <a:lnTo>
                    <a:pt x="3677" y="93236"/>
                  </a:lnTo>
                  <a:lnTo>
                    <a:pt x="963" y="100258"/>
                  </a:lnTo>
                  <a:lnTo>
                    <a:pt x="0" y="106632"/>
                  </a:lnTo>
                  <a:lnTo>
                    <a:pt x="205" y="112575"/>
                  </a:lnTo>
                  <a:lnTo>
                    <a:pt x="1187" y="118229"/>
                  </a:lnTo>
                  <a:lnTo>
                    <a:pt x="3537" y="123693"/>
                  </a:lnTo>
                  <a:lnTo>
                    <a:pt x="6795" y="129029"/>
                  </a:lnTo>
                  <a:lnTo>
                    <a:pt x="10661" y="134279"/>
                  </a:lnTo>
                  <a:lnTo>
                    <a:pt x="15779" y="139473"/>
                  </a:lnTo>
                  <a:lnTo>
                    <a:pt x="21731" y="144629"/>
                  </a:lnTo>
                  <a:lnTo>
                    <a:pt x="28239" y="149759"/>
                  </a:lnTo>
                  <a:lnTo>
                    <a:pt x="35117" y="154026"/>
                  </a:lnTo>
                  <a:lnTo>
                    <a:pt x="42243" y="157717"/>
                  </a:lnTo>
                  <a:lnTo>
                    <a:pt x="49533" y="161025"/>
                  </a:lnTo>
                  <a:lnTo>
                    <a:pt x="57780" y="163230"/>
                  </a:lnTo>
                  <a:lnTo>
                    <a:pt x="66665" y="164700"/>
                  </a:lnTo>
                  <a:lnTo>
                    <a:pt x="75975" y="165680"/>
                  </a:lnTo>
                  <a:lnTo>
                    <a:pt x="85568" y="166333"/>
                  </a:lnTo>
                  <a:lnTo>
                    <a:pt x="95350" y="166769"/>
                  </a:lnTo>
                  <a:lnTo>
                    <a:pt x="115250" y="167253"/>
                  </a:lnTo>
                  <a:lnTo>
                    <a:pt x="135384" y="167468"/>
                  </a:lnTo>
                  <a:lnTo>
                    <a:pt x="144647" y="166679"/>
                  </a:lnTo>
                  <a:lnTo>
                    <a:pt x="153363" y="165306"/>
                  </a:lnTo>
                  <a:lnTo>
                    <a:pt x="161713" y="163544"/>
                  </a:lnTo>
                  <a:lnTo>
                    <a:pt x="168974" y="160676"/>
                  </a:lnTo>
                  <a:lnTo>
                    <a:pt x="175507" y="157070"/>
                  </a:lnTo>
                  <a:lnTo>
                    <a:pt x="181556" y="152974"/>
                  </a:lnTo>
                  <a:lnTo>
                    <a:pt x="186435" y="148550"/>
                  </a:lnTo>
                  <a:lnTo>
                    <a:pt x="190536" y="143906"/>
                  </a:lnTo>
                  <a:lnTo>
                    <a:pt x="194115" y="139118"/>
                  </a:lnTo>
                  <a:lnTo>
                    <a:pt x="196502" y="134232"/>
                  </a:lnTo>
                  <a:lnTo>
                    <a:pt x="198092" y="129281"/>
                  </a:lnTo>
                  <a:lnTo>
                    <a:pt x="199153" y="124288"/>
                  </a:lnTo>
                  <a:lnTo>
                    <a:pt x="199013" y="119265"/>
                  </a:lnTo>
                  <a:lnTo>
                    <a:pt x="198074" y="114224"/>
                  </a:lnTo>
                  <a:lnTo>
                    <a:pt x="196601" y="109169"/>
                  </a:lnTo>
                  <a:lnTo>
                    <a:pt x="194772" y="104953"/>
                  </a:lnTo>
                  <a:lnTo>
                    <a:pt x="192706" y="101295"/>
                  </a:lnTo>
                  <a:lnTo>
                    <a:pt x="190481" y="98011"/>
                  </a:lnTo>
                  <a:lnTo>
                    <a:pt x="187306" y="94974"/>
                  </a:lnTo>
                  <a:lnTo>
                    <a:pt x="183495" y="92102"/>
                  </a:lnTo>
                  <a:lnTo>
                    <a:pt x="179262" y="89342"/>
                  </a:lnTo>
                  <a:lnTo>
                    <a:pt x="174746" y="86654"/>
                  </a:lnTo>
                  <a:lnTo>
                    <a:pt x="170041" y="84016"/>
                  </a:lnTo>
                  <a:lnTo>
                    <a:pt x="165213" y="81411"/>
                  </a:lnTo>
                  <a:lnTo>
                    <a:pt x="159453" y="79674"/>
                  </a:lnTo>
                  <a:lnTo>
                    <a:pt x="153074" y="78516"/>
                  </a:lnTo>
                  <a:lnTo>
                    <a:pt x="146280" y="77744"/>
                  </a:lnTo>
                  <a:lnTo>
                    <a:pt x="140905" y="77229"/>
                  </a:lnTo>
                  <a:lnTo>
                    <a:pt x="136475" y="76887"/>
                  </a:lnTo>
                  <a:lnTo>
                    <a:pt x="132674" y="76658"/>
                  </a:lnTo>
                  <a:lnTo>
                    <a:pt x="129294" y="78199"/>
                  </a:lnTo>
                  <a:lnTo>
                    <a:pt x="126195" y="80919"/>
                  </a:lnTo>
                  <a:lnTo>
                    <a:pt x="123281" y="84426"/>
                  </a:lnTo>
                  <a:lnTo>
                    <a:pt x="120492" y="87611"/>
                  </a:lnTo>
                  <a:lnTo>
                    <a:pt x="117786" y="90581"/>
                  </a:lnTo>
                  <a:lnTo>
                    <a:pt x="115136" y="93407"/>
                  </a:lnTo>
                  <a:lnTo>
                    <a:pt x="114215" y="96138"/>
                  </a:lnTo>
                  <a:lnTo>
                    <a:pt x="114448" y="98805"/>
                  </a:lnTo>
                  <a:lnTo>
                    <a:pt x="115450" y="101430"/>
                  </a:lnTo>
                  <a:lnTo>
                    <a:pt x="116965" y="104874"/>
                  </a:lnTo>
                  <a:lnTo>
                    <a:pt x="120905" y="113215"/>
                  </a:lnTo>
                  <a:lnTo>
                    <a:pt x="124835" y="117810"/>
                  </a:lnTo>
                  <a:lnTo>
                    <a:pt x="129995" y="122566"/>
                  </a:lnTo>
                  <a:lnTo>
                    <a:pt x="135975" y="127431"/>
                  </a:lnTo>
                  <a:lnTo>
                    <a:pt x="142501" y="132367"/>
                  </a:lnTo>
                  <a:lnTo>
                    <a:pt x="156525" y="142368"/>
                  </a:lnTo>
                  <a:lnTo>
                    <a:pt x="162976" y="145712"/>
                  </a:lnTo>
                  <a:lnTo>
                    <a:pt x="168969" y="147942"/>
                  </a:lnTo>
                  <a:lnTo>
                    <a:pt x="174657" y="149428"/>
                  </a:lnTo>
                  <a:lnTo>
                    <a:pt x="180142" y="151265"/>
                  </a:lnTo>
                  <a:lnTo>
                    <a:pt x="185493" y="153337"/>
                  </a:lnTo>
                  <a:lnTo>
                    <a:pt x="201274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467"/>
            <p:cNvSpPr/>
            <p:nvPr/>
          </p:nvSpPr>
          <p:spPr>
            <a:xfrm>
              <a:off x="4876560" y="4198320"/>
              <a:ext cx="200880" cy="250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00896" h="250726">
                  <a:moveTo>
                    <a:pt x="7620" y="37748"/>
                  </a:moveTo>
                  <a:lnTo>
                    <a:pt x="7620" y="33703"/>
                  </a:lnTo>
                  <a:lnTo>
                    <a:pt x="8467" y="32511"/>
                  </a:lnTo>
                  <a:lnTo>
                    <a:pt x="9878" y="31717"/>
                  </a:lnTo>
                  <a:lnTo>
                    <a:pt x="15397" y="29988"/>
                  </a:lnTo>
                  <a:lnTo>
                    <a:pt x="26317" y="26396"/>
                  </a:lnTo>
                  <a:lnTo>
                    <a:pt x="31938" y="24254"/>
                  </a:lnTo>
                  <a:lnTo>
                    <a:pt x="37379" y="21978"/>
                  </a:lnTo>
                  <a:lnTo>
                    <a:pt x="42699" y="19615"/>
                  </a:lnTo>
                  <a:lnTo>
                    <a:pt x="48786" y="17192"/>
                  </a:lnTo>
                  <a:lnTo>
                    <a:pt x="62323" y="12243"/>
                  </a:lnTo>
                  <a:lnTo>
                    <a:pt x="70335" y="10585"/>
                  </a:lnTo>
                  <a:lnTo>
                    <a:pt x="79063" y="9480"/>
                  </a:lnTo>
                  <a:lnTo>
                    <a:pt x="88269" y="8742"/>
                  </a:lnTo>
                  <a:lnTo>
                    <a:pt x="97793" y="7404"/>
                  </a:lnTo>
                  <a:lnTo>
                    <a:pt x="107528" y="5666"/>
                  </a:lnTo>
                  <a:lnTo>
                    <a:pt x="117406" y="3660"/>
                  </a:lnTo>
                  <a:lnTo>
                    <a:pt x="125683" y="2323"/>
                  </a:lnTo>
                  <a:lnTo>
                    <a:pt x="132896" y="1431"/>
                  </a:lnTo>
                  <a:lnTo>
                    <a:pt x="139397" y="837"/>
                  </a:lnTo>
                  <a:lnTo>
                    <a:pt x="145424" y="441"/>
                  </a:lnTo>
                  <a:lnTo>
                    <a:pt x="151137" y="176"/>
                  </a:lnTo>
                  <a:lnTo>
                    <a:pt x="156638" y="0"/>
                  </a:lnTo>
                  <a:lnTo>
                    <a:pt x="161999" y="729"/>
                  </a:lnTo>
                  <a:lnTo>
                    <a:pt x="167267" y="2062"/>
                  </a:lnTo>
                  <a:lnTo>
                    <a:pt x="172471" y="3797"/>
                  </a:lnTo>
                  <a:lnTo>
                    <a:pt x="176787" y="4954"/>
                  </a:lnTo>
                  <a:lnTo>
                    <a:pt x="180512" y="5726"/>
                  </a:lnTo>
                  <a:lnTo>
                    <a:pt x="183841" y="6240"/>
                  </a:lnTo>
                  <a:lnTo>
                    <a:pt x="185214" y="7429"/>
                  </a:lnTo>
                  <a:lnTo>
                    <a:pt x="185282" y="9069"/>
                  </a:lnTo>
                  <a:lnTo>
                    <a:pt x="184482" y="11009"/>
                  </a:lnTo>
                  <a:lnTo>
                    <a:pt x="179076" y="15422"/>
                  </a:lnTo>
                  <a:lnTo>
                    <a:pt x="175264" y="17784"/>
                  </a:lnTo>
                  <a:lnTo>
                    <a:pt x="171029" y="20205"/>
                  </a:lnTo>
                  <a:lnTo>
                    <a:pt x="161809" y="25153"/>
                  </a:lnTo>
                  <a:lnTo>
                    <a:pt x="156133" y="28505"/>
                  </a:lnTo>
                  <a:lnTo>
                    <a:pt x="143053" y="36744"/>
                  </a:lnTo>
                  <a:lnTo>
                    <a:pt x="136008" y="40465"/>
                  </a:lnTo>
                  <a:lnTo>
                    <a:pt x="128772" y="43793"/>
                  </a:lnTo>
                  <a:lnTo>
                    <a:pt x="121409" y="46858"/>
                  </a:lnTo>
                  <a:lnTo>
                    <a:pt x="113112" y="49748"/>
                  </a:lnTo>
                  <a:lnTo>
                    <a:pt x="104194" y="52521"/>
                  </a:lnTo>
                  <a:lnTo>
                    <a:pt x="94864" y="55217"/>
                  </a:lnTo>
                  <a:lnTo>
                    <a:pt x="86949" y="57861"/>
                  </a:lnTo>
                  <a:lnTo>
                    <a:pt x="79979" y="60470"/>
                  </a:lnTo>
                  <a:lnTo>
                    <a:pt x="73640" y="63056"/>
                  </a:lnTo>
                  <a:lnTo>
                    <a:pt x="67720" y="66473"/>
                  </a:lnTo>
                  <a:lnTo>
                    <a:pt x="62080" y="70445"/>
                  </a:lnTo>
                  <a:lnTo>
                    <a:pt x="56627" y="74786"/>
                  </a:lnTo>
                  <a:lnTo>
                    <a:pt x="50567" y="81867"/>
                  </a:lnTo>
                  <a:lnTo>
                    <a:pt x="47874" y="87836"/>
                  </a:lnTo>
                  <a:lnTo>
                    <a:pt x="46678" y="93312"/>
                  </a:lnTo>
                  <a:lnTo>
                    <a:pt x="47205" y="95957"/>
                  </a:lnTo>
                  <a:lnTo>
                    <a:pt x="50049" y="101154"/>
                  </a:lnTo>
                  <a:lnTo>
                    <a:pt x="52839" y="103725"/>
                  </a:lnTo>
                  <a:lnTo>
                    <a:pt x="56393" y="106286"/>
                  </a:lnTo>
                  <a:lnTo>
                    <a:pt x="60456" y="108840"/>
                  </a:lnTo>
                  <a:lnTo>
                    <a:pt x="65704" y="111390"/>
                  </a:lnTo>
                  <a:lnTo>
                    <a:pt x="71742" y="113935"/>
                  </a:lnTo>
                  <a:lnTo>
                    <a:pt x="78308" y="116480"/>
                  </a:lnTo>
                  <a:lnTo>
                    <a:pt x="92377" y="121564"/>
                  </a:lnTo>
                  <a:lnTo>
                    <a:pt x="99685" y="124106"/>
                  </a:lnTo>
                  <a:lnTo>
                    <a:pt x="107943" y="127493"/>
                  </a:lnTo>
                  <a:lnTo>
                    <a:pt x="116836" y="131445"/>
                  </a:lnTo>
                  <a:lnTo>
                    <a:pt x="126150" y="135773"/>
                  </a:lnTo>
                  <a:lnTo>
                    <a:pt x="134900" y="139505"/>
                  </a:lnTo>
                  <a:lnTo>
                    <a:pt x="143274" y="142839"/>
                  </a:lnTo>
                  <a:lnTo>
                    <a:pt x="151396" y="145909"/>
                  </a:lnTo>
                  <a:lnTo>
                    <a:pt x="159351" y="149648"/>
                  </a:lnTo>
                  <a:lnTo>
                    <a:pt x="167194" y="153835"/>
                  </a:lnTo>
                  <a:lnTo>
                    <a:pt x="174962" y="158319"/>
                  </a:lnTo>
                  <a:lnTo>
                    <a:pt x="180989" y="163002"/>
                  </a:lnTo>
                  <a:lnTo>
                    <a:pt x="185852" y="167818"/>
                  </a:lnTo>
                  <a:lnTo>
                    <a:pt x="189942" y="172721"/>
                  </a:lnTo>
                  <a:lnTo>
                    <a:pt x="193515" y="177683"/>
                  </a:lnTo>
                  <a:lnTo>
                    <a:pt x="196743" y="182685"/>
                  </a:lnTo>
                  <a:lnTo>
                    <a:pt x="199742" y="187713"/>
                  </a:lnTo>
                  <a:lnTo>
                    <a:pt x="200895" y="191911"/>
                  </a:lnTo>
                  <a:lnTo>
                    <a:pt x="200816" y="195557"/>
                  </a:lnTo>
                  <a:lnTo>
                    <a:pt x="198472" y="202712"/>
                  </a:lnTo>
                  <a:lnTo>
                    <a:pt x="196661" y="206990"/>
                  </a:lnTo>
                  <a:lnTo>
                    <a:pt x="194608" y="211536"/>
                  </a:lnTo>
                  <a:lnTo>
                    <a:pt x="190698" y="215413"/>
                  </a:lnTo>
                  <a:lnTo>
                    <a:pt x="185552" y="218845"/>
                  </a:lnTo>
                  <a:lnTo>
                    <a:pt x="179582" y="221979"/>
                  </a:lnTo>
                  <a:lnTo>
                    <a:pt x="173062" y="225762"/>
                  </a:lnTo>
                  <a:lnTo>
                    <a:pt x="159043" y="234481"/>
                  </a:lnTo>
                  <a:lnTo>
                    <a:pt x="150902" y="237483"/>
                  </a:lnTo>
                  <a:lnTo>
                    <a:pt x="142089" y="239485"/>
                  </a:lnTo>
                  <a:lnTo>
                    <a:pt x="132825" y="240819"/>
                  </a:lnTo>
                  <a:lnTo>
                    <a:pt x="124110" y="242555"/>
                  </a:lnTo>
                  <a:lnTo>
                    <a:pt x="115760" y="244559"/>
                  </a:lnTo>
                  <a:lnTo>
                    <a:pt x="107654" y="246742"/>
                  </a:lnTo>
                  <a:lnTo>
                    <a:pt x="98863" y="248197"/>
                  </a:lnTo>
                  <a:lnTo>
                    <a:pt x="89615" y="249168"/>
                  </a:lnTo>
                  <a:lnTo>
                    <a:pt x="80063" y="249815"/>
                  </a:lnTo>
                  <a:lnTo>
                    <a:pt x="71156" y="250246"/>
                  </a:lnTo>
                  <a:lnTo>
                    <a:pt x="54485" y="250725"/>
                  </a:lnTo>
                  <a:lnTo>
                    <a:pt x="47330" y="250006"/>
                  </a:lnTo>
                  <a:lnTo>
                    <a:pt x="40867" y="248680"/>
                  </a:lnTo>
                  <a:lnTo>
                    <a:pt x="34865" y="246949"/>
                  </a:lnTo>
                  <a:lnTo>
                    <a:pt x="21422" y="242769"/>
                  </a:lnTo>
                  <a:lnTo>
                    <a:pt x="0" y="23586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468"/>
            <p:cNvSpPr/>
            <p:nvPr/>
          </p:nvSpPr>
          <p:spPr>
            <a:xfrm>
              <a:off x="5113440" y="4243680"/>
              <a:ext cx="204480" cy="1821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04484" h="182430">
                  <a:moveTo>
                    <a:pt x="60607" y="0"/>
                  </a:moveTo>
                  <a:lnTo>
                    <a:pt x="54046" y="6561"/>
                  </a:lnTo>
                  <a:lnTo>
                    <a:pt x="48942" y="7149"/>
                  </a:lnTo>
                  <a:lnTo>
                    <a:pt x="45211" y="7306"/>
                  </a:lnTo>
                  <a:lnTo>
                    <a:pt x="41876" y="8257"/>
                  </a:lnTo>
                  <a:lnTo>
                    <a:pt x="35913" y="11572"/>
                  </a:lnTo>
                  <a:lnTo>
                    <a:pt x="30441" y="13610"/>
                  </a:lnTo>
                  <a:lnTo>
                    <a:pt x="27796" y="14153"/>
                  </a:lnTo>
                  <a:lnTo>
                    <a:pt x="22600" y="17015"/>
                  </a:lnTo>
                  <a:lnTo>
                    <a:pt x="20029" y="18963"/>
                  </a:lnTo>
                  <a:lnTo>
                    <a:pt x="14915" y="21128"/>
                  </a:lnTo>
                  <a:lnTo>
                    <a:pt x="8778" y="22518"/>
                  </a:lnTo>
                  <a:lnTo>
                    <a:pt x="3670" y="22759"/>
                  </a:lnTo>
                  <a:lnTo>
                    <a:pt x="2329" y="23639"/>
                  </a:lnTo>
                  <a:lnTo>
                    <a:pt x="1435" y="25073"/>
                  </a:lnTo>
                  <a:lnTo>
                    <a:pt x="0" y="29412"/>
                  </a:lnTo>
                  <a:lnTo>
                    <a:pt x="730" y="29768"/>
                  </a:lnTo>
                  <a:lnTo>
                    <a:pt x="5801" y="30269"/>
                  </a:lnTo>
                  <a:lnTo>
                    <a:pt x="10284" y="30387"/>
                  </a:lnTo>
                  <a:lnTo>
                    <a:pt x="12665" y="31264"/>
                  </a:lnTo>
                  <a:lnTo>
                    <a:pt x="17568" y="34498"/>
                  </a:lnTo>
                  <a:lnTo>
                    <a:pt x="22570" y="36499"/>
                  </a:lnTo>
                  <a:lnTo>
                    <a:pt x="25089" y="37033"/>
                  </a:lnTo>
                  <a:lnTo>
                    <a:pt x="29308" y="37389"/>
                  </a:lnTo>
                  <a:lnTo>
                    <a:pt x="34661" y="37626"/>
                  </a:lnTo>
                  <a:lnTo>
                    <a:pt x="40771" y="37784"/>
                  </a:lnTo>
                  <a:lnTo>
                    <a:pt x="46536" y="38736"/>
                  </a:lnTo>
                  <a:lnTo>
                    <a:pt x="52073" y="40217"/>
                  </a:lnTo>
                  <a:lnTo>
                    <a:pt x="57458" y="42051"/>
                  </a:lnTo>
                  <a:lnTo>
                    <a:pt x="63588" y="43274"/>
                  </a:lnTo>
                  <a:lnTo>
                    <a:pt x="70214" y="44089"/>
                  </a:lnTo>
                  <a:lnTo>
                    <a:pt x="77171" y="44633"/>
                  </a:lnTo>
                  <a:lnTo>
                    <a:pt x="84350" y="45842"/>
                  </a:lnTo>
                  <a:lnTo>
                    <a:pt x="91676" y="47495"/>
                  </a:lnTo>
                  <a:lnTo>
                    <a:pt x="99100" y="49443"/>
                  </a:lnTo>
                  <a:lnTo>
                    <a:pt x="106589" y="52435"/>
                  </a:lnTo>
                  <a:lnTo>
                    <a:pt x="114121" y="56123"/>
                  </a:lnTo>
                  <a:lnTo>
                    <a:pt x="121683" y="60276"/>
                  </a:lnTo>
                  <a:lnTo>
                    <a:pt x="129265" y="63890"/>
                  </a:lnTo>
                  <a:lnTo>
                    <a:pt x="136859" y="67147"/>
                  </a:lnTo>
                  <a:lnTo>
                    <a:pt x="144462" y="70164"/>
                  </a:lnTo>
                  <a:lnTo>
                    <a:pt x="151223" y="73870"/>
                  </a:lnTo>
                  <a:lnTo>
                    <a:pt x="157425" y="78033"/>
                  </a:lnTo>
                  <a:lnTo>
                    <a:pt x="163252" y="82502"/>
                  </a:lnTo>
                  <a:lnTo>
                    <a:pt x="168830" y="87175"/>
                  </a:lnTo>
                  <a:lnTo>
                    <a:pt x="174243" y="91983"/>
                  </a:lnTo>
                  <a:lnTo>
                    <a:pt x="184771" y="101841"/>
                  </a:lnTo>
                  <a:lnTo>
                    <a:pt x="195096" y="111867"/>
                  </a:lnTo>
                  <a:lnTo>
                    <a:pt x="198526" y="116065"/>
                  </a:lnTo>
                  <a:lnTo>
                    <a:pt x="200813" y="119710"/>
                  </a:lnTo>
                  <a:lnTo>
                    <a:pt x="202338" y="122986"/>
                  </a:lnTo>
                  <a:lnTo>
                    <a:pt x="203354" y="127711"/>
                  </a:lnTo>
                  <a:lnTo>
                    <a:pt x="204032" y="133401"/>
                  </a:lnTo>
                  <a:lnTo>
                    <a:pt x="204483" y="139734"/>
                  </a:lnTo>
                  <a:lnTo>
                    <a:pt x="203938" y="144803"/>
                  </a:lnTo>
                  <a:lnTo>
                    <a:pt x="202728" y="149028"/>
                  </a:lnTo>
                  <a:lnTo>
                    <a:pt x="201074" y="152692"/>
                  </a:lnTo>
                  <a:lnTo>
                    <a:pt x="198278" y="155982"/>
                  </a:lnTo>
                  <a:lnTo>
                    <a:pt x="194722" y="159021"/>
                  </a:lnTo>
                  <a:lnTo>
                    <a:pt x="190657" y="161894"/>
                  </a:lnTo>
                  <a:lnTo>
                    <a:pt x="186253" y="164656"/>
                  </a:lnTo>
                  <a:lnTo>
                    <a:pt x="181625" y="167344"/>
                  </a:lnTo>
                  <a:lnTo>
                    <a:pt x="171966" y="172588"/>
                  </a:lnTo>
                  <a:lnTo>
                    <a:pt x="162029" y="177742"/>
                  </a:lnTo>
                  <a:lnTo>
                    <a:pt x="156161" y="179454"/>
                  </a:lnTo>
                  <a:lnTo>
                    <a:pt x="149710" y="180596"/>
                  </a:lnTo>
                  <a:lnTo>
                    <a:pt x="142869" y="181358"/>
                  </a:lnTo>
                  <a:lnTo>
                    <a:pt x="135769" y="181865"/>
                  </a:lnTo>
                  <a:lnTo>
                    <a:pt x="128495" y="182203"/>
                  </a:lnTo>
                  <a:lnTo>
                    <a:pt x="121105" y="182429"/>
                  </a:lnTo>
                  <a:lnTo>
                    <a:pt x="114486" y="181732"/>
                  </a:lnTo>
                  <a:lnTo>
                    <a:pt x="108380" y="180422"/>
                  </a:lnTo>
                  <a:lnTo>
                    <a:pt x="91087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469"/>
            <p:cNvSpPr/>
            <p:nvPr/>
          </p:nvSpPr>
          <p:spPr>
            <a:xfrm>
              <a:off x="5227200" y="41979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470"/>
            <p:cNvSpPr/>
            <p:nvPr/>
          </p:nvSpPr>
          <p:spPr>
            <a:xfrm>
              <a:off x="5234760" y="4137120"/>
              <a:ext cx="419040" cy="518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419100" h="518161">
                  <a:moveTo>
                    <a:pt x="419099" y="0"/>
                  </a:moveTo>
                  <a:lnTo>
                    <a:pt x="419099" y="4045"/>
                  </a:lnTo>
                  <a:lnTo>
                    <a:pt x="417405" y="6084"/>
                  </a:lnTo>
                  <a:lnTo>
                    <a:pt x="408625" y="12998"/>
                  </a:lnTo>
                  <a:lnTo>
                    <a:pt x="407036" y="15438"/>
                  </a:lnTo>
                  <a:lnTo>
                    <a:pt x="402543" y="27435"/>
                  </a:lnTo>
                  <a:lnTo>
                    <a:pt x="400441" y="33530"/>
                  </a:lnTo>
                  <a:lnTo>
                    <a:pt x="391333" y="47076"/>
                  </a:lnTo>
                  <a:lnTo>
                    <a:pt x="379665" y="62409"/>
                  </a:lnTo>
                  <a:lnTo>
                    <a:pt x="374183" y="71240"/>
                  </a:lnTo>
                  <a:lnTo>
                    <a:pt x="368836" y="80513"/>
                  </a:lnTo>
                  <a:lnTo>
                    <a:pt x="362730" y="89235"/>
                  </a:lnTo>
                  <a:lnTo>
                    <a:pt x="356120" y="97591"/>
                  </a:lnTo>
                  <a:lnTo>
                    <a:pt x="349173" y="105700"/>
                  </a:lnTo>
                  <a:lnTo>
                    <a:pt x="342001" y="115340"/>
                  </a:lnTo>
                  <a:lnTo>
                    <a:pt x="334681" y="126000"/>
                  </a:lnTo>
                  <a:lnTo>
                    <a:pt x="327261" y="137340"/>
                  </a:lnTo>
                  <a:lnTo>
                    <a:pt x="318927" y="149133"/>
                  </a:lnTo>
                  <a:lnTo>
                    <a:pt x="300635" y="173526"/>
                  </a:lnTo>
                  <a:lnTo>
                    <a:pt x="241157" y="248991"/>
                  </a:lnTo>
                  <a:lnTo>
                    <a:pt x="230198" y="261668"/>
                  </a:lnTo>
                  <a:lnTo>
                    <a:pt x="218658" y="274352"/>
                  </a:lnTo>
                  <a:lnTo>
                    <a:pt x="194547" y="299734"/>
                  </a:lnTo>
                  <a:lnTo>
                    <a:pt x="169721" y="325127"/>
                  </a:lnTo>
                  <a:lnTo>
                    <a:pt x="158021" y="337825"/>
                  </a:lnTo>
                  <a:lnTo>
                    <a:pt x="146833" y="350523"/>
                  </a:lnTo>
                  <a:lnTo>
                    <a:pt x="135989" y="363222"/>
                  </a:lnTo>
                  <a:lnTo>
                    <a:pt x="125372" y="375075"/>
                  </a:lnTo>
                  <a:lnTo>
                    <a:pt x="104545" y="397276"/>
                  </a:lnTo>
                  <a:lnTo>
                    <a:pt x="73780" y="428815"/>
                  </a:lnTo>
                  <a:lnTo>
                    <a:pt x="64426" y="439123"/>
                  </a:lnTo>
                  <a:lnTo>
                    <a:pt x="55650" y="449382"/>
                  </a:lnTo>
                  <a:lnTo>
                    <a:pt x="47260" y="459608"/>
                  </a:lnTo>
                  <a:lnTo>
                    <a:pt x="39973" y="468119"/>
                  </a:lnTo>
                  <a:lnTo>
                    <a:pt x="27361" y="482091"/>
                  </a:lnTo>
                  <a:lnTo>
                    <a:pt x="14786" y="495432"/>
                  </a:lnTo>
                  <a:lnTo>
                    <a:pt x="8547" y="504108"/>
                  </a:lnTo>
                  <a:lnTo>
                    <a:pt x="0" y="518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471"/>
            <p:cNvSpPr/>
            <p:nvPr/>
          </p:nvSpPr>
          <p:spPr>
            <a:xfrm>
              <a:off x="5364360" y="457164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7620"/>
                  </a:moveTo>
                  <a:lnTo>
                    <a:pt x="21957" y="7620"/>
                  </a:lnTo>
                  <a:lnTo>
                    <a:pt x="27339" y="6774"/>
                  </a:lnTo>
                  <a:lnTo>
                    <a:pt x="33466" y="5362"/>
                  </a:lnTo>
                  <a:lnTo>
                    <a:pt x="40090" y="3575"/>
                  </a:lnTo>
                  <a:lnTo>
                    <a:pt x="47894" y="2384"/>
                  </a:lnTo>
                  <a:lnTo>
                    <a:pt x="56482" y="1589"/>
                  </a:lnTo>
                  <a:lnTo>
                    <a:pt x="65596" y="1059"/>
                  </a:lnTo>
                  <a:lnTo>
                    <a:pt x="87009" y="471"/>
                  </a:lnTo>
                  <a:lnTo>
                    <a:pt x="1676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472"/>
            <p:cNvSpPr/>
            <p:nvPr/>
          </p:nvSpPr>
          <p:spPr>
            <a:xfrm>
              <a:off x="5623920" y="4403880"/>
              <a:ext cx="197640" cy="1980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7667" h="198121">
                  <a:moveTo>
                    <a:pt x="52886" y="0"/>
                  </a:moveTo>
                  <a:lnTo>
                    <a:pt x="52886" y="4045"/>
                  </a:lnTo>
                  <a:lnTo>
                    <a:pt x="52040" y="6084"/>
                  </a:lnTo>
                  <a:lnTo>
                    <a:pt x="48841" y="10606"/>
                  </a:lnTo>
                  <a:lnTo>
                    <a:pt x="47649" y="12998"/>
                  </a:lnTo>
                  <a:lnTo>
                    <a:pt x="46325" y="17912"/>
                  </a:lnTo>
                  <a:lnTo>
                    <a:pt x="45126" y="21255"/>
                  </a:lnTo>
                  <a:lnTo>
                    <a:pt x="43479" y="25177"/>
                  </a:lnTo>
                  <a:lnTo>
                    <a:pt x="41535" y="29484"/>
                  </a:lnTo>
                  <a:lnTo>
                    <a:pt x="38545" y="34050"/>
                  </a:lnTo>
                  <a:lnTo>
                    <a:pt x="34859" y="38787"/>
                  </a:lnTo>
                  <a:lnTo>
                    <a:pt x="30708" y="43637"/>
                  </a:lnTo>
                  <a:lnTo>
                    <a:pt x="27095" y="48565"/>
                  </a:lnTo>
                  <a:lnTo>
                    <a:pt x="23838" y="53543"/>
                  </a:lnTo>
                  <a:lnTo>
                    <a:pt x="20821" y="58556"/>
                  </a:lnTo>
                  <a:lnTo>
                    <a:pt x="17963" y="63591"/>
                  </a:lnTo>
                  <a:lnTo>
                    <a:pt x="12529" y="73700"/>
                  </a:lnTo>
                  <a:lnTo>
                    <a:pt x="9895" y="79614"/>
                  </a:lnTo>
                  <a:lnTo>
                    <a:pt x="7291" y="86096"/>
                  </a:lnTo>
                  <a:lnTo>
                    <a:pt x="4710" y="92957"/>
                  </a:lnTo>
                  <a:lnTo>
                    <a:pt x="2989" y="99225"/>
                  </a:lnTo>
                  <a:lnTo>
                    <a:pt x="1841" y="105097"/>
                  </a:lnTo>
                  <a:lnTo>
                    <a:pt x="1076" y="110705"/>
                  </a:lnTo>
                  <a:lnTo>
                    <a:pt x="566" y="116136"/>
                  </a:lnTo>
                  <a:lnTo>
                    <a:pt x="226" y="121451"/>
                  </a:lnTo>
                  <a:lnTo>
                    <a:pt x="0" y="126687"/>
                  </a:lnTo>
                  <a:lnTo>
                    <a:pt x="1542" y="131872"/>
                  </a:lnTo>
                  <a:lnTo>
                    <a:pt x="4263" y="137021"/>
                  </a:lnTo>
                  <a:lnTo>
                    <a:pt x="7771" y="142148"/>
                  </a:lnTo>
                  <a:lnTo>
                    <a:pt x="11803" y="147259"/>
                  </a:lnTo>
                  <a:lnTo>
                    <a:pt x="16184" y="152359"/>
                  </a:lnTo>
                  <a:lnTo>
                    <a:pt x="20798" y="157453"/>
                  </a:lnTo>
                  <a:lnTo>
                    <a:pt x="25568" y="160849"/>
                  </a:lnTo>
                  <a:lnTo>
                    <a:pt x="30440" y="163113"/>
                  </a:lnTo>
                  <a:lnTo>
                    <a:pt x="35382" y="164622"/>
                  </a:lnTo>
                  <a:lnTo>
                    <a:pt x="49904" y="168557"/>
                  </a:lnTo>
                  <a:lnTo>
                    <a:pt x="58518" y="170791"/>
                  </a:lnTo>
                  <a:lnTo>
                    <a:pt x="66801" y="171434"/>
                  </a:lnTo>
                  <a:lnTo>
                    <a:pt x="74862" y="171017"/>
                  </a:lnTo>
                  <a:lnTo>
                    <a:pt x="82778" y="169891"/>
                  </a:lnTo>
                  <a:lnTo>
                    <a:pt x="90593" y="169141"/>
                  </a:lnTo>
                  <a:lnTo>
                    <a:pt x="98344" y="168641"/>
                  </a:lnTo>
                  <a:lnTo>
                    <a:pt x="106052" y="168307"/>
                  </a:lnTo>
                  <a:lnTo>
                    <a:pt x="113730" y="167238"/>
                  </a:lnTo>
                  <a:lnTo>
                    <a:pt x="121388" y="165679"/>
                  </a:lnTo>
                  <a:lnTo>
                    <a:pt x="129034" y="163793"/>
                  </a:lnTo>
                  <a:lnTo>
                    <a:pt x="135825" y="161689"/>
                  </a:lnTo>
                  <a:lnTo>
                    <a:pt x="142046" y="159439"/>
                  </a:lnTo>
                  <a:lnTo>
                    <a:pt x="147886" y="157093"/>
                  </a:lnTo>
                  <a:lnTo>
                    <a:pt x="152626" y="154682"/>
                  </a:lnTo>
                  <a:lnTo>
                    <a:pt x="156632" y="152228"/>
                  </a:lnTo>
                  <a:lnTo>
                    <a:pt x="160150" y="149746"/>
                  </a:lnTo>
                  <a:lnTo>
                    <a:pt x="166317" y="144729"/>
                  </a:lnTo>
                  <a:lnTo>
                    <a:pt x="169146" y="142206"/>
                  </a:lnTo>
                  <a:lnTo>
                    <a:pt x="171033" y="139677"/>
                  </a:lnTo>
                  <a:lnTo>
                    <a:pt x="173129" y="134610"/>
                  </a:lnTo>
                  <a:lnTo>
                    <a:pt x="171995" y="132074"/>
                  </a:lnTo>
                  <a:lnTo>
                    <a:pt x="169546" y="129535"/>
                  </a:lnTo>
                  <a:lnTo>
                    <a:pt x="166219" y="126997"/>
                  </a:lnTo>
                  <a:lnTo>
                    <a:pt x="160265" y="124177"/>
                  </a:lnTo>
                  <a:lnTo>
                    <a:pt x="157492" y="123424"/>
                  </a:lnTo>
                  <a:lnTo>
                    <a:pt x="152153" y="120331"/>
                  </a:lnTo>
                  <a:lnTo>
                    <a:pt x="149544" y="118321"/>
                  </a:lnTo>
                  <a:lnTo>
                    <a:pt x="146112" y="117828"/>
                  </a:lnTo>
                  <a:lnTo>
                    <a:pt x="142129" y="118345"/>
                  </a:lnTo>
                  <a:lnTo>
                    <a:pt x="137782" y="119537"/>
                  </a:lnTo>
                  <a:lnTo>
                    <a:pt x="133190" y="121178"/>
                  </a:lnTo>
                  <a:lnTo>
                    <a:pt x="128436" y="123119"/>
                  </a:lnTo>
                  <a:lnTo>
                    <a:pt x="123572" y="125259"/>
                  </a:lnTo>
                  <a:lnTo>
                    <a:pt x="119483" y="127533"/>
                  </a:lnTo>
                  <a:lnTo>
                    <a:pt x="115911" y="129896"/>
                  </a:lnTo>
                  <a:lnTo>
                    <a:pt x="112683" y="132317"/>
                  </a:lnTo>
                  <a:lnTo>
                    <a:pt x="106839" y="137266"/>
                  </a:lnTo>
                  <a:lnTo>
                    <a:pt x="101418" y="142287"/>
                  </a:lnTo>
                  <a:lnTo>
                    <a:pt x="96187" y="147341"/>
                  </a:lnTo>
                  <a:lnTo>
                    <a:pt x="95300" y="150721"/>
                  </a:lnTo>
                  <a:lnTo>
                    <a:pt x="95555" y="154668"/>
                  </a:lnTo>
                  <a:lnTo>
                    <a:pt x="96572" y="158992"/>
                  </a:lnTo>
                  <a:lnTo>
                    <a:pt x="98097" y="163568"/>
                  </a:lnTo>
                  <a:lnTo>
                    <a:pt x="99960" y="168312"/>
                  </a:lnTo>
                  <a:lnTo>
                    <a:pt x="102049" y="173168"/>
                  </a:lnTo>
                  <a:lnTo>
                    <a:pt x="105981" y="177252"/>
                  </a:lnTo>
                  <a:lnTo>
                    <a:pt x="111143" y="180821"/>
                  </a:lnTo>
                  <a:lnTo>
                    <a:pt x="117124" y="184048"/>
                  </a:lnTo>
                  <a:lnTo>
                    <a:pt x="123651" y="187045"/>
                  </a:lnTo>
                  <a:lnTo>
                    <a:pt x="130543" y="189890"/>
                  </a:lnTo>
                  <a:lnTo>
                    <a:pt x="137677" y="192634"/>
                  </a:lnTo>
                  <a:lnTo>
                    <a:pt x="145821" y="194462"/>
                  </a:lnTo>
                  <a:lnTo>
                    <a:pt x="154636" y="195681"/>
                  </a:lnTo>
                  <a:lnTo>
                    <a:pt x="163899" y="196494"/>
                  </a:lnTo>
                  <a:lnTo>
                    <a:pt x="171768" y="197037"/>
                  </a:lnTo>
                  <a:lnTo>
                    <a:pt x="197666" y="1981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473"/>
            <p:cNvSpPr/>
            <p:nvPr/>
          </p:nvSpPr>
          <p:spPr>
            <a:xfrm>
              <a:off x="5943600" y="4403880"/>
              <a:ext cx="152280" cy="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1" h="1">
                  <a:moveTo>
                    <a:pt x="0" y="0"/>
                  </a:moveTo>
                  <a:lnTo>
                    <a:pt x="1524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474"/>
            <p:cNvSpPr/>
            <p:nvPr/>
          </p:nvSpPr>
          <p:spPr>
            <a:xfrm>
              <a:off x="6019560" y="44344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11">
                  <a:moveTo>
                    <a:pt x="0" y="0"/>
                  </a:moveTo>
                  <a:lnTo>
                    <a:pt x="6561" y="6561"/>
                  </a:lnTo>
                  <a:lnTo>
                    <a:pt x="8608" y="7761"/>
                  </a:lnTo>
                  <a:lnTo>
                    <a:pt x="15397" y="11351"/>
                  </a:lnTo>
                  <a:lnTo>
                    <a:pt x="20424" y="12647"/>
                  </a:lnTo>
                  <a:lnTo>
                    <a:pt x="26316" y="13512"/>
                  </a:lnTo>
                  <a:lnTo>
                    <a:pt x="32784" y="14088"/>
                  </a:lnTo>
                  <a:lnTo>
                    <a:pt x="39636" y="14472"/>
                  </a:lnTo>
                  <a:lnTo>
                    <a:pt x="54023" y="14898"/>
                  </a:lnTo>
                  <a:lnTo>
                    <a:pt x="109726" y="15210"/>
                  </a:lnTo>
                  <a:lnTo>
                    <a:pt x="118871" y="14373"/>
                  </a:lnTo>
                  <a:lnTo>
                    <a:pt x="127507" y="12968"/>
                  </a:lnTo>
                  <a:lnTo>
                    <a:pt x="15240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475"/>
            <p:cNvSpPr/>
            <p:nvPr/>
          </p:nvSpPr>
          <p:spPr>
            <a:xfrm>
              <a:off x="6347520" y="4274280"/>
              <a:ext cx="432000" cy="197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32192" h="197856">
                  <a:moveTo>
                    <a:pt x="0" y="45721"/>
                  </a:moveTo>
                  <a:lnTo>
                    <a:pt x="0" y="100930"/>
                  </a:lnTo>
                  <a:lnTo>
                    <a:pt x="846" y="107927"/>
                  </a:lnTo>
                  <a:lnTo>
                    <a:pt x="2257" y="115131"/>
                  </a:lnTo>
                  <a:lnTo>
                    <a:pt x="4046" y="122474"/>
                  </a:lnTo>
                  <a:lnTo>
                    <a:pt x="6083" y="129063"/>
                  </a:lnTo>
                  <a:lnTo>
                    <a:pt x="8288" y="135149"/>
                  </a:lnTo>
                  <a:lnTo>
                    <a:pt x="10606" y="140899"/>
                  </a:lnTo>
                  <a:lnTo>
                    <a:pt x="12997" y="146426"/>
                  </a:lnTo>
                  <a:lnTo>
                    <a:pt x="17912" y="157083"/>
                  </a:lnTo>
                  <a:lnTo>
                    <a:pt x="21255" y="162296"/>
                  </a:lnTo>
                  <a:lnTo>
                    <a:pt x="25177" y="167464"/>
                  </a:lnTo>
                  <a:lnTo>
                    <a:pt x="29484" y="172603"/>
                  </a:lnTo>
                  <a:lnTo>
                    <a:pt x="34050" y="177722"/>
                  </a:lnTo>
                  <a:lnTo>
                    <a:pt x="43637" y="187925"/>
                  </a:lnTo>
                  <a:lnTo>
                    <a:pt x="48565" y="191324"/>
                  </a:lnTo>
                  <a:lnTo>
                    <a:pt x="58555" y="195100"/>
                  </a:lnTo>
                  <a:lnTo>
                    <a:pt x="70899" y="196778"/>
                  </a:lnTo>
                  <a:lnTo>
                    <a:pt x="77745" y="197226"/>
                  </a:lnTo>
                  <a:lnTo>
                    <a:pt x="84850" y="197524"/>
                  </a:lnTo>
                  <a:lnTo>
                    <a:pt x="99518" y="197855"/>
                  </a:lnTo>
                  <a:lnTo>
                    <a:pt x="112246" y="195745"/>
                  </a:lnTo>
                  <a:lnTo>
                    <a:pt x="124394" y="191138"/>
                  </a:lnTo>
                  <a:lnTo>
                    <a:pt x="131189" y="187539"/>
                  </a:lnTo>
                  <a:lnTo>
                    <a:pt x="138259" y="183446"/>
                  </a:lnTo>
                  <a:lnTo>
                    <a:pt x="144666" y="179024"/>
                  </a:lnTo>
                  <a:lnTo>
                    <a:pt x="150631" y="174383"/>
                  </a:lnTo>
                  <a:lnTo>
                    <a:pt x="156300" y="169595"/>
                  </a:lnTo>
                  <a:lnTo>
                    <a:pt x="160927" y="164711"/>
                  </a:lnTo>
                  <a:lnTo>
                    <a:pt x="164858" y="159760"/>
                  </a:lnTo>
                  <a:lnTo>
                    <a:pt x="168325" y="154767"/>
                  </a:lnTo>
                  <a:lnTo>
                    <a:pt x="172330" y="149745"/>
                  </a:lnTo>
                  <a:lnTo>
                    <a:pt x="176694" y="144704"/>
                  </a:lnTo>
                  <a:lnTo>
                    <a:pt x="185210" y="135433"/>
                  </a:lnTo>
                  <a:lnTo>
                    <a:pt x="191818" y="128490"/>
                  </a:lnTo>
                  <a:lnTo>
                    <a:pt x="193919" y="125454"/>
                  </a:lnTo>
                  <a:lnTo>
                    <a:pt x="196252" y="119822"/>
                  </a:lnTo>
                  <a:lnTo>
                    <a:pt x="197567" y="115936"/>
                  </a:lnTo>
                  <a:lnTo>
                    <a:pt x="197956" y="110740"/>
                  </a:lnTo>
                  <a:lnTo>
                    <a:pt x="198857" y="110233"/>
                  </a:lnTo>
                  <a:lnTo>
                    <a:pt x="200305" y="110742"/>
                  </a:lnTo>
                  <a:lnTo>
                    <a:pt x="202116" y="111929"/>
                  </a:lnTo>
                  <a:lnTo>
                    <a:pt x="203325" y="113566"/>
                  </a:lnTo>
                  <a:lnTo>
                    <a:pt x="204129" y="115504"/>
                  </a:lnTo>
                  <a:lnTo>
                    <a:pt x="204666" y="117643"/>
                  </a:lnTo>
                  <a:lnTo>
                    <a:pt x="206717" y="119915"/>
                  </a:lnTo>
                  <a:lnTo>
                    <a:pt x="213512" y="124698"/>
                  </a:lnTo>
                  <a:lnTo>
                    <a:pt x="222176" y="129646"/>
                  </a:lnTo>
                  <a:lnTo>
                    <a:pt x="232518" y="135514"/>
                  </a:lnTo>
                  <a:lnTo>
                    <a:pt x="245581" y="143766"/>
                  </a:lnTo>
                  <a:lnTo>
                    <a:pt x="253467" y="147491"/>
                  </a:lnTo>
                  <a:lnTo>
                    <a:pt x="262112" y="150821"/>
                  </a:lnTo>
                  <a:lnTo>
                    <a:pt x="271261" y="153887"/>
                  </a:lnTo>
                  <a:lnTo>
                    <a:pt x="280748" y="157625"/>
                  </a:lnTo>
                  <a:lnTo>
                    <a:pt x="290459" y="161810"/>
                  </a:lnTo>
                  <a:lnTo>
                    <a:pt x="300319" y="166293"/>
                  </a:lnTo>
                  <a:lnTo>
                    <a:pt x="310279" y="170129"/>
                  </a:lnTo>
                  <a:lnTo>
                    <a:pt x="320306" y="173533"/>
                  </a:lnTo>
                  <a:lnTo>
                    <a:pt x="330377" y="176649"/>
                  </a:lnTo>
                  <a:lnTo>
                    <a:pt x="341326" y="178726"/>
                  </a:lnTo>
                  <a:lnTo>
                    <a:pt x="352856" y="180110"/>
                  </a:lnTo>
                  <a:lnTo>
                    <a:pt x="364778" y="181034"/>
                  </a:lnTo>
                  <a:lnTo>
                    <a:pt x="375265" y="180803"/>
                  </a:lnTo>
                  <a:lnTo>
                    <a:pt x="384797" y="179802"/>
                  </a:lnTo>
                  <a:lnTo>
                    <a:pt x="393691" y="178288"/>
                  </a:lnTo>
                  <a:lnTo>
                    <a:pt x="401313" y="176432"/>
                  </a:lnTo>
                  <a:lnTo>
                    <a:pt x="414299" y="172112"/>
                  </a:lnTo>
                  <a:lnTo>
                    <a:pt x="419286" y="168928"/>
                  </a:lnTo>
                  <a:lnTo>
                    <a:pt x="423457" y="165112"/>
                  </a:lnTo>
                  <a:lnTo>
                    <a:pt x="427085" y="160875"/>
                  </a:lnTo>
                  <a:lnTo>
                    <a:pt x="429502" y="156357"/>
                  </a:lnTo>
                  <a:lnTo>
                    <a:pt x="431115" y="151651"/>
                  </a:lnTo>
                  <a:lnTo>
                    <a:pt x="432191" y="146821"/>
                  </a:lnTo>
                  <a:lnTo>
                    <a:pt x="432060" y="141061"/>
                  </a:lnTo>
                  <a:lnTo>
                    <a:pt x="431127" y="134681"/>
                  </a:lnTo>
                  <a:lnTo>
                    <a:pt x="429657" y="127888"/>
                  </a:lnTo>
                  <a:lnTo>
                    <a:pt x="426985" y="120818"/>
                  </a:lnTo>
                  <a:lnTo>
                    <a:pt x="423510" y="113566"/>
                  </a:lnTo>
                  <a:lnTo>
                    <a:pt x="419500" y="106190"/>
                  </a:lnTo>
                  <a:lnTo>
                    <a:pt x="414287" y="97888"/>
                  </a:lnTo>
                  <a:lnTo>
                    <a:pt x="408271" y="88965"/>
                  </a:lnTo>
                  <a:lnTo>
                    <a:pt x="401720" y="79630"/>
                  </a:lnTo>
                  <a:lnTo>
                    <a:pt x="394814" y="70867"/>
                  </a:lnTo>
                  <a:lnTo>
                    <a:pt x="387669" y="62485"/>
                  </a:lnTo>
                  <a:lnTo>
                    <a:pt x="373803" y="47244"/>
                  </a:lnTo>
                  <a:lnTo>
                    <a:pt x="361997" y="34826"/>
                  </a:lnTo>
                  <a:lnTo>
                    <a:pt x="334360" y="6744"/>
                  </a:lnTo>
                  <a:lnTo>
                    <a:pt x="331280" y="4496"/>
                  </a:lnTo>
                  <a:lnTo>
                    <a:pt x="3200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476"/>
            <p:cNvSpPr/>
            <p:nvPr/>
          </p:nvSpPr>
          <p:spPr>
            <a:xfrm>
              <a:off x="159840" y="3375720"/>
              <a:ext cx="2656080" cy="53244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2656169" h="532698">
                  <a:moveTo>
                    <a:pt x="0" y="464128"/>
                  </a:moveTo>
                  <a:lnTo>
                    <a:pt x="4045" y="464128"/>
                  </a:lnTo>
                  <a:lnTo>
                    <a:pt x="6084" y="464975"/>
                  </a:lnTo>
                  <a:lnTo>
                    <a:pt x="12998" y="469365"/>
                  </a:lnTo>
                  <a:lnTo>
                    <a:pt x="17912" y="470689"/>
                  </a:lnTo>
                  <a:lnTo>
                    <a:pt x="41044" y="473866"/>
                  </a:lnTo>
                  <a:lnTo>
                    <a:pt x="47683" y="475701"/>
                  </a:lnTo>
                  <a:lnTo>
                    <a:pt x="53802" y="476076"/>
                  </a:lnTo>
                  <a:lnTo>
                    <a:pt x="131489" y="471845"/>
                  </a:lnTo>
                  <a:lnTo>
                    <a:pt x="385116" y="471748"/>
                  </a:lnTo>
                  <a:lnTo>
                    <a:pt x="472648" y="477780"/>
                  </a:lnTo>
                  <a:lnTo>
                    <a:pt x="547646" y="479054"/>
                  </a:lnTo>
                  <a:lnTo>
                    <a:pt x="611563" y="479275"/>
                  </a:lnTo>
                  <a:lnTo>
                    <a:pt x="720385" y="485387"/>
                  </a:lnTo>
                  <a:lnTo>
                    <a:pt x="791439" y="486514"/>
                  </a:lnTo>
                  <a:lnTo>
                    <a:pt x="863009" y="489105"/>
                  </a:lnTo>
                  <a:lnTo>
                    <a:pt x="937838" y="492978"/>
                  </a:lnTo>
                  <a:lnTo>
                    <a:pt x="1015889" y="496383"/>
                  </a:lnTo>
                  <a:lnTo>
                    <a:pt x="1098000" y="500497"/>
                  </a:lnTo>
                  <a:lnTo>
                    <a:pt x="1179056" y="503973"/>
                  </a:lnTo>
                  <a:lnTo>
                    <a:pt x="1286342" y="512733"/>
                  </a:lnTo>
                  <a:lnTo>
                    <a:pt x="1341610" y="515364"/>
                  </a:lnTo>
                  <a:lnTo>
                    <a:pt x="1397218" y="517380"/>
                  </a:lnTo>
                  <a:lnTo>
                    <a:pt x="1481731" y="523275"/>
                  </a:lnTo>
                  <a:lnTo>
                    <a:pt x="1540774" y="527951"/>
                  </a:lnTo>
                  <a:lnTo>
                    <a:pt x="1598624" y="530594"/>
                  </a:lnTo>
                  <a:lnTo>
                    <a:pt x="1656226" y="531769"/>
                  </a:lnTo>
                  <a:lnTo>
                    <a:pt x="1975729" y="532697"/>
                  </a:lnTo>
                  <a:lnTo>
                    <a:pt x="2033238" y="530446"/>
                  </a:lnTo>
                  <a:lnTo>
                    <a:pt x="2115716" y="524418"/>
                  </a:lnTo>
                  <a:lnTo>
                    <a:pt x="2244166" y="512300"/>
                  </a:lnTo>
                  <a:lnTo>
                    <a:pt x="2315373" y="503895"/>
                  </a:lnTo>
                  <a:lnTo>
                    <a:pt x="2383886" y="490210"/>
                  </a:lnTo>
                  <a:lnTo>
                    <a:pt x="2426589" y="477414"/>
                  </a:lnTo>
                  <a:lnTo>
                    <a:pt x="2480621" y="459974"/>
                  </a:lnTo>
                  <a:lnTo>
                    <a:pt x="2513045" y="444784"/>
                  </a:lnTo>
                  <a:lnTo>
                    <a:pt x="2543543" y="427591"/>
                  </a:lnTo>
                  <a:lnTo>
                    <a:pt x="2571208" y="411483"/>
                  </a:lnTo>
                  <a:lnTo>
                    <a:pt x="2582819" y="402784"/>
                  </a:lnTo>
                  <a:lnTo>
                    <a:pt x="2593099" y="393599"/>
                  </a:lnTo>
                  <a:lnTo>
                    <a:pt x="2602493" y="384089"/>
                  </a:lnTo>
                  <a:lnTo>
                    <a:pt x="2611295" y="374362"/>
                  </a:lnTo>
                  <a:lnTo>
                    <a:pt x="2619703" y="364491"/>
                  </a:lnTo>
                  <a:lnTo>
                    <a:pt x="2627849" y="354523"/>
                  </a:lnTo>
                  <a:lnTo>
                    <a:pt x="2634973" y="344491"/>
                  </a:lnTo>
                  <a:lnTo>
                    <a:pt x="2641416" y="334417"/>
                  </a:lnTo>
                  <a:lnTo>
                    <a:pt x="2647404" y="324314"/>
                  </a:lnTo>
                  <a:lnTo>
                    <a:pt x="2651396" y="314192"/>
                  </a:lnTo>
                  <a:lnTo>
                    <a:pt x="2654057" y="304057"/>
                  </a:lnTo>
                  <a:lnTo>
                    <a:pt x="2655831" y="293914"/>
                  </a:lnTo>
                  <a:lnTo>
                    <a:pt x="2656168" y="282919"/>
                  </a:lnTo>
                  <a:lnTo>
                    <a:pt x="2655545" y="271355"/>
                  </a:lnTo>
                  <a:lnTo>
                    <a:pt x="2654284" y="259413"/>
                  </a:lnTo>
                  <a:lnTo>
                    <a:pt x="2651749" y="248065"/>
                  </a:lnTo>
                  <a:lnTo>
                    <a:pt x="2648366" y="237112"/>
                  </a:lnTo>
                  <a:lnTo>
                    <a:pt x="2644418" y="226424"/>
                  </a:lnTo>
                  <a:lnTo>
                    <a:pt x="2639245" y="215912"/>
                  </a:lnTo>
                  <a:lnTo>
                    <a:pt x="2633257" y="205517"/>
                  </a:lnTo>
                  <a:lnTo>
                    <a:pt x="2626725" y="195201"/>
                  </a:lnTo>
                  <a:lnTo>
                    <a:pt x="2618983" y="184090"/>
                  </a:lnTo>
                  <a:lnTo>
                    <a:pt x="2610436" y="172450"/>
                  </a:lnTo>
                  <a:lnTo>
                    <a:pt x="2601350" y="160456"/>
                  </a:lnTo>
                  <a:lnTo>
                    <a:pt x="2590213" y="149920"/>
                  </a:lnTo>
                  <a:lnTo>
                    <a:pt x="2577709" y="140356"/>
                  </a:lnTo>
                  <a:lnTo>
                    <a:pt x="2564293" y="131440"/>
                  </a:lnTo>
                  <a:lnTo>
                    <a:pt x="2549422" y="122109"/>
                  </a:lnTo>
                  <a:lnTo>
                    <a:pt x="2517094" y="102711"/>
                  </a:lnTo>
                  <a:lnTo>
                    <a:pt x="2498483" y="93643"/>
                  </a:lnTo>
                  <a:lnTo>
                    <a:pt x="2478455" y="85058"/>
                  </a:lnTo>
                  <a:lnTo>
                    <a:pt x="2435036" y="68746"/>
                  </a:lnTo>
                  <a:lnTo>
                    <a:pt x="2387516" y="53029"/>
                  </a:lnTo>
                  <a:lnTo>
                    <a:pt x="2338174" y="39836"/>
                  </a:lnTo>
                  <a:lnTo>
                    <a:pt x="2260537" y="25145"/>
                  </a:lnTo>
                  <a:lnTo>
                    <a:pt x="2205257" y="18411"/>
                  </a:lnTo>
                  <a:lnTo>
                    <a:pt x="2116167" y="9860"/>
                  </a:lnTo>
                  <a:lnTo>
                    <a:pt x="2052757" y="4562"/>
                  </a:lnTo>
                  <a:lnTo>
                    <a:pt x="1987886" y="1643"/>
                  </a:lnTo>
                  <a:lnTo>
                    <a:pt x="1889483" y="0"/>
                  </a:lnTo>
                  <a:lnTo>
                    <a:pt x="1823597" y="462"/>
                  </a:lnTo>
                  <a:lnTo>
                    <a:pt x="1723777" y="4636"/>
                  </a:lnTo>
                  <a:lnTo>
                    <a:pt x="1654559" y="5909"/>
                  </a:lnTo>
                  <a:lnTo>
                    <a:pt x="1584284" y="10991"/>
                  </a:lnTo>
                  <a:lnTo>
                    <a:pt x="1513540" y="18047"/>
                  </a:lnTo>
                  <a:lnTo>
                    <a:pt x="1301300" y="35576"/>
                  </a:lnTo>
                  <a:lnTo>
                    <a:pt x="1233394" y="43932"/>
                  </a:lnTo>
                  <a:lnTo>
                    <a:pt x="954618" y="83185"/>
                  </a:lnTo>
                  <a:lnTo>
                    <a:pt x="725529" y="118692"/>
                  </a:lnTo>
                  <a:lnTo>
                    <a:pt x="661407" y="131108"/>
                  </a:lnTo>
                  <a:lnTo>
                    <a:pt x="597912" y="144246"/>
                  </a:lnTo>
                  <a:lnTo>
                    <a:pt x="538648" y="155729"/>
                  </a:lnTo>
                  <a:lnTo>
                    <a:pt x="481263" y="168735"/>
                  </a:lnTo>
                  <a:lnTo>
                    <a:pt x="425562" y="182136"/>
                  </a:lnTo>
                  <a:lnTo>
                    <a:pt x="254617" y="220137"/>
                  </a:lnTo>
                  <a:lnTo>
                    <a:pt x="193693" y="235483"/>
                  </a:lnTo>
                  <a:lnTo>
                    <a:pt x="157206" y="246515"/>
                  </a:lnTo>
                  <a:lnTo>
                    <a:pt x="109797" y="265313"/>
                  </a:lnTo>
                  <a:lnTo>
                    <a:pt x="73549" y="277844"/>
                  </a:lnTo>
                  <a:lnTo>
                    <a:pt x="43053" y="291905"/>
                  </a:lnTo>
                  <a:lnTo>
                    <a:pt x="28730" y="301789"/>
                  </a:lnTo>
                  <a:lnTo>
                    <a:pt x="18978" y="314084"/>
                  </a:lnTo>
                  <a:lnTo>
                    <a:pt x="12668" y="327168"/>
                  </a:lnTo>
                  <a:lnTo>
                    <a:pt x="9864" y="338628"/>
                  </a:lnTo>
                  <a:lnTo>
                    <a:pt x="9962" y="344055"/>
                  </a:lnTo>
                  <a:lnTo>
                    <a:pt x="12330" y="354600"/>
                  </a:lnTo>
                  <a:lnTo>
                    <a:pt x="20720" y="367189"/>
                  </a:lnTo>
                  <a:lnTo>
                    <a:pt x="26513" y="374102"/>
                  </a:lnTo>
                  <a:lnTo>
                    <a:pt x="41982" y="386299"/>
                  </a:lnTo>
                  <a:lnTo>
                    <a:pt x="69730" y="402686"/>
                  </a:lnTo>
                  <a:lnTo>
                    <a:pt x="101659" y="418265"/>
                  </a:lnTo>
                  <a:lnTo>
                    <a:pt x="128155" y="427658"/>
                  </a:lnTo>
                  <a:lnTo>
                    <a:pt x="198097" y="440587"/>
                  </a:lnTo>
                  <a:lnTo>
                    <a:pt x="277326" y="451293"/>
                  </a:lnTo>
                  <a:lnTo>
                    <a:pt x="351881" y="454963"/>
                  </a:lnTo>
                  <a:lnTo>
                    <a:pt x="407852" y="453564"/>
                  </a:lnTo>
                  <a:lnTo>
                    <a:pt x="467441" y="450966"/>
                  </a:lnTo>
                  <a:lnTo>
                    <a:pt x="563716" y="449504"/>
                  </a:lnTo>
                  <a:lnTo>
                    <a:pt x="937260" y="4488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477"/>
            <p:cNvSpPr/>
            <p:nvPr/>
          </p:nvSpPr>
          <p:spPr>
            <a:xfrm>
              <a:off x="4273920" y="4007520"/>
              <a:ext cx="3196080" cy="86112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3196100" h="861028">
                  <a:moveTo>
                    <a:pt x="389302" y="571470"/>
                  </a:moveTo>
                  <a:lnTo>
                    <a:pt x="389302" y="578031"/>
                  </a:lnTo>
                  <a:lnTo>
                    <a:pt x="407213" y="603536"/>
                  </a:lnTo>
                  <a:lnTo>
                    <a:pt x="424197" y="620545"/>
                  </a:lnTo>
                  <a:lnTo>
                    <a:pt x="445643" y="635211"/>
                  </a:lnTo>
                  <a:lnTo>
                    <a:pt x="498080" y="660402"/>
                  </a:lnTo>
                  <a:lnTo>
                    <a:pt x="565841" y="685774"/>
                  </a:lnTo>
                  <a:lnTo>
                    <a:pt x="647013" y="711171"/>
                  </a:lnTo>
                  <a:lnTo>
                    <a:pt x="738941" y="736570"/>
                  </a:lnTo>
                  <a:lnTo>
                    <a:pt x="824972" y="756044"/>
                  </a:lnTo>
                  <a:lnTo>
                    <a:pt x="917602" y="771179"/>
                  </a:lnTo>
                  <a:lnTo>
                    <a:pt x="1097073" y="805243"/>
                  </a:lnTo>
                  <a:lnTo>
                    <a:pt x="1183776" y="816372"/>
                  </a:lnTo>
                  <a:lnTo>
                    <a:pt x="1390021" y="835544"/>
                  </a:lnTo>
                  <a:lnTo>
                    <a:pt x="1544295" y="848319"/>
                  </a:lnTo>
                  <a:lnTo>
                    <a:pt x="1762405" y="858349"/>
                  </a:lnTo>
                  <a:lnTo>
                    <a:pt x="1829867" y="859839"/>
                  </a:lnTo>
                  <a:lnTo>
                    <a:pt x="2333876" y="861027"/>
                  </a:lnTo>
                  <a:lnTo>
                    <a:pt x="2429640" y="856984"/>
                  </a:lnTo>
                  <a:lnTo>
                    <a:pt x="2522362" y="850424"/>
                  </a:lnTo>
                  <a:lnTo>
                    <a:pt x="2610135" y="843118"/>
                  </a:lnTo>
                  <a:lnTo>
                    <a:pt x="2695128" y="831545"/>
                  </a:lnTo>
                  <a:lnTo>
                    <a:pt x="2771204" y="817393"/>
                  </a:lnTo>
                  <a:lnTo>
                    <a:pt x="2865178" y="796593"/>
                  </a:lnTo>
                  <a:lnTo>
                    <a:pt x="2971928" y="765557"/>
                  </a:lnTo>
                  <a:lnTo>
                    <a:pt x="3023400" y="745535"/>
                  </a:lnTo>
                  <a:lnTo>
                    <a:pt x="3070823" y="719471"/>
                  </a:lnTo>
                  <a:lnTo>
                    <a:pt x="3108958" y="694344"/>
                  </a:lnTo>
                  <a:lnTo>
                    <a:pt x="3131069" y="676317"/>
                  </a:lnTo>
                  <a:lnTo>
                    <a:pt x="3151337" y="657015"/>
                  </a:lnTo>
                  <a:lnTo>
                    <a:pt x="3168813" y="637148"/>
                  </a:lnTo>
                  <a:lnTo>
                    <a:pt x="3180531" y="617029"/>
                  </a:lnTo>
                  <a:lnTo>
                    <a:pt x="3188561" y="595952"/>
                  </a:lnTo>
                  <a:lnTo>
                    <a:pt x="3194952" y="572473"/>
                  </a:lnTo>
                  <a:lnTo>
                    <a:pt x="3196099" y="550185"/>
                  </a:lnTo>
                  <a:lnTo>
                    <a:pt x="3192940" y="528143"/>
                  </a:lnTo>
                  <a:lnTo>
                    <a:pt x="3185892" y="504236"/>
                  </a:lnTo>
                  <a:lnTo>
                    <a:pt x="3174857" y="479499"/>
                  </a:lnTo>
                  <a:lnTo>
                    <a:pt x="3159793" y="454394"/>
                  </a:lnTo>
                  <a:lnTo>
                    <a:pt x="3138986" y="429126"/>
                  </a:lnTo>
                  <a:lnTo>
                    <a:pt x="3117885" y="406042"/>
                  </a:lnTo>
                  <a:lnTo>
                    <a:pt x="3095524" y="384494"/>
                  </a:lnTo>
                  <a:lnTo>
                    <a:pt x="3068654" y="363627"/>
                  </a:lnTo>
                  <a:lnTo>
                    <a:pt x="3020920" y="328795"/>
                  </a:lnTo>
                  <a:lnTo>
                    <a:pt x="2984413" y="306417"/>
                  </a:lnTo>
                  <a:lnTo>
                    <a:pt x="2945610" y="285182"/>
                  </a:lnTo>
                  <a:lnTo>
                    <a:pt x="2905787" y="264455"/>
                  </a:lnTo>
                  <a:lnTo>
                    <a:pt x="2837197" y="237792"/>
                  </a:lnTo>
                  <a:lnTo>
                    <a:pt x="2788177" y="219404"/>
                  </a:lnTo>
                  <a:lnTo>
                    <a:pt x="2738168" y="200790"/>
                  </a:lnTo>
                  <a:lnTo>
                    <a:pt x="2661567" y="176030"/>
                  </a:lnTo>
                  <a:lnTo>
                    <a:pt x="2579415" y="152608"/>
                  </a:lnTo>
                  <a:lnTo>
                    <a:pt x="2491103" y="130427"/>
                  </a:lnTo>
                  <a:lnTo>
                    <a:pt x="2400591" y="112754"/>
                  </a:lnTo>
                  <a:lnTo>
                    <a:pt x="2308579" y="96794"/>
                  </a:lnTo>
                  <a:lnTo>
                    <a:pt x="2146520" y="71130"/>
                  </a:lnTo>
                  <a:lnTo>
                    <a:pt x="1948821" y="47174"/>
                  </a:lnTo>
                  <a:lnTo>
                    <a:pt x="1880546" y="39858"/>
                  </a:lnTo>
                  <a:lnTo>
                    <a:pt x="1644374" y="20395"/>
                  </a:lnTo>
                  <a:lnTo>
                    <a:pt x="1575902" y="17515"/>
                  </a:lnTo>
                  <a:lnTo>
                    <a:pt x="1506806" y="15388"/>
                  </a:lnTo>
                  <a:lnTo>
                    <a:pt x="1406026" y="10277"/>
                  </a:lnTo>
                  <a:lnTo>
                    <a:pt x="1306456" y="7539"/>
                  </a:lnTo>
                  <a:lnTo>
                    <a:pt x="1207245" y="2589"/>
                  </a:lnTo>
                  <a:lnTo>
                    <a:pt x="1108140" y="746"/>
                  </a:lnTo>
                  <a:lnTo>
                    <a:pt x="848007" y="0"/>
                  </a:lnTo>
                  <a:lnTo>
                    <a:pt x="755507" y="4024"/>
                  </a:lnTo>
                  <a:lnTo>
                    <a:pt x="634076" y="12969"/>
                  </a:lnTo>
                  <a:lnTo>
                    <a:pt x="491359" y="25410"/>
                  </a:lnTo>
                  <a:lnTo>
                    <a:pt x="411261" y="37047"/>
                  </a:lnTo>
                  <a:lnTo>
                    <a:pt x="314428" y="56150"/>
                  </a:lnTo>
                  <a:lnTo>
                    <a:pt x="224181" y="78487"/>
                  </a:lnTo>
                  <a:lnTo>
                    <a:pt x="165964" y="99717"/>
                  </a:lnTo>
                  <a:lnTo>
                    <a:pt x="116541" y="122093"/>
                  </a:lnTo>
                  <a:lnTo>
                    <a:pt x="74238" y="144810"/>
                  </a:lnTo>
                  <a:lnTo>
                    <a:pt x="42514" y="167628"/>
                  </a:lnTo>
                  <a:lnTo>
                    <a:pt x="33650" y="175242"/>
                  </a:lnTo>
                  <a:lnTo>
                    <a:pt x="21543" y="192733"/>
                  </a:lnTo>
                  <a:lnTo>
                    <a:pt x="7709" y="219364"/>
                  </a:lnTo>
                  <a:lnTo>
                    <a:pt x="2827" y="227512"/>
                  </a:lnTo>
                  <a:lnTo>
                    <a:pt x="418" y="236332"/>
                  </a:lnTo>
                  <a:lnTo>
                    <a:pt x="0" y="255162"/>
                  </a:lnTo>
                  <a:lnTo>
                    <a:pt x="4894" y="272562"/>
                  </a:lnTo>
                  <a:lnTo>
                    <a:pt x="17169" y="298896"/>
                  </a:lnTo>
                  <a:lnTo>
                    <a:pt x="28329" y="318246"/>
                  </a:lnTo>
                  <a:lnTo>
                    <a:pt x="44578" y="338135"/>
                  </a:lnTo>
                  <a:lnTo>
                    <a:pt x="80856" y="364327"/>
                  </a:lnTo>
                  <a:lnTo>
                    <a:pt x="106870" y="382604"/>
                  </a:lnTo>
                  <a:lnTo>
                    <a:pt x="133390" y="402016"/>
                  </a:lnTo>
                  <a:lnTo>
                    <a:pt x="162109" y="421933"/>
                  </a:lnTo>
                  <a:lnTo>
                    <a:pt x="196323" y="442074"/>
                  </a:lnTo>
                  <a:lnTo>
                    <a:pt x="251406" y="472453"/>
                  </a:lnTo>
                  <a:lnTo>
                    <a:pt x="288221" y="491902"/>
                  </a:lnTo>
                  <a:lnTo>
                    <a:pt x="458447" y="566704"/>
                  </a:lnTo>
                  <a:lnTo>
                    <a:pt x="555516" y="602702"/>
                  </a:lnTo>
                  <a:lnTo>
                    <a:pt x="631778" y="635851"/>
                  </a:lnTo>
                  <a:lnTo>
                    <a:pt x="685593" y="657093"/>
                  </a:lnTo>
                  <a:lnTo>
                    <a:pt x="727009" y="675565"/>
                  </a:lnTo>
                  <a:lnTo>
                    <a:pt x="774125" y="697987"/>
                  </a:lnTo>
                  <a:lnTo>
                    <a:pt x="816021" y="7162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MARTInkAnnotation478"/>
            <p:cNvSpPr/>
            <p:nvPr/>
          </p:nvSpPr>
          <p:spPr>
            <a:xfrm>
              <a:off x="380880" y="4281840"/>
              <a:ext cx="371880" cy="3276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71962" h="327562">
                  <a:moveTo>
                    <a:pt x="0" y="106612"/>
                  </a:moveTo>
                  <a:lnTo>
                    <a:pt x="0" y="102567"/>
                  </a:lnTo>
                  <a:lnTo>
                    <a:pt x="847" y="101375"/>
                  </a:lnTo>
                  <a:lnTo>
                    <a:pt x="2258" y="100581"/>
                  </a:lnTo>
                  <a:lnTo>
                    <a:pt x="4045" y="100051"/>
                  </a:lnTo>
                  <a:lnTo>
                    <a:pt x="5237" y="98852"/>
                  </a:lnTo>
                  <a:lnTo>
                    <a:pt x="6031" y="97205"/>
                  </a:lnTo>
                  <a:lnTo>
                    <a:pt x="6561" y="95261"/>
                  </a:lnTo>
                  <a:lnTo>
                    <a:pt x="8607" y="93118"/>
                  </a:lnTo>
                  <a:lnTo>
                    <a:pt x="19578" y="85210"/>
                  </a:lnTo>
                  <a:lnTo>
                    <a:pt x="28739" y="77062"/>
                  </a:lnTo>
                  <a:lnTo>
                    <a:pt x="34399" y="72519"/>
                  </a:lnTo>
                  <a:lnTo>
                    <a:pt x="40713" y="67796"/>
                  </a:lnTo>
                  <a:lnTo>
                    <a:pt x="47462" y="62955"/>
                  </a:lnTo>
                  <a:lnTo>
                    <a:pt x="55348" y="58880"/>
                  </a:lnTo>
                  <a:lnTo>
                    <a:pt x="63992" y="55318"/>
                  </a:lnTo>
                  <a:lnTo>
                    <a:pt x="73141" y="52096"/>
                  </a:lnTo>
                  <a:lnTo>
                    <a:pt x="94596" y="44000"/>
                  </a:lnTo>
                  <a:lnTo>
                    <a:pt x="106244" y="39471"/>
                  </a:lnTo>
                  <a:lnTo>
                    <a:pt x="117396" y="35605"/>
                  </a:lnTo>
                  <a:lnTo>
                    <a:pt x="128217" y="32181"/>
                  </a:lnTo>
                  <a:lnTo>
                    <a:pt x="138818" y="29051"/>
                  </a:lnTo>
                  <a:lnTo>
                    <a:pt x="150966" y="26118"/>
                  </a:lnTo>
                  <a:lnTo>
                    <a:pt x="164144" y="23316"/>
                  </a:lnTo>
                  <a:lnTo>
                    <a:pt x="178009" y="20601"/>
                  </a:lnTo>
                  <a:lnTo>
                    <a:pt x="192333" y="17099"/>
                  </a:lnTo>
                  <a:lnTo>
                    <a:pt x="206962" y="13069"/>
                  </a:lnTo>
                  <a:lnTo>
                    <a:pt x="221795" y="8690"/>
                  </a:lnTo>
                  <a:lnTo>
                    <a:pt x="235917" y="5771"/>
                  </a:lnTo>
                  <a:lnTo>
                    <a:pt x="249564" y="3825"/>
                  </a:lnTo>
                  <a:lnTo>
                    <a:pt x="262896" y="2527"/>
                  </a:lnTo>
                  <a:lnTo>
                    <a:pt x="276018" y="1662"/>
                  </a:lnTo>
                  <a:lnTo>
                    <a:pt x="288998" y="1086"/>
                  </a:lnTo>
                  <a:lnTo>
                    <a:pt x="322978" y="274"/>
                  </a:lnTo>
                  <a:lnTo>
                    <a:pt x="357215" y="0"/>
                  </a:lnTo>
                  <a:lnTo>
                    <a:pt x="362604" y="824"/>
                  </a:lnTo>
                  <a:lnTo>
                    <a:pt x="366196" y="2220"/>
                  </a:lnTo>
                  <a:lnTo>
                    <a:pt x="368590" y="3997"/>
                  </a:lnTo>
                  <a:lnTo>
                    <a:pt x="370187" y="6029"/>
                  </a:lnTo>
                  <a:lnTo>
                    <a:pt x="371251" y="8230"/>
                  </a:lnTo>
                  <a:lnTo>
                    <a:pt x="371961" y="10544"/>
                  </a:lnTo>
                  <a:lnTo>
                    <a:pt x="369894" y="12934"/>
                  </a:lnTo>
                  <a:lnTo>
                    <a:pt x="360824" y="17846"/>
                  </a:lnTo>
                  <a:lnTo>
                    <a:pt x="354849" y="20341"/>
                  </a:lnTo>
                  <a:lnTo>
                    <a:pt x="348326" y="22852"/>
                  </a:lnTo>
                  <a:lnTo>
                    <a:pt x="341438" y="25372"/>
                  </a:lnTo>
                  <a:lnTo>
                    <a:pt x="275840" y="51181"/>
                  </a:lnTo>
                  <a:lnTo>
                    <a:pt x="200571" y="81251"/>
                  </a:lnTo>
                  <a:lnTo>
                    <a:pt x="188747" y="86318"/>
                  </a:lnTo>
                  <a:lnTo>
                    <a:pt x="166579" y="96464"/>
                  </a:lnTo>
                  <a:lnTo>
                    <a:pt x="143149" y="107650"/>
                  </a:lnTo>
                  <a:lnTo>
                    <a:pt x="133331" y="115823"/>
                  </a:lnTo>
                  <a:lnTo>
                    <a:pt x="126991" y="124252"/>
                  </a:lnTo>
                  <a:lnTo>
                    <a:pt x="124174" y="130821"/>
                  </a:lnTo>
                  <a:lnTo>
                    <a:pt x="124269" y="134605"/>
                  </a:lnTo>
                  <a:lnTo>
                    <a:pt x="126633" y="143324"/>
                  </a:lnTo>
                  <a:lnTo>
                    <a:pt x="130142" y="147174"/>
                  </a:lnTo>
                  <a:lnTo>
                    <a:pt x="140814" y="153708"/>
                  </a:lnTo>
                  <a:lnTo>
                    <a:pt x="148063" y="156636"/>
                  </a:lnTo>
                  <a:lnTo>
                    <a:pt x="156282" y="159435"/>
                  </a:lnTo>
                  <a:lnTo>
                    <a:pt x="165148" y="162147"/>
                  </a:lnTo>
                  <a:lnTo>
                    <a:pt x="175292" y="165649"/>
                  </a:lnTo>
                  <a:lnTo>
                    <a:pt x="197852" y="174055"/>
                  </a:lnTo>
                  <a:lnTo>
                    <a:pt x="210642" y="177821"/>
                  </a:lnTo>
                  <a:lnTo>
                    <a:pt x="224248" y="181178"/>
                  </a:lnTo>
                  <a:lnTo>
                    <a:pt x="238398" y="184263"/>
                  </a:lnTo>
                  <a:lnTo>
                    <a:pt x="252066" y="188012"/>
                  </a:lnTo>
                  <a:lnTo>
                    <a:pt x="265410" y="192205"/>
                  </a:lnTo>
                  <a:lnTo>
                    <a:pt x="278540" y="196695"/>
                  </a:lnTo>
                  <a:lnTo>
                    <a:pt x="290680" y="201380"/>
                  </a:lnTo>
                  <a:lnTo>
                    <a:pt x="302160" y="206197"/>
                  </a:lnTo>
                  <a:lnTo>
                    <a:pt x="313200" y="211103"/>
                  </a:lnTo>
                  <a:lnTo>
                    <a:pt x="323100" y="216065"/>
                  </a:lnTo>
                  <a:lnTo>
                    <a:pt x="332240" y="221068"/>
                  </a:lnTo>
                  <a:lnTo>
                    <a:pt x="340873" y="226096"/>
                  </a:lnTo>
                  <a:lnTo>
                    <a:pt x="348322" y="231141"/>
                  </a:lnTo>
                  <a:lnTo>
                    <a:pt x="354982" y="236199"/>
                  </a:lnTo>
                  <a:lnTo>
                    <a:pt x="365203" y="245486"/>
                  </a:lnTo>
                  <a:lnTo>
                    <a:pt x="369746" y="252436"/>
                  </a:lnTo>
                  <a:lnTo>
                    <a:pt x="369264" y="256322"/>
                  </a:lnTo>
                  <a:lnTo>
                    <a:pt x="367249" y="260605"/>
                  </a:lnTo>
                  <a:lnTo>
                    <a:pt x="360495" y="269880"/>
                  </a:lnTo>
                  <a:lnTo>
                    <a:pt x="351849" y="279646"/>
                  </a:lnTo>
                  <a:lnTo>
                    <a:pt x="345480" y="284622"/>
                  </a:lnTo>
                  <a:lnTo>
                    <a:pt x="337846" y="289632"/>
                  </a:lnTo>
                  <a:lnTo>
                    <a:pt x="329371" y="294665"/>
                  </a:lnTo>
                  <a:lnTo>
                    <a:pt x="320334" y="298867"/>
                  </a:lnTo>
                  <a:lnTo>
                    <a:pt x="310923" y="302516"/>
                  </a:lnTo>
                  <a:lnTo>
                    <a:pt x="301262" y="305794"/>
                  </a:lnTo>
                  <a:lnTo>
                    <a:pt x="289741" y="308827"/>
                  </a:lnTo>
                  <a:lnTo>
                    <a:pt x="276981" y="311695"/>
                  </a:lnTo>
                  <a:lnTo>
                    <a:pt x="263394" y="314454"/>
                  </a:lnTo>
                  <a:lnTo>
                    <a:pt x="250103" y="316294"/>
                  </a:lnTo>
                  <a:lnTo>
                    <a:pt x="237008" y="317520"/>
                  </a:lnTo>
                  <a:lnTo>
                    <a:pt x="224046" y="318337"/>
                  </a:lnTo>
                  <a:lnTo>
                    <a:pt x="210324" y="319729"/>
                  </a:lnTo>
                  <a:lnTo>
                    <a:pt x="196096" y="321503"/>
                  </a:lnTo>
                  <a:lnTo>
                    <a:pt x="181531" y="323533"/>
                  </a:lnTo>
                  <a:lnTo>
                    <a:pt x="166741" y="324886"/>
                  </a:lnTo>
                  <a:lnTo>
                    <a:pt x="151800" y="325788"/>
                  </a:lnTo>
                  <a:lnTo>
                    <a:pt x="122500" y="326790"/>
                  </a:lnTo>
                  <a:lnTo>
                    <a:pt x="64381" y="327487"/>
                  </a:lnTo>
                  <a:lnTo>
                    <a:pt x="35069" y="327561"/>
                  </a:lnTo>
                  <a:lnTo>
                    <a:pt x="27612" y="326725"/>
                  </a:lnTo>
                  <a:lnTo>
                    <a:pt x="17070" y="323538"/>
                  </a:lnTo>
                  <a:lnTo>
                    <a:pt x="6375" y="321028"/>
                  </a:lnTo>
                  <a:lnTo>
                    <a:pt x="0" y="3199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MARTInkAnnotation479"/>
            <p:cNvSpPr/>
            <p:nvPr/>
          </p:nvSpPr>
          <p:spPr>
            <a:xfrm>
              <a:off x="960480" y="4205520"/>
              <a:ext cx="174600" cy="586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74720" h="586741">
                  <a:moveTo>
                    <a:pt x="75659" y="0"/>
                  </a:moveTo>
                  <a:lnTo>
                    <a:pt x="71614" y="4045"/>
                  </a:lnTo>
                  <a:lnTo>
                    <a:pt x="70422" y="6084"/>
                  </a:lnTo>
                  <a:lnTo>
                    <a:pt x="69098" y="10606"/>
                  </a:lnTo>
                  <a:lnTo>
                    <a:pt x="67402" y="21255"/>
                  </a:lnTo>
                  <a:lnTo>
                    <a:pt x="59792" y="41044"/>
                  </a:lnTo>
                  <a:lnTo>
                    <a:pt x="55907" y="55495"/>
                  </a:lnTo>
                  <a:lnTo>
                    <a:pt x="54180" y="73207"/>
                  </a:lnTo>
                  <a:lnTo>
                    <a:pt x="52027" y="82671"/>
                  </a:lnTo>
                  <a:lnTo>
                    <a:pt x="48897" y="92367"/>
                  </a:lnTo>
                  <a:lnTo>
                    <a:pt x="45118" y="102218"/>
                  </a:lnTo>
                  <a:lnTo>
                    <a:pt x="41752" y="113019"/>
                  </a:lnTo>
                  <a:lnTo>
                    <a:pt x="38661" y="124453"/>
                  </a:lnTo>
                  <a:lnTo>
                    <a:pt x="35754" y="136309"/>
                  </a:lnTo>
                  <a:lnTo>
                    <a:pt x="32969" y="149292"/>
                  </a:lnTo>
                  <a:lnTo>
                    <a:pt x="27617" y="177266"/>
                  </a:lnTo>
                  <a:lnTo>
                    <a:pt x="24158" y="191837"/>
                  </a:lnTo>
                  <a:lnTo>
                    <a:pt x="20158" y="206631"/>
                  </a:lnTo>
                  <a:lnTo>
                    <a:pt x="15798" y="221574"/>
                  </a:lnTo>
                  <a:lnTo>
                    <a:pt x="12045" y="236616"/>
                  </a:lnTo>
                  <a:lnTo>
                    <a:pt x="8696" y="251724"/>
                  </a:lnTo>
                  <a:lnTo>
                    <a:pt x="5618" y="266877"/>
                  </a:lnTo>
                  <a:lnTo>
                    <a:pt x="3565" y="282057"/>
                  </a:lnTo>
                  <a:lnTo>
                    <a:pt x="2196" y="297258"/>
                  </a:lnTo>
                  <a:lnTo>
                    <a:pt x="1284" y="312472"/>
                  </a:lnTo>
                  <a:lnTo>
                    <a:pt x="270" y="342923"/>
                  </a:lnTo>
                  <a:lnTo>
                    <a:pt x="0" y="358155"/>
                  </a:lnTo>
                  <a:lnTo>
                    <a:pt x="666" y="372544"/>
                  </a:lnTo>
                  <a:lnTo>
                    <a:pt x="1957" y="386369"/>
                  </a:lnTo>
                  <a:lnTo>
                    <a:pt x="3665" y="399819"/>
                  </a:lnTo>
                  <a:lnTo>
                    <a:pt x="6496" y="413866"/>
                  </a:lnTo>
                  <a:lnTo>
                    <a:pt x="10077" y="428310"/>
                  </a:lnTo>
                  <a:lnTo>
                    <a:pt x="14158" y="443020"/>
                  </a:lnTo>
                  <a:lnTo>
                    <a:pt x="20265" y="457061"/>
                  </a:lnTo>
                  <a:lnTo>
                    <a:pt x="27723" y="470654"/>
                  </a:lnTo>
                  <a:lnTo>
                    <a:pt x="36082" y="483949"/>
                  </a:lnTo>
                  <a:lnTo>
                    <a:pt x="45888" y="496199"/>
                  </a:lnTo>
                  <a:lnTo>
                    <a:pt x="56658" y="507753"/>
                  </a:lnTo>
                  <a:lnTo>
                    <a:pt x="68072" y="518842"/>
                  </a:lnTo>
                  <a:lnTo>
                    <a:pt x="79914" y="528775"/>
                  </a:lnTo>
                  <a:lnTo>
                    <a:pt x="92043" y="537936"/>
                  </a:lnTo>
                  <a:lnTo>
                    <a:pt x="124823" y="560709"/>
                  </a:lnTo>
                  <a:lnTo>
                    <a:pt x="133835" y="566846"/>
                  </a:lnTo>
                  <a:lnTo>
                    <a:pt x="142383" y="571784"/>
                  </a:lnTo>
                  <a:lnTo>
                    <a:pt x="150622" y="575922"/>
                  </a:lnTo>
                  <a:lnTo>
                    <a:pt x="174719" y="5867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MARTInkAnnotation480"/>
            <p:cNvSpPr/>
            <p:nvPr/>
          </p:nvSpPr>
          <p:spPr>
            <a:xfrm>
              <a:off x="1117800" y="4312440"/>
              <a:ext cx="176400" cy="22716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6549" h="227241">
                  <a:moveTo>
                    <a:pt x="9940" y="30350"/>
                  </a:moveTo>
                  <a:lnTo>
                    <a:pt x="9940" y="26305"/>
                  </a:lnTo>
                  <a:lnTo>
                    <a:pt x="11633" y="25113"/>
                  </a:lnTo>
                  <a:lnTo>
                    <a:pt x="14455" y="24319"/>
                  </a:lnTo>
                  <a:lnTo>
                    <a:pt x="18030" y="23789"/>
                  </a:lnTo>
                  <a:lnTo>
                    <a:pt x="20414" y="22590"/>
                  </a:lnTo>
                  <a:lnTo>
                    <a:pt x="22002" y="20943"/>
                  </a:lnTo>
                  <a:lnTo>
                    <a:pt x="23062" y="18999"/>
                  </a:lnTo>
                  <a:lnTo>
                    <a:pt x="25461" y="16855"/>
                  </a:lnTo>
                  <a:lnTo>
                    <a:pt x="28754" y="14580"/>
                  </a:lnTo>
                  <a:lnTo>
                    <a:pt x="32642" y="12217"/>
                  </a:lnTo>
                  <a:lnTo>
                    <a:pt x="37775" y="9795"/>
                  </a:lnTo>
                  <a:lnTo>
                    <a:pt x="43737" y="7333"/>
                  </a:lnTo>
                  <a:lnTo>
                    <a:pt x="50251" y="4845"/>
                  </a:lnTo>
                  <a:lnTo>
                    <a:pt x="57134" y="3187"/>
                  </a:lnTo>
                  <a:lnTo>
                    <a:pt x="64263" y="2082"/>
                  </a:lnTo>
                  <a:lnTo>
                    <a:pt x="71555" y="1344"/>
                  </a:lnTo>
                  <a:lnTo>
                    <a:pt x="79803" y="853"/>
                  </a:lnTo>
                  <a:lnTo>
                    <a:pt x="97999" y="307"/>
                  </a:lnTo>
                  <a:lnTo>
                    <a:pt x="123238" y="0"/>
                  </a:lnTo>
                  <a:lnTo>
                    <a:pt x="131192" y="803"/>
                  </a:lnTo>
                  <a:lnTo>
                    <a:pt x="139035" y="2186"/>
                  </a:lnTo>
                  <a:lnTo>
                    <a:pt x="146803" y="3954"/>
                  </a:lnTo>
                  <a:lnTo>
                    <a:pt x="153676" y="5979"/>
                  </a:lnTo>
                  <a:lnTo>
                    <a:pt x="159950" y="8177"/>
                  </a:lnTo>
                  <a:lnTo>
                    <a:pt x="165827" y="10488"/>
                  </a:lnTo>
                  <a:lnTo>
                    <a:pt x="169745" y="12875"/>
                  </a:lnTo>
                  <a:lnTo>
                    <a:pt x="172356" y="15313"/>
                  </a:lnTo>
                  <a:lnTo>
                    <a:pt x="174098" y="17786"/>
                  </a:lnTo>
                  <a:lnTo>
                    <a:pt x="175258" y="21127"/>
                  </a:lnTo>
                  <a:lnTo>
                    <a:pt x="176032" y="25048"/>
                  </a:lnTo>
                  <a:lnTo>
                    <a:pt x="176548" y="29355"/>
                  </a:lnTo>
                  <a:lnTo>
                    <a:pt x="175199" y="33920"/>
                  </a:lnTo>
                  <a:lnTo>
                    <a:pt x="172606" y="38656"/>
                  </a:lnTo>
                  <a:lnTo>
                    <a:pt x="169184" y="43508"/>
                  </a:lnTo>
                  <a:lnTo>
                    <a:pt x="165209" y="48435"/>
                  </a:lnTo>
                  <a:lnTo>
                    <a:pt x="160866" y="53413"/>
                  </a:lnTo>
                  <a:lnTo>
                    <a:pt x="156277" y="58425"/>
                  </a:lnTo>
                  <a:lnTo>
                    <a:pt x="150678" y="63461"/>
                  </a:lnTo>
                  <a:lnTo>
                    <a:pt x="144406" y="68510"/>
                  </a:lnTo>
                  <a:lnTo>
                    <a:pt x="137684" y="73570"/>
                  </a:lnTo>
                  <a:lnTo>
                    <a:pt x="129816" y="78637"/>
                  </a:lnTo>
                  <a:lnTo>
                    <a:pt x="121184" y="83708"/>
                  </a:lnTo>
                  <a:lnTo>
                    <a:pt x="112043" y="88782"/>
                  </a:lnTo>
                  <a:lnTo>
                    <a:pt x="102562" y="94705"/>
                  </a:lnTo>
                  <a:lnTo>
                    <a:pt x="92854" y="101193"/>
                  </a:lnTo>
                  <a:lnTo>
                    <a:pt x="82996" y="108059"/>
                  </a:lnTo>
                  <a:lnTo>
                    <a:pt x="73038" y="114329"/>
                  </a:lnTo>
                  <a:lnTo>
                    <a:pt x="63012" y="120203"/>
                  </a:lnTo>
                  <a:lnTo>
                    <a:pt x="52941" y="125812"/>
                  </a:lnTo>
                  <a:lnTo>
                    <a:pt x="44534" y="131245"/>
                  </a:lnTo>
                  <a:lnTo>
                    <a:pt x="37236" y="136560"/>
                  </a:lnTo>
                  <a:lnTo>
                    <a:pt x="30677" y="141797"/>
                  </a:lnTo>
                  <a:lnTo>
                    <a:pt x="24612" y="146981"/>
                  </a:lnTo>
                  <a:lnTo>
                    <a:pt x="18874" y="152131"/>
                  </a:lnTo>
                  <a:lnTo>
                    <a:pt x="13356" y="157257"/>
                  </a:lnTo>
                  <a:lnTo>
                    <a:pt x="8831" y="162368"/>
                  </a:lnTo>
                  <a:lnTo>
                    <a:pt x="4967" y="167469"/>
                  </a:lnTo>
                  <a:lnTo>
                    <a:pt x="1545" y="172562"/>
                  </a:lnTo>
                  <a:lnTo>
                    <a:pt x="110" y="177652"/>
                  </a:lnTo>
                  <a:lnTo>
                    <a:pt x="0" y="182738"/>
                  </a:lnTo>
                  <a:lnTo>
                    <a:pt x="773" y="187822"/>
                  </a:lnTo>
                  <a:lnTo>
                    <a:pt x="2136" y="192904"/>
                  </a:lnTo>
                  <a:lnTo>
                    <a:pt x="3890" y="197986"/>
                  </a:lnTo>
                  <a:lnTo>
                    <a:pt x="5907" y="203067"/>
                  </a:lnTo>
                  <a:lnTo>
                    <a:pt x="9791" y="207302"/>
                  </a:lnTo>
                  <a:lnTo>
                    <a:pt x="14921" y="210971"/>
                  </a:lnTo>
                  <a:lnTo>
                    <a:pt x="20880" y="214264"/>
                  </a:lnTo>
                  <a:lnTo>
                    <a:pt x="29087" y="216460"/>
                  </a:lnTo>
                  <a:lnTo>
                    <a:pt x="38791" y="217923"/>
                  </a:lnTo>
                  <a:lnTo>
                    <a:pt x="49494" y="218899"/>
                  </a:lnTo>
                  <a:lnTo>
                    <a:pt x="60016" y="220396"/>
                  </a:lnTo>
                  <a:lnTo>
                    <a:pt x="70417" y="222241"/>
                  </a:lnTo>
                  <a:lnTo>
                    <a:pt x="80738" y="224317"/>
                  </a:lnTo>
                  <a:lnTo>
                    <a:pt x="92699" y="225701"/>
                  </a:lnTo>
                  <a:lnTo>
                    <a:pt x="105753" y="226624"/>
                  </a:lnTo>
                  <a:lnTo>
                    <a:pt x="119535" y="227240"/>
                  </a:lnTo>
                  <a:lnTo>
                    <a:pt x="130417" y="226803"/>
                  </a:lnTo>
                  <a:lnTo>
                    <a:pt x="139364" y="225666"/>
                  </a:lnTo>
                  <a:lnTo>
                    <a:pt x="162340" y="2208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MARTInkAnnotation481"/>
            <p:cNvSpPr/>
            <p:nvPr/>
          </p:nvSpPr>
          <p:spPr>
            <a:xfrm>
              <a:off x="1455480" y="4320000"/>
              <a:ext cx="37800" cy="28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8008" h="281941">
                  <a:moveTo>
                    <a:pt x="7527" y="0"/>
                  </a:moveTo>
                  <a:lnTo>
                    <a:pt x="7527" y="48142"/>
                  </a:lnTo>
                  <a:lnTo>
                    <a:pt x="6680" y="55801"/>
                  </a:lnTo>
                  <a:lnTo>
                    <a:pt x="5269" y="64294"/>
                  </a:lnTo>
                  <a:lnTo>
                    <a:pt x="3481" y="73343"/>
                  </a:lnTo>
                  <a:lnTo>
                    <a:pt x="2290" y="82762"/>
                  </a:lnTo>
                  <a:lnTo>
                    <a:pt x="1495" y="92428"/>
                  </a:lnTo>
                  <a:lnTo>
                    <a:pt x="966" y="102259"/>
                  </a:lnTo>
                  <a:lnTo>
                    <a:pt x="378" y="122212"/>
                  </a:lnTo>
                  <a:lnTo>
                    <a:pt x="0" y="162618"/>
                  </a:lnTo>
                  <a:lnTo>
                    <a:pt x="816" y="172759"/>
                  </a:lnTo>
                  <a:lnTo>
                    <a:pt x="2206" y="182906"/>
                  </a:lnTo>
                  <a:lnTo>
                    <a:pt x="3980" y="193057"/>
                  </a:lnTo>
                  <a:lnTo>
                    <a:pt x="6009" y="203211"/>
                  </a:lnTo>
                  <a:lnTo>
                    <a:pt x="10521" y="223525"/>
                  </a:lnTo>
                  <a:lnTo>
                    <a:pt x="13756" y="232836"/>
                  </a:lnTo>
                  <a:lnTo>
                    <a:pt x="17606" y="241584"/>
                  </a:lnTo>
                  <a:lnTo>
                    <a:pt x="38007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MARTInkAnnotation482"/>
            <p:cNvSpPr/>
            <p:nvPr/>
          </p:nvSpPr>
          <p:spPr>
            <a:xfrm>
              <a:off x="1676160" y="4343040"/>
              <a:ext cx="83520" cy="198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83821" h="198121">
                  <a:moveTo>
                    <a:pt x="0" y="0"/>
                  </a:moveTo>
                  <a:lnTo>
                    <a:pt x="0" y="18133"/>
                  </a:lnTo>
                  <a:lnTo>
                    <a:pt x="847" y="21402"/>
                  </a:lnTo>
                  <a:lnTo>
                    <a:pt x="2258" y="25275"/>
                  </a:lnTo>
                  <a:lnTo>
                    <a:pt x="4045" y="29550"/>
                  </a:lnTo>
                  <a:lnTo>
                    <a:pt x="5237" y="34940"/>
                  </a:lnTo>
                  <a:lnTo>
                    <a:pt x="6031" y="41073"/>
                  </a:lnTo>
                  <a:lnTo>
                    <a:pt x="6561" y="47702"/>
                  </a:lnTo>
                  <a:lnTo>
                    <a:pt x="7760" y="54661"/>
                  </a:lnTo>
                  <a:lnTo>
                    <a:pt x="9407" y="61841"/>
                  </a:lnTo>
                  <a:lnTo>
                    <a:pt x="11351" y="69167"/>
                  </a:lnTo>
                  <a:lnTo>
                    <a:pt x="15769" y="84081"/>
                  </a:lnTo>
                  <a:lnTo>
                    <a:pt x="25504" y="114352"/>
                  </a:lnTo>
                  <a:lnTo>
                    <a:pt x="28856" y="121107"/>
                  </a:lnTo>
                  <a:lnTo>
                    <a:pt x="32784" y="127305"/>
                  </a:lnTo>
                  <a:lnTo>
                    <a:pt x="37096" y="133130"/>
                  </a:lnTo>
                  <a:lnTo>
                    <a:pt x="46403" y="146376"/>
                  </a:lnTo>
                  <a:lnTo>
                    <a:pt x="51255" y="153464"/>
                  </a:lnTo>
                  <a:lnTo>
                    <a:pt x="56184" y="159882"/>
                  </a:lnTo>
                  <a:lnTo>
                    <a:pt x="61162" y="165855"/>
                  </a:lnTo>
                  <a:lnTo>
                    <a:pt x="70364" y="176160"/>
                  </a:lnTo>
                  <a:lnTo>
                    <a:pt x="77275" y="183562"/>
                  </a:lnTo>
                  <a:lnTo>
                    <a:pt x="79457" y="186722"/>
                  </a:lnTo>
                  <a:lnTo>
                    <a:pt x="80911" y="189674"/>
                  </a:lnTo>
                  <a:lnTo>
                    <a:pt x="83820" y="1981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MARTInkAnnotation483"/>
            <p:cNvSpPr/>
            <p:nvPr/>
          </p:nvSpPr>
          <p:spPr>
            <a:xfrm>
              <a:off x="1645920" y="44420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72920" y="15240"/>
                  </a:lnTo>
                  <a:lnTo>
                    <a:pt x="82480" y="14394"/>
                  </a:lnTo>
                  <a:lnTo>
                    <a:pt x="92240" y="12983"/>
                  </a:lnTo>
                  <a:lnTo>
                    <a:pt x="102134" y="11195"/>
                  </a:lnTo>
                  <a:lnTo>
                    <a:pt x="112116" y="10003"/>
                  </a:lnTo>
                  <a:lnTo>
                    <a:pt x="122157" y="9209"/>
                  </a:lnTo>
                  <a:lnTo>
                    <a:pt x="132238" y="8679"/>
                  </a:lnTo>
                  <a:lnTo>
                    <a:pt x="139805" y="7480"/>
                  </a:lnTo>
                  <a:lnTo>
                    <a:pt x="145697" y="5833"/>
                  </a:ln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MARTInkAnnotation484"/>
            <p:cNvSpPr/>
            <p:nvPr/>
          </p:nvSpPr>
          <p:spPr>
            <a:xfrm>
              <a:off x="1906200" y="4281840"/>
              <a:ext cx="204480" cy="2055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04497" h="205739">
                  <a:moveTo>
                    <a:pt x="36856" y="7618"/>
                  </a:moveTo>
                  <a:lnTo>
                    <a:pt x="36856" y="3573"/>
                  </a:lnTo>
                  <a:lnTo>
                    <a:pt x="37702" y="2381"/>
                  </a:lnTo>
                  <a:lnTo>
                    <a:pt x="39114" y="1587"/>
                  </a:lnTo>
                  <a:lnTo>
                    <a:pt x="42939" y="704"/>
                  </a:lnTo>
                  <a:lnTo>
                    <a:pt x="47462" y="312"/>
                  </a:lnTo>
                  <a:lnTo>
                    <a:pt x="50700" y="207"/>
                  </a:lnTo>
                  <a:lnTo>
                    <a:pt x="68063" y="40"/>
                  </a:lnTo>
                  <a:lnTo>
                    <a:pt x="109499" y="0"/>
                  </a:lnTo>
                  <a:lnTo>
                    <a:pt x="114918" y="847"/>
                  </a:lnTo>
                  <a:lnTo>
                    <a:pt x="120224" y="2257"/>
                  </a:lnTo>
                  <a:lnTo>
                    <a:pt x="125455" y="4044"/>
                  </a:lnTo>
                  <a:lnTo>
                    <a:pt x="129788" y="6082"/>
                  </a:lnTo>
                  <a:lnTo>
                    <a:pt x="133525" y="8287"/>
                  </a:lnTo>
                  <a:lnTo>
                    <a:pt x="141558" y="13865"/>
                  </a:lnTo>
                  <a:lnTo>
                    <a:pt x="142217" y="16016"/>
                  </a:lnTo>
                  <a:lnTo>
                    <a:pt x="142657" y="19143"/>
                  </a:lnTo>
                  <a:lnTo>
                    <a:pt x="142950" y="22922"/>
                  </a:lnTo>
                  <a:lnTo>
                    <a:pt x="142298" y="25441"/>
                  </a:lnTo>
                  <a:lnTo>
                    <a:pt x="141018" y="27120"/>
                  </a:lnTo>
                  <a:lnTo>
                    <a:pt x="139317" y="28239"/>
                  </a:lnTo>
                  <a:lnTo>
                    <a:pt x="135170" y="33999"/>
                  </a:lnTo>
                  <a:lnTo>
                    <a:pt x="132878" y="37905"/>
                  </a:lnTo>
                  <a:lnTo>
                    <a:pt x="128811" y="42203"/>
                  </a:lnTo>
                  <a:lnTo>
                    <a:pt x="123559" y="46761"/>
                  </a:lnTo>
                  <a:lnTo>
                    <a:pt x="117518" y="51493"/>
                  </a:lnTo>
                  <a:lnTo>
                    <a:pt x="110951" y="55495"/>
                  </a:lnTo>
                  <a:lnTo>
                    <a:pt x="104032" y="59009"/>
                  </a:lnTo>
                  <a:lnTo>
                    <a:pt x="96880" y="62199"/>
                  </a:lnTo>
                  <a:lnTo>
                    <a:pt x="89572" y="66019"/>
                  </a:lnTo>
                  <a:lnTo>
                    <a:pt x="82160" y="70259"/>
                  </a:lnTo>
                  <a:lnTo>
                    <a:pt x="74679" y="74778"/>
                  </a:lnTo>
                  <a:lnTo>
                    <a:pt x="59593" y="84316"/>
                  </a:lnTo>
                  <a:lnTo>
                    <a:pt x="52014" y="89230"/>
                  </a:lnTo>
                  <a:lnTo>
                    <a:pt x="45268" y="94199"/>
                  </a:lnTo>
                  <a:lnTo>
                    <a:pt x="39077" y="99206"/>
                  </a:lnTo>
                  <a:lnTo>
                    <a:pt x="33257" y="104236"/>
                  </a:lnTo>
                  <a:lnTo>
                    <a:pt x="26836" y="109283"/>
                  </a:lnTo>
                  <a:lnTo>
                    <a:pt x="20016" y="114342"/>
                  </a:lnTo>
                  <a:lnTo>
                    <a:pt x="12929" y="119407"/>
                  </a:lnTo>
                  <a:lnTo>
                    <a:pt x="8205" y="124477"/>
                  </a:lnTo>
                  <a:lnTo>
                    <a:pt x="5055" y="129551"/>
                  </a:lnTo>
                  <a:lnTo>
                    <a:pt x="2956" y="134626"/>
                  </a:lnTo>
                  <a:lnTo>
                    <a:pt x="1556" y="139704"/>
                  </a:lnTo>
                  <a:lnTo>
                    <a:pt x="622" y="144782"/>
                  </a:lnTo>
                  <a:lnTo>
                    <a:pt x="0" y="149860"/>
                  </a:lnTo>
                  <a:lnTo>
                    <a:pt x="432" y="154093"/>
                  </a:lnTo>
                  <a:lnTo>
                    <a:pt x="1566" y="157761"/>
                  </a:lnTo>
                  <a:lnTo>
                    <a:pt x="3170" y="161053"/>
                  </a:lnTo>
                  <a:lnTo>
                    <a:pt x="6779" y="164942"/>
                  </a:lnTo>
                  <a:lnTo>
                    <a:pt x="11724" y="169227"/>
                  </a:lnTo>
                  <a:lnTo>
                    <a:pt x="17562" y="173777"/>
                  </a:lnTo>
                  <a:lnTo>
                    <a:pt x="23993" y="177658"/>
                  </a:lnTo>
                  <a:lnTo>
                    <a:pt x="30821" y="181091"/>
                  </a:lnTo>
                  <a:lnTo>
                    <a:pt x="37912" y="184227"/>
                  </a:lnTo>
                  <a:lnTo>
                    <a:pt x="46873" y="187164"/>
                  </a:lnTo>
                  <a:lnTo>
                    <a:pt x="57081" y="189968"/>
                  </a:lnTo>
                  <a:lnTo>
                    <a:pt x="68119" y="192685"/>
                  </a:lnTo>
                  <a:lnTo>
                    <a:pt x="91673" y="197961"/>
                  </a:lnTo>
                  <a:lnTo>
                    <a:pt x="103881" y="200553"/>
                  </a:lnTo>
                  <a:lnTo>
                    <a:pt x="115406" y="202282"/>
                  </a:lnTo>
                  <a:lnTo>
                    <a:pt x="126476" y="203433"/>
                  </a:lnTo>
                  <a:lnTo>
                    <a:pt x="137243" y="204202"/>
                  </a:lnTo>
                  <a:lnTo>
                    <a:pt x="147807" y="204714"/>
                  </a:lnTo>
                  <a:lnTo>
                    <a:pt x="168577" y="205283"/>
                  </a:lnTo>
                  <a:lnTo>
                    <a:pt x="204496" y="2057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MARTInkAnnotation485"/>
            <p:cNvSpPr/>
            <p:nvPr/>
          </p:nvSpPr>
          <p:spPr>
            <a:xfrm>
              <a:off x="2148840" y="4129560"/>
              <a:ext cx="151560" cy="42660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151719" h="426722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8607" y="6084"/>
                  </a:lnTo>
                  <a:lnTo>
                    <a:pt x="11665" y="8289"/>
                  </a:lnTo>
                  <a:lnTo>
                    <a:pt x="15397" y="10606"/>
                  </a:lnTo>
                  <a:lnTo>
                    <a:pt x="20424" y="14691"/>
                  </a:lnTo>
                  <a:lnTo>
                    <a:pt x="26316" y="19954"/>
                  </a:lnTo>
                  <a:lnTo>
                    <a:pt x="32784" y="26003"/>
                  </a:lnTo>
                  <a:lnTo>
                    <a:pt x="38789" y="32575"/>
                  </a:lnTo>
                  <a:lnTo>
                    <a:pt x="44486" y="39497"/>
                  </a:lnTo>
                  <a:lnTo>
                    <a:pt x="69842" y="72901"/>
                  </a:lnTo>
                  <a:lnTo>
                    <a:pt x="77041" y="83314"/>
                  </a:lnTo>
                  <a:lnTo>
                    <a:pt x="84381" y="94489"/>
                  </a:lnTo>
                  <a:lnTo>
                    <a:pt x="91814" y="106174"/>
                  </a:lnTo>
                  <a:lnTo>
                    <a:pt x="98462" y="118195"/>
                  </a:lnTo>
                  <a:lnTo>
                    <a:pt x="104588" y="130443"/>
                  </a:lnTo>
                  <a:lnTo>
                    <a:pt x="110365" y="142842"/>
                  </a:lnTo>
                  <a:lnTo>
                    <a:pt x="116757" y="155342"/>
                  </a:lnTo>
                  <a:lnTo>
                    <a:pt x="123558" y="167908"/>
                  </a:lnTo>
                  <a:lnTo>
                    <a:pt x="130632" y="180519"/>
                  </a:lnTo>
                  <a:lnTo>
                    <a:pt x="136195" y="194005"/>
                  </a:lnTo>
                  <a:lnTo>
                    <a:pt x="140750" y="208077"/>
                  </a:lnTo>
                  <a:lnTo>
                    <a:pt x="144633" y="222539"/>
                  </a:lnTo>
                  <a:lnTo>
                    <a:pt x="147222" y="236412"/>
                  </a:lnTo>
                  <a:lnTo>
                    <a:pt x="148948" y="249895"/>
                  </a:lnTo>
                  <a:lnTo>
                    <a:pt x="150099" y="263117"/>
                  </a:lnTo>
                  <a:lnTo>
                    <a:pt x="150866" y="276165"/>
                  </a:lnTo>
                  <a:lnTo>
                    <a:pt x="151718" y="301951"/>
                  </a:lnTo>
                  <a:lnTo>
                    <a:pt x="150252" y="313908"/>
                  </a:lnTo>
                  <a:lnTo>
                    <a:pt x="147581" y="325265"/>
                  </a:lnTo>
                  <a:lnTo>
                    <a:pt x="144107" y="336224"/>
                  </a:lnTo>
                  <a:lnTo>
                    <a:pt x="140098" y="346069"/>
                  </a:lnTo>
                  <a:lnTo>
                    <a:pt x="135732" y="355173"/>
                  </a:lnTo>
                  <a:lnTo>
                    <a:pt x="131128" y="363782"/>
                  </a:lnTo>
                  <a:lnTo>
                    <a:pt x="124672" y="372062"/>
                  </a:lnTo>
                  <a:lnTo>
                    <a:pt x="116981" y="380121"/>
                  </a:lnTo>
                  <a:lnTo>
                    <a:pt x="108468" y="388035"/>
                  </a:lnTo>
                  <a:lnTo>
                    <a:pt x="100252" y="395003"/>
                  </a:lnTo>
                  <a:lnTo>
                    <a:pt x="92235" y="401342"/>
                  </a:lnTo>
                  <a:lnTo>
                    <a:pt x="84350" y="407262"/>
                  </a:lnTo>
                  <a:lnTo>
                    <a:pt x="76553" y="411208"/>
                  </a:lnTo>
                  <a:lnTo>
                    <a:pt x="68815" y="413838"/>
                  </a:lnTo>
                  <a:lnTo>
                    <a:pt x="43532" y="419799"/>
                  </a:lnTo>
                  <a:lnTo>
                    <a:pt x="34101" y="422107"/>
                  </a:lnTo>
                  <a:lnTo>
                    <a:pt x="26121" y="423644"/>
                  </a:lnTo>
                  <a:lnTo>
                    <a:pt x="19107" y="424670"/>
                  </a:lnTo>
                  <a:lnTo>
                    <a:pt x="0" y="4267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MARTInkAnnotation486"/>
            <p:cNvSpPr/>
            <p:nvPr/>
          </p:nvSpPr>
          <p:spPr>
            <a:xfrm>
              <a:off x="2529720" y="4213440"/>
              <a:ext cx="15120" cy="266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240" h="266701">
                  <a:moveTo>
                    <a:pt x="15239" y="0"/>
                  </a:moveTo>
                  <a:lnTo>
                    <a:pt x="15239" y="10606"/>
                  </a:lnTo>
                  <a:lnTo>
                    <a:pt x="14392" y="12998"/>
                  </a:lnTo>
                  <a:lnTo>
                    <a:pt x="12981" y="15438"/>
                  </a:lnTo>
                  <a:lnTo>
                    <a:pt x="11193" y="17912"/>
                  </a:lnTo>
                  <a:lnTo>
                    <a:pt x="10002" y="21255"/>
                  </a:lnTo>
                  <a:lnTo>
                    <a:pt x="9208" y="25177"/>
                  </a:lnTo>
                  <a:lnTo>
                    <a:pt x="8678" y="29484"/>
                  </a:lnTo>
                  <a:lnTo>
                    <a:pt x="7478" y="34050"/>
                  </a:lnTo>
                  <a:lnTo>
                    <a:pt x="5832" y="38787"/>
                  </a:lnTo>
                  <a:lnTo>
                    <a:pt x="3887" y="43637"/>
                  </a:lnTo>
                  <a:lnTo>
                    <a:pt x="2591" y="50259"/>
                  </a:lnTo>
                  <a:lnTo>
                    <a:pt x="1727" y="58059"/>
                  </a:lnTo>
                  <a:lnTo>
                    <a:pt x="1151" y="66646"/>
                  </a:lnTo>
                  <a:lnTo>
                    <a:pt x="767" y="74911"/>
                  </a:lnTo>
                  <a:lnTo>
                    <a:pt x="340" y="90867"/>
                  </a:lnTo>
                  <a:lnTo>
                    <a:pt x="0" y="228164"/>
                  </a:lnTo>
                  <a:lnTo>
                    <a:pt x="846" y="235083"/>
                  </a:lnTo>
                  <a:lnTo>
                    <a:pt x="2257" y="241389"/>
                  </a:lnTo>
                  <a:lnTo>
                    <a:pt x="4044" y="247286"/>
                  </a:lnTo>
                  <a:lnTo>
                    <a:pt x="5236" y="252064"/>
                  </a:lnTo>
                  <a:lnTo>
                    <a:pt x="6030" y="256096"/>
                  </a:lnTo>
                  <a:lnTo>
                    <a:pt x="7619" y="2667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MARTInkAnnotation487"/>
            <p:cNvSpPr/>
            <p:nvPr/>
          </p:nvSpPr>
          <p:spPr>
            <a:xfrm>
              <a:off x="2438280" y="4343040"/>
              <a:ext cx="152280" cy="22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01" h="22861">
                  <a:moveTo>
                    <a:pt x="0" y="0"/>
                  </a:moveTo>
                  <a:lnTo>
                    <a:pt x="19441" y="0"/>
                  </a:lnTo>
                  <a:lnTo>
                    <a:pt x="25661" y="846"/>
                  </a:lnTo>
                  <a:lnTo>
                    <a:pt x="32347" y="2258"/>
                  </a:lnTo>
                  <a:lnTo>
                    <a:pt x="39344" y="4045"/>
                  </a:lnTo>
                  <a:lnTo>
                    <a:pt x="47397" y="5237"/>
                  </a:lnTo>
                  <a:lnTo>
                    <a:pt x="56151" y="6031"/>
                  </a:lnTo>
                  <a:lnTo>
                    <a:pt x="65374" y="6561"/>
                  </a:lnTo>
                  <a:lnTo>
                    <a:pt x="75756" y="7760"/>
                  </a:lnTo>
                  <a:lnTo>
                    <a:pt x="86910" y="9408"/>
                  </a:lnTo>
                  <a:lnTo>
                    <a:pt x="98580" y="11352"/>
                  </a:lnTo>
                  <a:lnTo>
                    <a:pt x="108053" y="12648"/>
                  </a:lnTo>
                  <a:lnTo>
                    <a:pt x="116062" y="13512"/>
                  </a:lnTo>
                  <a:lnTo>
                    <a:pt x="123095" y="14088"/>
                  </a:lnTo>
                  <a:lnTo>
                    <a:pt x="129476" y="15319"/>
                  </a:lnTo>
                  <a:lnTo>
                    <a:pt x="135424" y="16986"/>
                  </a:lnTo>
                  <a:lnTo>
                    <a:pt x="15240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MARTInkAnnotation488"/>
            <p:cNvSpPr/>
            <p:nvPr/>
          </p:nvSpPr>
          <p:spPr>
            <a:xfrm>
              <a:off x="2684520" y="4161240"/>
              <a:ext cx="180360" cy="23472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80575" h="234990">
                  <a:moveTo>
                    <a:pt x="35794" y="29297"/>
                  </a:moveTo>
                  <a:lnTo>
                    <a:pt x="47145" y="17946"/>
                  </a:lnTo>
                  <a:lnTo>
                    <a:pt x="50135" y="15803"/>
                  </a:lnTo>
                  <a:lnTo>
                    <a:pt x="53822" y="13528"/>
                  </a:lnTo>
                  <a:lnTo>
                    <a:pt x="57972" y="11164"/>
                  </a:lnTo>
                  <a:lnTo>
                    <a:pt x="62433" y="9589"/>
                  </a:lnTo>
                  <a:lnTo>
                    <a:pt x="67100" y="8538"/>
                  </a:lnTo>
                  <a:lnTo>
                    <a:pt x="71905" y="7838"/>
                  </a:lnTo>
                  <a:lnTo>
                    <a:pt x="77648" y="6524"/>
                  </a:lnTo>
                  <a:lnTo>
                    <a:pt x="84017" y="4802"/>
                  </a:lnTo>
                  <a:lnTo>
                    <a:pt x="90803" y="2807"/>
                  </a:lnTo>
                  <a:lnTo>
                    <a:pt x="97020" y="1477"/>
                  </a:lnTo>
                  <a:lnTo>
                    <a:pt x="102858" y="590"/>
                  </a:lnTo>
                  <a:lnTo>
                    <a:pt x="108443" y="0"/>
                  </a:lnTo>
                  <a:lnTo>
                    <a:pt x="113860" y="452"/>
                  </a:lnTo>
                  <a:lnTo>
                    <a:pt x="119165" y="1601"/>
                  </a:lnTo>
                  <a:lnTo>
                    <a:pt x="124395" y="3213"/>
                  </a:lnTo>
                  <a:lnTo>
                    <a:pt x="130421" y="4288"/>
                  </a:lnTo>
                  <a:lnTo>
                    <a:pt x="136979" y="5004"/>
                  </a:lnTo>
                  <a:lnTo>
                    <a:pt x="143891" y="5482"/>
                  </a:lnTo>
                  <a:lnTo>
                    <a:pt x="149345" y="6647"/>
                  </a:lnTo>
                  <a:lnTo>
                    <a:pt x="153828" y="8270"/>
                  </a:lnTo>
                  <a:lnTo>
                    <a:pt x="157664" y="10199"/>
                  </a:lnTo>
                  <a:lnTo>
                    <a:pt x="161067" y="11485"/>
                  </a:lnTo>
                  <a:lnTo>
                    <a:pt x="164183" y="12343"/>
                  </a:lnTo>
                  <a:lnTo>
                    <a:pt x="167107" y="12914"/>
                  </a:lnTo>
                  <a:lnTo>
                    <a:pt x="169056" y="14142"/>
                  </a:lnTo>
                  <a:lnTo>
                    <a:pt x="170355" y="15807"/>
                  </a:lnTo>
                  <a:lnTo>
                    <a:pt x="171222" y="17764"/>
                  </a:lnTo>
                  <a:lnTo>
                    <a:pt x="170953" y="20761"/>
                  </a:lnTo>
                  <a:lnTo>
                    <a:pt x="169926" y="24453"/>
                  </a:lnTo>
                  <a:lnTo>
                    <a:pt x="168396" y="28608"/>
                  </a:lnTo>
                  <a:lnTo>
                    <a:pt x="166529" y="33071"/>
                  </a:lnTo>
                  <a:lnTo>
                    <a:pt x="164437" y="37740"/>
                  </a:lnTo>
                  <a:lnTo>
                    <a:pt x="162196" y="42546"/>
                  </a:lnTo>
                  <a:lnTo>
                    <a:pt x="158162" y="47443"/>
                  </a:lnTo>
                  <a:lnTo>
                    <a:pt x="152933" y="52401"/>
                  </a:lnTo>
                  <a:lnTo>
                    <a:pt x="146907" y="57400"/>
                  </a:lnTo>
                  <a:lnTo>
                    <a:pt x="141195" y="62426"/>
                  </a:lnTo>
                  <a:lnTo>
                    <a:pt x="130335" y="72525"/>
                  </a:lnTo>
                  <a:lnTo>
                    <a:pt x="123375" y="78436"/>
                  </a:lnTo>
                  <a:lnTo>
                    <a:pt x="106610" y="91777"/>
                  </a:lnTo>
                  <a:lnTo>
                    <a:pt x="98245" y="98044"/>
                  </a:lnTo>
                  <a:lnTo>
                    <a:pt x="82177" y="109522"/>
                  </a:lnTo>
                  <a:lnTo>
                    <a:pt x="58850" y="125505"/>
                  </a:lnTo>
                  <a:lnTo>
                    <a:pt x="52012" y="131536"/>
                  </a:lnTo>
                  <a:lnTo>
                    <a:pt x="45759" y="138097"/>
                  </a:lnTo>
                  <a:lnTo>
                    <a:pt x="39897" y="145010"/>
                  </a:lnTo>
                  <a:lnTo>
                    <a:pt x="33450" y="151312"/>
                  </a:lnTo>
                  <a:lnTo>
                    <a:pt x="26611" y="157207"/>
                  </a:lnTo>
                  <a:lnTo>
                    <a:pt x="19512" y="162831"/>
                  </a:lnTo>
                  <a:lnTo>
                    <a:pt x="13933" y="168273"/>
                  </a:lnTo>
                  <a:lnTo>
                    <a:pt x="9366" y="173595"/>
                  </a:lnTo>
                  <a:lnTo>
                    <a:pt x="5476" y="178836"/>
                  </a:lnTo>
                  <a:lnTo>
                    <a:pt x="2882" y="184023"/>
                  </a:lnTo>
                  <a:lnTo>
                    <a:pt x="1153" y="189174"/>
                  </a:lnTo>
                  <a:lnTo>
                    <a:pt x="0" y="194302"/>
                  </a:lnTo>
                  <a:lnTo>
                    <a:pt x="78" y="198567"/>
                  </a:lnTo>
                  <a:lnTo>
                    <a:pt x="977" y="202257"/>
                  </a:lnTo>
                  <a:lnTo>
                    <a:pt x="2423" y="205564"/>
                  </a:lnTo>
                  <a:lnTo>
                    <a:pt x="5926" y="209462"/>
                  </a:lnTo>
                  <a:lnTo>
                    <a:pt x="10802" y="213754"/>
                  </a:lnTo>
                  <a:lnTo>
                    <a:pt x="16593" y="218309"/>
                  </a:lnTo>
                  <a:lnTo>
                    <a:pt x="22993" y="222191"/>
                  </a:lnTo>
                  <a:lnTo>
                    <a:pt x="29800" y="225627"/>
                  </a:lnTo>
                  <a:lnTo>
                    <a:pt x="36878" y="228764"/>
                  </a:lnTo>
                  <a:lnTo>
                    <a:pt x="44137" y="230855"/>
                  </a:lnTo>
                  <a:lnTo>
                    <a:pt x="51516" y="232249"/>
                  </a:lnTo>
                  <a:lnTo>
                    <a:pt x="58975" y="233179"/>
                  </a:lnTo>
                  <a:lnTo>
                    <a:pt x="67335" y="233798"/>
                  </a:lnTo>
                  <a:lnTo>
                    <a:pt x="76295" y="234211"/>
                  </a:lnTo>
                  <a:lnTo>
                    <a:pt x="96128" y="234671"/>
                  </a:lnTo>
                  <a:lnTo>
                    <a:pt x="143625" y="234989"/>
                  </a:lnTo>
                  <a:lnTo>
                    <a:pt x="150862" y="234159"/>
                  </a:lnTo>
                  <a:lnTo>
                    <a:pt x="158225" y="232759"/>
                  </a:lnTo>
                  <a:lnTo>
                    <a:pt x="180574" y="22741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MARTInkAnnotation489"/>
            <p:cNvSpPr/>
            <p:nvPr/>
          </p:nvSpPr>
          <p:spPr>
            <a:xfrm>
              <a:off x="2994480" y="417528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0" y="0"/>
                  </a:moveTo>
                  <a:lnTo>
                    <a:pt x="0" y="182569"/>
                  </a:lnTo>
                  <a:lnTo>
                    <a:pt x="846" y="189446"/>
                  </a:lnTo>
                  <a:lnTo>
                    <a:pt x="2257" y="195724"/>
                  </a:lnTo>
                  <a:lnTo>
                    <a:pt x="4045" y="201603"/>
                  </a:lnTo>
                  <a:lnTo>
                    <a:pt x="6930" y="208062"/>
                  </a:lnTo>
                  <a:lnTo>
                    <a:pt x="10546" y="214908"/>
                  </a:lnTo>
                  <a:lnTo>
                    <a:pt x="14651" y="222012"/>
                  </a:lnTo>
                  <a:lnTo>
                    <a:pt x="17387" y="227594"/>
                  </a:lnTo>
                  <a:lnTo>
                    <a:pt x="19212" y="232163"/>
                  </a:lnTo>
                  <a:lnTo>
                    <a:pt x="22860" y="2438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MARTInkAnnotation490"/>
            <p:cNvSpPr/>
            <p:nvPr/>
          </p:nvSpPr>
          <p:spPr>
            <a:xfrm>
              <a:off x="3177360" y="424368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MARTInkAnnotation491"/>
            <p:cNvSpPr/>
            <p:nvPr/>
          </p:nvSpPr>
          <p:spPr>
            <a:xfrm>
              <a:off x="3131640" y="432000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4045" y="6561"/>
                  </a:lnTo>
                  <a:lnTo>
                    <a:pt x="6083" y="7761"/>
                  </a:lnTo>
                  <a:lnTo>
                    <a:pt x="8289" y="9407"/>
                  </a:lnTo>
                  <a:lnTo>
                    <a:pt x="10606" y="11351"/>
                  </a:lnTo>
                  <a:lnTo>
                    <a:pt x="13844" y="12648"/>
                  </a:lnTo>
                  <a:lnTo>
                    <a:pt x="17696" y="13512"/>
                  </a:lnTo>
                  <a:lnTo>
                    <a:pt x="21957" y="14088"/>
                  </a:lnTo>
                  <a:lnTo>
                    <a:pt x="26491" y="15319"/>
                  </a:lnTo>
                  <a:lnTo>
                    <a:pt x="31207" y="16986"/>
                  </a:lnTo>
                  <a:lnTo>
                    <a:pt x="36045" y="18944"/>
                  </a:lnTo>
                  <a:lnTo>
                    <a:pt x="41810" y="20250"/>
                  </a:lnTo>
                  <a:lnTo>
                    <a:pt x="48193" y="21120"/>
                  </a:lnTo>
                  <a:lnTo>
                    <a:pt x="54989" y="21700"/>
                  </a:lnTo>
                  <a:lnTo>
                    <a:pt x="62059" y="22087"/>
                  </a:lnTo>
                  <a:lnTo>
                    <a:pt x="76689" y="22516"/>
                  </a:lnTo>
                  <a:lnTo>
                    <a:pt x="18288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MARTInkAnnotation492"/>
            <p:cNvSpPr/>
            <p:nvPr/>
          </p:nvSpPr>
          <p:spPr>
            <a:xfrm>
              <a:off x="3399120" y="4091760"/>
              <a:ext cx="212400" cy="3117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212713" h="311975">
                  <a:moveTo>
                    <a:pt x="212712" y="60514"/>
                  </a:moveTo>
                  <a:lnTo>
                    <a:pt x="212712" y="27483"/>
                  </a:lnTo>
                  <a:lnTo>
                    <a:pt x="211865" y="24946"/>
                  </a:lnTo>
                  <a:lnTo>
                    <a:pt x="208667" y="19871"/>
                  </a:lnTo>
                  <a:lnTo>
                    <a:pt x="202106" y="12253"/>
                  </a:lnTo>
                  <a:lnTo>
                    <a:pt x="198868" y="9714"/>
                  </a:lnTo>
                  <a:lnTo>
                    <a:pt x="195016" y="7174"/>
                  </a:lnTo>
                  <a:lnTo>
                    <a:pt x="190755" y="4634"/>
                  </a:lnTo>
                  <a:lnTo>
                    <a:pt x="186221" y="2941"/>
                  </a:lnTo>
                  <a:lnTo>
                    <a:pt x="181505" y="1812"/>
                  </a:lnTo>
                  <a:lnTo>
                    <a:pt x="176667" y="1059"/>
                  </a:lnTo>
                  <a:lnTo>
                    <a:pt x="170902" y="557"/>
                  </a:lnTo>
                  <a:lnTo>
                    <a:pt x="164519" y="223"/>
                  </a:lnTo>
                  <a:lnTo>
                    <a:pt x="157723" y="0"/>
                  </a:lnTo>
                  <a:lnTo>
                    <a:pt x="148959" y="698"/>
                  </a:lnTo>
                  <a:lnTo>
                    <a:pt x="138884" y="2011"/>
                  </a:lnTo>
                  <a:lnTo>
                    <a:pt x="127933" y="3731"/>
                  </a:lnTo>
                  <a:lnTo>
                    <a:pt x="117246" y="6572"/>
                  </a:lnTo>
                  <a:lnTo>
                    <a:pt x="106735" y="10160"/>
                  </a:lnTo>
                  <a:lnTo>
                    <a:pt x="86871" y="17814"/>
                  </a:lnTo>
                  <a:lnTo>
                    <a:pt x="69576" y="24039"/>
                  </a:lnTo>
                  <a:lnTo>
                    <a:pt x="60562" y="27731"/>
                  </a:lnTo>
                  <a:lnTo>
                    <a:pt x="51165" y="31886"/>
                  </a:lnTo>
                  <a:lnTo>
                    <a:pt x="41514" y="36348"/>
                  </a:lnTo>
                  <a:lnTo>
                    <a:pt x="33387" y="41017"/>
                  </a:lnTo>
                  <a:lnTo>
                    <a:pt x="26275" y="45823"/>
                  </a:lnTo>
                  <a:lnTo>
                    <a:pt x="19841" y="50720"/>
                  </a:lnTo>
                  <a:lnTo>
                    <a:pt x="14705" y="55678"/>
                  </a:lnTo>
                  <a:lnTo>
                    <a:pt x="10434" y="60677"/>
                  </a:lnTo>
                  <a:lnTo>
                    <a:pt x="4277" y="69899"/>
                  </a:lnTo>
                  <a:lnTo>
                    <a:pt x="1541" y="76821"/>
                  </a:lnTo>
                  <a:lnTo>
                    <a:pt x="325" y="84978"/>
                  </a:lnTo>
                  <a:lnTo>
                    <a:pt x="0" y="89523"/>
                  </a:lnTo>
                  <a:lnTo>
                    <a:pt x="1478" y="93400"/>
                  </a:lnTo>
                  <a:lnTo>
                    <a:pt x="4156" y="96832"/>
                  </a:lnTo>
                  <a:lnTo>
                    <a:pt x="7635" y="99966"/>
                  </a:lnTo>
                  <a:lnTo>
                    <a:pt x="11647" y="102902"/>
                  </a:lnTo>
                  <a:lnTo>
                    <a:pt x="16015" y="105706"/>
                  </a:lnTo>
                  <a:lnTo>
                    <a:pt x="20621" y="108422"/>
                  </a:lnTo>
                  <a:lnTo>
                    <a:pt x="26231" y="110233"/>
                  </a:lnTo>
                  <a:lnTo>
                    <a:pt x="32511" y="111440"/>
                  </a:lnTo>
                  <a:lnTo>
                    <a:pt x="39238" y="112245"/>
                  </a:lnTo>
                  <a:lnTo>
                    <a:pt x="46263" y="112781"/>
                  </a:lnTo>
                  <a:lnTo>
                    <a:pt x="53486" y="113139"/>
                  </a:lnTo>
                  <a:lnTo>
                    <a:pt x="60841" y="113377"/>
                  </a:lnTo>
                  <a:lnTo>
                    <a:pt x="68285" y="112690"/>
                  </a:lnTo>
                  <a:lnTo>
                    <a:pt x="75787" y="111385"/>
                  </a:lnTo>
                  <a:lnTo>
                    <a:pt x="83329" y="109668"/>
                  </a:lnTo>
                  <a:lnTo>
                    <a:pt x="90897" y="107676"/>
                  </a:lnTo>
                  <a:lnTo>
                    <a:pt x="98482" y="105503"/>
                  </a:lnTo>
                  <a:lnTo>
                    <a:pt x="113683" y="100829"/>
                  </a:lnTo>
                  <a:lnTo>
                    <a:pt x="128906" y="95930"/>
                  </a:lnTo>
                  <a:lnTo>
                    <a:pt x="135674" y="92591"/>
                  </a:lnTo>
                  <a:lnTo>
                    <a:pt x="141880" y="88672"/>
                  </a:lnTo>
                  <a:lnTo>
                    <a:pt x="147711" y="84366"/>
                  </a:lnTo>
                  <a:lnTo>
                    <a:pt x="152445" y="79802"/>
                  </a:lnTo>
                  <a:lnTo>
                    <a:pt x="156447" y="75067"/>
                  </a:lnTo>
                  <a:lnTo>
                    <a:pt x="159962" y="70216"/>
                  </a:lnTo>
                  <a:lnTo>
                    <a:pt x="163152" y="65288"/>
                  </a:lnTo>
                  <a:lnTo>
                    <a:pt x="166126" y="60311"/>
                  </a:lnTo>
                  <a:lnTo>
                    <a:pt x="171687" y="51110"/>
                  </a:lnTo>
                  <a:lnTo>
                    <a:pt x="176981" y="44199"/>
                  </a:lnTo>
                  <a:lnTo>
                    <a:pt x="179898" y="38305"/>
                  </a:lnTo>
                  <a:lnTo>
                    <a:pt x="181771" y="31668"/>
                  </a:lnTo>
                  <a:lnTo>
                    <a:pt x="182141" y="25967"/>
                  </a:lnTo>
                  <a:lnTo>
                    <a:pt x="182192" y="27663"/>
                  </a:lnTo>
                  <a:lnTo>
                    <a:pt x="181358" y="29300"/>
                  </a:lnTo>
                  <a:lnTo>
                    <a:pt x="176141" y="36496"/>
                  </a:lnTo>
                  <a:lnTo>
                    <a:pt x="171623" y="44477"/>
                  </a:lnTo>
                  <a:lnTo>
                    <a:pt x="166793" y="53669"/>
                  </a:lnTo>
                  <a:lnTo>
                    <a:pt x="164319" y="58491"/>
                  </a:lnTo>
                  <a:lnTo>
                    <a:pt x="161824" y="64245"/>
                  </a:lnTo>
                  <a:lnTo>
                    <a:pt x="159313" y="70622"/>
                  </a:lnTo>
                  <a:lnTo>
                    <a:pt x="154266" y="84480"/>
                  </a:lnTo>
                  <a:lnTo>
                    <a:pt x="141589" y="121620"/>
                  </a:lnTo>
                  <a:lnTo>
                    <a:pt x="138203" y="130038"/>
                  </a:lnTo>
                  <a:lnTo>
                    <a:pt x="134253" y="139037"/>
                  </a:lnTo>
                  <a:lnTo>
                    <a:pt x="129926" y="148423"/>
                  </a:lnTo>
                  <a:lnTo>
                    <a:pt x="126195" y="158066"/>
                  </a:lnTo>
                  <a:lnTo>
                    <a:pt x="122860" y="167883"/>
                  </a:lnTo>
                  <a:lnTo>
                    <a:pt x="119791" y="177813"/>
                  </a:lnTo>
                  <a:lnTo>
                    <a:pt x="117745" y="186974"/>
                  </a:lnTo>
                  <a:lnTo>
                    <a:pt x="116381" y="195620"/>
                  </a:lnTo>
                  <a:lnTo>
                    <a:pt x="115471" y="203925"/>
                  </a:lnTo>
                  <a:lnTo>
                    <a:pt x="114864" y="212001"/>
                  </a:lnTo>
                  <a:lnTo>
                    <a:pt x="114461" y="219926"/>
                  </a:lnTo>
                  <a:lnTo>
                    <a:pt x="114012" y="235503"/>
                  </a:lnTo>
                  <a:lnTo>
                    <a:pt x="113812" y="250894"/>
                  </a:lnTo>
                  <a:lnTo>
                    <a:pt x="114606" y="257707"/>
                  </a:lnTo>
                  <a:lnTo>
                    <a:pt x="115981" y="263943"/>
                  </a:lnTo>
                  <a:lnTo>
                    <a:pt x="117744" y="269793"/>
                  </a:lnTo>
                  <a:lnTo>
                    <a:pt x="119767" y="275387"/>
                  </a:lnTo>
                  <a:lnTo>
                    <a:pt x="121962" y="280809"/>
                  </a:lnTo>
                  <a:lnTo>
                    <a:pt x="126659" y="290503"/>
                  </a:lnTo>
                  <a:lnTo>
                    <a:pt x="131569" y="297634"/>
                  </a:lnTo>
                  <a:lnTo>
                    <a:pt x="134063" y="299874"/>
                  </a:lnTo>
                  <a:lnTo>
                    <a:pt x="136573" y="301368"/>
                  </a:lnTo>
                  <a:lnTo>
                    <a:pt x="139092" y="302363"/>
                  </a:lnTo>
                  <a:lnTo>
                    <a:pt x="140772" y="303874"/>
                  </a:lnTo>
                  <a:lnTo>
                    <a:pt x="141892" y="305727"/>
                  </a:lnTo>
                  <a:lnTo>
                    <a:pt x="144132" y="31197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493"/>
            <p:cNvSpPr/>
            <p:nvPr/>
          </p:nvSpPr>
          <p:spPr>
            <a:xfrm>
              <a:off x="3673080" y="4106880"/>
              <a:ext cx="167040" cy="3038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67272" h="304088">
                  <a:moveTo>
                    <a:pt x="167271" y="15120"/>
                  </a:moveTo>
                  <a:lnTo>
                    <a:pt x="167271" y="11075"/>
                  </a:lnTo>
                  <a:lnTo>
                    <a:pt x="166425" y="9037"/>
                  </a:lnTo>
                  <a:lnTo>
                    <a:pt x="161241" y="1940"/>
                  </a:lnTo>
                  <a:lnTo>
                    <a:pt x="160710" y="1253"/>
                  </a:lnTo>
                  <a:lnTo>
                    <a:pt x="155607" y="490"/>
                  </a:lnTo>
                  <a:lnTo>
                    <a:pt x="151875" y="287"/>
                  </a:lnTo>
                  <a:lnTo>
                    <a:pt x="143213" y="61"/>
                  </a:lnTo>
                  <a:lnTo>
                    <a:pt x="138532" y="0"/>
                  </a:lnTo>
                  <a:lnTo>
                    <a:pt x="132872" y="807"/>
                  </a:lnTo>
                  <a:lnTo>
                    <a:pt x="126559" y="2191"/>
                  </a:lnTo>
                  <a:lnTo>
                    <a:pt x="119810" y="3961"/>
                  </a:lnTo>
                  <a:lnTo>
                    <a:pt x="112770" y="6834"/>
                  </a:lnTo>
                  <a:lnTo>
                    <a:pt x="105537" y="10443"/>
                  </a:lnTo>
                  <a:lnTo>
                    <a:pt x="98175" y="14542"/>
                  </a:lnTo>
                  <a:lnTo>
                    <a:pt x="90727" y="19815"/>
                  </a:lnTo>
                  <a:lnTo>
                    <a:pt x="83222" y="25870"/>
                  </a:lnTo>
                  <a:lnTo>
                    <a:pt x="75678" y="32447"/>
                  </a:lnTo>
                  <a:lnTo>
                    <a:pt x="68110" y="39371"/>
                  </a:lnTo>
                  <a:lnTo>
                    <a:pt x="52927" y="53838"/>
                  </a:lnTo>
                  <a:lnTo>
                    <a:pt x="46168" y="61253"/>
                  </a:lnTo>
                  <a:lnTo>
                    <a:pt x="39970" y="68735"/>
                  </a:lnTo>
                  <a:lnTo>
                    <a:pt x="13808" y="103040"/>
                  </a:lnTo>
                  <a:lnTo>
                    <a:pt x="9083" y="112680"/>
                  </a:lnTo>
                  <a:lnTo>
                    <a:pt x="5932" y="122493"/>
                  </a:lnTo>
                  <a:lnTo>
                    <a:pt x="3832" y="132422"/>
                  </a:lnTo>
                  <a:lnTo>
                    <a:pt x="2432" y="142428"/>
                  </a:lnTo>
                  <a:lnTo>
                    <a:pt x="1499" y="152486"/>
                  </a:lnTo>
                  <a:lnTo>
                    <a:pt x="876" y="162577"/>
                  </a:lnTo>
                  <a:lnTo>
                    <a:pt x="184" y="182821"/>
                  </a:lnTo>
                  <a:lnTo>
                    <a:pt x="0" y="192960"/>
                  </a:lnTo>
                  <a:lnTo>
                    <a:pt x="1570" y="203107"/>
                  </a:lnTo>
                  <a:lnTo>
                    <a:pt x="4311" y="213258"/>
                  </a:lnTo>
                  <a:lnTo>
                    <a:pt x="7831" y="223412"/>
                  </a:lnTo>
                  <a:lnTo>
                    <a:pt x="11871" y="232722"/>
                  </a:lnTo>
                  <a:lnTo>
                    <a:pt x="16258" y="241468"/>
                  </a:lnTo>
                  <a:lnTo>
                    <a:pt x="20875" y="249839"/>
                  </a:lnTo>
                  <a:lnTo>
                    <a:pt x="26494" y="257112"/>
                  </a:lnTo>
                  <a:lnTo>
                    <a:pt x="32781" y="263655"/>
                  </a:lnTo>
                  <a:lnTo>
                    <a:pt x="39510" y="269710"/>
                  </a:lnTo>
                  <a:lnTo>
                    <a:pt x="46538" y="275440"/>
                  </a:lnTo>
                  <a:lnTo>
                    <a:pt x="53762" y="280953"/>
                  </a:lnTo>
                  <a:lnTo>
                    <a:pt x="61119" y="286322"/>
                  </a:lnTo>
                  <a:lnTo>
                    <a:pt x="67716" y="290748"/>
                  </a:lnTo>
                  <a:lnTo>
                    <a:pt x="73808" y="294545"/>
                  </a:lnTo>
                  <a:lnTo>
                    <a:pt x="79563" y="297924"/>
                  </a:lnTo>
                  <a:lnTo>
                    <a:pt x="85092" y="300176"/>
                  </a:lnTo>
                  <a:lnTo>
                    <a:pt x="90472" y="301677"/>
                  </a:lnTo>
                  <a:lnTo>
                    <a:pt x="95751" y="302678"/>
                  </a:lnTo>
                  <a:lnTo>
                    <a:pt x="100965" y="303345"/>
                  </a:lnTo>
                  <a:lnTo>
                    <a:pt x="106134" y="303790"/>
                  </a:lnTo>
                  <a:lnTo>
                    <a:pt x="111273" y="304087"/>
                  </a:lnTo>
                  <a:lnTo>
                    <a:pt x="117239" y="302591"/>
                  </a:lnTo>
                  <a:lnTo>
                    <a:pt x="123756" y="299901"/>
                  </a:lnTo>
                  <a:lnTo>
                    <a:pt x="130642" y="296414"/>
                  </a:lnTo>
                  <a:lnTo>
                    <a:pt x="136078" y="292396"/>
                  </a:lnTo>
                  <a:lnTo>
                    <a:pt x="140550" y="288024"/>
                  </a:lnTo>
                  <a:lnTo>
                    <a:pt x="144376" y="283416"/>
                  </a:lnTo>
                  <a:lnTo>
                    <a:pt x="147775" y="277804"/>
                  </a:lnTo>
                  <a:lnTo>
                    <a:pt x="150888" y="271523"/>
                  </a:lnTo>
                  <a:lnTo>
                    <a:pt x="153808" y="264795"/>
                  </a:lnTo>
                  <a:lnTo>
                    <a:pt x="159312" y="252804"/>
                  </a:lnTo>
                  <a:lnTo>
                    <a:pt x="161965" y="247237"/>
                  </a:lnTo>
                  <a:lnTo>
                    <a:pt x="162888" y="240984"/>
                  </a:lnTo>
                  <a:lnTo>
                    <a:pt x="162656" y="234276"/>
                  </a:lnTo>
                  <a:lnTo>
                    <a:pt x="161654" y="227264"/>
                  </a:lnTo>
                  <a:lnTo>
                    <a:pt x="160987" y="220896"/>
                  </a:lnTo>
                  <a:lnTo>
                    <a:pt x="160541" y="214957"/>
                  </a:lnTo>
                  <a:lnTo>
                    <a:pt x="160245" y="209305"/>
                  </a:lnTo>
                  <a:lnTo>
                    <a:pt x="159200" y="204690"/>
                  </a:lnTo>
                  <a:lnTo>
                    <a:pt x="157658" y="200766"/>
                  </a:lnTo>
                  <a:lnTo>
                    <a:pt x="152032" y="1903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494"/>
            <p:cNvSpPr/>
            <p:nvPr/>
          </p:nvSpPr>
          <p:spPr>
            <a:xfrm>
              <a:off x="274320" y="4144680"/>
              <a:ext cx="2742840" cy="7542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743198" h="754242">
                  <a:moveTo>
                    <a:pt x="0" y="647701"/>
                  </a:moveTo>
                  <a:lnTo>
                    <a:pt x="22924" y="647701"/>
                  </a:lnTo>
                  <a:lnTo>
                    <a:pt x="26289" y="648547"/>
                  </a:lnTo>
                  <a:lnTo>
                    <a:pt x="35918" y="652938"/>
                  </a:lnTo>
                  <a:lnTo>
                    <a:pt x="53912" y="654850"/>
                  </a:lnTo>
                  <a:lnTo>
                    <a:pt x="137223" y="655317"/>
                  </a:lnTo>
                  <a:lnTo>
                    <a:pt x="175268" y="656166"/>
                  </a:lnTo>
                  <a:lnTo>
                    <a:pt x="227064" y="662234"/>
                  </a:lnTo>
                  <a:lnTo>
                    <a:pt x="307379" y="662913"/>
                  </a:lnTo>
                  <a:lnTo>
                    <a:pt x="364176" y="665195"/>
                  </a:lnTo>
                  <a:lnTo>
                    <a:pt x="443348" y="674292"/>
                  </a:lnTo>
                  <a:lnTo>
                    <a:pt x="522526" y="677840"/>
                  </a:lnTo>
                  <a:lnTo>
                    <a:pt x="606861" y="685921"/>
                  </a:lnTo>
                  <a:lnTo>
                    <a:pt x="686162" y="692651"/>
                  </a:lnTo>
                  <a:lnTo>
                    <a:pt x="765195" y="698590"/>
                  </a:lnTo>
                  <a:lnTo>
                    <a:pt x="848484" y="700825"/>
                  </a:lnTo>
                  <a:lnTo>
                    <a:pt x="931410" y="706259"/>
                  </a:lnTo>
                  <a:lnTo>
                    <a:pt x="1014396" y="709297"/>
                  </a:lnTo>
                  <a:lnTo>
                    <a:pt x="1089783" y="715194"/>
                  </a:lnTo>
                  <a:lnTo>
                    <a:pt x="1163618" y="716137"/>
                  </a:lnTo>
                  <a:lnTo>
                    <a:pt x="1235148" y="717108"/>
                  </a:lnTo>
                  <a:lnTo>
                    <a:pt x="1310733" y="722839"/>
                  </a:lnTo>
                  <a:lnTo>
                    <a:pt x="1392883" y="723761"/>
                  </a:lnTo>
                  <a:lnTo>
                    <a:pt x="1475689" y="724729"/>
                  </a:lnTo>
                  <a:lnTo>
                    <a:pt x="1558184" y="730459"/>
                  </a:lnTo>
                  <a:lnTo>
                    <a:pt x="1640042" y="731381"/>
                  </a:lnTo>
                  <a:lnTo>
                    <a:pt x="1752256" y="731512"/>
                  </a:lnTo>
                  <a:lnTo>
                    <a:pt x="1837044" y="737551"/>
                  </a:lnTo>
                  <a:lnTo>
                    <a:pt x="1920165" y="738932"/>
                  </a:lnTo>
                  <a:lnTo>
                    <a:pt x="2002879" y="743158"/>
                  </a:lnTo>
                  <a:lnTo>
                    <a:pt x="2086135" y="746287"/>
                  </a:lnTo>
                  <a:lnTo>
                    <a:pt x="2194458" y="746733"/>
                  </a:lnTo>
                  <a:lnTo>
                    <a:pt x="2270746" y="752788"/>
                  </a:lnTo>
                  <a:lnTo>
                    <a:pt x="2356167" y="754241"/>
                  </a:lnTo>
                  <a:lnTo>
                    <a:pt x="2435612" y="752111"/>
                  </a:lnTo>
                  <a:lnTo>
                    <a:pt x="2514334" y="740886"/>
                  </a:lnTo>
                  <a:lnTo>
                    <a:pt x="2550891" y="733622"/>
                  </a:lnTo>
                  <a:lnTo>
                    <a:pt x="2559114" y="732921"/>
                  </a:lnTo>
                  <a:lnTo>
                    <a:pt x="2575024" y="727627"/>
                  </a:lnTo>
                  <a:lnTo>
                    <a:pt x="2589715" y="719630"/>
                  </a:lnTo>
                  <a:lnTo>
                    <a:pt x="2614217" y="699778"/>
                  </a:lnTo>
                  <a:lnTo>
                    <a:pt x="2636928" y="677680"/>
                  </a:lnTo>
                  <a:lnTo>
                    <a:pt x="2646014" y="667798"/>
                  </a:lnTo>
                  <a:lnTo>
                    <a:pt x="2652875" y="657762"/>
                  </a:lnTo>
                  <a:lnTo>
                    <a:pt x="2661498" y="638546"/>
                  </a:lnTo>
                  <a:lnTo>
                    <a:pt x="2669415" y="620811"/>
                  </a:lnTo>
                  <a:lnTo>
                    <a:pt x="2677123" y="600787"/>
                  </a:lnTo>
                  <a:lnTo>
                    <a:pt x="2680723" y="578767"/>
                  </a:lnTo>
                  <a:lnTo>
                    <a:pt x="2685836" y="556156"/>
                  </a:lnTo>
                  <a:lnTo>
                    <a:pt x="2692712" y="533369"/>
                  </a:lnTo>
                  <a:lnTo>
                    <a:pt x="2707667" y="487678"/>
                  </a:lnTo>
                  <a:lnTo>
                    <a:pt x="2711222" y="464820"/>
                  </a:lnTo>
                  <a:lnTo>
                    <a:pt x="2717661" y="434340"/>
                  </a:lnTo>
                  <a:lnTo>
                    <a:pt x="2720393" y="411481"/>
                  </a:lnTo>
                  <a:lnTo>
                    <a:pt x="2725341" y="388620"/>
                  </a:lnTo>
                  <a:lnTo>
                    <a:pt x="2727184" y="365761"/>
                  </a:lnTo>
                  <a:lnTo>
                    <a:pt x="2727730" y="342901"/>
                  </a:lnTo>
                  <a:lnTo>
                    <a:pt x="2727957" y="259081"/>
                  </a:lnTo>
                  <a:lnTo>
                    <a:pt x="2732004" y="236220"/>
                  </a:lnTo>
                  <a:lnTo>
                    <a:pt x="2734520" y="213361"/>
                  </a:lnTo>
                  <a:lnTo>
                    <a:pt x="2735266" y="190500"/>
                  </a:lnTo>
                  <a:lnTo>
                    <a:pt x="2737698" y="177518"/>
                  </a:lnTo>
                  <a:lnTo>
                    <a:pt x="2740754" y="165257"/>
                  </a:lnTo>
                  <a:lnTo>
                    <a:pt x="2742475" y="144074"/>
                  </a:lnTo>
                  <a:lnTo>
                    <a:pt x="2742985" y="122558"/>
                  </a:lnTo>
                  <a:lnTo>
                    <a:pt x="2743197" y="56976"/>
                  </a:lnTo>
                  <a:lnTo>
                    <a:pt x="2739154" y="36920"/>
                  </a:lnTo>
                  <a:lnTo>
                    <a:pt x="2736286" y="14317"/>
                  </a:lnTo>
                  <a:lnTo>
                    <a:pt x="273557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495"/>
            <p:cNvSpPr/>
            <p:nvPr/>
          </p:nvSpPr>
          <p:spPr>
            <a:xfrm>
              <a:off x="114480" y="4007520"/>
              <a:ext cx="2895480" cy="70092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w="2895496" h="701039">
                  <a:moveTo>
                    <a:pt x="2895495" y="83817"/>
                  </a:moveTo>
                  <a:lnTo>
                    <a:pt x="2891450" y="79772"/>
                  </a:lnTo>
                  <a:lnTo>
                    <a:pt x="2890258" y="77734"/>
                  </a:lnTo>
                  <a:lnTo>
                    <a:pt x="2888934" y="73212"/>
                  </a:lnTo>
                  <a:lnTo>
                    <a:pt x="2887734" y="71667"/>
                  </a:lnTo>
                  <a:lnTo>
                    <a:pt x="2886088" y="70637"/>
                  </a:lnTo>
                  <a:lnTo>
                    <a:pt x="2884144" y="69950"/>
                  </a:lnTo>
                  <a:lnTo>
                    <a:pt x="2882847" y="67799"/>
                  </a:lnTo>
                  <a:lnTo>
                    <a:pt x="2880176" y="57528"/>
                  </a:lnTo>
                  <a:lnTo>
                    <a:pt x="2876551" y="51531"/>
                  </a:lnTo>
                  <a:lnTo>
                    <a:pt x="2869860" y="46043"/>
                  </a:lnTo>
                  <a:lnTo>
                    <a:pt x="2855812" y="35621"/>
                  </a:lnTo>
                  <a:lnTo>
                    <a:pt x="2844037" y="25410"/>
                  </a:lnTo>
                  <a:lnTo>
                    <a:pt x="2835654" y="20323"/>
                  </a:lnTo>
                  <a:lnTo>
                    <a:pt x="2826283" y="17498"/>
                  </a:lnTo>
                  <a:lnTo>
                    <a:pt x="2738516" y="1743"/>
                  </a:lnTo>
                  <a:lnTo>
                    <a:pt x="2653467" y="65"/>
                  </a:lnTo>
                  <a:lnTo>
                    <a:pt x="2548446" y="0"/>
                  </a:lnTo>
                  <a:lnTo>
                    <a:pt x="2473591" y="6029"/>
                  </a:lnTo>
                  <a:lnTo>
                    <a:pt x="2393209" y="8255"/>
                  </a:lnTo>
                  <a:lnTo>
                    <a:pt x="2312413" y="14150"/>
                  </a:lnTo>
                  <a:lnTo>
                    <a:pt x="2224748" y="17352"/>
                  </a:lnTo>
                  <a:lnTo>
                    <a:pt x="2100464" y="26580"/>
                  </a:lnTo>
                  <a:lnTo>
                    <a:pt x="2018879" y="30554"/>
                  </a:lnTo>
                  <a:lnTo>
                    <a:pt x="1941678" y="36356"/>
                  </a:lnTo>
                  <a:lnTo>
                    <a:pt x="1865500" y="37753"/>
                  </a:lnTo>
                  <a:lnTo>
                    <a:pt x="1786451" y="38876"/>
                  </a:lnTo>
                  <a:lnTo>
                    <a:pt x="1700594" y="44115"/>
                  </a:lnTo>
                  <a:lnTo>
                    <a:pt x="1614114" y="45401"/>
                  </a:lnTo>
                  <a:lnTo>
                    <a:pt x="1230410" y="45717"/>
                  </a:lnTo>
                  <a:lnTo>
                    <a:pt x="1125549" y="39686"/>
                  </a:lnTo>
                  <a:lnTo>
                    <a:pt x="1039844" y="38411"/>
                  </a:lnTo>
                  <a:lnTo>
                    <a:pt x="863209" y="38106"/>
                  </a:lnTo>
                  <a:lnTo>
                    <a:pt x="770146" y="32067"/>
                  </a:lnTo>
                  <a:lnTo>
                    <a:pt x="685935" y="25449"/>
                  </a:lnTo>
                  <a:lnTo>
                    <a:pt x="607122" y="23198"/>
                  </a:lnTo>
                  <a:lnTo>
                    <a:pt x="528453" y="16326"/>
                  </a:lnTo>
                  <a:lnTo>
                    <a:pt x="442063" y="9248"/>
                  </a:lnTo>
                  <a:lnTo>
                    <a:pt x="357425" y="7645"/>
                  </a:lnTo>
                  <a:lnTo>
                    <a:pt x="328281" y="8469"/>
                  </a:lnTo>
                  <a:lnTo>
                    <a:pt x="310743" y="13702"/>
                  </a:lnTo>
                  <a:lnTo>
                    <a:pt x="294822" y="19768"/>
                  </a:lnTo>
                  <a:lnTo>
                    <a:pt x="284502" y="21484"/>
                  </a:lnTo>
                  <a:lnTo>
                    <a:pt x="279380" y="23635"/>
                  </a:lnTo>
                  <a:lnTo>
                    <a:pt x="248823" y="43534"/>
                  </a:lnTo>
                  <a:lnTo>
                    <a:pt x="228496" y="61530"/>
                  </a:lnTo>
                  <a:lnTo>
                    <a:pt x="208175" y="81390"/>
                  </a:lnTo>
                  <a:lnTo>
                    <a:pt x="198015" y="96003"/>
                  </a:lnTo>
                  <a:lnTo>
                    <a:pt x="188702" y="112093"/>
                  </a:lnTo>
                  <a:lnTo>
                    <a:pt x="178699" y="131519"/>
                  </a:lnTo>
                  <a:lnTo>
                    <a:pt x="169526" y="152984"/>
                  </a:lnTo>
                  <a:lnTo>
                    <a:pt x="161082" y="167898"/>
                  </a:lnTo>
                  <a:lnTo>
                    <a:pt x="151685" y="182993"/>
                  </a:lnTo>
                  <a:lnTo>
                    <a:pt x="142711" y="199016"/>
                  </a:lnTo>
                  <a:lnTo>
                    <a:pt x="135900" y="217426"/>
                  </a:lnTo>
                  <a:lnTo>
                    <a:pt x="127305" y="242785"/>
                  </a:lnTo>
                  <a:lnTo>
                    <a:pt x="119740" y="260868"/>
                  </a:lnTo>
                  <a:lnTo>
                    <a:pt x="111579" y="280193"/>
                  </a:lnTo>
                  <a:lnTo>
                    <a:pt x="105130" y="300071"/>
                  </a:lnTo>
                  <a:lnTo>
                    <a:pt x="99442" y="320195"/>
                  </a:lnTo>
                  <a:lnTo>
                    <a:pt x="88891" y="360708"/>
                  </a:lnTo>
                  <a:lnTo>
                    <a:pt x="81500" y="378753"/>
                  </a:lnTo>
                  <a:lnTo>
                    <a:pt x="73417" y="396087"/>
                  </a:lnTo>
                  <a:lnTo>
                    <a:pt x="67003" y="415079"/>
                  </a:lnTo>
                  <a:lnTo>
                    <a:pt x="58631" y="440767"/>
                  </a:lnTo>
                  <a:lnTo>
                    <a:pt x="53376" y="458926"/>
                  </a:lnTo>
                  <a:lnTo>
                    <a:pt x="48217" y="477439"/>
                  </a:lnTo>
                  <a:lnTo>
                    <a:pt x="43103" y="494133"/>
                  </a:lnTo>
                  <a:lnTo>
                    <a:pt x="35463" y="517813"/>
                  </a:lnTo>
                  <a:lnTo>
                    <a:pt x="27837" y="536870"/>
                  </a:lnTo>
                  <a:lnTo>
                    <a:pt x="17675" y="563717"/>
                  </a:lnTo>
                  <a:lnTo>
                    <a:pt x="10902" y="580857"/>
                  </a:lnTo>
                  <a:lnTo>
                    <a:pt x="5926" y="601819"/>
                  </a:lnTo>
                  <a:lnTo>
                    <a:pt x="2576" y="612067"/>
                  </a:lnTo>
                  <a:lnTo>
                    <a:pt x="425" y="632444"/>
                  </a:lnTo>
                  <a:lnTo>
                    <a:pt x="0" y="648730"/>
                  </a:lnTo>
                  <a:lnTo>
                    <a:pt x="811" y="651772"/>
                  </a:lnTo>
                  <a:lnTo>
                    <a:pt x="3971" y="657411"/>
                  </a:lnTo>
                  <a:lnTo>
                    <a:pt x="22815" y="678160"/>
                  </a:lnTo>
                  <a:lnTo>
                    <a:pt x="25335" y="680706"/>
                  </a:lnTo>
                  <a:lnTo>
                    <a:pt x="29555" y="682403"/>
                  </a:lnTo>
                  <a:lnTo>
                    <a:pt x="46783" y="684792"/>
                  </a:lnTo>
                  <a:lnTo>
                    <a:pt x="62988" y="686346"/>
                  </a:lnTo>
                  <a:lnTo>
                    <a:pt x="80208" y="690946"/>
                  </a:lnTo>
                  <a:lnTo>
                    <a:pt x="169881" y="700809"/>
                  </a:lnTo>
                  <a:lnTo>
                    <a:pt x="205635" y="7010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an Equation That Contains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wo methods to solving equations with f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V="1">
            <a:off x="4572000" y="1523520"/>
            <a:ext cx="0" cy="533412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1"/>
          <p:cNvGraphicFramePr/>
          <p:nvPr/>
        </p:nvGraphicFramePr>
        <p:xfrm>
          <a:off x="1447920" y="2438280"/>
          <a:ext cx="16761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38280"/>
                    <a:ext cx="1676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8"/>
          <p:cNvSpPr/>
          <p:nvPr/>
        </p:nvSpPr>
        <p:spPr>
          <a:xfrm>
            <a:off x="0" y="1523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Method 1: Finding common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4572000" y="1523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Method 2: Multiplying to clear denomin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867280" y="2414520"/>
          <a:ext cx="1676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414520"/>
                    <a:ext cx="1676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Freeform 20515"/>
          <p:cNvSpPr/>
          <p:nvPr/>
        </p:nvSpPr>
        <p:spPr>
          <a:xfrm>
            <a:off x="5540400" y="260496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227"/>
          <p:cNvSpPr/>
          <p:nvPr/>
        </p:nvSpPr>
        <p:spPr>
          <a:xfrm>
            <a:off x="1074600" y="2522520"/>
            <a:ext cx="136800" cy="1522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6699" h="152401">
                <a:moveTo>
                  <a:pt x="38096" y="0"/>
                </a:moveTo>
                <a:lnTo>
                  <a:pt x="38096" y="6561"/>
                </a:lnTo>
                <a:lnTo>
                  <a:pt x="35838" y="9407"/>
                </a:lnTo>
                <a:lnTo>
                  <a:pt x="34051" y="11352"/>
                </a:lnTo>
                <a:lnTo>
                  <a:pt x="32859" y="13495"/>
                </a:lnTo>
                <a:lnTo>
                  <a:pt x="31535" y="18133"/>
                </a:lnTo>
                <a:lnTo>
                  <a:pt x="30336" y="20555"/>
                </a:lnTo>
                <a:lnTo>
                  <a:pt x="28689" y="23017"/>
                </a:lnTo>
                <a:lnTo>
                  <a:pt x="26745" y="25505"/>
                </a:lnTo>
                <a:lnTo>
                  <a:pt x="25448" y="28857"/>
                </a:lnTo>
                <a:lnTo>
                  <a:pt x="24584" y="32785"/>
                </a:lnTo>
                <a:lnTo>
                  <a:pt x="24008" y="37097"/>
                </a:lnTo>
                <a:lnTo>
                  <a:pt x="21931" y="40818"/>
                </a:lnTo>
                <a:lnTo>
                  <a:pt x="18853" y="44145"/>
                </a:lnTo>
                <a:lnTo>
                  <a:pt x="15107" y="47210"/>
                </a:lnTo>
                <a:lnTo>
                  <a:pt x="11764" y="50100"/>
                </a:lnTo>
                <a:lnTo>
                  <a:pt x="8688" y="52874"/>
                </a:lnTo>
                <a:lnTo>
                  <a:pt x="5790" y="55569"/>
                </a:lnTo>
                <a:lnTo>
                  <a:pt x="3859" y="58213"/>
                </a:lnTo>
                <a:lnTo>
                  <a:pt x="2572" y="60822"/>
                </a:lnTo>
                <a:lnTo>
                  <a:pt x="147" y="68126"/>
                </a:lnTo>
                <a:lnTo>
                  <a:pt x="26" y="72881"/>
                </a:lnTo>
                <a:lnTo>
                  <a:pt x="0" y="69314"/>
                </a:lnTo>
                <a:lnTo>
                  <a:pt x="1692" y="68223"/>
                </a:lnTo>
                <a:lnTo>
                  <a:pt x="4514" y="66649"/>
                </a:lnTo>
                <a:lnTo>
                  <a:pt x="12164" y="62642"/>
                </a:lnTo>
                <a:lnTo>
                  <a:pt x="35821" y="50687"/>
                </a:lnTo>
                <a:lnTo>
                  <a:pt x="41659" y="49032"/>
                </a:lnTo>
                <a:lnTo>
                  <a:pt x="48091" y="47928"/>
                </a:lnTo>
                <a:lnTo>
                  <a:pt x="54919" y="47192"/>
                </a:lnTo>
                <a:lnTo>
                  <a:pt x="61165" y="45855"/>
                </a:lnTo>
                <a:lnTo>
                  <a:pt x="67022" y="44117"/>
                </a:lnTo>
                <a:lnTo>
                  <a:pt x="72620" y="42111"/>
                </a:lnTo>
                <a:lnTo>
                  <a:pt x="78046" y="40774"/>
                </a:lnTo>
                <a:lnTo>
                  <a:pt x="83356" y="39883"/>
                </a:lnTo>
                <a:lnTo>
                  <a:pt x="88589" y="39289"/>
                </a:lnTo>
                <a:lnTo>
                  <a:pt x="93771" y="39739"/>
                </a:lnTo>
                <a:lnTo>
                  <a:pt x="98920" y="40886"/>
                </a:lnTo>
                <a:lnTo>
                  <a:pt x="104045" y="42498"/>
                </a:lnTo>
                <a:lnTo>
                  <a:pt x="108309" y="43572"/>
                </a:lnTo>
                <a:lnTo>
                  <a:pt x="111998" y="44288"/>
                </a:lnTo>
                <a:lnTo>
                  <a:pt x="115304" y="44765"/>
                </a:lnTo>
                <a:lnTo>
                  <a:pt x="118355" y="45930"/>
                </a:lnTo>
                <a:lnTo>
                  <a:pt x="121235" y="47554"/>
                </a:lnTo>
                <a:lnTo>
                  <a:pt x="124002" y="49483"/>
                </a:lnTo>
                <a:lnTo>
                  <a:pt x="126693" y="51615"/>
                </a:lnTo>
                <a:lnTo>
                  <a:pt x="129334" y="53883"/>
                </a:lnTo>
                <a:lnTo>
                  <a:pt x="131942" y="56242"/>
                </a:lnTo>
                <a:lnTo>
                  <a:pt x="133680" y="58662"/>
                </a:lnTo>
                <a:lnTo>
                  <a:pt x="134838" y="61121"/>
                </a:lnTo>
                <a:lnTo>
                  <a:pt x="135611" y="63607"/>
                </a:lnTo>
                <a:lnTo>
                  <a:pt x="136126" y="66958"/>
                </a:lnTo>
                <a:lnTo>
                  <a:pt x="136469" y="70886"/>
                </a:lnTo>
                <a:lnTo>
                  <a:pt x="136698" y="75197"/>
                </a:lnTo>
                <a:lnTo>
                  <a:pt x="136004" y="79765"/>
                </a:lnTo>
                <a:lnTo>
                  <a:pt x="134695" y="84503"/>
                </a:lnTo>
                <a:lnTo>
                  <a:pt x="132975" y="89356"/>
                </a:lnTo>
                <a:lnTo>
                  <a:pt x="130982" y="94284"/>
                </a:lnTo>
                <a:lnTo>
                  <a:pt x="128807" y="99263"/>
                </a:lnTo>
                <a:lnTo>
                  <a:pt x="126510" y="104275"/>
                </a:lnTo>
                <a:lnTo>
                  <a:pt x="123285" y="109310"/>
                </a:lnTo>
                <a:lnTo>
                  <a:pt x="119442" y="114360"/>
                </a:lnTo>
                <a:lnTo>
                  <a:pt x="115187" y="119420"/>
                </a:lnTo>
                <a:lnTo>
                  <a:pt x="111503" y="123640"/>
                </a:lnTo>
                <a:lnTo>
                  <a:pt x="105153" y="130587"/>
                </a:lnTo>
                <a:lnTo>
                  <a:pt x="101427" y="133625"/>
                </a:lnTo>
                <a:lnTo>
                  <a:pt x="97250" y="136497"/>
                </a:lnTo>
                <a:lnTo>
                  <a:pt x="92772" y="139258"/>
                </a:lnTo>
                <a:lnTo>
                  <a:pt x="88093" y="141945"/>
                </a:lnTo>
                <a:lnTo>
                  <a:pt x="78379" y="147189"/>
                </a:lnTo>
                <a:lnTo>
                  <a:pt x="73418" y="148926"/>
                </a:lnTo>
                <a:lnTo>
                  <a:pt x="68418" y="150084"/>
                </a:lnTo>
                <a:lnTo>
                  <a:pt x="63390" y="150856"/>
                </a:lnTo>
                <a:lnTo>
                  <a:pt x="59192" y="151371"/>
                </a:lnTo>
                <a:lnTo>
                  <a:pt x="55547" y="151714"/>
                </a:lnTo>
                <a:lnTo>
                  <a:pt x="45716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228"/>
          <p:cNvSpPr/>
          <p:nvPr/>
        </p:nvSpPr>
        <p:spPr>
          <a:xfrm>
            <a:off x="1112760" y="2514600"/>
            <a:ext cx="90720" cy="360"/>
          </a:xfrm>
          <a:custGeom>
            <a:avLst/>
            <a:gdLst>
              <a:gd name="textAreaLeft" fmla="*/ 0 w 90720"/>
              <a:gd name="textAreaRight" fmla="*/ 91080 w 907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91441" h="1">
                <a:moveTo>
                  <a:pt x="0" y="0"/>
                </a:moveTo>
                <a:lnTo>
                  <a:pt x="914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229"/>
          <p:cNvSpPr/>
          <p:nvPr/>
        </p:nvSpPr>
        <p:spPr>
          <a:xfrm>
            <a:off x="1265400" y="2416320"/>
            <a:ext cx="144360" cy="669960"/>
          </a:xfrm>
          <a:custGeom>
            <a:avLst/>
            <a:gdLst>
              <a:gd name="textAreaLeft" fmla="*/ 0 w 144360"/>
              <a:gd name="textAreaRight" fmla="*/ 144720 w 1443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3990" h="670561">
                <a:moveTo>
                  <a:pt x="113509" y="0"/>
                </a:moveTo>
                <a:lnTo>
                  <a:pt x="113509" y="4045"/>
                </a:lnTo>
                <a:lnTo>
                  <a:pt x="112662" y="6084"/>
                </a:lnTo>
                <a:lnTo>
                  <a:pt x="108272" y="12997"/>
                </a:lnTo>
                <a:lnTo>
                  <a:pt x="106948" y="17912"/>
                </a:lnTo>
                <a:lnTo>
                  <a:pt x="105252" y="34896"/>
                </a:lnTo>
                <a:lnTo>
                  <a:pt x="101937" y="47683"/>
                </a:lnTo>
                <a:lnTo>
                  <a:pt x="92910" y="81825"/>
                </a:lnTo>
                <a:lnTo>
                  <a:pt x="85486" y="106935"/>
                </a:lnTo>
                <a:lnTo>
                  <a:pt x="80452" y="125702"/>
                </a:lnTo>
                <a:lnTo>
                  <a:pt x="77078" y="136295"/>
                </a:lnTo>
                <a:lnTo>
                  <a:pt x="73135" y="147590"/>
                </a:lnTo>
                <a:lnTo>
                  <a:pt x="68813" y="159353"/>
                </a:lnTo>
                <a:lnTo>
                  <a:pt x="64238" y="170582"/>
                </a:lnTo>
                <a:lnTo>
                  <a:pt x="59495" y="181455"/>
                </a:lnTo>
                <a:lnTo>
                  <a:pt x="54640" y="192090"/>
                </a:lnTo>
                <a:lnTo>
                  <a:pt x="50556" y="204260"/>
                </a:lnTo>
                <a:lnTo>
                  <a:pt x="46987" y="217453"/>
                </a:lnTo>
                <a:lnTo>
                  <a:pt x="43761" y="231329"/>
                </a:lnTo>
                <a:lnTo>
                  <a:pt x="39917" y="244813"/>
                </a:lnTo>
                <a:lnTo>
                  <a:pt x="35661" y="258035"/>
                </a:lnTo>
                <a:lnTo>
                  <a:pt x="31131" y="271083"/>
                </a:lnTo>
                <a:lnTo>
                  <a:pt x="27264" y="284862"/>
                </a:lnTo>
                <a:lnTo>
                  <a:pt x="23839" y="299128"/>
                </a:lnTo>
                <a:lnTo>
                  <a:pt x="20709" y="313719"/>
                </a:lnTo>
                <a:lnTo>
                  <a:pt x="16929" y="327679"/>
                </a:lnTo>
                <a:lnTo>
                  <a:pt x="12716" y="341219"/>
                </a:lnTo>
                <a:lnTo>
                  <a:pt x="8214" y="354480"/>
                </a:lnTo>
                <a:lnTo>
                  <a:pt x="5212" y="368400"/>
                </a:lnTo>
                <a:lnTo>
                  <a:pt x="3211" y="382760"/>
                </a:lnTo>
                <a:lnTo>
                  <a:pt x="1877" y="397413"/>
                </a:lnTo>
                <a:lnTo>
                  <a:pt x="988" y="411416"/>
                </a:lnTo>
                <a:lnTo>
                  <a:pt x="0" y="438263"/>
                </a:lnTo>
                <a:lnTo>
                  <a:pt x="583" y="452195"/>
                </a:lnTo>
                <a:lnTo>
                  <a:pt x="1818" y="466564"/>
                </a:lnTo>
                <a:lnTo>
                  <a:pt x="3489" y="481222"/>
                </a:lnTo>
                <a:lnTo>
                  <a:pt x="6295" y="494381"/>
                </a:lnTo>
                <a:lnTo>
                  <a:pt x="9860" y="506541"/>
                </a:lnTo>
                <a:lnTo>
                  <a:pt x="13930" y="518034"/>
                </a:lnTo>
                <a:lnTo>
                  <a:pt x="22967" y="542093"/>
                </a:lnTo>
                <a:lnTo>
                  <a:pt x="27748" y="554435"/>
                </a:lnTo>
                <a:lnTo>
                  <a:pt x="33475" y="566050"/>
                </a:lnTo>
                <a:lnTo>
                  <a:pt x="39833" y="577180"/>
                </a:lnTo>
                <a:lnTo>
                  <a:pt x="46612" y="587987"/>
                </a:lnTo>
                <a:lnTo>
                  <a:pt x="55364" y="598578"/>
                </a:lnTo>
                <a:lnTo>
                  <a:pt x="65432" y="609025"/>
                </a:lnTo>
                <a:lnTo>
                  <a:pt x="76378" y="619377"/>
                </a:lnTo>
                <a:lnTo>
                  <a:pt x="87062" y="628818"/>
                </a:lnTo>
                <a:lnTo>
                  <a:pt x="97571" y="637652"/>
                </a:lnTo>
                <a:lnTo>
                  <a:pt x="107964" y="646081"/>
                </a:lnTo>
                <a:lnTo>
                  <a:pt x="116585" y="652548"/>
                </a:lnTo>
                <a:lnTo>
                  <a:pt x="124026" y="657705"/>
                </a:lnTo>
                <a:lnTo>
                  <a:pt x="143989" y="670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230"/>
          <p:cNvSpPr/>
          <p:nvPr/>
        </p:nvSpPr>
        <p:spPr>
          <a:xfrm>
            <a:off x="1722600" y="2408400"/>
            <a:ext cx="104760" cy="769680"/>
          </a:xfrm>
          <a:custGeom>
            <a:avLst/>
            <a:gdLst>
              <a:gd name="textAreaLeft" fmla="*/ 0 w 104760"/>
              <a:gd name="textAreaRight" fmla="*/ 105120 w 10476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05148" h="769621">
                <a:moveTo>
                  <a:pt x="15240" y="0"/>
                </a:moveTo>
                <a:lnTo>
                  <a:pt x="19285" y="4046"/>
                </a:lnTo>
                <a:lnTo>
                  <a:pt x="20477" y="6930"/>
                </a:lnTo>
                <a:lnTo>
                  <a:pt x="23497" y="23779"/>
                </a:lnTo>
                <a:lnTo>
                  <a:pt x="26813" y="34275"/>
                </a:lnTo>
                <a:lnTo>
                  <a:pt x="28881" y="41477"/>
                </a:lnTo>
                <a:lnTo>
                  <a:pt x="33439" y="58510"/>
                </a:lnTo>
                <a:lnTo>
                  <a:pt x="36686" y="66947"/>
                </a:lnTo>
                <a:lnTo>
                  <a:pt x="40544" y="75111"/>
                </a:lnTo>
                <a:lnTo>
                  <a:pt x="44809" y="83094"/>
                </a:lnTo>
                <a:lnTo>
                  <a:pt x="48500" y="92649"/>
                </a:lnTo>
                <a:lnTo>
                  <a:pt x="51806" y="103253"/>
                </a:lnTo>
                <a:lnTo>
                  <a:pt x="54858" y="114555"/>
                </a:lnTo>
                <a:lnTo>
                  <a:pt x="57739" y="126324"/>
                </a:lnTo>
                <a:lnTo>
                  <a:pt x="63197" y="150688"/>
                </a:lnTo>
                <a:lnTo>
                  <a:pt x="66685" y="163112"/>
                </a:lnTo>
                <a:lnTo>
                  <a:pt x="70703" y="175628"/>
                </a:lnTo>
                <a:lnTo>
                  <a:pt x="75075" y="188206"/>
                </a:lnTo>
                <a:lnTo>
                  <a:pt x="78837" y="201671"/>
                </a:lnTo>
                <a:lnTo>
                  <a:pt x="82191" y="215727"/>
                </a:lnTo>
                <a:lnTo>
                  <a:pt x="85274" y="230178"/>
                </a:lnTo>
                <a:lnTo>
                  <a:pt x="90957" y="259781"/>
                </a:lnTo>
                <a:lnTo>
                  <a:pt x="101505" y="320179"/>
                </a:lnTo>
                <a:lnTo>
                  <a:pt x="103230" y="336219"/>
                </a:lnTo>
                <a:lnTo>
                  <a:pt x="104380" y="352839"/>
                </a:lnTo>
                <a:lnTo>
                  <a:pt x="105147" y="369846"/>
                </a:lnTo>
                <a:lnTo>
                  <a:pt x="104811" y="386264"/>
                </a:lnTo>
                <a:lnTo>
                  <a:pt x="103741" y="402290"/>
                </a:lnTo>
                <a:lnTo>
                  <a:pt x="102181" y="418053"/>
                </a:lnTo>
                <a:lnTo>
                  <a:pt x="100294" y="433642"/>
                </a:lnTo>
                <a:lnTo>
                  <a:pt x="95940" y="464510"/>
                </a:lnTo>
                <a:lnTo>
                  <a:pt x="81229" y="556233"/>
                </a:lnTo>
                <a:lnTo>
                  <a:pt x="73645" y="597927"/>
                </a:lnTo>
                <a:lnTo>
                  <a:pt x="70263" y="610285"/>
                </a:lnTo>
                <a:lnTo>
                  <a:pt x="66315" y="621910"/>
                </a:lnTo>
                <a:lnTo>
                  <a:pt x="47813" y="668946"/>
                </a:lnTo>
                <a:lnTo>
                  <a:pt x="43729" y="680491"/>
                </a:lnTo>
                <a:lnTo>
                  <a:pt x="40159" y="691574"/>
                </a:lnTo>
                <a:lnTo>
                  <a:pt x="36933" y="702349"/>
                </a:lnTo>
                <a:lnTo>
                  <a:pt x="33089" y="712073"/>
                </a:lnTo>
                <a:lnTo>
                  <a:pt x="28833" y="721095"/>
                </a:lnTo>
                <a:lnTo>
                  <a:pt x="13880" y="749781"/>
                </a:lnTo>
                <a:lnTo>
                  <a:pt x="10947" y="754700"/>
                </a:lnTo>
                <a:lnTo>
                  <a:pt x="8145" y="758827"/>
                </a:lnTo>
                <a:lnTo>
                  <a:pt x="0" y="769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231"/>
          <p:cNvSpPr/>
          <p:nvPr/>
        </p:nvSpPr>
        <p:spPr>
          <a:xfrm>
            <a:off x="541440" y="3306600"/>
            <a:ext cx="38160" cy="214560"/>
          </a:xfrm>
          <a:custGeom>
            <a:avLst/>
            <a:gdLst>
              <a:gd name="textAreaLeft" fmla="*/ 0 w 38160"/>
              <a:gd name="textAreaRight" fmla="*/ 38520 w 381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1539" y="6561"/>
                </a:lnTo>
                <a:lnTo>
                  <a:pt x="30951" y="9407"/>
                </a:lnTo>
                <a:lnTo>
                  <a:pt x="30620" y="15769"/>
                </a:lnTo>
                <a:lnTo>
                  <a:pt x="30542" y="21402"/>
                </a:lnTo>
                <a:lnTo>
                  <a:pt x="30508" y="29550"/>
                </a:lnTo>
                <a:lnTo>
                  <a:pt x="29652" y="33246"/>
                </a:lnTo>
                <a:lnTo>
                  <a:pt x="28234" y="36557"/>
                </a:lnTo>
                <a:lnTo>
                  <a:pt x="26443" y="39612"/>
                </a:lnTo>
                <a:lnTo>
                  <a:pt x="25249" y="43341"/>
                </a:lnTo>
                <a:lnTo>
                  <a:pt x="24452" y="47521"/>
                </a:lnTo>
                <a:lnTo>
                  <a:pt x="23922" y="52001"/>
                </a:lnTo>
                <a:lnTo>
                  <a:pt x="23568" y="57527"/>
                </a:lnTo>
                <a:lnTo>
                  <a:pt x="23332" y="63751"/>
                </a:lnTo>
                <a:lnTo>
                  <a:pt x="23174" y="70441"/>
                </a:lnTo>
                <a:lnTo>
                  <a:pt x="22223" y="77441"/>
                </a:lnTo>
                <a:lnTo>
                  <a:pt x="20742" y="84647"/>
                </a:lnTo>
                <a:lnTo>
                  <a:pt x="18908" y="91991"/>
                </a:lnTo>
                <a:lnTo>
                  <a:pt x="17685" y="98581"/>
                </a:lnTo>
                <a:lnTo>
                  <a:pt x="16870" y="104667"/>
                </a:lnTo>
                <a:lnTo>
                  <a:pt x="16327" y="110418"/>
                </a:lnTo>
                <a:lnTo>
                  <a:pt x="15118" y="116792"/>
                </a:lnTo>
                <a:lnTo>
                  <a:pt x="13465" y="123582"/>
                </a:lnTo>
                <a:lnTo>
                  <a:pt x="11517" y="130647"/>
                </a:lnTo>
                <a:lnTo>
                  <a:pt x="7094" y="145272"/>
                </a:lnTo>
                <a:lnTo>
                  <a:pt x="4730" y="152729"/>
                </a:lnTo>
                <a:lnTo>
                  <a:pt x="3153" y="159392"/>
                </a:lnTo>
                <a:lnTo>
                  <a:pt x="2102" y="165529"/>
                </a:lnTo>
                <a:lnTo>
                  <a:pt x="1401" y="171312"/>
                </a:lnTo>
                <a:lnTo>
                  <a:pt x="934" y="176862"/>
                </a:lnTo>
                <a:lnTo>
                  <a:pt x="623" y="182255"/>
                </a:lnTo>
                <a:lnTo>
                  <a:pt x="277" y="191915"/>
                </a:lnTo>
                <a:lnTo>
                  <a:pt x="82" y="202114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232"/>
          <p:cNvSpPr/>
          <p:nvPr/>
        </p:nvSpPr>
        <p:spPr>
          <a:xfrm>
            <a:off x="631800" y="3352680"/>
            <a:ext cx="203400" cy="152640"/>
          </a:xfrm>
          <a:custGeom>
            <a:avLst/>
            <a:gdLst>
              <a:gd name="textAreaLeft" fmla="*/ 0 w 203400"/>
              <a:gd name="textAreaRight" fmla="*/ 203760 w 203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02880" h="151953">
                <a:moveTo>
                  <a:pt x="37969" y="0"/>
                </a:moveTo>
                <a:lnTo>
                  <a:pt x="26618" y="11352"/>
                </a:lnTo>
                <a:lnTo>
                  <a:pt x="24475" y="14341"/>
                </a:lnTo>
                <a:lnTo>
                  <a:pt x="22199" y="18027"/>
                </a:lnTo>
                <a:lnTo>
                  <a:pt x="19836" y="22178"/>
                </a:lnTo>
                <a:lnTo>
                  <a:pt x="17414" y="24945"/>
                </a:lnTo>
                <a:lnTo>
                  <a:pt x="14952" y="26791"/>
                </a:lnTo>
                <a:lnTo>
                  <a:pt x="9959" y="29687"/>
                </a:lnTo>
                <a:lnTo>
                  <a:pt x="4918" y="33796"/>
                </a:lnTo>
                <a:lnTo>
                  <a:pt x="3235" y="36078"/>
                </a:lnTo>
                <a:lnTo>
                  <a:pt x="2113" y="38445"/>
                </a:lnTo>
                <a:lnTo>
                  <a:pt x="0" y="45295"/>
                </a:lnTo>
                <a:lnTo>
                  <a:pt x="3953" y="49639"/>
                </a:lnTo>
                <a:lnTo>
                  <a:pt x="6441" y="52243"/>
                </a:lnTo>
                <a:lnTo>
                  <a:pt x="11539" y="52853"/>
                </a:lnTo>
                <a:lnTo>
                  <a:pt x="15269" y="53015"/>
                </a:lnTo>
                <a:lnTo>
                  <a:pt x="19449" y="52277"/>
                </a:lnTo>
                <a:lnTo>
                  <a:pt x="23929" y="50938"/>
                </a:lnTo>
                <a:lnTo>
                  <a:pt x="28609" y="49199"/>
                </a:lnTo>
                <a:lnTo>
                  <a:pt x="33422" y="48039"/>
                </a:lnTo>
                <a:lnTo>
                  <a:pt x="38325" y="47266"/>
                </a:lnTo>
                <a:lnTo>
                  <a:pt x="43286" y="46751"/>
                </a:lnTo>
                <a:lnTo>
                  <a:pt x="49134" y="46407"/>
                </a:lnTo>
                <a:lnTo>
                  <a:pt x="62404" y="46025"/>
                </a:lnTo>
                <a:lnTo>
                  <a:pt x="84156" y="45811"/>
                </a:lnTo>
                <a:lnTo>
                  <a:pt x="92467" y="46627"/>
                </a:lnTo>
                <a:lnTo>
                  <a:pt x="101394" y="48018"/>
                </a:lnTo>
                <a:lnTo>
                  <a:pt x="110732" y="49792"/>
                </a:lnTo>
                <a:lnTo>
                  <a:pt x="118651" y="50975"/>
                </a:lnTo>
                <a:lnTo>
                  <a:pt x="125624" y="51764"/>
                </a:lnTo>
                <a:lnTo>
                  <a:pt x="131966" y="52289"/>
                </a:lnTo>
                <a:lnTo>
                  <a:pt x="138733" y="53486"/>
                </a:lnTo>
                <a:lnTo>
                  <a:pt x="145785" y="55131"/>
                </a:lnTo>
                <a:lnTo>
                  <a:pt x="153027" y="57074"/>
                </a:lnTo>
                <a:lnTo>
                  <a:pt x="159547" y="59216"/>
                </a:lnTo>
                <a:lnTo>
                  <a:pt x="165588" y="61491"/>
                </a:lnTo>
                <a:lnTo>
                  <a:pt x="171308" y="63854"/>
                </a:lnTo>
                <a:lnTo>
                  <a:pt x="175968" y="66276"/>
                </a:lnTo>
                <a:lnTo>
                  <a:pt x="179922" y="68737"/>
                </a:lnTo>
                <a:lnTo>
                  <a:pt x="183404" y="71225"/>
                </a:lnTo>
                <a:lnTo>
                  <a:pt x="187419" y="73730"/>
                </a:lnTo>
                <a:lnTo>
                  <a:pt x="191789" y="76247"/>
                </a:lnTo>
                <a:lnTo>
                  <a:pt x="196396" y="78771"/>
                </a:lnTo>
                <a:lnTo>
                  <a:pt x="199467" y="82148"/>
                </a:lnTo>
                <a:lnTo>
                  <a:pt x="201514" y="86092"/>
                </a:lnTo>
                <a:lnTo>
                  <a:pt x="202879" y="90415"/>
                </a:lnTo>
                <a:lnTo>
                  <a:pt x="202096" y="94143"/>
                </a:lnTo>
                <a:lnTo>
                  <a:pt x="199880" y="97475"/>
                </a:lnTo>
                <a:lnTo>
                  <a:pt x="196710" y="100543"/>
                </a:lnTo>
                <a:lnTo>
                  <a:pt x="193749" y="104282"/>
                </a:lnTo>
                <a:lnTo>
                  <a:pt x="190929" y="108469"/>
                </a:lnTo>
                <a:lnTo>
                  <a:pt x="188202" y="112952"/>
                </a:lnTo>
                <a:lnTo>
                  <a:pt x="184691" y="116788"/>
                </a:lnTo>
                <a:lnTo>
                  <a:pt x="180657" y="120192"/>
                </a:lnTo>
                <a:lnTo>
                  <a:pt x="176274" y="123308"/>
                </a:lnTo>
                <a:lnTo>
                  <a:pt x="170812" y="126232"/>
                </a:lnTo>
                <a:lnTo>
                  <a:pt x="164631" y="129028"/>
                </a:lnTo>
                <a:lnTo>
                  <a:pt x="157971" y="131738"/>
                </a:lnTo>
                <a:lnTo>
                  <a:pt x="151837" y="134393"/>
                </a:lnTo>
                <a:lnTo>
                  <a:pt x="140506" y="139599"/>
                </a:lnTo>
                <a:lnTo>
                  <a:pt x="134267" y="142173"/>
                </a:lnTo>
                <a:lnTo>
                  <a:pt x="127568" y="144735"/>
                </a:lnTo>
                <a:lnTo>
                  <a:pt x="120561" y="147290"/>
                </a:lnTo>
                <a:lnTo>
                  <a:pt x="113351" y="148993"/>
                </a:lnTo>
                <a:lnTo>
                  <a:pt x="106004" y="150129"/>
                </a:lnTo>
                <a:lnTo>
                  <a:pt x="98565" y="150886"/>
                </a:lnTo>
                <a:lnTo>
                  <a:pt x="91067" y="151391"/>
                </a:lnTo>
                <a:lnTo>
                  <a:pt x="83527" y="151727"/>
                </a:lnTo>
                <a:lnTo>
                  <a:pt x="75961" y="151952"/>
                </a:lnTo>
                <a:lnTo>
                  <a:pt x="68377" y="151254"/>
                </a:lnTo>
                <a:lnTo>
                  <a:pt x="60781" y="149943"/>
                </a:lnTo>
                <a:lnTo>
                  <a:pt x="53177" y="148222"/>
                </a:lnTo>
                <a:lnTo>
                  <a:pt x="47261" y="147075"/>
                </a:lnTo>
                <a:lnTo>
                  <a:pt x="42470" y="146310"/>
                </a:lnTo>
                <a:lnTo>
                  <a:pt x="38430" y="145800"/>
                </a:lnTo>
                <a:lnTo>
                  <a:pt x="34890" y="145460"/>
                </a:lnTo>
                <a:lnTo>
                  <a:pt x="31683" y="145233"/>
                </a:lnTo>
                <a:lnTo>
                  <a:pt x="22729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233"/>
          <p:cNvSpPr/>
          <p:nvPr/>
        </p:nvSpPr>
        <p:spPr>
          <a:xfrm>
            <a:off x="685800" y="3314880"/>
            <a:ext cx="190440" cy="7920"/>
          </a:xfrm>
          <a:custGeom>
            <a:avLst/>
            <a:gdLst>
              <a:gd name="textAreaLeft" fmla="*/ 0 w 190440"/>
              <a:gd name="textAreaRight" fmla="*/ 190800 w 190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0501" h="7621">
                <a:moveTo>
                  <a:pt x="0" y="0"/>
                </a:moveTo>
                <a:lnTo>
                  <a:pt x="24473" y="0"/>
                </a:lnTo>
                <a:lnTo>
                  <a:pt x="29015" y="847"/>
                </a:lnTo>
                <a:lnTo>
                  <a:pt x="34583" y="2258"/>
                </a:lnTo>
                <a:lnTo>
                  <a:pt x="40836" y="4045"/>
                </a:lnTo>
                <a:lnTo>
                  <a:pt x="48390" y="5237"/>
                </a:lnTo>
                <a:lnTo>
                  <a:pt x="56814" y="6032"/>
                </a:lnTo>
                <a:lnTo>
                  <a:pt x="65816" y="6561"/>
                </a:lnTo>
                <a:lnTo>
                  <a:pt x="84849" y="7150"/>
                </a:lnTo>
                <a:lnTo>
                  <a:pt x="153471" y="7593"/>
                </a:lnTo>
                <a:lnTo>
                  <a:pt x="1905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234"/>
          <p:cNvSpPr/>
          <p:nvPr/>
        </p:nvSpPr>
        <p:spPr>
          <a:xfrm>
            <a:off x="952560" y="3336840"/>
            <a:ext cx="212760" cy="22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3361" h="220981">
                <a:moveTo>
                  <a:pt x="213360" y="0"/>
                </a:moveTo>
                <a:lnTo>
                  <a:pt x="213360" y="10606"/>
                </a:lnTo>
                <a:lnTo>
                  <a:pt x="212514" y="12151"/>
                </a:lnTo>
                <a:lnTo>
                  <a:pt x="211102" y="13180"/>
                </a:lnTo>
                <a:lnTo>
                  <a:pt x="209315" y="13867"/>
                </a:lnTo>
                <a:lnTo>
                  <a:pt x="208123" y="16018"/>
                </a:lnTo>
                <a:lnTo>
                  <a:pt x="206799" y="22924"/>
                </a:lnTo>
                <a:lnTo>
                  <a:pt x="205600" y="27983"/>
                </a:lnTo>
                <a:lnTo>
                  <a:pt x="203953" y="33895"/>
                </a:lnTo>
                <a:lnTo>
                  <a:pt x="202009" y="40377"/>
                </a:lnTo>
                <a:lnTo>
                  <a:pt x="199019" y="46391"/>
                </a:lnTo>
                <a:lnTo>
                  <a:pt x="195333" y="52094"/>
                </a:lnTo>
                <a:lnTo>
                  <a:pt x="191182" y="57589"/>
                </a:lnTo>
                <a:lnTo>
                  <a:pt x="182054" y="70469"/>
                </a:lnTo>
                <a:lnTo>
                  <a:pt x="162397" y="99433"/>
                </a:lnTo>
                <a:lnTo>
                  <a:pt x="156525" y="106083"/>
                </a:lnTo>
                <a:lnTo>
                  <a:pt x="150070" y="112208"/>
                </a:lnTo>
                <a:lnTo>
                  <a:pt x="143227" y="117985"/>
                </a:lnTo>
                <a:lnTo>
                  <a:pt x="136971" y="125224"/>
                </a:lnTo>
                <a:lnTo>
                  <a:pt x="131108" y="133435"/>
                </a:lnTo>
                <a:lnTo>
                  <a:pt x="125505" y="142297"/>
                </a:lnTo>
                <a:lnTo>
                  <a:pt x="119230" y="149898"/>
                </a:lnTo>
                <a:lnTo>
                  <a:pt x="112507" y="156659"/>
                </a:lnTo>
                <a:lnTo>
                  <a:pt x="105485" y="162859"/>
                </a:lnTo>
                <a:lnTo>
                  <a:pt x="98263" y="168686"/>
                </a:lnTo>
                <a:lnTo>
                  <a:pt x="90909" y="174264"/>
                </a:lnTo>
                <a:lnTo>
                  <a:pt x="75964" y="184977"/>
                </a:lnTo>
                <a:lnTo>
                  <a:pt x="60855" y="195383"/>
                </a:lnTo>
                <a:lnTo>
                  <a:pt x="53270" y="199682"/>
                </a:lnTo>
                <a:lnTo>
                  <a:pt x="45673" y="203395"/>
                </a:lnTo>
                <a:lnTo>
                  <a:pt x="31306" y="209778"/>
                </a:lnTo>
                <a:lnTo>
                  <a:pt x="19276" y="215437"/>
                </a:lnTo>
                <a:lnTo>
                  <a:pt x="14544" y="217285"/>
                </a:lnTo>
                <a:lnTo>
                  <a:pt x="10543" y="218516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235"/>
          <p:cNvSpPr/>
          <p:nvPr/>
        </p:nvSpPr>
        <p:spPr>
          <a:xfrm>
            <a:off x="974880" y="3398760"/>
            <a:ext cx="206280" cy="84240"/>
          </a:xfrm>
          <a:custGeom>
            <a:avLst/>
            <a:gdLst>
              <a:gd name="textAreaLeft" fmla="*/ 0 w 206280"/>
              <a:gd name="textAreaRight" fmla="*/ 206640 w 206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05741" h="83821">
                <a:moveTo>
                  <a:pt x="0" y="0"/>
                </a:moveTo>
                <a:lnTo>
                  <a:pt x="4045" y="4046"/>
                </a:lnTo>
                <a:lnTo>
                  <a:pt x="6930" y="5237"/>
                </a:lnTo>
                <a:lnTo>
                  <a:pt x="10547" y="6031"/>
                </a:lnTo>
                <a:lnTo>
                  <a:pt x="14651" y="6561"/>
                </a:lnTo>
                <a:lnTo>
                  <a:pt x="18234" y="7760"/>
                </a:lnTo>
                <a:lnTo>
                  <a:pt x="21470" y="9407"/>
                </a:lnTo>
                <a:lnTo>
                  <a:pt x="24473" y="11352"/>
                </a:lnTo>
                <a:lnTo>
                  <a:pt x="29015" y="13495"/>
                </a:lnTo>
                <a:lnTo>
                  <a:pt x="34584" y="15769"/>
                </a:lnTo>
                <a:lnTo>
                  <a:pt x="40836" y="18133"/>
                </a:lnTo>
                <a:lnTo>
                  <a:pt x="48390" y="20555"/>
                </a:lnTo>
                <a:lnTo>
                  <a:pt x="56814" y="23017"/>
                </a:lnTo>
                <a:lnTo>
                  <a:pt x="65816" y="25505"/>
                </a:lnTo>
                <a:lnTo>
                  <a:pt x="82591" y="30527"/>
                </a:lnTo>
                <a:lnTo>
                  <a:pt x="90621" y="33051"/>
                </a:lnTo>
                <a:lnTo>
                  <a:pt x="99361" y="36428"/>
                </a:lnTo>
                <a:lnTo>
                  <a:pt x="108574" y="40372"/>
                </a:lnTo>
                <a:lnTo>
                  <a:pt x="118103" y="44695"/>
                </a:lnTo>
                <a:lnTo>
                  <a:pt x="126995" y="48423"/>
                </a:lnTo>
                <a:lnTo>
                  <a:pt x="135463" y="51755"/>
                </a:lnTo>
                <a:lnTo>
                  <a:pt x="143649" y="54823"/>
                </a:lnTo>
                <a:lnTo>
                  <a:pt x="152492" y="58562"/>
                </a:lnTo>
                <a:lnTo>
                  <a:pt x="161775" y="62748"/>
                </a:lnTo>
                <a:lnTo>
                  <a:pt x="186505" y="74472"/>
                </a:lnTo>
                <a:lnTo>
                  <a:pt x="20574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236"/>
          <p:cNvSpPr/>
          <p:nvPr/>
        </p:nvSpPr>
        <p:spPr>
          <a:xfrm>
            <a:off x="434880" y="3635280"/>
            <a:ext cx="762120" cy="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62001" h="15213">
                <a:moveTo>
                  <a:pt x="0" y="15212"/>
                </a:moveTo>
                <a:lnTo>
                  <a:pt x="76356" y="15212"/>
                </a:lnTo>
                <a:lnTo>
                  <a:pt x="89851" y="14365"/>
                </a:lnTo>
                <a:lnTo>
                  <a:pt x="104774" y="12955"/>
                </a:lnTo>
                <a:lnTo>
                  <a:pt x="120649" y="11167"/>
                </a:lnTo>
                <a:lnTo>
                  <a:pt x="138006" y="9975"/>
                </a:lnTo>
                <a:lnTo>
                  <a:pt x="156351" y="9181"/>
                </a:lnTo>
                <a:lnTo>
                  <a:pt x="195642" y="8298"/>
                </a:lnTo>
                <a:lnTo>
                  <a:pt x="238506" y="7906"/>
                </a:lnTo>
                <a:lnTo>
                  <a:pt x="261450" y="6955"/>
                </a:lnTo>
                <a:lnTo>
                  <a:pt x="333348" y="2417"/>
                </a:lnTo>
                <a:lnTo>
                  <a:pt x="380141" y="1059"/>
                </a:lnTo>
                <a:lnTo>
                  <a:pt x="547037" y="36"/>
                </a:lnTo>
                <a:lnTo>
                  <a:pt x="589979" y="0"/>
                </a:lnTo>
                <a:lnTo>
                  <a:pt x="610066" y="838"/>
                </a:lnTo>
                <a:lnTo>
                  <a:pt x="629384" y="2243"/>
                </a:lnTo>
                <a:lnTo>
                  <a:pt x="648189" y="4026"/>
                </a:lnTo>
                <a:lnTo>
                  <a:pt x="666653" y="5214"/>
                </a:lnTo>
                <a:lnTo>
                  <a:pt x="684889" y="6007"/>
                </a:lnTo>
                <a:lnTo>
                  <a:pt x="729839" y="7122"/>
                </a:lnTo>
                <a:lnTo>
                  <a:pt x="762000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237"/>
          <p:cNvSpPr/>
          <p:nvPr/>
        </p:nvSpPr>
        <p:spPr>
          <a:xfrm>
            <a:off x="625320" y="3718080"/>
            <a:ext cx="28800" cy="222120"/>
          </a:xfrm>
          <a:custGeom>
            <a:avLst/>
            <a:gdLst>
              <a:gd name="textAreaLeft" fmla="*/ 0 w 28800"/>
              <a:gd name="textAreaRight" fmla="*/ 29160 w 28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9080" h="220981">
                <a:moveTo>
                  <a:pt x="7620" y="0"/>
                </a:moveTo>
                <a:lnTo>
                  <a:pt x="14181" y="13122"/>
                </a:lnTo>
                <a:lnTo>
                  <a:pt x="15380" y="16368"/>
                </a:lnTo>
                <a:lnTo>
                  <a:pt x="18971" y="26748"/>
                </a:lnTo>
                <a:lnTo>
                  <a:pt x="21114" y="32225"/>
                </a:lnTo>
                <a:lnTo>
                  <a:pt x="23389" y="37571"/>
                </a:lnTo>
                <a:lnTo>
                  <a:pt x="25753" y="42827"/>
                </a:lnTo>
                <a:lnTo>
                  <a:pt x="27329" y="48871"/>
                </a:lnTo>
                <a:lnTo>
                  <a:pt x="28379" y="55441"/>
                </a:lnTo>
                <a:lnTo>
                  <a:pt x="29079" y="62361"/>
                </a:lnTo>
                <a:lnTo>
                  <a:pt x="28700" y="69514"/>
                </a:lnTo>
                <a:lnTo>
                  <a:pt x="27600" y="76823"/>
                </a:lnTo>
                <a:lnTo>
                  <a:pt x="26020" y="84235"/>
                </a:lnTo>
                <a:lnTo>
                  <a:pt x="24967" y="91717"/>
                </a:lnTo>
                <a:lnTo>
                  <a:pt x="24264" y="99245"/>
                </a:lnTo>
                <a:lnTo>
                  <a:pt x="23796" y="106803"/>
                </a:lnTo>
                <a:lnTo>
                  <a:pt x="22637" y="114382"/>
                </a:lnTo>
                <a:lnTo>
                  <a:pt x="21018" y="121975"/>
                </a:lnTo>
                <a:lnTo>
                  <a:pt x="12336" y="156456"/>
                </a:lnTo>
                <a:lnTo>
                  <a:pt x="9917" y="164417"/>
                </a:lnTo>
                <a:lnTo>
                  <a:pt x="7458" y="171418"/>
                </a:lnTo>
                <a:lnTo>
                  <a:pt x="4972" y="177779"/>
                </a:lnTo>
                <a:lnTo>
                  <a:pt x="3315" y="184559"/>
                </a:lnTo>
                <a:lnTo>
                  <a:pt x="2210" y="191620"/>
                </a:lnTo>
                <a:lnTo>
                  <a:pt x="1473" y="198866"/>
                </a:lnTo>
                <a:lnTo>
                  <a:pt x="982" y="204544"/>
                </a:lnTo>
                <a:lnTo>
                  <a:pt x="655" y="209176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238"/>
          <p:cNvSpPr/>
          <p:nvPr/>
        </p:nvSpPr>
        <p:spPr>
          <a:xfrm>
            <a:off x="801720" y="3719520"/>
            <a:ext cx="176040" cy="225360"/>
          </a:xfrm>
          <a:custGeom>
            <a:avLst/>
            <a:gdLst>
              <a:gd name="textAreaLeft" fmla="*/ 0 w 176040"/>
              <a:gd name="textAreaRight" fmla="*/ 176400 w 176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76613" h="225052">
                <a:moveTo>
                  <a:pt x="36598" y="21303"/>
                </a:moveTo>
                <a:lnTo>
                  <a:pt x="36598" y="25348"/>
                </a:lnTo>
                <a:lnTo>
                  <a:pt x="34340" y="31849"/>
                </a:lnTo>
                <a:lnTo>
                  <a:pt x="32553" y="35954"/>
                </a:lnTo>
                <a:lnTo>
                  <a:pt x="30515" y="41230"/>
                </a:lnTo>
                <a:lnTo>
                  <a:pt x="25992" y="53866"/>
                </a:lnTo>
                <a:lnTo>
                  <a:pt x="11159" y="97686"/>
                </a:lnTo>
                <a:lnTo>
                  <a:pt x="8632" y="106092"/>
                </a:lnTo>
                <a:lnTo>
                  <a:pt x="3566" y="124462"/>
                </a:lnTo>
                <a:lnTo>
                  <a:pt x="1877" y="133256"/>
                </a:lnTo>
                <a:lnTo>
                  <a:pt x="751" y="141659"/>
                </a:lnTo>
                <a:lnTo>
                  <a:pt x="0" y="149800"/>
                </a:lnTo>
                <a:lnTo>
                  <a:pt x="346" y="157767"/>
                </a:lnTo>
                <a:lnTo>
                  <a:pt x="1423" y="165620"/>
                </a:lnTo>
                <a:lnTo>
                  <a:pt x="2988" y="173394"/>
                </a:lnTo>
                <a:lnTo>
                  <a:pt x="4878" y="180270"/>
                </a:lnTo>
                <a:lnTo>
                  <a:pt x="6985" y="186548"/>
                </a:lnTo>
                <a:lnTo>
                  <a:pt x="9236" y="192427"/>
                </a:lnTo>
                <a:lnTo>
                  <a:pt x="12430" y="198039"/>
                </a:lnTo>
                <a:lnTo>
                  <a:pt x="16253" y="203474"/>
                </a:lnTo>
                <a:lnTo>
                  <a:pt x="20495" y="208790"/>
                </a:lnTo>
                <a:lnTo>
                  <a:pt x="26709" y="213181"/>
                </a:lnTo>
                <a:lnTo>
                  <a:pt x="34239" y="216955"/>
                </a:lnTo>
                <a:lnTo>
                  <a:pt x="42645" y="220318"/>
                </a:lnTo>
                <a:lnTo>
                  <a:pt x="50789" y="222560"/>
                </a:lnTo>
                <a:lnTo>
                  <a:pt x="58759" y="224054"/>
                </a:lnTo>
                <a:lnTo>
                  <a:pt x="66612" y="225051"/>
                </a:lnTo>
                <a:lnTo>
                  <a:pt x="74387" y="224868"/>
                </a:lnTo>
                <a:lnTo>
                  <a:pt x="82111" y="223900"/>
                </a:lnTo>
                <a:lnTo>
                  <a:pt x="89800" y="222407"/>
                </a:lnTo>
                <a:lnTo>
                  <a:pt x="97466" y="220566"/>
                </a:lnTo>
                <a:lnTo>
                  <a:pt x="105117" y="218491"/>
                </a:lnTo>
                <a:lnTo>
                  <a:pt x="112757" y="216262"/>
                </a:lnTo>
                <a:lnTo>
                  <a:pt x="119544" y="213082"/>
                </a:lnTo>
                <a:lnTo>
                  <a:pt x="125762" y="209269"/>
                </a:lnTo>
                <a:lnTo>
                  <a:pt x="131601" y="205034"/>
                </a:lnTo>
                <a:lnTo>
                  <a:pt x="138033" y="199670"/>
                </a:lnTo>
                <a:lnTo>
                  <a:pt x="144862" y="193555"/>
                </a:lnTo>
                <a:lnTo>
                  <a:pt x="151954" y="186938"/>
                </a:lnTo>
                <a:lnTo>
                  <a:pt x="157529" y="179139"/>
                </a:lnTo>
                <a:lnTo>
                  <a:pt x="162091" y="170554"/>
                </a:lnTo>
                <a:lnTo>
                  <a:pt x="165980" y="161444"/>
                </a:lnTo>
                <a:lnTo>
                  <a:pt x="169419" y="151983"/>
                </a:lnTo>
                <a:lnTo>
                  <a:pt x="172559" y="142290"/>
                </a:lnTo>
                <a:lnTo>
                  <a:pt x="175499" y="132441"/>
                </a:lnTo>
                <a:lnTo>
                  <a:pt x="176612" y="122488"/>
                </a:lnTo>
                <a:lnTo>
                  <a:pt x="176507" y="112467"/>
                </a:lnTo>
                <a:lnTo>
                  <a:pt x="175591" y="102399"/>
                </a:lnTo>
                <a:lnTo>
                  <a:pt x="174133" y="93147"/>
                </a:lnTo>
                <a:lnTo>
                  <a:pt x="172315" y="84439"/>
                </a:lnTo>
                <a:lnTo>
                  <a:pt x="170256" y="76094"/>
                </a:lnTo>
                <a:lnTo>
                  <a:pt x="167190" y="67990"/>
                </a:lnTo>
                <a:lnTo>
                  <a:pt x="163453" y="60048"/>
                </a:lnTo>
                <a:lnTo>
                  <a:pt x="159268" y="52213"/>
                </a:lnTo>
                <a:lnTo>
                  <a:pt x="154784" y="45296"/>
                </a:lnTo>
                <a:lnTo>
                  <a:pt x="150102" y="38992"/>
                </a:lnTo>
                <a:lnTo>
                  <a:pt x="145288" y="33095"/>
                </a:lnTo>
                <a:lnTo>
                  <a:pt x="140384" y="28318"/>
                </a:lnTo>
                <a:lnTo>
                  <a:pt x="135422" y="24286"/>
                </a:lnTo>
                <a:lnTo>
                  <a:pt x="130421" y="20752"/>
                </a:lnTo>
                <a:lnTo>
                  <a:pt x="124547" y="17549"/>
                </a:lnTo>
                <a:lnTo>
                  <a:pt x="118090" y="14567"/>
                </a:lnTo>
                <a:lnTo>
                  <a:pt x="111246" y="11732"/>
                </a:lnTo>
                <a:lnTo>
                  <a:pt x="104990" y="8996"/>
                </a:lnTo>
                <a:lnTo>
                  <a:pt x="93523" y="3698"/>
                </a:lnTo>
                <a:lnTo>
                  <a:pt x="88095" y="1946"/>
                </a:lnTo>
                <a:lnTo>
                  <a:pt x="82783" y="779"/>
                </a:lnTo>
                <a:lnTo>
                  <a:pt x="77548" y="0"/>
                </a:lnTo>
                <a:lnTo>
                  <a:pt x="73211" y="328"/>
                </a:lnTo>
                <a:lnTo>
                  <a:pt x="69474" y="1393"/>
                </a:lnTo>
                <a:lnTo>
                  <a:pt x="59458" y="606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239"/>
          <p:cNvSpPr/>
          <p:nvPr/>
        </p:nvSpPr>
        <p:spPr>
          <a:xfrm>
            <a:off x="1387440" y="3551400"/>
            <a:ext cx="11160" cy="190440"/>
          </a:xfrm>
          <a:custGeom>
            <a:avLst/>
            <a:gdLst>
              <a:gd name="textAreaLeft" fmla="*/ 0 w 11160"/>
              <a:gd name="textAreaRight" fmla="*/ 11520 w 111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1984" h="190501">
                <a:moveTo>
                  <a:pt x="7592" y="0"/>
                </a:moveTo>
                <a:lnTo>
                  <a:pt x="7592" y="10606"/>
                </a:lnTo>
                <a:lnTo>
                  <a:pt x="8439" y="12997"/>
                </a:lnTo>
                <a:lnTo>
                  <a:pt x="9850" y="15439"/>
                </a:lnTo>
                <a:lnTo>
                  <a:pt x="11638" y="17912"/>
                </a:lnTo>
                <a:lnTo>
                  <a:pt x="11983" y="21255"/>
                </a:lnTo>
                <a:lnTo>
                  <a:pt x="11366" y="25177"/>
                </a:lnTo>
                <a:lnTo>
                  <a:pt x="10108" y="29484"/>
                </a:lnTo>
                <a:lnTo>
                  <a:pt x="9269" y="34050"/>
                </a:lnTo>
                <a:lnTo>
                  <a:pt x="8710" y="38786"/>
                </a:lnTo>
                <a:lnTo>
                  <a:pt x="8338" y="43638"/>
                </a:lnTo>
                <a:lnTo>
                  <a:pt x="8089" y="49412"/>
                </a:lnTo>
                <a:lnTo>
                  <a:pt x="7739" y="68827"/>
                </a:lnTo>
                <a:lnTo>
                  <a:pt x="7598" y="115716"/>
                </a:lnTo>
                <a:lnTo>
                  <a:pt x="6750" y="122017"/>
                </a:lnTo>
                <a:lnTo>
                  <a:pt x="5337" y="127912"/>
                </a:lnTo>
                <a:lnTo>
                  <a:pt x="3549" y="133535"/>
                </a:lnTo>
                <a:lnTo>
                  <a:pt x="2357" y="138130"/>
                </a:lnTo>
                <a:lnTo>
                  <a:pt x="1562" y="142040"/>
                </a:lnTo>
                <a:lnTo>
                  <a:pt x="1032" y="145494"/>
                </a:lnTo>
                <a:lnTo>
                  <a:pt x="679" y="149489"/>
                </a:lnTo>
                <a:lnTo>
                  <a:pt x="443" y="153846"/>
                </a:lnTo>
                <a:lnTo>
                  <a:pt x="112" y="165811"/>
                </a:lnTo>
                <a:lnTo>
                  <a:pt x="0" y="177439"/>
                </a:lnTo>
                <a:lnTo>
                  <a:pt x="837" y="180099"/>
                </a:lnTo>
                <a:lnTo>
                  <a:pt x="2242" y="182720"/>
                </a:lnTo>
                <a:lnTo>
                  <a:pt x="7592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240"/>
          <p:cNvSpPr/>
          <p:nvPr/>
        </p:nvSpPr>
        <p:spPr>
          <a:xfrm>
            <a:off x="1363680" y="362736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7621">
                <a:moveTo>
                  <a:pt x="0" y="0"/>
                </a:moveTo>
                <a:lnTo>
                  <a:pt x="72644" y="0"/>
                </a:lnTo>
                <a:lnTo>
                  <a:pt x="78909" y="847"/>
                </a:lnTo>
                <a:lnTo>
                  <a:pt x="85626" y="2258"/>
                </a:lnTo>
                <a:lnTo>
                  <a:pt x="92644" y="4045"/>
                </a:lnTo>
                <a:lnTo>
                  <a:pt x="99863" y="5237"/>
                </a:lnTo>
                <a:lnTo>
                  <a:pt x="107215" y="6031"/>
                </a:lnTo>
                <a:lnTo>
                  <a:pt x="120465" y="6914"/>
                </a:lnTo>
                <a:lnTo>
                  <a:pt x="1371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241"/>
          <p:cNvSpPr/>
          <p:nvPr/>
        </p:nvSpPr>
        <p:spPr>
          <a:xfrm>
            <a:off x="2301840" y="31161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1"/>
          <p:cNvSpPr/>
          <p:nvPr/>
        </p:nvSpPr>
        <p:spPr>
          <a:xfrm>
            <a:off x="2370240" y="24922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InkAnnotation243"/>
          <p:cNvSpPr/>
          <p:nvPr/>
        </p:nvSpPr>
        <p:spPr>
          <a:xfrm>
            <a:off x="2378160" y="2492280"/>
            <a:ext cx="87120" cy="730440"/>
          </a:xfrm>
          <a:custGeom>
            <a:avLst/>
            <a:gdLst>
              <a:gd name="textAreaLeft" fmla="*/ 0 w 87120"/>
              <a:gd name="textAreaRight" fmla="*/ 87480 w 8712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87907" h="73152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6084" y="12151"/>
                </a:lnTo>
                <a:lnTo>
                  <a:pt x="8289" y="13180"/>
                </a:lnTo>
                <a:lnTo>
                  <a:pt x="10606" y="13867"/>
                </a:lnTo>
                <a:lnTo>
                  <a:pt x="12998" y="16865"/>
                </a:lnTo>
                <a:lnTo>
                  <a:pt x="15438" y="21403"/>
                </a:lnTo>
                <a:lnTo>
                  <a:pt x="17913" y="26969"/>
                </a:lnTo>
                <a:lnTo>
                  <a:pt x="22919" y="37668"/>
                </a:lnTo>
                <a:lnTo>
                  <a:pt x="51250" y="94846"/>
                </a:lnTo>
                <a:lnTo>
                  <a:pt x="55333" y="105564"/>
                </a:lnTo>
                <a:lnTo>
                  <a:pt x="58902" y="116943"/>
                </a:lnTo>
                <a:lnTo>
                  <a:pt x="62128" y="128762"/>
                </a:lnTo>
                <a:lnTo>
                  <a:pt x="65126" y="140875"/>
                </a:lnTo>
                <a:lnTo>
                  <a:pt x="70714" y="165622"/>
                </a:lnTo>
                <a:lnTo>
                  <a:pt x="76020" y="192990"/>
                </a:lnTo>
                <a:lnTo>
                  <a:pt x="78620" y="207400"/>
                </a:lnTo>
                <a:lnTo>
                  <a:pt x="80353" y="222087"/>
                </a:lnTo>
                <a:lnTo>
                  <a:pt x="81509" y="236958"/>
                </a:lnTo>
                <a:lnTo>
                  <a:pt x="82279" y="251952"/>
                </a:lnTo>
                <a:lnTo>
                  <a:pt x="83639" y="267028"/>
                </a:lnTo>
                <a:lnTo>
                  <a:pt x="85393" y="282159"/>
                </a:lnTo>
                <a:lnTo>
                  <a:pt x="87409" y="297326"/>
                </a:lnTo>
                <a:lnTo>
                  <a:pt x="87906" y="312517"/>
                </a:lnTo>
                <a:lnTo>
                  <a:pt x="87391" y="327725"/>
                </a:lnTo>
                <a:lnTo>
                  <a:pt x="86200" y="342943"/>
                </a:lnTo>
                <a:lnTo>
                  <a:pt x="84560" y="358169"/>
                </a:lnTo>
                <a:lnTo>
                  <a:pt x="80480" y="388633"/>
                </a:lnTo>
                <a:lnTo>
                  <a:pt x="68475" y="464822"/>
                </a:lnTo>
                <a:lnTo>
                  <a:pt x="58399" y="525780"/>
                </a:lnTo>
                <a:lnTo>
                  <a:pt x="55020" y="539327"/>
                </a:lnTo>
                <a:lnTo>
                  <a:pt x="51073" y="551745"/>
                </a:lnTo>
                <a:lnTo>
                  <a:pt x="46749" y="563410"/>
                </a:lnTo>
                <a:lnTo>
                  <a:pt x="43020" y="575420"/>
                </a:lnTo>
                <a:lnTo>
                  <a:pt x="39686" y="587660"/>
                </a:lnTo>
                <a:lnTo>
                  <a:pt x="28253" y="633677"/>
                </a:lnTo>
                <a:lnTo>
                  <a:pt x="25609" y="643431"/>
                </a:lnTo>
                <a:lnTo>
                  <a:pt x="20413" y="661043"/>
                </a:lnTo>
                <a:lnTo>
                  <a:pt x="12728" y="685238"/>
                </a:lnTo>
                <a:lnTo>
                  <a:pt x="11025" y="692199"/>
                </a:lnTo>
                <a:lnTo>
                  <a:pt x="9134" y="704448"/>
                </a:lnTo>
                <a:lnTo>
                  <a:pt x="7783" y="709239"/>
                </a:lnTo>
                <a:lnTo>
                  <a:pt x="6035" y="713279"/>
                </a:lnTo>
                <a:lnTo>
                  <a:pt x="4024" y="716820"/>
                </a:lnTo>
                <a:lnTo>
                  <a:pt x="1788" y="723011"/>
                </a:lnTo>
                <a:lnTo>
                  <a:pt x="0" y="7315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244"/>
          <p:cNvSpPr/>
          <p:nvPr/>
        </p:nvSpPr>
        <p:spPr>
          <a:xfrm>
            <a:off x="2073240" y="2384280"/>
            <a:ext cx="228600" cy="946440"/>
          </a:xfrm>
          <a:custGeom>
            <a:avLst/>
            <a:gdLst>
              <a:gd name="textAreaLeft" fmla="*/ 0 w 228600"/>
              <a:gd name="textAreaRight" fmla="*/ 228960 w 22860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228598" h="944881">
                <a:moveTo>
                  <a:pt x="45717" y="0"/>
                </a:moveTo>
                <a:lnTo>
                  <a:pt x="41672" y="4045"/>
                </a:lnTo>
                <a:lnTo>
                  <a:pt x="40480" y="6930"/>
                </a:lnTo>
                <a:lnTo>
                  <a:pt x="37957" y="18234"/>
                </a:lnTo>
                <a:lnTo>
                  <a:pt x="34366" y="24473"/>
                </a:lnTo>
                <a:lnTo>
                  <a:pt x="32205" y="34584"/>
                </a:lnTo>
                <a:lnTo>
                  <a:pt x="28731" y="54556"/>
                </a:lnTo>
                <a:lnTo>
                  <a:pt x="25468" y="69967"/>
                </a:lnTo>
                <a:lnTo>
                  <a:pt x="22784" y="98530"/>
                </a:lnTo>
                <a:lnTo>
                  <a:pt x="19156" y="121403"/>
                </a:lnTo>
                <a:lnTo>
                  <a:pt x="16979" y="145679"/>
                </a:lnTo>
                <a:lnTo>
                  <a:pt x="15164" y="170579"/>
                </a:lnTo>
                <a:lnTo>
                  <a:pt x="11536" y="195758"/>
                </a:lnTo>
                <a:lnTo>
                  <a:pt x="9359" y="221059"/>
                </a:lnTo>
                <a:lnTo>
                  <a:pt x="8391" y="247262"/>
                </a:lnTo>
                <a:lnTo>
                  <a:pt x="7961" y="275841"/>
                </a:lnTo>
                <a:lnTo>
                  <a:pt x="7000" y="290574"/>
                </a:lnTo>
                <a:lnTo>
                  <a:pt x="5512" y="305476"/>
                </a:lnTo>
                <a:lnTo>
                  <a:pt x="3674" y="320491"/>
                </a:lnTo>
                <a:lnTo>
                  <a:pt x="2448" y="335581"/>
                </a:lnTo>
                <a:lnTo>
                  <a:pt x="1631" y="350720"/>
                </a:lnTo>
                <a:lnTo>
                  <a:pt x="723" y="381089"/>
                </a:lnTo>
                <a:lnTo>
                  <a:pt x="61" y="477685"/>
                </a:lnTo>
                <a:lnTo>
                  <a:pt x="0" y="601887"/>
                </a:lnTo>
                <a:lnTo>
                  <a:pt x="846" y="617158"/>
                </a:lnTo>
                <a:lnTo>
                  <a:pt x="2256" y="632419"/>
                </a:lnTo>
                <a:lnTo>
                  <a:pt x="4043" y="647673"/>
                </a:lnTo>
                <a:lnTo>
                  <a:pt x="8287" y="678168"/>
                </a:lnTo>
                <a:lnTo>
                  <a:pt x="10603" y="693412"/>
                </a:lnTo>
                <a:lnTo>
                  <a:pt x="17693" y="721639"/>
                </a:lnTo>
                <a:lnTo>
                  <a:pt x="21955" y="735093"/>
                </a:lnTo>
                <a:lnTo>
                  <a:pt x="27336" y="747449"/>
                </a:lnTo>
                <a:lnTo>
                  <a:pt x="33462" y="759073"/>
                </a:lnTo>
                <a:lnTo>
                  <a:pt x="40088" y="770208"/>
                </a:lnTo>
                <a:lnTo>
                  <a:pt x="46197" y="781866"/>
                </a:lnTo>
                <a:lnTo>
                  <a:pt x="51964" y="793870"/>
                </a:lnTo>
                <a:lnTo>
                  <a:pt x="57502" y="806107"/>
                </a:lnTo>
                <a:lnTo>
                  <a:pt x="65427" y="816804"/>
                </a:lnTo>
                <a:lnTo>
                  <a:pt x="74944" y="826477"/>
                </a:lnTo>
                <a:lnTo>
                  <a:pt x="85521" y="835465"/>
                </a:lnTo>
                <a:lnTo>
                  <a:pt x="95113" y="844843"/>
                </a:lnTo>
                <a:lnTo>
                  <a:pt x="104048" y="854482"/>
                </a:lnTo>
                <a:lnTo>
                  <a:pt x="112545" y="864295"/>
                </a:lnTo>
                <a:lnTo>
                  <a:pt x="121595" y="873376"/>
                </a:lnTo>
                <a:lnTo>
                  <a:pt x="131016" y="881971"/>
                </a:lnTo>
                <a:lnTo>
                  <a:pt x="140683" y="890240"/>
                </a:lnTo>
                <a:lnTo>
                  <a:pt x="150515" y="897447"/>
                </a:lnTo>
                <a:lnTo>
                  <a:pt x="160455" y="903945"/>
                </a:lnTo>
                <a:lnTo>
                  <a:pt x="179685" y="915680"/>
                </a:lnTo>
                <a:lnTo>
                  <a:pt x="196699" y="926540"/>
                </a:lnTo>
                <a:lnTo>
                  <a:pt x="203945" y="930960"/>
                </a:lnTo>
                <a:lnTo>
                  <a:pt x="210469" y="934753"/>
                </a:lnTo>
                <a:lnTo>
                  <a:pt x="228597" y="944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245"/>
          <p:cNvSpPr/>
          <p:nvPr/>
        </p:nvSpPr>
        <p:spPr>
          <a:xfrm>
            <a:off x="2460600" y="2476440"/>
            <a:ext cx="160200" cy="160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60021" h="159917">
                <a:moveTo>
                  <a:pt x="0" y="37996"/>
                </a:moveTo>
                <a:lnTo>
                  <a:pt x="0" y="33951"/>
                </a:lnTo>
                <a:lnTo>
                  <a:pt x="847" y="31912"/>
                </a:lnTo>
                <a:lnTo>
                  <a:pt x="4045" y="27390"/>
                </a:lnTo>
                <a:lnTo>
                  <a:pt x="8289" y="22558"/>
                </a:lnTo>
                <a:lnTo>
                  <a:pt x="10606" y="20084"/>
                </a:lnTo>
                <a:lnTo>
                  <a:pt x="13844" y="17588"/>
                </a:lnTo>
                <a:lnTo>
                  <a:pt x="17696" y="15077"/>
                </a:lnTo>
                <a:lnTo>
                  <a:pt x="21957" y="12557"/>
                </a:lnTo>
                <a:lnTo>
                  <a:pt x="26492" y="10877"/>
                </a:lnTo>
                <a:lnTo>
                  <a:pt x="31208" y="9757"/>
                </a:lnTo>
                <a:lnTo>
                  <a:pt x="36045" y="9010"/>
                </a:lnTo>
                <a:lnTo>
                  <a:pt x="40963" y="7665"/>
                </a:lnTo>
                <a:lnTo>
                  <a:pt x="45936" y="5922"/>
                </a:lnTo>
                <a:lnTo>
                  <a:pt x="50944" y="3913"/>
                </a:lnTo>
                <a:lnTo>
                  <a:pt x="55976" y="2574"/>
                </a:lnTo>
                <a:lnTo>
                  <a:pt x="61024" y="1682"/>
                </a:lnTo>
                <a:lnTo>
                  <a:pt x="66082" y="1086"/>
                </a:lnTo>
                <a:lnTo>
                  <a:pt x="71995" y="690"/>
                </a:lnTo>
                <a:lnTo>
                  <a:pt x="78477" y="425"/>
                </a:lnTo>
                <a:lnTo>
                  <a:pt x="99039" y="0"/>
                </a:lnTo>
                <a:lnTo>
                  <a:pt x="103280" y="812"/>
                </a:lnTo>
                <a:lnTo>
                  <a:pt x="107799" y="2200"/>
                </a:lnTo>
                <a:lnTo>
                  <a:pt x="112506" y="3972"/>
                </a:lnTo>
                <a:lnTo>
                  <a:pt x="115644" y="6000"/>
                </a:lnTo>
                <a:lnTo>
                  <a:pt x="117736" y="8199"/>
                </a:lnTo>
                <a:lnTo>
                  <a:pt x="120907" y="12899"/>
                </a:lnTo>
                <a:lnTo>
                  <a:pt x="125139" y="17811"/>
                </a:lnTo>
                <a:lnTo>
                  <a:pt x="125759" y="20306"/>
                </a:lnTo>
                <a:lnTo>
                  <a:pt x="125326" y="22816"/>
                </a:lnTo>
                <a:lnTo>
                  <a:pt x="124191" y="25336"/>
                </a:lnTo>
                <a:lnTo>
                  <a:pt x="118548" y="36973"/>
                </a:lnTo>
                <a:lnTo>
                  <a:pt x="111513" y="51145"/>
                </a:lnTo>
                <a:lnTo>
                  <a:pt x="108209" y="56076"/>
                </a:lnTo>
                <a:lnTo>
                  <a:pt x="104312" y="61056"/>
                </a:lnTo>
                <a:lnTo>
                  <a:pt x="100022" y="66069"/>
                </a:lnTo>
                <a:lnTo>
                  <a:pt x="95468" y="71105"/>
                </a:lnTo>
                <a:lnTo>
                  <a:pt x="85892" y="81215"/>
                </a:lnTo>
                <a:lnTo>
                  <a:pt x="43308" y="124224"/>
                </a:lnTo>
                <a:lnTo>
                  <a:pt x="41572" y="126808"/>
                </a:lnTo>
                <a:lnTo>
                  <a:pt x="40415" y="129378"/>
                </a:lnTo>
                <a:lnTo>
                  <a:pt x="39643" y="131937"/>
                </a:lnTo>
                <a:lnTo>
                  <a:pt x="39129" y="134490"/>
                </a:lnTo>
                <a:lnTo>
                  <a:pt x="38786" y="137039"/>
                </a:lnTo>
                <a:lnTo>
                  <a:pt x="38236" y="143167"/>
                </a:lnTo>
                <a:lnTo>
                  <a:pt x="40418" y="146264"/>
                </a:lnTo>
                <a:lnTo>
                  <a:pt x="42185" y="148274"/>
                </a:lnTo>
                <a:lnTo>
                  <a:pt x="45057" y="149615"/>
                </a:lnTo>
                <a:lnTo>
                  <a:pt x="48665" y="150509"/>
                </a:lnTo>
                <a:lnTo>
                  <a:pt x="52763" y="151105"/>
                </a:lnTo>
                <a:lnTo>
                  <a:pt x="58035" y="151502"/>
                </a:lnTo>
                <a:lnTo>
                  <a:pt x="64090" y="151767"/>
                </a:lnTo>
                <a:lnTo>
                  <a:pt x="70667" y="151943"/>
                </a:lnTo>
                <a:lnTo>
                  <a:pt x="77591" y="152908"/>
                </a:lnTo>
                <a:lnTo>
                  <a:pt x="84747" y="154397"/>
                </a:lnTo>
                <a:lnTo>
                  <a:pt x="92058" y="156237"/>
                </a:lnTo>
                <a:lnTo>
                  <a:pt x="99472" y="157463"/>
                </a:lnTo>
                <a:lnTo>
                  <a:pt x="106955" y="158281"/>
                </a:lnTo>
                <a:lnTo>
                  <a:pt x="114483" y="158826"/>
                </a:lnTo>
                <a:lnTo>
                  <a:pt x="122042" y="159189"/>
                </a:lnTo>
                <a:lnTo>
                  <a:pt x="143123" y="159701"/>
                </a:lnTo>
                <a:lnTo>
                  <a:pt x="160020" y="1599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InkAnnotation246"/>
          <p:cNvSpPr/>
          <p:nvPr/>
        </p:nvSpPr>
        <p:spPr>
          <a:xfrm>
            <a:off x="1735200" y="3330720"/>
            <a:ext cx="146160" cy="182520"/>
          </a:xfrm>
          <a:custGeom>
            <a:avLst/>
            <a:gdLst>
              <a:gd name="textAreaLeft" fmla="*/ 0 w 146160"/>
              <a:gd name="textAreaRight" fmla="*/ 146520 w 146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6925" h="182539">
                <a:moveTo>
                  <a:pt x="10418" y="14898"/>
                </a:moveTo>
                <a:lnTo>
                  <a:pt x="14464" y="10853"/>
                </a:lnTo>
                <a:lnTo>
                  <a:pt x="16502" y="9661"/>
                </a:lnTo>
                <a:lnTo>
                  <a:pt x="21024" y="8337"/>
                </a:lnTo>
                <a:lnTo>
                  <a:pt x="25109" y="7138"/>
                </a:lnTo>
                <a:lnTo>
                  <a:pt x="36421" y="3547"/>
                </a:lnTo>
                <a:lnTo>
                  <a:pt x="42147" y="2251"/>
                </a:lnTo>
                <a:lnTo>
                  <a:pt x="47657" y="1386"/>
                </a:lnTo>
                <a:lnTo>
                  <a:pt x="53024" y="810"/>
                </a:lnTo>
                <a:lnTo>
                  <a:pt x="59142" y="426"/>
                </a:lnTo>
                <a:lnTo>
                  <a:pt x="72713" y="0"/>
                </a:lnTo>
                <a:lnTo>
                  <a:pt x="79888" y="733"/>
                </a:lnTo>
                <a:lnTo>
                  <a:pt x="87211" y="2068"/>
                </a:lnTo>
                <a:lnTo>
                  <a:pt x="94634" y="3805"/>
                </a:lnTo>
                <a:lnTo>
                  <a:pt x="100428" y="4962"/>
                </a:lnTo>
                <a:lnTo>
                  <a:pt x="105138" y="5735"/>
                </a:lnTo>
                <a:lnTo>
                  <a:pt x="109125" y="6249"/>
                </a:lnTo>
                <a:lnTo>
                  <a:pt x="114323" y="7439"/>
                </a:lnTo>
                <a:lnTo>
                  <a:pt x="120328" y="9079"/>
                </a:lnTo>
                <a:lnTo>
                  <a:pt x="126871" y="11018"/>
                </a:lnTo>
                <a:lnTo>
                  <a:pt x="132080" y="13158"/>
                </a:lnTo>
                <a:lnTo>
                  <a:pt x="136400" y="15432"/>
                </a:lnTo>
                <a:lnTo>
                  <a:pt x="145370" y="21118"/>
                </a:lnTo>
                <a:lnTo>
                  <a:pt x="146106" y="22432"/>
                </a:lnTo>
                <a:lnTo>
                  <a:pt x="146924" y="26149"/>
                </a:lnTo>
                <a:lnTo>
                  <a:pt x="145449" y="29172"/>
                </a:lnTo>
                <a:lnTo>
                  <a:pt x="142772" y="32881"/>
                </a:lnTo>
                <a:lnTo>
                  <a:pt x="139294" y="37047"/>
                </a:lnTo>
                <a:lnTo>
                  <a:pt x="135282" y="40670"/>
                </a:lnTo>
                <a:lnTo>
                  <a:pt x="130914" y="43933"/>
                </a:lnTo>
                <a:lnTo>
                  <a:pt x="107692" y="59298"/>
                </a:lnTo>
                <a:lnTo>
                  <a:pt x="101514" y="63971"/>
                </a:lnTo>
                <a:lnTo>
                  <a:pt x="95702" y="68780"/>
                </a:lnTo>
                <a:lnTo>
                  <a:pt x="90134" y="73680"/>
                </a:lnTo>
                <a:lnTo>
                  <a:pt x="83882" y="78639"/>
                </a:lnTo>
                <a:lnTo>
                  <a:pt x="77174" y="83639"/>
                </a:lnTo>
                <a:lnTo>
                  <a:pt x="70162" y="88665"/>
                </a:lnTo>
                <a:lnTo>
                  <a:pt x="62948" y="92863"/>
                </a:lnTo>
                <a:lnTo>
                  <a:pt x="55598" y="96508"/>
                </a:lnTo>
                <a:lnTo>
                  <a:pt x="48158" y="99785"/>
                </a:lnTo>
                <a:lnTo>
                  <a:pt x="40658" y="103663"/>
                </a:lnTo>
                <a:lnTo>
                  <a:pt x="33118" y="107941"/>
                </a:lnTo>
                <a:lnTo>
                  <a:pt x="25551" y="112487"/>
                </a:lnTo>
                <a:lnTo>
                  <a:pt x="19661" y="117211"/>
                </a:lnTo>
                <a:lnTo>
                  <a:pt x="14886" y="122053"/>
                </a:lnTo>
                <a:lnTo>
                  <a:pt x="10857" y="126975"/>
                </a:lnTo>
                <a:lnTo>
                  <a:pt x="7324" y="131103"/>
                </a:lnTo>
                <a:lnTo>
                  <a:pt x="4122" y="134701"/>
                </a:lnTo>
                <a:lnTo>
                  <a:pt x="1141" y="137947"/>
                </a:lnTo>
                <a:lnTo>
                  <a:pt x="0" y="140957"/>
                </a:lnTo>
                <a:lnTo>
                  <a:pt x="86" y="143811"/>
                </a:lnTo>
                <a:lnTo>
                  <a:pt x="990" y="146560"/>
                </a:lnTo>
                <a:lnTo>
                  <a:pt x="2439" y="150087"/>
                </a:lnTo>
                <a:lnTo>
                  <a:pt x="4252" y="154131"/>
                </a:lnTo>
                <a:lnTo>
                  <a:pt x="6308" y="158519"/>
                </a:lnTo>
                <a:lnTo>
                  <a:pt x="10218" y="162293"/>
                </a:lnTo>
                <a:lnTo>
                  <a:pt x="15365" y="165655"/>
                </a:lnTo>
                <a:lnTo>
                  <a:pt x="21336" y="168742"/>
                </a:lnTo>
                <a:lnTo>
                  <a:pt x="27857" y="170801"/>
                </a:lnTo>
                <a:lnTo>
                  <a:pt x="34744" y="172174"/>
                </a:lnTo>
                <a:lnTo>
                  <a:pt x="41875" y="173089"/>
                </a:lnTo>
                <a:lnTo>
                  <a:pt x="50016" y="173698"/>
                </a:lnTo>
                <a:lnTo>
                  <a:pt x="58830" y="174105"/>
                </a:lnTo>
                <a:lnTo>
                  <a:pt x="68093" y="174376"/>
                </a:lnTo>
                <a:lnTo>
                  <a:pt x="75961" y="175404"/>
                </a:lnTo>
                <a:lnTo>
                  <a:pt x="82900" y="176935"/>
                </a:lnTo>
                <a:lnTo>
                  <a:pt x="89220" y="178803"/>
                </a:lnTo>
                <a:lnTo>
                  <a:pt x="95126" y="180048"/>
                </a:lnTo>
                <a:lnTo>
                  <a:pt x="100757" y="180878"/>
                </a:lnTo>
                <a:lnTo>
                  <a:pt x="117098" y="18253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247"/>
          <p:cNvSpPr/>
          <p:nvPr/>
        </p:nvSpPr>
        <p:spPr>
          <a:xfrm>
            <a:off x="1882800" y="3375000"/>
            <a:ext cx="190440" cy="138240"/>
          </a:xfrm>
          <a:custGeom>
            <a:avLst/>
            <a:gdLst>
              <a:gd name="textAreaLeft" fmla="*/ 0 w 190440"/>
              <a:gd name="textAreaRight" fmla="*/ 190800 w 1904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0501" h="137161">
                <a:moveTo>
                  <a:pt x="190500" y="0"/>
                </a:moveTo>
                <a:lnTo>
                  <a:pt x="186455" y="0"/>
                </a:lnTo>
                <a:lnTo>
                  <a:pt x="185263" y="847"/>
                </a:lnTo>
                <a:lnTo>
                  <a:pt x="184469" y="2258"/>
                </a:lnTo>
                <a:lnTo>
                  <a:pt x="183939" y="4045"/>
                </a:lnTo>
                <a:lnTo>
                  <a:pt x="181093" y="8289"/>
                </a:lnTo>
                <a:lnTo>
                  <a:pt x="179149" y="10606"/>
                </a:lnTo>
                <a:lnTo>
                  <a:pt x="176159" y="13844"/>
                </a:lnTo>
                <a:lnTo>
                  <a:pt x="168322" y="21957"/>
                </a:lnTo>
                <a:lnTo>
                  <a:pt x="164708" y="26492"/>
                </a:lnTo>
                <a:lnTo>
                  <a:pt x="161452" y="31208"/>
                </a:lnTo>
                <a:lnTo>
                  <a:pt x="158435" y="36045"/>
                </a:lnTo>
                <a:lnTo>
                  <a:pt x="153037" y="40964"/>
                </a:lnTo>
                <a:lnTo>
                  <a:pt x="146051" y="45936"/>
                </a:lnTo>
                <a:lnTo>
                  <a:pt x="138007" y="50944"/>
                </a:lnTo>
                <a:lnTo>
                  <a:pt x="130952" y="55976"/>
                </a:lnTo>
                <a:lnTo>
                  <a:pt x="124555" y="61024"/>
                </a:lnTo>
                <a:lnTo>
                  <a:pt x="118596" y="66083"/>
                </a:lnTo>
                <a:lnTo>
                  <a:pt x="102945" y="78477"/>
                </a:lnTo>
                <a:lnTo>
                  <a:pt x="94030" y="85338"/>
                </a:lnTo>
                <a:lnTo>
                  <a:pt x="86394" y="91605"/>
                </a:lnTo>
                <a:lnTo>
                  <a:pt x="79609" y="97477"/>
                </a:lnTo>
                <a:lnTo>
                  <a:pt x="73393" y="103085"/>
                </a:lnTo>
                <a:lnTo>
                  <a:pt x="66709" y="107670"/>
                </a:lnTo>
                <a:lnTo>
                  <a:pt x="59713" y="111573"/>
                </a:lnTo>
                <a:lnTo>
                  <a:pt x="28780" y="126641"/>
                </a:lnTo>
                <a:lnTo>
                  <a:pt x="18153" y="131921"/>
                </a:lnTo>
                <a:lnTo>
                  <a:pt x="13795" y="133667"/>
                </a:lnTo>
                <a:lnTo>
                  <a:pt x="10044" y="134832"/>
                </a:lnTo>
                <a:lnTo>
                  <a:pt x="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248"/>
          <p:cNvSpPr/>
          <p:nvPr/>
        </p:nvSpPr>
        <p:spPr>
          <a:xfrm>
            <a:off x="1965240" y="3413160"/>
            <a:ext cx="176400" cy="38160"/>
          </a:xfrm>
          <a:custGeom>
            <a:avLst/>
            <a:gdLst>
              <a:gd name="textAreaLeft" fmla="*/ 0 w 176400"/>
              <a:gd name="textAreaRight" fmla="*/ 176760 w 176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5261" h="38101">
                <a:moveTo>
                  <a:pt x="0" y="0"/>
                </a:moveTo>
                <a:lnTo>
                  <a:pt x="6561" y="0"/>
                </a:lnTo>
                <a:lnTo>
                  <a:pt x="8607" y="847"/>
                </a:lnTo>
                <a:lnTo>
                  <a:pt x="11665" y="2258"/>
                </a:lnTo>
                <a:lnTo>
                  <a:pt x="15397" y="4045"/>
                </a:lnTo>
                <a:lnTo>
                  <a:pt x="18731" y="5237"/>
                </a:lnTo>
                <a:lnTo>
                  <a:pt x="21801" y="6031"/>
                </a:lnTo>
                <a:lnTo>
                  <a:pt x="24694" y="6561"/>
                </a:lnTo>
                <a:lnTo>
                  <a:pt x="28316" y="7761"/>
                </a:lnTo>
                <a:lnTo>
                  <a:pt x="32424" y="9407"/>
                </a:lnTo>
                <a:lnTo>
                  <a:pt x="36856" y="11351"/>
                </a:lnTo>
                <a:lnTo>
                  <a:pt x="42351" y="12648"/>
                </a:lnTo>
                <a:lnTo>
                  <a:pt x="48554" y="13512"/>
                </a:lnTo>
                <a:lnTo>
                  <a:pt x="55229" y="14088"/>
                </a:lnTo>
                <a:lnTo>
                  <a:pt x="63066" y="15319"/>
                </a:lnTo>
                <a:lnTo>
                  <a:pt x="71677" y="16986"/>
                </a:lnTo>
                <a:lnTo>
                  <a:pt x="90277" y="21096"/>
                </a:lnTo>
                <a:lnTo>
                  <a:pt x="139882" y="33122"/>
                </a:lnTo>
                <a:lnTo>
                  <a:pt x="148288" y="34781"/>
                </a:lnTo>
                <a:lnTo>
                  <a:pt x="155585" y="35888"/>
                </a:lnTo>
                <a:lnTo>
                  <a:pt x="17526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249"/>
          <p:cNvSpPr/>
          <p:nvPr/>
        </p:nvSpPr>
        <p:spPr>
          <a:xfrm>
            <a:off x="1662120" y="3581280"/>
            <a:ext cx="487440" cy="38160"/>
          </a:xfrm>
          <a:custGeom>
            <a:avLst/>
            <a:gdLst>
              <a:gd name="textAreaLeft" fmla="*/ 0 w 487440"/>
              <a:gd name="textAreaRight" fmla="*/ 487800 w 487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6622" h="38101">
                <a:moveTo>
                  <a:pt x="6561" y="0"/>
                </a:moveTo>
                <a:lnTo>
                  <a:pt x="0" y="0"/>
                </a:lnTo>
                <a:lnTo>
                  <a:pt x="61057" y="0"/>
                </a:lnTo>
                <a:lnTo>
                  <a:pt x="72525" y="847"/>
                </a:lnTo>
                <a:lnTo>
                  <a:pt x="84403" y="2258"/>
                </a:lnTo>
                <a:lnTo>
                  <a:pt x="96556" y="4045"/>
                </a:lnTo>
                <a:lnTo>
                  <a:pt x="109738" y="5237"/>
                </a:lnTo>
                <a:lnTo>
                  <a:pt x="123606" y="6031"/>
                </a:lnTo>
                <a:lnTo>
                  <a:pt x="153407" y="6914"/>
                </a:lnTo>
                <a:lnTo>
                  <a:pt x="186408" y="7306"/>
                </a:lnTo>
                <a:lnTo>
                  <a:pt x="202659" y="8257"/>
                </a:lnTo>
                <a:lnTo>
                  <a:pt x="218573" y="9739"/>
                </a:lnTo>
                <a:lnTo>
                  <a:pt x="234263" y="11573"/>
                </a:lnTo>
                <a:lnTo>
                  <a:pt x="249802" y="12795"/>
                </a:lnTo>
                <a:lnTo>
                  <a:pt x="265242" y="13610"/>
                </a:lnTo>
                <a:lnTo>
                  <a:pt x="280615" y="14153"/>
                </a:lnTo>
                <a:lnTo>
                  <a:pt x="295944" y="15362"/>
                </a:lnTo>
                <a:lnTo>
                  <a:pt x="311243" y="17015"/>
                </a:lnTo>
                <a:lnTo>
                  <a:pt x="326522" y="18964"/>
                </a:lnTo>
                <a:lnTo>
                  <a:pt x="340942" y="21109"/>
                </a:lnTo>
                <a:lnTo>
                  <a:pt x="368252" y="25751"/>
                </a:lnTo>
                <a:lnTo>
                  <a:pt x="381462" y="27327"/>
                </a:lnTo>
                <a:lnTo>
                  <a:pt x="394502" y="28379"/>
                </a:lnTo>
                <a:lnTo>
                  <a:pt x="407428" y="29079"/>
                </a:lnTo>
                <a:lnTo>
                  <a:pt x="418586" y="30393"/>
                </a:lnTo>
                <a:lnTo>
                  <a:pt x="428564" y="32115"/>
                </a:lnTo>
                <a:lnTo>
                  <a:pt x="437757" y="34110"/>
                </a:lnTo>
                <a:lnTo>
                  <a:pt x="445578" y="35440"/>
                </a:lnTo>
                <a:lnTo>
                  <a:pt x="452486" y="36327"/>
                </a:lnTo>
                <a:lnTo>
                  <a:pt x="464677" y="37312"/>
                </a:lnTo>
                <a:lnTo>
                  <a:pt x="470298" y="37574"/>
                </a:lnTo>
                <a:lnTo>
                  <a:pt x="486621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250"/>
          <p:cNvSpPr/>
          <p:nvPr/>
        </p:nvSpPr>
        <p:spPr>
          <a:xfrm>
            <a:off x="1798560" y="3665520"/>
            <a:ext cx="30240" cy="152280"/>
          </a:xfrm>
          <a:custGeom>
            <a:avLst/>
            <a:gdLst>
              <a:gd name="textAreaLeft" fmla="*/ 0 w 30240"/>
              <a:gd name="textAreaRight" fmla="*/ 30600 w 302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0352" h="152401">
                <a:moveTo>
                  <a:pt x="0" y="0"/>
                </a:moveTo>
                <a:lnTo>
                  <a:pt x="11352" y="0"/>
                </a:lnTo>
                <a:lnTo>
                  <a:pt x="13494" y="847"/>
                </a:lnTo>
                <a:lnTo>
                  <a:pt x="15769" y="2258"/>
                </a:lnTo>
                <a:lnTo>
                  <a:pt x="18133" y="4045"/>
                </a:lnTo>
                <a:lnTo>
                  <a:pt x="20555" y="6083"/>
                </a:lnTo>
                <a:lnTo>
                  <a:pt x="23017" y="8289"/>
                </a:lnTo>
                <a:lnTo>
                  <a:pt x="25505" y="10606"/>
                </a:lnTo>
                <a:lnTo>
                  <a:pt x="27163" y="12997"/>
                </a:lnTo>
                <a:lnTo>
                  <a:pt x="28269" y="15439"/>
                </a:lnTo>
                <a:lnTo>
                  <a:pt x="29006" y="17912"/>
                </a:lnTo>
                <a:lnTo>
                  <a:pt x="29497" y="21255"/>
                </a:lnTo>
                <a:lnTo>
                  <a:pt x="29825" y="25177"/>
                </a:lnTo>
                <a:lnTo>
                  <a:pt x="30043" y="29484"/>
                </a:lnTo>
                <a:lnTo>
                  <a:pt x="30286" y="38786"/>
                </a:lnTo>
                <a:lnTo>
                  <a:pt x="30351" y="43638"/>
                </a:lnTo>
                <a:lnTo>
                  <a:pt x="29547" y="48565"/>
                </a:lnTo>
                <a:lnTo>
                  <a:pt x="28165" y="53544"/>
                </a:lnTo>
                <a:lnTo>
                  <a:pt x="19863" y="77746"/>
                </a:lnTo>
                <a:lnTo>
                  <a:pt x="17475" y="84004"/>
                </a:lnTo>
                <a:lnTo>
                  <a:pt x="15037" y="89869"/>
                </a:lnTo>
                <a:lnTo>
                  <a:pt x="12565" y="95473"/>
                </a:lnTo>
                <a:lnTo>
                  <a:pt x="10916" y="101749"/>
                </a:lnTo>
                <a:lnTo>
                  <a:pt x="9818" y="108473"/>
                </a:lnTo>
                <a:lnTo>
                  <a:pt x="9085" y="115495"/>
                </a:lnTo>
                <a:lnTo>
                  <a:pt x="8597" y="121870"/>
                </a:lnTo>
                <a:lnTo>
                  <a:pt x="8271" y="127813"/>
                </a:lnTo>
                <a:lnTo>
                  <a:pt x="7813" y="142011"/>
                </a:lnTo>
                <a:lnTo>
                  <a:pt x="762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251"/>
          <p:cNvSpPr/>
          <p:nvPr/>
        </p:nvSpPr>
        <p:spPr>
          <a:xfrm>
            <a:off x="1935000" y="3657600"/>
            <a:ext cx="144720" cy="152280"/>
          </a:xfrm>
          <a:custGeom>
            <a:avLst/>
            <a:gdLst>
              <a:gd name="textAreaLeft" fmla="*/ 0 w 144720"/>
              <a:gd name="textAreaRight" fmla="*/ 144720 w 144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181" h="151916">
                <a:moveTo>
                  <a:pt x="22756" y="30480"/>
                </a:moveTo>
                <a:lnTo>
                  <a:pt x="22756" y="34525"/>
                </a:lnTo>
                <a:lnTo>
                  <a:pt x="21909" y="36563"/>
                </a:lnTo>
                <a:lnTo>
                  <a:pt x="16672" y="44324"/>
                </a:lnTo>
                <a:lnTo>
                  <a:pt x="14467" y="48176"/>
                </a:lnTo>
                <a:lnTo>
                  <a:pt x="12150" y="52438"/>
                </a:lnTo>
                <a:lnTo>
                  <a:pt x="10605" y="56972"/>
                </a:lnTo>
                <a:lnTo>
                  <a:pt x="9575" y="61688"/>
                </a:lnTo>
                <a:lnTo>
                  <a:pt x="8889" y="66525"/>
                </a:lnTo>
                <a:lnTo>
                  <a:pt x="7585" y="71444"/>
                </a:lnTo>
                <a:lnTo>
                  <a:pt x="5869" y="76415"/>
                </a:lnTo>
                <a:lnTo>
                  <a:pt x="3877" y="81424"/>
                </a:lnTo>
                <a:lnTo>
                  <a:pt x="2550" y="86456"/>
                </a:lnTo>
                <a:lnTo>
                  <a:pt x="1666" y="91504"/>
                </a:lnTo>
                <a:lnTo>
                  <a:pt x="1076" y="96563"/>
                </a:lnTo>
                <a:lnTo>
                  <a:pt x="682" y="101628"/>
                </a:lnTo>
                <a:lnTo>
                  <a:pt x="420" y="106699"/>
                </a:lnTo>
                <a:lnTo>
                  <a:pt x="129" y="116848"/>
                </a:lnTo>
                <a:lnTo>
                  <a:pt x="0" y="127004"/>
                </a:lnTo>
                <a:lnTo>
                  <a:pt x="812" y="131236"/>
                </a:lnTo>
                <a:lnTo>
                  <a:pt x="2200" y="134904"/>
                </a:lnTo>
                <a:lnTo>
                  <a:pt x="3972" y="138196"/>
                </a:lnTo>
                <a:lnTo>
                  <a:pt x="6846" y="141238"/>
                </a:lnTo>
                <a:lnTo>
                  <a:pt x="10456" y="144112"/>
                </a:lnTo>
                <a:lnTo>
                  <a:pt x="14556" y="146874"/>
                </a:lnTo>
                <a:lnTo>
                  <a:pt x="19829" y="148717"/>
                </a:lnTo>
                <a:lnTo>
                  <a:pt x="25885" y="149944"/>
                </a:lnTo>
                <a:lnTo>
                  <a:pt x="32462" y="150763"/>
                </a:lnTo>
                <a:lnTo>
                  <a:pt x="39387" y="151309"/>
                </a:lnTo>
                <a:lnTo>
                  <a:pt x="46543" y="151673"/>
                </a:lnTo>
                <a:lnTo>
                  <a:pt x="53854" y="151915"/>
                </a:lnTo>
                <a:lnTo>
                  <a:pt x="61268" y="151230"/>
                </a:lnTo>
                <a:lnTo>
                  <a:pt x="68750" y="149927"/>
                </a:lnTo>
                <a:lnTo>
                  <a:pt x="76279" y="148211"/>
                </a:lnTo>
                <a:lnTo>
                  <a:pt x="83838" y="145374"/>
                </a:lnTo>
                <a:lnTo>
                  <a:pt x="91418" y="141790"/>
                </a:lnTo>
                <a:lnTo>
                  <a:pt x="99010" y="137706"/>
                </a:lnTo>
                <a:lnTo>
                  <a:pt x="105766" y="133291"/>
                </a:lnTo>
                <a:lnTo>
                  <a:pt x="111963" y="128654"/>
                </a:lnTo>
                <a:lnTo>
                  <a:pt x="117787" y="123870"/>
                </a:lnTo>
                <a:lnTo>
                  <a:pt x="122517" y="118140"/>
                </a:lnTo>
                <a:lnTo>
                  <a:pt x="126516" y="111780"/>
                </a:lnTo>
                <a:lnTo>
                  <a:pt x="139020" y="87368"/>
                </a:lnTo>
                <a:lnTo>
                  <a:pt x="140905" y="81105"/>
                </a:lnTo>
                <a:lnTo>
                  <a:pt x="142162" y="74390"/>
                </a:lnTo>
                <a:lnTo>
                  <a:pt x="143000" y="67373"/>
                </a:lnTo>
                <a:lnTo>
                  <a:pt x="143559" y="61002"/>
                </a:lnTo>
                <a:lnTo>
                  <a:pt x="143931" y="55061"/>
                </a:lnTo>
                <a:lnTo>
                  <a:pt x="144180" y="49408"/>
                </a:lnTo>
                <a:lnTo>
                  <a:pt x="143498" y="43945"/>
                </a:lnTo>
                <a:lnTo>
                  <a:pt x="142198" y="38610"/>
                </a:lnTo>
                <a:lnTo>
                  <a:pt x="140484" y="33360"/>
                </a:lnTo>
                <a:lnTo>
                  <a:pt x="138494" y="29014"/>
                </a:lnTo>
                <a:lnTo>
                  <a:pt x="136322" y="25269"/>
                </a:lnTo>
                <a:lnTo>
                  <a:pt x="134027" y="21926"/>
                </a:lnTo>
                <a:lnTo>
                  <a:pt x="131650" y="18851"/>
                </a:lnTo>
                <a:lnTo>
                  <a:pt x="129219" y="15954"/>
                </a:lnTo>
                <a:lnTo>
                  <a:pt x="126751" y="13176"/>
                </a:lnTo>
                <a:lnTo>
                  <a:pt x="123413" y="10478"/>
                </a:lnTo>
                <a:lnTo>
                  <a:pt x="119494" y="7832"/>
                </a:lnTo>
                <a:lnTo>
                  <a:pt x="115188" y="5221"/>
                </a:lnTo>
                <a:lnTo>
                  <a:pt x="111471" y="3481"/>
                </a:lnTo>
                <a:lnTo>
                  <a:pt x="108146" y="2320"/>
                </a:lnTo>
                <a:lnTo>
                  <a:pt x="989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252"/>
          <p:cNvSpPr/>
          <p:nvPr/>
        </p:nvSpPr>
        <p:spPr>
          <a:xfrm>
            <a:off x="2378160" y="3543480"/>
            <a:ext cx="128520" cy="360"/>
          </a:xfrm>
          <a:custGeom>
            <a:avLst/>
            <a:gdLst>
              <a:gd name="textAreaLeft" fmla="*/ 0 w 128520"/>
              <a:gd name="textAreaRight" fmla="*/ 128880 w 128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253"/>
          <p:cNvSpPr/>
          <p:nvPr/>
        </p:nvSpPr>
        <p:spPr>
          <a:xfrm>
            <a:off x="2408400" y="3603600"/>
            <a:ext cx="242640" cy="23760"/>
          </a:xfrm>
          <a:custGeom>
            <a:avLst/>
            <a:gdLst>
              <a:gd name="textAreaLeft" fmla="*/ 0 w 242640"/>
              <a:gd name="textAreaRight" fmla="*/ 243000 w 242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43841" h="22452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6" y="6561"/>
                </a:lnTo>
                <a:lnTo>
                  <a:pt x="8289" y="7149"/>
                </a:lnTo>
                <a:lnTo>
                  <a:pt x="10606" y="7306"/>
                </a:lnTo>
                <a:lnTo>
                  <a:pt x="13844" y="8257"/>
                </a:lnTo>
                <a:lnTo>
                  <a:pt x="17696" y="9738"/>
                </a:lnTo>
                <a:lnTo>
                  <a:pt x="21957" y="11572"/>
                </a:lnTo>
                <a:lnTo>
                  <a:pt x="31208" y="15868"/>
                </a:lnTo>
                <a:lnTo>
                  <a:pt x="36045" y="18199"/>
                </a:lnTo>
                <a:lnTo>
                  <a:pt x="40963" y="19753"/>
                </a:lnTo>
                <a:lnTo>
                  <a:pt x="45936" y="20788"/>
                </a:lnTo>
                <a:lnTo>
                  <a:pt x="50944" y="21479"/>
                </a:lnTo>
                <a:lnTo>
                  <a:pt x="56823" y="21939"/>
                </a:lnTo>
                <a:lnTo>
                  <a:pt x="63282" y="22246"/>
                </a:lnTo>
                <a:lnTo>
                  <a:pt x="70128" y="22451"/>
                </a:lnTo>
                <a:lnTo>
                  <a:pt x="78079" y="21741"/>
                </a:lnTo>
                <a:lnTo>
                  <a:pt x="86766" y="20421"/>
                </a:lnTo>
                <a:lnTo>
                  <a:pt x="95944" y="18694"/>
                </a:lnTo>
                <a:lnTo>
                  <a:pt x="104602" y="17543"/>
                </a:lnTo>
                <a:lnTo>
                  <a:pt x="112915" y="16775"/>
                </a:lnTo>
                <a:lnTo>
                  <a:pt x="120997" y="16264"/>
                </a:lnTo>
                <a:lnTo>
                  <a:pt x="129771" y="15923"/>
                </a:lnTo>
                <a:lnTo>
                  <a:pt x="157454" y="15442"/>
                </a:lnTo>
                <a:lnTo>
                  <a:pt x="174120" y="15330"/>
                </a:lnTo>
                <a:lnTo>
                  <a:pt x="182120" y="14454"/>
                </a:lnTo>
                <a:lnTo>
                  <a:pt x="189993" y="13022"/>
                </a:lnTo>
                <a:lnTo>
                  <a:pt x="197782" y="11222"/>
                </a:lnTo>
                <a:lnTo>
                  <a:pt x="205515" y="10021"/>
                </a:lnTo>
                <a:lnTo>
                  <a:pt x="213210" y="9221"/>
                </a:lnTo>
                <a:lnTo>
                  <a:pt x="226840" y="8332"/>
                </a:lnTo>
                <a:lnTo>
                  <a:pt x="2438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254"/>
          <p:cNvSpPr/>
          <p:nvPr/>
        </p:nvSpPr>
        <p:spPr>
          <a:xfrm>
            <a:off x="2759040" y="3421080"/>
            <a:ext cx="14400" cy="220680"/>
          </a:xfrm>
          <a:custGeom>
            <a:avLst/>
            <a:gdLst>
              <a:gd name="textAreaLeft" fmla="*/ 0 w 14400"/>
              <a:gd name="textAreaRight" fmla="*/ 14760 w 144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1" h="220981">
                <a:moveTo>
                  <a:pt x="0" y="0"/>
                </a:moveTo>
                <a:lnTo>
                  <a:pt x="0" y="160024"/>
                </a:lnTo>
                <a:lnTo>
                  <a:pt x="847" y="166796"/>
                </a:lnTo>
                <a:lnTo>
                  <a:pt x="2258" y="173004"/>
                </a:lnTo>
                <a:lnTo>
                  <a:pt x="4045" y="178836"/>
                </a:lnTo>
                <a:lnTo>
                  <a:pt x="5237" y="184418"/>
                </a:lnTo>
                <a:lnTo>
                  <a:pt x="6032" y="189832"/>
                </a:lnTo>
                <a:lnTo>
                  <a:pt x="6561" y="195135"/>
                </a:lnTo>
                <a:lnTo>
                  <a:pt x="7761" y="200363"/>
                </a:lnTo>
                <a:lnTo>
                  <a:pt x="9407" y="205542"/>
                </a:lnTo>
                <a:lnTo>
                  <a:pt x="152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255"/>
          <p:cNvSpPr/>
          <p:nvPr/>
        </p:nvSpPr>
        <p:spPr>
          <a:xfrm>
            <a:off x="2933640" y="3368520"/>
            <a:ext cx="281160" cy="273240"/>
          </a:xfrm>
          <a:custGeom>
            <a:avLst/>
            <a:gdLst>
              <a:gd name="textAreaLeft" fmla="*/ 0 w 281160"/>
              <a:gd name="textAreaRight" fmla="*/ 281520 w 28116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80679" h="273968">
                <a:moveTo>
                  <a:pt x="0" y="52987"/>
                </a:moveTo>
                <a:lnTo>
                  <a:pt x="51441" y="52987"/>
                </a:lnTo>
                <a:lnTo>
                  <a:pt x="59694" y="52140"/>
                </a:lnTo>
                <a:lnTo>
                  <a:pt x="67737" y="50729"/>
                </a:lnTo>
                <a:lnTo>
                  <a:pt x="75638" y="48942"/>
                </a:lnTo>
                <a:lnTo>
                  <a:pt x="84292" y="47750"/>
                </a:lnTo>
                <a:lnTo>
                  <a:pt x="93448" y="46956"/>
                </a:lnTo>
                <a:lnTo>
                  <a:pt x="102939" y="46426"/>
                </a:lnTo>
                <a:lnTo>
                  <a:pt x="111806" y="45227"/>
                </a:lnTo>
                <a:lnTo>
                  <a:pt x="120258" y="43580"/>
                </a:lnTo>
                <a:lnTo>
                  <a:pt x="185769" y="27483"/>
                </a:lnTo>
                <a:lnTo>
                  <a:pt x="194966" y="24977"/>
                </a:lnTo>
                <a:lnTo>
                  <a:pt x="211958" y="19936"/>
                </a:lnTo>
                <a:lnTo>
                  <a:pt x="219199" y="17407"/>
                </a:lnTo>
                <a:lnTo>
                  <a:pt x="225719" y="14873"/>
                </a:lnTo>
                <a:lnTo>
                  <a:pt x="231759" y="12338"/>
                </a:lnTo>
                <a:lnTo>
                  <a:pt x="238327" y="10648"/>
                </a:lnTo>
                <a:lnTo>
                  <a:pt x="245244" y="9521"/>
                </a:lnTo>
                <a:lnTo>
                  <a:pt x="252396" y="8770"/>
                </a:lnTo>
                <a:lnTo>
                  <a:pt x="258011" y="7422"/>
                </a:lnTo>
                <a:lnTo>
                  <a:pt x="266507" y="3667"/>
                </a:lnTo>
                <a:lnTo>
                  <a:pt x="272005" y="838"/>
                </a:lnTo>
                <a:lnTo>
                  <a:pt x="275549" y="177"/>
                </a:lnTo>
                <a:lnTo>
                  <a:pt x="277680" y="0"/>
                </a:lnTo>
                <a:lnTo>
                  <a:pt x="279100" y="729"/>
                </a:lnTo>
                <a:lnTo>
                  <a:pt x="280047" y="2062"/>
                </a:lnTo>
                <a:lnTo>
                  <a:pt x="280678" y="3797"/>
                </a:lnTo>
                <a:lnTo>
                  <a:pt x="280252" y="5800"/>
                </a:lnTo>
                <a:lnTo>
                  <a:pt x="275608" y="13512"/>
                </a:lnTo>
                <a:lnTo>
                  <a:pt x="271224" y="21614"/>
                </a:lnTo>
                <a:lnTo>
                  <a:pt x="263995" y="35695"/>
                </a:lnTo>
                <a:lnTo>
                  <a:pt x="260663" y="41459"/>
                </a:lnTo>
                <a:lnTo>
                  <a:pt x="256749" y="47842"/>
                </a:lnTo>
                <a:lnTo>
                  <a:pt x="243150" y="68960"/>
                </a:lnTo>
                <a:lnTo>
                  <a:pt x="238300" y="76336"/>
                </a:lnTo>
                <a:lnTo>
                  <a:pt x="233374" y="84640"/>
                </a:lnTo>
                <a:lnTo>
                  <a:pt x="228396" y="93562"/>
                </a:lnTo>
                <a:lnTo>
                  <a:pt x="223384" y="102897"/>
                </a:lnTo>
                <a:lnTo>
                  <a:pt x="217503" y="111660"/>
                </a:lnTo>
                <a:lnTo>
                  <a:pt x="211042" y="120043"/>
                </a:lnTo>
                <a:lnTo>
                  <a:pt x="204195" y="128171"/>
                </a:lnTo>
                <a:lnTo>
                  <a:pt x="197937" y="136976"/>
                </a:lnTo>
                <a:lnTo>
                  <a:pt x="192071" y="146234"/>
                </a:lnTo>
                <a:lnTo>
                  <a:pt x="186467" y="155792"/>
                </a:lnTo>
                <a:lnTo>
                  <a:pt x="175726" y="173185"/>
                </a:lnTo>
                <a:lnTo>
                  <a:pt x="170491" y="181378"/>
                </a:lnTo>
                <a:lnTo>
                  <a:pt x="166154" y="188535"/>
                </a:lnTo>
                <a:lnTo>
                  <a:pt x="162416" y="194999"/>
                </a:lnTo>
                <a:lnTo>
                  <a:pt x="156005" y="206697"/>
                </a:lnTo>
                <a:lnTo>
                  <a:pt x="147636" y="222803"/>
                </a:lnTo>
                <a:lnTo>
                  <a:pt x="142380" y="233165"/>
                </a:lnTo>
                <a:lnTo>
                  <a:pt x="140640" y="238299"/>
                </a:lnTo>
                <a:lnTo>
                  <a:pt x="139480" y="243415"/>
                </a:lnTo>
                <a:lnTo>
                  <a:pt x="138707" y="248519"/>
                </a:lnTo>
                <a:lnTo>
                  <a:pt x="135590" y="256448"/>
                </a:lnTo>
                <a:lnTo>
                  <a:pt x="132229" y="262794"/>
                </a:lnTo>
                <a:lnTo>
                  <a:pt x="130337" y="270280"/>
                </a:lnTo>
                <a:lnTo>
                  <a:pt x="129540" y="27396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256"/>
          <p:cNvSpPr/>
          <p:nvPr/>
        </p:nvSpPr>
        <p:spPr>
          <a:xfrm>
            <a:off x="3009960" y="3513240"/>
            <a:ext cx="250920" cy="30240"/>
          </a:xfrm>
          <a:custGeom>
            <a:avLst/>
            <a:gdLst>
              <a:gd name="textAreaLeft" fmla="*/ 0 w 250920"/>
              <a:gd name="textAreaRight" fmla="*/ 251280 w 25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51461" h="30481">
                <a:moveTo>
                  <a:pt x="0" y="30480"/>
                </a:moveTo>
                <a:lnTo>
                  <a:pt x="6561" y="23920"/>
                </a:lnTo>
                <a:lnTo>
                  <a:pt x="8608" y="22720"/>
                </a:lnTo>
                <a:lnTo>
                  <a:pt x="15397" y="19129"/>
                </a:lnTo>
                <a:lnTo>
                  <a:pt x="19578" y="17833"/>
                </a:lnTo>
                <a:lnTo>
                  <a:pt x="24059" y="16968"/>
                </a:lnTo>
                <a:lnTo>
                  <a:pt x="28739" y="16392"/>
                </a:lnTo>
                <a:lnTo>
                  <a:pt x="34399" y="15162"/>
                </a:lnTo>
                <a:lnTo>
                  <a:pt x="40713" y="13495"/>
                </a:lnTo>
                <a:lnTo>
                  <a:pt x="47462" y="11537"/>
                </a:lnTo>
                <a:lnTo>
                  <a:pt x="55348" y="10231"/>
                </a:lnTo>
                <a:lnTo>
                  <a:pt x="63992" y="9360"/>
                </a:lnTo>
                <a:lnTo>
                  <a:pt x="73141" y="8781"/>
                </a:lnTo>
                <a:lnTo>
                  <a:pt x="82628" y="8394"/>
                </a:lnTo>
                <a:lnTo>
                  <a:pt x="102199" y="7964"/>
                </a:lnTo>
                <a:lnTo>
                  <a:pt x="189011" y="7629"/>
                </a:lnTo>
                <a:lnTo>
                  <a:pt x="196280" y="6779"/>
                </a:lnTo>
                <a:lnTo>
                  <a:pt x="202820" y="5366"/>
                </a:lnTo>
                <a:lnTo>
                  <a:pt x="208873" y="3578"/>
                </a:lnTo>
                <a:lnTo>
                  <a:pt x="214602" y="2385"/>
                </a:lnTo>
                <a:lnTo>
                  <a:pt x="220115" y="1590"/>
                </a:lnTo>
                <a:lnTo>
                  <a:pt x="225483" y="1060"/>
                </a:lnTo>
                <a:lnTo>
                  <a:pt x="229909" y="707"/>
                </a:lnTo>
                <a:lnTo>
                  <a:pt x="237084" y="314"/>
                </a:lnTo>
                <a:lnTo>
                  <a:pt x="243095" y="140"/>
                </a:lnTo>
                <a:lnTo>
                  <a:pt x="2514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257"/>
          <p:cNvSpPr/>
          <p:nvPr/>
        </p:nvSpPr>
        <p:spPr>
          <a:xfrm>
            <a:off x="770040" y="4191120"/>
            <a:ext cx="30240" cy="190440"/>
          </a:xfrm>
          <a:custGeom>
            <a:avLst/>
            <a:gdLst>
              <a:gd name="textAreaLeft" fmla="*/ 0 w 30240"/>
              <a:gd name="textAreaRight" fmla="*/ 30600 w 30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0481" h="190501">
                <a:moveTo>
                  <a:pt x="30480" y="0"/>
                </a:moveTo>
                <a:lnTo>
                  <a:pt x="30480" y="4045"/>
                </a:lnTo>
                <a:lnTo>
                  <a:pt x="29633" y="5237"/>
                </a:lnTo>
                <a:lnTo>
                  <a:pt x="28222" y="6031"/>
                </a:lnTo>
                <a:lnTo>
                  <a:pt x="26435" y="6561"/>
                </a:lnTo>
                <a:lnTo>
                  <a:pt x="25243" y="8608"/>
                </a:lnTo>
                <a:lnTo>
                  <a:pt x="24449" y="11665"/>
                </a:lnTo>
                <a:lnTo>
                  <a:pt x="23919" y="15397"/>
                </a:lnTo>
                <a:lnTo>
                  <a:pt x="22720" y="18731"/>
                </a:lnTo>
                <a:lnTo>
                  <a:pt x="21073" y="21801"/>
                </a:lnTo>
                <a:lnTo>
                  <a:pt x="19129" y="24694"/>
                </a:lnTo>
                <a:lnTo>
                  <a:pt x="17833" y="28316"/>
                </a:lnTo>
                <a:lnTo>
                  <a:pt x="16968" y="32424"/>
                </a:lnTo>
                <a:lnTo>
                  <a:pt x="16392" y="36856"/>
                </a:lnTo>
                <a:lnTo>
                  <a:pt x="15162" y="42351"/>
                </a:lnTo>
                <a:lnTo>
                  <a:pt x="13495" y="48554"/>
                </a:lnTo>
                <a:lnTo>
                  <a:pt x="11536" y="55229"/>
                </a:lnTo>
                <a:lnTo>
                  <a:pt x="10231" y="61373"/>
                </a:lnTo>
                <a:lnTo>
                  <a:pt x="9361" y="67162"/>
                </a:lnTo>
                <a:lnTo>
                  <a:pt x="8781" y="72715"/>
                </a:lnTo>
                <a:lnTo>
                  <a:pt x="8394" y="78957"/>
                </a:lnTo>
                <a:lnTo>
                  <a:pt x="7964" y="92665"/>
                </a:lnTo>
                <a:lnTo>
                  <a:pt x="7003" y="99877"/>
                </a:lnTo>
                <a:lnTo>
                  <a:pt x="5515" y="107225"/>
                </a:lnTo>
                <a:lnTo>
                  <a:pt x="3677" y="114663"/>
                </a:lnTo>
                <a:lnTo>
                  <a:pt x="2451" y="122162"/>
                </a:lnTo>
                <a:lnTo>
                  <a:pt x="1634" y="129701"/>
                </a:lnTo>
                <a:lnTo>
                  <a:pt x="1089" y="137268"/>
                </a:lnTo>
                <a:lnTo>
                  <a:pt x="726" y="144852"/>
                </a:lnTo>
                <a:lnTo>
                  <a:pt x="323" y="160052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258"/>
          <p:cNvSpPr/>
          <p:nvPr/>
        </p:nvSpPr>
        <p:spPr>
          <a:xfrm>
            <a:off x="892080" y="4145040"/>
            <a:ext cx="166680" cy="252360"/>
          </a:xfrm>
          <a:custGeom>
            <a:avLst/>
            <a:gdLst>
              <a:gd name="textAreaLeft" fmla="*/ 0 w 166680"/>
              <a:gd name="textAreaRight" fmla="*/ 167040 w 1666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67626" h="251450">
                <a:moveTo>
                  <a:pt x="0" y="38089"/>
                </a:moveTo>
                <a:lnTo>
                  <a:pt x="4045" y="38089"/>
                </a:lnTo>
                <a:lnTo>
                  <a:pt x="6083" y="37242"/>
                </a:lnTo>
                <a:lnTo>
                  <a:pt x="10606" y="34044"/>
                </a:lnTo>
                <a:lnTo>
                  <a:pt x="13844" y="32852"/>
                </a:lnTo>
                <a:lnTo>
                  <a:pt x="17696" y="32058"/>
                </a:lnTo>
                <a:lnTo>
                  <a:pt x="21957" y="31528"/>
                </a:lnTo>
                <a:lnTo>
                  <a:pt x="26491" y="31175"/>
                </a:lnTo>
                <a:lnTo>
                  <a:pt x="31208" y="30940"/>
                </a:lnTo>
                <a:lnTo>
                  <a:pt x="36045" y="30783"/>
                </a:lnTo>
                <a:lnTo>
                  <a:pt x="41810" y="29832"/>
                </a:lnTo>
                <a:lnTo>
                  <a:pt x="48193" y="28350"/>
                </a:lnTo>
                <a:lnTo>
                  <a:pt x="54989" y="26517"/>
                </a:lnTo>
                <a:lnTo>
                  <a:pt x="61213" y="25294"/>
                </a:lnTo>
                <a:lnTo>
                  <a:pt x="67055" y="24479"/>
                </a:lnTo>
                <a:lnTo>
                  <a:pt x="72643" y="23936"/>
                </a:lnTo>
                <a:lnTo>
                  <a:pt x="78909" y="22727"/>
                </a:lnTo>
                <a:lnTo>
                  <a:pt x="85626" y="21074"/>
                </a:lnTo>
                <a:lnTo>
                  <a:pt x="92644" y="19126"/>
                </a:lnTo>
                <a:lnTo>
                  <a:pt x="99863" y="17827"/>
                </a:lnTo>
                <a:lnTo>
                  <a:pt x="107215" y="16961"/>
                </a:lnTo>
                <a:lnTo>
                  <a:pt x="114657" y="16383"/>
                </a:lnTo>
                <a:lnTo>
                  <a:pt x="121311" y="15152"/>
                </a:lnTo>
                <a:lnTo>
                  <a:pt x="127441" y="13485"/>
                </a:lnTo>
                <a:lnTo>
                  <a:pt x="133220" y="11526"/>
                </a:lnTo>
                <a:lnTo>
                  <a:pt x="138767" y="9374"/>
                </a:lnTo>
                <a:lnTo>
                  <a:pt x="144158" y="7092"/>
                </a:lnTo>
                <a:lnTo>
                  <a:pt x="149445" y="4725"/>
                </a:lnTo>
                <a:lnTo>
                  <a:pt x="153817" y="3146"/>
                </a:lnTo>
                <a:lnTo>
                  <a:pt x="157578" y="2093"/>
                </a:lnTo>
                <a:lnTo>
                  <a:pt x="167588" y="0"/>
                </a:lnTo>
                <a:lnTo>
                  <a:pt x="167625" y="8083"/>
                </a:lnTo>
                <a:lnTo>
                  <a:pt x="166783" y="12158"/>
                </a:lnTo>
                <a:lnTo>
                  <a:pt x="165375" y="16569"/>
                </a:lnTo>
                <a:lnTo>
                  <a:pt x="163590" y="21202"/>
                </a:lnTo>
                <a:lnTo>
                  <a:pt x="159349" y="33124"/>
                </a:lnTo>
                <a:lnTo>
                  <a:pt x="157033" y="39859"/>
                </a:lnTo>
                <a:lnTo>
                  <a:pt x="153795" y="46042"/>
                </a:lnTo>
                <a:lnTo>
                  <a:pt x="149943" y="51857"/>
                </a:lnTo>
                <a:lnTo>
                  <a:pt x="145682" y="57428"/>
                </a:lnTo>
                <a:lnTo>
                  <a:pt x="141148" y="64528"/>
                </a:lnTo>
                <a:lnTo>
                  <a:pt x="136432" y="72649"/>
                </a:lnTo>
                <a:lnTo>
                  <a:pt x="131595" y="81449"/>
                </a:lnTo>
                <a:lnTo>
                  <a:pt x="127523" y="89856"/>
                </a:lnTo>
                <a:lnTo>
                  <a:pt x="123962" y="98000"/>
                </a:lnTo>
                <a:lnTo>
                  <a:pt x="120741" y="105970"/>
                </a:lnTo>
                <a:lnTo>
                  <a:pt x="117748" y="114670"/>
                </a:lnTo>
                <a:lnTo>
                  <a:pt x="114905" y="123856"/>
                </a:lnTo>
                <a:lnTo>
                  <a:pt x="112163" y="133367"/>
                </a:lnTo>
                <a:lnTo>
                  <a:pt x="108642" y="142248"/>
                </a:lnTo>
                <a:lnTo>
                  <a:pt x="104602" y="150708"/>
                </a:lnTo>
                <a:lnTo>
                  <a:pt x="100214" y="158889"/>
                </a:lnTo>
                <a:lnTo>
                  <a:pt x="97290" y="166882"/>
                </a:lnTo>
                <a:lnTo>
                  <a:pt x="95340" y="174751"/>
                </a:lnTo>
                <a:lnTo>
                  <a:pt x="94040" y="182537"/>
                </a:lnTo>
                <a:lnTo>
                  <a:pt x="92327" y="189421"/>
                </a:lnTo>
                <a:lnTo>
                  <a:pt x="90338" y="195704"/>
                </a:lnTo>
                <a:lnTo>
                  <a:pt x="85870" y="208047"/>
                </a:lnTo>
                <a:lnTo>
                  <a:pt x="81062" y="221999"/>
                </a:lnTo>
                <a:lnTo>
                  <a:pt x="79442" y="227582"/>
                </a:lnTo>
                <a:lnTo>
                  <a:pt x="78361" y="232151"/>
                </a:lnTo>
                <a:lnTo>
                  <a:pt x="77160" y="239486"/>
                </a:lnTo>
                <a:lnTo>
                  <a:pt x="76627" y="245568"/>
                </a:lnTo>
                <a:lnTo>
                  <a:pt x="76200" y="25144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259"/>
          <p:cNvSpPr/>
          <p:nvPr/>
        </p:nvSpPr>
        <p:spPr>
          <a:xfrm>
            <a:off x="906480" y="4275000"/>
            <a:ext cx="190440" cy="7920"/>
          </a:xfrm>
          <a:custGeom>
            <a:avLst/>
            <a:gdLst>
              <a:gd name="textAreaLeft" fmla="*/ 0 w 190440"/>
              <a:gd name="textAreaRight" fmla="*/ 190800 w 190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0501" h="7621">
                <a:moveTo>
                  <a:pt x="0" y="0"/>
                </a:moveTo>
                <a:lnTo>
                  <a:pt x="46651" y="0"/>
                </a:lnTo>
                <a:lnTo>
                  <a:pt x="54808" y="847"/>
                </a:lnTo>
                <a:lnTo>
                  <a:pt x="63632" y="2258"/>
                </a:lnTo>
                <a:lnTo>
                  <a:pt x="72901" y="4045"/>
                </a:lnTo>
                <a:lnTo>
                  <a:pt x="81621" y="5237"/>
                </a:lnTo>
                <a:lnTo>
                  <a:pt x="89974" y="6031"/>
                </a:lnTo>
                <a:lnTo>
                  <a:pt x="98083" y="6561"/>
                </a:lnTo>
                <a:lnTo>
                  <a:pt x="106875" y="6914"/>
                </a:lnTo>
                <a:lnTo>
                  <a:pt x="134584" y="7411"/>
                </a:lnTo>
                <a:lnTo>
                  <a:pt x="1905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260"/>
          <p:cNvSpPr/>
          <p:nvPr/>
        </p:nvSpPr>
        <p:spPr>
          <a:xfrm>
            <a:off x="1082520" y="4259160"/>
            <a:ext cx="212760" cy="1526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3361" h="152401">
                <a:moveTo>
                  <a:pt x="213360" y="0"/>
                </a:moveTo>
                <a:lnTo>
                  <a:pt x="154804" y="58556"/>
                </a:lnTo>
                <a:lnTo>
                  <a:pt x="148923" y="63591"/>
                </a:lnTo>
                <a:lnTo>
                  <a:pt x="142462" y="68640"/>
                </a:lnTo>
                <a:lnTo>
                  <a:pt x="135615" y="73700"/>
                </a:lnTo>
                <a:lnTo>
                  <a:pt x="121233" y="83838"/>
                </a:lnTo>
                <a:lnTo>
                  <a:pt x="91304" y="104144"/>
                </a:lnTo>
                <a:lnTo>
                  <a:pt x="82883" y="109222"/>
                </a:lnTo>
                <a:lnTo>
                  <a:pt x="73882" y="114302"/>
                </a:lnTo>
                <a:lnTo>
                  <a:pt x="64494" y="119381"/>
                </a:lnTo>
                <a:lnTo>
                  <a:pt x="56543" y="124461"/>
                </a:lnTo>
                <a:lnTo>
                  <a:pt x="49549" y="129540"/>
                </a:lnTo>
                <a:lnTo>
                  <a:pt x="43192" y="134620"/>
                </a:lnTo>
                <a:lnTo>
                  <a:pt x="37262" y="138007"/>
                </a:lnTo>
                <a:lnTo>
                  <a:pt x="31614" y="140265"/>
                </a:lnTo>
                <a:lnTo>
                  <a:pt x="26156" y="141770"/>
                </a:lnTo>
                <a:lnTo>
                  <a:pt x="21671" y="143620"/>
                </a:lnTo>
                <a:lnTo>
                  <a:pt x="17834" y="145700"/>
                </a:lnTo>
                <a:lnTo>
                  <a:pt x="11313" y="149422"/>
                </a:lnTo>
                <a:lnTo>
                  <a:pt x="8388" y="150415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261"/>
          <p:cNvSpPr/>
          <p:nvPr/>
        </p:nvSpPr>
        <p:spPr>
          <a:xfrm>
            <a:off x="1165320" y="4275000"/>
            <a:ext cx="228600" cy="12240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28601" h="121607">
                <a:moveTo>
                  <a:pt x="0" y="7306"/>
                </a:moveTo>
                <a:lnTo>
                  <a:pt x="4045" y="3261"/>
                </a:lnTo>
                <a:lnTo>
                  <a:pt x="6084" y="2069"/>
                </a:lnTo>
                <a:lnTo>
                  <a:pt x="10606" y="745"/>
                </a:lnTo>
                <a:lnTo>
                  <a:pt x="15438" y="157"/>
                </a:lnTo>
                <a:lnTo>
                  <a:pt x="17912" y="0"/>
                </a:lnTo>
                <a:lnTo>
                  <a:pt x="20408" y="742"/>
                </a:lnTo>
                <a:lnTo>
                  <a:pt x="25439" y="3824"/>
                </a:lnTo>
                <a:lnTo>
                  <a:pt x="27966" y="5832"/>
                </a:lnTo>
                <a:lnTo>
                  <a:pt x="30498" y="8016"/>
                </a:lnTo>
                <a:lnTo>
                  <a:pt x="33032" y="10319"/>
                </a:lnTo>
                <a:lnTo>
                  <a:pt x="36414" y="12702"/>
                </a:lnTo>
                <a:lnTo>
                  <a:pt x="40363" y="15136"/>
                </a:lnTo>
                <a:lnTo>
                  <a:pt x="44689" y="17606"/>
                </a:lnTo>
                <a:lnTo>
                  <a:pt x="50113" y="20100"/>
                </a:lnTo>
                <a:lnTo>
                  <a:pt x="56268" y="22608"/>
                </a:lnTo>
                <a:lnTo>
                  <a:pt x="62912" y="25128"/>
                </a:lnTo>
                <a:lnTo>
                  <a:pt x="69035" y="28501"/>
                </a:lnTo>
                <a:lnTo>
                  <a:pt x="74810" y="32442"/>
                </a:lnTo>
                <a:lnTo>
                  <a:pt x="80353" y="36763"/>
                </a:lnTo>
                <a:lnTo>
                  <a:pt x="85742" y="41338"/>
                </a:lnTo>
                <a:lnTo>
                  <a:pt x="91028" y="46081"/>
                </a:lnTo>
                <a:lnTo>
                  <a:pt x="96245" y="50935"/>
                </a:lnTo>
                <a:lnTo>
                  <a:pt x="103110" y="55019"/>
                </a:lnTo>
                <a:lnTo>
                  <a:pt x="111073" y="58588"/>
                </a:lnTo>
                <a:lnTo>
                  <a:pt x="119769" y="61814"/>
                </a:lnTo>
                <a:lnTo>
                  <a:pt x="128106" y="65658"/>
                </a:lnTo>
                <a:lnTo>
                  <a:pt x="136204" y="69914"/>
                </a:lnTo>
                <a:lnTo>
                  <a:pt x="144143" y="74445"/>
                </a:lnTo>
                <a:lnTo>
                  <a:pt x="161995" y="83994"/>
                </a:lnTo>
                <a:lnTo>
                  <a:pt x="171496" y="88912"/>
                </a:lnTo>
                <a:lnTo>
                  <a:pt x="180371" y="93883"/>
                </a:lnTo>
                <a:lnTo>
                  <a:pt x="188827" y="98891"/>
                </a:lnTo>
                <a:lnTo>
                  <a:pt x="197005" y="103922"/>
                </a:lnTo>
                <a:lnTo>
                  <a:pt x="204150" y="108124"/>
                </a:lnTo>
                <a:lnTo>
                  <a:pt x="228600" y="12160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262"/>
          <p:cNvSpPr/>
          <p:nvPr/>
        </p:nvSpPr>
        <p:spPr>
          <a:xfrm>
            <a:off x="701640" y="4457880"/>
            <a:ext cx="708120" cy="7920"/>
          </a:xfrm>
          <a:custGeom>
            <a:avLst/>
            <a:gdLst>
              <a:gd name="textAreaLeft" fmla="*/ 0 w 708120"/>
              <a:gd name="textAreaRight" fmla="*/ 708480 w 70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07602" h="7593">
                <a:moveTo>
                  <a:pt x="6561" y="7592"/>
                </a:moveTo>
                <a:lnTo>
                  <a:pt x="0" y="7592"/>
                </a:lnTo>
                <a:lnTo>
                  <a:pt x="43085" y="7592"/>
                </a:lnTo>
                <a:lnTo>
                  <a:pt x="52924" y="6746"/>
                </a:lnTo>
                <a:lnTo>
                  <a:pt x="63716" y="5334"/>
                </a:lnTo>
                <a:lnTo>
                  <a:pt x="75144" y="3547"/>
                </a:lnTo>
                <a:lnTo>
                  <a:pt x="87843" y="2355"/>
                </a:lnTo>
                <a:lnTo>
                  <a:pt x="101389" y="1561"/>
                </a:lnTo>
                <a:lnTo>
                  <a:pt x="115500" y="1031"/>
                </a:lnTo>
                <a:lnTo>
                  <a:pt x="163675" y="286"/>
                </a:lnTo>
                <a:lnTo>
                  <a:pt x="268372" y="0"/>
                </a:lnTo>
                <a:lnTo>
                  <a:pt x="286088" y="837"/>
                </a:lnTo>
                <a:lnTo>
                  <a:pt x="303826" y="2242"/>
                </a:lnTo>
                <a:lnTo>
                  <a:pt x="321577" y="4025"/>
                </a:lnTo>
                <a:lnTo>
                  <a:pt x="340185" y="5214"/>
                </a:lnTo>
                <a:lnTo>
                  <a:pt x="359364" y="6007"/>
                </a:lnTo>
                <a:lnTo>
                  <a:pt x="397889" y="6887"/>
                </a:lnTo>
                <a:lnTo>
                  <a:pt x="707601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263"/>
          <p:cNvSpPr/>
          <p:nvPr/>
        </p:nvSpPr>
        <p:spPr>
          <a:xfrm>
            <a:off x="952560" y="450360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19" h="220981">
                <a:moveTo>
                  <a:pt x="7618" y="0"/>
                </a:moveTo>
                <a:lnTo>
                  <a:pt x="7618" y="85346"/>
                </a:lnTo>
                <a:lnTo>
                  <a:pt x="6771" y="92458"/>
                </a:lnTo>
                <a:lnTo>
                  <a:pt x="5360" y="99739"/>
                </a:lnTo>
                <a:lnTo>
                  <a:pt x="3573" y="107132"/>
                </a:lnTo>
                <a:lnTo>
                  <a:pt x="2381" y="114602"/>
                </a:lnTo>
                <a:lnTo>
                  <a:pt x="1587" y="122121"/>
                </a:lnTo>
                <a:lnTo>
                  <a:pt x="1057" y="129674"/>
                </a:lnTo>
                <a:lnTo>
                  <a:pt x="704" y="137249"/>
                </a:lnTo>
                <a:lnTo>
                  <a:pt x="312" y="152440"/>
                </a:lnTo>
                <a:lnTo>
                  <a:pt x="16" y="192745"/>
                </a:lnTo>
                <a:lnTo>
                  <a:pt x="0" y="214356"/>
                </a:lnTo>
                <a:lnTo>
                  <a:pt x="846" y="216564"/>
                </a:lnTo>
                <a:lnTo>
                  <a:pt x="2257" y="218036"/>
                </a:lnTo>
                <a:lnTo>
                  <a:pt x="761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264"/>
          <p:cNvSpPr/>
          <p:nvPr/>
        </p:nvSpPr>
        <p:spPr>
          <a:xfrm>
            <a:off x="1066680" y="4525920"/>
            <a:ext cx="171720" cy="181080"/>
          </a:xfrm>
          <a:custGeom>
            <a:avLst/>
            <a:gdLst>
              <a:gd name="textAreaLeft" fmla="*/ 0 w 171720"/>
              <a:gd name="textAreaRight" fmla="*/ 171720 w 1717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0841" h="181336">
                <a:moveTo>
                  <a:pt x="75631" y="15240"/>
                </a:moveTo>
                <a:lnTo>
                  <a:pt x="67541" y="19285"/>
                </a:lnTo>
                <a:lnTo>
                  <a:pt x="63464" y="22170"/>
                </a:lnTo>
                <a:lnTo>
                  <a:pt x="59053" y="25786"/>
                </a:lnTo>
                <a:lnTo>
                  <a:pt x="54419" y="29891"/>
                </a:lnTo>
                <a:lnTo>
                  <a:pt x="50483" y="34321"/>
                </a:lnTo>
                <a:lnTo>
                  <a:pt x="47012" y="38967"/>
                </a:lnTo>
                <a:lnTo>
                  <a:pt x="31313" y="62637"/>
                </a:lnTo>
                <a:lnTo>
                  <a:pt x="26612" y="68851"/>
                </a:lnTo>
                <a:lnTo>
                  <a:pt x="21785" y="74688"/>
                </a:lnTo>
                <a:lnTo>
                  <a:pt x="16874" y="80271"/>
                </a:lnTo>
                <a:lnTo>
                  <a:pt x="12753" y="86534"/>
                </a:lnTo>
                <a:lnTo>
                  <a:pt x="9159" y="93250"/>
                </a:lnTo>
                <a:lnTo>
                  <a:pt x="5916" y="100267"/>
                </a:lnTo>
                <a:lnTo>
                  <a:pt x="3754" y="106638"/>
                </a:lnTo>
                <a:lnTo>
                  <a:pt x="2313" y="112579"/>
                </a:lnTo>
                <a:lnTo>
                  <a:pt x="1352" y="118232"/>
                </a:lnTo>
                <a:lnTo>
                  <a:pt x="712" y="123695"/>
                </a:lnTo>
                <a:lnTo>
                  <a:pt x="285" y="129030"/>
                </a:lnTo>
                <a:lnTo>
                  <a:pt x="0" y="134280"/>
                </a:lnTo>
                <a:lnTo>
                  <a:pt x="1504" y="139474"/>
                </a:lnTo>
                <a:lnTo>
                  <a:pt x="4200" y="144629"/>
                </a:lnTo>
                <a:lnTo>
                  <a:pt x="7690" y="149759"/>
                </a:lnTo>
                <a:lnTo>
                  <a:pt x="11710" y="154026"/>
                </a:lnTo>
                <a:lnTo>
                  <a:pt x="16084" y="157718"/>
                </a:lnTo>
                <a:lnTo>
                  <a:pt x="20693" y="161025"/>
                </a:lnTo>
                <a:lnTo>
                  <a:pt x="25459" y="164077"/>
                </a:lnTo>
                <a:lnTo>
                  <a:pt x="30330" y="166958"/>
                </a:lnTo>
                <a:lnTo>
                  <a:pt x="35270" y="169726"/>
                </a:lnTo>
                <a:lnTo>
                  <a:pt x="41104" y="172417"/>
                </a:lnTo>
                <a:lnTo>
                  <a:pt x="47533" y="175058"/>
                </a:lnTo>
                <a:lnTo>
                  <a:pt x="54359" y="177665"/>
                </a:lnTo>
                <a:lnTo>
                  <a:pt x="61450" y="179404"/>
                </a:lnTo>
                <a:lnTo>
                  <a:pt x="68717" y="180563"/>
                </a:lnTo>
                <a:lnTo>
                  <a:pt x="76101" y="181335"/>
                </a:lnTo>
                <a:lnTo>
                  <a:pt x="83565" y="181004"/>
                </a:lnTo>
                <a:lnTo>
                  <a:pt x="91080" y="179935"/>
                </a:lnTo>
                <a:lnTo>
                  <a:pt x="98631" y="178377"/>
                </a:lnTo>
                <a:lnTo>
                  <a:pt x="106204" y="175645"/>
                </a:lnTo>
                <a:lnTo>
                  <a:pt x="113793" y="172130"/>
                </a:lnTo>
                <a:lnTo>
                  <a:pt x="121392" y="168093"/>
                </a:lnTo>
                <a:lnTo>
                  <a:pt x="128152" y="163709"/>
                </a:lnTo>
                <a:lnTo>
                  <a:pt x="134352" y="159092"/>
                </a:lnTo>
                <a:lnTo>
                  <a:pt x="140178" y="154322"/>
                </a:lnTo>
                <a:lnTo>
                  <a:pt x="145756" y="149448"/>
                </a:lnTo>
                <a:lnTo>
                  <a:pt x="151168" y="144505"/>
                </a:lnTo>
                <a:lnTo>
                  <a:pt x="156469" y="139517"/>
                </a:lnTo>
                <a:lnTo>
                  <a:pt x="160003" y="133652"/>
                </a:lnTo>
                <a:lnTo>
                  <a:pt x="162359" y="127201"/>
                </a:lnTo>
                <a:lnTo>
                  <a:pt x="163930" y="120361"/>
                </a:lnTo>
                <a:lnTo>
                  <a:pt x="165824" y="113260"/>
                </a:lnTo>
                <a:lnTo>
                  <a:pt x="170185" y="98598"/>
                </a:lnTo>
                <a:lnTo>
                  <a:pt x="170840" y="91132"/>
                </a:lnTo>
                <a:lnTo>
                  <a:pt x="170431" y="83615"/>
                </a:lnTo>
                <a:lnTo>
                  <a:pt x="169311" y="76063"/>
                </a:lnTo>
                <a:lnTo>
                  <a:pt x="167717" y="69335"/>
                </a:lnTo>
                <a:lnTo>
                  <a:pt x="165809" y="63157"/>
                </a:lnTo>
                <a:lnTo>
                  <a:pt x="163689" y="57344"/>
                </a:lnTo>
                <a:lnTo>
                  <a:pt x="161430" y="51777"/>
                </a:lnTo>
                <a:lnTo>
                  <a:pt x="159077" y="46371"/>
                </a:lnTo>
                <a:lnTo>
                  <a:pt x="156662" y="41074"/>
                </a:lnTo>
                <a:lnTo>
                  <a:pt x="153358" y="36696"/>
                </a:lnTo>
                <a:lnTo>
                  <a:pt x="149462" y="32930"/>
                </a:lnTo>
                <a:lnTo>
                  <a:pt x="145172" y="29574"/>
                </a:lnTo>
                <a:lnTo>
                  <a:pt x="141465" y="26489"/>
                </a:lnTo>
                <a:lnTo>
                  <a:pt x="138147" y="23586"/>
                </a:lnTo>
                <a:lnTo>
                  <a:pt x="135088" y="20804"/>
                </a:lnTo>
                <a:lnTo>
                  <a:pt x="131356" y="18103"/>
                </a:lnTo>
                <a:lnTo>
                  <a:pt x="127174" y="15455"/>
                </a:lnTo>
                <a:lnTo>
                  <a:pt x="122693" y="12843"/>
                </a:lnTo>
                <a:lnTo>
                  <a:pt x="118859" y="10255"/>
                </a:lnTo>
                <a:lnTo>
                  <a:pt x="115456" y="7684"/>
                </a:lnTo>
                <a:lnTo>
                  <a:pt x="112341" y="5122"/>
                </a:lnTo>
                <a:lnTo>
                  <a:pt x="109418" y="3415"/>
                </a:lnTo>
                <a:lnTo>
                  <a:pt x="106622" y="2277"/>
                </a:lnTo>
                <a:lnTo>
                  <a:pt x="9849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265"/>
          <p:cNvSpPr/>
          <p:nvPr/>
        </p:nvSpPr>
        <p:spPr>
          <a:xfrm>
            <a:off x="1592280" y="44416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7620"/>
                </a:moveTo>
                <a:lnTo>
                  <a:pt x="24473" y="7620"/>
                </a:lnTo>
                <a:lnTo>
                  <a:pt x="29016" y="6774"/>
                </a:lnTo>
                <a:lnTo>
                  <a:pt x="34584" y="5363"/>
                </a:lnTo>
                <a:lnTo>
                  <a:pt x="40836" y="3576"/>
                </a:lnTo>
                <a:lnTo>
                  <a:pt x="48391" y="2383"/>
                </a:lnTo>
                <a:lnTo>
                  <a:pt x="56814" y="1589"/>
                </a:lnTo>
                <a:lnTo>
                  <a:pt x="65816" y="1059"/>
                </a:lnTo>
                <a:lnTo>
                  <a:pt x="84850" y="471"/>
                </a:lnTo>
                <a:lnTo>
                  <a:pt x="142613" y="42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266"/>
          <p:cNvSpPr/>
          <p:nvPr/>
        </p:nvSpPr>
        <p:spPr>
          <a:xfrm>
            <a:off x="1638360" y="4511520"/>
            <a:ext cx="266760" cy="2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66701" h="21774">
                <a:moveTo>
                  <a:pt x="0" y="7620"/>
                </a:moveTo>
                <a:lnTo>
                  <a:pt x="4045" y="11665"/>
                </a:lnTo>
                <a:lnTo>
                  <a:pt x="6084" y="12857"/>
                </a:lnTo>
                <a:lnTo>
                  <a:pt x="8289" y="13651"/>
                </a:lnTo>
                <a:lnTo>
                  <a:pt x="10606" y="14181"/>
                </a:lnTo>
                <a:lnTo>
                  <a:pt x="17696" y="14769"/>
                </a:lnTo>
                <a:lnTo>
                  <a:pt x="21957" y="14926"/>
                </a:lnTo>
                <a:lnTo>
                  <a:pt x="27338" y="15877"/>
                </a:lnTo>
                <a:lnTo>
                  <a:pt x="33465" y="17358"/>
                </a:lnTo>
                <a:lnTo>
                  <a:pt x="40090" y="19192"/>
                </a:lnTo>
                <a:lnTo>
                  <a:pt x="47047" y="20415"/>
                </a:lnTo>
                <a:lnTo>
                  <a:pt x="54225" y="21230"/>
                </a:lnTo>
                <a:lnTo>
                  <a:pt x="61550" y="21773"/>
                </a:lnTo>
                <a:lnTo>
                  <a:pt x="69820" y="21289"/>
                </a:lnTo>
                <a:lnTo>
                  <a:pt x="78720" y="20119"/>
                </a:lnTo>
                <a:lnTo>
                  <a:pt x="88040" y="18493"/>
                </a:lnTo>
                <a:lnTo>
                  <a:pt x="96794" y="17409"/>
                </a:lnTo>
                <a:lnTo>
                  <a:pt x="105169" y="16686"/>
                </a:lnTo>
                <a:lnTo>
                  <a:pt x="113293" y="16204"/>
                </a:lnTo>
                <a:lnTo>
                  <a:pt x="131350" y="15669"/>
                </a:lnTo>
                <a:lnTo>
                  <a:pt x="190160" y="15265"/>
                </a:lnTo>
                <a:lnTo>
                  <a:pt x="197893" y="14411"/>
                </a:lnTo>
                <a:lnTo>
                  <a:pt x="205589" y="12994"/>
                </a:lnTo>
                <a:lnTo>
                  <a:pt x="213259" y="11203"/>
                </a:lnTo>
                <a:lnTo>
                  <a:pt x="220066" y="10008"/>
                </a:lnTo>
                <a:lnTo>
                  <a:pt x="226298" y="9212"/>
                </a:lnTo>
                <a:lnTo>
                  <a:pt x="232145" y="8681"/>
                </a:lnTo>
                <a:lnTo>
                  <a:pt x="237737" y="7481"/>
                </a:lnTo>
                <a:lnTo>
                  <a:pt x="243158" y="5834"/>
                </a:lnTo>
                <a:lnTo>
                  <a:pt x="248465" y="3889"/>
                </a:lnTo>
                <a:lnTo>
                  <a:pt x="252850" y="2593"/>
                </a:lnTo>
                <a:lnTo>
                  <a:pt x="256620" y="1728"/>
                </a:lnTo>
                <a:lnTo>
                  <a:pt x="2667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267"/>
          <p:cNvSpPr/>
          <p:nvPr/>
        </p:nvSpPr>
        <p:spPr>
          <a:xfrm>
            <a:off x="2019240" y="4343400"/>
            <a:ext cx="60480" cy="258840"/>
          </a:xfrm>
          <a:custGeom>
            <a:avLst/>
            <a:gdLst>
              <a:gd name="textAreaLeft" fmla="*/ 0 w 60480"/>
              <a:gd name="textAreaRight" fmla="*/ 60840 w 60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0515" h="259081">
                <a:moveTo>
                  <a:pt x="60514" y="0"/>
                </a:moveTo>
                <a:lnTo>
                  <a:pt x="60514" y="7307"/>
                </a:lnTo>
                <a:lnTo>
                  <a:pt x="58256" y="11996"/>
                </a:lnTo>
                <a:lnTo>
                  <a:pt x="42602" y="43436"/>
                </a:lnTo>
                <a:lnTo>
                  <a:pt x="40106" y="49278"/>
                </a:lnTo>
                <a:lnTo>
                  <a:pt x="37595" y="55712"/>
                </a:lnTo>
                <a:lnTo>
                  <a:pt x="32548" y="69634"/>
                </a:lnTo>
                <a:lnTo>
                  <a:pt x="12253" y="129581"/>
                </a:lnTo>
                <a:lnTo>
                  <a:pt x="9713" y="138034"/>
                </a:lnTo>
                <a:lnTo>
                  <a:pt x="4634" y="156458"/>
                </a:lnTo>
                <a:lnTo>
                  <a:pt x="2941" y="165265"/>
                </a:lnTo>
                <a:lnTo>
                  <a:pt x="1811" y="173677"/>
                </a:lnTo>
                <a:lnTo>
                  <a:pt x="1059" y="181824"/>
                </a:lnTo>
                <a:lnTo>
                  <a:pt x="557" y="188949"/>
                </a:lnTo>
                <a:lnTo>
                  <a:pt x="223" y="195393"/>
                </a:lnTo>
                <a:lnTo>
                  <a:pt x="0" y="201382"/>
                </a:lnTo>
                <a:lnTo>
                  <a:pt x="698" y="207915"/>
                </a:lnTo>
                <a:lnTo>
                  <a:pt x="2010" y="214810"/>
                </a:lnTo>
                <a:lnTo>
                  <a:pt x="3731" y="221947"/>
                </a:lnTo>
                <a:lnTo>
                  <a:pt x="5726" y="228398"/>
                </a:lnTo>
                <a:lnTo>
                  <a:pt x="7901" y="234392"/>
                </a:lnTo>
                <a:lnTo>
                  <a:pt x="10199" y="240081"/>
                </a:lnTo>
                <a:lnTo>
                  <a:pt x="12577" y="244721"/>
                </a:lnTo>
                <a:lnTo>
                  <a:pt x="15010" y="248660"/>
                </a:lnTo>
                <a:lnTo>
                  <a:pt x="22414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268"/>
          <p:cNvSpPr/>
          <p:nvPr/>
        </p:nvSpPr>
        <p:spPr>
          <a:xfrm>
            <a:off x="2163600" y="4327560"/>
            <a:ext cx="311400" cy="298440"/>
          </a:xfrm>
          <a:custGeom>
            <a:avLst/>
            <a:gdLst>
              <a:gd name="textAreaLeft" fmla="*/ 0 w 311400"/>
              <a:gd name="textAreaRight" fmla="*/ 311760 w 3114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10865" h="297154">
                <a:moveTo>
                  <a:pt x="0" y="22833"/>
                </a:moveTo>
                <a:lnTo>
                  <a:pt x="8091" y="22833"/>
                </a:lnTo>
                <a:lnTo>
                  <a:pt x="11320" y="21987"/>
                </a:lnTo>
                <a:lnTo>
                  <a:pt x="17167" y="18788"/>
                </a:lnTo>
                <a:lnTo>
                  <a:pt x="22451" y="17596"/>
                </a:lnTo>
                <a:lnTo>
                  <a:pt x="29361" y="16802"/>
                </a:lnTo>
                <a:lnTo>
                  <a:pt x="37354" y="16272"/>
                </a:lnTo>
                <a:lnTo>
                  <a:pt x="45222" y="15919"/>
                </a:lnTo>
                <a:lnTo>
                  <a:pt x="60739" y="15527"/>
                </a:lnTo>
                <a:lnTo>
                  <a:pt x="117267" y="15241"/>
                </a:lnTo>
                <a:lnTo>
                  <a:pt x="128131" y="14385"/>
                </a:lnTo>
                <a:lnTo>
                  <a:pt x="139607" y="12967"/>
                </a:lnTo>
                <a:lnTo>
                  <a:pt x="151492" y="11176"/>
                </a:lnTo>
                <a:lnTo>
                  <a:pt x="162801" y="9982"/>
                </a:lnTo>
                <a:lnTo>
                  <a:pt x="173727" y="9185"/>
                </a:lnTo>
                <a:lnTo>
                  <a:pt x="194052" y="8301"/>
                </a:lnTo>
                <a:lnTo>
                  <a:pt x="219775" y="7803"/>
                </a:lnTo>
                <a:lnTo>
                  <a:pt x="258921" y="7620"/>
                </a:lnTo>
                <a:lnTo>
                  <a:pt x="265747" y="6765"/>
                </a:lnTo>
                <a:lnTo>
                  <a:pt x="271992" y="5348"/>
                </a:lnTo>
                <a:lnTo>
                  <a:pt x="277848" y="3556"/>
                </a:lnTo>
                <a:lnTo>
                  <a:pt x="286612" y="1565"/>
                </a:lnTo>
                <a:lnTo>
                  <a:pt x="296307" y="445"/>
                </a:lnTo>
                <a:lnTo>
                  <a:pt x="304541" y="112"/>
                </a:lnTo>
                <a:lnTo>
                  <a:pt x="310864" y="0"/>
                </a:lnTo>
                <a:lnTo>
                  <a:pt x="310536" y="838"/>
                </a:lnTo>
                <a:lnTo>
                  <a:pt x="307914" y="4026"/>
                </a:lnTo>
                <a:lnTo>
                  <a:pt x="306876" y="6062"/>
                </a:lnTo>
                <a:lnTo>
                  <a:pt x="305723" y="10581"/>
                </a:lnTo>
                <a:lnTo>
                  <a:pt x="300695" y="17670"/>
                </a:lnTo>
                <a:lnTo>
                  <a:pt x="296983" y="21931"/>
                </a:lnTo>
                <a:lnTo>
                  <a:pt x="292816" y="27312"/>
                </a:lnTo>
                <a:lnTo>
                  <a:pt x="288344" y="33439"/>
                </a:lnTo>
                <a:lnTo>
                  <a:pt x="283669" y="40063"/>
                </a:lnTo>
                <a:lnTo>
                  <a:pt x="278013" y="46174"/>
                </a:lnTo>
                <a:lnTo>
                  <a:pt x="271702" y="51940"/>
                </a:lnTo>
                <a:lnTo>
                  <a:pt x="264954" y="57478"/>
                </a:lnTo>
                <a:lnTo>
                  <a:pt x="257916" y="64556"/>
                </a:lnTo>
                <a:lnTo>
                  <a:pt x="250684" y="72662"/>
                </a:lnTo>
                <a:lnTo>
                  <a:pt x="243323" y="81452"/>
                </a:lnTo>
                <a:lnTo>
                  <a:pt x="235875" y="89853"/>
                </a:lnTo>
                <a:lnTo>
                  <a:pt x="220827" y="105959"/>
                </a:lnTo>
                <a:lnTo>
                  <a:pt x="198075" y="129308"/>
                </a:lnTo>
                <a:lnTo>
                  <a:pt x="190470" y="137843"/>
                </a:lnTo>
                <a:lnTo>
                  <a:pt x="182860" y="146920"/>
                </a:lnTo>
                <a:lnTo>
                  <a:pt x="175247" y="156357"/>
                </a:lnTo>
                <a:lnTo>
                  <a:pt x="167631" y="165190"/>
                </a:lnTo>
                <a:lnTo>
                  <a:pt x="160014" y="173617"/>
                </a:lnTo>
                <a:lnTo>
                  <a:pt x="152396" y="181776"/>
                </a:lnTo>
                <a:lnTo>
                  <a:pt x="145624" y="189755"/>
                </a:lnTo>
                <a:lnTo>
                  <a:pt x="139416" y="197615"/>
                </a:lnTo>
                <a:lnTo>
                  <a:pt x="133584" y="205394"/>
                </a:lnTo>
                <a:lnTo>
                  <a:pt x="122589" y="220811"/>
                </a:lnTo>
                <a:lnTo>
                  <a:pt x="117286" y="228479"/>
                </a:lnTo>
                <a:lnTo>
                  <a:pt x="112057" y="235283"/>
                </a:lnTo>
                <a:lnTo>
                  <a:pt x="106878" y="241513"/>
                </a:lnTo>
                <a:lnTo>
                  <a:pt x="101732" y="247360"/>
                </a:lnTo>
                <a:lnTo>
                  <a:pt x="98302" y="252951"/>
                </a:lnTo>
                <a:lnTo>
                  <a:pt x="96014" y="258372"/>
                </a:lnTo>
                <a:lnTo>
                  <a:pt x="94489" y="263679"/>
                </a:lnTo>
                <a:lnTo>
                  <a:pt x="92626" y="268910"/>
                </a:lnTo>
                <a:lnTo>
                  <a:pt x="90538" y="274091"/>
                </a:lnTo>
                <a:lnTo>
                  <a:pt x="85147" y="286483"/>
                </a:lnTo>
                <a:lnTo>
                  <a:pt x="83994" y="295163"/>
                </a:lnTo>
                <a:lnTo>
                  <a:pt x="83820" y="29715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69"/>
          <p:cNvSpPr/>
          <p:nvPr/>
        </p:nvSpPr>
        <p:spPr>
          <a:xfrm>
            <a:off x="2263680" y="4435560"/>
            <a:ext cx="250920" cy="22320"/>
          </a:xfrm>
          <a:custGeom>
            <a:avLst/>
            <a:gdLst>
              <a:gd name="textAreaLeft" fmla="*/ 0 w 250920"/>
              <a:gd name="textAreaRight" fmla="*/ 251280 w 250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51461" h="22547">
                <a:moveTo>
                  <a:pt x="0" y="7306"/>
                </a:moveTo>
                <a:lnTo>
                  <a:pt x="10606" y="7306"/>
                </a:lnTo>
                <a:lnTo>
                  <a:pt x="14691" y="6460"/>
                </a:lnTo>
                <a:lnTo>
                  <a:pt x="19954" y="5049"/>
                </a:lnTo>
                <a:lnTo>
                  <a:pt x="26003" y="3261"/>
                </a:lnTo>
                <a:lnTo>
                  <a:pt x="32575" y="2069"/>
                </a:lnTo>
                <a:lnTo>
                  <a:pt x="39497" y="1275"/>
                </a:lnTo>
                <a:lnTo>
                  <a:pt x="46651" y="745"/>
                </a:lnTo>
                <a:lnTo>
                  <a:pt x="53961" y="392"/>
                </a:lnTo>
                <a:lnTo>
                  <a:pt x="68856" y="0"/>
                </a:lnTo>
                <a:lnTo>
                  <a:pt x="78078" y="742"/>
                </a:lnTo>
                <a:lnTo>
                  <a:pt x="88459" y="2084"/>
                </a:lnTo>
                <a:lnTo>
                  <a:pt x="99612" y="3824"/>
                </a:lnTo>
                <a:lnTo>
                  <a:pt x="109588" y="4985"/>
                </a:lnTo>
                <a:lnTo>
                  <a:pt x="118779" y="5759"/>
                </a:lnTo>
                <a:lnTo>
                  <a:pt x="127446" y="6275"/>
                </a:lnTo>
                <a:lnTo>
                  <a:pt x="136611" y="7465"/>
                </a:lnTo>
                <a:lnTo>
                  <a:pt x="146107" y="9105"/>
                </a:lnTo>
                <a:lnTo>
                  <a:pt x="155825" y="11046"/>
                </a:lnTo>
                <a:lnTo>
                  <a:pt x="164843" y="12340"/>
                </a:lnTo>
                <a:lnTo>
                  <a:pt x="173396" y="13202"/>
                </a:lnTo>
                <a:lnTo>
                  <a:pt x="181637" y="13777"/>
                </a:lnTo>
                <a:lnTo>
                  <a:pt x="189672" y="14160"/>
                </a:lnTo>
                <a:lnTo>
                  <a:pt x="205372" y="14586"/>
                </a:lnTo>
                <a:lnTo>
                  <a:pt x="212268" y="15546"/>
                </a:lnTo>
                <a:lnTo>
                  <a:pt x="218559" y="17032"/>
                </a:lnTo>
                <a:lnTo>
                  <a:pt x="224446" y="18871"/>
                </a:lnTo>
                <a:lnTo>
                  <a:pt x="229217" y="20095"/>
                </a:lnTo>
                <a:lnTo>
                  <a:pt x="233245" y="20912"/>
                </a:lnTo>
                <a:lnTo>
                  <a:pt x="236777" y="21457"/>
                </a:lnTo>
                <a:lnTo>
                  <a:pt x="242959" y="22062"/>
                </a:lnTo>
                <a:lnTo>
                  <a:pt x="251460" y="2254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70"/>
          <p:cNvSpPr/>
          <p:nvPr/>
        </p:nvSpPr>
        <p:spPr>
          <a:xfrm>
            <a:off x="449280" y="4400640"/>
            <a:ext cx="60480" cy="48960"/>
          </a:xfrm>
          <a:custGeom>
            <a:avLst/>
            <a:gdLst>
              <a:gd name="textAreaLeft" fmla="*/ 0 w 60480"/>
              <a:gd name="textAreaRight" fmla="*/ 60840 w 6048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60794" h="49902">
                <a:moveTo>
                  <a:pt x="0" y="11801"/>
                </a:moveTo>
                <a:lnTo>
                  <a:pt x="4045" y="11801"/>
                </a:lnTo>
                <a:lnTo>
                  <a:pt x="6084" y="10954"/>
                </a:lnTo>
                <a:lnTo>
                  <a:pt x="8289" y="9544"/>
                </a:lnTo>
                <a:lnTo>
                  <a:pt x="10606" y="7757"/>
                </a:lnTo>
                <a:lnTo>
                  <a:pt x="13844" y="6564"/>
                </a:lnTo>
                <a:lnTo>
                  <a:pt x="17696" y="5770"/>
                </a:lnTo>
                <a:lnTo>
                  <a:pt x="21957" y="5240"/>
                </a:lnTo>
                <a:lnTo>
                  <a:pt x="26492" y="4041"/>
                </a:lnTo>
                <a:lnTo>
                  <a:pt x="31208" y="2394"/>
                </a:lnTo>
                <a:lnTo>
                  <a:pt x="-29491" y="450"/>
                </a:lnTo>
                <a:lnTo>
                  <a:pt x="-26266" y="0"/>
                </a:lnTo>
                <a:lnTo>
                  <a:pt x="-24116" y="548"/>
                </a:lnTo>
                <a:lnTo>
                  <a:pt x="-22682" y="1759"/>
                </a:lnTo>
                <a:lnTo>
                  <a:pt x="-20880" y="2566"/>
                </a:lnTo>
                <a:lnTo>
                  <a:pt x="-18832" y="3105"/>
                </a:lnTo>
                <a:lnTo>
                  <a:pt x="-16620" y="3464"/>
                </a:lnTo>
                <a:lnTo>
                  <a:pt x="-14299" y="3703"/>
                </a:lnTo>
                <a:lnTo>
                  <a:pt x="-11905" y="3862"/>
                </a:lnTo>
                <a:lnTo>
                  <a:pt x="-6023" y="4118"/>
                </a:lnTo>
                <a:lnTo>
                  <a:pt x="-6388" y="4986"/>
                </a:lnTo>
                <a:lnTo>
                  <a:pt x="-7477" y="6411"/>
                </a:lnTo>
                <a:lnTo>
                  <a:pt x="-9050" y="8208"/>
                </a:lnTo>
                <a:lnTo>
                  <a:pt x="-10099" y="10252"/>
                </a:lnTo>
                <a:lnTo>
                  <a:pt x="-10798" y="12461"/>
                </a:lnTo>
                <a:lnTo>
                  <a:pt x="-11264" y="14782"/>
                </a:lnTo>
                <a:lnTo>
                  <a:pt x="-12421" y="17175"/>
                </a:lnTo>
                <a:lnTo>
                  <a:pt x="-14039" y="19616"/>
                </a:lnTo>
                <a:lnTo>
                  <a:pt x="-15965" y="22092"/>
                </a:lnTo>
                <a:lnTo>
                  <a:pt x="-18095" y="24588"/>
                </a:lnTo>
                <a:lnTo>
                  <a:pt x="-20362" y="27099"/>
                </a:lnTo>
                <a:lnTo>
                  <a:pt x="-22720" y="29620"/>
                </a:lnTo>
                <a:lnTo>
                  <a:pt x="-25985" y="31301"/>
                </a:lnTo>
                <a:lnTo>
                  <a:pt x="-29856" y="32420"/>
                </a:lnTo>
                <a:lnTo>
                  <a:pt x="31407" y="-32369"/>
                </a:lnTo>
                <a:lnTo>
                  <a:pt x="27711" y="-31024"/>
                </a:lnTo>
                <a:lnTo>
                  <a:pt x="24401" y="-29281"/>
                </a:lnTo>
                <a:lnTo>
                  <a:pt x="17050" y="-24445"/>
                </a:lnTo>
                <a:lnTo>
                  <a:pt x="15600" y="-23202"/>
                </a:lnTo>
                <a:lnTo>
                  <a:pt x="13787" y="-21526"/>
                </a:lnTo>
                <a:lnTo>
                  <a:pt x="7727" y="-15737"/>
                </a:lnTo>
                <a:lnTo>
                  <a:pt x="7691" y="-16550"/>
                </a:lnTo>
                <a:lnTo>
                  <a:pt x="7630" y="-22205"/>
                </a:lnTo>
                <a:lnTo>
                  <a:pt x="8473" y="-23402"/>
                </a:lnTo>
                <a:lnTo>
                  <a:pt x="9882" y="-25046"/>
                </a:lnTo>
                <a:lnTo>
                  <a:pt x="11668" y="-26989"/>
                </a:lnTo>
                <a:lnTo>
                  <a:pt x="13706" y="-28284"/>
                </a:lnTo>
                <a:lnTo>
                  <a:pt x="15910" y="-29147"/>
                </a:lnTo>
                <a:lnTo>
                  <a:pt x="18227" y="-29723"/>
                </a:lnTo>
                <a:lnTo>
                  <a:pt x="21465" y="-30107"/>
                </a:lnTo>
                <a:lnTo>
                  <a:pt x="25316" y="-30363"/>
                </a:lnTo>
                <a:lnTo>
                  <a:pt x="29578" y="-30533"/>
                </a:lnTo>
                <a:lnTo>
                  <a:pt x="-31424" y="-31494"/>
                </a:lnTo>
                <a:lnTo>
                  <a:pt x="-26708" y="32555"/>
                </a:lnTo>
                <a:lnTo>
                  <a:pt x="-21871" y="30717"/>
                </a:lnTo>
                <a:lnTo>
                  <a:pt x="-17799" y="29492"/>
                </a:lnTo>
                <a:lnTo>
                  <a:pt x="-14238" y="28675"/>
                </a:lnTo>
                <a:lnTo>
                  <a:pt x="-6485" y="27364"/>
                </a:lnTo>
                <a:lnTo>
                  <a:pt x="-5848" y="28103"/>
                </a:lnTo>
                <a:lnTo>
                  <a:pt x="-5424" y="29442"/>
                </a:lnTo>
                <a:lnTo>
                  <a:pt x="-4743" y="-31905"/>
                </a:lnTo>
                <a:lnTo>
                  <a:pt x="-5534" y="-31562"/>
                </a:lnTo>
                <a:lnTo>
                  <a:pt x="-6908" y="-31333"/>
                </a:lnTo>
                <a:lnTo>
                  <a:pt x="-8671" y="-31181"/>
                </a:lnTo>
                <a:lnTo>
                  <a:pt x="-10692" y="-31079"/>
                </a:lnTo>
                <a:lnTo>
                  <a:pt x="-15197" y="-30965"/>
                </a:lnTo>
                <a:lnTo>
                  <a:pt x="-16736" y="-30088"/>
                </a:lnTo>
                <a:lnTo>
                  <a:pt x="-17763" y="-28658"/>
                </a:lnTo>
                <a:lnTo>
                  <a:pt x="-18447" y="-26856"/>
                </a:lnTo>
                <a:lnTo>
                  <a:pt x="-19750" y="-25656"/>
                </a:lnTo>
                <a:lnTo>
                  <a:pt x="-21465" y="-24856"/>
                </a:lnTo>
                <a:lnTo>
                  <a:pt x="-23456" y="-24322"/>
                </a:lnTo>
                <a:lnTo>
                  <a:pt x="-25629" y="-23120"/>
                </a:lnTo>
                <a:lnTo>
                  <a:pt x="-27925" y="-21472"/>
                </a:lnTo>
                <a:lnTo>
                  <a:pt x="30480" y="-15635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71"/>
          <p:cNvSpPr/>
          <p:nvPr/>
        </p:nvSpPr>
        <p:spPr>
          <a:xfrm>
            <a:off x="98280" y="4282920"/>
            <a:ext cx="69840" cy="220680"/>
          </a:xfrm>
          <a:custGeom>
            <a:avLst/>
            <a:gdLst>
              <a:gd name="textAreaLeft" fmla="*/ 0 w 69840"/>
              <a:gd name="textAreaRight" fmla="*/ 70200 w 69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68448" h="220981">
                <a:moveTo>
                  <a:pt x="68447" y="0"/>
                </a:moveTo>
                <a:lnTo>
                  <a:pt x="68447" y="10606"/>
                </a:lnTo>
                <a:lnTo>
                  <a:pt x="67600" y="13844"/>
                </a:lnTo>
                <a:lnTo>
                  <a:pt x="66189" y="17696"/>
                </a:lnTo>
                <a:lnTo>
                  <a:pt x="64402" y="21957"/>
                </a:lnTo>
                <a:lnTo>
                  <a:pt x="62364" y="26492"/>
                </a:lnTo>
                <a:lnTo>
                  <a:pt x="57841" y="36045"/>
                </a:lnTo>
                <a:lnTo>
                  <a:pt x="55450" y="41810"/>
                </a:lnTo>
                <a:lnTo>
                  <a:pt x="53009" y="48193"/>
                </a:lnTo>
                <a:lnTo>
                  <a:pt x="50535" y="54989"/>
                </a:lnTo>
                <a:lnTo>
                  <a:pt x="47192" y="62906"/>
                </a:lnTo>
                <a:lnTo>
                  <a:pt x="43270" y="71571"/>
                </a:lnTo>
                <a:lnTo>
                  <a:pt x="38963" y="80734"/>
                </a:lnTo>
                <a:lnTo>
                  <a:pt x="35244" y="89383"/>
                </a:lnTo>
                <a:lnTo>
                  <a:pt x="31918" y="97688"/>
                </a:lnTo>
                <a:lnTo>
                  <a:pt x="25965" y="113691"/>
                </a:lnTo>
                <a:lnTo>
                  <a:pt x="15245" y="144660"/>
                </a:lnTo>
                <a:lnTo>
                  <a:pt x="12659" y="152320"/>
                </a:lnTo>
                <a:lnTo>
                  <a:pt x="10088" y="159120"/>
                </a:lnTo>
                <a:lnTo>
                  <a:pt x="7528" y="165347"/>
                </a:lnTo>
                <a:lnTo>
                  <a:pt x="4974" y="171191"/>
                </a:lnTo>
                <a:lnTo>
                  <a:pt x="3272" y="176781"/>
                </a:lnTo>
                <a:lnTo>
                  <a:pt x="2137" y="182201"/>
                </a:lnTo>
                <a:lnTo>
                  <a:pt x="1380" y="187507"/>
                </a:lnTo>
                <a:lnTo>
                  <a:pt x="876" y="192738"/>
                </a:lnTo>
                <a:lnTo>
                  <a:pt x="540" y="197919"/>
                </a:lnTo>
                <a:lnTo>
                  <a:pt x="166" y="207344"/>
                </a:lnTo>
                <a:lnTo>
                  <a:pt x="0" y="214355"/>
                </a:lnTo>
                <a:lnTo>
                  <a:pt x="802" y="216564"/>
                </a:lnTo>
                <a:lnTo>
                  <a:pt x="2184" y="218036"/>
                </a:lnTo>
                <a:lnTo>
                  <a:pt x="7487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72"/>
          <p:cNvSpPr/>
          <p:nvPr/>
        </p:nvSpPr>
        <p:spPr>
          <a:xfrm>
            <a:off x="220680" y="4309920"/>
            <a:ext cx="103320" cy="206640"/>
          </a:xfrm>
          <a:custGeom>
            <a:avLst/>
            <a:gdLst>
              <a:gd name="textAreaLeft" fmla="*/ 0 w 103320"/>
              <a:gd name="textAreaRight" fmla="*/ 103680 w 1033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01680" h="207053">
                <a:moveTo>
                  <a:pt x="45249" y="33535"/>
                </a:moveTo>
                <a:lnTo>
                  <a:pt x="45249" y="40096"/>
                </a:lnTo>
                <a:lnTo>
                  <a:pt x="42991" y="42943"/>
                </a:lnTo>
                <a:lnTo>
                  <a:pt x="41204" y="44887"/>
                </a:lnTo>
                <a:lnTo>
                  <a:pt x="40012" y="47876"/>
                </a:lnTo>
                <a:lnTo>
                  <a:pt x="39218" y="51563"/>
                </a:lnTo>
                <a:lnTo>
                  <a:pt x="38688" y="55713"/>
                </a:lnTo>
                <a:lnTo>
                  <a:pt x="37489" y="61021"/>
                </a:lnTo>
                <a:lnTo>
                  <a:pt x="35842" y="67099"/>
                </a:lnTo>
                <a:lnTo>
                  <a:pt x="33898" y="73691"/>
                </a:lnTo>
                <a:lnTo>
                  <a:pt x="30908" y="79779"/>
                </a:lnTo>
                <a:lnTo>
                  <a:pt x="27222" y="85531"/>
                </a:lnTo>
                <a:lnTo>
                  <a:pt x="23071" y="91059"/>
                </a:lnTo>
                <a:lnTo>
                  <a:pt x="19457" y="98131"/>
                </a:lnTo>
                <a:lnTo>
                  <a:pt x="16201" y="106232"/>
                </a:lnTo>
                <a:lnTo>
                  <a:pt x="4892" y="139523"/>
                </a:lnTo>
                <a:lnTo>
                  <a:pt x="3104" y="146527"/>
                </a:lnTo>
                <a:lnTo>
                  <a:pt x="1912" y="152890"/>
                </a:lnTo>
                <a:lnTo>
                  <a:pt x="1118" y="158825"/>
                </a:lnTo>
                <a:lnTo>
                  <a:pt x="588" y="165322"/>
                </a:lnTo>
                <a:lnTo>
                  <a:pt x="235" y="172193"/>
                </a:lnTo>
                <a:lnTo>
                  <a:pt x="0" y="179314"/>
                </a:lnTo>
                <a:lnTo>
                  <a:pt x="689" y="184907"/>
                </a:lnTo>
                <a:lnTo>
                  <a:pt x="1996" y="189483"/>
                </a:lnTo>
                <a:lnTo>
                  <a:pt x="3714" y="193381"/>
                </a:lnTo>
                <a:lnTo>
                  <a:pt x="5705" y="196825"/>
                </a:lnTo>
                <a:lnTo>
                  <a:pt x="7880" y="199969"/>
                </a:lnTo>
                <a:lnTo>
                  <a:pt x="10176" y="202911"/>
                </a:lnTo>
                <a:lnTo>
                  <a:pt x="13400" y="204872"/>
                </a:lnTo>
                <a:lnTo>
                  <a:pt x="17243" y="206180"/>
                </a:lnTo>
                <a:lnTo>
                  <a:pt x="21498" y="207052"/>
                </a:lnTo>
                <a:lnTo>
                  <a:pt x="26029" y="205940"/>
                </a:lnTo>
                <a:lnTo>
                  <a:pt x="30742" y="203505"/>
                </a:lnTo>
                <a:lnTo>
                  <a:pt x="35578" y="200188"/>
                </a:lnTo>
                <a:lnTo>
                  <a:pt x="40495" y="196284"/>
                </a:lnTo>
                <a:lnTo>
                  <a:pt x="45466" y="191987"/>
                </a:lnTo>
                <a:lnTo>
                  <a:pt x="50474" y="187430"/>
                </a:lnTo>
                <a:lnTo>
                  <a:pt x="55506" y="181852"/>
                </a:lnTo>
                <a:lnTo>
                  <a:pt x="60553" y="175593"/>
                </a:lnTo>
                <a:lnTo>
                  <a:pt x="65612" y="168880"/>
                </a:lnTo>
                <a:lnTo>
                  <a:pt x="70678" y="161018"/>
                </a:lnTo>
                <a:lnTo>
                  <a:pt x="75748" y="152391"/>
                </a:lnTo>
                <a:lnTo>
                  <a:pt x="80822" y="143252"/>
                </a:lnTo>
                <a:lnTo>
                  <a:pt x="85051" y="133773"/>
                </a:lnTo>
                <a:lnTo>
                  <a:pt x="88717" y="124067"/>
                </a:lnTo>
                <a:lnTo>
                  <a:pt x="92008" y="114210"/>
                </a:lnTo>
                <a:lnTo>
                  <a:pt x="95048" y="104252"/>
                </a:lnTo>
                <a:lnTo>
                  <a:pt x="100684" y="84156"/>
                </a:lnTo>
                <a:lnTo>
                  <a:pt x="101679" y="74902"/>
                </a:lnTo>
                <a:lnTo>
                  <a:pt x="101496" y="66193"/>
                </a:lnTo>
                <a:lnTo>
                  <a:pt x="100527" y="57847"/>
                </a:lnTo>
                <a:lnTo>
                  <a:pt x="99881" y="50590"/>
                </a:lnTo>
                <a:lnTo>
                  <a:pt x="99450" y="44058"/>
                </a:lnTo>
                <a:lnTo>
                  <a:pt x="99163" y="38011"/>
                </a:lnTo>
                <a:lnTo>
                  <a:pt x="98125" y="32286"/>
                </a:lnTo>
                <a:lnTo>
                  <a:pt x="96587" y="26776"/>
                </a:lnTo>
                <a:lnTo>
                  <a:pt x="94714" y="21409"/>
                </a:lnTo>
                <a:lnTo>
                  <a:pt x="91772" y="16984"/>
                </a:lnTo>
                <a:lnTo>
                  <a:pt x="88118" y="13188"/>
                </a:lnTo>
                <a:lnTo>
                  <a:pt x="83988" y="9810"/>
                </a:lnTo>
                <a:lnTo>
                  <a:pt x="80389" y="6712"/>
                </a:lnTo>
                <a:lnTo>
                  <a:pt x="77142" y="3800"/>
                </a:lnTo>
                <a:lnTo>
                  <a:pt x="74131" y="1011"/>
                </a:lnTo>
                <a:lnTo>
                  <a:pt x="72124" y="0"/>
                </a:lnTo>
                <a:lnTo>
                  <a:pt x="70785" y="172"/>
                </a:lnTo>
                <a:lnTo>
                  <a:pt x="69893" y="1132"/>
                </a:lnTo>
                <a:lnTo>
                  <a:pt x="68452" y="1774"/>
                </a:lnTo>
                <a:lnTo>
                  <a:pt x="66644" y="2201"/>
                </a:lnTo>
                <a:lnTo>
                  <a:pt x="64593" y="2486"/>
                </a:lnTo>
                <a:lnTo>
                  <a:pt x="63225" y="3522"/>
                </a:lnTo>
                <a:lnTo>
                  <a:pt x="62313" y="5060"/>
                </a:lnTo>
                <a:lnTo>
                  <a:pt x="61705" y="6932"/>
                </a:lnTo>
                <a:lnTo>
                  <a:pt x="60453" y="8180"/>
                </a:lnTo>
                <a:lnTo>
                  <a:pt x="58771" y="9011"/>
                </a:lnTo>
                <a:lnTo>
                  <a:pt x="52869" y="1067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73"/>
          <p:cNvSpPr/>
          <p:nvPr/>
        </p:nvSpPr>
        <p:spPr>
          <a:xfrm>
            <a:off x="2568600" y="4487760"/>
            <a:ext cx="65160" cy="30240"/>
          </a:xfrm>
          <a:custGeom>
            <a:avLst/>
            <a:gdLst>
              <a:gd name="textAreaLeft" fmla="*/ 0 w 65160"/>
              <a:gd name="textAreaRight" fmla="*/ 65520 w 65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5055" h="30139">
                <a:moveTo>
                  <a:pt x="-19885" y="30138"/>
                </a:moveTo>
                <a:lnTo>
                  <a:pt x="-19885" y="23577"/>
                </a:lnTo>
                <a:lnTo>
                  <a:pt x="-19038" y="23224"/>
                </a:lnTo>
                <a:lnTo>
                  <a:pt x="-17628" y="22989"/>
                </a:lnTo>
                <a:lnTo>
                  <a:pt x="-13324" y="22611"/>
                </a:lnTo>
                <a:lnTo>
                  <a:pt x="-10478" y="22559"/>
                </a:lnTo>
                <a:lnTo>
                  <a:pt x="-482" y="22520"/>
                </a:lnTo>
                <a:lnTo>
                  <a:pt x="-7975" y="22519"/>
                </a:lnTo>
                <a:lnTo>
                  <a:pt x="-10251" y="21672"/>
                </a:lnTo>
                <a:lnTo>
                  <a:pt x="-12616" y="20261"/>
                </a:lnTo>
                <a:lnTo>
                  <a:pt x="-15039" y="18473"/>
                </a:lnTo>
                <a:lnTo>
                  <a:pt x="-17501" y="17281"/>
                </a:lnTo>
                <a:lnTo>
                  <a:pt x="-19989" y="16487"/>
                </a:lnTo>
                <a:lnTo>
                  <a:pt x="-22494" y="15957"/>
                </a:lnTo>
                <a:lnTo>
                  <a:pt x="-25858" y="15604"/>
                </a:lnTo>
                <a:lnTo>
                  <a:pt x="-29793" y="15369"/>
                </a:lnTo>
                <a:lnTo>
                  <a:pt x="31425" y="15212"/>
                </a:lnTo>
                <a:lnTo>
                  <a:pt x="27700" y="14261"/>
                </a:lnTo>
                <a:lnTo>
                  <a:pt x="24371" y="12780"/>
                </a:lnTo>
                <a:lnTo>
                  <a:pt x="21304" y="10946"/>
                </a:lnTo>
                <a:lnTo>
                  <a:pt x="17567" y="9723"/>
                </a:lnTo>
                <a:lnTo>
                  <a:pt x="13381" y="8908"/>
                </a:lnTo>
                <a:lnTo>
                  <a:pt x="8898" y="8365"/>
                </a:lnTo>
                <a:lnTo>
                  <a:pt x="5909" y="7156"/>
                </a:lnTo>
                <a:lnTo>
                  <a:pt x="3917" y="5503"/>
                </a:lnTo>
                <a:lnTo>
                  <a:pt x="164" y="0"/>
                </a:lnTo>
                <a:lnTo>
                  <a:pt x="87" y="733"/>
                </a:lnTo>
                <a:lnTo>
                  <a:pt x="35" y="2067"/>
                </a:lnTo>
                <a:lnTo>
                  <a:pt x="0" y="3805"/>
                </a:lnTo>
                <a:lnTo>
                  <a:pt x="1670" y="4962"/>
                </a:lnTo>
                <a:lnTo>
                  <a:pt x="4477" y="5734"/>
                </a:lnTo>
                <a:lnTo>
                  <a:pt x="8042" y="6249"/>
                </a:lnTo>
                <a:lnTo>
                  <a:pt x="11265" y="6592"/>
                </a:lnTo>
                <a:lnTo>
                  <a:pt x="14260" y="6821"/>
                </a:lnTo>
                <a:lnTo>
                  <a:pt x="17104" y="6973"/>
                </a:lnTo>
                <a:lnTo>
                  <a:pt x="22521" y="7142"/>
                </a:lnTo>
                <a:lnTo>
                  <a:pt x="30274" y="7276"/>
                </a:lnTo>
                <a:lnTo>
                  <a:pt x="-28576" y="7278"/>
                </a:lnTo>
                <a:lnTo>
                  <a:pt x="30496" y="7278"/>
                </a:lnTo>
                <a:lnTo>
                  <a:pt x="30468" y="8124"/>
                </a:lnTo>
                <a:lnTo>
                  <a:pt x="30411" y="148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74"/>
          <p:cNvSpPr/>
          <p:nvPr/>
        </p:nvSpPr>
        <p:spPr>
          <a:xfrm>
            <a:off x="2712960" y="4389480"/>
            <a:ext cx="76320" cy="182520"/>
          </a:xfrm>
          <a:custGeom>
            <a:avLst/>
            <a:gdLst>
              <a:gd name="textAreaLeft" fmla="*/ 0 w 76320"/>
              <a:gd name="textAreaRight" fmla="*/ 76680 w 763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75820" h="182881">
                <a:moveTo>
                  <a:pt x="75819" y="0"/>
                </a:moveTo>
                <a:lnTo>
                  <a:pt x="69258" y="0"/>
                </a:lnTo>
                <a:lnTo>
                  <a:pt x="68905" y="847"/>
                </a:lnTo>
                <a:lnTo>
                  <a:pt x="68292" y="6561"/>
                </a:lnTo>
                <a:lnTo>
                  <a:pt x="68227" y="11352"/>
                </a:lnTo>
                <a:lnTo>
                  <a:pt x="67371" y="13495"/>
                </a:lnTo>
                <a:lnTo>
                  <a:pt x="65954" y="15770"/>
                </a:lnTo>
                <a:lnTo>
                  <a:pt x="64162" y="18133"/>
                </a:lnTo>
                <a:lnTo>
                  <a:pt x="62968" y="22249"/>
                </a:lnTo>
                <a:lnTo>
                  <a:pt x="62172" y="27533"/>
                </a:lnTo>
                <a:lnTo>
                  <a:pt x="61641" y="33595"/>
                </a:lnTo>
                <a:lnTo>
                  <a:pt x="59594" y="39331"/>
                </a:lnTo>
                <a:lnTo>
                  <a:pt x="56536" y="44847"/>
                </a:lnTo>
                <a:lnTo>
                  <a:pt x="52803" y="50218"/>
                </a:lnTo>
                <a:lnTo>
                  <a:pt x="49469" y="55492"/>
                </a:lnTo>
                <a:lnTo>
                  <a:pt x="46399" y="60701"/>
                </a:lnTo>
                <a:lnTo>
                  <a:pt x="43506" y="65868"/>
                </a:lnTo>
                <a:lnTo>
                  <a:pt x="40730" y="71852"/>
                </a:lnTo>
                <a:lnTo>
                  <a:pt x="38033" y="78382"/>
                </a:lnTo>
                <a:lnTo>
                  <a:pt x="35388" y="85274"/>
                </a:lnTo>
                <a:lnTo>
                  <a:pt x="32779" y="91563"/>
                </a:lnTo>
                <a:lnTo>
                  <a:pt x="30192" y="97449"/>
                </a:lnTo>
                <a:lnTo>
                  <a:pt x="27621" y="103066"/>
                </a:lnTo>
                <a:lnTo>
                  <a:pt x="24214" y="109351"/>
                </a:lnTo>
                <a:lnTo>
                  <a:pt x="20249" y="116081"/>
                </a:lnTo>
                <a:lnTo>
                  <a:pt x="15913" y="123107"/>
                </a:lnTo>
                <a:lnTo>
                  <a:pt x="13021" y="129485"/>
                </a:lnTo>
                <a:lnTo>
                  <a:pt x="11094" y="135430"/>
                </a:lnTo>
                <a:lnTo>
                  <a:pt x="9809" y="141087"/>
                </a:lnTo>
                <a:lnTo>
                  <a:pt x="8106" y="146551"/>
                </a:lnTo>
                <a:lnTo>
                  <a:pt x="6124" y="151888"/>
                </a:lnTo>
                <a:lnTo>
                  <a:pt x="3955" y="157139"/>
                </a:lnTo>
                <a:lnTo>
                  <a:pt x="2510" y="161486"/>
                </a:lnTo>
                <a:lnTo>
                  <a:pt x="1547" y="165230"/>
                </a:lnTo>
                <a:lnTo>
                  <a:pt x="904" y="168574"/>
                </a:lnTo>
                <a:lnTo>
                  <a:pt x="476" y="171649"/>
                </a:lnTo>
                <a:lnTo>
                  <a:pt x="0" y="177325"/>
                </a:lnTo>
                <a:lnTo>
                  <a:pt x="720" y="179176"/>
                </a:lnTo>
                <a:lnTo>
                  <a:pt x="2046" y="180411"/>
                </a:lnTo>
                <a:lnTo>
                  <a:pt x="7239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75"/>
          <p:cNvSpPr/>
          <p:nvPr/>
        </p:nvSpPr>
        <p:spPr>
          <a:xfrm>
            <a:off x="2843280" y="4370400"/>
            <a:ext cx="183960" cy="177840"/>
          </a:xfrm>
          <a:custGeom>
            <a:avLst/>
            <a:gdLst/>
            <a:ahLst/>
            <a:rect l="l" t="t" r="r" b="b"/>
            <a:pathLst>
              <a:path w="184070" h="178052">
                <a:moveTo>
                  <a:pt x="51742" y="33754"/>
                </a:moveTo>
                <a:lnTo>
                  <a:pt x="66980" y="33754"/>
                </a:lnTo>
                <a:lnTo>
                  <a:pt x="62936" y="37799"/>
                </a:lnTo>
                <a:lnTo>
                  <a:pt x="60898" y="38991"/>
                </a:lnTo>
                <a:lnTo>
                  <a:pt x="56376" y="40315"/>
                </a:lnTo>
                <a:lnTo>
                  <a:pt x="53985" y="42361"/>
                </a:lnTo>
                <a:lnTo>
                  <a:pt x="51544" y="45419"/>
                </a:lnTo>
                <a:lnTo>
                  <a:pt x="49070" y="49151"/>
                </a:lnTo>
                <a:lnTo>
                  <a:pt x="46574" y="52485"/>
                </a:lnTo>
                <a:lnTo>
                  <a:pt x="44064" y="55555"/>
                </a:lnTo>
                <a:lnTo>
                  <a:pt x="41543" y="58448"/>
                </a:lnTo>
                <a:lnTo>
                  <a:pt x="39016" y="62070"/>
                </a:lnTo>
                <a:lnTo>
                  <a:pt x="36485" y="66178"/>
                </a:lnTo>
                <a:lnTo>
                  <a:pt x="33951" y="70610"/>
                </a:lnTo>
                <a:lnTo>
                  <a:pt x="30568" y="75258"/>
                </a:lnTo>
                <a:lnTo>
                  <a:pt x="26619" y="80050"/>
                </a:lnTo>
                <a:lnTo>
                  <a:pt x="22294" y="84938"/>
                </a:lnTo>
                <a:lnTo>
                  <a:pt x="18563" y="89890"/>
                </a:lnTo>
                <a:lnTo>
                  <a:pt x="15229" y="94885"/>
                </a:lnTo>
                <a:lnTo>
                  <a:pt x="12161" y="99908"/>
                </a:lnTo>
                <a:lnTo>
                  <a:pt x="9268" y="104950"/>
                </a:lnTo>
                <a:lnTo>
                  <a:pt x="3796" y="115068"/>
                </a:lnTo>
                <a:lnTo>
                  <a:pt x="1998" y="119290"/>
                </a:lnTo>
                <a:lnTo>
                  <a:pt x="799" y="122952"/>
                </a:lnTo>
                <a:lnTo>
                  <a:pt x="0" y="126239"/>
                </a:lnTo>
                <a:lnTo>
                  <a:pt x="314" y="130124"/>
                </a:lnTo>
                <a:lnTo>
                  <a:pt x="1370" y="134407"/>
                </a:lnTo>
                <a:lnTo>
                  <a:pt x="2921" y="138956"/>
                </a:lnTo>
                <a:lnTo>
                  <a:pt x="4801" y="143682"/>
                </a:lnTo>
                <a:lnTo>
                  <a:pt x="6902" y="148526"/>
                </a:lnTo>
                <a:lnTo>
                  <a:pt x="9149" y="153448"/>
                </a:lnTo>
                <a:lnTo>
                  <a:pt x="12340" y="157577"/>
                </a:lnTo>
                <a:lnTo>
                  <a:pt x="16161" y="161176"/>
                </a:lnTo>
                <a:lnTo>
                  <a:pt x="20401" y="164422"/>
                </a:lnTo>
                <a:lnTo>
                  <a:pt x="25768" y="167433"/>
                </a:lnTo>
                <a:lnTo>
                  <a:pt x="31886" y="170287"/>
                </a:lnTo>
                <a:lnTo>
                  <a:pt x="38505" y="173036"/>
                </a:lnTo>
                <a:lnTo>
                  <a:pt x="45457" y="174869"/>
                </a:lnTo>
                <a:lnTo>
                  <a:pt x="52632" y="176091"/>
                </a:lnTo>
                <a:lnTo>
                  <a:pt x="59956" y="176905"/>
                </a:lnTo>
                <a:lnTo>
                  <a:pt x="68225" y="177448"/>
                </a:lnTo>
                <a:lnTo>
                  <a:pt x="77124" y="177811"/>
                </a:lnTo>
                <a:lnTo>
                  <a:pt x="86443" y="178051"/>
                </a:lnTo>
                <a:lnTo>
                  <a:pt x="95196" y="177366"/>
                </a:lnTo>
                <a:lnTo>
                  <a:pt x="103572" y="176062"/>
                </a:lnTo>
                <a:lnTo>
                  <a:pt x="111695" y="174346"/>
                </a:lnTo>
                <a:lnTo>
                  <a:pt x="119651" y="171509"/>
                </a:lnTo>
                <a:lnTo>
                  <a:pt x="127495" y="167924"/>
                </a:lnTo>
                <a:lnTo>
                  <a:pt x="135264" y="163840"/>
                </a:lnTo>
                <a:lnTo>
                  <a:pt x="142983" y="159425"/>
                </a:lnTo>
                <a:lnTo>
                  <a:pt x="150670" y="154788"/>
                </a:lnTo>
                <a:lnTo>
                  <a:pt x="158334" y="150003"/>
                </a:lnTo>
                <a:lnTo>
                  <a:pt x="164290" y="144274"/>
                </a:lnTo>
                <a:lnTo>
                  <a:pt x="169107" y="137914"/>
                </a:lnTo>
                <a:lnTo>
                  <a:pt x="173165" y="131134"/>
                </a:lnTo>
                <a:lnTo>
                  <a:pt x="176718" y="124074"/>
                </a:lnTo>
                <a:lnTo>
                  <a:pt x="179932" y="116827"/>
                </a:lnTo>
                <a:lnTo>
                  <a:pt x="182923" y="109457"/>
                </a:lnTo>
                <a:lnTo>
                  <a:pt x="184069" y="102849"/>
                </a:lnTo>
                <a:lnTo>
                  <a:pt x="183986" y="96751"/>
                </a:lnTo>
                <a:lnTo>
                  <a:pt x="183085" y="90991"/>
                </a:lnTo>
                <a:lnTo>
                  <a:pt x="181638" y="84612"/>
                </a:lnTo>
                <a:lnTo>
                  <a:pt x="179825" y="77820"/>
                </a:lnTo>
                <a:lnTo>
                  <a:pt x="177771" y="70751"/>
                </a:lnTo>
                <a:lnTo>
                  <a:pt x="174708" y="63499"/>
                </a:lnTo>
                <a:lnTo>
                  <a:pt x="170973" y="56124"/>
                </a:lnTo>
                <a:lnTo>
                  <a:pt x="166790" y="48667"/>
                </a:lnTo>
                <a:lnTo>
                  <a:pt x="162307" y="42003"/>
                </a:lnTo>
                <a:lnTo>
                  <a:pt x="157625" y="35867"/>
                </a:lnTo>
                <a:lnTo>
                  <a:pt x="152811" y="30082"/>
                </a:lnTo>
                <a:lnTo>
                  <a:pt x="147062" y="25380"/>
                </a:lnTo>
                <a:lnTo>
                  <a:pt x="140689" y="21398"/>
                </a:lnTo>
                <a:lnTo>
                  <a:pt x="133900" y="17896"/>
                </a:lnTo>
                <a:lnTo>
                  <a:pt x="126834" y="14715"/>
                </a:lnTo>
                <a:lnTo>
                  <a:pt x="119583" y="11748"/>
                </a:lnTo>
                <a:lnTo>
                  <a:pt x="112209" y="8924"/>
                </a:lnTo>
                <a:lnTo>
                  <a:pt x="97244" y="3527"/>
                </a:lnTo>
                <a:lnTo>
                  <a:pt x="89697" y="902"/>
                </a:lnTo>
                <a:lnTo>
                  <a:pt x="82125" y="0"/>
                </a:lnTo>
                <a:lnTo>
                  <a:pt x="74537" y="244"/>
                </a:lnTo>
                <a:lnTo>
                  <a:pt x="66939" y="1254"/>
                </a:lnTo>
                <a:lnTo>
                  <a:pt x="60180" y="1927"/>
                </a:lnTo>
                <a:lnTo>
                  <a:pt x="53981" y="2376"/>
                </a:lnTo>
                <a:lnTo>
                  <a:pt x="48155" y="2676"/>
                </a:lnTo>
                <a:lnTo>
                  <a:pt x="43424" y="3722"/>
                </a:lnTo>
                <a:lnTo>
                  <a:pt x="39424" y="5266"/>
                </a:lnTo>
                <a:lnTo>
                  <a:pt x="28882" y="1089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76"/>
          <p:cNvSpPr/>
          <p:nvPr/>
        </p:nvSpPr>
        <p:spPr>
          <a:xfrm>
            <a:off x="98280" y="4213080"/>
            <a:ext cx="405000" cy="389160"/>
          </a:xfrm>
          <a:custGeom>
            <a:avLst/>
            <a:gdLst>
              <a:gd name="textAreaLeft" fmla="*/ 0 w 405000"/>
              <a:gd name="textAreaRight" fmla="*/ 405360 w 4050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403861" h="388621">
                <a:moveTo>
                  <a:pt x="0" y="0"/>
                </a:moveTo>
                <a:lnTo>
                  <a:pt x="10606" y="10606"/>
                </a:lnTo>
                <a:lnTo>
                  <a:pt x="17912" y="21957"/>
                </a:lnTo>
                <a:lnTo>
                  <a:pt x="22919" y="31208"/>
                </a:lnTo>
                <a:lnTo>
                  <a:pt x="28813" y="40964"/>
                </a:lnTo>
                <a:lnTo>
                  <a:pt x="37077" y="50944"/>
                </a:lnTo>
                <a:lnTo>
                  <a:pt x="46394" y="61024"/>
                </a:lnTo>
                <a:lnTo>
                  <a:pt x="61160" y="76219"/>
                </a:lnTo>
                <a:lnTo>
                  <a:pt x="107138" y="122367"/>
                </a:lnTo>
                <a:lnTo>
                  <a:pt x="113759" y="129838"/>
                </a:lnTo>
                <a:lnTo>
                  <a:pt x="119866" y="137359"/>
                </a:lnTo>
                <a:lnTo>
                  <a:pt x="125631" y="144913"/>
                </a:lnTo>
                <a:lnTo>
                  <a:pt x="132014" y="152489"/>
                </a:lnTo>
                <a:lnTo>
                  <a:pt x="138809" y="160079"/>
                </a:lnTo>
                <a:lnTo>
                  <a:pt x="153133" y="175286"/>
                </a:lnTo>
                <a:lnTo>
                  <a:pt x="167966" y="190512"/>
                </a:lnTo>
                <a:lnTo>
                  <a:pt x="176324" y="198128"/>
                </a:lnTo>
                <a:lnTo>
                  <a:pt x="185283" y="205745"/>
                </a:lnTo>
                <a:lnTo>
                  <a:pt x="194642" y="213363"/>
                </a:lnTo>
                <a:lnTo>
                  <a:pt x="203421" y="220982"/>
                </a:lnTo>
                <a:lnTo>
                  <a:pt x="211814" y="228602"/>
                </a:lnTo>
                <a:lnTo>
                  <a:pt x="227913" y="243841"/>
                </a:lnTo>
                <a:lnTo>
                  <a:pt x="243535" y="259081"/>
                </a:lnTo>
                <a:lnTo>
                  <a:pt x="252103" y="266700"/>
                </a:lnTo>
                <a:lnTo>
                  <a:pt x="261202" y="274320"/>
                </a:lnTo>
                <a:lnTo>
                  <a:pt x="270655" y="281940"/>
                </a:lnTo>
                <a:lnTo>
                  <a:pt x="279497" y="289560"/>
                </a:lnTo>
                <a:lnTo>
                  <a:pt x="287931" y="297180"/>
                </a:lnTo>
                <a:lnTo>
                  <a:pt x="304076" y="312420"/>
                </a:lnTo>
                <a:lnTo>
                  <a:pt x="342805" y="350520"/>
                </a:lnTo>
                <a:lnTo>
                  <a:pt x="351303" y="357294"/>
                </a:lnTo>
                <a:lnTo>
                  <a:pt x="360356" y="363502"/>
                </a:lnTo>
                <a:lnTo>
                  <a:pt x="369777" y="369335"/>
                </a:lnTo>
                <a:lnTo>
                  <a:pt x="377751" y="374070"/>
                </a:lnTo>
                <a:lnTo>
                  <a:pt x="384761" y="378074"/>
                </a:lnTo>
                <a:lnTo>
                  <a:pt x="403860" y="388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77"/>
          <p:cNvSpPr/>
          <p:nvPr/>
        </p:nvSpPr>
        <p:spPr>
          <a:xfrm>
            <a:off x="876240" y="4541760"/>
            <a:ext cx="411120" cy="198360"/>
          </a:xfrm>
          <a:custGeom>
            <a:avLst/>
            <a:gdLst>
              <a:gd name="textAreaLeft" fmla="*/ 0 w 411120"/>
              <a:gd name="textAreaRight" fmla="*/ 411480 w 4111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1481" h="198121">
                <a:moveTo>
                  <a:pt x="0" y="0"/>
                </a:moveTo>
                <a:lnTo>
                  <a:pt x="6561" y="6561"/>
                </a:lnTo>
                <a:lnTo>
                  <a:pt x="15396" y="7307"/>
                </a:lnTo>
                <a:lnTo>
                  <a:pt x="24059" y="9739"/>
                </a:lnTo>
                <a:lnTo>
                  <a:pt x="33553" y="12795"/>
                </a:lnTo>
                <a:lnTo>
                  <a:pt x="43417" y="14153"/>
                </a:lnTo>
                <a:lnTo>
                  <a:pt x="55703" y="17015"/>
                </a:lnTo>
                <a:lnTo>
                  <a:pt x="62535" y="18963"/>
                </a:lnTo>
                <a:lnTo>
                  <a:pt x="74643" y="23386"/>
                </a:lnTo>
                <a:lnTo>
                  <a:pt x="86515" y="28174"/>
                </a:lnTo>
                <a:lnTo>
                  <a:pt x="100258" y="33124"/>
                </a:lnTo>
                <a:lnTo>
                  <a:pt x="112575" y="38147"/>
                </a:lnTo>
                <a:lnTo>
                  <a:pt x="124540" y="43201"/>
                </a:lnTo>
                <a:lnTo>
                  <a:pt x="138325" y="48270"/>
                </a:lnTo>
                <a:lnTo>
                  <a:pt x="146403" y="51653"/>
                </a:lnTo>
                <a:lnTo>
                  <a:pt x="155175" y="55602"/>
                </a:lnTo>
                <a:lnTo>
                  <a:pt x="164410" y="59928"/>
                </a:lnTo>
                <a:lnTo>
                  <a:pt x="173107" y="63659"/>
                </a:lnTo>
                <a:lnTo>
                  <a:pt x="181445" y="66993"/>
                </a:lnTo>
                <a:lnTo>
                  <a:pt x="189543" y="70062"/>
                </a:lnTo>
                <a:lnTo>
                  <a:pt x="198329" y="73801"/>
                </a:lnTo>
                <a:lnTo>
                  <a:pt x="217122" y="82472"/>
                </a:lnTo>
                <a:lnTo>
                  <a:pt x="246742" y="96874"/>
                </a:lnTo>
                <a:lnTo>
                  <a:pt x="255935" y="102683"/>
                </a:lnTo>
                <a:lnTo>
                  <a:pt x="264603" y="109095"/>
                </a:lnTo>
                <a:lnTo>
                  <a:pt x="272922" y="115910"/>
                </a:lnTo>
                <a:lnTo>
                  <a:pt x="282701" y="122146"/>
                </a:lnTo>
                <a:lnTo>
                  <a:pt x="293455" y="127998"/>
                </a:lnTo>
                <a:lnTo>
                  <a:pt x="304856" y="133592"/>
                </a:lnTo>
                <a:lnTo>
                  <a:pt x="315845" y="139862"/>
                </a:lnTo>
                <a:lnTo>
                  <a:pt x="326556" y="146581"/>
                </a:lnTo>
                <a:lnTo>
                  <a:pt x="337084" y="153600"/>
                </a:lnTo>
                <a:lnTo>
                  <a:pt x="347490" y="159974"/>
                </a:lnTo>
                <a:lnTo>
                  <a:pt x="357813" y="165916"/>
                </a:lnTo>
                <a:lnTo>
                  <a:pt x="368082" y="171571"/>
                </a:lnTo>
                <a:lnTo>
                  <a:pt x="377468" y="177034"/>
                </a:lnTo>
                <a:lnTo>
                  <a:pt x="4114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78"/>
          <p:cNvSpPr/>
          <p:nvPr/>
        </p:nvSpPr>
        <p:spPr>
          <a:xfrm>
            <a:off x="830160" y="4854600"/>
            <a:ext cx="46080" cy="196920"/>
          </a:xfrm>
          <a:custGeom>
            <a:avLst/>
            <a:gdLst>
              <a:gd name="textAreaLeft" fmla="*/ 0 w 46080"/>
              <a:gd name="textAreaRight" fmla="*/ 46440 w 460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5719" h="198121">
                <a:moveTo>
                  <a:pt x="38100" y="0"/>
                </a:moveTo>
                <a:lnTo>
                  <a:pt x="38100" y="4045"/>
                </a:lnTo>
                <a:lnTo>
                  <a:pt x="38947" y="5237"/>
                </a:lnTo>
                <a:lnTo>
                  <a:pt x="40358" y="6031"/>
                </a:lnTo>
                <a:lnTo>
                  <a:pt x="44661" y="7306"/>
                </a:lnTo>
                <a:lnTo>
                  <a:pt x="45014" y="8257"/>
                </a:lnTo>
                <a:lnTo>
                  <a:pt x="45511" y="13642"/>
                </a:lnTo>
                <a:lnTo>
                  <a:pt x="45627" y="18199"/>
                </a:lnTo>
                <a:lnTo>
                  <a:pt x="45718" y="54518"/>
                </a:lnTo>
                <a:lnTo>
                  <a:pt x="44872" y="58358"/>
                </a:lnTo>
                <a:lnTo>
                  <a:pt x="43461" y="62613"/>
                </a:lnTo>
                <a:lnTo>
                  <a:pt x="41674" y="67141"/>
                </a:lnTo>
                <a:lnTo>
                  <a:pt x="39636" y="71854"/>
                </a:lnTo>
                <a:lnTo>
                  <a:pt x="35114" y="81606"/>
                </a:lnTo>
                <a:lnTo>
                  <a:pt x="32722" y="87424"/>
                </a:lnTo>
                <a:lnTo>
                  <a:pt x="30282" y="93842"/>
                </a:lnTo>
                <a:lnTo>
                  <a:pt x="27808" y="100662"/>
                </a:lnTo>
                <a:lnTo>
                  <a:pt x="26159" y="106901"/>
                </a:lnTo>
                <a:lnTo>
                  <a:pt x="25059" y="112754"/>
                </a:lnTo>
                <a:lnTo>
                  <a:pt x="24326" y="118350"/>
                </a:lnTo>
                <a:lnTo>
                  <a:pt x="22144" y="123773"/>
                </a:lnTo>
                <a:lnTo>
                  <a:pt x="18996" y="129082"/>
                </a:lnTo>
                <a:lnTo>
                  <a:pt x="15204" y="134314"/>
                </a:lnTo>
                <a:lnTo>
                  <a:pt x="12676" y="140343"/>
                </a:lnTo>
                <a:lnTo>
                  <a:pt x="10991" y="146902"/>
                </a:lnTo>
                <a:lnTo>
                  <a:pt x="9867" y="153815"/>
                </a:lnTo>
                <a:lnTo>
                  <a:pt x="8272" y="160116"/>
                </a:lnTo>
                <a:lnTo>
                  <a:pt x="6361" y="166011"/>
                </a:lnTo>
                <a:lnTo>
                  <a:pt x="4241" y="171634"/>
                </a:lnTo>
                <a:lnTo>
                  <a:pt x="2827" y="176229"/>
                </a:lnTo>
                <a:lnTo>
                  <a:pt x="1885" y="180140"/>
                </a:lnTo>
                <a:lnTo>
                  <a:pt x="1257" y="183593"/>
                </a:lnTo>
                <a:lnTo>
                  <a:pt x="559" y="189688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79"/>
          <p:cNvSpPr/>
          <p:nvPr/>
        </p:nvSpPr>
        <p:spPr>
          <a:xfrm>
            <a:off x="990720" y="4884840"/>
            <a:ext cx="182520" cy="220680"/>
          </a:xfrm>
          <a:custGeom>
            <a:avLst/>
            <a:gdLst>
              <a:gd name="textAreaLeft" fmla="*/ 0 w 182520"/>
              <a:gd name="textAreaRight" fmla="*/ 182880 w 1825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2838" h="220981">
                <a:moveTo>
                  <a:pt x="7620" y="7620"/>
                </a:moveTo>
                <a:lnTo>
                  <a:pt x="48521" y="7620"/>
                </a:lnTo>
                <a:lnTo>
                  <a:pt x="54361" y="6774"/>
                </a:lnTo>
                <a:lnTo>
                  <a:pt x="59947" y="5363"/>
                </a:lnTo>
                <a:lnTo>
                  <a:pt x="65365" y="3575"/>
                </a:lnTo>
                <a:lnTo>
                  <a:pt x="71517" y="2383"/>
                </a:lnTo>
                <a:lnTo>
                  <a:pt x="78158" y="1589"/>
                </a:lnTo>
                <a:lnTo>
                  <a:pt x="85125" y="1059"/>
                </a:lnTo>
                <a:lnTo>
                  <a:pt x="92310" y="706"/>
                </a:lnTo>
                <a:lnTo>
                  <a:pt x="107067" y="314"/>
                </a:lnTo>
                <a:lnTo>
                  <a:pt x="147045" y="19"/>
                </a:lnTo>
                <a:lnTo>
                  <a:pt x="181240" y="0"/>
                </a:lnTo>
                <a:lnTo>
                  <a:pt x="181787" y="847"/>
                </a:lnTo>
                <a:lnTo>
                  <a:pt x="182736" y="6561"/>
                </a:lnTo>
                <a:lnTo>
                  <a:pt x="182837" y="11351"/>
                </a:lnTo>
                <a:lnTo>
                  <a:pt x="181158" y="13495"/>
                </a:lnTo>
                <a:lnTo>
                  <a:pt x="178346" y="15770"/>
                </a:lnTo>
                <a:lnTo>
                  <a:pt x="174777" y="18133"/>
                </a:lnTo>
                <a:lnTo>
                  <a:pt x="171552" y="21402"/>
                </a:lnTo>
                <a:lnTo>
                  <a:pt x="168555" y="25275"/>
                </a:lnTo>
                <a:lnTo>
                  <a:pt x="165710" y="29550"/>
                </a:lnTo>
                <a:lnTo>
                  <a:pt x="162120" y="34094"/>
                </a:lnTo>
                <a:lnTo>
                  <a:pt x="158033" y="38816"/>
                </a:lnTo>
                <a:lnTo>
                  <a:pt x="153616" y="43657"/>
                </a:lnTo>
                <a:lnTo>
                  <a:pt x="144191" y="53552"/>
                </a:lnTo>
                <a:lnTo>
                  <a:pt x="124344" y="73702"/>
                </a:lnTo>
                <a:lnTo>
                  <a:pt x="119303" y="79615"/>
                </a:lnTo>
                <a:lnTo>
                  <a:pt x="114249" y="86096"/>
                </a:lnTo>
                <a:lnTo>
                  <a:pt x="109186" y="92958"/>
                </a:lnTo>
                <a:lnTo>
                  <a:pt x="103270" y="100071"/>
                </a:lnTo>
                <a:lnTo>
                  <a:pt x="96787" y="107354"/>
                </a:lnTo>
                <a:lnTo>
                  <a:pt x="83656" y="121373"/>
                </a:lnTo>
                <a:lnTo>
                  <a:pt x="61429" y="144171"/>
                </a:lnTo>
                <a:lnTo>
                  <a:pt x="40733" y="164980"/>
                </a:lnTo>
                <a:lnTo>
                  <a:pt x="36469" y="170100"/>
                </a:lnTo>
                <a:lnTo>
                  <a:pt x="32779" y="175206"/>
                </a:lnTo>
                <a:lnTo>
                  <a:pt x="29473" y="180305"/>
                </a:lnTo>
                <a:lnTo>
                  <a:pt x="26422" y="185396"/>
                </a:lnTo>
                <a:lnTo>
                  <a:pt x="23541" y="190484"/>
                </a:lnTo>
                <a:lnTo>
                  <a:pt x="20774" y="195570"/>
                </a:lnTo>
                <a:lnTo>
                  <a:pt x="18083" y="199807"/>
                </a:lnTo>
                <a:lnTo>
                  <a:pt x="15442" y="203478"/>
                </a:lnTo>
                <a:lnTo>
                  <a:pt x="9165" y="211408"/>
                </a:lnTo>
                <a:lnTo>
                  <a:pt x="4033" y="216827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InkAnnotation280"/>
          <p:cNvSpPr/>
          <p:nvPr/>
        </p:nvSpPr>
        <p:spPr>
          <a:xfrm>
            <a:off x="990720" y="4991040"/>
            <a:ext cx="144360" cy="38160"/>
          </a:xfrm>
          <a:custGeom>
            <a:avLst/>
            <a:gdLst>
              <a:gd name="textAreaLeft" fmla="*/ 0 w 144360"/>
              <a:gd name="textAreaRight" fmla="*/ 144720 w 144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44781" h="38101">
                <a:moveTo>
                  <a:pt x="0" y="0"/>
                </a:moveTo>
                <a:lnTo>
                  <a:pt x="6561" y="6561"/>
                </a:lnTo>
                <a:lnTo>
                  <a:pt x="9454" y="7760"/>
                </a:lnTo>
                <a:lnTo>
                  <a:pt x="13923" y="9408"/>
                </a:lnTo>
                <a:lnTo>
                  <a:pt x="19442" y="11352"/>
                </a:lnTo>
                <a:lnTo>
                  <a:pt x="24814" y="13495"/>
                </a:lnTo>
                <a:lnTo>
                  <a:pt x="30090" y="15770"/>
                </a:lnTo>
                <a:lnTo>
                  <a:pt x="35300" y="18133"/>
                </a:lnTo>
                <a:lnTo>
                  <a:pt x="41313" y="20556"/>
                </a:lnTo>
                <a:lnTo>
                  <a:pt x="54768" y="25505"/>
                </a:lnTo>
                <a:lnTo>
                  <a:pt x="61912" y="27163"/>
                </a:lnTo>
                <a:lnTo>
                  <a:pt x="69215" y="28268"/>
                </a:lnTo>
                <a:lnTo>
                  <a:pt x="76623" y="29006"/>
                </a:lnTo>
                <a:lnTo>
                  <a:pt x="84949" y="30344"/>
                </a:lnTo>
                <a:lnTo>
                  <a:pt x="93886" y="32082"/>
                </a:lnTo>
                <a:lnTo>
                  <a:pt x="103231" y="34089"/>
                </a:lnTo>
                <a:lnTo>
                  <a:pt x="111154" y="35426"/>
                </a:lnTo>
                <a:lnTo>
                  <a:pt x="118129" y="36317"/>
                </a:lnTo>
                <a:lnTo>
                  <a:pt x="124473" y="36912"/>
                </a:lnTo>
                <a:lnTo>
                  <a:pt x="129549" y="37307"/>
                </a:lnTo>
                <a:lnTo>
                  <a:pt x="133779" y="37572"/>
                </a:lnTo>
                <a:lnTo>
                  <a:pt x="14478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81"/>
          <p:cNvSpPr/>
          <p:nvPr/>
        </p:nvSpPr>
        <p:spPr>
          <a:xfrm>
            <a:off x="1135080" y="4968720"/>
            <a:ext cx="160200" cy="128880"/>
          </a:xfrm>
          <a:custGeom>
            <a:avLst/>
            <a:gdLst>
              <a:gd name="textAreaLeft" fmla="*/ 0 w 160200"/>
              <a:gd name="textAreaRight" fmla="*/ 160560 w 160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60021" h="129541">
                <a:moveTo>
                  <a:pt x="160020" y="0"/>
                </a:moveTo>
                <a:lnTo>
                  <a:pt x="160020" y="10606"/>
                </a:lnTo>
                <a:lnTo>
                  <a:pt x="159174" y="12997"/>
                </a:lnTo>
                <a:lnTo>
                  <a:pt x="157762" y="15438"/>
                </a:lnTo>
                <a:lnTo>
                  <a:pt x="155975" y="17912"/>
                </a:lnTo>
                <a:lnTo>
                  <a:pt x="153937" y="20408"/>
                </a:lnTo>
                <a:lnTo>
                  <a:pt x="151732" y="22919"/>
                </a:lnTo>
                <a:lnTo>
                  <a:pt x="149414" y="25439"/>
                </a:lnTo>
                <a:lnTo>
                  <a:pt x="138063" y="37077"/>
                </a:lnTo>
                <a:lnTo>
                  <a:pt x="134375" y="41651"/>
                </a:lnTo>
                <a:lnTo>
                  <a:pt x="131070" y="46395"/>
                </a:lnTo>
                <a:lnTo>
                  <a:pt x="128020" y="51249"/>
                </a:lnTo>
                <a:lnTo>
                  <a:pt x="123447" y="56180"/>
                </a:lnTo>
                <a:lnTo>
                  <a:pt x="117858" y="61160"/>
                </a:lnTo>
                <a:lnTo>
                  <a:pt x="111592" y="66173"/>
                </a:lnTo>
                <a:lnTo>
                  <a:pt x="105721" y="70362"/>
                </a:lnTo>
                <a:lnTo>
                  <a:pt x="100114" y="74001"/>
                </a:lnTo>
                <a:lnTo>
                  <a:pt x="94683" y="77275"/>
                </a:lnTo>
                <a:lnTo>
                  <a:pt x="81875" y="85426"/>
                </a:lnTo>
                <a:lnTo>
                  <a:pt x="74903" y="89971"/>
                </a:lnTo>
                <a:lnTo>
                  <a:pt x="68562" y="93847"/>
                </a:lnTo>
                <a:lnTo>
                  <a:pt x="62642" y="97278"/>
                </a:lnTo>
                <a:lnTo>
                  <a:pt x="57001" y="100412"/>
                </a:lnTo>
                <a:lnTo>
                  <a:pt x="51548" y="104195"/>
                </a:lnTo>
                <a:lnTo>
                  <a:pt x="46218" y="108410"/>
                </a:lnTo>
                <a:lnTo>
                  <a:pt x="40973" y="112913"/>
                </a:lnTo>
                <a:lnTo>
                  <a:pt x="35781" y="116762"/>
                </a:lnTo>
                <a:lnTo>
                  <a:pt x="30628" y="120175"/>
                </a:lnTo>
                <a:lnTo>
                  <a:pt x="25499" y="123296"/>
                </a:lnTo>
                <a:lnTo>
                  <a:pt x="21233" y="125377"/>
                </a:lnTo>
                <a:lnTo>
                  <a:pt x="17542" y="126765"/>
                </a:lnTo>
                <a:lnTo>
                  <a:pt x="14235" y="127690"/>
                </a:lnTo>
                <a:lnTo>
                  <a:pt x="11183" y="128307"/>
                </a:lnTo>
                <a:lnTo>
                  <a:pt x="8302" y="128718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82"/>
          <p:cNvSpPr/>
          <p:nvPr/>
        </p:nvSpPr>
        <p:spPr>
          <a:xfrm>
            <a:off x="1189080" y="498312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29541" h="83821">
                <a:moveTo>
                  <a:pt x="0" y="0"/>
                </a:moveTo>
                <a:lnTo>
                  <a:pt x="6561" y="0"/>
                </a:lnTo>
                <a:lnTo>
                  <a:pt x="6914" y="846"/>
                </a:lnTo>
                <a:lnTo>
                  <a:pt x="7150" y="2258"/>
                </a:lnTo>
                <a:lnTo>
                  <a:pt x="7306" y="4045"/>
                </a:lnTo>
                <a:lnTo>
                  <a:pt x="8258" y="6083"/>
                </a:lnTo>
                <a:lnTo>
                  <a:pt x="9738" y="8289"/>
                </a:lnTo>
                <a:lnTo>
                  <a:pt x="11573" y="10606"/>
                </a:lnTo>
                <a:lnTo>
                  <a:pt x="14488" y="12997"/>
                </a:lnTo>
                <a:lnTo>
                  <a:pt x="18126" y="15438"/>
                </a:lnTo>
                <a:lnTo>
                  <a:pt x="22244" y="17912"/>
                </a:lnTo>
                <a:lnTo>
                  <a:pt x="26683" y="21254"/>
                </a:lnTo>
                <a:lnTo>
                  <a:pt x="31335" y="25176"/>
                </a:lnTo>
                <a:lnTo>
                  <a:pt x="36130" y="29484"/>
                </a:lnTo>
                <a:lnTo>
                  <a:pt x="41020" y="33203"/>
                </a:lnTo>
                <a:lnTo>
                  <a:pt x="45973" y="36529"/>
                </a:lnTo>
                <a:lnTo>
                  <a:pt x="50969" y="39592"/>
                </a:lnTo>
                <a:lnTo>
                  <a:pt x="70135" y="51995"/>
                </a:lnTo>
                <a:lnTo>
                  <a:pt x="77237" y="55830"/>
                </a:lnTo>
                <a:lnTo>
                  <a:pt x="84511" y="59233"/>
                </a:lnTo>
                <a:lnTo>
                  <a:pt x="91901" y="62349"/>
                </a:lnTo>
                <a:lnTo>
                  <a:pt x="98521" y="66119"/>
                </a:lnTo>
                <a:lnTo>
                  <a:pt x="104627" y="70327"/>
                </a:lnTo>
                <a:lnTo>
                  <a:pt x="110391" y="74824"/>
                </a:lnTo>
                <a:lnTo>
                  <a:pt x="115081" y="77823"/>
                </a:lnTo>
                <a:lnTo>
                  <a:pt x="119054" y="79823"/>
                </a:lnTo>
                <a:lnTo>
                  <a:pt x="12954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83"/>
          <p:cNvSpPr/>
          <p:nvPr/>
        </p:nvSpPr>
        <p:spPr>
          <a:xfrm>
            <a:off x="1463760" y="4998960"/>
            <a:ext cx="174600" cy="14400"/>
          </a:xfrm>
          <a:custGeom>
            <a:avLst/>
            <a:gdLst>
              <a:gd name="textAreaLeft" fmla="*/ 0 w 174600"/>
              <a:gd name="textAreaRight" fmla="*/ 174960 w 174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148">
                <a:moveTo>
                  <a:pt x="0" y="7527"/>
                </a:moveTo>
                <a:lnTo>
                  <a:pt x="4045" y="7527"/>
                </a:lnTo>
                <a:lnTo>
                  <a:pt x="5237" y="6681"/>
                </a:lnTo>
                <a:lnTo>
                  <a:pt x="6031" y="5270"/>
                </a:lnTo>
                <a:lnTo>
                  <a:pt x="6561" y="3482"/>
                </a:lnTo>
                <a:lnTo>
                  <a:pt x="7760" y="2290"/>
                </a:lnTo>
                <a:lnTo>
                  <a:pt x="9407" y="1496"/>
                </a:lnTo>
                <a:lnTo>
                  <a:pt x="11351" y="966"/>
                </a:lnTo>
                <a:lnTo>
                  <a:pt x="14341" y="613"/>
                </a:lnTo>
                <a:lnTo>
                  <a:pt x="18027" y="378"/>
                </a:lnTo>
                <a:lnTo>
                  <a:pt x="22178" y="221"/>
                </a:lnTo>
                <a:lnTo>
                  <a:pt x="36111" y="0"/>
                </a:lnTo>
                <a:lnTo>
                  <a:pt x="41007" y="816"/>
                </a:lnTo>
                <a:lnTo>
                  <a:pt x="45965" y="2206"/>
                </a:lnTo>
                <a:lnTo>
                  <a:pt x="50963" y="3980"/>
                </a:lnTo>
                <a:lnTo>
                  <a:pt x="56835" y="5162"/>
                </a:lnTo>
                <a:lnTo>
                  <a:pt x="63290" y="5951"/>
                </a:lnTo>
                <a:lnTo>
                  <a:pt x="70133" y="6476"/>
                </a:lnTo>
                <a:lnTo>
                  <a:pt x="77236" y="6826"/>
                </a:lnTo>
                <a:lnTo>
                  <a:pt x="91900" y="7216"/>
                </a:lnTo>
                <a:lnTo>
                  <a:pt x="110391" y="7435"/>
                </a:lnTo>
                <a:lnTo>
                  <a:pt x="115927" y="8312"/>
                </a:lnTo>
                <a:lnTo>
                  <a:pt x="121312" y="9744"/>
                </a:lnTo>
                <a:lnTo>
                  <a:pt x="126594" y="11545"/>
                </a:lnTo>
                <a:lnTo>
                  <a:pt x="131810" y="12746"/>
                </a:lnTo>
                <a:lnTo>
                  <a:pt x="136980" y="13546"/>
                </a:lnTo>
                <a:lnTo>
                  <a:pt x="142120" y="14079"/>
                </a:lnTo>
                <a:lnTo>
                  <a:pt x="146393" y="14435"/>
                </a:lnTo>
                <a:lnTo>
                  <a:pt x="150089" y="14672"/>
                </a:lnTo>
                <a:lnTo>
                  <a:pt x="156453" y="14936"/>
                </a:lnTo>
                <a:lnTo>
                  <a:pt x="164796" y="15084"/>
                </a:lnTo>
                <a:lnTo>
                  <a:pt x="175260" y="1514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84"/>
          <p:cNvSpPr/>
          <p:nvPr/>
        </p:nvSpPr>
        <p:spPr>
          <a:xfrm>
            <a:off x="1501920" y="5059440"/>
            <a:ext cx="166680" cy="23760"/>
          </a:xfrm>
          <a:custGeom>
            <a:avLst/>
            <a:gdLst>
              <a:gd name="textAreaLeft" fmla="*/ 0 w 166680"/>
              <a:gd name="textAreaRight" fmla="*/ 167040 w 166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7641" h="22861">
                <a:moveTo>
                  <a:pt x="0" y="0"/>
                </a:moveTo>
                <a:lnTo>
                  <a:pt x="0" y="7306"/>
                </a:lnTo>
                <a:lnTo>
                  <a:pt x="4045" y="7527"/>
                </a:lnTo>
                <a:lnTo>
                  <a:pt x="14651" y="7592"/>
                </a:lnTo>
                <a:lnTo>
                  <a:pt x="19081" y="8448"/>
                </a:lnTo>
                <a:lnTo>
                  <a:pt x="23727" y="9866"/>
                </a:lnTo>
                <a:lnTo>
                  <a:pt x="28518" y="11657"/>
                </a:lnTo>
                <a:lnTo>
                  <a:pt x="34252" y="12851"/>
                </a:lnTo>
                <a:lnTo>
                  <a:pt x="40615" y="13648"/>
                </a:lnTo>
                <a:lnTo>
                  <a:pt x="47396" y="14178"/>
                </a:lnTo>
                <a:lnTo>
                  <a:pt x="54458" y="14532"/>
                </a:lnTo>
                <a:lnTo>
                  <a:pt x="69077" y="14926"/>
                </a:lnTo>
                <a:lnTo>
                  <a:pt x="76531" y="15877"/>
                </a:lnTo>
                <a:lnTo>
                  <a:pt x="84041" y="17358"/>
                </a:lnTo>
                <a:lnTo>
                  <a:pt x="91587" y="19192"/>
                </a:lnTo>
                <a:lnTo>
                  <a:pt x="98312" y="20415"/>
                </a:lnTo>
                <a:lnTo>
                  <a:pt x="104488" y="21230"/>
                </a:lnTo>
                <a:lnTo>
                  <a:pt x="110299" y="21773"/>
                </a:lnTo>
                <a:lnTo>
                  <a:pt x="115866" y="22135"/>
                </a:lnTo>
                <a:lnTo>
                  <a:pt x="121270" y="22377"/>
                </a:lnTo>
                <a:lnTo>
                  <a:pt x="131792" y="22646"/>
                </a:lnTo>
                <a:lnTo>
                  <a:pt x="16764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85"/>
          <p:cNvSpPr/>
          <p:nvPr/>
        </p:nvSpPr>
        <p:spPr>
          <a:xfrm>
            <a:off x="1763640" y="4892760"/>
            <a:ext cx="34920" cy="220680"/>
          </a:xfrm>
          <a:custGeom>
            <a:avLst/>
            <a:gdLst>
              <a:gd name="textAreaLeft" fmla="*/ 0 w 34920"/>
              <a:gd name="textAreaRight" fmla="*/ 35280 w 34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4846" h="220981">
                <a:moveTo>
                  <a:pt x="34845" y="0"/>
                </a:moveTo>
                <a:lnTo>
                  <a:pt x="34845" y="29484"/>
                </a:lnTo>
                <a:lnTo>
                  <a:pt x="33999" y="34050"/>
                </a:lnTo>
                <a:lnTo>
                  <a:pt x="32587" y="38787"/>
                </a:lnTo>
                <a:lnTo>
                  <a:pt x="30800" y="43638"/>
                </a:lnTo>
                <a:lnTo>
                  <a:pt x="29608" y="49412"/>
                </a:lnTo>
                <a:lnTo>
                  <a:pt x="28814" y="55801"/>
                </a:lnTo>
                <a:lnTo>
                  <a:pt x="28284" y="62601"/>
                </a:lnTo>
                <a:lnTo>
                  <a:pt x="27085" y="69674"/>
                </a:lnTo>
                <a:lnTo>
                  <a:pt x="25438" y="76929"/>
                </a:lnTo>
                <a:lnTo>
                  <a:pt x="23494" y="84306"/>
                </a:lnTo>
                <a:lnTo>
                  <a:pt x="21351" y="90917"/>
                </a:lnTo>
                <a:lnTo>
                  <a:pt x="19076" y="97018"/>
                </a:lnTo>
                <a:lnTo>
                  <a:pt x="16712" y="102779"/>
                </a:lnTo>
                <a:lnTo>
                  <a:pt x="14290" y="109159"/>
                </a:lnTo>
                <a:lnTo>
                  <a:pt x="9341" y="123022"/>
                </a:lnTo>
                <a:lnTo>
                  <a:pt x="7682" y="130274"/>
                </a:lnTo>
                <a:lnTo>
                  <a:pt x="6576" y="137650"/>
                </a:lnTo>
                <a:lnTo>
                  <a:pt x="5839" y="145107"/>
                </a:lnTo>
                <a:lnTo>
                  <a:pt x="5348" y="151772"/>
                </a:lnTo>
                <a:lnTo>
                  <a:pt x="5020" y="157908"/>
                </a:lnTo>
                <a:lnTo>
                  <a:pt x="4656" y="169242"/>
                </a:lnTo>
                <a:lnTo>
                  <a:pt x="4495" y="179923"/>
                </a:lnTo>
                <a:lnTo>
                  <a:pt x="3605" y="185142"/>
                </a:lnTo>
                <a:lnTo>
                  <a:pt x="2165" y="190315"/>
                </a:lnTo>
                <a:lnTo>
                  <a:pt x="358" y="195456"/>
                </a:lnTo>
                <a:lnTo>
                  <a:pt x="0" y="200578"/>
                </a:lnTo>
                <a:lnTo>
                  <a:pt x="609" y="205686"/>
                </a:lnTo>
                <a:lnTo>
                  <a:pt x="1861" y="210783"/>
                </a:lnTo>
                <a:lnTo>
                  <a:pt x="3543" y="214183"/>
                </a:lnTo>
                <a:lnTo>
                  <a:pt x="5510" y="216448"/>
                </a:lnTo>
                <a:lnTo>
                  <a:pt x="11985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86"/>
          <p:cNvSpPr/>
          <p:nvPr/>
        </p:nvSpPr>
        <p:spPr>
          <a:xfrm>
            <a:off x="1882800" y="49150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8580" h="228601">
                <a:moveTo>
                  <a:pt x="0" y="0"/>
                </a:moveTo>
                <a:lnTo>
                  <a:pt x="21958" y="0"/>
                </a:lnTo>
                <a:lnTo>
                  <a:pt x="27339" y="846"/>
                </a:lnTo>
                <a:lnTo>
                  <a:pt x="33466" y="2258"/>
                </a:lnTo>
                <a:lnTo>
                  <a:pt x="40091" y="4045"/>
                </a:lnTo>
                <a:lnTo>
                  <a:pt x="54225" y="8289"/>
                </a:lnTo>
                <a:lnTo>
                  <a:pt x="61550" y="10606"/>
                </a:lnTo>
                <a:lnTo>
                  <a:pt x="69820" y="12150"/>
                </a:lnTo>
                <a:lnTo>
                  <a:pt x="78720" y="13181"/>
                </a:lnTo>
                <a:lnTo>
                  <a:pt x="88040" y="13867"/>
                </a:lnTo>
                <a:lnTo>
                  <a:pt x="96794" y="14325"/>
                </a:lnTo>
                <a:lnTo>
                  <a:pt x="113293" y="14833"/>
                </a:lnTo>
                <a:lnTo>
                  <a:pt x="152267" y="15187"/>
                </a:lnTo>
                <a:lnTo>
                  <a:pt x="206641" y="15239"/>
                </a:lnTo>
                <a:lnTo>
                  <a:pt x="210574" y="14393"/>
                </a:lnTo>
                <a:lnTo>
                  <a:pt x="214889" y="12982"/>
                </a:lnTo>
                <a:lnTo>
                  <a:pt x="228530" y="7648"/>
                </a:lnTo>
                <a:lnTo>
                  <a:pt x="228579" y="11674"/>
                </a:lnTo>
                <a:lnTo>
                  <a:pt x="226893" y="12862"/>
                </a:lnTo>
                <a:lnTo>
                  <a:pt x="220504" y="14183"/>
                </a:lnTo>
                <a:lnTo>
                  <a:pt x="217276" y="16229"/>
                </a:lnTo>
                <a:lnTo>
                  <a:pt x="211432" y="23017"/>
                </a:lnTo>
                <a:lnTo>
                  <a:pt x="207841" y="27198"/>
                </a:lnTo>
                <a:lnTo>
                  <a:pt x="203754" y="31679"/>
                </a:lnTo>
                <a:lnTo>
                  <a:pt x="199336" y="36359"/>
                </a:lnTo>
                <a:lnTo>
                  <a:pt x="193851" y="41173"/>
                </a:lnTo>
                <a:lnTo>
                  <a:pt x="187654" y="46075"/>
                </a:lnTo>
                <a:lnTo>
                  <a:pt x="180983" y="51037"/>
                </a:lnTo>
                <a:lnTo>
                  <a:pt x="174842" y="56885"/>
                </a:lnTo>
                <a:lnTo>
                  <a:pt x="169055" y="63323"/>
                </a:lnTo>
                <a:lnTo>
                  <a:pt x="163503" y="70155"/>
                </a:lnTo>
                <a:lnTo>
                  <a:pt x="157262" y="77250"/>
                </a:lnTo>
                <a:lnTo>
                  <a:pt x="150562" y="84520"/>
                </a:lnTo>
                <a:lnTo>
                  <a:pt x="136343" y="99371"/>
                </a:lnTo>
                <a:lnTo>
                  <a:pt x="98952" y="137201"/>
                </a:lnTo>
                <a:lnTo>
                  <a:pt x="91368" y="143961"/>
                </a:lnTo>
                <a:lnTo>
                  <a:pt x="83773" y="150161"/>
                </a:lnTo>
                <a:lnTo>
                  <a:pt x="76168" y="155987"/>
                </a:lnTo>
                <a:lnTo>
                  <a:pt x="70252" y="161565"/>
                </a:lnTo>
                <a:lnTo>
                  <a:pt x="65461" y="166976"/>
                </a:lnTo>
                <a:lnTo>
                  <a:pt x="61421" y="172278"/>
                </a:lnTo>
                <a:lnTo>
                  <a:pt x="57034" y="177505"/>
                </a:lnTo>
                <a:lnTo>
                  <a:pt x="52416" y="182683"/>
                </a:lnTo>
                <a:lnTo>
                  <a:pt x="47644" y="187829"/>
                </a:lnTo>
                <a:lnTo>
                  <a:pt x="43616" y="192953"/>
                </a:lnTo>
                <a:lnTo>
                  <a:pt x="40084" y="198062"/>
                </a:lnTo>
                <a:lnTo>
                  <a:pt x="36883" y="203161"/>
                </a:lnTo>
                <a:lnTo>
                  <a:pt x="33902" y="207407"/>
                </a:lnTo>
                <a:lnTo>
                  <a:pt x="28332" y="214383"/>
                </a:lnTo>
                <a:lnTo>
                  <a:pt x="23341" y="220401"/>
                </a:lnTo>
                <a:lnTo>
                  <a:pt x="22924" y="226935"/>
                </a:lnTo>
                <a:lnTo>
                  <a:pt x="2286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InkAnnotation287"/>
          <p:cNvSpPr/>
          <p:nvPr/>
        </p:nvSpPr>
        <p:spPr>
          <a:xfrm>
            <a:off x="1882800" y="5006880"/>
            <a:ext cx="128520" cy="52560"/>
          </a:xfrm>
          <a:custGeom>
            <a:avLst/>
            <a:gdLst>
              <a:gd name="textAreaLeft" fmla="*/ 0 w 128520"/>
              <a:gd name="textAreaRight" fmla="*/ 128880 w 1285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9541" h="5334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1" y="4045"/>
                </a:lnTo>
                <a:lnTo>
                  <a:pt x="7761" y="5237"/>
                </a:lnTo>
                <a:lnTo>
                  <a:pt x="9407" y="6031"/>
                </a:lnTo>
                <a:lnTo>
                  <a:pt x="11352" y="6561"/>
                </a:lnTo>
                <a:lnTo>
                  <a:pt x="14341" y="7761"/>
                </a:lnTo>
                <a:lnTo>
                  <a:pt x="18028" y="9407"/>
                </a:lnTo>
                <a:lnTo>
                  <a:pt x="22178" y="11351"/>
                </a:lnTo>
                <a:lnTo>
                  <a:pt x="27486" y="13495"/>
                </a:lnTo>
                <a:lnTo>
                  <a:pt x="40156" y="18133"/>
                </a:lnTo>
                <a:lnTo>
                  <a:pt x="46244" y="21402"/>
                </a:lnTo>
                <a:lnTo>
                  <a:pt x="51996" y="25275"/>
                </a:lnTo>
                <a:lnTo>
                  <a:pt x="57524" y="29550"/>
                </a:lnTo>
                <a:lnTo>
                  <a:pt x="64596" y="33246"/>
                </a:lnTo>
                <a:lnTo>
                  <a:pt x="72697" y="36558"/>
                </a:lnTo>
                <a:lnTo>
                  <a:pt x="105988" y="47956"/>
                </a:lnTo>
                <a:lnTo>
                  <a:pt x="112145" y="49751"/>
                </a:lnTo>
                <a:lnTo>
                  <a:pt x="117097" y="50947"/>
                </a:lnTo>
                <a:lnTo>
                  <a:pt x="129540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InkAnnotation288"/>
          <p:cNvSpPr/>
          <p:nvPr/>
        </p:nvSpPr>
        <p:spPr>
          <a:xfrm>
            <a:off x="2112840" y="4923000"/>
            <a:ext cx="152640" cy="257040"/>
          </a:xfrm>
          <a:custGeom>
            <a:avLst/>
            <a:gdLst>
              <a:gd name="textAreaLeft" fmla="*/ 0 w 152640"/>
              <a:gd name="textAreaRight" fmla="*/ 153000 w 1526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53206" h="257404">
                <a:moveTo>
                  <a:pt x="150632" y="0"/>
                </a:moveTo>
                <a:lnTo>
                  <a:pt x="143326" y="0"/>
                </a:lnTo>
                <a:lnTo>
                  <a:pt x="143105" y="4045"/>
                </a:lnTo>
                <a:lnTo>
                  <a:pt x="142228" y="5237"/>
                </a:lnTo>
                <a:lnTo>
                  <a:pt x="140795" y="6031"/>
                </a:lnTo>
                <a:lnTo>
                  <a:pt x="136100" y="7760"/>
                </a:lnTo>
                <a:lnTo>
                  <a:pt x="132478" y="9408"/>
                </a:lnTo>
                <a:lnTo>
                  <a:pt x="128369" y="11352"/>
                </a:lnTo>
                <a:lnTo>
                  <a:pt x="123937" y="14341"/>
                </a:lnTo>
                <a:lnTo>
                  <a:pt x="119288" y="18027"/>
                </a:lnTo>
                <a:lnTo>
                  <a:pt x="114496" y="22178"/>
                </a:lnTo>
                <a:lnTo>
                  <a:pt x="108762" y="25792"/>
                </a:lnTo>
                <a:lnTo>
                  <a:pt x="102398" y="29048"/>
                </a:lnTo>
                <a:lnTo>
                  <a:pt x="95616" y="32066"/>
                </a:lnTo>
                <a:lnTo>
                  <a:pt x="88555" y="36617"/>
                </a:lnTo>
                <a:lnTo>
                  <a:pt x="81307" y="42191"/>
                </a:lnTo>
                <a:lnTo>
                  <a:pt x="73936" y="48448"/>
                </a:lnTo>
                <a:lnTo>
                  <a:pt x="66481" y="55159"/>
                </a:lnTo>
                <a:lnTo>
                  <a:pt x="51425" y="69388"/>
                </a:lnTo>
                <a:lnTo>
                  <a:pt x="28669" y="91680"/>
                </a:lnTo>
                <a:lnTo>
                  <a:pt x="22756" y="99220"/>
                </a:lnTo>
                <a:lnTo>
                  <a:pt x="17968" y="106787"/>
                </a:lnTo>
                <a:lnTo>
                  <a:pt x="13929" y="114371"/>
                </a:lnTo>
                <a:lnTo>
                  <a:pt x="10390" y="122814"/>
                </a:lnTo>
                <a:lnTo>
                  <a:pt x="7184" y="131830"/>
                </a:lnTo>
                <a:lnTo>
                  <a:pt x="4200" y="141227"/>
                </a:lnTo>
                <a:lnTo>
                  <a:pt x="2211" y="150031"/>
                </a:lnTo>
                <a:lnTo>
                  <a:pt x="884" y="158441"/>
                </a:lnTo>
                <a:lnTo>
                  <a:pt x="0" y="166588"/>
                </a:lnTo>
                <a:lnTo>
                  <a:pt x="257" y="174558"/>
                </a:lnTo>
                <a:lnTo>
                  <a:pt x="1276" y="182413"/>
                </a:lnTo>
                <a:lnTo>
                  <a:pt x="2801" y="190188"/>
                </a:lnTo>
                <a:lnTo>
                  <a:pt x="5512" y="197912"/>
                </a:lnTo>
                <a:lnTo>
                  <a:pt x="9012" y="205602"/>
                </a:lnTo>
                <a:lnTo>
                  <a:pt x="13039" y="213268"/>
                </a:lnTo>
                <a:lnTo>
                  <a:pt x="17417" y="220072"/>
                </a:lnTo>
                <a:lnTo>
                  <a:pt x="22028" y="226301"/>
                </a:lnTo>
                <a:lnTo>
                  <a:pt x="26796" y="232148"/>
                </a:lnTo>
                <a:lnTo>
                  <a:pt x="31668" y="236892"/>
                </a:lnTo>
                <a:lnTo>
                  <a:pt x="36609" y="240902"/>
                </a:lnTo>
                <a:lnTo>
                  <a:pt x="41597" y="244421"/>
                </a:lnTo>
                <a:lnTo>
                  <a:pt x="47462" y="247614"/>
                </a:lnTo>
                <a:lnTo>
                  <a:pt x="53912" y="250590"/>
                </a:lnTo>
                <a:lnTo>
                  <a:pt x="60752" y="253420"/>
                </a:lnTo>
                <a:lnTo>
                  <a:pt x="67005" y="255307"/>
                </a:lnTo>
                <a:lnTo>
                  <a:pt x="72868" y="256565"/>
                </a:lnTo>
                <a:lnTo>
                  <a:pt x="78469" y="257403"/>
                </a:lnTo>
                <a:lnTo>
                  <a:pt x="84743" y="256269"/>
                </a:lnTo>
                <a:lnTo>
                  <a:pt x="91467" y="253819"/>
                </a:lnTo>
                <a:lnTo>
                  <a:pt x="98488" y="250493"/>
                </a:lnTo>
                <a:lnTo>
                  <a:pt x="104863" y="246582"/>
                </a:lnTo>
                <a:lnTo>
                  <a:pt x="110806" y="242281"/>
                </a:lnTo>
                <a:lnTo>
                  <a:pt x="116461" y="237721"/>
                </a:lnTo>
                <a:lnTo>
                  <a:pt x="121078" y="232141"/>
                </a:lnTo>
                <a:lnTo>
                  <a:pt x="125003" y="225880"/>
                </a:lnTo>
                <a:lnTo>
                  <a:pt x="141430" y="193537"/>
                </a:lnTo>
                <a:lnTo>
                  <a:pt x="145344" y="184905"/>
                </a:lnTo>
                <a:lnTo>
                  <a:pt x="148800" y="176610"/>
                </a:lnTo>
                <a:lnTo>
                  <a:pt x="151951" y="168540"/>
                </a:lnTo>
                <a:lnTo>
                  <a:pt x="153205" y="159773"/>
                </a:lnTo>
                <a:lnTo>
                  <a:pt x="153194" y="150542"/>
                </a:lnTo>
                <a:lnTo>
                  <a:pt x="152340" y="141002"/>
                </a:lnTo>
                <a:lnTo>
                  <a:pt x="150924" y="132948"/>
                </a:lnTo>
                <a:lnTo>
                  <a:pt x="149133" y="125885"/>
                </a:lnTo>
                <a:lnTo>
                  <a:pt x="140176" y="98338"/>
                </a:lnTo>
                <a:lnTo>
                  <a:pt x="136888" y="91805"/>
                </a:lnTo>
                <a:lnTo>
                  <a:pt x="133003" y="85757"/>
                </a:lnTo>
                <a:lnTo>
                  <a:pt x="128719" y="80032"/>
                </a:lnTo>
                <a:lnTo>
                  <a:pt x="125017" y="74521"/>
                </a:lnTo>
                <a:lnTo>
                  <a:pt x="121702" y="69154"/>
                </a:lnTo>
                <a:lnTo>
                  <a:pt x="118646" y="63883"/>
                </a:lnTo>
                <a:lnTo>
                  <a:pt x="114914" y="59522"/>
                </a:lnTo>
                <a:lnTo>
                  <a:pt x="110734" y="55768"/>
                </a:lnTo>
                <a:lnTo>
                  <a:pt x="97292" y="457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InkAnnotation289"/>
          <p:cNvSpPr/>
          <p:nvPr/>
        </p:nvSpPr>
        <p:spPr>
          <a:xfrm>
            <a:off x="770040" y="5151600"/>
            <a:ext cx="449280" cy="7920"/>
          </a:xfrm>
          <a:custGeom>
            <a:avLst/>
            <a:gdLst>
              <a:gd name="textAreaLeft" fmla="*/ 0 w 449280"/>
              <a:gd name="textAreaRight" fmla="*/ 449640 w 449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49581" h="7621">
                <a:moveTo>
                  <a:pt x="0" y="0"/>
                </a:moveTo>
                <a:lnTo>
                  <a:pt x="6561" y="0"/>
                </a:lnTo>
                <a:lnTo>
                  <a:pt x="7761" y="847"/>
                </a:lnTo>
                <a:lnTo>
                  <a:pt x="9407" y="2258"/>
                </a:lnTo>
                <a:lnTo>
                  <a:pt x="11351" y="4045"/>
                </a:lnTo>
                <a:lnTo>
                  <a:pt x="14341" y="5237"/>
                </a:lnTo>
                <a:lnTo>
                  <a:pt x="18027" y="6031"/>
                </a:lnTo>
                <a:lnTo>
                  <a:pt x="22178" y="6561"/>
                </a:lnTo>
                <a:lnTo>
                  <a:pt x="26639" y="6914"/>
                </a:lnTo>
                <a:lnTo>
                  <a:pt x="31306" y="7149"/>
                </a:lnTo>
                <a:lnTo>
                  <a:pt x="36111" y="7306"/>
                </a:lnTo>
                <a:lnTo>
                  <a:pt x="62072" y="7558"/>
                </a:lnTo>
                <a:lnTo>
                  <a:pt x="4495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InkAnnotation290"/>
          <p:cNvSpPr/>
          <p:nvPr/>
        </p:nvSpPr>
        <p:spPr>
          <a:xfrm>
            <a:off x="1616040" y="5219640"/>
            <a:ext cx="577800" cy="22320"/>
          </a:xfrm>
          <a:custGeom>
            <a:avLst/>
            <a:gdLst>
              <a:gd name="textAreaLeft" fmla="*/ 0 w 577800"/>
              <a:gd name="textAreaRight" fmla="*/ 578160 w 57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79121" h="22860">
                <a:moveTo>
                  <a:pt x="0" y="0"/>
                </a:moveTo>
                <a:lnTo>
                  <a:pt x="22924" y="0"/>
                </a:lnTo>
                <a:lnTo>
                  <a:pt x="27136" y="846"/>
                </a:lnTo>
                <a:lnTo>
                  <a:pt x="31637" y="2258"/>
                </a:lnTo>
                <a:lnTo>
                  <a:pt x="36332" y="4045"/>
                </a:lnTo>
                <a:lnTo>
                  <a:pt x="42001" y="5237"/>
                </a:lnTo>
                <a:lnTo>
                  <a:pt x="48321" y="6031"/>
                </a:lnTo>
                <a:lnTo>
                  <a:pt x="55074" y="6561"/>
                </a:lnTo>
                <a:lnTo>
                  <a:pt x="67093" y="7150"/>
                </a:lnTo>
                <a:lnTo>
                  <a:pt x="72669" y="7307"/>
                </a:lnTo>
                <a:lnTo>
                  <a:pt x="78079" y="8258"/>
                </a:lnTo>
                <a:lnTo>
                  <a:pt x="83379" y="9739"/>
                </a:lnTo>
                <a:lnTo>
                  <a:pt x="88606" y="11573"/>
                </a:lnTo>
                <a:lnTo>
                  <a:pt x="94631" y="12795"/>
                </a:lnTo>
                <a:lnTo>
                  <a:pt x="101187" y="13610"/>
                </a:lnTo>
                <a:lnTo>
                  <a:pt x="108098" y="14153"/>
                </a:lnTo>
                <a:lnTo>
                  <a:pt x="122550" y="14757"/>
                </a:lnTo>
                <a:lnTo>
                  <a:pt x="129960" y="14918"/>
                </a:lnTo>
                <a:lnTo>
                  <a:pt x="137440" y="15872"/>
                </a:lnTo>
                <a:lnTo>
                  <a:pt x="144967" y="17355"/>
                </a:lnTo>
                <a:lnTo>
                  <a:pt x="152525" y="19190"/>
                </a:lnTo>
                <a:lnTo>
                  <a:pt x="160103" y="20413"/>
                </a:lnTo>
                <a:lnTo>
                  <a:pt x="167695" y="21229"/>
                </a:lnTo>
                <a:lnTo>
                  <a:pt x="175297" y="21773"/>
                </a:lnTo>
                <a:lnTo>
                  <a:pt x="190516" y="22377"/>
                </a:lnTo>
                <a:lnTo>
                  <a:pt x="213365" y="22717"/>
                </a:lnTo>
                <a:lnTo>
                  <a:pt x="316465" y="22859"/>
                </a:lnTo>
                <a:lnTo>
                  <a:pt x="326124" y="22013"/>
                </a:lnTo>
                <a:lnTo>
                  <a:pt x="335949" y="20602"/>
                </a:lnTo>
                <a:lnTo>
                  <a:pt x="345886" y="18815"/>
                </a:lnTo>
                <a:lnTo>
                  <a:pt x="355898" y="17623"/>
                </a:lnTo>
                <a:lnTo>
                  <a:pt x="365958" y="16829"/>
                </a:lnTo>
                <a:lnTo>
                  <a:pt x="376052" y="16299"/>
                </a:lnTo>
                <a:lnTo>
                  <a:pt x="394041" y="15711"/>
                </a:lnTo>
                <a:lnTo>
                  <a:pt x="402394" y="15554"/>
                </a:lnTo>
                <a:lnTo>
                  <a:pt x="411349" y="14603"/>
                </a:lnTo>
                <a:lnTo>
                  <a:pt x="420706" y="13122"/>
                </a:lnTo>
                <a:lnTo>
                  <a:pt x="430331" y="11288"/>
                </a:lnTo>
                <a:lnTo>
                  <a:pt x="439287" y="10065"/>
                </a:lnTo>
                <a:lnTo>
                  <a:pt x="447798" y="9251"/>
                </a:lnTo>
                <a:lnTo>
                  <a:pt x="456012" y="8707"/>
                </a:lnTo>
                <a:lnTo>
                  <a:pt x="464875" y="7498"/>
                </a:lnTo>
                <a:lnTo>
                  <a:pt x="474170" y="5845"/>
                </a:lnTo>
                <a:lnTo>
                  <a:pt x="483754" y="3897"/>
                </a:lnTo>
                <a:lnTo>
                  <a:pt x="491836" y="2598"/>
                </a:lnTo>
                <a:lnTo>
                  <a:pt x="498917" y="1732"/>
                </a:lnTo>
                <a:lnTo>
                  <a:pt x="505331" y="1155"/>
                </a:lnTo>
                <a:lnTo>
                  <a:pt x="519232" y="513"/>
                </a:lnTo>
                <a:lnTo>
                  <a:pt x="541337" y="152"/>
                </a:lnTo>
                <a:lnTo>
                  <a:pt x="579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InkAnnotation291"/>
          <p:cNvSpPr/>
          <p:nvPr/>
        </p:nvSpPr>
        <p:spPr>
          <a:xfrm>
            <a:off x="853920" y="5227560"/>
            <a:ext cx="57240" cy="182520"/>
          </a:xfrm>
          <a:custGeom>
            <a:avLst/>
            <a:gdLst>
              <a:gd name="textAreaLeft" fmla="*/ 0 w 57240"/>
              <a:gd name="textAreaRight" fmla="*/ 57600 w 57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57669" h="182881">
                <a:moveTo>
                  <a:pt x="53340" y="0"/>
                </a:moveTo>
                <a:lnTo>
                  <a:pt x="45813" y="0"/>
                </a:lnTo>
                <a:lnTo>
                  <a:pt x="45748" y="4045"/>
                </a:lnTo>
                <a:lnTo>
                  <a:pt x="46585" y="5237"/>
                </a:lnTo>
                <a:lnTo>
                  <a:pt x="47990" y="6031"/>
                </a:lnTo>
                <a:lnTo>
                  <a:pt x="52283" y="7307"/>
                </a:lnTo>
                <a:lnTo>
                  <a:pt x="52870" y="11996"/>
                </a:lnTo>
                <a:lnTo>
                  <a:pt x="53027" y="15618"/>
                </a:lnTo>
                <a:lnTo>
                  <a:pt x="53978" y="18878"/>
                </a:lnTo>
                <a:lnTo>
                  <a:pt x="55458" y="21899"/>
                </a:lnTo>
                <a:lnTo>
                  <a:pt x="57292" y="24759"/>
                </a:lnTo>
                <a:lnTo>
                  <a:pt x="57668" y="27513"/>
                </a:lnTo>
                <a:lnTo>
                  <a:pt x="57072" y="30196"/>
                </a:lnTo>
                <a:lnTo>
                  <a:pt x="55828" y="32831"/>
                </a:lnTo>
                <a:lnTo>
                  <a:pt x="54999" y="36280"/>
                </a:lnTo>
                <a:lnTo>
                  <a:pt x="54446" y="40274"/>
                </a:lnTo>
                <a:lnTo>
                  <a:pt x="54077" y="44629"/>
                </a:lnTo>
                <a:lnTo>
                  <a:pt x="52985" y="48380"/>
                </a:lnTo>
                <a:lnTo>
                  <a:pt x="51410" y="51726"/>
                </a:lnTo>
                <a:lnTo>
                  <a:pt x="49514" y="54804"/>
                </a:lnTo>
                <a:lnTo>
                  <a:pt x="47402" y="58550"/>
                </a:lnTo>
                <a:lnTo>
                  <a:pt x="42799" y="67227"/>
                </a:lnTo>
                <a:lnTo>
                  <a:pt x="35447" y="81632"/>
                </a:lnTo>
                <a:lnTo>
                  <a:pt x="32098" y="86594"/>
                </a:lnTo>
                <a:lnTo>
                  <a:pt x="28172" y="91596"/>
                </a:lnTo>
                <a:lnTo>
                  <a:pt x="23861" y="96625"/>
                </a:lnTo>
                <a:lnTo>
                  <a:pt x="20141" y="101670"/>
                </a:lnTo>
                <a:lnTo>
                  <a:pt x="16814" y="106727"/>
                </a:lnTo>
                <a:lnTo>
                  <a:pt x="13749" y="111791"/>
                </a:lnTo>
                <a:lnTo>
                  <a:pt x="11706" y="116861"/>
                </a:lnTo>
                <a:lnTo>
                  <a:pt x="10344" y="121934"/>
                </a:lnTo>
                <a:lnTo>
                  <a:pt x="9436" y="127009"/>
                </a:lnTo>
                <a:lnTo>
                  <a:pt x="7984" y="132086"/>
                </a:lnTo>
                <a:lnTo>
                  <a:pt x="6169" y="137164"/>
                </a:lnTo>
                <a:lnTo>
                  <a:pt x="4113" y="142243"/>
                </a:lnTo>
                <a:lnTo>
                  <a:pt x="2742" y="147322"/>
                </a:lnTo>
                <a:lnTo>
                  <a:pt x="1828" y="152402"/>
                </a:lnTo>
                <a:lnTo>
                  <a:pt x="1219" y="157481"/>
                </a:lnTo>
                <a:lnTo>
                  <a:pt x="812" y="161714"/>
                </a:lnTo>
                <a:lnTo>
                  <a:pt x="542" y="165383"/>
                </a:lnTo>
                <a:lnTo>
                  <a:pt x="361" y="168675"/>
                </a:lnTo>
                <a:lnTo>
                  <a:pt x="160" y="174591"/>
                </a:lnTo>
                <a:lnTo>
                  <a:pt x="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InkAnnotation292"/>
          <p:cNvSpPr/>
          <p:nvPr/>
        </p:nvSpPr>
        <p:spPr>
          <a:xfrm>
            <a:off x="1020600" y="5241960"/>
            <a:ext cx="160560" cy="190440"/>
          </a:xfrm>
          <a:custGeom>
            <a:avLst/>
            <a:gdLst>
              <a:gd name="textAreaLeft" fmla="*/ 0 w 160560"/>
              <a:gd name="textAreaRight" fmla="*/ 160920 w 160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59656" h="190501">
                <a:moveTo>
                  <a:pt x="15240" y="0"/>
                </a:moveTo>
                <a:lnTo>
                  <a:pt x="150414" y="0"/>
                </a:lnTo>
                <a:lnTo>
                  <a:pt x="153775" y="2257"/>
                </a:lnTo>
                <a:lnTo>
                  <a:pt x="159655" y="7306"/>
                </a:lnTo>
                <a:lnTo>
                  <a:pt x="155867" y="11572"/>
                </a:lnTo>
                <a:lnTo>
                  <a:pt x="154711" y="13641"/>
                </a:lnTo>
                <a:lnTo>
                  <a:pt x="153427" y="18198"/>
                </a:lnTo>
                <a:lnTo>
                  <a:pt x="150599" y="23046"/>
                </a:lnTo>
                <a:lnTo>
                  <a:pt x="148659" y="25524"/>
                </a:lnTo>
                <a:lnTo>
                  <a:pt x="145673" y="28023"/>
                </a:lnTo>
                <a:lnTo>
                  <a:pt x="141989" y="30535"/>
                </a:lnTo>
                <a:lnTo>
                  <a:pt x="137839" y="33056"/>
                </a:lnTo>
                <a:lnTo>
                  <a:pt x="133379" y="36431"/>
                </a:lnTo>
                <a:lnTo>
                  <a:pt x="128713" y="40374"/>
                </a:lnTo>
                <a:lnTo>
                  <a:pt x="123909" y="44696"/>
                </a:lnTo>
                <a:lnTo>
                  <a:pt x="114055" y="54014"/>
                </a:lnTo>
                <a:lnTo>
                  <a:pt x="109057" y="58870"/>
                </a:lnTo>
                <a:lnTo>
                  <a:pt x="103185" y="63799"/>
                </a:lnTo>
                <a:lnTo>
                  <a:pt x="96730" y="68779"/>
                </a:lnTo>
                <a:lnTo>
                  <a:pt x="89886" y="73793"/>
                </a:lnTo>
                <a:lnTo>
                  <a:pt x="83631" y="78829"/>
                </a:lnTo>
                <a:lnTo>
                  <a:pt x="77768" y="83879"/>
                </a:lnTo>
                <a:lnTo>
                  <a:pt x="72165" y="88939"/>
                </a:lnTo>
                <a:lnTo>
                  <a:pt x="66737" y="94853"/>
                </a:lnTo>
                <a:lnTo>
                  <a:pt x="61425" y="101335"/>
                </a:lnTo>
                <a:lnTo>
                  <a:pt x="56190" y="108197"/>
                </a:lnTo>
                <a:lnTo>
                  <a:pt x="51007" y="114465"/>
                </a:lnTo>
                <a:lnTo>
                  <a:pt x="45858" y="120336"/>
                </a:lnTo>
                <a:lnTo>
                  <a:pt x="40732" y="125944"/>
                </a:lnTo>
                <a:lnTo>
                  <a:pt x="30521" y="136691"/>
                </a:lnTo>
                <a:lnTo>
                  <a:pt x="25427" y="141927"/>
                </a:lnTo>
                <a:lnTo>
                  <a:pt x="21185" y="147111"/>
                </a:lnTo>
                <a:lnTo>
                  <a:pt x="17510" y="152261"/>
                </a:lnTo>
                <a:lnTo>
                  <a:pt x="14213" y="157388"/>
                </a:lnTo>
                <a:lnTo>
                  <a:pt x="11169" y="162498"/>
                </a:lnTo>
                <a:lnTo>
                  <a:pt x="8293" y="167599"/>
                </a:lnTo>
                <a:lnTo>
                  <a:pt x="5528" y="172692"/>
                </a:lnTo>
                <a:lnTo>
                  <a:pt x="3686" y="176935"/>
                </a:lnTo>
                <a:lnTo>
                  <a:pt x="2457" y="180609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InkAnnotation293"/>
          <p:cNvSpPr/>
          <p:nvPr/>
        </p:nvSpPr>
        <p:spPr>
          <a:xfrm>
            <a:off x="1020600" y="5321160"/>
            <a:ext cx="144720" cy="51120"/>
          </a:xfrm>
          <a:custGeom>
            <a:avLst/>
            <a:gdLst>
              <a:gd name="textAreaLeft" fmla="*/ 0 w 144720"/>
              <a:gd name="textAreaRight" fmla="*/ 145080 w 1447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144781" h="50111">
                <a:moveTo>
                  <a:pt x="0" y="4390"/>
                </a:moveTo>
                <a:lnTo>
                  <a:pt x="0" y="0"/>
                </a:lnTo>
                <a:lnTo>
                  <a:pt x="0" y="1875"/>
                </a:lnTo>
                <a:lnTo>
                  <a:pt x="847" y="2713"/>
                </a:lnTo>
                <a:lnTo>
                  <a:pt x="2258" y="3272"/>
                </a:lnTo>
                <a:lnTo>
                  <a:pt x="6084" y="3893"/>
                </a:lnTo>
                <a:lnTo>
                  <a:pt x="10606" y="4169"/>
                </a:lnTo>
                <a:lnTo>
                  <a:pt x="13844" y="5089"/>
                </a:lnTo>
                <a:lnTo>
                  <a:pt x="17696" y="6550"/>
                </a:lnTo>
                <a:lnTo>
                  <a:pt x="21957" y="8370"/>
                </a:lnTo>
                <a:lnTo>
                  <a:pt x="31208" y="12650"/>
                </a:lnTo>
                <a:lnTo>
                  <a:pt x="36045" y="14977"/>
                </a:lnTo>
                <a:lnTo>
                  <a:pt x="41810" y="17375"/>
                </a:lnTo>
                <a:lnTo>
                  <a:pt x="48194" y="19820"/>
                </a:lnTo>
                <a:lnTo>
                  <a:pt x="62060" y="24794"/>
                </a:lnTo>
                <a:lnTo>
                  <a:pt x="121963" y="45034"/>
                </a:lnTo>
                <a:lnTo>
                  <a:pt x="127875" y="46726"/>
                </a:lnTo>
                <a:lnTo>
                  <a:pt x="132664" y="47854"/>
                </a:lnTo>
                <a:lnTo>
                  <a:pt x="144780" y="5011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InkAnnotation294"/>
          <p:cNvSpPr/>
          <p:nvPr/>
        </p:nvSpPr>
        <p:spPr>
          <a:xfrm>
            <a:off x="1820880" y="5280120"/>
            <a:ext cx="46080" cy="160200"/>
          </a:xfrm>
          <a:custGeom>
            <a:avLst/>
            <a:gdLst>
              <a:gd name="textAreaLeft" fmla="*/ 0 w 46080"/>
              <a:gd name="textAreaRight" fmla="*/ 46440 w 46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45720" y="14651"/>
                </a:lnTo>
                <a:lnTo>
                  <a:pt x="44874" y="18234"/>
                </a:lnTo>
                <a:lnTo>
                  <a:pt x="43462" y="21469"/>
                </a:lnTo>
                <a:lnTo>
                  <a:pt x="41675" y="24473"/>
                </a:lnTo>
                <a:lnTo>
                  <a:pt x="40483" y="28168"/>
                </a:lnTo>
                <a:lnTo>
                  <a:pt x="39689" y="32326"/>
                </a:lnTo>
                <a:lnTo>
                  <a:pt x="39159" y="36791"/>
                </a:lnTo>
                <a:lnTo>
                  <a:pt x="37960" y="41460"/>
                </a:lnTo>
                <a:lnTo>
                  <a:pt x="36313" y="46267"/>
                </a:lnTo>
                <a:lnTo>
                  <a:pt x="34369" y="51165"/>
                </a:lnTo>
                <a:lnTo>
                  <a:pt x="32226" y="56123"/>
                </a:lnTo>
                <a:lnTo>
                  <a:pt x="27587" y="66148"/>
                </a:lnTo>
                <a:lnTo>
                  <a:pt x="20216" y="81312"/>
                </a:lnTo>
                <a:lnTo>
                  <a:pt x="18557" y="87228"/>
                </a:lnTo>
                <a:lnTo>
                  <a:pt x="17451" y="93712"/>
                </a:lnTo>
                <a:lnTo>
                  <a:pt x="16714" y="100575"/>
                </a:lnTo>
                <a:lnTo>
                  <a:pt x="15376" y="106843"/>
                </a:lnTo>
                <a:lnTo>
                  <a:pt x="13637" y="112715"/>
                </a:lnTo>
                <a:lnTo>
                  <a:pt x="11631" y="118324"/>
                </a:lnTo>
                <a:lnTo>
                  <a:pt x="9448" y="123756"/>
                </a:lnTo>
                <a:lnTo>
                  <a:pt x="7145" y="129070"/>
                </a:lnTo>
                <a:lnTo>
                  <a:pt x="4763" y="134307"/>
                </a:lnTo>
                <a:lnTo>
                  <a:pt x="3176" y="138644"/>
                </a:lnTo>
                <a:lnTo>
                  <a:pt x="2117" y="142383"/>
                </a:lnTo>
                <a:lnTo>
                  <a:pt x="1411" y="145722"/>
                </a:lnTo>
                <a:lnTo>
                  <a:pt x="941" y="148795"/>
                </a:lnTo>
                <a:lnTo>
                  <a:pt x="627" y="15169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InkAnnotation295"/>
          <p:cNvSpPr/>
          <p:nvPr/>
        </p:nvSpPr>
        <p:spPr>
          <a:xfrm>
            <a:off x="1943280" y="531828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InkAnnotation296"/>
          <p:cNvSpPr/>
          <p:nvPr/>
        </p:nvSpPr>
        <p:spPr>
          <a:xfrm>
            <a:off x="1959120" y="5318280"/>
            <a:ext cx="136440" cy="168120"/>
          </a:xfrm>
          <a:custGeom>
            <a:avLst/>
            <a:gdLst>
              <a:gd name="textAreaLeft" fmla="*/ 0 w 136440"/>
              <a:gd name="textAreaRight" fmla="*/ 136800 w 136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36835" h="167641">
                <a:moveTo>
                  <a:pt x="0" y="15240"/>
                </a:moveTo>
                <a:lnTo>
                  <a:pt x="0" y="7621"/>
                </a:lnTo>
                <a:lnTo>
                  <a:pt x="4046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9"/>
                </a:lnTo>
                <a:lnTo>
                  <a:pt x="21958" y="1059"/>
                </a:lnTo>
                <a:lnTo>
                  <a:pt x="25645" y="706"/>
                </a:lnTo>
                <a:lnTo>
                  <a:pt x="28950" y="471"/>
                </a:lnTo>
                <a:lnTo>
                  <a:pt x="32000" y="314"/>
                </a:lnTo>
                <a:lnTo>
                  <a:pt x="39905" y="139"/>
                </a:lnTo>
                <a:lnTo>
                  <a:pt x="136061" y="0"/>
                </a:lnTo>
                <a:lnTo>
                  <a:pt x="136428" y="846"/>
                </a:lnTo>
                <a:lnTo>
                  <a:pt x="136834" y="4045"/>
                </a:lnTo>
                <a:lnTo>
                  <a:pt x="136096" y="5237"/>
                </a:lnTo>
                <a:lnTo>
                  <a:pt x="134758" y="6031"/>
                </a:lnTo>
                <a:lnTo>
                  <a:pt x="133018" y="6561"/>
                </a:lnTo>
                <a:lnTo>
                  <a:pt x="131859" y="7760"/>
                </a:lnTo>
                <a:lnTo>
                  <a:pt x="131086" y="9407"/>
                </a:lnTo>
                <a:lnTo>
                  <a:pt x="129380" y="14341"/>
                </a:lnTo>
                <a:lnTo>
                  <a:pt x="127740" y="18027"/>
                </a:lnTo>
                <a:lnTo>
                  <a:pt x="125800" y="22178"/>
                </a:lnTo>
                <a:lnTo>
                  <a:pt x="123660" y="25792"/>
                </a:lnTo>
                <a:lnTo>
                  <a:pt x="121387" y="29048"/>
                </a:lnTo>
                <a:lnTo>
                  <a:pt x="119024" y="32065"/>
                </a:lnTo>
                <a:lnTo>
                  <a:pt x="115756" y="35771"/>
                </a:lnTo>
                <a:lnTo>
                  <a:pt x="107610" y="44403"/>
                </a:lnTo>
                <a:lnTo>
                  <a:pt x="103067" y="48228"/>
                </a:lnTo>
                <a:lnTo>
                  <a:pt x="98345" y="51626"/>
                </a:lnTo>
                <a:lnTo>
                  <a:pt x="93503" y="54737"/>
                </a:lnTo>
                <a:lnTo>
                  <a:pt x="89429" y="58505"/>
                </a:lnTo>
                <a:lnTo>
                  <a:pt x="85866" y="62710"/>
                </a:lnTo>
                <a:lnTo>
                  <a:pt x="82644" y="67207"/>
                </a:lnTo>
                <a:lnTo>
                  <a:pt x="77956" y="71898"/>
                </a:lnTo>
                <a:lnTo>
                  <a:pt x="72291" y="76718"/>
                </a:lnTo>
                <a:lnTo>
                  <a:pt x="65974" y="81626"/>
                </a:lnTo>
                <a:lnTo>
                  <a:pt x="60069" y="86591"/>
                </a:lnTo>
                <a:lnTo>
                  <a:pt x="54439" y="91594"/>
                </a:lnTo>
                <a:lnTo>
                  <a:pt x="44515" y="100822"/>
                </a:lnTo>
                <a:lnTo>
                  <a:pt x="37283" y="107745"/>
                </a:lnTo>
                <a:lnTo>
                  <a:pt x="34169" y="111624"/>
                </a:lnTo>
                <a:lnTo>
                  <a:pt x="31246" y="115902"/>
                </a:lnTo>
                <a:lnTo>
                  <a:pt x="28451" y="120448"/>
                </a:lnTo>
                <a:lnTo>
                  <a:pt x="24894" y="124326"/>
                </a:lnTo>
                <a:lnTo>
                  <a:pt x="20830" y="127757"/>
                </a:lnTo>
                <a:lnTo>
                  <a:pt x="16426" y="130891"/>
                </a:lnTo>
                <a:lnTo>
                  <a:pt x="12644" y="133828"/>
                </a:lnTo>
                <a:lnTo>
                  <a:pt x="9277" y="136632"/>
                </a:lnTo>
                <a:lnTo>
                  <a:pt x="6184" y="139348"/>
                </a:lnTo>
                <a:lnTo>
                  <a:pt x="4123" y="142005"/>
                </a:lnTo>
                <a:lnTo>
                  <a:pt x="1833" y="147216"/>
                </a:lnTo>
                <a:lnTo>
                  <a:pt x="815" y="152353"/>
                </a:lnTo>
                <a:lnTo>
                  <a:pt x="362" y="157459"/>
                </a:lnTo>
                <a:lnTo>
                  <a:pt x="161" y="162552"/>
                </a:lnTo>
                <a:lnTo>
                  <a:pt x="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InkAnnotation297"/>
          <p:cNvSpPr/>
          <p:nvPr/>
        </p:nvSpPr>
        <p:spPr>
          <a:xfrm>
            <a:off x="1973160" y="5380200"/>
            <a:ext cx="114480" cy="29880"/>
          </a:xfrm>
          <a:custGeom>
            <a:avLst/>
            <a:gdLst>
              <a:gd name="textAreaLeft" fmla="*/ 0 w 114480"/>
              <a:gd name="textAreaRight" fmla="*/ 114840 w 1144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14301" h="30481">
                <a:moveTo>
                  <a:pt x="0" y="0"/>
                </a:moveTo>
                <a:lnTo>
                  <a:pt x="13121" y="0"/>
                </a:lnTo>
                <a:lnTo>
                  <a:pt x="16368" y="847"/>
                </a:lnTo>
                <a:lnTo>
                  <a:pt x="26748" y="4045"/>
                </a:lnTo>
                <a:lnTo>
                  <a:pt x="91541" y="25439"/>
                </a:lnTo>
                <a:lnTo>
                  <a:pt x="97434" y="27120"/>
                </a:lnTo>
                <a:lnTo>
                  <a:pt x="102209" y="28240"/>
                </a:lnTo>
                <a:lnTo>
                  <a:pt x="1143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InkAnnotation298"/>
          <p:cNvSpPr/>
          <p:nvPr/>
        </p:nvSpPr>
        <p:spPr>
          <a:xfrm>
            <a:off x="1050840" y="5646600"/>
            <a:ext cx="252360" cy="19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51461" h="198122">
                <a:moveTo>
                  <a:pt x="251460" y="0"/>
                </a:moveTo>
                <a:lnTo>
                  <a:pt x="247415" y="4045"/>
                </a:lnTo>
                <a:lnTo>
                  <a:pt x="240913" y="8289"/>
                </a:lnTo>
                <a:lnTo>
                  <a:pt x="236809" y="10606"/>
                </a:lnTo>
                <a:lnTo>
                  <a:pt x="233226" y="13844"/>
                </a:lnTo>
                <a:lnTo>
                  <a:pt x="229991" y="17696"/>
                </a:lnTo>
                <a:lnTo>
                  <a:pt x="226987" y="21958"/>
                </a:lnTo>
                <a:lnTo>
                  <a:pt x="223291" y="25645"/>
                </a:lnTo>
                <a:lnTo>
                  <a:pt x="219134" y="28950"/>
                </a:lnTo>
                <a:lnTo>
                  <a:pt x="214669" y="32000"/>
                </a:lnTo>
                <a:lnTo>
                  <a:pt x="210000" y="35727"/>
                </a:lnTo>
                <a:lnTo>
                  <a:pt x="205193" y="39905"/>
                </a:lnTo>
                <a:lnTo>
                  <a:pt x="200296" y="44383"/>
                </a:lnTo>
                <a:lnTo>
                  <a:pt x="190338" y="53875"/>
                </a:lnTo>
                <a:lnTo>
                  <a:pt x="185312" y="58777"/>
                </a:lnTo>
                <a:lnTo>
                  <a:pt x="179421" y="63738"/>
                </a:lnTo>
                <a:lnTo>
                  <a:pt x="172954" y="68739"/>
                </a:lnTo>
                <a:lnTo>
                  <a:pt x="166103" y="73766"/>
                </a:lnTo>
                <a:lnTo>
                  <a:pt x="159842" y="78811"/>
                </a:lnTo>
                <a:lnTo>
                  <a:pt x="153974" y="83867"/>
                </a:lnTo>
                <a:lnTo>
                  <a:pt x="148369" y="88932"/>
                </a:lnTo>
                <a:lnTo>
                  <a:pt x="142093" y="94001"/>
                </a:lnTo>
                <a:lnTo>
                  <a:pt x="135369" y="99074"/>
                </a:lnTo>
                <a:lnTo>
                  <a:pt x="121124" y="109226"/>
                </a:lnTo>
                <a:lnTo>
                  <a:pt x="83715" y="134621"/>
                </a:lnTo>
                <a:lnTo>
                  <a:pt x="76977" y="139702"/>
                </a:lnTo>
                <a:lnTo>
                  <a:pt x="70791" y="144781"/>
                </a:lnTo>
                <a:lnTo>
                  <a:pt x="64974" y="149860"/>
                </a:lnTo>
                <a:lnTo>
                  <a:pt x="58556" y="154941"/>
                </a:lnTo>
                <a:lnTo>
                  <a:pt x="51737" y="160021"/>
                </a:lnTo>
                <a:lnTo>
                  <a:pt x="44652" y="165100"/>
                </a:lnTo>
                <a:lnTo>
                  <a:pt x="38235" y="169334"/>
                </a:lnTo>
                <a:lnTo>
                  <a:pt x="32263" y="173003"/>
                </a:lnTo>
                <a:lnTo>
                  <a:pt x="26589" y="176295"/>
                </a:lnTo>
                <a:lnTo>
                  <a:pt x="15769" y="182212"/>
                </a:lnTo>
                <a:lnTo>
                  <a:pt x="10512" y="184974"/>
                </a:lnTo>
                <a:lnTo>
                  <a:pt x="7008" y="187663"/>
                </a:lnTo>
                <a:lnTo>
                  <a:pt x="4672" y="190302"/>
                </a:lnTo>
                <a:lnTo>
                  <a:pt x="0" y="1981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InkAnnotation299"/>
          <p:cNvSpPr/>
          <p:nvPr/>
        </p:nvSpPr>
        <p:spPr>
          <a:xfrm>
            <a:off x="1104840" y="5676840"/>
            <a:ext cx="198360" cy="1144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98121" h="114301">
                <a:moveTo>
                  <a:pt x="0" y="0"/>
                </a:moveTo>
                <a:lnTo>
                  <a:pt x="29485" y="29484"/>
                </a:lnTo>
                <a:lnTo>
                  <a:pt x="34896" y="33203"/>
                </a:lnTo>
                <a:lnTo>
                  <a:pt x="41044" y="36529"/>
                </a:lnTo>
                <a:lnTo>
                  <a:pt x="47683" y="39593"/>
                </a:lnTo>
                <a:lnTo>
                  <a:pt x="53802" y="43328"/>
                </a:lnTo>
                <a:lnTo>
                  <a:pt x="59574" y="47512"/>
                </a:lnTo>
                <a:lnTo>
                  <a:pt x="65116" y="51995"/>
                </a:lnTo>
                <a:lnTo>
                  <a:pt x="71351" y="55830"/>
                </a:lnTo>
                <a:lnTo>
                  <a:pt x="78047" y="59233"/>
                </a:lnTo>
                <a:lnTo>
                  <a:pt x="85052" y="62349"/>
                </a:lnTo>
                <a:lnTo>
                  <a:pt x="92261" y="66120"/>
                </a:lnTo>
                <a:lnTo>
                  <a:pt x="99608" y="70327"/>
                </a:lnTo>
                <a:lnTo>
                  <a:pt x="107045" y="74824"/>
                </a:lnTo>
                <a:lnTo>
                  <a:pt x="114543" y="78670"/>
                </a:lnTo>
                <a:lnTo>
                  <a:pt x="122082" y="82079"/>
                </a:lnTo>
                <a:lnTo>
                  <a:pt x="129648" y="85200"/>
                </a:lnTo>
                <a:lnTo>
                  <a:pt x="136385" y="88126"/>
                </a:lnTo>
                <a:lnTo>
                  <a:pt x="148387" y="93637"/>
                </a:lnTo>
                <a:lnTo>
                  <a:pt x="164664" y="101498"/>
                </a:lnTo>
                <a:lnTo>
                  <a:pt x="169889" y="103226"/>
                </a:lnTo>
                <a:lnTo>
                  <a:pt x="175066" y="104377"/>
                </a:lnTo>
                <a:lnTo>
                  <a:pt x="180211" y="105145"/>
                </a:lnTo>
                <a:lnTo>
                  <a:pt x="184487" y="106503"/>
                </a:lnTo>
                <a:lnTo>
                  <a:pt x="188185" y="108256"/>
                </a:lnTo>
                <a:lnTo>
                  <a:pt x="19812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InkAnnotation300"/>
          <p:cNvSpPr/>
          <p:nvPr/>
        </p:nvSpPr>
        <p:spPr>
          <a:xfrm>
            <a:off x="1432080" y="5707080"/>
            <a:ext cx="145800" cy="792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0"/>
                </a:moveTo>
                <a:lnTo>
                  <a:pt x="15396" y="0"/>
                </a:lnTo>
                <a:lnTo>
                  <a:pt x="19578" y="846"/>
                </a:lnTo>
                <a:lnTo>
                  <a:pt x="24059" y="2258"/>
                </a:lnTo>
                <a:lnTo>
                  <a:pt x="28739" y="4045"/>
                </a:lnTo>
                <a:lnTo>
                  <a:pt x="33553" y="5237"/>
                </a:lnTo>
                <a:lnTo>
                  <a:pt x="38455" y="6032"/>
                </a:lnTo>
                <a:lnTo>
                  <a:pt x="43417" y="6561"/>
                </a:lnTo>
                <a:lnTo>
                  <a:pt x="49265" y="6914"/>
                </a:lnTo>
                <a:lnTo>
                  <a:pt x="62535" y="7306"/>
                </a:lnTo>
                <a:lnTo>
                  <a:pt x="96212" y="7593"/>
                </a:lnTo>
                <a:lnTo>
                  <a:pt x="1447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InkAnnotation301"/>
          <p:cNvSpPr/>
          <p:nvPr/>
        </p:nvSpPr>
        <p:spPr>
          <a:xfrm>
            <a:off x="1393920" y="5775480"/>
            <a:ext cx="198360" cy="15840"/>
          </a:xfrm>
          <a:custGeom>
            <a:avLst/>
            <a:gdLst>
              <a:gd name="textAreaLeft" fmla="*/ 0 w 198360"/>
              <a:gd name="textAreaRight" fmla="*/ 198720 w 198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8121" h="15241">
                <a:moveTo>
                  <a:pt x="0" y="0"/>
                </a:moveTo>
                <a:lnTo>
                  <a:pt x="21957" y="0"/>
                </a:lnTo>
                <a:lnTo>
                  <a:pt x="27338" y="846"/>
                </a:lnTo>
                <a:lnTo>
                  <a:pt x="33466" y="2257"/>
                </a:lnTo>
                <a:lnTo>
                  <a:pt x="40090" y="4045"/>
                </a:lnTo>
                <a:lnTo>
                  <a:pt x="47047" y="5237"/>
                </a:lnTo>
                <a:lnTo>
                  <a:pt x="54225" y="6032"/>
                </a:lnTo>
                <a:lnTo>
                  <a:pt x="61550" y="6561"/>
                </a:lnTo>
                <a:lnTo>
                  <a:pt x="68973" y="6914"/>
                </a:lnTo>
                <a:lnTo>
                  <a:pt x="83995" y="7306"/>
                </a:lnTo>
                <a:lnTo>
                  <a:pt x="122995" y="7593"/>
                </a:lnTo>
                <a:lnTo>
                  <a:pt x="129410" y="8449"/>
                </a:lnTo>
                <a:lnTo>
                  <a:pt x="135380" y="9866"/>
                </a:lnTo>
                <a:lnTo>
                  <a:pt x="141054" y="11657"/>
                </a:lnTo>
                <a:lnTo>
                  <a:pt x="146529" y="12852"/>
                </a:lnTo>
                <a:lnTo>
                  <a:pt x="151873" y="13647"/>
                </a:lnTo>
                <a:lnTo>
                  <a:pt x="157128" y="14178"/>
                </a:lnTo>
                <a:lnTo>
                  <a:pt x="161479" y="14533"/>
                </a:lnTo>
                <a:lnTo>
                  <a:pt x="165226" y="14768"/>
                </a:lnTo>
                <a:lnTo>
                  <a:pt x="168571" y="14926"/>
                </a:lnTo>
                <a:lnTo>
                  <a:pt x="176803" y="15101"/>
                </a:lnTo>
                <a:lnTo>
                  <a:pt x="1981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InkAnnotation302"/>
          <p:cNvSpPr/>
          <p:nvPr/>
        </p:nvSpPr>
        <p:spPr>
          <a:xfrm>
            <a:off x="1668600" y="5638680"/>
            <a:ext cx="37800" cy="206640"/>
          </a:xfrm>
          <a:custGeom>
            <a:avLst/>
            <a:gdLst>
              <a:gd name="textAreaLeft" fmla="*/ 0 w 37800"/>
              <a:gd name="textAreaRight" fmla="*/ 38160 w 378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8101" h="205742">
                <a:moveTo>
                  <a:pt x="38100" y="0"/>
                </a:moveTo>
                <a:lnTo>
                  <a:pt x="38100" y="17912"/>
                </a:lnTo>
                <a:lnTo>
                  <a:pt x="37253" y="21255"/>
                </a:lnTo>
                <a:lnTo>
                  <a:pt x="35842" y="25176"/>
                </a:lnTo>
                <a:lnTo>
                  <a:pt x="34055" y="29485"/>
                </a:lnTo>
                <a:lnTo>
                  <a:pt x="32863" y="34896"/>
                </a:lnTo>
                <a:lnTo>
                  <a:pt x="32069" y="41044"/>
                </a:lnTo>
                <a:lnTo>
                  <a:pt x="31539" y="47683"/>
                </a:lnTo>
                <a:lnTo>
                  <a:pt x="30340" y="53802"/>
                </a:lnTo>
                <a:lnTo>
                  <a:pt x="28693" y="59575"/>
                </a:lnTo>
                <a:lnTo>
                  <a:pt x="19968" y="85052"/>
                </a:lnTo>
                <a:lnTo>
                  <a:pt x="18391" y="92261"/>
                </a:lnTo>
                <a:lnTo>
                  <a:pt x="17341" y="99607"/>
                </a:lnTo>
                <a:lnTo>
                  <a:pt x="16641" y="107045"/>
                </a:lnTo>
                <a:lnTo>
                  <a:pt x="15327" y="114543"/>
                </a:lnTo>
                <a:lnTo>
                  <a:pt x="13605" y="122082"/>
                </a:lnTo>
                <a:lnTo>
                  <a:pt x="11610" y="129648"/>
                </a:lnTo>
                <a:lnTo>
                  <a:pt x="9433" y="136385"/>
                </a:lnTo>
                <a:lnTo>
                  <a:pt x="7136" y="142571"/>
                </a:lnTo>
                <a:lnTo>
                  <a:pt x="4757" y="148387"/>
                </a:lnTo>
                <a:lnTo>
                  <a:pt x="3172" y="153958"/>
                </a:lnTo>
                <a:lnTo>
                  <a:pt x="2114" y="159366"/>
                </a:lnTo>
                <a:lnTo>
                  <a:pt x="1410" y="164664"/>
                </a:lnTo>
                <a:lnTo>
                  <a:pt x="940" y="169890"/>
                </a:lnTo>
                <a:lnTo>
                  <a:pt x="627" y="175066"/>
                </a:lnTo>
                <a:lnTo>
                  <a:pt x="279" y="185334"/>
                </a:lnTo>
                <a:lnTo>
                  <a:pt x="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InkAnnotation303"/>
          <p:cNvSpPr/>
          <p:nvPr/>
        </p:nvSpPr>
        <p:spPr>
          <a:xfrm>
            <a:off x="1790640" y="5668920"/>
            <a:ext cx="133560" cy="227160"/>
          </a:xfrm>
          <a:custGeom>
            <a:avLst/>
            <a:gdLst>
              <a:gd name="textAreaLeft" fmla="*/ 0 w 133560"/>
              <a:gd name="textAreaRight" fmla="*/ 133920 w 1335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32337" h="226611">
                <a:moveTo>
                  <a:pt x="90956" y="7620"/>
                </a:moveTo>
                <a:lnTo>
                  <a:pt x="86911" y="7620"/>
                </a:lnTo>
                <a:lnTo>
                  <a:pt x="84873" y="8466"/>
                </a:lnTo>
                <a:lnTo>
                  <a:pt x="82668" y="9878"/>
                </a:lnTo>
                <a:lnTo>
                  <a:pt x="80350" y="11665"/>
                </a:lnTo>
                <a:lnTo>
                  <a:pt x="77959" y="13703"/>
                </a:lnTo>
                <a:lnTo>
                  <a:pt x="75518" y="15909"/>
                </a:lnTo>
                <a:lnTo>
                  <a:pt x="73044" y="18226"/>
                </a:lnTo>
                <a:lnTo>
                  <a:pt x="70548" y="22311"/>
                </a:lnTo>
                <a:lnTo>
                  <a:pt x="68037" y="27574"/>
                </a:lnTo>
                <a:lnTo>
                  <a:pt x="65517" y="33623"/>
                </a:lnTo>
                <a:lnTo>
                  <a:pt x="62143" y="39349"/>
                </a:lnTo>
                <a:lnTo>
                  <a:pt x="58201" y="44858"/>
                </a:lnTo>
                <a:lnTo>
                  <a:pt x="53880" y="50226"/>
                </a:lnTo>
                <a:lnTo>
                  <a:pt x="49305" y="56344"/>
                </a:lnTo>
                <a:lnTo>
                  <a:pt x="39707" y="69915"/>
                </a:lnTo>
                <a:lnTo>
                  <a:pt x="24783" y="91835"/>
                </a:lnTo>
                <a:lnTo>
                  <a:pt x="20594" y="98476"/>
                </a:lnTo>
                <a:lnTo>
                  <a:pt x="16955" y="104598"/>
                </a:lnTo>
                <a:lnTo>
                  <a:pt x="13682" y="110372"/>
                </a:lnTo>
                <a:lnTo>
                  <a:pt x="10653" y="116761"/>
                </a:lnTo>
                <a:lnTo>
                  <a:pt x="7788" y="123561"/>
                </a:lnTo>
                <a:lnTo>
                  <a:pt x="5031" y="130634"/>
                </a:lnTo>
                <a:lnTo>
                  <a:pt x="3192" y="137889"/>
                </a:lnTo>
                <a:lnTo>
                  <a:pt x="1967" y="145265"/>
                </a:lnTo>
                <a:lnTo>
                  <a:pt x="1150" y="152724"/>
                </a:lnTo>
                <a:lnTo>
                  <a:pt x="605" y="160236"/>
                </a:lnTo>
                <a:lnTo>
                  <a:pt x="243" y="167784"/>
                </a:lnTo>
                <a:lnTo>
                  <a:pt x="0" y="175355"/>
                </a:lnTo>
                <a:lnTo>
                  <a:pt x="686" y="182097"/>
                </a:lnTo>
                <a:lnTo>
                  <a:pt x="1989" y="188285"/>
                </a:lnTo>
                <a:lnTo>
                  <a:pt x="3705" y="194103"/>
                </a:lnTo>
                <a:lnTo>
                  <a:pt x="6542" y="199676"/>
                </a:lnTo>
                <a:lnTo>
                  <a:pt x="10127" y="205083"/>
                </a:lnTo>
                <a:lnTo>
                  <a:pt x="14210" y="210382"/>
                </a:lnTo>
                <a:lnTo>
                  <a:pt x="19472" y="214762"/>
                </a:lnTo>
                <a:lnTo>
                  <a:pt x="25520" y="218528"/>
                </a:lnTo>
                <a:lnTo>
                  <a:pt x="32092" y="221885"/>
                </a:lnTo>
                <a:lnTo>
                  <a:pt x="38167" y="224123"/>
                </a:lnTo>
                <a:lnTo>
                  <a:pt x="43910" y="225616"/>
                </a:lnTo>
                <a:lnTo>
                  <a:pt x="49432" y="226610"/>
                </a:lnTo>
                <a:lnTo>
                  <a:pt x="54807" y="225580"/>
                </a:lnTo>
                <a:lnTo>
                  <a:pt x="60083" y="223200"/>
                </a:lnTo>
                <a:lnTo>
                  <a:pt x="71308" y="216039"/>
                </a:lnTo>
                <a:lnTo>
                  <a:pt x="84764" y="207213"/>
                </a:lnTo>
                <a:lnTo>
                  <a:pt x="91061" y="201642"/>
                </a:lnTo>
                <a:lnTo>
                  <a:pt x="96953" y="195388"/>
                </a:lnTo>
                <a:lnTo>
                  <a:pt x="102574" y="188678"/>
                </a:lnTo>
                <a:lnTo>
                  <a:pt x="107168" y="180819"/>
                </a:lnTo>
                <a:lnTo>
                  <a:pt x="111077" y="172193"/>
                </a:lnTo>
                <a:lnTo>
                  <a:pt x="117679" y="154423"/>
                </a:lnTo>
                <a:lnTo>
                  <a:pt x="123435" y="138059"/>
                </a:lnTo>
                <a:lnTo>
                  <a:pt x="126155" y="128446"/>
                </a:lnTo>
                <a:lnTo>
                  <a:pt x="128815" y="117804"/>
                </a:lnTo>
                <a:lnTo>
                  <a:pt x="131436" y="106476"/>
                </a:lnTo>
                <a:lnTo>
                  <a:pt x="132336" y="96384"/>
                </a:lnTo>
                <a:lnTo>
                  <a:pt x="132089" y="87116"/>
                </a:lnTo>
                <a:lnTo>
                  <a:pt x="131078" y="78397"/>
                </a:lnTo>
                <a:lnTo>
                  <a:pt x="129557" y="70045"/>
                </a:lnTo>
                <a:lnTo>
                  <a:pt x="127697" y="61936"/>
                </a:lnTo>
                <a:lnTo>
                  <a:pt x="125610" y="53992"/>
                </a:lnTo>
                <a:lnTo>
                  <a:pt x="124219" y="47001"/>
                </a:lnTo>
                <a:lnTo>
                  <a:pt x="123291" y="40647"/>
                </a:lnTo>
                <a:lnTo>
                  <a:pt x="122673" y="34718"/>
                </a:lnTo>
                <a:lnTo>
                  <a:pt x="121414" y="29072"/>
                </a:lnTo>
                <a:lnTo>
                  <a:pt x="119728" y="23615"/>
                </a:lnTo>
                <a:lnTo>
                  <a:pt x="117757" y="18283"/>
                </a:lnTo>
                <a:lnTo>
                  <a:pt x="115597" y="14729"/>
                </a:lnTo>
                <a:lnTo>
                  <a:pt x="113310" y="12359"/>
                </a:lnTo>
                <a:lnTo>
                  <a:pt x="110939" y="10779"/>
                </a:lnTo>
                <a:lnTo>
                  <a:pt x="108511" y="8879"/>
                </a:lnTo>
                <a:lnTo>
                  <a:pt x="106047" y="6767"/>
                </a:lnTo>
                <a:lnTo>
                  <a:pt x="9857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InkAnnotation304"/>
          <p:cNvSpPr/>
          <p:nvPr/>
        </p:nvSpPr>
        <p:spPr>
          <a:xfrm>
            <a:off x="5502240" y="2492280"/>
            <a:ext cx="479520" cy="928800"/>
          </a:xfrm>
          <a:custGeom>
            <a:avLst/>
            <a:gdLst>
              <a:gd name="textAreaLeft" fmla="*/ 0 w 479520"/>
              <a:gd name="textAreaRight" fmla="*/ 479880 w 479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478870" h="929641">
                <a:moveTo>
                  <a:pt x="75009" y="0"/>
                </a:moveTo>
                <a:lnTo>
                  <a:pt x="75009" y="4045"/>
                </a:lnTo>
                <a:lnTo>
                  <a:pt x="74162" y="6084"/>
                </a:lnTo>
                <a:lnTo>
                  <a:pt x="69772" y="12997"/>
                </a:lnTo>
                <a:lnTo>
                  <a:pt x="62362" y="34896"/>
                </a:lnTo>
                <a:lnTo>
                  <a:pt x="58023" y="61832"/>
                </a:lnTo>
                <a:lnTo>
                  <a:pt x="49374" y="86336"/>
                </a:lnTo>
                <a:lnTo>
                  <a:pt x="45219" y="95657"/>
                </a:lnTo>
                <a:lnTo>
                  <a:pt x="40602" y="117303"/>
                </a:lnTo>
                <a:lnTo>
                  <a:pt x="37704" y="141035"/>
                </a:lnTo>
                <a:lnTo>
                  <a:pt x="33593" y="165693"/>
                </a:lnTo>
                <a:lnTo>
                  <a:pt x="11488" y="290022"/>
                </a:lnTo>
                <a:lnTo>
                  <a:pt x="9802" y="305108"/>
                </a:lnTo>
                <a:lnTo>
                  <a:pt x="8678" y="320245"/>
                </a:lnTo>
                <a:lnTo>
                  <a:pt x="7928" y="335417"/>
                </a:lnTo>
                <a:lnTo>
                  <a:pt x="6582" y="350611"/>
                </a:lnTo>
                <a:lnTo>
                  <a:pt x="4837" y="365821"/>
                </a:lnTo>
                <a:lnTo>
                  <a:pt x="2828" y="381041"/>
                </a:lnTo>
                <a:lnTo>
                  <a:pt x="1488" y="396267"/>
                </a:lnTo>
                <a:lnTo>
                  <a:pt x="595" y="411498"/>
                </a:lnTo>
                <a:lnTo>
                  <a:pt x="0" y="426732"/>
                </a:lnTo>
                <a:lnTo>
                  <a:pt x="450" y="441968"/>
                </a:lnTo>
                <a:lnTo>
                  <a:pt x="1596" y="457205"/>
                </a:lnTo>
                <a:lnTo>
                  <a:pt x="3207" y="472444"/>
                </a:lnTo>
                <a:lnTo>
                  <a:pt x="7255" y="502922"/>
                </a:lnTo>
                <a:lnTo>
                  <a:pt x="16752" y="563880"/>
                </a:lnTo>
                <a:lnTo>
                  <a:pt x="20931" y="579120"/>
                </a:lnTo>
                <a:lnTo>
                  <a:pt x="26257" y="594360"/>
                </a:lnTo>
                <a:lnTo>
                  <a:pt x="32347" y="609600"/>
                </a:lnTo>
                <a:lnTo>
                  <a:pt x="45888" y="637823"/>
                </a:lnTo>
                <a:lnTo>
                  <a:pt x="53055" y="651275"/>
                </a:lnTo>
                <a:lnTo>
                  <a:pt x="61220" y="664477"/>
                </a:lnTo>
                <a:lnTo>
                  <a:pt x="70050" y="677511"/>
                </a:lnTo>
                <a:lnTo>
                  <a:pt x="79323" y="690434"/>
                </a:lnTo>
                <a:lnTo>
                  <a:pt x="98657" y="716082"/>
                </a:lnTo>
                <a:lnTo>
                  <a:pt x="108554" y="728848"/>
                </a:lnTo>
                <a:lnTo>
                  <a:pt x="119386" y="740745"/>
                </a:lnTo>
                <a:lnTo>
                  <a:pt x="130840" y="752063"/>
                </a:lnTo>
                <a:lnTo>
                  <a:pt x="142710" y="762996"/>
                </a:lnTo>
                <a:lnTo>
                  <a:pt x="155703" y="773670"/>
                </a:lnTo>
                <a:lnTo>
                  <a:pt x="169445" y="784174"/>
                </a:lnTo>
                <a:lnTo>
                  <a:pt x="183687" y="794563"/>
                </a:lnTo>
                <a:lnTo>
                  <a:pt x="213056" y="815137"/>
                </a:lnTo>
                <a:lnTo>
                  <a:pt x="228001" y="825365"/>
                </a:lnTo>
                <a:lnTo>
                  <a:pt x="243044" y="833876"/>
                </a:lnTo>
                <a:lnTo>
                  <a:pt x="258152" y="841244"/>
                </a:lnTo>
                <a:lnTo>
                  <a:pt x="339360" y="876701"/>
                </a:lnTo>
                <a:lnTo>
                  <a:pt x="371146" y="891718"/>
                </a:lnTo>
                <a:lnTo>
                  <a:pt x="387580" y="898432"/>
                </a:lnTo>
                <a:lnTo>
                  <a:pt x="404463" y="904601"/>
                </a:lnTo>
                <a:lnTo>
                  <a:pt x="478869" y="929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InkAnnotation305"/>
          <p:cNvSpPr/>
          <p:nvPr/>
        </p:nvSpPr>
        <p:spPr>
          <a:xfrm>
            <a:off x="6735600" y="2384280"/>
            <a:ext cx="160560" cy="930600"/>
          </a:xfrm>
          <a:custGeom>
            <a:avLst/>
            <a:gdLst>
              <a:gd name="textAreaLeft" fmla="*/ 0 w 160560"/>
              <a:gd name="textAreaRight" fmla="*/ 160920 w 160560"/>
              <a:gd name="textAreaTop" fmla="*/ 0 h 930600"/>
              <a:gd name="textAreaBottom" fmla="*/ 930960 h 930600"/>
            </a:gdLst>
            <a:ahLst/>
            <a:rect l="textAreaLeft" t="textAreaTop" r="textAreaRight" b="textAreaBottom"/>
            <a:pathLst>
              <a:path w="159538" h="929641">
                <a:moveTo>
                  <a:pt x="0" y="0"/>
                </a:moveTo>
                <a:lnTo>
                  <a:pt x="4046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8257" y="21255"/>
                </a:lnTo>
                <a:lnTo>
                  <a:pt x="15868" y="41044"/>
                </a:lnTo>
                <a:lnTo>
                  <a:pt x="25524" y="69162"/>
                </a:lnTo>
                <a:lnTo>
                  <a:pt x="28869" y="77434"/>
                </a:lnTo>
                <a:lnTo>
                  <a:pt x="32793" y="86336"/>
                </a:lnTo>
                <a:lnTo>
                  <a:pt x="41668" y="105258"/>
                </a:lnTo>
                <a:lnTo>
                  <a:pt x="51257" y="124957"/>
                </a:lnTo>
                <a:lnTo>
                  <a:pt x="56184" y="135798"/>
                </a:lnTo>
                <a:lnTo>
                  <a:pt x="71211" y="170435"/>
                </a:lnTo>
                <a:lnTo>
                  <a:pt x="81320" y="192025"/>
                </a:lnTo>
                <a:lnTo>
                  <a:pt x="86387" y="204217"/>
                </a:lnTo>
                <a:lnTo>
                  <a:pt x="91458" y="217424"/>
                </a:lnTo>
                <a:lnTo>
                  <a:pt x="96532" y="231310"/>
                </a:lnTo>
                <a:lnTo>
                  <a:pt x="100762" y="244800"/>
                </a:lnTo>
                <a:lnTo>
                  <a:pt x="104427" y="258027"/>
                </a:lnTo>
                <a:lnTo>
                  <a:pt x="107719" y="271078"/>
                </a:lnTo>
                <a:lnTo>
                  <a:pt x="111606" y="284858"/>
                </a:lnTo>
                <a:lnTo>
                  <a:pt x="134934" y="362570"/>
                </a:lnTo>
                <a:lnTo>
                  <a:pt x="139062" y="378873"/>
                </a:lnTo>
                <a:lnTo>
                  <a:pt x="142662" y="394822"/>
                </a:lnTo>
                <a:lnTo>
                  <a:pt x="145908" y="410535"/>
                </a:lnTo>
                <a:lnTo>
                  <a:pt x="151773" y="443798"/>
                </a:lnTo>
                <a:lnTo>
                  <a:pt x="154522" y="460965"/>
                </a:lnTo>
                <a:lnTo>
                  <a:pt x="156354" y="477490"/>
                </a:lnTo>
                <a:lnTo>
                  <a:pt x="157575" y="493587"/>
                </a:lnTo>
                <a:lnTo>
                  <a:pt x="158391" y="509398"/>
                </a:lnTo>
                <a:lnTo>
                  <a:pt x="159295" y="540512"/>
                </a:lnTo>
                <a:lnTo>
                  <a:pt x="159537" y="555922"/>
                </a:lnTo>
                <a:lnTo>
                  <a:pt x="158852" y="572121"/>
                </a:lnTo>
                <a:lnTo>
                  <a:pt x="157547" y="588848"/>
                </a:lnTo>
                <a:lnTo>
                  <a:pt x="155831" y="605925"/>
                </a:lnTo>
                <a:lnTo>
                  <a:pt x="154689" y="621543"/>
                </a:lnTo>
                <a:lnTo>
                  <a:pt x="153417" y="650186"/>
                </a:lnTo>
                <a:lnTo>
                  <a:pt x="152231" y="664597"/>
                </a:lnTo>
                <a:lnTo>
                  <a:pt x="150594" y="679285"/>
                </a:lnTo>
                <a:lnTo>
                  <a:pt x="145671" y="708304"/>
                </a:lnTo>
                <a:lnTo>
                  <a:pt x="141988" y="721970"/>
                </a:lnTo>
                <a:lnTo>
                  <a:pt x="137838" y="735313"/>
                </a:lnTo>
                <a:lnTo>
                  <a:pt x="134225" y="748442"/>
                </a:lnTo>
                <a:lnTo>
                  <a:pt x="130971" y="761428"/>
                </a:lnTo>
                <a:lnTo>
                  <a:pt x="119664" y="808642"/>
                </a:lnTo>
                <a:lnTo>
                  <a:pt x="116182" y="819341"/>
                </a:lnTo>
                <a:lnTo>
                  <a:pt x="112167" y="829861"/>
                </a:lnTo>
                <a:lnTo>
                  <a:pt x="107799" y="840261"/>
                </a:lnTo>
                <a:lnTo>
                  <a:pt x="104039" y="849734"/>
                </a:lnTo>
                <a:lnTo>
                  <a:pt x="97604" y="867033"/>
                </a:lnTo>
                <a:lnTo>
                  <a:pt x="93856" y="874355"/>
                </a:lnTo>
                <a:lnTo>
                  <a:pt x="89664" y="880930"/>
                </a:lnTo>
                <a:lnTo>
                  <a:pt x="85177" y="887007"/>
                </a:lnTo>
                <a:lnTo>
                  <a:pt x="81337" y="893598"/>
                </a:lnTo>
                <a:lnTo>
                  <a:pt x="77931" y="900532"/>
                </a:lnTo>
                <a:lnTo>
                  <a:pt x="74814" y="907694"/>
                </a:lnTo>
                <a:lnTo>
                  <a:pt x="71890" y="913317"/>
                </a:lnTo>
                <a:lnTo>
                  <a:pt x="69093" y="917911"/>
                </a:lnTo>
                <a:lnTo>
                  <a:pt x="60960" y="929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InkAnnotation306"/>
          <p:cNvSpPr/>
          <p:nvPr/>
        </p:nvSpPr>
        <p:spPr>
          <a:xfrm>
            <a:off x="7108920" y="2552760"/>
            <a:ext cx="312480" cy="593640"/>
          </a:xfrm>
          <a:custGeom>
            <a:avLst/>
            <a:gdLst>
              <a:gd name="textAreaLeft" fmla="*/ 0 w 312480"/>
              <a:gd name="textAreaRight" fmla="*/ 312840 w 3124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312385" h="594361">
                <a:moveTo>
                  <a:pt x="30444" y="0"/>
                </a:moveTo>
                <a:lnTo>
                  <a:pt x="30444" y="26748"/>
                </a:lnTo>
                <a:lnTo>
                  <a:pt x="28185" y="39828"/>
                </a:lnTo>
                <a:lnTo>
                  <a:pt x="24361" y="54108"/>
                </a:lnTo>
                <a:lnTo>
                  <a:pt x="19839" y="68921"/>
                </a:lnTo>
                <a:lnTo>
                  <a:pt x="18293" y="78121"/>
                </a:lnTo>
                <a:lnTo>
                  <a:pt x="17264" y="88487"/>
                </a:lnTo>
                <a:lnTo>
                  <a:pt x="16577" y="99632"/>
                </a:lnTo>
                <a:lnTo>
                  <a:pt x="15273" y="110448"/>
                </a:lnTo>
                <a:lnTo>
                  <a:pt x="13556" y="121045"/>
                </a:lnTo>
                <a:lnTo>
                  <a:pt x="4719" y="166432"/>
                </a:lnTo>
                <a:lnTo>
                  <a:pt x="3133" y="178688"/>
                </a:lnTo>
                <a:lnTo>
                  <a:pt x="2078" y="191092"/>
                </a:lnTo>
                <a:lnTo>
                  <a:pt x="1373" y="203595"/>
                </a:lnTo>
                <a:lnTo>
                  <a:pt x="590" y="228776"/>
                </a:lnTo>
                <a:lnTo>
                  <a:pt x="46" y="292123"/>
                </a:lnTo>
                <a:lnTo>
                  <a:pt x="0" y="317511"/>
                </a:lnTo>
                <a:lnTo>
                  <a:pt x="1682" y="329360"/>
                </a:lnTo>
                <a:lnTo>
                  <a:pt x="4496" y="340647"/>
                </a:lnTo>
                <a:lnTo>
                  <a:pt x="8065" y="351558"/>
                </a:lnTo>
                <a:lnTo>
                  <a:pt x="12138" y="363065"/>
                </a:lnTo>
                <a:lnTo>
                  <a:pt x="21180" y="387140"/>
                </a:lnTo>
                <a:lnTo>
                  <a:pt x="25961" y="398640"/>
                </a:lnTo>
                <a:lnTo>
                  <a:pt x="30843" y="409693"/>
                </a:lnTo>
                <a:lnTo>
                  <a:pt x="35789" y="420449"/>
                </a:lnTo>
                <a:lnTo>
                  <a:pt x="41628" y="431006"/>
                </a:lnTo>
                <a:lnTo>
                  <a:pt x="48060" y="441431"/>
                </a:lnTo>
                <a:lnTo>
                  <a:pt x="54888" y="451767"/>
                </a:lnTo>
                <a:lnTo>
                  <a:pt x="69247" y="472283"/>
                </a:lnTo>
                <a:lnTo>
                  <a:pt x="76633" y="482496"/>
                </a:lnTo>
                <a:lnTo>
                  <a:pt x="84943" y="491844"/>
                </a:lnTo>
                <a:lnTo>
                  <a:pt x="93871" y="500616"/>
                </a:lnTo>
                <a:lnTo>
                  <a:pt x="103208" y="509004"/>
                </a:lnTo>
                <a:lnTo>
                  <a:pt x="114513" y="517136"/>
                </a:lnTo>
                <a:lnTo>
                  <a:pt x="127131" y="525097"/>
                </a:lnTo>
                <a:lnTo>
                  <a:pt x="179835" y="556125"/>
                </a:lnTo>
                <a:lnTo>
                  <a:pt x="192691" y="562097"/>
                </a:lnTo>
                <a:lnTo>
                  <a:pt x="205495" y="566925"/>
                </a:lnTo>
                <a:lnTo>
                  <a:pt x="260508" y="584802"/>
                </a:lnTo>
                <a:lnTo>
                  <a:pt x="272721" y="587988"/>
                </a:lnTo>
                <a:lnTo>
                  <a:pt x="283402" y="590112"/>
                </a:lnTo>
                <a:lnTo>
                  <a:pt x="312384" y="594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InkAnnotation307"/>
          <p:cNvSpPr/>
          <p:nvPr/>
        </p:nvSpPr>
        <p:spPr>
          <a:xfrm>
            <a:off x="7604280" y="2408400"/>
            <a:ext cx="174600" cy="707760"/>
          </a:xfrm>
          <a:custGeom>
            <a:avLst/>
            <a:gdLst>
              <a:gd name="textAreaLeft" fmla="*/ 0 w 174600"/>
              <a:gd name="textAreaRight" fmla="*/ 174600 w 1746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73614" h="708661">
                <a:moveTo>
                  <a:pt x="0" y="0"/>
                </a:moveTo>
                <a:lnTo>
                  <a:pt x="0" y="4046"/>
                </a:lnTo>
                <a:lnTo>
                  <a:pt x="4045" y="14652"/>
                </a:lnTo>
                <a:lnTo>
                  <a:pt x="6083" y="17388"/>
                </a:lnTo>
                <a:lnTo>
                  <a:pt x="8288" y="19212"/>
                </a:lnTo>
                <a:lnTo>
                  <a:pt x="10606" y="20428"/>
                </a:lnTo>
                <a:lnTo>
                  <a:pt x="13844" y="23779"/>
                </a:lnTo>
                <a:lnTo>
                  <a:pt x="17696" y="28552"/>
                </a:lnTo>
                <a:lnTo>
                  <a:pt x="21957" y="34275"/>
                </a:lnTo>
                <a:lnTo>
                  <a:pt x="26491" y="41477"/>
                </a:lnTo>
                <a:lnTo>
                  <a:pt x="31207" y="49665"/>
                </a:lnTo>
                <a:lnTo>
                  <a:pt x="36045" y="58510"/>
                </a:lnTo>
                <a:lnTo>
                  <a:pt x="41810" y="67793"/>
                </a:lnTo>
                <a:lnTo>
                  <a:pt x="48193" y="77369"/>
                </a:lnTo>
                <a:lnTo>
                  <a:pt x="54988" y="87139"/>
                </a:lnTo>
                <a:lnTo>
                  <a:pt x="62060" y="97886"/>
                </a:lnTo>
                <a:lnTo>
                  <a:pt x="76688" y="121116"/>
                </a:lnTo>
                <a:lnTo>
                  <a:pt x="83299" y="132391"/>
                </a:lnTo>
                <a:lnTo>
                  <a:pt x="89399" y="143294"/>
                </a:lnTo>
                <a:lnTo>
                  <a:pt x="101540" y="166133"/>
                </a:lnTo>
                <a:lnTo>
                  <a:pt x="115402" y="193217"/>
                </a:lnTo>
                <a:lnTo>
                  <a:pt x="121809" y="207551"/>
                </a:lnTo>
                <a:lnTo>
                  <a:pt x="127772" y="222187"/>
                </a:lnTo>
                <a:lnTo>
                  <a:pt x="133441" y="237025"/>
                </a:lnTo>
                <a:lnTo>
                  <a:pt x="138914" y="252843"/>
                </a:lnTo>
                <a:lnTo>
                  <a:pt x="149510" y="286224"/>
                </a:lnTo>
                <a:lnTo>
                  <a:pt x="153860" y="303423"/>
                </a:lnTo>
                <a:lnTo>
                  <a:pt x="157607" y="320815"/>
                </a:lnTo>
                <a:lnTo>
                  <a:pt x="166925" y="371352"/>
                </a:lnTo>
                <a:lnTo>
                  <a:pt x="169703" y="387268"/>
                </a:lnTo>
                <a:lnTo>
                  <a:pt x="171555" y="403805"/>
                </a:lnTo>
                <a:lnTo>
                  <a:pt x="172790" y="420757"/>
                </a:lnTo>
                <a:lnTo>
                  <a:pt x="173613" y="437984"/>
                </a:lnTo>
                <a:lnTo>
                  <a:pt x="173316" y="454550"/>
                </a:lnTo>
                <a:lnTo>
                  <a:pt x="172270" y="470673"/>
                </a:lnTo>
                <a:lnTo>
                  <a:pt x="170727" y="486502"/>
                </a:lnTo>
                <a:lnTo>
                  <a:pt x="168851" y="501288"/>
                </a:lnTo>
                <a:lnTo>
                  <a:pt x="166754" y="515379"/>
                </a:lnTo>
                <a:lnTo>
                  <a:pt x="164509" y="529006"/>
                </a:lnTo>
                <a:lnTo>
                  <a:pt x="161319" y="542324"/>
                </a:lnTo>
                <a:lnTo>
                  <a:pt x="157500" y="555436"/>
                </a:lnTo>
                <a:lnTo>
                  <a:pt x="153259" y="568411"/>
                </a:lnTo>
                <a:lnTo>
                  <a:pt x="148740" y="580447"/>
                </a:lnTo>
                <a:lnTo>
                  <a:pt x="144033" y="591858"/>
                </a:lnTo>
                <a:lnTo>
                  <a:pt x="139202" y="602852"/>
                </a:lnTo>
                <a:lnTo>
                  <a:pt x="129318" y="624099"/>
                </a:lnTo>
                <a:lnTo>
                  <a:pt x="124312" y="634506"/>
                </a:lnTo>
                <a:lnTo>
                  <a:pt x="118434" y="644831"/>
                </a:lnTo>
                <a:lnTo>
                  <a:pt x="111977" y="655100"/>
                </a:lnTo>
                <a:lnTo>
                  <a:pt x="105131" y="665334"/>
                </a:lnTo>
                <a:lnTo>
                  <a:pt x="98874" y="673002"/>
                </a:lnTo>
                <a:lnTo>
                  <a:pt x="93009" y="678962"/>
                </a:lnTo>
                <a:lnTo>
                  <a:pt x="87406" y="683781"/>
                </a:lnTo>
                <a:lnTo>
                  <a:pt x="82823" y="688687"/>
                </a:lnTo>
                <a:lnTo>
                  <a:pt x="78923" y="693652"/>
                </a:lnTo>
                <a:lnTo>
                  <a:pt x="68580" y="7086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InkAnnotation308"/>
          <p:cNvSpPr/>
          <p:nvPr/>
        </p:nvSpPr>
        <p:spPr>
          <a:xfrm>
            <a:off x="5051520" y="2651040"/>
            <a:ext cx="61920" cy="274680"/>
          </a:xfrm>
          <a:custGeom>
            <a:avLst/>
            <a:gdLst>
              <a:gd name="textAreaLeft" fmla="*/ 0 w 61920"/>
              <a:gd name="textAreaRight" fmla="*/ 62280 w 619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0961" h="274321">
                <a:moveTo>
                  <a:pt x="60960" y="0"/>
                </a:moveTo>
                <a:lnTo>
                  <a:pt x="56915" y="4045"/>
                </a:lnTo>
                <a:lnTo>
                  <a:pt x="55724" y="6930"/>
                </a:lnTo>
                <a:lnTo>
                  <a:pt x="54399" y="14651"/>
                </a:lnTo>
                <a:lnTo>
                  <a:pt x="53200" y="18234"/>
                </a:lnTo>
                <a:lnTo>
                  <a:pt x="51553" y="21470"/>
                </a:lnTo>
                <a:lnTo>
                  <a:pt x="49609" y="24473"/>
                </a:lnTo>
                <a:lnTo>
                  <a:pt x="48312" y="28169"/>
                </a:lnTo>
                <a:lnTo>
                  <a:pt x="47449" y="32326"/>
                </a:lnTo>
                <a:lnTo>
                  <a:pt x="46872" y="36791"/>
                </a:lnTo>
                <a:lnTo>
                  <a:pt x="45642" y="41460"/>
                </a:lnTo>
                <a:lnTo>
                  <a:pt x="43975" y="46267"/>
                </a:lnTo>
                <a:lnTo>
                  <a:pt x="42016" y="51165"/>
                </a:lnTo>
                <a:lnTo>
                  <a:pt x="40711" y="56970"/>
                </a:lnTo>
                <a:lnTo>
                  <a:pt x="39841" y="63380"/>
                </a:lnTo>
                <a:lnTo>
                  <a:pt x="39261" y="70193"/>
                </a:lnTo>
                <a:lnTo>
                  <a:pt x="38027" y="76429"/>
                </a:lnTo>
                <a:lnTo>
                  <a:pt x="36358" y="82279"/>
                </a:lnTo>
                <a:lnTo>
                  <a:pt x="22707" y="122454"/>
                </a:lnTo>
                <a:lnTo>
                  <a:pt x="20218" y="129896"/>
                </a:lnTo>
                <a:lnTo>
                  <a:pt x="18559" y="137397"/>
                </a:lnTo>
                <a:lnTo>
                  <a:pt x="17453" y="144938"/>
                </a:lnTo>
                <a:lnTo>
                  <a:pt x="16715" y="152505"/>
                </a:lnTo>
                <a:lnTo>
                  <a:pt x="15377" y="160090"/>
                </a:lnTo>
                <a:lnTo>
                  <a:pt x="13638" y="167687"/>
                </a:lnTo>
                <a:lnTo>
                  <a:pt x="11632" y="175291"/>
                </a:lnTo>
                <a:lnTo>
                  <a:pt x="9448" y="182054"/>
                </a:lnTo>
                <a:lnTo>
                  <a:pt x="7146" y="188256"/>
                </a:lnTo>
                <a:lnTo>
                  <a:pt x="4763" y="194084"/>
                </a:lnTo>
                <a:lnTo>
                  <a:pt x="3176" y="199663"/>
                </a:lnTo>
                <a:lnTo>
                  <a:pt x="2117" y="205075"/>
                </a:lnTo>
                <a:lnTo>
                  <a:pt x="1412" y="210377"/>
                </a:lnTo>
                <a:lnTo>
                  <a:pt x="941" y="215605"/>
                </a:lnTo>
                <a:lnTo>
                  <a:pt x="627" y="220783"/>
                </a:lnTo>
                <a:lnTo>
                  <a:pt x="418" y="225929"/>
                </a:lnTo>
                <a:lnTo>
                  <a:pt x="185" y="238420"/>
                </a:lnTo>
                <a:lnTo>
                  <a:pt x="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InkAnnotation309"/>
          <p:cNvSpPr/>
          <p:nvPr/>
        </p:nvSpPr>
        <p:spPr>
          <a:xfrm>
            <a:off x="5191200" y="2682720"/>
            <a:ext cx="119160" cy="196920"/>
          </a:xfrm>
          <a:custGeom>
            <a:avLst/>
            <a:gdLst>
              <a:gd name="textAreaLeft" fmla="*/ 0 w 119160"/>
              <a:gd name="textAreaRight" fmla="*/ 119520 w 119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19845" h="196231">
                <a:moveTo>
                  <a:pt x="44216" y="6561"/>
                </a:moveTo>
                <a:lnTo>
                  <a:pt x="44216" y="0"/>
                </a:lnTo>
                <a:lnTo>
                  <a:pt x="44216" y="5595"/>
                </a:lnTo>
                <a:lnTo>
                  <a:pt x="41958" y="10647"/>
                </a:lnTo>
                <a:lnTo>
                  <a:pt x="33610" y="27688"/>
                </a:lnTo>
                <a:lnTo>
                  <a:pt x="31218" y="34192"/>
                </a:lnTo>
                <a:lnTo>
                  <a:pt x="28778" y="41915"/>
                </a:lnTo>
                <a:lnTo>
                  <a:pt x="26304" y="50451"/>
                </a:lnTo>
                <a:lnTo>
                  <a:pt x="23808" y="57834"/>
                </a:lnTo>
                <a:lnTo>
                  <a:pt x="21297" y="64450"/>
                </a:lnTo>
                <a:lnTo>
                  <a:pt x="18777" y="70554"/>
                </a:lnTo>
                <a:lnTo>
                  <a:pt x="16249" y="78010"/>
                </a:lnTo>
                <a:lnTo>
                  <a:pt x="13719" y="86367"/>
                </a:lnTo>
                <a:lnTo>
                  <a:pt x="8649" y="103837"/>
                </a:lnTo>
                <a:lnTo>
                  <a:pt x="3573" y="120068"/>
                </a:lnTo>
                <a:lnTo>
                  <a:pt x="1880" y="127106"/>
                </a:lnTo>
                <a:lnTo>
                  <a:pt x="753" y="133491"/>
                </a:lnTo>
                <a:lnTo>
                  <a:pt x="0" y="139441"/>
                </a:lnTo>
                <a:lnTo>
                  <a:pt x="345" y="145948"/>
                </a:lnTo>
                <a:lnTo>
                  <a:pt x="1422" y="152825"/>
                </a:lnTo>
                <a:lnTo>
                  <a:pt x="2987" y="159951"/>
                </a:lnTo>
                <a:lnTo>
                  <a:pt x="4030" y="165547"/>
                </a:lnTo>
                <a:lnTo>
                  <a:pt x="4725" y="170125"/>
                </a:lnTo>
                <a:lnTo>
                  <a:pt x="5189" y="174024"/>
                </a:lnTo>
                <a:lnTo>
                  <a:pt x="7191" y="178316"/>
                </a:lnTo>
                <a:lnTo>
                  <a:pt x="10219" y="182871"/>
                </a:lnTo>
                <a:lnTo>
                  <a:pt x="13932" y="187601"/>
                </a:lnTo>
                <a:lnTo>
                  <a:pt x="17253" y="190754"/>
                </a:lnTo>
                <a:lnTo>
                  <a:pt x="20314" y="192856"/>
                </a:lnTo>
                <a:lnTo>
                  <a:pt x="23201" y="194258"/>
                </a:lnTo>
                <a:lnTo>
                  <a:pt x="26820" y="195192"/>
                </a:lnTo>
                <a:lnTo>
                  <a:pt x="30925" y="195815"/>
                </a:lnTo>
                <a:lnTo>
                  <a:pt x="35355" y="196230"/>
                </a:lnTo>
                <a:lnTo>
                  <a:pt x="39156" y="195661"/>
                </a:lnTo>
                <a:lnTo>
                  <a:pt x="42536" y="194434"/>
                </a:lnTo>
                <a:lnTo>
                  <a:pt x="45635" y="192770"/>
                </a:lnTo>
                <a:lnTo>
                  <a:pt x="50243" y="190813"/>
                </a:lnTo>
                <a:lnTo>
                  <a:pt x="55853" y="188663"/>
                </a:lnTo>
                <a:lnTo>
                  <a:pt x="62134" y="186382"/>
                </a:lnTo>
                <a:lnTo>
                  <a:pt x="67169" y="184015"/>
                </a:lnTo>
                <a:lnTo>
                  <a:pt x="71371" y="181590"/>
                </a:lnTo>
                <a:lnTo>
                  <a:pt x="75019" y="179127"/>
                </a:lnTo>
                <a:lnTo>
                  <a:pt x="79145" y="174945"/>
                </a:lnTo>
                <a:lnTo>
                  <a:pt x="83588" y="169617"/>
                </a:lnTo>
                <a:lnTo>
                  <a:pt x="88244" y="163525"/>
                </a:lnTo>
                <a:lnTo>
                  <a:pt x="93041" y="156924"/>
                </a:lnTo>
                <a:lnTo>
                  <a:pt x="102887" y="142816"/>
                </a:lnTo>
                <a:lnTo>
                  <a:pt x="107036" y="135498"/>
                </a:lnTo>
                <a:lnTo>
                  <a:pt x="110650" y="128079"/>
                </a:lnTo>
                <a:lnTo>
                  <a:pt x="113905" y="120593"/>
                </a:lnTo>
                <a:lnTo>
                  <a:pt x="116075" y="113062"/>
                </a:lnTo>
                <a:lnTo>
                  <a:pt x="117523" y="105502"/>
                </a:lnTo>
                <a:lnTo>
                  <a:pt x="118487" y="97922"/>
                </a:lnTo>
                <a:lnTo>
                  <a:pt x="119130" y="91175"/>
                </a:lnTo>
                <a:lnTo>
                  <a:pt x="119558" y="84984"/>
                </a:lnTo>
                <a:lnTo>
                  <a:pt x="119844" y="79163"/>
                </a:lnTo>
                <a:lnTo>
                  <a:pt x="119188" y="72742"/>
                </a:lnTo>
                <a:lnTo>
                  <a:pt x="117904" y="65922"/>
                </a:lnTo>
                <a:lnTo>
                  <a:pt x="116201" y="58835"/>
                </a:lnTo>
                <a:lnTo>
                  <a:pt x="114220" y="53264"/>
                </a:lnTo>
                <a:lnTo>
                  <a:pt x="112052" y="48703"/>
                </a:lnTo>
                <a:lnTo>
                  <a:pt x="109760" y="44816"/>
                </a:lnTo>
                <a:lnTo>
                  <a:pt x="107385" y="40531"/>
                </a:lnTo>
                <a:lnTo>
                  <a:pt x="102489" y="31254"/>
                </a:lnTo>
                <a:lnTo>
                  <a:pt x="99998" y="27256"/>
                </a:lnTo>
                <a:lnTo>
                  <a:pt x="97491" y="23745"/>
                </a:lnTo>
                <a:lnTo>
                  <a:pt x="94972" y="20557"/>
                </a:lnTo>
                <a:lnTo>
                  <a:pt x="92447" y="18431"/>
                </a:lnTo>
                <a:lnTo>
                  <a:pt x="89916" y="17015"/>
                </a:lnTo>
                <a:lnTo>
                  <a:pt x="87383" y="16070"/>
                </a:lnTo>
                <a:lnTo>
                  <a:pt x="85693" y="14594"/>
                </a:lnTo>
                <a:lnTo>
                  <a:pt x="84568" y="12763"/>
                </a:lnTo>
                <a:lnTo>
                  <a:pt x="82316" y="65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InkAnnotation310"/>
          <p:cNvSpPr/>
          <p:nvPr/>
        </p:nvSpPr>
        <p:spPr>
          <a:xfrm>
            <a:off x="7886880" y="2674800"/>
            <a:ext cx="45720" cy="204840"/>
          </a:xfrm>
          <a:custGeom>
            <a:avLst/>
            <a:gdLst>
              <a:gd name="textAreaLeft" fmla="*/ 0 w 45720"/>
              <a:gd name="textAreaRight" fmla="*/ 46080 w 45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5721" h="205741">
                <a:moveTo>
                  <a:pt x="45720" y="0"/>
                </a:moveTo>
                <a:lnTo>
                  <a:pt x="45720" y="4046"/>
                </a:lnTo>
                <a:lnTo>
                  <a:pt x="44874" y="6084"/>
                </a:lnTo>
                <a:lnTo>
                  <a:pt x="43462" y="8289"/>
                </a:lnTo>
                <a:lnTo>
                  <a:pt x="39159" y="13867"/>
                </a:lnTo>
                <a:lnTo>
                  <a:pt x="38571" y="19146"/>
                </a:lnTo>
                <a:lnTo>
                  <a:pt x="38414" y="22924"/>
                </a:lnTo>
                <a:lnTo>
                  <a:pt x="37463" y="27136"/>
                </a:lnTo>
                <a:lnTo>
                  <a:pt x="35982" y="31637"/>
                </a:lnTo>
                <a:lnTo>
                  <a:pt x="34148" y="36332"/>
                </a:lnTo>
                <a:lnTo>
                  <a:pt x="32079" y="41155"/>
                </a:lnTo>
                <a:lnTo>
                  <a:pt x="27522" y="51029"/>
                </a:lnTo>
                <a:lnTo>
                  <a:pt x="25968" y="56879"/>
                </a:lnTo>
                <a:lnTo>
                  <a:pt x="24933" y="63320"/>
                </a:lnTo>
                <a:lnTo>
                  <a:pt x="24242" y="70153"/>
                </a:lnTo>
                <a:lnTo>
                  <a:pt x="22935" y="77249"/>
                </a:lnTo>
                <a:lnTo>
                  <a:pt x="21217" y="84519"/>
                </a:lnTo>
                <a:lnTo>
                  <a:pt x="19224" y="91906"/>
                </a:lnTo>
                <a:lnTo>
                  <a:pt x="17049" y="98524"/>
                </a:lnTo>
                <a:lnTo>
                  <a:pt x="14753" y="104629"/>
                </a:lnTo>
                <a:lnTo>
                  <a:pt x="12375" y="110393"/>
                </a:lnTo>
                <a:lnTo>
                  <a:pt x="10790" y="116776"/>
                </a:lnTo>
                <a:lnTo>
                  <a:pt x="9734" y="123570"/>
                </a:lnTo>
                <a:lnTo>
                  <a:pt x="9030" y="130640"/>
                </a:lnTo>
                <a:lnTo>
                  <a:pt x="7713" y="137047"/>
                </a:lnTo>
                <a:lnTo>
                  <a:pt x="5989" y="143012"/>
                </a:lnTo>
                <a:lnTo>
                  <a:pt x="3993" y="148681"/>
                </a:lnTo>
                <a:lnTo>
                  <a:pt x="2661" y="155001"/>
                </a:lnTo>
                <a:lnTo>
                  <a:pt x="1775" y="161754"/>
                </a:lnTo>
                <a:lnTo>
                  <a:pt x="789" y="174337"/>
                </a:lnTo>
                <a:lnTo>
                  <a:pt x="351" y="182752"/>
                </a:lnTo>
                <a:lnTo>
                  <a:pt x="156" y="189314"/>
                </a:lnTo>
                <a:lnTo>
                  <a:pt x="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InkAnnotation311"/>
          <p:cNvSpPr/>
          <p:nvPr/>
        </p:nvSpPr>
        <p:spPr>
          <a:xfrm>
            <a:off x="8070840" y="2689200"/>
            <a:ext cx="157320" cy="228600"/>
          </a:xfrm>
          <a:custGeom>
            <a:avLst/>
            <a:gdLst>
              <a:gd name="textAreaLeft" fmla="*/ 0 w 157320"/>
              <a:gd name="textAreaRight" fmla="*/ 157680 w 157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7889" h="228019">
                <a:moveTo>
                  <a:pt x="68096" y="0"/>
                </a:moveTo>
                <a:lnTo>
                  <a:pt x="64051" y="4045"/>
                </a:lnTo>
                <a:lnTo>
                  <a:pt x="62859" y="6930"/>
                </a:lnTo>
                <a:lnTo>
                  <a:pt x="62065" y="10547"/>
                </a:lnTo>
                <a:lnTo>
                  <a:pt x="61535" y="14651"/>
                </a:lnTo>
                <a:lnTo>
                  <a:pt x="59489" y="19081"/>
                </a:lnTo>
                <a:lnTo>
                  <a:pt x="56431" y="23727"/>
                </a:lnTo>
                <a:lnTo>
                  <a:pt x="52700" y="28518"/>
                </a:lnTo>
                <a:lnTo>
                  <a:pt x="48519" y="34252"/>
                </a:lnTo>
                <a:lnTo>
                  <a:pt x="39357" y="47397"/>
                </a:lnTo>
                <a:lnTo>
                  <a:pt x="24679" y="69077"/>
                </a:lnTo>
                <a:lnTo>
                  <a:pt x="20525" y="76531"/>
                </a:lnTo>
                <a:lnTo>
                  <a:pt x="16910" y="84041"/>
                </a:lnTo>
                <a:lnTo>
                  <a:pt x="13651" y="91587"/>
                </a:lnTo>
                <a:lnTo>
                  <a:pt x="10633" y="99158"/>
                </a:lnTo>
                <a:lnTo>
                  <a:pt x="5022" y="114344"/>
                </a:lnTo>
                <a:lnTo>
                  <a:pt x="3187" y="121949"/>
                </a:lnTo>
                <a:lnTo>
                  <a:pt x="1963" y="129560"/>
                </a:lnTo>
                <a:lnTo>
                  <a:pt x="1146" y="137173"/>
                </a:lnTo>
                <a:lnTo>
                  <a:pt x="604" y="144789"/>
                </a:lnTo>
                <a:lnTo>
                  <a:pt x="242" y="152406"/>
                </a:lnTo>
                <a:lnTo>
                  <a:pt x="0" y="160024"/>
                </a:lnTo>
                <a:lnTo>
                  <a:pt x="685" y="166796"/>
                </a:lnTo>
                <a:lnTo>
                  <a:pt x="1990" y="173004"/>
                </a:lnTo>
                <a:lnTo>
                  <a:pt x="3704" y="178836"/>
                </a:lnTo>
                <a:lnTo>
                  <a:pt x="6541" y="184417"/>
                </a:lnTo>
                <a:lnTo>
                  <a:pt x="10127" y="189831"/>
                </a:lnTo>
                <a:lnTo>
                  <a:pt x="14210" y="195134"/>
                </a:lnTo>
                <a:lnTo>
                  <a:pt x="18626" y="200363"/>
                </a:lnTo>
                <a:lnTo>
                  <a:pt x="23263" y="205542"/>
                </a:lnTo>
                <a:lnTo>
                  <a:pt x="28047" y="210688"/>
                </a:lnTo>
                <a:lnTo>
                  <a:pt x="32930" y="214965"/>
                </a:lnTo>
                <a:lnTo>
                  <a:pt x="37879" y="218664"/>
                </a:lnTo>
                <a:lnTo>
                  <a:pt x="42872" y="221976"/>
                </a:lnTo>
                <a:lnTo>
                  <a:pt x="47892" y="224184"/>
                </a:lnTo>
                <a:lnTo>
                  <a:pt x="52934" y="225656"/>
                </a:lnTo>
                <a:lnTo>
                  <a:pt x="57988" y="226638"/>
                </a:lnTo>
                <a:lnTo>
                  <a:pt x="63898" y="227292"/>
                </a:lnTo>
                <a:lnTo>
                  <a:pt x="70377" y="227728"/>
                </a:lnTo>
                <a:lnTo>
                  <a:pt x="77237" y="228018"/>
                </a:lnTo>
                <a:lnTo>
                  <a:pt x="84350" y="227366"/>
                </a:lnTo>
                <a:lnTo>
                  <a:pt x="91632" y="226084"/>
                </a:lnTo>
                <a:lnTo>
                  <a:pt x="99027" y="224383"/>
                </a:lnTo>
                <a:lnTo>
                  <a:pt x="105650" y="221555"/>
                </a:lnTo>
                <a:lnTo>
                  <a:pt x="111758" y="217977"/>
                </a:lnTo>
                <a:lnTo>
                  <a:pt x="117524" y="213898"/>
                </a:lnTo>
                <a:lnTo>
                  <a:pt x="123061" y="209485"/>
                </a:lnTo>
                <a:lnTo>
                  <a:pt x="128447" y="204850"/>
                </a:lnTo>
                <a:lnTo>
                  <a:pt x="133731" y="200067"/>
                </a:lnTo>
                <a:lnTo>
                  <a:pt x="138099" y="194338"/>
                </a:lnTo>
                <a:lnTo>
                  <a:pt x="141858" y="187979"/>
                </a:lnTo>
                <a:lnTo>
                  <a:pt x="145211" y="181199"/>
                </a:lnTo>
                <a:lnTo>
                  <a:pt x="148293" y="174139"/>
                </a:lnTo>
                <a:lnTo>
                  <a:pt x="151193" y="166893"/>
                </a:lnTo>
                <a:lnTo>
                  <a:pt x="153974" y="159522"/>
                </a:lnTo>
                <a:lnTo>
                  <a:pt x="155828" y="151221"/>
                </a:lnTo>
                <a:lnTo>
                  <a:pt x="157064" y="142301"/>
                </a:lnTo>
                <a:lnTo>
                  <a:pt x="157888" y="132968"/>
                </a:lnTo>
                <a:lnTo>
                  <a:pt x="157591" y="124205"/>
                </a:lnTo>
                <a:lnTo>
                  <a:pt x="156545" y="115823"/>
                </a:lnTo>
                <a:lnTo>
                  <a:pt x="155002" y="107696"/>
                </a:lnTo>
                <a:lnTo>
                  <a:pt x="153127" y="100584"/>
                </a:lnTo>
                <a:lnTo>
                  <a:pt x="151030" y="94149"/>
                </a:lnTo>
                <a:lnTo>
                  <a:pt x="148785" y="88166"/>
                </a:lnTo>
                <a:lnTo>
                  <a:pt x="145596" y="82484"/>
                </a:lnTo>
                <a:lnTo>
                  <a:pt x="141777" y="77003"/>
                </a:lnTo>
                <a:lnTo>
                  <a:pt x="137536" y="71655"/>
                </a:lnTo>
                <a:lnTo>
                  <a:pt x="132169" y="66397"/>
                </a:lnTo>
                <a:lnTo>
                  <a:pt x="126052" y="61198"/>
                </a:lnTo>
                <a:lnTo>
                  <a:pt x="119434" y="56039"/>
                </a:lnTo>
                <a:lnTo>
                  <a:pt x="113328" y="52599"/>
                </a:lnTo>
                <a:lnTo>
                  <a:pt x="107563" y="50306"/>
                </a:lnTo>
                <a:lnTo>
                  <a:pt x="102028" y="48777"/>
                </a:lnTo>
                <a:lnTo>
                  <a:pt x="95798" y="47758"/>
                </a:lnTo>
                <a:lnTo>
                  <a:pt x="89103" y="47079"/>
                </a:lnTo>
                <a:lnTo>
                  <a:pt x="82101" y="46626"/>
                </a:lnTo>
                <a:lnTo>
                  <a:pt x="69805" y="46123"/>
                </a:lnTo>
                <a:lnTo>
                  <a:pt x="45236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InkAnnotation312"/>
          <p:cNvSpPr/>
          <p:nvPr/>
        </p:nvSpPr>
        <p:spPr>
          <a:xfrm>
            <a:off x="5021280" y="3497400"/>
            <a:ext cx="61920" cy="198360"/>
          </a:xfrm>
          <a:custGeom>
            <a:avLst/>
            <a:gdLst>
              <a:gd name="textAreaLeft" fmla="*/ 0 w 61920"/>
              <a:gd name="textAreaRight" fmla="*/ 62280 w 619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60821" h="198121">
                <a:moveTo>
                  <a:pt x="60820" y="0"/>
                </a:moveTo>
                <a:lnTo>
                  <a:pt x="60820" y="22178"/>
                </a:lnTo>
                <a:lnTo>
                  <a:pt x="59973" y="26639"/>
                </a:lnTo>
                <a:lnTo>
                  <a:pt x="58562" y="31306"/>
                </a:lnTo>
                <a:lnTo>
                  <a:pt x="56775" y="36111"/>
                </a:lnTo>
                <a:lnTo>
                  <a:pt x="55583" y="40160"/>
                </a:lnTo>
                <a:lnTo>
                  <a:pt x="54789" y="43707"/>
                </a:lnTo>
                <a:lnTo>
                  <a:pt x="54259" y="46918"/>
                </a:lnTo>
                <a:lnTo>
                  <a:pt x="53059" y="51599"/>
                </a:lnTo>
                <a:lnTo>
                  <a:pt x="51412" y="57259"/>
                </a:lnTo>
                <a:lnTo>
                  <a:pt x="49468" y="63573"/>
                </a:lnTo>
                <a:lnTo>
                  <a:pt x="47326" y="69475"/>
                </a:lnTo>
                <a:lnTo>
                  <a:pt x="45050" y="75104"/>
                </a:lnTo>
                <a:lnTo>
                  <a:pt x="42687" y="80549"/>
                </a:lnTo>
                <a:lnTo>
                  <a:pt x="40264" y="86719"/>
                </a:lnTo>
                <a:lnTo>
                  <a:pt x="35315" y="100349"/>
                </a:lnTo>
                <a:lnTo>
                  <a:pt x="31964" y="106693"/>
                </a:lnTo>
                <a:lnTo>
                  <a:pt x="28035" y="112615"/>
                </a:lnTo>
                <a:lnTo>
                  <a:pt x="23724" y="118257"/>
                </a:lnTo>
                <a:lnTo>
                  <a:pt x="20002" y="124558"/>
                </a:lnTo>
                <a:lnTo>
                  <a:pt x="16675" y="131299"/>
                </a:lnTo>
                <a:lnTo>
                  <a:pt x="10720" y="144715"/>
                </a:lnTo>
                <a:lnTo>
                  <a:pt x="5251" y="156322"/>
                </a:lnTo>
                <a:lnTo>
                  <a:pt x="3454" y="161788"/>
                </a:lnTo>
                <a:lnTo>
                  <a:pt x="2256" y="167125"/>
                </a:lnTo>
                <a:lnTo>
                  <a:pt x="1457" y="172377"/>
                </a:lnTo>
                <a:lnTo>
                  <a:pt x="925" y="176725"/>
                </a:lnTo>
                <a:lnTo>
                  <a:pt x="570" y="180470"/>
                </a:lnTo>
                <a:lnTo>
                  <a:pt x="333" y="183814"/>
                </a:lnTo>
                <a:lnTo>
                  <a:pt x="70" y="189786"/>
                </a:lnTo>
                <a:lnTo>
                  <a:pt x="0" y="192564"/>
                </a:lnTo>
                <a:lnTo>
                  <a:pt x="800" y="194416"/>
                </a:lnTo>
                <a:lnTo>
                  <a:pt x="2180" y="195651"/>
                </a:lnTo>
                <a:lnTo>
                  <a:pt x="74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InkAnnotation313"/>
          <p:cNvSpPr/>
          <p:nvPr/>
        </p:nvSpPr>
        <p:spPr>
          <a:xfrm>
            <a:off x="5227560" y="3513240"/>
            <a:ext cx="158760" cy="158760"/>
          </a:xfrm>
          <a:custGeom>
            <a:avLst/>
            <a:gdLst>
              <a:gd name="textAreaLeft" fmla="*/ 0 w 158760"/>
              <a:gd name="textAreaRight" fmla="*/ 159120 w 1587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9613" h="159527">
                <a:moveTo>
                  <a:pt x="37941" y="7621"/>
                </a:moveTo>
                <a:lnTo>
                  <a:pt x="37941" y="28"/>
                </a:lnTo>
                <a:lnTo>
                  <a:pt x="37941" y="4054"/>
                </a:lnTo>
                <a:lnTo>
                  <a:pt x="37095" y="6089"/>
                </a:lnTo>
                <a:lnTo>
                  <a:pt x="31858" y="13846"/>
                </a:lnTo>
                <a:lnTo>
                  <a:pt x="29653" y="17697"/>
                </a:lnTo>
                <a:lnTo>
                  <a:pt x="27335" y="21958"/>
                </a:lnTo>
                <a:lnTo>
                  <a:pt x="24098" y="27339"/>
                </a:lnTo>
                <a:lnTo>
                  <a:pt x="15985" y="40091"/>
                </a:lnTo>
                <a:lnTo>
                  <a:pt x="12297" y="46200"/>
                </a:lnTo>
                <a:lnTo>
                  <a:pt x="8992" y="51967"/>
                </a:lnTo>
                <a:lnTo>
                  <a:pt x="5941" y="57505"/>
                </a:lnTo>
                <a:lnTo>
                  <a:pt x="3908" y="63737"/>
                </a:lnTo>
                <a:lnTo>
                  <a:pt x="2553" y="70431"/>
                </a:lnTo>
                <a:lnTo>
                  <a:pt x="1648" y="77434"/>
                </a:lnTo>
                <a:lnTo>
                  <a:pt x="1046" y="83796"/>
                </a:lnTo>
                <a:lnTo>
                  <a:pt x="645" y="89731"/>
                </a:lnTo>
                <a:lnTo>
                  <a:pt x="377" y="95381"/>
                </a:lnTo>
                <a:lnTo>
                  <a:pt x="80" y="108431"/>
                </a:lnTo>
                <a:lnTo>
                  <a:pt x="0" y="115467"/>
                </a:lnTo>
                <a:lnTo>
                  <a:pt x="794" y="121852"/>
                </a:lnTo>
                <a:lnTo>
                  <a:pt x="2169" y="127802"/>
                </a:lnTo>
                <a:lnTo>
                  <a:pt x="3934" y="133461"/>
                </a:lnTo>
                <a:lnTo>
                  <a:pt x="6803" y="138081"/>
                </a:lnTo>
                <a:lnTo>
                  <a:pt x="10409" y="142007"/>
                </a:lnTo>
                <a:lnTo>
                  <a:pt x="14507" y="145471"/>
                </a:lnTo>
                <a:lnTo>
                  <a:pt x="18931" y="148628"/>
                </a:lnTo>
                <a:lnTo>
                  <a:pt x="23575" y="151578"/>
                </a:lnTo>
                <a:lnTo>
                  <a:pt x="28364" y="154393"/>
                </a:lnTo>
                <a:lnTo>
                  <a:pt x="34096" y="156268"/>
                </a:lnTo>
                <a:lnTo>
                  <a:pt x="40458" y="157519"/>
                </a:lnTo>
                <a:lnTo>
                  <a:pt x="47239" y="158353"/>
                </a:lnTo>
                <a:lnTo>
                  <a:pt x="55146" y="158909"/>
                </a:lnTo>
                <a:lnTo>
                  <a:pt x="63805" y="159279"/>
                </a:lnTo>
                <a:lnTo>
                  <a:pt x="72964" y="159526"/>
                </a:lnTo>
                <a:lnTo>
                  <a:pt x="81609" y="158844"/>
                </a:lnTo>
                <a:lnTo>
                  <a:pt x="89913" y="157543"/>
                </a:lnTo>
                <a:lnTo>
                  <a:pt x="97989" y="155829"/>
                </a:lnTo>
                <a:lnTo>
                  <a:pt x="105913" y="152993"/>
                </a:lnTo>
                <a:lnTo>
                  <a:pt x="113736" y="149408"/>
                </a:lnTo>
                <a:lnTo>
                  <a:pt x="121491" y="145326"/>
                </a:lnTo>
                <a:lnTo>
                  <a:pt x="127508" y="140910"/>
                </a:lnTo>
                <a:lnTo>
                  <a:pt x="132366" y="136274"/>
                </a:lnTo>
                <a:lnTo>
                  <a:pt x="136451" y="131490"/>
                </a:lnTo>
                <a:lnTo>
                  <a:pt x="140867" y="126606"/>
                </a:lnTo>
                <a:lnTo>
                  <a:pt x="150290" y="116665"/>
                </a:lnTo>
                <a:lnTo>
                  <a:pt x="153481" y="109950"/>
                </a:lnTo>
                <a:lnTo>
                  <a:pt x="155607" y="102087"/>
                </a:lnTo>
                <a:lnTo>
                  <a:pt x="157026" y="93458"/>
                </a:lnTo>
                <a:lnTo>
                  <a:pt x="157971" y="86012"/>
                </a:lnTo>
                <a:lnTo>
                  <a:pt x="158600" y="79355"/>
                </a:lnTo>
                <a:lnTo>
                  <a:pt x="159021" y="73224"/>
                </a:lnTo>
                <a:lnTo>
                  <a:pt x="159301" y="66596"/>
                </a:lnTo>
                <a:lnTo>
                  <a:pt x="159612" y="52458"/>
                </a:lnTo>
                <a:lnTo>
                  <a:pt x="158002" y="45979"/>
                </a:lnTo>
                <a:lnTo>
                  <a:pt x="155235" y="39966"/>
                </a:lnTo>
                <a:lnTo>
                  <a:pt x="151697" y="34264"/>
                </a:lnTo>
                <a:lnTo>
                  <a:pt x="148491" y="28769"/>
                </a:lnTo>
                <a:lnTo>
                  <a:pt x="142672" y="18149"/>
                </a:lnTo>
                <a:lnTo>
                  <a:pt x="139089" y="13793"/>
                </a:lnTo>
                <a:lnTo>
                  <a:pt x="135006" y="10041"/>
                </a:lnTo>
                <a:lnTo>
                  <a:pt x="130592" y="6695"/>
                </a:lnTo>
                <a:lnTo>
                  <a:pt x="125955" y="4463"/>
                </a:lnTo>
                <a:lnTo>
                  <a:pt x="121170" y="2975"/>
                </a:lnTo>
                <a:lnTo>
                  <a:pt x="116287" y="1984"/>
                </a:lnTo>
                <a:lnTo>
                  <a:pt x="112185" y="1323"/>
                </a:lnTo>
                <a:lnTo>
                  <a:pt x="108604" y="881"/>
                </a:lnTo>
                <a:lnTo>
                  <a:pt x="105370" y="588"/>
                </a:lnTo>
                <a:lnTo>
                  <a:pt x="101520" y="392"/>
                </a:lnTo>
                <a:lnTo>
                  <a:pt x="92727" y="174"/>
                </a:lnTo>
                <a:lnTo>
                  <a:pt x="7604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InkAnnotation314"/>
          <p:cNvSpPr/>
          <p:nvPr/>
        </p:nvSpPr>
        <p:spPr>
          <a:xfrm>
            <a:off x="5464080" y="3543480"/>
            <a:ext cx="44640" cy="37800"/>
          </a:xfrm>
          <a:custGeom>
            <a:avLst/>
            <a:gdLst>
              <a:gd name="textAreaLeft" fmla="*/ 0 w 44640"/>
              <a:gd name="textAreaRight" fmla="*/ 45000 w 446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4452" h="38062">
                <a:moveTo>
                  <a:pt x="30375" y="30449"/>
                </a:moveTo>
                <a:lnTo>
                  <a:pt x="23814" y="-28526"/>
                </a:lnTo>
                <a:lnTo>
                  <a:pt x="22615" y="-28173"/>
                </a:lnTo>
                <a:lnTo>
                  <a:pt x="20968" y="-27938"/>
                </a:lnTo>
                <a:lnTo>
                  <a:pt x="16287" y="-27560"/>
                </a:lnTo>
                <a:lnTo>
                  <a:pt x="13389" y="-27508"/>
                </a:lnTo>
                <a:lnTo>
                  <a:pt x="8676" y="-27475"/>
                </a:lnTo>
                <a:lnTo>
                  <a:pt x="7442" y="-28319"/>
                </a:lnTo>
                <a:lnTo>
                  <a:pt x="5773" y="-29728"/>
                </a:lnTo>
                <a:lnTo>
                  <a:pt x="1056" y="31508"/>
                </a:lnTo>
                <a:lnTo>
                  <a:pt x="669" y="30308"/>
                </a:lnTo>
                <a:lnTo>
                  <a:pt x="411" y="28662"/>
                </a:lnTo>
                <a:lnTo>
                  <a:pt x="240" y="26718"/>
                </a:lnTo>
                <a:lnTo>
                  <a:pt x="971" y="25421"/>
                </a:lnTo>
                <a:lnTo>
                  <a:pt x="2306" y="24557"/>
                </a:lnTo>
                <a:lnTo>
                  <a:pt x="4042" y="23981"/>
                </a:lnTo>
                <a:lnTo>
                  <a:pt x="6047" y="22751"/>
                </a:lnTo>
                <a:lnTo>
                  <a:pt x="8230" y="21083"/>
                </a:lnTo>
                <a:lnTo>
                  <a:pt x="10531" y="19125"/>
                </a:lnTo>
                <a:lnTo>
                  <a:pt x="12913" y="16973"/>
                </a:lnTo>
                <a:lnTo>
                  <a:pt x="17817" y="12324"/>
                </a:lnTo>
                <a:lnTo>
                  <a:pt x="20309" y="10746"/>
                </a:lnTo>
                <a:lnTo>
                  <a:pt x="22818" y="9694"/>
                </a:lnTo>
                <a:lnTo>
                  <a:pt x="25337" y="8992"/>
                </a:lnTo>
                <a:lnTo>
                  <a:pt x="27016" y="7678"/>
                </a:lnTo>
                <a:lnTo>
                  <a:pt x="28136" y="5955"/>
                </a:lnTo>
                <a:lnTo>
                  <a:pt x="28883" y="3959"/>
                </a:lnTo>
                <a:lnTo>
                  <a:pt x="30227" y="2629"/>
                </a:lnTo>
                <a:lnTo>
                  <a:pt x="31969" y="1743"/>
                </a:lnTo>
                <a:lnTo>
                  <a:pt x="-28731" y="319"/>
                </a:lnTo>
                <a:lnTo>
                  <a:pt x="-27488" y="203"/>
                </a:lnTo>
                <a:lnTo>
                  <a:pt x="-25812" y="125"/>
                </a:lnTo>
                <a:lnTo>
                  <a:pt x="-21085" y="0"/>
                </a:lnTo>
                <a:lnTo>
                  <a:pt x="-21543" y="836"/>
                </a:lnTo>
                <a:lnTo>
                  <a:pt x="-22696" y="2241"/>
                </a:lnTo>
                <a:lnTo>
                  <a:pt x="-24311" y="4023"/>
                </a:lnTo>
                <a:lnTo>
                  <a:pt x="-26234" y="5212"/>
                </a:lnTo>
                <a:lnTo>
                  <a:pt x="-28363" y="6005"/>
                </a:lnTo>
                <a:lnTo>
                  <a:pt x="31718" y="7276"/>
                </a:lnTo>
                <a:lnTo>
                  <a:pt x="30424" y="8227"/>
                </a:lnTo>
                <a:lnTo>
                  <a:pt x="28714" y="9708"/>
                </a:lnTo>
                <a:lnTo>
                  <a:pt x="26728" y="11542"/>
                </a:lnTo>
                <a:lnTo>
                  <a:pt x="24557" y="12764"/>
                </a:lnTo>
                <a:lnTo>
                  <a:pt x="22263" y="13579"/>
                </a:lnTo>
                <a:lnTo>
                  <a:pt x="19887" y="14122"/>
                </a:lnTo>
                <a:lnTo>
                  <a:pt x="17456" y="15331"/>
                </a:lnTo>
                <a:lnTo>
                  <a:pt x="14989" y="16984"/>
                </a:lnTo>
                <a:lnTo>
                  <a:pt x="8992" y="21674"/>
                </a:lnTo>
                <a:lnTo>
                  <a:pt x="7653" y="22060"/>
                </a:lnTo>
                <a:lnTo>
                  <a:pt x="5914" y="22316"/>
                </a:lnTo>
                <a:lnTo>
                  <a:pt x="0" y="22820"/>
                </a:lnTo>
                <a:lnTo>
                  <a:pt x="2200" y="20567"/>
                </a:lnTo>
                <a:lnTo>
                  <a:pt x="11249" y="11477"/>
                </a:lnTo>
                <a:lnTo>
                  <a:pt x="13391" y="10181"/>
                </a:lnTo>
                <a:lnTo>
                  <a:pt x="15666" y="9317"/>
                </a:lnTo>
                <a:lnTo>
                  <a:pt x="18029" y="8741"/>
                </a:lnTo>
                <a:lnTo>
                  <a:pt x="20451" y="8357"/>
                </a:lnTo>
                <a:lnTo>
                  <a:pt x="22913" y="8101"/>
                </a:lnTo>
                <a:lnTo>
                  <a:pt x="25400" y="7931"/>
                </a:lnTo>
                <a:lnTo>
                  <a:pt x="27905" y="7817"/>
                </a:lnTo>
                <a:lnTo>
                  <a:pt x="-29037" y="7619"/>
                </a:lnTo>
                <a:lnTo>
                  <a:pt x="-28538" y="8456"/>
                </a:lnTo>
                <a:lnTo>
                  <a:pt x="-28206" y="9860"/>
                </a:lnTo>
                <a:lnTo>
                  <a:pt x="-27984" y="11643"/>
                </a:lnTo>
                <a:lnTo>
                  <a:pt x="-28683" y="12832"/>
                </a:lnTo>
                <a:lnTo>
                  <a:pt x="-29996" y="13624"/>
                </a:lnTo>
                <a:lnTo>
                  <a:pt x="-31717" y="14153"/>
                </a:lnTo>
                <a:lnTo>
                  <a:pt x="32671" y="15351"/>
                </a:lnTo>
                <a:lnTo>
                  <a:pt x="31906" y="16998"/>
                </a:lnTo>
                <a:lnTo>
                  <a:pt x="30375" y="2282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InkAnnotation315"/>
          <p:cNvSpPr/>
          <p:nvPr/>
        </p:nvSpPr>
        <p:spPr>
          <a:xfrm>
            <a:off x="5608800" y="3467160"/>
            <a:ext cx="128520" cy="174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9368" h="175224">
                <a:moveTo>
                  <a:pt x="0" y="30443"/>
                </a:moveTo>
                <a:lnTo>
                  <a:pt x="0" y="23137"/>
                </a:lnTo>
                <a:lnTo>
                  <a:pt x="2258" y="20705"/>
                </a:lnTo>
                <a:lnTo>
                  <a:pt x="4045" y="18871"/>
                </a:lnTo>
                <a:lnTo>
                  <a:pt x="6931" y="17648"/>
                </a:lnTo>
                <a:lnTo>
                  <a:pt x="10546" y="16833"/>
                </a:lnTo>
                <a:lnTo>
                  <a:pt x="14651" y="16290"/>
                </a:lnTo>
                <a:lnTo>
                  <a:pt x="19081" y="15081"/>
                </a:lnTo>
                <a:lnTo>
                  <a:pt x="23727" y="13428"/>
                </a:lnTo>
                <a:lnTo>
                  <a:pt x="28518" y="11480"/>
                </a:lnTo>
                <a:lnTo>
                  <a:pt x="33405" y="9334"/>
                </a:lnTo>
                <a:lnTo>
                  <a:pt x="43352" y="4693"/>
                </a:lnTo>
                <a:lnTo>
                  <a:pt x="48375" y="3116"/>
                </a:lnTo>
                <a:lnTo>
                  <a:pt x="53416" y="2065"/>
                </a:lnTo>
                <a:lnTo>
                  <a:pt x="58471" y="1364"/>
                </a:lnTo>
                <a:lnTo>
                  <a:pt x="64380" y="897"/>
                </a:lnTo>
                <a:lnTo>
                  <a:pt x="70860" y="586"/>
                </a:lnTo>
                <a:lnTo>
                  <a:pt x="83987" y="240"/>
                </a:lnTo>
                <a:lnTo>
                  <a:pt x="111448" y="0"/>
                </a:lnTo>
                <a:lnTo>
                  <a:pt x="115785" y="834"/>
                </a:lnTo>
                <a:lnTo>
                  <a:pt x="119523" y="2237"/>
                </a:lnTo>
                <a:lnTo>
                  <a:pt x="128954" y="7270"/>
                </a:lnTo>
                <a:lnTo>
                  <a:pt x="129279" y="9702"/>
                </a:lnTo>
                <a:lnTo>
                  <a:pt x="129367" y="11536"/>
                </a:lnTo>
                <a:lnTo>
                  <a:pt x="128578" y="13605"/>
                </a:lnTo>
                <a:lnTo>
                  <a:pt x="125444" y="18162"/>
                </a:lnTo>
                <a:lnTo>
                  <a:pt x="122576" y="20563"/>
                </a:lnTo>
                <a:lnTo>
                  <a:pt x="118970" y="23009"/>
                </a:lnTo>
                <a:lnTo>
                  <a:pt x="114874" y="25487"/>
                </a:lnTo>
                <a:lnTo>
                  <a:pt x="109602" y="27139"/>
                </a:lnTo>
                <a:lnTo>
                  <a:pt x="103549" y="28240"/>
                </a:lnTo>
                <a:lnTo>
                  <a:pt x="96972" y="28975"/>
                </a:lnTo>
                <a:lnTo>
                  <a:pt x="90895" y="31158"/>
                </a:lnTo>
                <a:lnTo>
                  <a:pt x="85150" y="34306"/>
                </a:lnTo>
                <a:lnTo>
                  <a:pt x="79627" y="38099"/>
                </a:lnTo>
                <a:lnTo>
                  <a:pt x="74252" y="41474"/>
                </a:lnTo>
                <a:lnTo>
                  <a:pt x="68974" y="44570"/>
                </a:lnTo>
                <a:lnTo>
                  <a:pt x="63762" y="47481"/>
                </a:lnTo>
                <a:lnTo>
                  <a:pt x="57749" y="49422"/>
                </a:lnTo>
                <a:lnTo>
                  <a:pt x="51199" y="50715"/>
                </a:lnTo>
                <a:lnTo>
                  <a:pt x="44293" y="51578"/>
                </a:lnTo>
                <a:lnTo>
                  <a:pt x="38842" y="53000"/>
                </a:lnTo>
                <a:lnTo>
                  <a:pt x="34362" y="54794"/>
                </a:lnTo>
                <a:lnTo>
                  <a:pt x="30527" y="56837"/>
                </a:lnTo>
                <a:lnTo>
                  <a:pt x="27125" y="59046"/>
                </a:lnTo>
                <a:lnTo>
                  <a:pt x="24010" y="61365"/>
                </a:lnTo>
                <a:lnTo>
                  <a:pt x="16973" y="67125"/>
                </a:lnTo>
                <a:lnTo>
                  <a:pt x="17242" y="68444"/>
                </a:lnTo>
                <a:lnTo>
                  <a:pt x="19798" y="72168"/>
                </a:lnTo>
                <a:lnTo>
                  <a:pt x="23758" y="76646"/>
                </a:lnTo>
                <a:lnTo>
                  <a:pt x="25998" y="79025"/>
                </a:lnTo>
                <a:lnTo>
                  <a:pt x="30032" y="80611"/>
                </a:lnTo>
                <a:lnTo>
                  <a:pt x="35262" y="81668"/>
                </a:lnTo>
                <a:lnTo>
                  <a:pt x="41288" y="82373"/>
                </a:lnTo>
                <a:lnTo>
                  <a:pt x="46999" y="83690"/>
                </a:lnTo>
                <a:lnTo>
                  <a:pt x="52500" y="85414"/>
                </a:lnTo>
                <a:lnTo>
                  <a:pt x="57859" y="87410"/>
                </a:lnTo>
                <a:lnTo>
                  <a:pt x="63127" y="89588"/>
                </a:lnTo>
                <a:lnTo>
                  <a:pt x="68331" y="91886"/>
                </a:lnTo>
                <a:lnTo>
                  <a:pt x="78629" y="96698"/>
                </a:lnTo>
                <a:lnTo>
                  <a:pt x="88851" y="101659"/>
                </a:lnTo>
                <a:lnTo>
                  <a:pt x="93947" y="103320"/>
                </a:lnTo>
                <a:lnTo>
                  <a:pt x="99038" y="104428"/>
                </a:lnTo>
                <a:lnTo>
                  <a:pt x="104126" y="105166"/>
                </a:lnTo>
                <a:lnTo>
                  <a:pt x="108364" y="106505"/>
                </a:lnTo>
                <a:lnTo>
                  <a:pt x="112036" y="108244"/>
                </a:lnTo>
                <a:lnTo>
                  <a:pt x="115331" y="110251"/>
                </a:lnTo>
                <a:lnTo>
                  <a:pt x="117527" y="112435"/>
                </a:lnTo>
                <a:lnTo>
                  <a:pt x="118991" y="114738"/>
                </a:lnTo>
                <a:lnTo>
                  <a:pt x="120618" y="119554"/>
                </a:lnTo>
                <a:lnTo>
                  <a:pt x="121342" y="124517"/>
                </a:lnTo>
                <a:lnTo>
                  <a:pt x="120687" y="127026"/>
                </a:lnTo>
                <a:lnTo>
                  <a:pt x="117703" y="132071"/>
                </a:lnTo>
                <a:lnTo>
                  <a:pt x="115722" y="134602"/>
                </a:lnTo>
                <a:lnTo>
                  <a:pt x="113555" y="137136"/>
                </a:lnTo>
                <a:lnTo>
                  <a:pt x="111263" y="139672"/>
                </a:lnTo>
                <a:lnTo>
                  <a:pt x="108042" y="142209"/>
                </a:lnTo>
                <a:lnTo>
                  <a:pt x="104202" y="144747"/>
                </a:lnTo>
                <a:lnTo>
                  <a:pt x="99948" y="147286"/>
                </a:lnTo>
                <a:lnTo>
                  <a:pt x="95418" y="149825"/>
                </a:lnTo>
                <a:lnTo>
                  <a:pt x="85871" y="154904"/>
                </a:lnTo>
                <a:lnTo>
                  <a:pt x="80107" y="157444"/>
                </a:lnTo>
                <a:lnTo>
                  <a:pt x="73725" y="159983"/>
                </a:lnTo>
                <a:lnTo>
                  <a:pt x="66930" y="162524"/>
                </a:lnTo>
                <a:lnTo>
                  <a:pt x="60707" y="164217"/>
                </a:lnTo>
                <a:lnTo>
                  <a:pt x="54864" y="165346"/>
                </a:lnTo>
                <a:lnTo>
                  <a:pt x="49277" y="166098"/>
                </a:lnTo>
                <a:lnTo>
                  <a:pt x="43857" y="167447"/>
                </a:lnTo>
                <a:lnTo>
                  <a:pt x="38552" y="169192"/>
                </a:lnTo>
                <a:lnTo>
                  <a:pt x="33321" y="171202"/>
                </a:lnTo>
                <a:lnTo>
                  <a:pt x="28141" y="172543"/>
                </a:lnTo>
                <a:lnTo>
                  <a:pt x="22994" y="173436"/>
                </a:lnTo>
                <a:lnTo>
                  <a:pt x="17870" y="174031"/>
                </a:lnTo>
                <a:lnTo>
                  <a:pt x="13606" y="174429"/>
                </a:lnTo>
                <a:lnTo>
                  <a:pt x="9918" y="174694"/>
                </a:lnTo>
                <a:lnTo>
                  <a:pt x="0" y="17522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316"/>
          <p:cNvSpPr/>
          <p:nvPr/>
        </p:nvSpPr>
        <p:spPr>
          <a:xfrm>
            <a:off x="5775480" y="3497400"/>
            <a:ext cx="107640" cy="144360"/>
          </a:xfrm>
          <a:custGeom>
            <a:avLst/>
            <a:gdLst>
              <a:gd name="textAreaLeft" fmla="*/ 0 w 107640"/>
              <a:gd name="textAreaRight" fmla="*/ 108000 w 107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681" h="144781">
                <a:moveTo>
                  <a:pt x="106680" y="0"/>
                </a:moveTo>
                <a:lnTo>
                  <a:pt x="102635" y="4045"/>
                </a:lnTo>
                <a:lnTo>
                  <a:pt x="101443" y="6083"/>
                </a:lnTo>
                <a:lnTo>
                  <a:pt x="100119" y="10606"/>
                </a:lnTo>
                <a:lnTo>
                  <a:pt x="98919" y="12997"/>
                </a:lnTo>
                <a:lnTo>
                  <a:pt x="97273" y="15438"/>
                </a:lnTo>
                <a:lnTo>
                  <a:pt x="95329" y="17912"/>
                </a:lnTo>
                <a:lnTo>
                  <a:pt x="94032" y="21255"/>
                </a:lnTo>
                <a:lnTo>
                  <a:pt x="93168" y="25177"/>
                </a:lnTo>
                <a:lnTo>
                  <a:pt x="92592" y="29484"/>
                </a:lnTo>
                <a:lnTo>
                  <a:pt x="91361" y="34050"/>
                </a:lnTo>
                <a:lnTo>
                  <a:pt x="89694" y="38786"/>
                </a:lnTo>
                <a:lnTo>
                  <a:pt x="87736" y="43638"/>
                </a:lnTo>
                <a:lnTo>
                  <a:pt x="84738" y="48565"/>
                </a:lnTo>
                <a:lnTo>
                  <a:pt x="81045" y="53544"/>
                </a:lnTo>
                <a:lnTo>
                  <a:pt x="76890" y="58556"/>
                </a:lnTo>
                <a:lnTo>
                  <a:pt x="73273" y="63591"/>
                </a:lnTo>
                <a:lnTo>
                  <a:pt x="70015" y="68641"/>
                </a:lnTo>
                <a:lnTo>
                  <a:pt x="66997" y="73700"/>
                </a:lnTo>
                <a:lnTo>
                  <a:pt x="59127" y="86096"/>
                </a:lnTo>
                <a:lnTo>
                  <a:pt x="54658" y="92957"/>
                </a:lnTo>
                <a:lnTo>
                  <a:pt x="50832" y="98378"/>
                </a:lnTo>
                <a:lnTo>
                  <a:pt x="47435" y="102839"/>
                </a:lnTo>
                <a:lnTo>
                  <a:pt x="44323" y="106659"/>
                </a:lnTo>
                <a:lnTo>
                  <a:pt x="40556" y="110899"/>
                </a:lnTo>
                <a:lnTo>
                  <a:pt x="31853" y="120127"/>
                </a:lnTo>
                <a:lnTo>
                  <a:pt x="21480" y="130796"/>
                </a:lnTo>
                <a:lnTo>
                  <a:pt x="18553" y="132917"/>
                </a:lnTo>
                <a:lnTo>
                  <a:pt x="15755" y="134332"/>
                </a:lnTo>
                <a:lnTo>
                  <a:pt x="13044" y="135275"/>
                </a:lnTo>
                <a:lnTo>
                  <a:pt x="11236" y="136750"/>
                </a:lnTo>
                <a:lnTo>
                  <a:pt x="10031" y="138580"/>
                </a:lnTo>
                <a:lnTo>
                  <a:pt x="9227" y="140646"/>
                </a:lnTo>
                <a:lnTo>
                  <a:pt x="7845" y="142025"/>
                </a:lnTo>
                <a:lnTo>
                  <a:pt x="6077" y="142943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317"/>
          <p:cNvSpPr/>
          <p:nvPr/>
        </p:nvSpPr>
        <p:spPr>
          <a:xfrm>
            <a:off x="5791320" y="3527280"/>
            <a:ext cx="129960" cy="84240"/>
          </a:xfrm>
          <a:custGeom>
            <a:avLst/>
            <a:gdLst>
              <a:gd name="textAreaLeft" fmla="*/ 0 w 129960"/>
              <a:gd name="textAreaRight" fmla="*/ 130320 w 129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29542" h="8382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032" y="8289"/>
                </a:lnTo>
                <a:lnTo>
                  <a:pt x="6561" y="10606"/>
                </a:lnTo>
                <a:lnTo>
                  <a:pt x="7760" y="12998"/>
                </a:lnTo>
                <a:lnTo>
                  <a:pt x="9408" y="15438"/>
                </a:lnTo>
                <a:lnTo>
                  <a:pt x="11352" y="17912"/>
                </a:lnTo>
                <a:lnTo>
                  <a:pt x="14341" y="20408"/>
                </a:lnTo>
                <a:lnTo>
                  <a:pt x="18028" y="22919"/>
                </a:lnTo>
                <a:lnTo>
                  <a:pt x="22178" y="25439"/>
                </a:lnTo>
                <a:lnTo>
                  <a:pt x="40156" y="37077"/>
                </a:lnTo>
                <a:lnTo>
                  <a:pt x="47091" y="40805"/>
                </a:lnTo>
                <a:lnTo>
                  <a:pt x="54254" y="44136"/>
                </a:lnTo>
                <a:lnTo>
                  <a:pt x="61570" y="47204"/>
                </a:lnTo>
                <a:lnTo>
                  <a:pt x="68140" y="50943"/>
                </a:lnTo>
                <a:lnTo>
                  <a:pt x="74213" y="55129"/>
                </a:lnTo>
                <a:lnTo>
                  <a:pt x="79956" y="59612"/>
                </a:lnTo>
                <a:lnTo>
                  <a:pt x="86324" y="63448"/>
                </a:lnTo>
                <a:lnTo>
                  <a:pt x="93109" y="66852"/>
                </a:lnTo>
                <a:lnTo>
                  <a:pt x="106575" y="72892"/>
                </a:lnTo>
                <a:lnTo>
                  <a:pt x="129541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318"/>
          <p:cNvSpPr/>
          <p:nvPr/>
        </p:nvSpPr>
        <p:spPr>
          <a:xfrm>
            <a:off x="4952880" y="3718080"/>
            <a:ext cx="968400" cy="15840"/>
          </a:xfrm>
          <a:custGeom>
            <a:avLst/>
            <a:gdLst>
              <a:gd name="textAreaLeft" fmla="*/ 0 w 968400"/>
              <a:gd name="textAreaRight" fmla="*/ 968760 w 968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67742" h="15240">
                <a:moveTo>
                  <a:pt x="0" y="15239"/>
                </a:moveTo>
                <a:lnTo>
                  <a:pt x="17167" y="15239"/>
                </a:lnTo>
                <a:lnTo>
                  <a:pt x="20758" y="14393"/>
                </a:lnTo>
                <a:lnTo>
                  <a:pt x="24845" y="12982"/>
                </a:lnTo>
                <a:lnTo>
                  <a:pt x="29263" y="11194"/>
                </a:lnTo>
                <a:lnTo>
                  <a:pt x="36442" y="10002"/>
                </a:lnTo>
                <a:lnTo>
                  <a:pt x="45462" y="9208"/>
                </a:lnTo>
                <a:lnTo>
                  <a:pt x="55708" y="8679"/>
                </a:lnTo>
                <a:lnTo>
                  <a:pt x="80639" y="8090"/>
                </a:lnTo>
                <a:lnTo>
                  <a:pt x="94400" y="7933"/>
                </a:lnTo>
                <a:lnTo>
                  <a:pt x="108653" y="6982"/>
                </a:lnTo>
                <a:lnTo>
                  <a:pt x="123235" y="5501"/>
                </a:lnTo>
                <a:lnTo>
                  <a:pt x="138037" y="3667"/>
                </a:lnTo>
                <a:lnTo>
                  <a:pt x="154679" y="2444"/>
                </a:lnTo>
                <a:lnTo>
                  <a:pt x="172546" y="1629"/>
                </a:lnTo>
                <a:lnTo>
                  <a:pt x="210460" y="724"/>
                </a:lnTo>
                <a:lnTo>
                  <a:pt x="594126" y="0"/>
                </a:lnTo>
                <a:lnTo>
                  <a:pt x="616217" y="846"/>
                </a:lnTo>
                <a:lnTo>
                  <a:pt x="637719" y="2257"/>
                </a:lnTo>
                <a:lnTo>
                  <a:pt x="658826" y="4044"/>
                </a:lnTo>
                <a:lnTo>
                  <a:pt x="679670" y="5236"/>
                </a:lnTo>
                <a:lnTo>
                  <a:pt x="720894" y="6560"/>
                </a:lnTo>
                <a:lnTo>
                  <a:pt x="790381" y="7410"/>
                </a:lnTo>
                <a:lnTo>
                  <a:pt x="967741" y="761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319"/>
          <p:cNvSpPr/>
          <p:nvPr/>
        </p:nvSpPr>
        <p:spPr>
          <a:xfrm>
            <a:off x="5280120" y="378792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274321" h="167632">
                <a:moveTo>
                  <a:pt x="0" y="15231"/>
                </a:moveTo>
                <a:lnTo>
                  <a:pt x="0" y="11186"/>
                </a:lnTo>
                <a:lnTo>
                  <a:pt x="846" y="9994"/>
                </a:lnTo>
                <a:lnTo>
                  <a:pt x="2257" y="9200"/>
                </a:lnTo>
                <a:lnTo>
                  <a:pt x="9454" y="6974"/>
                </a:lnTo>
                <a:lnTo>
                  <a:pt x="19441" y="3659"/>
                </a:lnTo>
                <a:lnTo>
                  <a:pt x="24814" y="2436"/>
                </a:lnTo>
                <a:lnTo>
                  <a:pt x="30090" y="1621"/>
                </a:lnTo>
                <a:lnTo>
                  <a:pt x="35299" y="1078"/>
                </a:lnTo>
                <a:lnTo>
                  <a:pt x="40466" y="716"/>
                </a:lnTo>
                <a:lnTo>
                  <a:pt x="45604" y="474"/>
                </a:lnTo>
                <a:lnTo>
                  <a:pt x="56675" y="205"/>
                </a:lnTo>
                <a:lnTo>
                  <a:pt x="114430" y="0"/>
                </a:lnTo>
                <a:lnTo>
                  <a:pt x="121160" y="843"/>
                </a:lnTo>
                <a:lnTo>
                  <a:pt x="127340" y="2253"/>
                </a:lnTo>
                <a:lnTo>
                  <a:pt x="133153" y="4039"/>
                </a:lnTo>
                <a:lnTo>
                  <a:pt x="138722" y="5230"/>
                </a:lnTo>
                <a:lnTo>
                  <a:pt x="144128" y="6024"/>
                </a:lnTo>
                <a:lnTo>
                  <a:pt x="149425" y="6553"/>
                </a:lnTo>
                <a:lnTo>
                  <a:pt x="154650" y="7752"/>
                </a:lnTo>
                <a:lnTo>
                  <a:pt x="159827" y="9399"/>
                </a:lnTo>
                <a:lnTo>
                  <a:pt x="164971" y="11343"/>
                </a:lnTo>
                <a:lnTo>
                  <a:pt x="172945" y="15760"/>
                </a:lnTo>
                <a:lnTo>
                  <a:pt x="176257" y="18124"/>
                </a:lnTo>
                <a:lnTo>
                  <a:pt x="178465" y="20546"/>
                </a:lnTo>
                <a:lnTo>
                  <a:pt x="179936" y="23008"/>
                </a:lnTo>
                <a:lnTo>
                  <a:pt x="180917" y="25496"/>
                </a:lnTo>
                <a:lnTo>
                  <a:pt x="180725" y="28848"/>
                </a:lnTo>
                <a:lnTo>
                  <a:pt x="179750" y="32776"/>
                </a:lnTo>
                <a:lnTo>
                  <a:pt x="178253" y="37087"/>
                </a:lnTo>
                <a:lnTo>
                  <a:pt x="176409" y="40808"/>
                </a:lnTo>
                <a:lnTo>
                  <a:pt x="174333" y="44136"/>
                </a:lnTo>
                <a:lnTo>
                  <a:pt x="172102" y="47201"/>
                </a:lnTo>
                <a:lnTo>
                  <a:pt x="168921" y="50938"/>
                </a:lnTo>
                <a:lnTo>
                  <a:pt x="165108" y="55122"/>
                </a:lnTo>
                <a:lnTo>
                  <a:pt x="156355" y="64287"/>
                </a:lnTo>
                <a:lnTo>
                  <a:pt x="146820" y="74005"/>
                </a:lnTo>
                <a:lnTo>
                  <a:pt x="141060" y="78120"/>
                </a:lnTo>
                <a:lnTo>
                  <a:pt x="134680" y="81710"/>
                </a:lnTo>
                <a:lnTo>
                  <a:pt x="127887" y="84951"/>
                </a:lnTo>
                <a:lnTo>
                  <a:pt x="121664" y="88804"/>
                </a:lnTo>
                <a:lnTo>
                  <a:pt x="115823" y="93066"/>
                </a:lnTo>
                <a:lnTo>
                  <a:pt x="110235" y="97601"/>
                </a:lnTo>
                <a:lnTo>
                  <a:pt x="104817" y="101471"/>
                </a:lnTo>
                <a:lnTo>
                  <a:pt x="99512" y="104898"/>
                </a:lnTo>
                <a:lnTo>
                  <a:pt x="94281" y="108029"/>
                </a:lnTo>
                <a:lnTo>
                  <a:pt x="89947" y="111810"/>
                </a:lnTo>
                <a:lnTo>
                  <a:pt x="86211" y="116024"/>
                </a:lnTo>
                <a:lnTo>
                  <a:pt x="82875" y="120526"/>
                </a:lnTo>
                <a:lnTo>
                  <a:pt x="79803" y="124375"/>
                </a:lnTo>
                <a:lnTo>
                  <a:pt x="76909" y="127786"/>
                </a:lnTo>
                <a:lnTo>
                  <a:pt x="70225" y="135302"/>
                </a:lnTo>
                <a:lnTo>
                  <a:pt x="70524" y="136765"/>
                </a:lnTo>
                <a:lnTo>
                  <a:pt x="73112" y="140648"/>
                </a:lnTo>
                <a:lnTo>
                  <a:pt x="74828" y="145197"/>
                </a:lnTo>
                <a:lnTo>
                  <a:pt x="75285" y="147595"/>
                </a:lnTo>
                <a:lnTo>
                  <a:pt x="77283" y="150040"/>
                </a:lnTo>
                <a:lnTo>
                  <a:pt x="84019" y="155015"/>
                </a:lnTo>
                <a:lnTo>
                  <a:pt x="89032" y="156680"/>
                </a:lnTo>
                <a:lnTo>
                  <a:pt x="94915" y="157791"/>
                </a:lnTo>
                <a:lnTo>
                  <a:pt x="101377" y="158531"/>
                </a:lnTo>
                <a:lnTo>
                  <a:pt x="108225" y="159024"/>
                </a:lnTo>
                <a:lnTo>
                  <a:pt x="115330" y="159354"/>
                </a:lnTo>
                <a:lnTo>
                  <a:pt x="130845" y="159719"/>
                </a:lnTo>
                <a:lnTo>
                  <a:pt x="178307" y="159972"/>
                </a:lnTo>
                <a:lnTo>
                  <a:pt x="187451" y="160832"/>
                </a:lnTo>
                <a:lnTo>
                  <a:pt x="196087" y="162252"/>
                </a:lnTo>
                <a:lnTo>
                  <a:pt x="204385" y="164045"/>
                </a:lnTo>
                <a:lnTo>
                  <a:pt x="212456" y="165240"/>
                </a:lnTo>
                <a:lnTo>
                  <a:pt x="220378" y="166037"/>
                </a:lnTo>
                <a:lnTo>
                  <a:pt x="228199" y="166569"/>
                </a:lnTo>
                <a:lnTo>
                  <a:pt x="241404" y="167159"/>
                </a:lnTo>
                <a:lnTo>
                  <a:pt x="259634" y="167538"/>
                </a:lnTo>
                <a:lnTo>
                  <a:pt x="274320" y="16763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320"/>
          <p:cNvSpPr/>
          <p:nvPr/>
        </p:nvSpPr>
        <p:spPr>
          <a:xfrm>
            <a:off x="5075280" y="3429000"/>
            <a:ext cx="304920" cy="220680"/>
          </a:xfrm>
          <a:custGeom>
            <a:avLst/>
            <a:gdLst>
              <a:gd name="textAreaLeft" fmla="*/ 0 w 304920"/>
              <a:gd name="textAreaRight" fmla="*/ 305280 w 304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801" h="220981">
                <a:moveTo>
                  <a:pt x="304800" y="0"/>
                </a:moveTo>
                <a:lnTo>
                  <a:pt x="297494" y="0"/>
                </a:lnTo>
                <a:lnTo>
                  <a:pt x="290313" y="6084"/>
                </a:lnTo>
                <a:lnTo>
                  <a:pt x="282556" y="10606"/>
                </a:lnTo>
                <a:lnTo>
                  <a:pt x="273465" y="15438"/>
                </a:lnTo>
                <a:lnTo>
                  <a:pt x="268670" y="17912"/>
                </a:lnTo>
                <a:lnTo>
                  <a:pt x="263781" y="21255"/>
                </a:lnTo>
                <a:lnTo>
                  <a:pt x="258827" y="25177"/>
                </a:lnTo>
                <a:lnTo>
                  <a:pt x="253831" y="29485"/>
                </a:lnTo>
                <a:lnTo>
                  <a:pt x="247115" y="34049"/>
                </a:lnTo>
                <a:lnTo>
                  <a:pt x="239250" y="38786"/>
                </a:lnTo>
                <a:lnTo>
                  <a:pt x="230620" y="43638"/>
                </a:lnTo>
                <a:lnTo>
                  <a:pt x="222327" y="48565"/>
                </a:lnTo>
                <a:lnTo>
                  <a:pt x="206339" y="58556"/>
                </a:lnTo>
                <a:lnTo>
                  <a:pt x="197673" y="64437"/>
                </a:lnTo>
                <a:lnTo>
                  <a:pt x="179013" y="77745"/>
                </a:lnTo>
                <a:lnTo>
                  <a:pt x="169295" y="84004"/>
                </a:lnTo>
                <a:lnTo>
                  <a:pt x="159430" y="89869"/>
                </a:lnTo>
                <a:lnTo>
                  <a:pt x="149467" y="95473"/>
                </a:lnTo>
                <a:lnTo>
                  <a:pt x="139438" y="101748"/>
                </a:lnTo>
                <a:lnTo>
                  <a:pt x="129365" y="108472"/>
                </a:lnTo>
                <a:lnTo>
                  <a:pt x="109143" y="122717"/>
                </a:lnTo>
                <a:lnTo>
                  <a:pt x="88866" y="137514"/>
                </a:lnTo>
                <a:lnTo>
                  <a:pt x="79563" y="145016"/>
                </a:lnTo>
                <a:lnTo>
                  <a:pt x="70822" y="152557"/>
                </a:lnTo>
                <a:lnTo>
                  <a:pt x="62455" y="160125"/>
                </a:lnTo>
                <a:lnTo>
                  <a:pt x="53490" y="167710"/>
                </a:lnTo>
                <a:lnTo>
                  <a:pt x="27232" y="188828"/>
                </a:lnTo>
                <a:lnTo>
                  <a:pt x="21541" y="193618"/>
                </a:lnTo>
                <a:lnTo>
                  <a:pt x="16901" y="197659"/>
                </a:lnTo>
                <a:lnTo>
                  <a:pt x="12961" y="202046"/>
                </a:lnTo>
                <a:lnTo>
                  <a:pt x="9487" y="206664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321"/>
          <p:cNvSpPr/>
          <p:nvPr/>
        </p:nvSpPr>
        <p:spPr>
          <a:xfrm>
            <a:off x="5235480" y="3711600"/>
            <a:ext cx="228600" cy="1969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28600" h="198121">
                <a:moveTo>
                  <a:pt x="228599" y="0"/>
                </a:moveTo>
                <a:lnTo>
                  <a:pt x="228599" y="4045"/>
                </a:lnTo>
                <a:lnTo>
                  <a:pt x="227752" y="6084"/>
                </a:lnTo>
                <a:lnTo>
                  <a:pt x="224554" y="10606"/>
                </a:lnTo>
                <a:lnTo>
                  <a:pt x="223362" y="12997"/>
                </a:lnTo>
                <a:lnTo>
                  <a:pt x="222038" y="17912"/>
                </a:lnTo>
                <a:lnTo>
                  <a:pt x="219991" y="21255"/>
                </a:lnTo>
                <a:lnTo>
                  <a:pt x="216934" y="25177"/>
                </a:lnTo>
                <a:lnTo>
                  <a:pt x="213202" y="29484"/>
                </a:lnTo>
                <a:lnTo>
                  <a:pt x="209869" y="34050"/>
                </a:lnTo>
                <a:lnTo>
                  <a:pt x="206798" y="38787"/>
                </a:lnTo>
                <a:lnTo>
                  <a:pt x="203905" y="43637"/>
                </a:lnTo>
                <a:lnTo>
                  <a:pt x="199437" y="48565"/>
                </a:lnTo>
                <a:lnTo>
                  <a:pt x="193917" y="53544"/>
                </a:lnTo>
                <a:lnTo>
                  <a:pt x="187698" y="58555"/>
                </a:lnTo>
                <a:lnTo>
                  <a:pt x="181858" y="64437"/>
                </a:lnTo>
                <a:lnTo>
                  <a:pt x="176272" y="70898"/>
                </a:lnTo>
                <a:lnTo>
                  <a:pt x="170854" y="77745"/>
                </a:lnTo>
                <a:lnTo>
                  <a:pt x="164702" y="84004"/>
                </a:lnTo>
                <a:lnTo>
                  <a:pt x="158062" y="89869"/>
                </a:lnTo>
                <a:lnTo>
                  <a:pt x="151094" y="95473"/>
                </a:lnTo>
                <a:lnTo>
                  <a:pt x="143909" y="101749"/>
                </a:lnTo>
                <a:lnTo>
                  <a:pt x="136579" y="108473"/>
                </a:lnTo>
                <a:lnTo>
                  <a:pt x="129153" y="115495"/>
                </a:lnTo>
                <a:lnTo>
                  <a:pt x="121662" y="121870"/>
                </a:lnTo>
                <a:lnTo>
                  <a:pt x="114127" y="127813"/>
                </a:lnTo>
                <a:lnTo>
                  <a:pt x="106564" y="133469"/>
                </a:lnTo>
                <a:lnTo>
                  <a:pt x="98136" y="138932"/>
                </a:lnTo>
                <a:lnTo>
                  <a:pt x="89130" y="144268"/>
                </a:lnTo>
                <a:lnTo>
                  <a:pt x="79740" y="149519"/>
                </a:lnTo>
                <a:lnTo>
                  <a:pt x="70939" y="155559"/>
                </a:lnTo>
                <a:lnTo>
                  <a:pt x="62533" y="162127"/>
                </a:lnTo>
                <a:lnTo>
                  <a:pt x="54389" y="169044"/>
                </a:lnTo>
                <a:lnTo>
                  <a:pt x="45572" y="174503"/>
                </a:lnTo>
                <a:lnTo>
                  <a:pt x="36307" y="178989"/>
                </a:lnTo>
                <a:lnTo>
                  <a:pt x="26745" y="182826"/>
                </a:lnTo>
                <a:lnTo>
                  <a:pt x="19523" y="186231"/>
                </a:lnTo>
                <a:lnTo>
                  <a:pt x="13862" y="189347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322"/>
          <p:cNvSpPr/>
          <p:nvPr/>
        </p:nvSpPr>
        <p:spPr>
          <a:xfrm>
            <a:off x="5006880" y="3298680"/>
            <a:ext cx="158760" cy="135000"/>
          </a:xfrm>
          <a:custGeom>
            <a:avLst/>
            <a:gdLst>
              <a:gd name="textAreaLeft" fmla="*/ 0 w 158760"/>
              <a:gd name="textAreaRight" fmla="*/ 159120 w 158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9431" h="133633">
                <a:moveTo>
                  <a:pt x="52987" y="0"/>
                </a:moveTo>
                <a:lnTo>
                  <a:pt x="48942" y="4045"/>
                </a:lnTo>
                <a:lnTo>
                  <a:pt x="47750" y="6084"/>
                </a:lnTo>
                <a:lnTo>
                  <a:pt x="46956" y="8289"/>
                </a:lnTo>
                <a:lnTo>
                  <a:pt x="46426" y="10606"/>
                </a:lnTo>
                <a:lnTo>
                  <a:pt x="46073" y="12998"/>
                </a:lnTo>
                <a:lnTo>
                  <a:pt x="45838" y="15438"/>
                </a:lnTo>
                <a:lnTo>
                  <a:pt x="45681" y="17912"/>
                </a:lnTo>
                <a:lnTo>
                  <a:pt x="44730" y="20408"/>
                </a:lnTo>
                <a:lnTo>
                  <a:pt x="43249" y="22919"/>
                </a:lnTo>
                <a:lnTo>
                  <a:pt x="41415" y="25439"/>
                </a:lnTo>
                <a:lnTo>
                  <a:pt x="39346" y="27966"/>
                </a:lnTo>
                <a:lnTo>
                  <a:pt x="37120" y="30498"/>
                </a:lnTo>
                <a:lnTo>
                  <a:pt x="34789" y="33032"/>
                </a:lnTo>
                <a:lnTo>
                  <a:pt x="29941" y="38105"/>
                </a:lnTo>
                <a:lnTo>
                  <a:pt x="27463" y="40643"/>
                </a:lnTo>
                <a:lnTo>
                  <a:pt x="24965" y="42336"/>
                </a:lnTo>
                <a:lnTo>
                  <a:pt x="22452" y="43464"/>
                </a:lnTo>
                <a:lnTo>
                  <a:pt x="19930" y="44216"/>
                </a:lnTo>
                <a:lnTo>
                  <a:pt x="17403" y="45564"/>
                </a:lnTo>
                <a:lnTo>
                  <a:pt x="14871" y="47310"/>
                </a:lnTo>
                <a:lnTo>
                  <a:pt x="8769" y="52149"/>
                </a:lnTo>
                <a:lnTo>
                  <a:pt x="5676" y="52811"/>
                </a:lnTo>
                <a:lnTo>
                  <a:pt x="0" y="53309"/>
                </a:lnTo>
                <a:lnTo>
                  <a:pt x="17569" y="53339"/>
                </a:lnTo>
                <a:lnTo>
                  <a:pt x="20908" y="52493"/>
                </a:lnTo>
                <a:lnTo>
                  <a:pt x="24827" y="51082"/>
                </a:lnTo>
                <a:lnTo>
                  <a:pt x="29134" y="49295"/>
                </a:lnTo>
                <a:lnTo>
                  <a:pt x="34545" y="48103"/>
                </a:lnTo>
                <a:lnTo>
                  <a:pt x="40692" y="47309"/>
                </a:lnTo>
                <a:lnTo>
                  <a:pt x="47331" y="46780"/>
                </a:lnTo>
                <a:lnTo>
                  <a:pt x="53449" y="46426"/>
                </a:lnTo>
                <a:lnTo>
                  <a:pt x="64764" y="46034"/>
                </a:lnTo>
                <a:lnTo>
                  <a:pt x="85825" y="45782"/>
                </a:lnTo>
                <a:lnTo>
                  <a:pt x="111383" y="45728"/>
                </a:lnTo>
                <a:lnTo>
                  <a:pt x="116471" y="46572"/>
                </a:lnTo>
                <a:lnTo>
                  <a:pt x="121556" y="47981"/>
                </a:lnTo>
                <a:lnTo>
                  <a:pt x="126640" y="49768"/>
                </a:lnTo>
                <a:lnTo>
                  <a:pt x="130876" y="51805"/>
                </a:lnTo>
                <a:lnTo>
                  <a:pt x="134546" y="54010"/>
                </a:lnTo>
                <a:lnTo>
                  <a:pt x="137839" y="56327"/>
                </a:lnTo>
                <a:lnTo>
                  <a:pt x="141729" y="58718"/>
                </a:lnTo>
                <a:lnTo>
                  <a:pt x="146015" y="61159"/>
                </a:lnTo>
                <a:lnTo>
                  <a:pt x="150566" y="63632"/>
                </a:lnTo>
                <a:lnTo>
                  <a:pt x="153599" y="66128"/>
                </a:lnTo>
                <a:lnTo>
                  <a:pt x="155622" y="68639"/>
                </a:lnTo>
                <a:lnTo>
                  <a:pt x="156970" y="71159"/>
                </a:lnTo>
                <a:lnTo>
                  <a:pt x="157869" y="74533"/>
                </a:lnTo>
                <a:lnTo>
                  <a:pt x="158468" y="78475"/>
                </a:lnTo>
                <a:lnTo>
                  <a:pt x="158868" y="82797"/>
                </a:lnTo>
                <a:lnTo>
                  <a:pt x="159135" y="86525"/>
                </a:lnTo>
                <a:lnTo>
                  <a:pt x="159312" y="89856"/>
                </a:lnTo>
                <a:lnTo>
                  <a:pt x="159430" y="92924"/>
                </a:lnTo>
                <a:lnTo>
                  <a:pt x="157816" y="95816"/>
                </a:lnTo>
                <a:lnTo>
                  <a:pt x="155047" y="98591"/>
                </a:lnTo>
                <a:lnTo>
                  <a:pt x="151506" y="101287"/>
                </a:lnTo>
                <a:lnTo>
                  <a:pt x="148300" y="103932"/>
                </a:lnTo>
                <a:lnTo>
                  <a:pt x="145316" y="106541"/>
                </a:lnTo>
                <a:lnTo>
                  <a:pt x="142480" y="109127"/>
                </a:lnTo>
                <a:lnTo>
                  <a:pt x="137070" y="114259"/>
                </a:lnTo>
                <a:lnTo>
                  <a:pt x="134442" y="116813"/>
                </a:lnTo>
                <a:lnTo>
                  <a:pt x="130998" y="119362"/>
                </a:lnTo>
                <a:lnTo>
                  <a:pt x="127007" y="121908"/>
                </a:lnTo>
                <a:lnTo>
                  <a:pt x="122654" y="124452"/>
                </a:lnTo>
                <a:lnTo>
                  <a:pt x="117212" y="126148"/>
                </a:lnTo>
                <a:lnTo>
                  <a:pt x="111043" y="127279"/>
                </a:lnTo>
                <a:lnTo>
                  <a:pt x="104391" y="128033"/>
                </a:lnTo>
                <a:lnTo>
                  <a:pt x="98263" y="129382"/>
                </a:lnTo>
                <a:lnTo>
                  <a:pt x="92484" y="131128"/>
                </a:lnTo>
                <a:lnTo>
                  <a:pt x="86938" y="133139"/>
                </a:lnTo>
                <a:lnTo>
                  <a:pt x="81548" y="133632"/>
                </a:lnTo>
                <a:lnTo>
                  <a:pt x="76261" y="133115"/>
                </a:lnTo>
                <a:lnTo>
                  <a:pt x="71043" y="131924"/>
                </a:lnTo>
                <a:lnTo>
                  <a:pt x="65871" y="131129"/>
                </a:lnTo>
                <a:lnTo>
                  <a:pt x="60730" y="130600"/>
                </a:lnTo>
                <a:lnTo>
                  <a:pt x="55609" y="130247"/>
                </a:lnTo>
                <a:lnTo>
                  <a:pt x="50501" y="130011"/>
                </a:lnTo>
                <a:lnTo>
                  <a:pt x="30127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323"/>
          <p:cNvSpPr/>
          <p:nvPr/>
        </p:nvSpPr>
        <p:spPr>
          <a:xfrm>
            <a:off x="5037120" y="326088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33">
                <a:moveTo>
                  <a:pt x="0" y="7612"/>
                </a:moveTo>
                <a:lnTo>
                  <a:pt x="4045" y="7612"/>
                </a:lnTo>
                <a:lnTo>
                  <a:pt x="6084" y="6765"/>
                </a:lnTo>
                <a:lnTo>
                  <a:pt x="8289" y="5354"/>
                </a:lnTo>
                <a:lnTo>
                  <a:pt x="13867" y="1051"/>
                </a:lnTo>
                <a:lnTo>
                  <a:pt x="16018" y="698"/>
                </a:lnTo>
                <a:lnTo>
                  <a:pt x="19145" y="463"/>
                </a:lnTo>
                <a:lnTo>
                  <a:pt x="22924" y="306"/>
                </a:lnTo>
                <a:lnTo>
                  <a:pt x="40377" y="85"/>
                </a:lnTo>
                <a:lnTo>
                  <a:pt x="88065" y="0"/>
                </a:lnTo>
                <a:lnTo>
                  <a:pt x="97657" y="844"/>
                </a:lnTo>
                <a:lnTo>
                  <a:pt x="107438" y="2253"/>
                </a:lnTo>
                <a:lnTo>
                  <a:pt x="117345" y="4040"/>
                </a:lnTo>
                <a:lnTo>
                  <a:pt x="126490" y="5230"/>
                </a:lnTo>
                <a:lnTo>
                  <a:pt x="135127" y="6024"/>
                </a:lnTo>
                <a:lnTo>
                  <a:pt x="143425" y="6553"/>
                </a:lnTo>
                <a:lnTo>
                  <a:pt x="152343" y="7753"/>
                </a:lnTo>
                <a:lnTo>
                  <a:pt x="161675" y="9399"/>
                </a:lnTo>
                <a:lnTo>
                  <a:pt x="171283" y="11343"/>
                </a:lnTo>
                <a:lnTo>
                  <a:pt x="178536" y="12640"/>
                </a:lnTo>
                <a:lnTo>
                  <a:pt x="184217" y="13504"/>
                </a:lnTo>
                <a:lnTo>
                  <a:pt x="188851" y="14080"/>
                </a:lnTo>
                <a:lnTo>
                  <a:pt x="193634" y="14464"/>
                </a:lnTo>
                <a:lnTo>
                  <a:pt x="198516" y="14720"/>
                </a:lnTo>
                <a:lnTo>
                  <a:pt x="213360" y="1523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324"/>
          <p:cNvSpPr/>
          <p:nvPr/>
        </p:nvSpPr>
        <p:spPr>
          <a:xfrm>
            <a:off x="5173560" y="4060800"/>
            <a:ext cx="61920" cy="190440"/>
          </a:xfrm>
          <a:custGeom>
            <a:avLst/>
            <a:gdLst>
              <a:gd name="textAreaLeft" fmla="*/ 0 w 61920"/>
              <a:gd name="textAreaRight" fmla="*/ 62280 w 61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60961" h="190501">
                <a:moveTo>
                  <a:pt x="60960" y="0"/>
                </a:moveTo>
                <a:lnTo>
                  <a:pt x="60960" y="25505"/>
                </a:lnTo>
                <a:lnTo>
                  <a:pt x="60113" y="28857"/>
                </a:lnTo>
                <a:lnTo>
                  <a:pt x="58702" y="32785"/>
                </a:lnTo>
                <a:lnTo>
                  <a:pt x="56915" y="37097"/>
                </a:lnTo>
                <a:lnTo>
                  <a:pt x="55723" y="42511"/>
                </a:lnTo>
                <a:lnTo>
                  <a:pt x="54929" y="48661"/>
                </a:lnTo>
                <a:lnTo>
                  <a:pt x="54399" y="55300"/>
                </a:lnTo>
                <a:lnTo>
                  <a:pt x="53199" y="61421"/>
                </a:lnTo>
                <a:lnTo>
                  <a:pt x="51552" y="67194"/>
                </a:lnTo>
                <a:lnTo>
                  <a:pt x="49608" y="72736"/>
                </a:lnTo>
                <a:lnTo>
                  <a:pt x="47466" y="78124"/>
                </a:lnTo>
                <a:lnTo>
                  <a:pt x="45190" y="83409"/>
                </a:lnTo>
                <a:lnTo>
                  <a:pt x="42827" y="88626"/>
                </a:lnTo>
                <a:lnTo>
                  <a:pt x="39558" y="94644"/>
                </a:lnTo>
                <a:lnTo>
                  <a:pt x="35685" y="101196"/>
                </a:lnTo>
                <a:lnTo>
                  <a:pt x="31410" y="108104"/>
                </a:lnTo>
                <a:lnTo>
                  <a:pt x="27714" y="114403"/>
                </a:lnTo>
                <a:lnTo>
                  <a:pt x="24403" y="120296"/>
                </a:lnTo>
                <a:lnTo>
                  <a:pt x="21348" y="125917"/>
                </a:lnTo>
                <a:lnTo>
                  <a:pt x="18465" y="132205"/>
                </a:lnTo>
                <a:lnTo>
                  <a:pt x="15697" y="138937"/>
                </a:lnTo>
                <a:lnTo>
                  <a:pt x="13005" y="145965"/>
                </a:lnTo>
                <a:lnTo>
                  <a:pt x="10363" y="152343"/>
                </a:lnTo>
                <a:lnTo>
                  <a:pt x="7755" y="158289"/>
                </a:lnTo>
                <a:lnTo>
                  <a:pt x="5170" y="163946"/>
                </a:lnTo>
                <a:lnTo>
                  <a:pt x="3447" y="169411"/>
                </a:lnTo>
                <a:lnTo>
                  <a:pt x="2297" y="174747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325"/>
          <p:cNvSpPr/>
          <p:nvPr/>
        </p:nvSpPr>
        <p:spPr>
          <a:xfrm>
            <a:off x="5288040" y="4084560"/>
            <a:ext cx="217440" cy="181080"/>
          </a:xfrm>
          <a:custGeom>
            <a:avLst/>
            <a:gdLst>
              <a:gd name="textAreaLeft" fmla="*/ 0 w 217440"/>
              <a:gd name="textAreaRight" fmla="*/ 217800 w 2174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497" h="181334">
                <a:moveTo>
                  <a:pt x="76040" y="0"/>
                </a:moveTo>
                <a:lnTo>
                  <a:pt x="76040" y="10606"/>
                </a:lnTo>
                <a:lnTo>
                  <a:pt x="75193" y="12997"/>
                </a:lnTo>
                <a:lnTo>
                  <a:pt x="71995" y="17912"/>
                </a:lnTo>
                <a:lnTo>
                  <a:pt x="69957" y="21255"/>
                </a:lnTo>
                <a:lnTo>
                  <a:pt x="67751" y="25176"/>
                </a:lnTo>
                <a:lnTo>
                  <a:pt x="63042" y="34050"/>
                </a:lnTo>
                <a:lnTo>
                  <a:pt x="58127" y="43637"/>
                </a:lnTo>
                <a:lnTo>
                  <a:pt x="54785" y="48565"/>
                </a:lnTo>
                <a:lnTo>
                  <a:pt x="50864" y="53544"/>
                </a:lnTo>
                <a:lnTo>
                  <a:pt x="46555" y="58556"/>
                </a:lnTo>
                <a:lnTo>
                  <a:pt x="42837" y="63591"/>
                </a:lnTo>
                <a:lnTo>
                  <a:pt x="39512" y="68640"/>
                </a:lnTo>
                <a:lnTo>
                  <a:pt x="36447" y="73701"/>
                </a:lnTo>
                <a:lnTo>
                  <a:pt x="33558" y="78767"/>
                </a:lnTo>
                <a:lnTo>
                  <a:pt x="28090" y="88912"/>
                </a:lnTo>
                <a:lnTo>
                  <a:pt x="24600" y="93988"/>
                </a:lnTo>
                <a:lnTo>
                  <a:pt x="20580" y="99066"/>
                </a:lnTo>
                <a:lnTo>
                  <a:pt x="16206" y="104143"/>
                </a:lnTo>
                <a:lnTo>
                  <a:pt x="12444" y="107529"/>
                </a:lnTo>
                <a:lnTo>
                  <a:pt x="6007" y="111291"/>
                </a:lnTo>
                <a:lnTo>
                  <a:pt x="3951" y="113140"/>
                </a:lnTo>
                <a:lnTo>
                  <a:pt x="2580" y="115221"/>
                </a:lnTo>
                <a:lnTo>
                  <a:pt x="381" y="120597"/>
                </a:lnTo>
                <a:lnTo>
                  <a:pt x="201" y="120191"/>
                </a:lnTo>
                <a:lnTo>
                  <a:pt x="0" y="117483"/>
                </a:lnTo>
                <a:lnTo>
                  <a:pt x="793" y="116422"/>
                </a:lnTo>
                <a:lnTo>
                  <a:pt x="2169" y="115715"/>
                </a:lnTo>
                <a:lnTo>
                  <a:pt x="3933" y="115243"/>
                </a:lnTo>
                <a:lnTo>
                  <a:pt x="10408" y="110203"/>
                </a:lnTo>
                <a:lnTo>
                  <a:pt x="14505" y="106489"/>
                </a:lnTo>
                <a:lnTo>
                  <a:pt x="23573" y="97846"/>
                </a:lnTo>
                <a:lnTo>
                  <a:pt x="28362" y="93171"/>
                </a:lnTo>
                <a:lnTo>
                  <a:pt x="34942" y="88361"/>
                </a:lnTo>
                <a:lnTo>
                  <a:pt x="42714" y="83460"/>
                </a:lnTo>
                <a:lnTo>
                  <a:pt x="51283" y="78500"/>
                </a:lnTo>
                <a:lnTo>
                  <a:pt x="58688" y="73501"/>
                </a:lnTo>
                <a:lnTo>
                  <a:pt x="65318" y="68474"/>
                </a:lnTo>
                <a:lnTo>
                  <a:pt x="71432" y="63429"/>
                </a:lnTo>
                <a:lnTo>
                  <a:pt x="78048" y="59219"/>
                </a:lnTo>
                <a:lnTo>
                  <a:pt x="84999" y="55567"/>
                </a:lnTo>
                <a:lnTo>
                  <a:pt x="92172" y="52284"/>
                </a:lnTo>
                <a:lnTo>
                  <a:pt x="99495" y="49250"/>
                </a:lnTo>
                <a:lnTo>
                  <a:pt x="106917" y="46380"/>
                </a:lnTo>
                <a:lnTo>
                  <a:pt x="114405" y="43620"/>
                </a:lnTo>
                <a:lnTo>
                  <a:pt x="121936" y="41780"/>
                </a:lnTo>
                <a:lnTo>
                  <a:pt x="129497" y="40554"/>
                </a:lnTo>
                <a:lnTo>
                  <a:pt x="137078" y="39735"/>
                </a:lnTo>
                <a:lnTo>
                  <a:pt x="143825" y="39190"/>
                </a:lnTo>
                <a:lnTo>
                  <a:pt x="150017" y="38827"/>
                </a:lnTo>
                <a:lnTo>
                  <a:pt x="161411" y="38424"/>
                </a:lnTo>
                <a:lnTo>
                  <a:pt x="172121" y="38244"/>
                </a:lnTo>
                <a:lnTo>
                  <a:pt x="177347" y="39042"/>
                </a:lnTo>
                <a:lnTo>
                  <a:pt x="182525" y="40422"/>
                </a:lnTo>
                <a:lnTo>
                  <a:pt x="187670" y="42188"/>
                </a:lnTo>
                <a:lnTo>
                  <a:pt x="191946" y="44212"/>
                </a:lnTo>
                <a:lnTo>
                  <a:pt x="195644" y="46408"/>
                </a:lnTo>
                <a:lnTo>
                  <a:pt x="198956" y="48718"/>
                </a:lnTo>
                <a:lnTo>
                  <a:pt x="202011" y="51952"/>
                </a:lnTo>
                <a:lnTo>
                  <a:pt x="204893" y="55802"/>
                </a:lnTo>
                <a:lnTo>
                  <a:pt x="207663" y="60061"/>
                </a:lnTo>
                <a:lnTo>
                  <a:pt x="210355" y="64594"/>
                </a:lnTo>
                <a:lnTo>
                  <a:pt x="212996" y="69309"/>
                </a:lnTo>
                <a:lnTo>
                  <a:pt x="215604" y="74146"/>
                </a:lnTo>
                <a:lnTo>
                  <a:pt x="216496" y="79911"/>
                </a:lnTo>
                <a:lnTo>
                  <a:pt x="216244" y="86294"/>
                </a:lnTo>
                <a:lnTo>
                  <a:pt x="215229" y="93089"/>
                </a:lnTo>
                <a:lnTo>
                  <a:pt x="213706" y="100159"/>
                </a:lnTo>
                <a:lnTo>
                  <a:pt x="211844" y="107413"/>
                </a:lnTo>
                <a:lnTo>
                  <a:pt x="209756" y="114789"/>
                </a:lnTo>
                <a:lnTo>
                  <a:pt x="207517" y="121399"/>
                </a:lnTo>
                <a:lnTo>
                  <a:pt x="205178" y="127500"/>
                </a:lnTo>
                <a:lnTo>
                  <a:pt x="202772" y="133260"/>
                </a:lnTo>
                <a:lnTo>
                  <a:pt x="200321" y="138793"/>
                </a:lnTo>
                <a:lnTo>
                  <a:pt x="195340" y="149457"/>
                </a:lnTo>
                <a:lnTo>
                  <a:pt x="191981" y="153825"/>
                </a:lnTo>
                <a:lnTo>
                  <a:pt x="188047" y="157583"/>
                </a:lnTo>
                <a:lnTo>
                  <a:pt x="183731" y="160935"/>
                </a:lnTo>
                <a:lnTo>
                  <a:pt x="179161" y="164017"/>
                </a:lnTo>
                <a:lnTo>
                  <a:pt x="174420" y="166918"/>
                </a:lnTo>
                <a:lnTo>
                  <a:pt x="169566" y="169699"/>
                </a:lnTo>
                <a:lnTo>
                  <a:pt x="159658" y="175046"/>
                </a:lnTo>
                <a:lnTo>
                  <a:pt x="154646" y="177657"/>
                </a:lnTo>
                <a:lnTo>
                  <a:pt x="148764" y="179398"/>
                </a:lnTo>
                <a:lnTo>
                  <a:pt x="142303" y="180559"/>
                </a:lnTo>
                <a:lnTo>
                  <a:pt x="135455" y="181333"/>
                </a:lnTo>
                <a:lnTo>
                  <a:pt x="129196" y="181001"/>
                </a:lnTo>
                <a:lnTo>
                  <a:pt x="123331" y="179935"/>
                </a:lnTo>
                <a:lnTo>
                  <a:pt x="117727" y="178376"/>
                </a:lnTo>
                <a:lnTo>
                  <a:pt x="113145" y="177338"/>
                </a:lnTo>
                <a:lnTo>
                  <a:pt x="109243" y="176645"/>
                </a:lnTo>
                <a:lnTo>
                  <a:pt x="9890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326"/>
          <p:cNvSpPr/>
          <p:nvPr/>
        </p:nvSpPr>
        <p:spPr>
          <a:xfrm>
            <a:off x="5349960" y="4046400"/>
            <a:ext cx="234720" cy="46080"/>
          </a:xfrm>
          <a:custGeom>
            <a:avLst/>
            <a:gdLst>
              <a:gd name="textAreaLeft" fmla="*/ 0 w 234720"/>
              <a:gd name="textAreaRight" fmla="*/ 235080 w 234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36220" h="45721">
                <a:moveTo>
                  <a:pt x="0" y="0"/>
                </a:moveTo>
                <a:lnTo>
                  <a:pt x="29483" y="0"/>
                </a:lnTo>
                <a:lnTo>
                  <a:pt x="34895" y="847"/>
                </a:lnTo>
                <a:lnTo>
                  <a:pt x="41044" y="2258"/>
                </a:lnTo>
                <a:lnTo>
                  <a:pt x="47682" y="4045"/>
                </a:lnTo>
                <a:lnTo>
                  <a:pt x="61831" y="8289"/>
                </a:lnTo>
                <a:lnTo>
                  <a:pt x="69161" y="10606"/>
                </a:lnTo>
                <a:lnTo>
                  <a:pt x="86336" y="15438"/>
                </a:lnTo>
                <a:lnTo>
                  <a:pt x="155086" y="33031"/>
                </a:lnTo>
                <a:lnTo>
                  <a:pt x="177583" y="38105"/>
                </a:lnTo>
                <a:lnTo>
                  <a:pt x="189508" y="40643"/>
                </a:lnTo>
                <a:lnTo>
                  <a:pt x="199999" y="42335"/>
                </a:lnTo>
                <a:lnTo>
                  <a:pt x="209532" y="43463"/>
                </a:lnTo>
                <a:lnTo>
                  <a:pt x="236219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327"/>
          <p:cNvSpPr/>
          <p:nvPr/>
        </p:nvSpPr>
        <p:spPr>
          <a:xfrm>
            <a:off x="5540400" y="4076640"/>
            <a:ext cx="228600" cy="190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8600" h="190501">
                <a:moveTo>
                  <a:pt x="228599" y="0"/>
                </a:moveTo>
                <a:lnTo>
                  <a:pt x="228599" y="10606"/>
                </a:lnTo>
                <a:lnTo>
                  <a:pt x="227752" y="12150"/>
                </a:lnTo>
                <a:lnTo>
                  <a:pt x="226341" y="13181"/>
                </a:lnTo>
                <a:lnTo>
                  <a:pt x="224554" y="13867"/>
                </a:lnTo>
                <a:lnTo>
                  <a:pt x="223362" y="16018"/>
                </a:lnTo>
                <a:lnTo>
                  <a:pt x="222568" y="19145"/>
                </a:lnTo>
                <a:lnTo>
                  <a:pt x="222038" y="22924"/>
                </a:lnTo>
                <a:lnTo>
                  <a:pt x="220838" y="27136"/>
                </a:lnTo>
                <a:lnTo>
                  <a:pt x="219192" y="31638"/>
                </a:lnTo>
                <a:lnTo>
                  <a:pt x="217248" y="36332"/>
                </a:lnTo>
                <a:lnTo>
                  <a:pt x="214258" y="41154"/>
                </a:lnTo>
                <a:lnTo>
                  <a:pt x="210572" y="46063"/>
                </a:lnTo>
                <a:lnTo>
                  <a:pt x="206421" y="51029"/>
                </a:lnTo>
                <a:lnTo>
                  <a:pt x="201960" y="56033"/>
                </a:lnTo>
                <a:lnTo>
                  <a:pt x="192488" y="66108"/>
                </a:lnTo>
                <a:lnTo>
                  <a:pt x="177636" y="81300"/>
                </a:lnTo>
                <a:lnTo>
                  <a:pt x="170917" y="87220"/>
                </a:lnTo>
                <a:lnTo>
                  <a:pt x="163051" y="93707"/>
                </a:lnTo>
                <a:lnTo>
                  <a:pt x="154421" y="100571"/>
                </a:lnTo>
                <a:lnTo>
                  <a:pt x="146127" y="107688"/>
                </a:lnTo>
                <a:lnTo>
                  <a:pt x="138057" y="114972"/>
                </a:lnTo>
                <a:lnTo>
                  <a:pt x="130138" y="122368"/>
                </a:lnTo>
                <a:lnTo>
                  <a:pt x="122318" y="128992"/>
                </a:lnTo>
                <a:lnTo>
                  <a:pt x="114565" y="135101"/>
                </a:lnTo>
                <a:lnTo>
                  <a:pt x="106857" y="140868"/>
                </a:lnTo>
                <a:lnTo>
                  <a:pt x="98331" y="146405"/>
                </a:lnTo>
                <a:lnTo>
                  <a:pt x="89260" y="151790"/>
                </a:lnTo>
                <a:lnTo>
                  <a:pt x="79826" y="157073"/>
                </a:lnTo>
                <a:lnTo>
                  <a:pt x="70997" y="161442"/>
                </a:lnTo>
                <a:lnTo>
                  <a:pt x="62572" y="165202"/>
                </a:lnTo>
                <a:lnTo>
                  <a:pt x="54414" y="168555"/>
                </a:lnTo>
                <a:lnTo>
                  <a:pt x="47282" y="171636"/>
                </a:lnTo>
                <a:lnTo>
                  <a:pt x="34843" y="177318"/>
                </a:lnTo>
                <a:lnTo>
                  <a:pt x="18320" y="185277"/>
                </a:lnTo>
                <a:lnTo>
                  <a:pt x="13906" y="187019"/>
                </a:lnTo>
                <a:lnTo>
                  <a:pt x="10117" y="188179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328"/>
          <p:cNvSpPr/>
          <p:nvPr/>
        </p:nvSpPr>
        <p:spPr>
          <a:xfrm>
            <a:off x="5616720" y="4122720"/>
            <a:ext cx="174600" cy="136440"/>
          </a:xfrm>
          <a:custGeom>
            <a:avLst/>
            <a:gdLst>
              <a:gd name="textAreaLeft" fmla="*/ 0 w 174600"/>
              <a:gd name="textAreaRight" fmla="*/ 174960 w 1746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75260" h="137161">
                <a:moveTo>
                  <a:pt x="0" y="0"/>
                </a:moveTo>
                <a:lnTo>
                  <a:pt x="4044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0" y="10606"/>
                </a:lnTo>
                <a:lnTo>
                  <a:pt x="23726" y="15439"/>
                </a:lnTo>
                <a:lnTo>
                  <a:pt x="28517" y="17912"/>
                </a:lnTo>
                <a:lnTo>
                  <a:pt x="33405" y="21255"/>
                </a:lnTo>
                <a:lnTo>
                  <a:pt x="38356" y="25176"/>
                </a:lnTo>
                <a:lnTo>
                  <a:pt x="43351" y="29485"/>
                </a:lnTo>
                <a:lnTo>
                  <a:pt x="50067" y="34896"/>
                </a:lnTo>
                <a:lnTo>
                  <a:pt x="66560" y="47683"/>
                </a:lnTo>
                <a:lnTo>
                  <a:pt x="74854" y="54648"/>
                </a:lnTo>
                <a:lnTo>
                  <a:pt x="82922" y="61833"/>
                </a:lnTo>
                <a:lnTo>
                  <a:pt x="90841" y="69161"/>
                </a:lnTo>
                <a:lnTo>
                  <a:pt x="98661" y="75741"/>
                </a:lnTo>
                <a:lnTo>
                  <a:pt x="106414" y="81821"/>
                </a:lnTo>
                <a:lnTo>
                  <a:pt x="114122" y="87567"/>
                </a:lnTo>
                <a:lnTo>
                  <a:pt x="122648" y="94785"/>
                </a:lnTo>
                <a:lnTo>
                  <a:pt x="131718" y="102984"/>
                </a:lnTo>
                <a:lnTo>
                  <a:pt x="141152" y="111835"/>
                </a:lnTo>
                <a:lnTo>
                  <a:pt x="149135" y="118584"/>
                </a:lnTo>
                <a:lnTo>
                  <a:pt x="156149" y="123929"/>
                </a:lnTo>
                <a:lnTo>
                  <a:pt x="175259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329"/>
          <p:cNvSpPr/>
          <p:nvPr/>
        </p:nvSpPr>
        <p:spPr>
          <a:xfrm>
            <a:off x="6294600" y="3505320"/>
            <a:ext cx="90360" cy="129960"/>
          </a:xfrm>
          <a:custGeom>
            <a:avLst/>
            <a:gdLst>
              <a:gd name="textAreaLeft" fmla="*/ 0 w 90360"/>
              <a:gd name="textAreaRight" fmla="*/ 90720 w 903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91441" h="129541">
                <a:moveTo>
                  <a:pt x="91440" y="0"/>
                </a:moveTo>
                <a:lnTo>
                  <a:pt x="77573" y="13867"/>
                </a:lnTo>
                <a:lnTo>
                  <a:pt x="76269" y="16018"/>
                </a:lnTo>
                <a:lnTo>
                  <a:pt x="74553" y="19146"/>
                </a:lnTo>
                <a:lnTo>
                  <a:pt x="72562" y="22924"/>
                </a:lnTo>
                <a:lnTo>
                  <a:pt x="70388" y="26289"/>
                </a:lnTo>
                <a:lnTo>
                  <a:pt x="68091" y="29380"/>
                </a:lnTo>
                <a:lnTo>
                  <a:pt x="65715" y="32286"/>
                </a:lnTo>
                <a:lnTo>
                  <a:pt x="63283" y="35071"/>
                </a:lnTo>
                <a:lnTo>
                  <a:pt x="60815" y="37774"/>
                </a:lnTo>
                <a:lnTo>
                  <a:pt x="58324" y="40423"/>
                </a:lnTo>
                <a:lnTo>
                  <a:pt x="36611" y="62422"/>
                </a:lnTo>
                <a:lnTo>
                  <a:pt x="33720" y="66168"/>
                </a:lnTo>
                <a:lnTo>
                  <a:pt x="30947" y="70358"/>
                </a:lnTo>
                <a:lnTo>
                  <a:pt x="28252" y="74846"/>
                </a:lnTo>
                <a:lnTo>
                  <a:pt x="25608" y="79530"/>
                </a:lnTo>
                <a:lnTo>
                  <a:pt x="20412" y="89252"/>
                </a:lnTo>
                <a:lnTo>
                  <a:pt x="17842" y="93368"/>
                </a:lnTo>
                <a:lnTo>
                  <a:pt x="15281" y="96958"/>
                </a:lnTo>
                <a:lnTo>
                  <a:pt x="12727" y="100199"/>
                </a:lnTo>
                <a:lnTo>
                  <a:pt x="11025" y="103206"/>
                </a:lnTo>
                <a:lnTo>
                  <a:pt x="9890" y="106057"/>
                </a:lnTo>
                <a:lnTo>
                  <a:pt x="9133" y="108805"/>
                </a:lnTo>
                <a:lnTo>
                  <a:pt x="7782" y="111484"/>
                </a:lnTo>
                <a:lnTo>
                  <a:pt x="6035" y="114116"/>
                </a:lnTo>
                <a:lnTo>
                  <a:pt x="1193" y="120378"/>
                </a:lnTo>
                <a:lnTo>
                  <a:pt x="531" y="123493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330"/>
          <p:cNvSpPr/>
          <p:nvPr/>
        </p:nvSpPr>
        <p:spPr>
          <a:xfrm>
            <a:off x="6004080" y="3565440"/>
            <a:ext cx="29880" cy="160560"/>
          </a:xfrm>
          <a:custGeom>
            <a:avLst/>
            <a:gdLst>
              <a:gd name="textAreaLeft" fmla="*/ 0 w 29880"/>
              <a:gd name="textAreaRight" fmla="*/ 30240 w 298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9299" h="160021">
                <a:moveTo>
                  <a:pt x="0" y="0"/>
                </a:moveTo>
                <a:lnTo>
                  <a:pt x="0" y="6561"/>
                </a:lnTo>
                <a:lnTo>
                  <a:pt x="846" y="7761"/>
                </a:lnTo>
                <a:lnTo>
                  <a:pt x="2257" y="9407"/>
                </a:lnTo>
                <a:lnTo>
                  <a:pt x="4045" y="11351"/>
                </a:lnTo>
                <a:lnTo>
                  <a:pt x="5237" y="14341"/>
                </a:lnTo>
                <a:lnTo>
                  <a:pt x="6032" y="18027"/>
                </a:lnTo>
                <a:lnTo>
                  <a:pt x="6561" y="22178"/>
                </a:lnTo>
                <a:lnTo>
                  <a:pt x="7760" y="25792"/>
                </a:lnTo>
                <a:lnTo>
                  <a:pt x="9407" y="29048"/>
                </a:lnTo>
                <a:lnTo>
                  <a:pt x="11351" y="32065"/>
                </a:lnTo>
                <a:lnTo>
                  <a:pt x="13495" y="35771"/>
                </a:lnTo>
                <a:lnTo>
                  <a:pt x="18133" y="44403"/>
                </a:lnTo>
                <a:lnTo>
                  <a:pt x="19708" y="49075"/>
                </a:lnTo>
                <a:lnTo>
                  <a:pt x="20759" y="53883"/>
                </a:lnTo>
                <a:lnTo>
                  <a:pt x="21459" y="58782"/>
                </a:lnTo>
                <a:lnTo>
                  <a:pt x="22773" y="63741"/>
                </a:lnTo>
                <a:lnTo>
                  <a:pt x="24496" y="68741"/>
                </a:lnTo>
                <a:lnTo>
                  <a:pt x="26491" y="73767"/>
                </a:lnTo>
                <a:lnTo>
                  <a:pt x="27820" y="78812"/>
                </a:lnTo>
                <a:lnTo>
                  <a:pt x="28707" y="83868"/>
                </a:lnTo>
                <a:lnTo>
                  <a:pt x="29298" y="88932"/>
                </a:lnTo>
                <a:lnTo>
                  <a:pt x="28845" y="94001"/>
                </a:lnTo>
                <a:lnTo>
                  <a:pt x="27697" y="99074"/>
                </a:lnTo>
                <a:lnTo>
                  <a:pt x="26085" y="104150"/>
                </a:lnTo>
                <a:lnTo>
                  <a:pt x="25010" y="109227"/>
                </a:lnTo>
                <a:lnTo>
                  <a:pt x="24293" y="114304"/>
                </a:lnTo>
                <a:lnTo>
                  <a:pt x="23815" y="119382"/>
                </a:lnTo>
                <a:lnTo>
                  <a:pt x="23497" y="123615"/>
                </a:lnTo>
                <a:lnTo>
                  <a:pt x="23284" y="127284"/>
                </a:lnTo>
                <a:lnTo>
                  <a:pt x="23143" y="130576"/>
                </a:lnTo>
                <a:lnTo>
                  <a:pt x="22202" y="134464"/>
                </a:lnTo>
                <a:lnTo>
                  <a:pt x="20728" y="138749"/>
                </a:lnTo>
                <a:lnTo>
                  <a:pt x="18898" y="143299"/>
                </a:lnTo>
                <a:lnTo>
                  <a:pt x="17679" y="147180"/>
                </a:lnTo>
                <a:lnTo>
                  <a:pt x="16866" y="150613"/>
                </a:lnTo>
                <a:lnTo>
                  <a:pt x="1524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331"/>
          <p:cNvSpPr/>
          <p:nvPr/>
        </p:nvSpPr>
        <p:spPr>
          <a:xfrm>
            <a:off x="6004080" y="3649680"/>
            <a:ext cx="114120" cy="360"/>
          </a:xfrm>
          <a:custGeom>
            <a:avLst/>
            <a:gdLst>
              <a:gd name="textAreaLeft" fmla="*/ 0 w 114120"/>
              <a:gd name="textAreaRight" fmla="*/ 114480 w 1141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301" h="1">
                <a:moveTo>
                  <a:pt x="0" y="0"/>
                </a:move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332"/>
          <p:cNvSpPr/>
          <p:nvPr/>
        </p:nvSpPr>
        <p:spPr>
          <a:xfrm>
            <a:off x="6408720" y="3489480"/>
            <a:ext cx="128520" cy="114120"/>
          </a:xfrm>
          <a:custGeom>
            <a:avLst/>
            <a:gdLst>
              <a:gd name="textAreaLeft" fmla="*/ 0 w 128520"/>
              <a:gd name="textAreaRight" fmla="*/ 128880 w 1285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28827" h="113852">
                <a:moveTo>
                  <a:pt x="75652" y="0"/>
                </a:moveTo>
                <a:lnTo>
                  <a:pt x="75652" y="4045"/>
                </a:lnTo>
                <a:lnTo>
                  <a:pt x="74806" y="5237"/>
                </a:lnTo>
                <a:lnTo>
                  <a:pt x="73395" y="6031"/>
                </a:lnTo>
                <a:lnTo>
                  <a:pt x="71607" y="6561"/>
                </a:lnTo>
                <a:lnTo>
                  <a:pt x="69569" y="7761"/>
                </a:lnTo>
                <a:lnTo>
                  <a:pt x="67364" y="9407"/>
                </a:lnTo>
                <a:lnTo>
                  <a:pt x="65047" y="11351"/>
                </a:lnTo>
                <a:lnTo>
                  <a:pt x="62655" y="13494"/>
                </a:lnTo>
                <a:lnTo>
                  <a:pt x="57740" y="18133"/>
                </a:lnTo>
                <a:lnTo>
                  <a:pt x="34848" y="40818"/>
                </a:lnTo>
                <a:lnTo>
                  <a:pt x="16040" y="59614"/>
                </a:lnTo>
                <a:lnTo>
                  <a:pt x="12204" y="64296"/>
                </a:lnTo>
                <a:lnTo>
                  <a:pt x="8801" y="69111"/>
                </a:lnTo>
                <a:lnTo>
                  <a:pt x="5685" y="74014"/>
                </a:lnTo>
                <a:lnTo>
                  <a:pt x="3607" y="78129"/>
                </a:lnTo>
                <a:lnTo>
                  <a:pt x="2222" y="81719"/>
                </a:lnTo>
                <a:lnTo>
                  <a:pt x="1299" y="84960"/>
                </a:lnTo>
                <a:lnTo>
                  <a:pt x="683" y="87967"/>
                </a:lnTo>
                <a:lnTo>
                  <a:pt x="274" y="90818"/>
                </a:lnTo>
                <a:lnTo>
                  <a:pt x="0" y="93565"/>
                </a:lnTo>
                <a:lnTo>
                  <a:pt x="664" y="96244"/>
                </a:lnTo>
                <a:lnTo>
                  <a:pt x="1954" y="98876"/>
                </a:lnTo>
                <a:lnTo>
                  <a:pt x="3660" y="101477"/>
                </a:lnTo>
                <a:lnTo>
                  <a:pt x="5644" y="104058"/>
                </a:lnTo>
                <a:lnTo>
                  <a:pt x="7813" y="106625"/>
                </a:lnTo>
                <a:lnTo>
                  <a:pt x="10106" y="109183"/>
                </a:lnTo>
                <a:lnTo>
                  <a:pt x="14175" y="110889"/>
                </a:lnTo>
                <a:lnTo>
                  <a:pt x="19427" y="112026"/>
                </a:lnTo>
                <a:lnTo>
                  <a:pt x="25469" y="112784"/>
                </a:lnTo>
                <a:lnTo>
                  <a:pt x="31190" y="113289"/>
                </a:lnTo>
                <a:lnTo>
                  <a:pt x="36697" y="113626"/>
                </a:lnTo>
                <a:lnTo>
                  <a:pt x="42062" y="113851"/>
                </a:lnTo>
                <a:lnTo>
                  <a:pt x="48179" y="113154"/>
                </a:lnTo>
                <a:lnTo>
                  <a:pt x="54796" y="111843"/>
                </a:lnTo>
                <a:lnTo>
                  <a:pt x="61749" y="110122"/>
                </a:lnTo>
                <a:lnTo>
                  <a:pt x="68923" y="108128"/>
                </a:lnTo>
                <a:lnTo>
                  <a:pt x="83669" y="103655"/>
                </a:lnTo>
                <a:lnTo>
                  <a:pt x="89463" y="100430"/>
                </a:lnTo>
                <a:lnTo>
                  <a:pt x="94172" y="96587"/>
                </a:lnTo>
                <a:lnTo>
                  <a:pt x="98159" y="92331"/>
                </a:lnTo>
                <a:lnTo>
                  <a:pt x="102511" y="88647"/>
                </a:lnTo>
                <a:lnTo>
                  <a:pt x="107104" y="85345"/>
                </a:lnTo>
                <a:lnTo>
                  <a:pt x="111860" y="82296"/>
                </a:lnTo>
                <a:lnTo>
                  <a:pt x="115877" y="78571"/>
                </a:lnTo>
                <a:lnTo>
                  <a:pt x="119403" y="74394"/>
                </a:lnTo>
                <a:lnTo>
                  <a:pt x="122599" y="69916"/>
                </a:lnTo>
                <a:lnTo>
                  <a:pt x="124730" y="65237"/>
                </a:lnTo>
                <a:lnTo>
                  <a:pt x="126151" y="60425"/>
                </a:lnTo>
                <a:lnTo>
                  <a:pt x="127098" y="55523"/>
                </a:lnTo>
                <a:lnTo>
                  <a:pt x="127729" y="50562"/>
                </a:lnTo>
                <a:lnTo>
                  <a:pt x="128151" y="45562"/>
                </a:lnTo>
                <a:lnTo>
                  <a:pt x="128618" y="36336"/>
                </a:lnTo>
                <a:lnTo>
                  <a:pt x="128826" y="29414"/>
                </a:lnTo>
                <a:lnTo>
                  <a:pt x="128035" y="26383"/>
                </a:lnTo>
                <a:lnTo>
                  <a:pt x="126661" y="23515"/>
                </a:lnTo>
                <a:lnTo>
                  <a:pt x="124898" y="20757"/>
                </a:lnTo>
                <a:lnTo>
                  <a:pt x="122876" y="18918"/>
                </a:lnTo>
                <a:lnTo>
                  <a:pt x="120681" y="17692"/>
                </a:lnTo>
                <a:lnTo>
                  <a:pt x="118372" y="16874"/>
                </a:lnTo>
                <a:lnTo>
                  <a:pt x="115986" y="15483"/>
                </a:lnTo>
                <a:lnTo>
                  <a:pt x="113547" y="13709"/>
                </a:lnTo>
                <a:lnTo>
                  <a:pt x="111076" y="11679"/>
                </a:lnTo>
                <a:lnTo>
                  <a:pt x="108581" y="10326"/>
                </a:lnTo>
                <a:lnTo>
                  <a:pt x="106072" y="9424"/>
                </a:lnTo>
                <a:lnTo>
                  <a:pt x="103552" y="8823"/>
                </a:lnTo>
                <a:lnTo>
                  <a:pt x="101025" y="8422"/>
                </a:lnTo>
                <a:lnTo>
                  <a:pt x="98494" y="8155"/>
                </a:lnTo>
                <a:lnTo>
                  <a:pt x="95961" y="7976"/>
                </a:lnTo>
                <a:lnTo>
                  <a:pt x="94271" y="8705"/>
                </a:lnTo>
                <a:lnTo>
                  <a:pt x="93145" y="10036"/>
                </a:lnTo>
                <a:lnTo>
                  <a:pt x="90893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333"/>
          <p:cNvSpPr/>
          <p:nvPr/>
        </p:nvSpPr>
        <p:spPr>
          <a:xfrm>
            <a:off x="6622920" y="3513240"/>
            <a:ext cx="22320" cy="7920"/>
          </a:xfrm>
          <a:custGeom>
            <a:avLst/>
            <a:gdLst>
              <a:gd name="textAreaLeft" fmla="*/ 0 w 22320"/>
              <a:gd name="textAreaRight" fmla="*/ 22680 w 22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681" h="7621">
                <a:moveTo>
                  <a:pt x="6561" y="0"/>
                </a:moveTo>
                <a:lnTo>
                  <a:pt x="0" y="0"/>
                </a:lnTo>
                <a:lnTo>
                  <a:pt x="21680" y="0"/>
                </a:lnTo>
                <a:lnTo>
                  <a:pt x="17720" y="0"/>
                </a:lnTo>
                <a:lnTo>
                  <a:pt x="16541" y="847"/>
                </a:lnTo>
                <a:lnTo>
                  <a:pt x="15754" y="2258"/>
                </a:lnTo>
                <a:lnTo>
                  <a:pt x="15229" y="4045"/>
                </a:lnTo>
                <a:lnTo>
                  <a:pt x="14033" y="5237"/>
                </a:lnTo>
                <a:lnTo>
                  <a:pt x="12389" y="6031"/>
                </a:lnTo>
                <a:lnTo>
                  <a:pt x="6561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334"/>
          <p:cNvSpPr/>
          <p:nvPr/>
        </p:nvSpPr>
        <p:spPr>
          <a:xfrm>
            <a:off x="6727680" y="3451320"/>
            <a:ext cx="130320" cy="122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9541" h="121921">
                <a:moveTo>
                  <a:pt x="129540" y="0"/>
                </a:moveTo>
                <a:lnTo>
                  <a:pt x="122979" y="0"/>
                </a:lnTo>
                <a:lnTo>
                  <a:pt x="120134" y="2258"/>
                </a:lnTo>
                <a:lnTo>
                  <a:pt x="118189" y="4045"/>
                </a:lnTo>
                <a:lnTo>
                  <a:pt x="116046" y="6930"/>
                </a:lnTo>
                <a:lnTo>
                  <a:pt x="113771" y="10547"/>
                </a:lnTo>
                <a:lnTo>
                  <a:pt x="111407" y="14651"/>
                </a:lnTo>
                <a:lnTo>
                  <a:pt x="108985" y="18234"/>
                </a:lnTo>
                <a:lnTo>
                  <a:pt x="106523" y="21469"/>
                </a:lnTo>
                <a:lnTo>
                  <a:pt x="104035" y="24473"/>
                </a:lnTo>
                <a:lnTo>
                  <a:pt x="101531" y="27322"/>
                </a:lnTo>
                <a:lnTo>
                  <a:pt x="99014" y="30068"/>
                </a:lnTo>
                <a:lnTo>
                  <a:pt x="96489" y="32746"/>
                </a:lnTo>
                <a:lnTo>
                  <a:pt x="93960" y="36224"/>
                </a:lnTo>
                <a:lnTo>
                  <a:pt x="91426" y="40236"/>
                </a:lnTo>
                <a:lnTo>
                  <a:pt x="88891" y="44604"/>
                </a:lnTo>
                <a:lnTo>
                  <a:pt x="85507" y="48363"/>
                </a:lnTo>
                <a:lnTo>
                  <a:pt x="81558" y="51715"/>
                </a:lnTo>
                <a:lnTo>
                  <a:pt x="77232" y="54797"/>
                </a:lnTo>
                <a:lnTo>
                  <a:pt x="73501" y="58544"/>
                </a:lnTo>
                <a:lnTo>
                  <a:pt x="70168" y="62737"/>
                </a:lnTo>
                <a:lnTo>
                  <a:pt x="67098" y="67224"/>
                </a:lnTo>
                <a:lnTo>
                  <a:pt x="63359" y="71910"/>
                </a:lnTo>
                <a:lnTo>
                  <a:pt x="59172" y="76727"/>
                </a:lnTo>
                <a:lnTo>
                  <a:pt x="54688" y="81631"/>
                </a:lnTo>
                <a:lnTo>
                  <a:pt x="50005" y="85747"/>
                </a:lnTo>
                <a:lnTo>
                  <a:pt x="45190" y="89338"/>
                </a:lnTo>
                <a:lnTo>
                  <a:pt x="40287" y="92579"/>
                </a:lnTo>
                <a:lnTo>
                  <a:pt x="36171" y="95586"/>
                </a:lnTo>
                <a:lnTo>
                  <a:pt x="32581" y="98437"/>
                </a:lnTo>
                <a:lnTo>
                  <a:pt x="29341" y="101185"/>
                </a:lnTo>
                <a:lnTo>
                  <a:pt x="26334" y="103863"/>
                </a:lnTo>
                <a:lnTo>
                  <a:pt x="20735" y="109097"/>
                </a:lnTo>
                <a:lnTo>
                  <a:pt x="12823" y="116804"/>
                </a:lnTo>
                <a:lnTo>
                  <a:pt x="10242" y="118509"/>
                </a:lnTo>
                <a:lnTo>
                  <a:pt x="7675" y="119646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335"/>
          <p:cNvSpPr/>
          <p:nvPr/>
        </p:nvSpPr>
        <p:spPr>
          <a:xfrm>
            <a:off x="6759720" y="3483000"/>
            <a:ext cx="90360" cy="106200"/>
          </a:xfrm>
          <a:custGeom>
            <a:avLst/>
            <a:gdLst>
              <a:gd name="textAreaLeft" fmla="*/ 0 w 90360"/>
              <a:gd name="textAreaRight" fmla="*/ 90720 w 903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91441" h="106681">
                <a:moveTo>
                  <a:pt x="0" y="0"/>
                </a:moveTo>
                <a:lnTo>
                  <a:pt x="4046" y="4045"/>
                </a:lnTo>
                <a:lnTo>
                  <a:pt x="5237" y="6084"/>
                </a:lnTo>
                <a:lnTo>
                  <a:pt x="6032" y="8289"/>
                </a:lnTo>
                <a:lnTo>
                  <a:pt x="6562" y="10606"/>
                </a:lnTo>
                <a:lnTo>
                  <a:pt x="7762" y="12997"/>
                </a:lnTo>
                <a:lnTo>
                  <a:pt x="9407" y="15438"/>
                </a:lnTo>
                <a:lnTo>
                  <a:pt x="11352" y="17912"/>
                </a:lnTo>
                <a:lnTo>
                  <a:pt x="13495" y="20408"/>
                </a:lnTo>
                <a:lnTo>
                  <a:pt x="15770" y="22919"/>
                </a:lnTo>
                <a:lnTo>
                  <a:pt x="20555" y="27966"/>
                </a:lnTo>
                <a:lnTo>
                  <a:pt x="25506" y="33031"/>
                </a:lnTo>
                <a:lnTo>
                  <a:pt x="28010" y="36415"/>
                </a:lnTo>
                <a:lnTo>
                  <a:pt x="30527" y="40363"/>
                </a:lnTo>
                <a:lnTo>
                  <a:pt x="33052" y="44689"/>
                </a:lnTo>
                <a:lnTo>
                  <a:pt x="35581" y="48419"/>
                </a:lnTo>
                <a:lnTo>
                  <a:pt x="38114" y="51753"/>
                </a:lnTo>
                <a:lnTo>
                  <a:pt x="40649" y="54822"/>
                </a:lnTo>
                <a:lnTo>
                  <a:pt x="44034" y="57715"/>
                </a:lnTo>
                <a:lnTo>
                  <a:pt x="47982" y="60490"/>
                </a:lnTo>
                <a:lnTo>
                  <a:pt x="52309" y="63187"/>
                </a:lnTo>
                <a:lnTo>
                  <a:pt x="56039" y="66678"/>
                </a:lnTo>
                <a:lnTo>
                  <a:pt x="59373" y="70699"/>
                </a:lnTo>
                <a:lnTo>
                  <a:pt x="62442" y="75072"/>
                </a:lnTo>
                <a:lnTo>
                  <a:pt x="66181" y="78835"/>
                </a:lnTo>
                <a:lnTo>
                  <a:pt x="70368" y="82190"/>
                </a:lnTo>
                <a:lnTo>
                  <a:pt x="74851" y="85273"/>
                </a:lnTo>
                <a:lnTo>
                  <a:pt x="77842" y="88176"/>
                </a:lnTo>
                <a:lnTo>
                  <a:pt x="79834" y="90958"/>
                </a:lnTo>
                <a:lnTo>
                  <a:pt x="81163" y="93658"/>
                </a:lnTo>
                <a:lnTo>
                  <a:pt x="82895" y="96306"/>
                </a:lnTo>
                <a:lnTo>
                  <a:pt x="84897" y="98917"/>
                </a:lnTo>
                <a:lnTo>
                  <a:pt x="9144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336"/>
          <p:cNvSpPr/>
          <p:nvPr/>
        </p:nvSpPr>
        <p:spPr>
          <a:xfrm>
            <a:off x="6316560" y="3687840"/>
            <a:ext cx="579600" cy="19080"/>
          </a:xfrm>
          <a:custGeom>
            <a:avLst/>
            <a:gdLst>
              <a:gd name="textAreaLeft" fmla="*/ 0 w 579600"/>
              <a:gd name="textAreaRight" fmla="*/ 579960 w 579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79121" h="19256">
                <a:moveTo>
                  <a:pt x="0" y="7619"/>
                </a:moveTo>
                <a:lnTo>
                  <a:pt x="21957" y="7619"/>
                </a:lnTo>
                <a:lnTo>
                  <a:pt x="27338" y="6772"/>
                </a:lnTo>
                <a:lnTo>
                  <a:pt x="33466" y="5361"/>
                </a:lnTo>
                <a:lnTo>
                  <a:pt x="40090" y="3574"/>
                </a:lnTo>
                <a:lnTo>
                  <a:pt x="47047" y="2382"/>
                </a:lnTo>
                <a:lnTo>
                  <a:pt x="54225" y="1588"/>
                </a:lnTo>
                <a:lnTo>
                  <a:pt x="61550" y="1059"/>
                </a:lnTo>
                <a:lnTo>
                  <a:pt x="78720" y="470"/>
                </a:lnTo>
                <a:lnTo>
                  <a:pt x="117338" y="92"/>
                </a:lnTo>
                <a:lnTo>
                  <a:pt x="282337" y="0"/>
                </a:lnTo>
                <a:lnTo>
                  <a:pt x="296598" y="846"/>
                </a:lnTo>
                <a:lnTo>
                  <a:pt x="310339" y="2257"/>
                </a:lnTo>
                <a:lnTo>
                  <a:pt x="323732" y="4044"/>
                </a:lnTo>
                <a:lnTo>
                  <a:pt x="336895" y="5236"/>
                </a:lnTo>
                <a:lnTo>
                  <a:pt x="349904" y="6030"/>
                </a:lnTo>
                <a:lnTo>
                  <a:pt x="362809" y="6560"/>
                </a:lnTo>
                <a:lnTo>
                  <a:pt x="376493" y="7760"/>
                </a:lnTo>
                <a:lnTo>
                  <a:pt x="390695" y="9406"/>
                </a:lnTo>
                <a:lnTo>
                  <a:pt x="405244" y="11351"/>
                </a:lnTo>
                <a:lnTo>
                  <a:pt x="418329" y="12647"/>
                </a:lnTo>
                <a:lnTo>
                  <a:pt x="430439" y="13511"/>
                </a:lnTo>
                <a:lnTo>
                  <a:pt x="441900" y="14087"/>
                </a:lnTo>
                <a:lnTo>
                  <a:pt x="463664" y="14727"/>
                </a:lnTo>
                <a:lnTo>
                  <a:pt x="505232" y="15138"/>
                </a:lnTo>
                <a:lnTo>
                  <a:pt x="514621" y="16018"/>
                </a:lnTo>
                <a:lnTo>
                  <a:pt x="523421" y="17452"/>
                </a:lnTo>
                <a:lnTo>
                  <a:pt x="531828" y="19255"/>
                </a:lnTo>
                <a:lnTo>
                  <a:pt x="547941" y="18999"/>
                </a:lnTo>
                <a:lnTo>
                  <a:pt x="555795" y="17746"/>
                </a:lnTo>
                <a:lnTo>
                  <a:pt x="561876" y="16910"/>
                </a:lnTo>
                <a:lnTo>
                  <a:pt x="566777" y="16353"/>
                </a:lnTo>
                <a:lnTo>
                  <a:pt x="579120" y="152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337"/>
          <p:cNvSpPr/>
          <p:nvPr/>
        </p:nvSpPr>
        <p:spPr>
          <a:xfrm>
            <a:off x="6461280" y="3718080"/>
            <a:ext cx="220680" cy="176040"/>
          </a:xfrm>
          <a:custGeom>
            <a:avLst/>
            <a:gdLst>
              <a:gd name="textAreaLeft" fmla="*/ 0 w 220680"/>
              <a:gd name="textAreaRight" fmla="*/ 221040 w 220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20159" h="175126">
                <a:moveTo>
                  <a:pt x="30469" y="7620"/>
                </a:moveTo>
                <a:lnTo>
                  <a:pt x="30469" y="314"/>
                </a:lnTo>
                <a:lnTo>
                  <a:pt x="37029" y="28"/>
                </a:lnTo>
                <a:lnTo>
                  <a:pt x="43263" y="2"/>
                </a:lnTo>
                <a:lnTo>
                  <a:pt x="45613" y="0"/>
                </a:lnTo>
                <a:lnTo>
                  <a:pt x="41635" y="4045"/>
                </a:lnTo>
                <a:lnTo>
                  <a:pt x="40452" y="6084"/>
                </a:lnTo>
                <a:lnTo>
                  <a:pt x="37943" y="13844"/>
                </a:lnTo>
                <a:lnTo>
                  <a:pt x="36297" y="17696"/>
                </a:lnTo>
                <a:lnTo>
                  <a:pt x="34355" y="21958"/>
                </a:lnTo>
                <a:lnTo>
                  <a:pt x="32213" y="25645"/>
                </a:lnTo>
                <a:lnTo>
                  <a:pt x="29938" y="28950"/>
                </a:lnTo>
                <a:lnTo>
                  <a:pt x="27574" y="32000"/>
                </a:lnTo>
                <a:lnTo>
                  <a:pt x="25153" y="35727"/>
                </a:lnTo>
                <a:lnTo>
                  <a:pt x="22691" y="39905"/>
                </a:lnTo>
                <a:lnTo>
                  <a:pt x="20203" y="44383"/>
                </a:lnTo>
                <a:lnTo>
                  <a:pt x="17698" y="48216"/>
                </a:lnTo>
                <a:lnTo>
                  <a:pt x="15182" y="51617"/>
                </a:lnTo>
                <a:lnTo>
                  <a:pt x="12658" y="54731"/>
                </a:lnTo>
                <a:lnTo>
                  <a:pt x="10128" y="56808"/>
                </a:lnTo>
                <a:lnTo>
                  <a:pt x="7594" y="58192"/>
                </a:lnTo>
                <a:lnTo>
                  <a:pt x="5059" y="59115"/>
                </a:lnTo>
                <a:lnTo>
                  <a:pt x="3369" y="60576"/>
                </a:lnTo>
                <a:lnTo>
                  <a:pt x="2242" y="62398"/>
                </a:lnTo>
                <a:lnTo>
                  <a:pt x="434" y="67359"/>
                </a:lnTo>
                <a:lnTo>
                  <a:pt x="120" y="72264"/>
                </a:lnTo>
                <a:lnTo>
                  <a:pt x="0" y="75855"/>
                </a:lnTo>
                <a:lnTo>
                  <a:pt x="4037" y="72052"/>
                </a:lnTo>
                <a:lnTo>
                  <a:pt x="10595" y="65564"/>
                </a:lnTo>
                <a:lnTo>
                  <a:pt x="13833" y="64029"/>
                </a:lnTo>
                <a:lnTo>
                  <a:pt x="17685" y="63006"/>
                </a:lnTo>
                <a:lnTo>
                  <a:pt x="21946" y="62324"/>
                </a:lnTo>
                <a:lnTo>
                  <a:pt x="26480" y="61023"/>
                </a:lnTo>
                <a:lnTo>
                  <a:pt x="31196" y="59309"/>
                </a:lnTo>
                <a:lnTo>
                  <a:pt x="36034" y="57319"/>
                </a:lnTo>
                <a:lnTo>
                  <a:pt x="40951" y="55993"/>
                </a:lnTo>
                <a:lnTo>
                  <a:pt x="45924" y="55109"/>
                </a:lnTo>
                <a:lnTo>
                  <a:pt x="50932" y="54519"/>
                </a:lnTo>
                <a:lnTo>
                  <a:pt x="57657" y="54126"/>
                </a:lnTo>
                <a:lnTo>
                  <a:pt x="74162" y="53690"/>
                </a:lnTo>
                <a:lnTo>
                  <a:pt x="94403" y="53444"/>
                </a:lnTo>
                <a:lnTo>
                  <a:pt x="101878" y="54256"/>
                </a:lnTo>
                <a:lnTo>
                  <a:pt x="110248" y="55644"/>
                </a:lnTo>
                <a:lnTo>
                  <a:pt x="119215" y="57416"/>
                </a:lnTo>
                <a:lnTo>
                  <a:pt x="127733" y="59444"/>
                </a:lnTo>
                <a:lnTo>
                  <a:pt x="135951" y="61643"/>
                </a:lnTo>
                <a:lnTo>
                  <a:pt x="151856" y="66343"/>
                </a:lnTo>
                <a:lnTo>
                  <a:pt x="167392" y="71255"/>
                </a:lnTo>
                <a:lnTo>
                  <a:pt x="174245" y="73750"/>
                </a:lnTo>
                <a:lnTo>
                  <a:pt x="180506" y="76260"/>
                </a:lnTo>
                <a:lnTo>
                  <a:pt x="186373" y="78780"/>
                </a:lnTo>
                <a:lnTo>
                  <a:pt x="191132" y="82154"/>
                </a:lnTo>
                <a:lnTo>
                  <a:pt x="195151" y="86096"/>
                </a:lnTo>
                <a:lnTo>
                  <a:pt x="198676" y="90417"/>
                </a:lnTo>
                <a:lnTo>
                  <a:pt x="202721" y="94992"/>
                </a:lnTo>
                <a:lnTo>
                  <a:pt x="211730" y="104590"/>
                </a:lnTo>
                <a:lnTo>
                  <a:pt x="214810" y="109520"/>
                </a:lnTo>
                <a:lnTo>
                  <a:pt x="216862" y="114500"/>
                </a:lnTo>
                <a:lnTo>
                  <a:pt x="218231" y="119513"/>
                </a:lnTo>
                <a:lnTo>
                  <a:pt x="219143" y="123702"/>
                </a:lnTo>
                <a:lnTo>
                  <a:pt x="219753" y="127342"/>
                </a:lnTo>
                <a:lnTo>
                  <a:pt x="220158" y="130614"/>
                </a:lnTo>
                <a:lnTo>
                  <a:pt x="219581" y="134490"/>
                </a:lnTo>
                <a:lnTo>
                  <a:pt x="218350" y="138767"/>
                </a:lnTo>
                <a:lnTo>
                  <a:pt x="216683" y="143311"/>
                </a:lnTo>
                <a:lnTo>
                  <a:pt x="214725" y="147187"/>
                </a:lnTo>
                <a:lnTo>
                  <a:pt x="212573" y="150619"/>
                </a:lnTo>
                <a:lnTo>
                  <a:pt x="210291" y="153752"/>
                </a:lnTo>
                <a:lnTo>
                  <a:pt x="207923" y="156688"/>
                </a:lnTo>
                <a:lnTo>
                  <a:pt x="205499" y="159492"/>
                </a:lnTo>
                <a:lnTo>
                  <a:pt x="203035" y="162208"/>
                </a:lnTo>
                <a:lnTo>
                  <a:pt x="199700" y="164865"/>
                </a:lnTo>
                <a:lnTo>
                  <a:pt x="195783" y="167484"/>
                </a:lnTo>
                <a:lnTo>
                  <a:pt x="191478" y="170076"/>
                </a:lnTo>
                <a:lnTo>
                  <a:pt x="187761" y="171804"/>
                </a:lnTo>
                <a:lnTo>
                  <a:pt x="181374" y="173724"/>
                </a:lnTo>
                <a:lnTo>
                  <a:pt x="177639" y="174236"/>
                </a:lnTo>
                <a:lnTo>
                  <a:pt x="173455" y="174578"/>
                </a:lnTo>
                <a:lnTo>
                  <a:pt x="168973" y="174805"/>
                </a:lnTo>
                <a:lnTo>
                  <a:pt x="159477" y="175058"/>
                </a:lnTo>
                <a:lnTo>
                  <a:pt x="154574" y="175125"/>
                </a:lnTo>
                <a:lnTo>
                  <a:pt x="149612" y="174324"/>
                </a:lnTo>
                <a:lnTo>
                  <a:pt x="144610" y="172943"/>
                </a:lnTo>
                <a:lnTo>
                  <a:pt x="139583" y="171175"/>
                </a:lnTo>
                <a:lnTo>
                  <a:pt x="135385" y="169997"/>
                </a:lnTo>
                <a:lnTo>
                  <a:pt x="131739" y="169212"/>
                </a:lnTo>
                <a:lnTo>
                  <a:pt x="121909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InkAnnotation338"/>
          <p:cNvSpPr/>
          <p:nvPr/>
        </p:nvSpPr>
        <p:spPr>
          <a:xfrm>
            <a:off x="6537240" y="3687840"/>
            <a:ext cx="160560" cy="15840"/>
          </a:xfrm>
          <a:custGeom>
            <a:avLst/>
            <a:gdLst>
              <a:gd name="textAreaLeft" fmla="*/ 0 w 160560"/>
              <a:gd name="textAreaRight" fmla="*/ 160920 w 160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021" h="15241">
                <a:moveTo>
                  <a:pt x="0" y="0"/>
                </a:moveTo>
                <a:lnTo>
                  <a:pt x="66176" y="0"/>
                </a:lnTo>
                <a:lnTo>
                  <a:pt x="72057" y="847"/>
                </a:lnTo>
                <a:lnTo>
                  <a:pt x="78518" y="2258"/>
                </a:lnTo>
                <a:lnTo>
                  <a:pt x="85365" y="4045"/>
                </a:lnTo>
                <a:lnTo>
                  <a:pt x="91624" y="5237"/>
                </a:lnTo>
                <a:lnTo>
                  <a:pt x="97489" y="6031"/>
                </a:lnTo>
                <a:lnTo>
                  <a:pt x="103093" y="6561"/>
                </a:lnTo>
                <a:lnTo>
                  <a:pt x="109368" y="6914"/>
                </a:lnTo>
                <a:lnTo>
                  <a:pt x="123115" y="7306"/>
                </a:lnTo>
                <a:lnTo>
                  <a:pt x="129490" y="8258"/>
                </a:lnTo>
                <a:lnTo>
                  <a:pt x="135433" y="9738"/>
                </a:lnTo>
                <a:lnTo>
                  <a:pt x="141089" y="11572"/>
                </a:lnTo>
                <a:lnTo>
                  <a:pt x="145706" y="12795"/>
                </a:lnTo>
                <a:lnTo>
                  <a:pt x="149631" y="13610"/>
                </a:lnTo>
                <a:lnTo>
                  <a:pt x="1600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339"/>
          <p:cNvSpPr/>
          <p:nvPr/>
        </p:nvSpPr>
        <p:spPr>
          <a:xfrm>
            <a:off x="6469200" y="3703680"/>
            <a:ext cx="220680" cy="14400"/>
          </a:xfrm>
          <a:custGeom>
            <a:avLst/>
            <a:gdLst>
              <a:gd name="textAreaLeft" fmla="*/ 0 w 220680"/>
              <a:gd name="textAreaRight" fmla="*/ 221040 w 2206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82750" y="0"/>
                </a:lnTo>
                <a:lnTo>
                  <a:pt x="86493" y="847"/>
                </a:lnTo>
                <a:lnTo>
                  <a:pt x="89835" y="2258"/>
                </a:lnTo>
                <a:lnTo>
                  <a:pt x="97238" y="6561"/>
                </a:lnTo>
                <a:lnTo>
                  <a:pt x="99539" y="6914"/>
                </a:lnTo>
                <a:lnTo>
                  <a:pt x="102766" y="7149"/>
                </a:lnTo>
                <a:lnTo>
                  <a:pt x="110021" y="7411"/>
                </a:lnTo>
                <a:lnTo>
                  <a:pt x="118864" y="7558"/>
                </a:lnTo>
                <a:lnTo>
                  <a:pt x="139681" y="7618"/>
                </a:lnTo>
                <a:lnTo>
                  <a:pt x="142227" y="8465"/>
                </a:lnTo>
                <a:lnTo>
                  <a:pt x="144771" y="9877"/>
                </a:lnTo>
                <a:lnTo>
                  <a:pt x="147314" y="11665"/>
                </a:lnTo>
                <a:lnTo>
                  <a:pt x="149856" y="12857"/>
                </a:lnTo>
                <a:lnTo>
                  <a:pt x="152397" y="13651"/>
                </a:lnTo>
                <a:lnTo>
                  <a:pt x="154938" y="14181"/>
                </a:lnTo>
                <a:lnTo>
                  <a:pt x="157479" y="13687"/>
                </a:lnTo>
                <a:lnTo>
                  <a:pt x="160019" y="12512"/>
                </a:lnTo>
                <a:lnTo>
                  <a:pt x="162559" y="10881"/>
                </a:lnTo>
                <a:lnTo>
                  <a:pt x="165100" y="10641"/>
                </a:lnTo>
                <a:lnTo>
                  <a:pt x="167640" y="11327"/>
                </a:lnTo>
                <a:lnTo>
                  <a:pt x="170180" y="12631"/>
                </a:lnTo>
                <a:lnTo>
                  <a:pt x="172721" y="13501"/>
                </a:lnTo>
                <a:lnTo>
                  <a:pt x="175260" y="14081"/>
                </a:lnTo>
                <a:lnTo>
                  <a:pt x="177800" y="14467"/>
                </a:lnTo>
                <a:lnTo>
                  <a:pt x="182880" y="14897"/>
                </a:lnTo>
                <a:lnTo>
                  <a:pt x="187960" y="15088"/>
                </a:lnTo>
                <a:lnTo>
                  <a:pt x="195580" y="15195"/>
                </a:lnTo>
                <a:lnTo>
                  <a:pt x="22098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340"/>
          <p:cNvSpPr/>
          <p:nvPr/>
        </p:nvSpPr>
        <p:spPr>
          <a:xfrm>
            <a:off x="6286680" y="3444840"/>
            <a:ext cx="174600" cy="228600"/>
          </a:xfrm>
          <a:custGeom>
            <a:avLst/>
            <a:gdLst>
              <a:gd name="textAreaLeft" fmla="*/ 0 w 174600"/>
              <a:gd name="textAreaRight" fmla="*/ 174960 w 174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5261" h="228601">
                <a:moveTo>
                  <a:pt x="175260" y="0"/>
                </a:moveTo>
                <a:lnTo>
                  <a:pt x="171215" y="4045"/>
                </a:lnTo>
                <a:lnTo>
                  <a:pt x="170023" y="6084"/>
                </a:lnTo>
                <a:lnTo>
                  <a:pt x="168699" y="10606"/>
                </a:lnTo>
                <a:lnTo>
                  <a:pt x="167499" y="12151"/>
                </a:lnTo>
                <a:lnTo>
                  <a:pt x="165853" y="13180"/>
                </a:lnTo>
                <a:lnTo>
                  <a:pt x="163909" y="13867"/>
                </a:lnTo>
                <a:lnTo>
                  <a:pt x="161766" y="16865"/>
                </a:lnTo>
                <a:lnTo>
                  <a:pt x="159491" y="21403"/>
                </a:lnTo>
                <a:lnTo>
                  <a:pt x="157128" y="26969"/>
                </a:lnTo>
                <a:lnTo>
                  <a:pt x="152243" y="37668"/>
                </a:lnTo>
                <a:lnTo>
                  <a:pt x="149755" y="42892"/>
                </a:lnTo>
                <a:lnTo>
                  <a:pt x="146404" y="48068"/>
                </a:lnTo>
                <a:lnTo>
                  <a:pt x="142476" y="53212"/>
                </a:lnTo>
                <a:lnTo>
                  <a:pt x="138164" y="58335"/>
                </a:lnTo>
                <a:lnTo>
                  <a:pt x="134443" y="64290"/>
                </a:lnTo>
                <a:lnTo>
                  <a:pt x="131115" y="70800"/>
                </a:lnTo>
                <a:lnTo>
                  <a:pt x="128050" y="77680"/>
                </a:lnTo>
                <a:lnTo>
                  <a:pt x="124314" y="83960"/>
                </a:lnTo>
                <a:lnTo>
                  <a:pt x="120129" y="89840"/>
                </a:lnTo>
                <a:lnTo>
                  <a:pt x="115646" y="95454"/>
                </a:lnTo>
                <a:lnTo>
                  <a:pt x="110118" y="101736"/>
                </a:lnTo>
                <a:lnTo>
                  <a:pt x="103892" y="108464"/>
                </a:lnTo>
                <a:lnTo>
                  <a:pt x="97201" y="115489"/>
                </a:lnTo>
                <a:lnTo>
                  <a:pt x="91048" y="122713"/>
                </a:lnTo>
                <a:lnTo>
                  <a:pt x="85252" y="130069"/>
                </a:lnTo>
                <a:lnTo>
                  <a:pt x="79695" y="137513"/>
                </a:lnTo>
                <a:lnTo>
                  <a:pt x="69005" y="152557"/>
                </a:lnTo>
                <a:lnTo>
                  <a:pt x="63783" y="160124"/>
                </a:lnTo>
                <a:lnTo>
                  <a:pt x="57762" y="166863"/>
                </a:lnTo>
                <a:lnTo>
                  <a:pt x="51208" y="173049"/>
                </a:lnTo>
                <a:lnTo>
                  <a:pt x="44298" y="178866"/>
                </a:lnTo>
                <a:lnTo>
                  <a:pt x="37999" y="185284"/>
                </a:lnTo>
                <a:lnTo>
                  <a:pt x="32107" y="192103"/>
                </a:lnTo>
                <a:lnTo>
                  <a:pt x="26484" y="199188"/>
                </a:lnTo>
                <a:lnTo>
                  <a:pt x="21889" y="204759"/>
                </a:lnTo>
                <a:lnTo>
                  <a:pt x="17980" y="209320"/>
                </a:lnTo>
                <a:lnTo>
                  <a:pt x="14526" y="213206"/>
                </a:lnTo>
                <a:lnTo>
                  <a:pt x="8432" y="219783"/>
                </a:lnTo>
                <a:lnTo>
                  <a:pt x="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341"/>
          <p:cNvSpPr/>
          <p:nvPr/>
        </p:nvSpPr>
        <p:spPr>
          <a:xfrm>
            <a:off x="6461280" y="372600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90501" h="167641">
                <a:moveTo>
                  <a:pt x="190500" y="0"/>
                </a:moveTo>
                <a:lnTo>
                  <a:pt x="186455" y="4045"/>
                </a:lnTo>
                <a:lnTo>
                  <a:pt x="185263" y="6083"/>
                </a:lnTo>
                <a:lnTo>
                  <a:pt x="183939" y="10606"/>
                </a:lnTo>
                <a:lnTo>
                  <a:pt x="181893" y="12997"/>
                </a:lnTo>
                <a:lnTo>
                  <a:pt x="178835" y="15438"/>
                </a:lnTo>
                <a:lnTo>
                  <a:pt x="175104" y="17912"/>
                </a:lnTo>
                <a:lnTo>
                  <a:pt x="171769" y="21255"/>
                </a:lnTo>
                <a:lnTo>
                  <a:pt x="168700" y="25177"/>
                </a:lnTo>
                <a:lnTo>
                  <a:pt x="165807" y="29484"/>
                </a:lnTo>
                <a:lnTo>
                  <a:pt x="162184" y="34050"/>
                </a:lnTo>
                <a:lnTo>
                  <a:pt x="158076" y="38786"/>
                </a:lnTo>
                <a:lnTo>
                  <a:pt x="153645" y="43638"/>
                </a:lnTo>
                <a:lnTo>
                  <a:pt x="144203" y="53544"/>
                </a:lnTo>
                <a:lnTo>
                  <a:pt x="139315" y="58556"/>
                </a:lnTo>
                <a:lnTo>
                  <a:pt x="133517" y="63591"/>
                </a:lnTo>
                <a:lnTo>
                  <a:pt x="127111" y="68641"/>
                </a:lnTo>
                <a:lnTo>
                  <a:pt x="120301" y="73700"/>
                </a:lnTo>
                <a:lnTo>
                  <a:pt x="114067" y="78767"/>
                </a:lnTo>
                <a:lnTo>
                  <a:pt x="108218" y="83838"/>
                </a:lnTo>
                <a:lnTo>
                  <a:pt x="102625" y="88912"/>
                </a:lnTo>
                <a:lnTo>
                  <a:pt x="91896" y="99065"/>
                </a:lnTo>
                <a:lnTo>
                  <a:pt x="86664" y="104144"/>
                </a:lnTo>
                <a:lnTo>
                  <a:pt x="80636" y="109223"/>
                </a:lnTo>
                <a:lnTo>
                  <a:pt x="74077" y="114301"/>
                </a:lnTo>
                <a:lnTo>
                  <a:pt x="67166" y="119381"/>
                </a:lnTo>
                <a:lnTo>
                  <a:pt x="60864" y="124461"/>
                </a:lnTo>
                <a:lnTo>
                  <a:pt x="54969" y="129540"/>
                </a:lnTo>
                <a:lnTo>
                  <a:pt x="49346" y="134621"/>
                </a:lnTo>
                <a:lnTo>
                  <a:pt x="43057" y="138854"/>
                </a:lnTo>
                <a:lnTo>
                  <a:pt x="36325" y="142523"/>
                </a:lnTo>
                <a:lnTo>
                  <a:pt x="29297" y="145815"/>
                </a:lnTo>
                <a:lnTo>
                  <a:pt x="23764" y="149704"/>
                </a:lnTo>
                <a:lnTo>
                  <a:pt x="19229" y="153989"/>
                </a:lnTo>
                <a:lnTo>
                  <a:pt x="15360" y="158539"/>
                </a:lnTo>
                <a:lnTo>
                  <a:pt x="11934" y="161573"/>
                </a:lnTo>
                <a:lnTo>
                  <a:pt x="8802" y="163595"/>
                </a:lnTo>
                <a:lnTo>
                  <a:pt x="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342"/>
          <p:cNvSpPr/>
          <p:nvPr/>
        </p:nvSpPr>
        <p:spPr>
          <a:xfrm>
            <a:off x="6240600" y="3292560"/>
            <a:ext cx="106200" cy="158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6474" h="159915">
                <a:moveTo>
                  <a:pt x="22758" y="45618"/>
                </a:moveTo>
                <a:lnTo>
                  <a:pt x="22758" y="34046"/>
                </a:lnTo>
                <a:lnTo>
                  <a:pt x="23604" y="32823"/>
                </a:lnTo>
                <a:lnTo>
                  <a:pt x="25016" y="32008"/>
                </a:lnTo>
                <a:lnTo>
                  <a:pt x="26803" y="31464"/>
                </a:lnTo>
                <a:lnTo>
                  <a:pt x="27995" y="30256"/>
                </a:lnTo>
                <a:lnTo>
                  <a:pt x="28790" y="28603"/>
                </a:lnTo>
                <a:lnTo>
                  <a:pt x="29319" y="26655"/>
                </a:lnTo>
                <a:lnTo>
                  <a:pt x="31365" y="24509"/>
                </a:lnTo>
                <a:lnTo>
                  <a:pt x="34423" y="22232"/>
                </a:lnTo>
                <a:lnTo>
                  <a:pt x="38155" y="19867"/>
                </a:lnTo>
                <a:lnTo>
                  <a:pt x="41489" y="18291"/>
                </a:lnTo>
                <a:lnTo>
                  <a:pt x="44559" y="17240"/>
                </a:lnTo>
                <a:lnTo>
                  <a:pt x="47452" y="16539"/>
                </a:lnTo>
                <a:lnTo>
                  <a:pt x="50228" y="15226"/>
                </a:lnTo>
                <a:lnTo>
                  <a:pt x="52923" y="13503"/>
                </a:lnTo>
                <a:lnTo>
                  <a:pt x="55569" y="11508"/>
                </a:lnTo>
                <a:lnTo>
                  <a:pt x="58178" y="10178"/>
                </a:lnTo>
                <a:lnTo>
                  <a:pt x="60765" y="9291"/>
                </a:lnTo>
                <a:lnTo>
                  <a:pt x="63336" y="8700"/>
                </a:lnTo>
                <a:lnTo>
                  <a:pt x="66743" y="7459"/>
                </a:lnTo>
                <a:lnTo>
                  <a:pt x="70708" y="5785"/>
                </a:lnTo>
                <a:lnTo>
                  <a:pt x="75045" y="3823"/>
                </a:lnTo>
                <a:lnTo>
                  <a:pt x="78782" y="2515"/>
                </a:lnTo>
                <a:lnTo>
                  <a:pt x="82120" y="1642"/>
                </a:lnTo>
                <a:lnTo>
                  <a:pt x="85193" y="1061"/>
                </a:lnTo>
                <a:lnTo>
                  <a:pt x="88088" y="673"/>
                </a:lnTo>
                <a:lnTo>
                  <a:pt x="90865" y="415"/>
                </a:lnTo>
                <a:lnTo>
                  <a:pt x="97360" y="0"/>
                </a:lnTo>
                <a:lnTo>
                  <a:pt x="100505" y="2201"/>
                </a:lnTo>
                <a:lnTo>
                  <a:pt x="105379" y="6468"/>
                </a:lnTo>
                <a:lnTo>
                  <a:pt x="105779" y="7664"/>
                </a:lnTo>
                <a:lnTo>
                  <a:pt x="106222" y="11252"/>
                </a:lnTo>
                <a:lnTo>
                  <a:pt x="106420" y="15669"/>
                </a:lnTo>
                <a:lnTo>
                  <a:pt x="106473" y="18032"/>
                </a:lnTo>
                <a:lnTo>
                  <a:pt x="105661" y="20453"/>
                </a:lnTo>
                <a:lnTo>
                  <a:pt x="102502" y="25403"/>
                </a:lnTo>
                <a:lnTo>
                  <a:pt x="100474" y="28755"/>
                </a:lnTo>
                <a:lnTo>
                  <a:pt x="98276" y="32682"/>
                </a:lnTo>
                <a:lnTo>
                  <a:pt x="93575" y="41562"/>
                </a:lnTo>
                <a:lnTo>
                  <a:pt x="81138" y="66073"/>
                </a:lnTo>
                <a:lnTo>
                  <a:pt x="77764" y="71108"/>
                </a:lnTo>
                <a:lnTo>
                  <a:pt x="73823" y="76158"/>
                </a:lnTo>
                <a:lnTo>
                  <a:pt x="69501" y="81218"/>
                </a:lnTo>
                <a:lnTo>
                  <a:pt x="65774" y="85438"/>
                </a:lnTo>
                <a:lnTo>
                  <a:pt x="59373" y="92385"/>
                </a:lnTo>
                <a:lnTo>
                  <a:pt x="46966" y="105101"/>
                </a:lnTo>
                <a:lnTo>
                  <a:pt x="21618" y="130566"/>
                </a:lnTo>
                <a:lnTo>
                  <a:pt x="19458" y="133577"/>
                </a:lnTo>
                <a:lnTo>
                  <a:pt x="18019" y="136430"/>
                </a:lnTo>
                <a:lnTo>
                  <a:pt x="17059" y="139180"/>
                </a:lnTo>
                <a:lnTo>
                  <a:pt x="15571" y="141859"/>
                </a:lnTo>
                <a:lnTo>
                  <a:pt x="13734" y="144492"/>
                </a:lnTo>
                <a:lnTo>
                  <a:pt x="11662" y="147094"/>
                </a:lnTo>
                <a:lnTo>
                  <a:pt x="10281" y="149675"/>
                </a:lnTo>
                <a:lnTo>
                  <a:pt x="9360" y="152243"/>
                </a:lnTo>
                <a:lnTo>
                  <a:pt x="8746" y="154801"/>
                </a:lnTo>
                <a:lnTo>
                  <a:pt x="7490" y="156507"/>
                </a:lnTo>
                <a:lnTo>
                  <a:pt x="5805" y="157644"/>
                </a:lnTo>
                <a:lnTo>
                  <a:pt x="0" y="159879"/>
                </a:lnTo>
                <a:lnTo>
                  <a:pt x="3974" y="159907"/>
                </a:lnTo>
                <a:lnTo>
                  <a:pt x="10513" y="159914"/>
                </a:lnTo>
                <a:lnTo>
                  <a:pt x="12901" y="159069"/>
                </a:lnTo>
                <a:lnTo>
                  <a:pt x="15340" y="157659"/>
                </a:lnTo>
                <a:lnTo>
                  <a:pt x="17813" y="155872"/>
                </a:lnTo>
                <a:lnTo>
                  <a:pt x="20308" y="154681"/>
                </a:lnTo>
                <a:lnTo>
                  <a:pt x="22817" y="153886"/>
                </a:lnTo>
                <a:lnTo>
                  <a:pt x="25338" y="153357"/>
                </a:lnTo>
                <a:lnTo>
                  <a:pt x="28711" y="153004"/>
                </a:lnTo>
                <a:lnTo>
                  <a:pt x="32654" y="152769"/>
                </a:lnTo>
                <a:lnTo>
                  <a:pt x="36975" y="152612"/>
                </a:lnTo>
                <a:lnTo>
                  <a:pt x="41549" y="151661"/>
                </a:lnTo>
                <a:lnTo>
                  <a:pt x="46292" y="150180"/>
                </a:lnTo>
                <a:lnTo>
                  <a:pt x="51148" y="148346"/>
                </a:lnTo>
                <a:lnTo>
                  <a:pt x="56077" y="147123"/>
                </a:lnTo>
                <a:lnTo>
                  <a:pt x="61057" y="146308"/>
                </a:lnTo>
                <a:lnTo>
                  <a:pt x="66071" y="145764"/>
                </a:lnTo>
                <a:lnTo>
                  <a:pt x="70260" y="145402"/>
                </a:lnTo>
                <a:lnTo>
                  <a:pt x="73900" y="145161"/>
                </a:lnTo>
                <a:lnTo>
                  <a:pt x="77172" y="145000"/>
                </a:lnTo>
                <a:lnTo>
                  <a:pt x="80201" y="145739"/>
                </a:lnTo>
                <a:lnTo>
                  <a:pt x="83066" y="147079"/>
                </a:lnTo>
                <a:lnTo>
                  <a:pt x="85824" y="148819"/>
                </a:lnTo>
                <a:lnTo>
                  <a:pt x="88509" y="149978"/>
                </a:lnTo>
                <a:lnTo>
                  <a:pt x="91146" y="150752"/>
                </a:lnTo>
                <a:lnTo>
                  <a:pt x="98958" y="1522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343"/>
          <p:cNvSpPr/>
          <p:nvPr/>
        </p:nvSpPr>
        <p:spPr>
          <a:xfrm>
            <a:off x="5921280" y="4024440"/>
            <a:ext cx="44640" cy="188640"/>
          </a:xfrm>
          <a:custGeom>
            <a:avLst/>
            <a:gdLst>
              <a:gd name="textAreaLeft" fmla="*/ 0 w 44640"/>
              <a:gd name="textAreaRight" fmla="*/ 44640 w 4464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45720" h="189442">
                <a:moveTo>
                  <a:pt x="45719" y="6561"/>
                </a:moveTo>
                <a:lnTo>
                  <a:pt x="45719" y="0"/>
                </a:lnTo>
                <a:lnTo>
                  <a:pt x="45719" y="10581"/>
                </a:lnTo>
                <a:lnTo>
                  <a:pt x="44872" y="12628"/>
                </a:lnTo>
                <a:lnTo>
                  <a:pt x="43462" y="14839"/>
                </a:lnTo>
                <a:lnTo>
                  <a:pt x="41674" y="17160"/>
                </a:lnTo>
                <a:lnTo>
                  <a:pt x="40482" y="20400"/>
                </a:lnTo>
                <a:lnTo>
                  <a:pt x="39688" y="24254"/>
                </a:lnTo>
                <a:lnTo>
                  <a:pt x="39158" y="28517"/>
                </a:lnTo>
                <a:lnTo>
                  <a:pt x="37958" y="33052"/>
                </a:lnTo>
                <a:lnTo>
                  <a:pt x="36312" y="37768"/>
                </a:lnTo>
                <a:lnTo>
                  <a:pt x="34368" y="42606"/>
                </a:lnTo>
                <a:lnTo>
                  <a:pt x="32225" y="47524"/>
                </a:lnTo>
                <a:lnTo>
                  <a:pt x="27587" y="57505"/>
                </a:lnTo>
                <a:lnTo>
                  <a:pt x="25164" y="63384"/>
                </a:lnTo>
                <a:lnTo>
                  <a:pt x="22702" y="69843"/>
                </a:lnTo>
                <a:lnTo>
                  <a:pt x="20214" y="76689"/>
                </a:lnTo>
                <a:lnTo>
                  <a:pt x="18557" y="82947"/>
                </a:lnTo>
                <a:lnTo>
                  <a:pt x="17451" y="88811"/>
                </a:lnTo>
                <a:lnTo>
                  <a:pt x="16713" y="94415"/>
                </a:lnTo>
                <a:lnTo>
                  <a:pt x="15376" y="99843"/>
                </a:lnTo>
                <a:lnTo>
                  <a:pt x="13637" y="105156"/>
                </a:lnTo>
                <a:lnTo>
                  <a:pt x="11631" y="110391"/>
                </a:lnTo>
                <a:lnTo>
                  <a:pt x="10294" y="115575"/>
                </a:lnTo>
                <a:lnTo>
                  <a:pt x="9402" y="120723"/>
                </a:lnTo>
                <a:lnTo>
                  <a:pt x="8808" y="125849"/>
                </a:lnTo>
                <a:lnTo>
                  <a:pt x="7565" y="130960"/>
                </a:lnTo>
                <a:lnTo>
                  <a:pt x="5890" y="136060"/>
                </a:lnTo>
                <a:lnTo>
                  <a:pt x="3927" y="141154"/>
                </a:lnTo>
                <a:lnTo>
                  <a:pt x="2617" y="145396"/>
                </a:lnTo>
                <a:lnTo>
                  <a:pt x="1745" y="149071"/>
                </a:lnTo>
                <a:lnTo>
                  <a:pt x="1163" y="152368"/>
                </a:lnTo>
                <a:lnTo>
                  <a:pt x="775" y="156259"/>
                </a:lnTo>
                <a:lnTo>
                  <a:pt x="517" y="160546"/>
                </a:lnTo>
                <a:lnTo>
                  <a:pt x="102" y="171504"/>
                </a:lnTo>
                <a:lnTo>
                  <a:pt x="29" y="177447"/>
                </a:lnTo>
                <a:lnTo>
                  <a:pt x="0" y="1894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344"/>
          <p:cNvSpPr/>
          <p:nvPr/>
        </p:nvSpPr>
        <p:spPr>
          <a:xfrm>
            <a:off x="5859360" y="411480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2" h="7621">
                <a:moveTo>
                  <a:pt x="0" y="7620"/>
                </a:moveTo>
                <a:lnTo>
                  <a:pt x="14651" y="7620"/>
                </a:lnTo>
                <a:lnTo>
                  <a:pt x="19927" y="6774"/>
                </a:lnTo>
                <a:lnTo>
                  <a:pt x="25985" y="5362"/>
                </a:lnTo>
                <a:lnTo>
                  <a:pt x="32563" y="3575"/>
                </a:lnTo>
                <a:lnTo>
                  <a:pt x="39489" y="2384"/>
                </a:lnTo>
                <a:lnTo>
                  <a:pt x="46646" y="1589"/>
                </a:lnTo>
                <a:lnTo>
                  <a:pt x="53957" y="1059"/>
                </a:lnTo>
                <a:lnTo>
                  <a:pt x="62218" y="706"/>
                </a:lnTo>
                <a:lnTo>
                  <a:pt x="80428" y="314"/>
                </a:lnTo>
                <a:lnTo>
                  <a:pt x="13716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345"/>
          <p:cNvSpPr/>
          <p:nvPr/>
        </p:nvSpPr>
        <p:spPr>
          <a:xfrm>
            <a:off x="6118200" y="3992400"/>
            <a:ext cx="160200" cy="198720"/>
          </a:xfrm>
          <a:custGeom>
            <a:avLst/>
            <a:gdLst>
              <a:gd name="textAreaLeft" fmla="*/ 0 w 160200"/>
              <a:gd name="textAreaRight" fmla="*/ 160560 w 1602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60021" h="197521">
                <a:moveTo>
                  <a:pt x="0" y="30043"/>
                </a:moveTo>
                <a:lnTo>
                  <a:pt x="0" y="25998"/>
                </a:lnTo>
                <a:lnTo>
                  <a:pt x="846" y="24806"/>
                </a:lnTo>
                <a:lnTo>
                  <a:pt x="2258" y="24012"/>
                </a:lnTo>
                <a:lnTo>
                  <a:pt x="4046" y="23482"/>
                </a:lnTo>
                <a:lnTo>
                  <a:pt x="8288" y="20636"/>
                </a:lnTo>
                <a:lnTo>
                  <a:pt x="10606" y="18692"/>
                </a:lnTo>
                <a:lnTo>
                  <a:pt x="13844" y="16549"/>
                </a:lnTo>
                <a:lnTo>
                  <a:pt x="17696" y="14273"/>
                </a:lnTo>
                <a:lnTo>
                  <a:pt x="21957" y="11910"/>
                </a:lnTo>
                <a:lnTo>
                  <a:pt x="31207" y="7026"/>
                </a:lnTo>
                <a:lnTo>
                  <a:pt x="36045" y="4538"/>
                </a:lnTo>
                <a:lnTo>
                  <a:pt x="40964" y="2880"/>
                </a:lnTo>
                <a:lnTo>
                  <a:pt x="45936" y="1774"/>
                </a:lnTo>
                <a:lnTo>
                  <a:pt x="50944" y="1037"/>
                </a:lnTo>
                <a:lnTo>
                  <a:pt x="56822" y="546"/>
                </a:lnTo>
                <a:lnTo>
                  <a:pt x="63282" y="218"/>
                </a:lnTo>
                <a:lnTo>
                  <a:pt x="70128" y="0"/>
                </a:lnTo>
                <a:lnTo>
                  <a:pt x="75539" y="701"/>
                </a:lnTo>
                <a:lnTo>
                  <a:pt x="79993" y="2015"/>
                </a:lnTo>
                <a:lnTo>
                  <a:pt x="83808" y="3738"/>
                </a:lnTo>
                <a:lnTo>
                  <a:pt x="88046" y="4886"/>
                </a:lnTo>
                <a:lnTo>
                  <a:pt x="92564" y="5652"/>
                </a:lnTo>
                <a:lnTo>
                  <a:pt x="97269" y="6162"/>
                </a:lnTo>
                <a:lnTo>
                  <a:pt x="101253" y="7349"/>
                </a:lnTo>
                <a:lnTo>
                  <a:pt x="104755" y="8987"/>
                </a:lnTo>
                <a:lnTo>
                  <a:pt x="112415" y="13654"/>
                </a:lnTo>
                <a:lnTo>
                  <a:pt x="113044" y="14884"/>
                </a:lnTo>
                <a:lnTo>
                  <a:pt x="113741" y="18508"/>
                </a:lnTo>
                <a:lnTo>
                  <a:pt x="113081" y="20659"/>
                </a:lnTo>
                <a:lnTo>
                  <a:pt x="110089" y="25308"/>
                </a:lnTo>
                <a:lnTo>
                  <a:pt x="105938" y="30197"/>
                </a:lnTo>
                <a:lnTo>
                  <a:pt x="103645" y="32685"/>
                </a:lnTo>
                <a:lnTo>
                  <a:pt x="92328" y="44278"/>
                </a:lnTo>
                <a:lnTo>
                  <a:pt x="87799" y="49694"/>
                </a:lnTo>
                <a:lnTo>
                  <a:pt x="83086" y="55843"/>
                </a:lnTo>
                <a:lnTo>
                  <a:pt x="78250" y="62484"/>
                </a:lnTo>
                <a:lnTo>
                  <a:pt x="73334" y="68603"/>
                </a:lnTo>
                <a:lnTo>
                  <a:pt x="68363" y="74377"/>
                </a:lnTo>
                <a:lnTo>
                  <a:pt x="63355" y="79918"/>
                </a:lnTo>
                <a:lnTo>
                  <a:pt x="53275" y="90592"/>
                </a:lnTo>
                <a:lnTo>
                  <a:pt x="22854" y="121447"/>
                </a:lnTo>
                <a:lnTo>
                  <a:pt x="17776" y="126539"/>
                </a:lnTo>
                <a:lnTo>
                  <a:pt x="13544" y="131627"/>
                </a:lnTo>
                <a:lnTo>
                  <a:pt x="9876" y="136712"/>
                </a:lnTo>
                <a:lnTo>
                  <a:pt x="6584" y="141796"/>
                </a:lnTo>
                <a:lnTo>
                  <a:pt x="4390" y="146878"/>
                </a:lnTo>
                <a:lnTo>
                  <a:pt x="2926" y="151960"/>
                </a:lnTo>
                <a:lnTo>
                  <a:pt x="1951" y="157041"/>
                </a:lnTo>
                <a:lnTo>
                  <a:pt x="2147" y="161275"/>
                </a:lnTo>
                <a:lnTo>
                  <a:pt x="3125" y="164944"/>
                </a:lnTo>
                <a:lnTo>
                  <a:pt x="4623" y="168237"/>
                </a:lnTo>
                <a:lnTo>
                  <a:pt x="7315" y="172126"/>
                </a:lnTo>
                <a:lnTo>
                  <a:pt x="10803" y="176411"/>
                </a:lnTo>
                <a:lnTo>
                  <a:pt x="18348" y="184842"/>
                </a:lnTo>
                <a:lnTo>
                  <a:pt x="24524" y="191412"/>
                </a:lnTo>
                <a:lnTo>
                  <a:pt x="29049" y="193502"/>
                </a:lnTo>
                <a:lnTo>
                  <a:pt x="34606" y="194896"/>
                </a:lnTo>
                <a:lnTo>
                  <a:pt x="40850" y="195825"/>
                </a:lnTo>
                <a:lnTo>
                  <a:pt x="47554" y="196444"/>
                </a:lnTo>
                <a:lnTo>
                  <a:pt x="54563" y="196857"/>
                </a:lnTo>
                <a:lnTo>
                  <a:pt x="61776" y="197132"/>
                </a:lnTo>
                <a:lnTo>
                  <a:pt x="88107" y="197520"/>
                </a:lnTo>
                <a:lnTo>
                  <a:pt x="98531" y="196728"/>
                </a:lnTo>
                <a:lnTo>
                  <a:pt x="109714" y="195353"/>
                </a:lnTo>
                <a:lnTo>
                  <a:pt x="121403" y="193589"/>
                </a:lnTo>
                <a:lnTo>
                  <a:pt x="130889" y="192414"/>
                </a:lnTo>
                <a:lnTo>
                  <a:pt x="138906" y="191630"/>
                </a:lnTo>
                <a:lnTo>
                  <a:pt x="160020" y="19006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346"/>
          <p:cNvSpPr/>
          <p:nvPr/>
        </p:nvSpPr>
        <p:spPr>
          <a:xfrm>
            <a:off x="6286680" y="4092480"/>
            <a:ext cx="152280" cy="120600"/>
          </a:xfrm>
          <a:custGeom>
            <a:avLst/>
            <a:gdLst>
              <a:gd name="textAreaLeft" fmla="*/ 0 w 152280"/>
              <a:gd name="textAreaRight" fmla="*/ 152640 w 1522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52401" h="121921">
                <a:moveTo>
                  <a:pt x="152400" y="0"/>
                </a:moveTo>
                <a:lnTo>
                  <a:pt x="152400" y="4045"/>
                </a:lnTo>
                <a:lnTo>
                  <a:pt x="151554" y="5237"/>
                </a:lnTo>
                <a:lnTo>
                  <a:pt x="150142" y="6031"/>
                </a:lnTo>
                <a:lnTo>
                  <a:pt x="148355" y="6561"/>
                </a:lnTo>
                <a:lnTo>
                  <a:pt x="144112" y="9407"/>
                </a:lnTo>
                <a:lnTo>
                  <a:pt x="141794" y="11351"/>
                </a:lnTo>
                <a:lnTo>
                  <a:pt x="139403" y="14341"/>
                </a:lnTo>
                <a:lnTo>
                  <a:pt x="136962" y="18027"/>
                </a:lnTo>
                <a:lnTo>
                  <a:pt x="134488" y="22178"/>
                </a:lnTo>
                <a:lnTo>
                  <a:pt x="131992" y="25792"/>
                </a:lnTo>
                <a:lnTo>
                  <a:pt x="129482" y="29048"/>
                </a:lnTo>
                <a:lnTo>
                  <a:pt x="126961" y="32066"/>
                </a:lnTo>
                <a:lnTo>
                  <a:pt x="123587" y="35771"/>
                </a:lnTo>
                <a:lnTo>
                  <a:pt x="115324" y="44403"/>
                </a:lnTo>
                <a:lnTo>
                  <a:pt x="101151" y="58782"/>
                </a:lnTo>
                <a:lnTo>
                  <a:pt x="95374" y="63741"/>
                </a:lnTo>
                <a:lnTo>
                  <a:pt x="88983" y="68741"/>
                </a:lnTo>
                <a:lnTo>
                  <a:pt x="82183" y="73767"/>
                </a:lnTo>
                <a:lnTo>
                  <a:pt x="75954" y="78812"/>
                </a:lnTo>
                <a:lnTo>
                  <a:pt x="70110" y="83868"/>
                </a:lnTo>
                <a:lnTo>
                  <a:pt x="64520" y="88932"/>
                </a:lnTo>
                <a:lnTo>
                  <a:pt x="58253" y="94001"/>
                </a:lnTo>
                <a:lnTo>
                  <a:pt x="51535" y="99074"/>
                </a:lnTo>
                <a:lnTo>
                  <a:pt x="44517" y="104150"/>
                </a:lnTo>
                <a:lnTo>
                  <a:pt x="38145" y="108380"/>
                </a:lnTo>
                <a:lnTo>
                  <a:pt x="32203" y="112047"/>
                </a:lnTo>
                <a:lnTo>
                  <a:pt x="26549" y="115338"/>
                </a:lnTo>
                <a:lnTo>
                  <a:pt x="21933" y="117532"/>
                </a:lnTo>
                <a:lnTo>
                  <a:pt x="18009" y="118995"/>
                </a:lnTo>
                <a:lnTo>
                  <a:pt x="9672" y="121342"/>
                </a:lnTo>
                <a:lnTo>
                  <a:pt x="6274" y="121663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347"/>
          <p:cNvSpPr/>
          <p:nvPr/>
        </p:nvSpPr>
        <p:spPr>
          <a:xfrm>
            <a:off x="6362640" y="4076640"/>
            <a:ext cx="152640" cy="130320"/>
          </a:xfrm>
          <a:custGeom>
            <a:avLst/>
            <a:gdLst>
              <a:gd name="textAreaLeft" fmla="*/ 0 w 152640"/>
              <a:gd name="textAreaRight" fmla="*/ 153000 w 152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52401" h="129541">
                <a:moveTo>
                  <a:pt x="0" y="0"/>
                </a:moveTo>
                <a:lnTo>
                  <a:pt x="0" y="11352"/>
                </a:lnTo>
                <a:lnTo>
                  <a:pt x="847" y="14341"/>
                </a:lnTo>
                <a:lnTo>
                  <a:pt x="2258" y="18027"/>
                </a:lnTo>
                <a:lnTo>
                  <a:pt x="4046" y="22178"/>
                </a:lnTo>
                <a:lnTo>
                  <a:pt x="8289" y="31306"/>
                </a:lnTo>
                <a:lnTo>
                  <a:pt x="17913" y="50963"/>
                </a:lnTo>
                <a:lnTo>
                  <a:pt x="21255" y="55142"/>
                </a:lnTo>
                <a:lnTo>
                  <a:pt x="25177" y="58775"/>
                </a:lnTo>
                <a:lnTo>
                  <a:pt x="29485" y="62043"/>
                </a:lnTo>
                <a:lnTo>
                  <a:pt x="41045" y="70190"/>
                </a:lnTo>
                <a:lnTo>
                  <a:pt x="91613" y="104234"/>
                </a:lnTo>
                <a:lnTo>
                  <a:pt x="100022" y="108436"/>
                </a:lnTo>
                <a:lnTo>
                  <a:pt x="109014" y="112084"/>
                </a:lnTo>
                <a:lnTo>
                  <a:pt x="118396" y="115363"/>
                </a:lnTo>
                <a:lnTo>
                  <a:pt x="126344" y="118395"/>
                </a:lnTo>
                <a:lnTo>
                  <a:pt x="133336" y="121264"/>
                </a:lnTo>
                <a:lnTo>
                  <a:pt x="15240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348"/>
          <p:cNvSpPr/>
          <p:nvPr/>
        </p:nvSpPr>
        <p:spPr>
          <a:xfrm>
            <a:off x="6735600" y="411480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15240"/>
                </a:moveTo>
                <a:lnTo>
                  <a:pt x="4046" y="15240"/>
                </a:lnTo>
                <a:lnTo>
                  <a:pt x="6084" y="14394"/>
                </a:lnTo>
                <a:lnTo>
                  <a:pt x="8289" y="12983"/>
                </a:lnTo>
                <a:lnTo>
                  <a:pt x="10606" y="11195"/>
                </a:lnTo>
                <a:lnTo>
                  <a:pt x="12997" y="10003"/>
                </a:lnTo>
                <a:lnTo>
                  <a:pt x="15439" y="9209"/>
                </a:lnTo>
                <a:lnTo>
                  <a:pt x="17912" y="8679"/>
                </a:lnTo>
                <a:lnTo>
                  <a:pt x="20408" y="8326"/>
                </a:lnTo>
                <a:lnTo>
                  <a:pt x="22919" y="8091"/>
                </a:lnTo>
                <a:lnTo>
                  <a:pt x="25439" y="7934"/>
                </a:lnTo>
                <a:lnTo>
                  <a:pt x="29660" y="6983"/>
                </a:lnTo>
                <a:lnTo>
                  <a:pt x="35013" y="5502"/>
                </a:lnTo>
                <a:lnTo>
                  <a:pt x="41122" y="3668"/>
                </a:lnTo>
                <a:lnTo>
                  <a:pt x="47735" y="2445"/>
                </a:lnTo>
                <a:lnTo>
                  <a:pt x="54683" y="1630"/>
                </a:lnTo>
                <a:lnTo>
                  <a:pt x="61855" y="1087"/>
                </a:lnTo>
                <a:lnTo>
                  <a:pt x="69177" y="725"/>
                </a:lnTo>
                <a:lnTo>
                  <a:pt x="84085" y="322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349"/>
          <p:cNvSpPr/>
          <p:nvPr/>
        </p:nvSpPr>
        <p:spPr>
          <a:xfrm>
            <a:off x="6754680" y="4168800"/>
            <a:ext cx="171720" cy="14400"/>
          </a:xfrm>
          <a:custGeom>
            <a:avLst/>
            <a:gdLst>
              <a:gd name="textAreaLeft" fmla="*/ 0 w 171720"/>
              <a:gd name="textAreaRight" fmla="*/ 171720 w 171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2031" h="15211">
                <a:moveTo>
                  <a:pt x="4390" y="0"/>
                </a:moveTo>
                <a:lnTo>
                  <a:pt x="345" y="0"/>
                </a:lnTo>
                <a:lnTo>
                  <a:pt x="0" y="847"/>
                </a:lnTo>
                <a:lnTo>
                  <a:pt x="617" y="2258"/>
                </a:lnTo>
                <a:lnTo>
                  <a:pt x="3646" y="6561"/>
                </a:lnTo>
                <a:lnTo>
                  <a:pt x="4740" y="7761"/>
                </a:lnTo>
                <a:lnTo>
                  <a:pt x="8215" y="11351"/>
                </a:lnTo>
                <a:lnTo>
                  <a:pt x="10327" y="12647"/>
                </a:lnTo>
                <a:lnTo>
                  <a:pt x="12581" y="13512"/>
                </a:lnTo>
                <a:lnTo>
                  <a:pt x="14931" y="14088"/>
                </a:lnTo>
                <a:lnTo>
                  <a:pt x="18190" y="14472"/>
                </a:lnTo>
                <a:lnTo>
                  <a:pt x="22057" y="14728"/>
                </a:lnTo>
                <a:lnTo>
                  <a:pt x="26328" y="14898"/>
                </a:lnTo>
                <a:lnTo>
                  <a:pt x="44475" y="15139"/>
                </a:lnTo>
                <a:lnTo>
                  <a:pt x="65939" y="15210"/>
                </a:lnTo>
                <a:lnTo>
                  <a:pt x="74209" y="14373"/>
                </a:lnTo>
                <a:lnTo>
                  <a:pt x="83110" y="12968"/>
                </a:lnTo>
                <a:lnTo>
                  <a:pt x="92431" y="11186"/>
                </a:lnTo>
                <a:lnTo>
                  <a:pt x="111816" y="6947"/>
                </a:lnTo>
                <a:lnTo>
                  <a:pt x="121728" y="4631"/>
                </a:lnTo>
                <a:lnTo>
                  <a:pt x="129183" y="3088"/>
                </a:lnTo>
                <a:lnTo>
                  <a:pt x="134998" y="2059"/>
                </a:lnTo>
                <a:lnTo>
                  <a:pt x="139722" y="1373"/>
                </a:lnTo>
                <a:lnTo>
                  <a:pt x="145411" y="915"/>
                </a:lnTo>
                <a:lnTo>
                  <a:pt x="151744" y="610"/>
                </a:lnTo>
                <a:lnTo>
                  <a:pt x="17203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350"/>
          <p:cNvSpPr/>
          <p:nvPr/>
        </p:nvSpPr>
        <p:spPr>
          <a:xfrm>
            <a:off x="7056360" y="4016520"/>
            <a:ext cx="22320" cy="220680"/>
          </a:xfrm>
          <a:custGeom>
            <a:avLst/>
            <a:gdLst>
              <a:gd name="textAreaLeft" fmla="*/ 0 w 22320"/>
              <a:gd name="textAreaRight" fmla="*/ 22680 w 22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740" h="220981">
                <a:moveTo>
                  <a:pt x="15119" y="0"/>
                </a:moveTo>
                <a:lnTo>
                  <a:pt x="15119" y="61790"/>
                </a:lnTo>
                <a:lnTo>
                  <a:pt x="14272" y="69134"/>
                </a:lnTo>
                <a:lnTo>
                  <a:pt x="12861" y="76569"/>
                </a:lnTo>
                <a:lnTo>
                  <a:pt x="4513" y="110799"/>
                </a:lnTo>
                <a:lnTo>
                  <a:pt x="2968" y="118739"/>
                </a:lnTo>
                <a:lnTo>
                  <a:pt x="1939" y="125726"/>
                </a:lnTo>
                <a:lnTo>
                  <a:pt x="1252" y="132077"/>
                </a:lnTo>
                <a:lnTo>
                  <a:pt x="795" y="138852"/>
                </a:lnTo>
                <a:lnTo>
                  <a:pt x="490" y="145908"/>
                </a:lnTo>
                <a:lnTo>
                  <a:pt x="151" y="160521"/>
                </a:lnTo>
                <a:lnTo>
                  <a:pt x="0" y="175483"/>
                </a:lnTo>
                <a:lnTo>
                  <a:pt x="807" y="181335"/>
                </a:lnTo>
                <a:lnTo>
                  <a:pt x="2191" y="186084"/>
                </a:lnTo>
                <a:lnTo>
                  <a:pt x="3961" y="190096"/>
                </a:lnTo>
                <a:lnTo>
                  <a:pt x="8184" y="199070"/>
                </a:lnTo>
                <a:lnTo>
                  <a:pt x="10495" y="203833"/>
                </a:lnTo>
                <a:lnTo>
                  <a:pt x="12883" y="207856"/>
                </a:lnTo>
                <a:lnTo>
                  <a:pt x="15322" y="211383"/>
                </a:lnTo>
                <a:lnTo>
                  <a:pt x="22739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351"/>
          <p:cNvSpPr/>
          <p:nvPr/>
        </p:nvSpPr>
        <p:spPr>
          <a:xfrm>
            <a:off x="7184880" y="397044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35659" h="243717">
                <a:moveTo>
                  <a:pt x="0" y="37976"/>
                </a:moveTo>
                <a:lnTo>
                  <a:pt x="86989" y="37976"/>
                </a:lnTo>
                <a:lnTo>
                  <a:pt x="96940" y="37130"/>
                </a:lnTo>
                <a:lnTo>
                  <a:pt x="106959" y="35718"/>
                </a:lnTo>
                <a:lnTo>
                  <a:pt x="117027" y="33931"/>
                </a:lnTo>
                <a:lnTo>
                  <a:pt x="126278" y="31893"/>
                </a:lnTo>
                <a:lnTo>
                  <a:pt x="134985" y="29687"/>
                </a:lnTo>
                <a:lnTo>
                  <a:pt x="143330" y="27370"/>
                </a:lnTo>
                <a:lnTo>
                  <a:pt x="159375" y="22538"/>
                </a:lnTo>
                <a:lnTo>
                  <a:pt x="167211" y="20064"/>
                </a:lnTo>
                <a:lnTo>
                  <a:pt x="174974" y="18415"/>
                </a:lnTo>
                <a:lnTo>
                  <a:pt x="182689" y="17315"/>
                </a:lnTo>
                <a:lnTo>
                  <a:pt x="190373" y="16582"/>
                </a:lnTo>
                <a:lnTo>
                  <a:pt x="196342" y="15247"/>
                </a:lnTo>
                <a:lnTo>
                  <a:pt x="201167" y="13510"/>
                </a:lnTo>
                <a:lnTo>
                  <a:pt x="219042" y="4639"/>
                </a:lnTo>
                <a:lnTo>
                  <a:pt x="223075" y="3051"/>
                </a:lnTo>
                <a:lnTo>
                  <a:pt x="229813" y="1287"/>
                </a:lnTo>
                <a:lnTo>
                  <a:pt x="235658" y="0"/>
                </a:lnTo>
                <a:lnTo>
                  <a:pt x="230026" y="5984"/>
                </a:lnTo>
                <a:lnTo>
                  <a:pt x="225566" y="10492"/>
                </a:lnTo>
                <a:lnTo>
                  <a:pt x="222343" y="14574"/>
                </a:lnTo>
                <a:lnTo>
                  <a:pt x="218502" y="19835"/>
                </a:lnTo>
                <a:lnTo>
                  <a:pt x="214249" y="25882"/>
                </a:lnTo>
                <a:lnTo>
                  <a:pt x="209719" y="31607"/>
                </a:lnTo>
                <a:lnTo>
                  <a:pt x="205007" y="37116"/>
                </a:lnTo>
                <a:lnTo>
                  <a:pt x="200171" y="42483"/>
                </a:lnTo>
                <a:lnTo>
                  <a:pt x="188025" y="55219"/>
                </a:lnTo>
                <a:lnTo>
                  <a:pt x="181230" y="62171"/>
                </a:lnTo>
                <a:lnTo>
                  <a:pt x="175006" y="69346"/>
                </a:lnTo>
                <a:lnTo>
                  <a:pt x="169165" y="76669"/>
                </a:lnTo>
                <a:lnTo>
                  <a:pt x="163577" y="84092"/>
                </a:lnTo>
                <a:lnTo>
                  <a:pt x="157312" y="91580"/>
                </a:lnTo>
                <a:lnTo>
                  <a:pt x="150595" y="99112"/>
                </a:lnTo>
                <a:lnTo>
                  <a:pt x="143576" y="106673"/>
                </a:lnTo>
                <a:lnTo>
                  <a:pt x="136357" y="115101"/>
                </a:lnTo>
                <a:lnTo>
                  <a:pt x="129005" y="124106"/>
                </a:lnTo>
                <a:lnTo>
                  <a:pt x="121564" y="133496"/>
                </a:lnTo>
                <a:lnTo>
                  <a:pt x="114062" y="142296"/>
                </a:lnTo>
                <a:lnTo>
                  <a:pt x="106521" y="150703"/>
                </a:lnTo>
                <a:lnTo>
                  <a:pt x="91369" y="166817"/>
                </a:lnTo>
                <a:lnTo>
                  <a:pt x="57376" y="201479"/>
                </a:lnTo>
                <a:lnTo>
                  <a:pt x="52645" y="207092"/>
                </a:lnTo>
                <a:lnTo>
                  <a:pt x="48643" y="212526"/>
                </a:lnTo>
                <a:lnTo>
                  <a:pt x="45129" y="217843"/>
                </a:lnTo>
                <a:lnTo>
                  <a:pt x="41939" y="222234"/>
                </a:lnTo>
                <a:lnTo>
                  <a:pt x="36137" y="229371"/>
                </a:lnTo>
                <a:lnTo>
                  <a:pt x="30737" y="235365"/>
                </a:lnTo>
                <a:lnTo>
                  <a:pt x="22860" y="2437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352"/>
          <p:cNvSpPr/>
          <p:nvPr/>
        </p:nvSpPr>
        <p:spPr>
          <a:xfrm>
            <a:off x="7223040" y="4092480"/>
            <a:ext cx="160560" cy="38160"/>
          </a:xfrm>
          <a:custGeom>
            <a:avLst/>
            <a:gdLst>
              <a:gd name="textAreaLeft" fmla="*/ 0 w 160560"/>
              <a:gd name="textAreaRight" fmla="*/ 160920 w 160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0021" h="38101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7" y="8289"/>
                </a:lnTo>
                <a:lnTo>
                  <a:pt x="14651" y="10606"/>
                </a:lnTo>
                <a:lnTo>
                  <a:pt x="19927" y="12997"/>
                </a:lnTo>
                <a:lnTo>
                  <a:pt x="25985" y="15438"/>
                </a:lnTo>
                <a:lnTo>
                  <a:pt x="32564" y="17912"/>
                </a:lnTo>
                <a:lnTo>
                  <a:pt x="40336" y="19561"/>
                </a:lnTo>
                <a:lnTo>
                  <a:pt x="48904" y="20661"/>
                </a:lnTo>
                <a:lnTo>
                  <a:pt x="58003" y="21394"/>
                </a:lnTo>
                <a:lnTo>
                  <a:pt x="67455" y="22729"/>
                </a:lnTo>
                <a:lnTo>
                  <a:pt x="77143" y="24466"/>
                </a:lnTo>
                <a:lnTo>
                  <a:pt x="121072" y="33337"/>
                </a:lnTo>
                <a:lnTo>
                  <a:pt x="130668" y="34925"/>
                </a:lnTo>
                <a:lnTo>
                  <a:pt x="138758" y="35984"/>
                </a:lnTo>
                <a:lnTo>
                  <a:pt x="16002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353"/>
          <p:cNvSpPr/>
          <p:nvPr/>
        </p:nvSpPr>
        <p:spPr>
          <a:xfrm>
            <a:off x="7477200" y="3992400"/>
            <a:ext cx="174600" cy="249480"/>
          </a:xfrm>
          <a:custGeom>
            <a:avLst/>
            <a:gdLst>
              <a:gd name="textAreaLeft" fmla="*/ 0 w 174600"/>
              <a:gd name="textAreaRight" fmla="*/ 174960 w 1746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74245" h="249155">
                <a:moveTo>
                  <a:pt x="158216" y="0"/>
                </a:moveTo>
                <a:lnTo>
                  <a:pt x="150689" y="0"/>
                </a:lnTo>
                <a:lnTo>
                  <a:pt x="129393" y="10606"/>
                </a:lnTo>
                <a:lnTo>
                  <a:pt x="123761" y="14691"/>
                </a:lnTo>
                <a:lnTo>
                  <a:pt x="117465" y="19954"/>
                </a:lnTo>
                <a:lnTo>
                  <a:pt x="110729" y="26003"/>
                </a:lnTo>
                <a:lnTo>
                  <a:pt x="102851" y="31728"/>
                </a:lnTo>
                <a:lnTo>
                  <a:pt x="94212" y="37239"/>
                </a:lnTo>
                <a:lnTo>
                  <a:pt x="85067" y="42606"/>
                </a:lnTo>
                <a:lnTo>
                  <a:pt x="75583" y="49571"/>
                </a:lnTo>
                <a:lnTo>
                  <a:pt x="65874" y="57600"/>
                </a:lnTo>
                <a:lnTo>
                  <a:pt x="56015" y="66340"/>
                </a:lnTo>
                <a:lnTo>
                  <a:pt x="38286" y="82825"/>
                </a:lnTo>
                <a:lnTo>
                  <a:pt x="30002" y="90776"/>
                </a:lnTo>
                <a:lnTo>
                  <a:pt x="23634" y="98618"/>
                </a:lnTo>
                <a:lnTo>
                  <a:pt x="18541" y="106385"/>
                </a:lnTo>
                <a:lnTo>
                  <a:pt x="14299" y="114103"/>
                </a:lnTo>
                <a:lnTo>
                  <a:pt x="10625" y="122636"/>
                </a:lnTo>
                <a:lnTo>
                  <a:pt x="7329" y="131710"/>
                </a:lnTo>
                <a:lnTo>
                  <a:pt x="4284" y="141147"/>
                </a:lnTo>
                <a:lnTo>
                  <a:pt x="2255" y="149978"/>
                </a:lnTo>
                <a:lnTo>
                  <a:pt x="902" y="158405"/>
                </a:lnTo>
                <a:lnTo>
                  <a:pt x="0" y="166563"/>
                </a:lnTo>
                <a:lnTo>
                  <a:pt x="244" y="174542"/>
                </a:lnTo>
                <a:lnTo>
                  <a:pt x="1255" y="182402"/>
                </a:lnTo>
                <a:lnTo>
                  <a:pt x="2774" y="190181"/>
                </a:lnTo>
                <a:lnTo>
                  <a:pt x="5481" y="197060"/>
                </a:lnTo>
                <a:lnTo>
                  <a:pt x="8980" y="203341"/>
                </a:lnTo>
                <a:lnTo>
                  <a:pt x="13005" y="209220"/>
                </a:lnTo>
                <a:lnTo>
                  <a:pt x="18229" y="215680"/>
                </a:lnTo>
                <a:lnTo>
                  <a:pt x="24252" y="222527"/>
                </a:lnTo>
                <a:lnTo>
                  <a:pt x="30805" y="229631"/>
                </a:lnTo>
                <a:lnTo>
                  <a:pt x="37717" y="235214"/>
                </a:lnTo>
                <a:lnTo>
                  <a:pt x="44863" y="239783"/>
                </a:lnTo>
                <a:lnTo>
                  <a:pt x="52167" y="243675"/>
                </a:lnTo>
                <a:lnTo>
                  <a:pt x="59576" y="246270"/>
                </a:lnTo>
                <a:lnTo>
                  <a:pt x="67056" y="248000"/>
                </a:lnTo>
                <a:lnTo>
                  <a:pt x="74583" y="249154"/>
                </a:lnTo>
                <a:lnTo>
                  <a:pt x="82141" y="249075"/>
                </a:lnTo>
                <a:lnTo>
                  <a:pt x="89719" y="248177"/>
                </a:lnTo>
                <a:lnTo>
                  <a:pt x="97311" y="246731"/>
                </a:lnTo>
                <a:lnTo>
                  <a:pt x="104913" y="244075"/>
                </a:lnTo>
                <a:lnTo>
                  <a:pt x="112521" y="240610"/>
                </a:lnTo>
                <a:lnTo>
                  <a:pt x="120133" y="236606"/>
                </a:lnTo>
                <a:lnTo>
                  <a:pt x="126901" y="231397"/>
                </a:lnTo>
                <a:lnTo>
                  <a:pt x="133105" y="225385"/>
                </a:lnTo>
                <a:lnTo>
                  <a:pt x="138935" y="218837"/>
                </a:lnTo>
                <a:lnTo>
                  <a:pt x="144515" y="211931"/>
                </a:lnTo>
                <a:lnTo>
                  <a:pt x="149929" y="204787"/>
                </a:lnTo>
                <a:lnTo>
                  <a:pt x="155231" y="197485"/>
                </a:lnTo>
                <a:lnTo>
                  <a:pt x="160459" y="190923"/>
                </a:lnTo>
                <a:lnTo>
                  <a:pt x="165639" y="184856"/>
                </a:lnTo>
                <a:lnTo>
                  <a:pt x="170784" y="179117"/>
                </a:lnTo>
                <a:lnTo>
                  <a:pt x="173369" y="172751"/>
                </a:lnTo>
                <a:lnTo>
                  <a:pt x="174244" y="165968"/>
                </a:lnTo>
                <a:lnTo>
                  <a:pt x="173982" y="158905"/>
                </a:lnTo>
                <a:lnTo>
                  <a:pt x="172959" y="151657"/>
                </a:lnTo>
                <a:lnTo>
                  <a:pt x="171432" y="144284"/>
                </a:lnTo>
                <a:lnTo>
                  <a:pt x="169567" y="136829"/>
                </a:lnTo>
                <a:lnTo>
                  <a:pt x="167477" y="130166"/>
                </a:lnTo>
                <a:lnTo>
                  <a:pt x="165237" y="124031"/>
                </a:lnTo>
                <a:lnTo>
                  <a:pt x="162896" y="118247"/>
                </a:lnTo>
                <a:lnTo>
                  <a:pt x="159643" y="113545"/>
                </a:lnTo>
                <a:lnTo>
                  <a:pt x="155781" y="109563"/>
                </a:lnTo>
                <a:lnTo>
                  <a:pt x="151513" y="106062"/>
                </a:lnTo>
                <a:lnTo>
                  <a:pt x="146128" y="102881"/>
                </a:lnTo>
                <a:lnTo>
                  <a:pt x="139997" y="99914"/>
                </a:lnTo>
                <a:lnTo>
                  <a:pt x="133370" y="97089"/>
                </a:lnTo>
                <a:lnTo>
                  <a:pt x="121491" y="91693"/>
                </a:lnTo>
                <a:lnTo>
                  <a:pt x="115953" y="89069"/>
                </a:lnTo>
                <a:lnTo>
                  <a:pt x="111414" y="87319"/>
                </a:lnTo>
                <a:lnTo>
                  <a:pt x="107541" y="86153"/>
                </a:lnTo>
                <a:lnTo>
                  <a:pt x="97256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354"/>
          <p:cNvSpPr/>
          <p:nvPr/>
        </p:nvSpPr>
        <p:spPr>
          <a:xfrm>
            <a:off x="5475240" y="4403880"/>
            <a:ext cx="49320" cy="198360"/>
          </a:xfrm>
          <a:custGeom>
            <a:avLst/>
            <a:gdLst>
              <a:gd name="textAreaLeft" fmla="*/ 0 w 49320"/>
              <a:gd name="textAreaRight" fmla="*/ 49680 w 49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9335" h="198121">
                <a:moveTo>
                  <a:pt x="49334" y="0"/>
                </a:moveTo>
                <a:lnTo>
                  <a:pt x="49334" y="4045"/>
                </a:lnTo>
                <a:lnTo>
                  <a:pt x="48488" y="6084"/>
                </a:lnTo>
                <a:lnTo>
                  <a:pt x="47076" y="8289"/>
                </a:lnTo>
                <a:lnTo>
                  <a:pt x="45289" y="10606"/>
                </a:lnTo>
                <a:lnTo>
                  <a:pt x="44097" y="12998"/>
                </a:lnTo>
                <a:lnTo>
                  <a:pt x="42773" y="17912"/>
                </a:lnTo>
                <a:lnTo>
                  <a:pt x="42420" y="21255"/>
                </a:lnTo>
                <a:lnTo>
                  <a:pt x="42185" y="25177"/>
                </a:lnTo>
                <a:lnTo>
                  <a:pt x="42028" y="29484"/>
                </a:lnTo>
                <a:lnTo>
                  <a:pt x="41077" y="34050"/>
                </a:lnTo>
                <a:lnTo>
                  <a:pt x="39596" y="38787"/>
                </a:lnTo>
                <a:lnTo>
                  <a:pt x="37762" y="43637"/>
                </a:lnTo>
                <a:lnTo>
                  <a:pt x="36539" y="48565"/>
                </a:lnTo>
                <a:lnTo>
                  <a:pt x="35724" y="53543"/>
                </a:lnTo>
                <a:lnTo>
                  <a:pt x="35181" y="58556"/>
                </a:lnTo>
                <a:lnTo>
                  <a:pt x="33972" y="64437"/>
                </a:lnTo>
                <a:lnTo>
                  <a:pt x="32319" y="70898"/>
                </a:lnTo>
                <a:lnTo>
                  <a:pt x="30371" y="77745"/>
                </a:lnTo>
                <a:lnTo>
                  <a:pt x="25948" y="92126"/>
                </a:lnTo>
                <a:lnTo>
                  <a:pt x="23584" y="99518"/>
                </a:lnTo>
                <a:lnTo>
                  <a:pt x="22007" y="106139"/>
                </a:lnTo>
                <a:lnTo>
                  <a:pt x="20956" y="112246"/>
                </a:lnTo>
                <a:lnTo>
                  <a:pt x="20256" y="118010"/>
                </a:lnTo>
                <a:lnTo>
                  <a:pt x="18942" y="124394"/>
                </a:lnTo>
                <a:lnTo>
                  <a:pt x="17219" y="131189"/>
                </a:lnTo>
                <a:lnTo>
                  <a:pt x="15224" y="138260"/>
                </a:lnTo>
                <a:lnTo>
                  <a:pt x="13894" y="144666"/>
                </a:lnTo>
                <a:lnTo>
                  <a:pt x="13008" y="150631"/>
                </a:lnTo>
                <a:lnTo>
                  <a:pt x="12417" y="156301"/>
                </a:lnTo>
                <a:lnTo>
                  <a:pt x="11176" y="161774"/>
                </a:lnTo>
                <a:lnTo>
                  <a:pt x="9502" y="167116"/>
                </a:lnTo>
                <a:lnTo>
                  <a:pt x="7539" y="172370"/>
                </a:lnTo>
                <a:lnTo>
                  <a:pt x="5385" y="176720"/>
                </a:lnTo>
                <a:lnTo>
                  <a:pt x="3101" y="180467"/>
                </a:lnTo>
                <a:lnTo>
                  <a:pt x="732" y="183811"/>
                </a:lnTo>
                <a:lnTo>
                  <a:pt x="0" y="186888"/>
                </a:lnTo>
                <a:lnTo>
                  <a:pt x="358" y="189785"/>
                </a:lnTo>
                <a:lnTo>
                  <a:pt x="3614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355"/>
          <p:cNvSpPr/>
          <p:nvPr/>
        </p:nvSpPr>
        <p:spPr>
          <a:xfrm>
            <a:off x="5630760" y="4381560"/>
            <a:ext cx="220680" cy="228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0836" h="228592">
                <a:moveTo>
                  <a:pt x="0" y="38091"/>
                </a:moveTo>
                <a:lnTo>
                  <a:pt x="6561" y="38091"/>
                </a:lnTo>
                <a:lnTo>
                  <a:pt x="11352" y="34046"/>
                </a:lnTo>
                <a:lnTo>
                  <a:pt x="14341" y="32854"/>
                </a:lnTo>
                <a:lnTo>
                  <a:pt x="18028" y="32060"/>
                </a:lnTo>
                <a:lnTo>
                  <a:pt x="22178" y="31530"/>
                </a:lnTo>
                <a:lnTo>
                  <a:pt x="26639" y="31177"/>
                </a:lnTo>
                <a:lnTo>
                  <a:pt x="31306" y="30942"/>
                </a:lnTo>
                <a:lnTo>
                  <a:pt x="36111" y="30785"/>
                </a:lnTo>
                <a:lnTo>
                  <a:pt x="41854" y="29834"/>
                </a:lnTo>
                <a:lnTo>
                  <a:pt x="48222" y="28352"/>
                </a:lnTo>
                <a:lnTo>
                  <a:pt x="55008" y="26519"/>
                </a:lnTo>
                <a:lnTo>
                  <a:pt x="62072" y="25296"/>
                </a:lnTo>
                <a:lnTo>
                  <a:pt x="69321" y="24481"/>
                </a:lnTo>
                <a:lnTo>
                  <a:pt x="76694" y="23938"/>
                </a:lnTo>
                <a:lnTo>
                  <a:pt x="84996" y="22729"/>
                </a:lnTo>
                <a:lnTo>
                  <a:pt x="93917" y="21076"/>
                </a:lnTo>
                <a:lnTo>
                  <a:pt x="103252" y="19128"/>
                </a:lnTo>
                <a:lnTo>
                  <a:pt x="112014" y="17829"/>
                </a:lnTo>
                <a:lnTo>
                  <a:pt x="120397" y="16963"/>
                </a:lnTo>
                <a:lnTo>
                  <a:pt x="128525" y="16385"/>
                </a:lnTo>
                <a:lnTo>
                  <a:pt x="137329" y="15154"/>
                </a:lnTo>
                <a:lnTo>
                  <a:pt x="146586" y="13487"/>
                </a:lnTo>
                <a:lnTo>
                  <a:pt x="156144" y="11528"/>
                </a:lnTo>
                <a:lnTo>
                  <a:pt x="164209" y="10223"/>
                </a:lnTo>
                <a:lnTo>
                  <a:pt x="171280" y="9352"/>
                </a:lnTo>
                <a:lnTo>
                  <a:pt x="177686" y="8772"/>
                </a:lnTo>
                <a:lnTo>
                  <a:pt x="183652" y="7538"/>
                </a:lnTo>
                <a:lnTo>
                  <a:pt x="189321" y="5869"/>
                </a:lnTo>
                <a:lnTo>
                  <a:pt x="194793" y="3909"/>
                </a:lnTo>
                <a:lnTo>
                  <a:pt x="199290" y="2604"/>
                </a:lnTo>
                <a:lnTo>
                  <a:pt x="203132" y="1733"/>
                </a:lnTo>
                <a:lnTo>
                  <a:pt x="209661" y="765"/>
                </a:lnTo>
                <a:lnTo>
                  <a:pt x="215385" y="335"/>
                </a:lnTo>
                <a:lnTo>
                  <a:pt x="220835" y="0"/>
                </a:lnTo>
                <a:lnTo>
                  <a:pt x="203801" y="17159"/>
                </a:lnTo>
                <a:lnTo>
                  <a:pt x="200214" y="21597"/>
                </a:lnTo>
                <a:lnTo>
                  <a:pt x="196129" y="27094"/>
                </a:lnTo>
                <a:lnTo>
                  <a:pt x="191713" y="33300"/>
                </a:lnTo>
                <a:lnTo>
                  <a:pt x="187075" y="39130"/>
                </a:lnTo>
                <a:lnTo>
                  <a:pt x="182291" y="44711"/>
                </a:lnTo>
                <a:lnTo>
                  <a:pt x="177407" y="50124"/>
                </a:lnTo>
                <a:lnTo>
                  <a:pt x="172458" y="56274"/>
                </a:lnTo>
                <a:lnTo>
                  <a:pt x="167465" y="62913"/>
                </a:lnTo>
                <a:lnTo>
                  <a:pt x="162443" y="69879"/>
                </a:lnTo>
                <a:lnTo>
                  <a:pt x="156555" y="77063"/>
                </a:lnTo>
                <a:lnTo>
                  <a:pt x="150091" y="84393"/>
                </a:lnTo>
                <a:lnTo>
                  <a:pt x="136133" y="99309"/>
                </a:lnTo>
                <a:lnTo>
                  <a:pt x="98925" y="137185"/>
                </a:lnTo>
                <a:lnTo>
                  <a:pt x="63934" y="172268"/>
                </a:lnTo>
                <a:lnTo>
                  <a:pt x="59556" y="177496"/>
                </a:lnTo>
                <a:lnTo>
                  <a:pt x="55791" y="182674"/>
                </a:lnTo>
                <a:lnTo>
                  <a:pt x="52434" y="187820"/>
                </a:lnTo>
                <a:lnTo>
                  <a:pt x="49349" y="192944"/>
                </a:lnTo>
                <a:lnTo>
                  <a:pt x="46446" y="198053"/>
                </a:lnTo>
                <a:lnTo>
                  <a:pt x="43664" y="203152"/>
                </a:lnTo>
                <a:lnTo>
                  <a:pt x="40962" y="207398"/>
                </a:lnTo>
                <a:lnTo>
                  <a:pt x="35704" y="214374"/>
                </a:lnTo>
                <a:lnTo>
                  <a:pt x="33116" y="216573"/>
                </a:lnTo>
                <a:lnTo>
                  <a:pt x="30544" y="218039"/>
                </a:lnTo>
                <a:lnTo>
                  <a:pt x="27982" y="219016"/>
                </a:lnTo>
                <a:lnTo>
                  <a:pt x="26275" y="220515"/>
                </a:lnTo>
                <a:lnTo>
                  <a:pt x="25137" y="222360"/>
                </a:lnTo>
                <a:lnTo>
                  <a:pt x="22860" y="22859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356"/>
          <p:cNvSpPr/>
          <p:nvPr/>
        </p:nvSpPr>
        <p:spPr>
          <a:xfrm>
            <a:off x="5622840" y="4495680"/>
            <a:ext cx="206640" cy="38160"/>
          </a:xfrm>
          <a:custGeom>
            <a:avLst/>
            <a:gdLst>
              <a:gd name="textAreaLeft" fmla="*/ 0 w 206640"/>
              <a:gd name="textAreaRight" fmla="*/ 207000 w 206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0" y="0"/>
                </a:moveTo>
                <a:lnTo>
                  <a:pt x="14651" y="0"/>
                </a:lnTo>
                <a:lnTo>
                  <a:pt x="19080" y="846"/>
                </a:lnTo>
                <a:lnTo>
                  <a:pt x="23727" y="2258"/>
                </a:lnTo>
                <a:lnTo>
                  <a:pt x="28518" y="4045"/>
                </a:lnTo>
                <a:lnTo>
                  <a:pt x="34252" y="5237"/>
                </a:lnTo>
                <a:lnTo>
                  <a:pt x="40615" y="6031"/>
                </a:lnTo>
                <a:lnTo>
                  <a:pt x="47396" y="6561"/>
                </a:lnTo>
                <a:lnTo>
                  <a:pt x="55305" y="7760"/>
                </a:lnTo>
                <a:lnTo>
                  <a:pt x="63963" y="9408"/>
                </a:lnTo>
                <a:lnTo>
                  <a:pt x="117393" y="20556"/>
                </a:lnTo>
                <a:lnTo>
                  <a:pt x="149271" y="28010"/>
                </a:lnTo>
                <a:lnTo>
                  <a:pt x="169919" y="33051"/>
                </a:lnTo>
                <a:lnTo>
                  <a:pt x="178472" y="34734"/>
                </a:lnTo>
                <a:lnTo>
                  <a:pt x="185868" y="35856"/>
                </a:lnTo>
                <a:lnTo>
                  <a:pt x="20574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357"/>
          <p:cNvSpPr/>
          <p:nvPr/>
        </p:nvSpPr>
        <p:spPr>
          <a:xfrm>
            <a:off x="5875200" y="4449600"/>
            <a:ext cx="114480" cy="152640"/>
          </a:xfrm>
          <a:custGeom>
            <a:avLst/>
            <a:gdLst>
              <a:gd name="textAreaLeft" fmla="*/ 0 w 114480"/>
              <a:gd name="textAreaRight" fmla="*/ 114840 w 114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14206" h="152401">
                <a:moveTo>
                  <a:pt x="99060" y="0"/>
                </a:moveTo>
                <a:lnTo>
                  <a:pt x="110632" y="0"/>
                </a:lnTo>
                <a:lnTo>
                  <a:pt x="111855" y="846"/>
                </a:lnTo>
                <a:lnTo>
                  <a:pt x="112670" y="2258"/>
                </a:lnTo>
                <a:lnTo>
                  <a:pt x="113575" y="6083"/>
                </a:lnTo>
                <a:lnTo>
                  <a:pt x="113978" y="10606"/>
                </a:lnTo>
                <a:lnTo>
                  <a:pt x="114086" y="12997"/>
                </a:lnTo>
                <a:lnTo>
                  <a:pt x="114205" y="17912"/>
                </a:lnTo>
                <a:lnTo>
                  <a:pt x="113390" y="21254"/>
                </a:lnTo>
                <a:lnTo>
                  <a:pt x="111999" y="25176"/>
                </a:lnTo>
                <a:lnTo>
                  <a:pt x="110226" y="29484"/>
                </a:lnTo>
                <a:lnTo>
                  <a:pt x="109045" y="33203"/>
                </a:lnTo>
                <a:lnTo>
                  <a:pt x="108256" y="36528"/>
                </a:lnTo>
                <a:lnTo>
                  <a:pt x="107731" y="39592"/>
                </a:lnTo>
                <a:lnTo>
                  <a:pt x="106534" y="44175"/>
                </a:lnTo>
                <a:lnTo>
                  <a:pt x="104889" y="49770"/>
                </a:lnTo>
                <a:lnTo>
                  <a:pt x="102946" y="56040"/>
                </a:lnTo>
                <a:lnTo>
                  <a:pt x="100804" y="61914"/>
                </a:lnTo>
                <a:lnTo>
                  <a:pt x="98529" y="67522"/>
                </a:lnTo>
                <a:lnTo>
                  <a:pt x="96167" y="72955"/>
                </a:lnTo>
                <a:lnTo>
                  <a:pt x="92898" y="78270"/>
                </a:lnTo>
                <a:lnTo>
                  <a:pt x="89025" y="83506"/>
                </a:lnTo>
                <a:lnTo>
                  <a:pt x="84750" y="88691"/>
                </a:lnTo>
                <a:lnTo>
                  <a:pt x="80207" y="93841"/>
                </a:lnTo>
                <a:lnTo>
                  <a:pt x="70643" y="104078"/>
                </a:lnTo>
                <a:lnTo>
                  <a:pt x="55739" y="119362"/>
                </a:lnTo>
                <a:lnTo>
                  <a:pt x="50706" y="123601"/>
                </a:lnTo>
                <a:lnTo>
                  <a:pt x="45657" y="127274"/>
                </a:lnTo>
                <a:lnTo>
                  <a:pt x="40598" y="130569"/>
                </a:lnTo>
                <a:lnTo>
                  <a:pt x="35532" y="133613"/>
                </a:lnTo>
                <a:lnTo>
                  <a:pt x="30462" y="136488"/>
                </a:lnTo>
                <a:lnTo>
                  <a:pt x="25388" y="139252"/>
                </a:lnTo>
                <a:lnTo>
                  <a:pt x="21158" y="141942"/>
                </a:lnTo>
                <a:lnTo>
                  <a:pt x="17493" y="144581"/>
                </a:lnTo>
                <a:lnTo>
                  <a:pt x="14202" y="147187"/>
                </a:lnTo>
                <a:lnTo>
                  <a:pt x="11162" y="148925"/>
                </a:lnTo>
                <a:lnTo>
                  <a:pt x="8288" y="150083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358"/>
          <p:cNvSpPr/>
          <p:nvPr/>
        </p:nvSpPr>
        <p:spPr>
          <a:xfrm>
            <a:off x="5913360" y="4473720"/>
            <a:ext cx="160560" cy="114120"/>
          </a:xfrm>
          <a:custGeom>
            <a:avLst/>
            <a:gdLst>
              <a:gd name="textAreaLeft" fmla="*/ 0 w 160560"/>
              <a:gd name="textAreaRight" fmla="*/ 160920 w 160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0022" h="11430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8289" y="9407"/>
                </a:lnTo>
                <a:lnTo>
                  <a:pt x="10606" y="11351"/>
                </a:lnTo>
                <a:lnTo>
                  <a:pt x="13844" y="14341"/>
                </a:lnTo>
                <a:lnTo>
                  <a:pt x="26492" y="26639"/>
                </a:lnTo>
                <a:lnTo>
                  <a:pt x="36045" y="36111"/>
                </a:lnTo>
                <a:lnTo>
                  <a:pt x="41810" y="41007"/>
                </a:lnTo>
                <a:lnTo>
                  <a:pt x="48193" y="45965"/>
                </a:lnTo>
                <a:lnTo>
                  <a:pt x="54989" y="50963"/>
                </a:lnTo>
                <a:lnTo>
                  <a:pt x="62906" y="55989"/>
                </a:lnTo>
                <a:lnTo>
                  <a:pt x="71571" y="61032"/>
                </a:lnTo>
                <a:lnTo>
                  <a:pt x="80734" y="66088"/>
                </a:lnTo>
                <a:lnTo>
                  <a:pt x="99946" y="76221"/>
                </a:lnTo>
                <a:lnTo>
                  <a:pt x="131785" y="92479"/>
                </a:lnTo>
                <a:lnTo>
                  <a:pt x="137810" y="96366"/>
                </a:lnTo>
                <a:lnTo>
                  <a:pt x="143520" y="100651"/>
                </a:lnTo>
                <a:lnTo>
                  <a:pt x="160021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359"/>
          <p:cNvSpPr/>
          <p:nvPr/>
        </p:nvSpPr>
        <p:spPr>
          <a:xfrm>
            <a:off x="6248520" y="447984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528">
                <a:moveTo>
                  <a:pt x="0" y="7527"/>
                </a:moveTo>
                <a:lnTo>
                  <a:pt x="4046" y="3483"/>
                </a:lnTo>
                <a:lnTo>
                  <a:pt x="6084" y="2290"/>
                </a:lnTo>
                <a:lnTo>
                  <a:pt x="8289" y="1496"/>
                </a:lnTo>
                <a:lnTo>
                  <a:pt x="10606" y="966"/>
                </a:lnTo>
                <a:lnTo>
                  <a:pt x="14691" y="613"/>
                </a:lnTo>
                <a:lnTo>
                  <a:pt x="19954" y="378"/>
                </a:lnTo>
                <a:lnTo>
                  <a:pt x="32575" y="117"/>
                </a:lnTo>
                <a:lnTo>
                  <a:pt x="46651" y="0"/>
                </a:lnTo>
                <a:lnTo>
                  <a:pt x="54808" y="816"/>
                </a:lnTo>
                <a:lnTo>
                  <a:pt x="63631" y="2206"/>
                </a:lnTo>
                <a:lnTo>
                  <a:pt x="72901" y="3980"/>
                </a:lnTo>
                <a:lnTo>
                  <a:pt x="81621" y="5162"/>
                </a:lnTo>
                <a:lnTo>
                  <a:pt x="89974" y="5951"/>
                </a:lnTo>
                <a:lnTo>
                  <a:pt x="98083" y="6476"/>
                </a:lnTo>
                <a:lnTo>
                  <a:pt x="106875" y="6827"/>
                </a:lnTo>
                <a:lnTo>
                  <a:pt x="134583" y="7320"/>
                </a:lnTo>
                <a:lnTo>
                  <a:pt x="213360" y="752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360"/>
          <p:cNvSpPr/>
          <p:nvPr/>
        </p:nvSpPr>
        <p:spPr>
          <a:xfrm>
            <a:off x="6308640" y="4541760"/>
            <a:ext cx="222480" cy="38160"/>
          </a:xfrm>
          <a:custGeom>
            <a:avLst/>
            <a:gdLst>
              <a:gd name="textAreaLeft" fmla="*/ 0 w 222480"/>
              <a:gd name="textAreaRight" fmla="*/ 222840 w 222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0981" h="37784">
                <a:moveTo>
                  <a:pt x="0" y="15240"/>
                </a:moveTo>
                <a:lnTo>
                  <a:pt x="0" y="29107"/>
                </a:lnTo>
                <a:lnTo>
                  <a:pt x="846" y="29565"/>
                </a:lnTo>
                <a:lnTo>
                  <a:pt x="6083" y="30209"/>
                </a:lnTo>
                <a:lnTo>
                  <a:pt x="10606" y="30359"/>
                </a:lnTo>
                <a:lnTo>
                  <a:pt x="13844" y="31247"/>
                </a:lnTo>
                <a:lnTo>
                  <a:pt x="17696" y="32685"/>
                </a:lnTo>
                <a:lnTo>
                  <a:pt x="21957" y="34489"/>
                </a:lnTo>
                <a:lnTo>
                  <a:pt x="26491" y="35693"/>
                </a:lnTo>
                <a:lnTo>
                  <a:pt x="31207" y="36496"/>
                </a:lnTo>
                <a:lnTo>
                  <a:pt x="36046" y="37030"/>
                </a:lnTo>
                <a:lnTo>
                  <a:pt x="42657" y="37387"/>
                </a:lnTo>
                <a:lnTo>
                  <a:pt x="59034" y="37783"/>
                </a:lnTo>
                <a:lnTo>
                  <a:pt x="67296" y="37042"/>
                </a:lnTo>
                <a:lnTo>
                  <a:pt x="75344" y="35702"/>
                </a:lnTo>
                <a:lnTo>
                  <a:pt x="83249" y="33961"/>
                </a:lnTo>
                <a:lnTo>
                  <a:pt x="91907" y="32801"/>
                </a:lnTo>
                <a:lnTo>
                  <a:pt x="101064" y="32027"/>
                </a:lnTo>
                <a:lnTo>
                  <a:pt x="110556" y="31511"/>
                </a:lnTo>
                <a:lnTo>
                  <a:pt x="127877" y="30938"/>
                </a:lnTo>
                <a:lnTo>
                  <a:pt x="136051" y="30786"/>
                </a:lnTo>
                <a:lnTo>
                  <a:pt x="144041" y="29837"/>
                </a:lnTo>
                <a:lnTo>
                  <a:pt x="151908" y="28358"/>
                </a:lnTo>
                <a:lnTo>
                  <a:pt x="159692" y="26526"/>
                </a:lnTo>
                <a:lnTo>
                  <a:pt x="166575" y="24457"/>
                </a:lnTo>
                <a:lnTo>
                  <a:pt x="172856" y="22232"/>
                </a:lnTo>
                <a:lnTo>
                  <a:pt x="178738" y="19901"/>
                </a:lnTo>
                <a:lnTo>
                  <a:pt x="192046" y="15054"/>
                </a:lnTo>
                <a:lnTo>
                  <a:pt x="199150" y="12576"/>
                </a:lnTo>
                <a:lnTo>
                  <a:pt x="204735" y="10077"/>
                </a:lnTo>
                <a:lnTo>
                  <a:pt x="209303" y="7565"/>
                </a:ln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61"/>
          <p:cNvSpPr/>
          <p:nvPr/>
        </p:nvSpPr>
        <p:spPr>
          <a:xfrm>
            <a:off x="6621480" y="4373640"/>
            <a:ext cx="23760" cy="220680"/>
          </a:xfrm>
          <a:custGeom>
            <a:avLst/>
            <a:gdLst>
              <a:gd name="textAreaLeft" fmla="*/ 0 w 23760"/>
              <a:gd name="textAreaRight" fmla="*/ 24120 w 23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539" h="220981">
                <a:moveTo>
                  <a:pt x="22538" y="0"/>
                </a:moveTo>
                <a:lnTo>
                  <a:pt x="22538" y="10606"/>
                </a:lnTo>
                <a:lnTo>
                  <a:pt x="21692" y="13844"/>
                </a:lnTo>
                <a:lnTo>
                  <a:pt x="20280" y="17696"/>
                </a:lnTo>
                <a:lnTo>
                  <a:pt x="18493" y="21957"/>
                </a:lnTo>
                <a:lnTo>
                  <a:pt x="17301" y="26491"/>
                </a:lnTo>
                <a:lnTo>
                  <a:pt x="16506" y="31207"/>
                </a:lnTo>
                <a:lnTo>
                  <a:pt x="15977" y="36045"/>
                </a:lnTo>
                <a:lnTo>
                  <a:pt x="15624" y="41810"/>
                </a:lnTo>
                <a:lnTo>
                  <a:pt x="15232" y="54989"/>
                </a:lnTo>
                <a:lnTo>
                  <a:pt x="14281" y="62060"/>
                </a:lnTo>
                <a:lnTo>
                  <a:pt x="12799" y="69313"/>
                </a:lnTo>
                <a:lnTo>
                  <a:pt x="10966" y="76689"/>
                </a:lnTo>
                <a:lnTo>
                  <a:pt x="9744" y="84146"/>
                </a:lnTo>
                <a:lnTo>
                  <a:pt x="8929" y="91657"/>
                </a:lnTo>
                <a:lnTo>
                  <a:pt x="8386" y="99205"/>
                </a:lnTo>
                <a:lnTo>
                  <a:pt x="8023" y="106776"/>
                </a:lnTo>
                <a:lnTo>
                  <a:pt x="7620" y="121963"/>
                </a:lnTo>
                <a:lnTo>
                  <a:pt x="6665" y="128722"/>
                </a:lnTo>
                <a:lnTo>
                  <a:pt x="5183" y="134922"/>
                </a:lnTo>
                <a:lnTo>
                  <a:pt x="3349" y="140748"/>
                </a:lnTo>
                <a:lnTo>
                  <a:pt x="2125" y="147172"/>
                </a:lnTo>
                <a:lnTo>
                  <a:pt x="1309" y="153995"/>
                </a:lnTo>
                <a:lnTo>
                  <a:pt x="765" y="161083"/>
                </a:lnTo>
                <a:lnTo>
                  <a:pt x="403" y="167502"/>
                </a:lnTo>
                <a:lnTo>
                  <a:pt x="0" y="179150"/>
                </a:lnTo>
                <a:lnTo>
                  <a:pt x="739" y="184627"/>
                </a:lnTo>
                <a:lnTo>
                  <a:pt x="2079" y="189971"/>
                </a:lnTo>
                <a:lnTo>
                  <a:pt x="3818" y="195227"/>
                </a:lnTo>
                <a:lnTo>
                  <a:pt x="4979" y="199578"/>
                </a:lnTo>
                <a:lnTo>
                  <a:pt x="5752" y="203325"/>
                </a:lnTo>
                <a:lnTo>
                  <a:pt x="6267" y="206671"/>
                </a:lnTo>
                <a:lnTo>
                  <a:pt x="7458" y="208901"/>
                </a:lnTo>
                <a:lnTo>
                  <a:pt x="9098" y="210387"/>
                </a:lnTo>
                <a:lnTo>
                  <a:pt x="11037" y="211378"/>
                </a:lnTo>
                <a:lnTo>
                  <a:pt x="12331" y="212885"/>
                </a:lnTo>
                <a:lnTo>
                  <a:pt x="13194" y="214737"/>
                </a:lnTo>
                <a:lnTo>
                  <a:pt x="13768" y="216818"/>
                </a:lnTo>
                <a:lnTo>
                  <a:pt x="14998" y="218206"/>
                </a:lnTo>
                <a:lnTo>
                  <a:pt x="16665" y="219130"/>
                </a:lnTo>
                <a:lnTo>
                  <a:pt x="2253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62"/>
          <p:cNvSpPr/>
          <p:nvPr/>
        </p:nvSpPr>
        <p:spPr>
          <a:xfrm>
            <a:off x="6789600" y="4335480"/>
            <a:ext cx="220680" cy="297000"/>
          </a:xfrm>
          <a:custGeom>
            <a:avLst/>
            <a:gdLst>
              <a:gd name="textAreaLeft" fmla="*/ 0 w 220680"/>
              <a:gd name="textAreaRight" fmla="*/ 221040 w 2206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20519" h="296837">
                <a:moveTo>
                  <a:pt x="0" y="14896"/>
                </a:moveTo>
                <a:lnTo>
                  <a:pt x="0" y="21457"/>
                </a:lnTo>
                <a:lnTo>
                  <a:pt x="847" y="21810"/>
                </a:lnTo>
                <a:lnTo>
                  <a:pt x="4046" y="22202"/>
                </a:lnTo>
                <a:lnTo>
                  <a:pt x="5237" y="23153"/>
                </a:lnTo>
                <a:lnTo>
                  <a:pt x="6032" y="24635"/>
                </a:lnTo>
                <a:lnTo>
                  <a:pt x="6561" y="26468"/>
                </a:lnTo>
                <a:lnTo>
                  <a:pt x="7761" y="27691"/>
                </a:lnTo>
                <a:lnTo>
                  <a:pt x="9407" y="28506"/>
                </a:lnTo>
                <a:lnTo>
                  <a:pt x="11352" y="29049"/>
                </a:lnTo>
                <a:lnTo>
                  <a:pt x="18028" y="29653"/>
                </a:lnTo>
                <a:lnTo>
                  <a:pt x="22178" y="29814"/>
                </a:lnTo>
                <a:lnTo>
                  <a:pt x="36111" y="30041"/>
                </a:lnTo>
                <a:lnTo>
                  <a:pt x="50963" y="30108"/>
                </a:lnTo>
                <a:lnTo>
                  <a:pt x="56836" y="29270"/>
                </a:lnTo>
                <a:lnTo>
                  <a:pt x="63290" y="27865"/>
                </a:lnTo>
                <a:lnTo>
                  <a:pt x="70133" y="26082"/>
                </a:lnTo>
                <a:lnTo>
                  <a:pt x="77236" y="24894"/>
                </a:lnTo>
                <a:lnTo>
                  <a:pt x="84510" y="24101"/>
                </a:lnTo>
                <a:lnTo>
                  <a:pt x="91900" y="23573"/>
                </a:lnTo>
                <a:lnTo>
                  <a:pt x="99367" y="23221"/>
                </a:lnTo>
                <a:lnTo>
                  <a:pt x="114436" y="22829"/>
                </a:lnTo>
                <a:lnTo>
                  <a:pt x="122858" y="21878"/>
                </a:lnTo>
                <a:lnTo>
                  <a:pt x="131858" y="20397"/>
                </a:lnTo>
                <a:lnTo>
                  <a:pt x="141245" y="18564"/>
                </a:lnTo>
                <a:lnTo>
                  <a:pt x="150044" y="17341"/>
                </a:lnTo>
                <a:lnTo>
                  <a:pt x="158449" y="16526"/>
                </a:lnTo>
                <a:lnTo>
                  <a:pt x="166593" y="15983"/>
                </a:lnTo>
                <a:lnTo>
                  <a:pt x="173715" y="14774"/>
                </a:lnTo>
                <a:lnTo>
                  <a:pt x="180157" y="13121"/>
                </a:lnTo>
                <a:lnTo>
                  <a:pt x="186144" y="11173"/>
                </a:lnTo>
                <a:lnTo>
                  <a:pt x="190983" y="9874"/>
                </a:lnTo>
                <a:lnTo>
                  <a:pt x="195055" y="9008"/>
                </a:lnTo>
                <a:lnTo>
                  <a:pt x="198617" y="8430"/>
                </a:lnTo>
                <a:lnTo>
                  <a:pt x="204832" y="5532"/>
                </a:lnTo>
                <a:lnTo>
                  <a:pt x="207675" y="3573"/>
                </a:lnTo>
                <a:lnTo>
                  <a:pt x="213091" y="1397"/>
                </a:lnTo>
                <a:lnTo>
                  <a:pt x="219422" y="0"/>
                </a:lnTo>
                <a:lnTo>
                  <a:pt x="219941" y="732"/>
                </a:lnTo>
                <a:lnTo>
                  <a:pt x="220518" y="3803"/>
                </a:lnTo>
                <a:lnTo>
                  <a:pt x="219826" y="5807"/>
                </a:lnTo>
                <a:lnTo>
                  <a:pt x="216798" y="10292"/>
                </a:lnTo>
                <a:lnTo>
                  <a:pt x="210333" y="17577"/>
                </a:lnTo>
                <a:lnTo>
                  <a:pt x="199012" y="29143"/>
                </a:lnTo>
                <a:lnTo>
                  <a:pt x="180887" y="47339"/>
                </a:lnTo>
                <a:lnTo>
                  <a:pt x="174777" y="54305"/>
                </a:lnTo>
                <a:lnTo>
                  <a:pt x="169012" y="61489"/>
                </a:lnTo>
                <a:lnTo>
                  <a:pt x="163475" y="68818"/>
                </a:lnTo>
                <a:lnTo>
                  <a:pt x="156396" y="76244"/>
                </a:lnTo>
                <a:lnTo>
                  <a:pt x="148291" y="83735"/>
                </a:lnTo>
                <a:lnTo>
                  <a:pt x="139500" y="91268"/>
                </a:lnTo>
                <a:lnTo>
                  <a:pt x="131100" y="98831"/>
                </a:lnTo>
                <a:lnTo>
                  <a:pt x="114993" y="114007"/>
                </a:lnTo>
                <a:lnTo>
                  <a:pt x="107143" y="122457"/>
                </a:lnTo>
                <a:lnTo>
                  <a:pt x="99369" y="131477"/>
                </a:lnTo>
                <a:lnTo>
                  <a:pt x="91646" y="140876"/>
                </a:lnTo>
                <a:lnTo>
                  <a:pt x="84804" y="149683"/>
                </a:lnTo>
                <a:lnTo>
                  <a:pt x="78550" y="158094"/>
                </a:lnTo>
                <a:lnTo>
                  <a:pt x="67084" y="174213"/>
                </a:lnTo>
                <a:lnTo>
                  <a:pt x="56344" y="189844"/>
                </a:lnTo>
                <a:lnTo>
                  <a:pt x="51956" y="198414"/>
                </a:lnTo>
                <a:lnTo>
                  <a:pt x="48184" y="207515"/>
                </a:lnTo>
                <a:lnTo>
                  <a:pt x="44823" y="216968"/>
                </a:lnTo>
                <a:lnTo>
                  <a:pt x="41735" y="224964"/>
                </a:lnTo>
                <a:lnTo>
                  <a:pt x="38831" y="231989"/>
                </a:lnTo>
                <a:lnTo>
                  <a:pt x="36046" y="238364"/>
                </a:lnTo>
                <a:lnTo>
                  <a:pt x="30697" y="249965"/>
                </a:lnTo>
                <a:lnTo>
                  <a:pt x="28084" y="255428"/>
                </a:lnTo>
                <a:lnTo>
                  <a:pt x="26344" y="260764"/>
                </a:lnTo>
                <a:lnTo>
                  <a:pt x="25182" y="266015"/>
                </a:lnTo>
                <a:lnTo>
                  <a:pt x="24408" y="271209"/>
                </a:lnTo>
                <a:lnTo>
                  <a:pt x="24739" y="275518"/>
                </a:lnTo>
                <a:lnTo>
                  <a:pt x="25806" y="279237"/>
                </a:lnTo>
                <a:lnTo>
                  <a:pt x="28403" y="285628"/>
                </a:lnTo>
                <a:lnTo>
                  <a:pt x="29558" y="291290"/>
                </a:lnTo>
                <a:lnTo>
                  <a:pt x="30712" y="293139"/>
                </a:lnTo>
                <a:lnTo>
                  <a:pt x="32328" y="294371"/>
                </a:lnTo>
                <a:lnTo>
                  <a:pt x="38100" y="29683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63"/>
          <p:cNvSpPr/>
          <p:nvPr/>
        </p:nvSpPr>
        <p:spPr>
          <a:xfrm>
            <a:off x="6811920" y="4441680"/>
            <a:ext cx="182520" cy="38160"/>
          </a:xfrm>
          <a:custGeom>
            <a:avLst/>
            <a:gdLst>
              <a:gd name="textAreaLeft" fmla="*/ 0 w 182520"/>
              <a:gd name="textAreaRight" fmla="*/ 182880 w 182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2881" h="38101">
                <a:moveTo>
                  <a:pt x="0" y="0"/>
                </a:moveTo>
                <a:lnTo>
                  <a:pt x="8090" y="0"/>
                </a:lnTo>
                <a:lnTo>
                  <a:pt x="12167" y="847"/>
                </a:lnTo>
                <a:lnTo>
                  <a:pt x="16578" y="2258"/>
                </a:lnTo>
                <a:lnTo>
                  <a:pt x="21212" y="4045"/>
                </a:lnTo>
                <a:lnTo>
                  <a:pt x="33134" y="8289"/>
                </a:lnTo>
                <a:lnTo>
                  <a:pt x="39869" y="10606"/>
                </a:lnTo>
                <a:lnTo>
                  <a:pt x="48593" y="12998"/>
                </a:lnTo>
                <a:lnTo>
                  <a:pt x="58642" y="15438"/>
                </a:lnTo>
                <a:lnTo>
                  <a:pt x="90753" y="22919"/>
                </a:lnTo>
                <a:lnTo>
                  <a:pt x="101141" y="25439"/>
                </a:lnTo>
                <a:lnTo>
                  <a:pt x="110608" y="27120"/>
                </a:lnTo>
                <a:lnTo>
                  <a:pt x="119459" y="28240"/>
                </a:lnTo>
                <a:lnTo>
                  <a:pt x="127899" y="28987"/>
                </a:lnTo>
                <a:lnTo>
                  <a:pt x="136913" y="30331"/>
                </a:lnTo>
                <a:lnTo>
                  <a:pt x="146309" y="32075"/>
                </a:lnTo>
                <a:lnTo>
                  <a:pt x="155959" y="34083"/>
                </a:lnTo>
                <a:lnTo>
                  <a:pt x="163239" y="35422"/>
                </a:lnTo>
                <a:lnTo>
                  <a:pt x="168940" y="36315"/>
                </a:lnTo>
                <a:lnTo>
                  <a:pt x="18288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64"/>
          <p:cNvSpPr/>
          <p:nvPr/>
        </p:nvSpPr>
        <p:spPr>
          <a:xfrm>
            <a:off x="7085160" y="4335480"/>
            <a:ext cx="168120" cy="280800"/>
          </a:xfrm>
          <a:custGeom>
            <a:avLst/>
            <a:gdLst>
              <a:gd name="textAreaLeft" fmla="*/ 0 w 168120"/>
              <a:gd name="textAreaRight" fmla="*/ 168480 w 1681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69410" h="281323">
                <a:moveTo>
                  <a:pt x="124298" y="0"/>
                </a:moveTo>
                <a:lnTo>
                  <a:pt x="124298" y="4045"/>
                </a:lnTo>
                <a:lnTo>
                  <a:pt x="123451" y="6083"/>
                </a:lnTo>
                <a:lnTo>
                  <a:pt x="120253" y="10606"/>
                </a:lnTo>
                <a:lnTo>
                  <a:pt x="117368" y="12997"/>
                </a:lnTo>
                <a:lnTo>
                  <a:pt x="113751" y="15438"/>
                </a:lnTo>
                <a:lnTo>
                  <a:pt x="109647" y="17912"/>
                </a:lnTo>
                <a:lnTo>
                  <a:pt x="104371" y="22101"/>
                </a:lnTo>
                <a:lnTo>
                  <a:pt x="98312" y="27435"/>
                </a:lnTo>
                <a:lnTo>
                  <a:pt x="91735" y="33530"/>
                </a:lnTo>
                <a:lnTo>
                  <a:pt x="84809" y="39286"/>
                </a:lnTo>
                <a:lnTo>
                  <a:pt x="77652" y="44818"/>
                </a:lnTo>
                <a:lnTo>
                  <a:pt x="70341" y="50198"/>
                </a:lnTo>
                <a:lnTo>
                  <a:pt x="62927" y="56326"/>
                </a:lnTo>
                <a:lnTo>
                  <a:pt x="55444" y="62951"/>
                </a:lnTo>
                <a:lnTo>
                  <a:pt x="47915" y="69907"/>
                </a:lnTo>
                <a:lnTo>
                  <a:pt x="41203" y="77932"/>
                </a:lnTo>
                <a:lnTo>
                  <a:pt x="35035" y="86668"/>
                </a:lnTo>
                <a:lnTo>
                  <a:pt x="18263" y="112886"/>
                </a:lnTo>
                <a:lnTo>
                  <a:pt x="12968" y="120977"/>
                </a:lnTo>
                <a:lnTo>
                  <a:pt x="8592" y="128912"/>
                </a:lnTo>
                <a:lnTo>
                  <a:pt x="4827" y="136742"/>
                </a:lnTo>
                <a:lnTo>
                  <a:pt x="1471" y="144501"/>
                </a:lnTo>
                <a:lnTo>
                  <a:pt x="80" y="153060"/>
                </a:lnTo>
                <a:lnTo>
                  <a:pt x="0" y="162154"/>
                </a:lnTo>
                <a:lnTo>
                  <a:pt x="792" y="171603"/>
                </a:lnTo>
                <a:lnTo>
                  <a:pt x="2168" y="180442"/>
                </a:lnTo>
                <a:lnTo>
                  <a:pt x="3931" y="188874"/>
                </a:lnTo>
                <a:lnTo>
                  <a:pt x="5954" y="197036"/>
                </a:lnTo>
                <a:lnTo>
                  <a:pt x="8148" y="205018"/>
                </a:lnTo>
                <a:lnTo>
                  <a:pt x="12845" y="220659"/>
                </a:lnTo>
                <a:lnTo>
                  <a:pt x="16976" y="228386"/>
                </a:lnTo>
                <a:lnTo>
                  <a:pt x="22270" y="236077"/>
                </a:lnTo>
                <a:lnTo>
                  <a:pt x="28339" y="243745"/>
                </a:lnTo>
                <a:lnTo>
                  <a:pt x="34078" y="250550"/>
                </a:lnTo>
                <a:lnTo>
                  <a:pt x="39598" y="256780"/>
                </a:lnTo>
                <a:lnTo>
                  <a:pt x="44972" y="262627"/>
                </a:lnTo>
                <a:lnTo>
                  <a:pt x="51941" y="267372"/>
                </a:lnTo>
                <a:lnTo>
                  <a:pt x="59973" y="271381"/>
                </a:lnTo>
                <a:lnTo>
                  <a:pt x="68714" y="274901"/>
                </a:lnTo>
                <a:lnTo>
                  <a:pt x="77082" y="277247"/>
                </a:lnTo>
                <a:lnTo>
                  <a:pt x="85201" y="278812"/>
                </a:lnTo>
                <a:lnTo>
                  <a:pt x="93153" y="279855"/>
                </a:lnTo>
                <a:lnTo>
                  <a:pt x="100148" y="280550"/>
                </a:lnTo>
                <a:lnTo>
                  <a:pt x="106505" y="281013"/>
                </a:lnTo>
                <a:lnTo>
                  <a:pt x="112436" y="281322"/>
                </a:lnTo>
                <a:lnTo>
                  <a:pt x="118930" y="279835"/>
                </a:lnTo>
                <a:lnTo>
                  <a:pt x="125799" y="277150"/>
                </a:lnTo>
                <a:lnTo>
                  <a:pt x="132918" y="273667"/>
                </a:lnTo>
                <a:lnTo>
                  <a:pt x="139359" y="269651"/>
                </a:lnTo>
                <a:lnTo>
                  <a:pt x="145345" y="265281"/>
                </a:lnTo>
                <a:lnTo>
                  <a:pt x="151029" y="260674"/>
                </a:lnTo>
                <a:lnTo>
                  <a:pt x="155666" y="255063"/>
                </a:lnTo>
                <a:lnTo>
                  <a:pt x="159604" y="248782"/>
                </a:lnTo>
                <a:lnTo>
                  <a:pt x="163074" y="242055"/>
                </a:lnTo>
                <a:lnTo>
                  <a:pt x="165390" y="235029"/>
                </a:lnTo>
                <a:lnTo>
                  <a:pt x="166932" y="227806"/>
                </a:lnTo>
                <a:lnTo>
                  <a:pt x="167960" y="220451"/>
                </a:lnTo>
                <a:lnTo>
                  <a:pt x="168646" y="213007"/>
                </a:lnTo>
                <a:lnTo>
                  <a:pt x="169103" y="205505"/>
                </a:lnTo>
                <a:lnTo>
                  <a:pt x="169409" y="197963"/>
                </a:lnTo>
                <a:lnTo>
                  <a:pt x="168765" y="190395"/>
                </a:lnTo>
                <a:lnTo>
                  <a:pt x="167490" y="182810"/>
                </a:lnTo>
                <a:lnTo>
                  <a:pt x="165792" y="175214"/>
                </a:lnTo>
                <a:lnTo>
                  <a:pt x="163814" y="168456"/>
                </a:lnTo>
                <a:lnTo>
                  <a:pt x="161649" y="162257"/>
                </a:lnTo>
                <a:lnTo>
                  <a:pt x="159358" y="156431"/>
                </a:lnTo>
                <a:lnTo>
                  <a:pt x="156139" y="150854"/>
                </a:lnTo>
                <a:lnTo>
                  <a:pt x="152298" y="145443"/>
                </a:lnTo>
                <a:lnTo>
                  <a:pt x="148044" y="140142"/>
                </a:lnTo>
                <a:lnTo>
                  <a:pt x="143517" y="134915"/>
                </a:lnTo>
                <a:lnTo>
                  <a:pt x="138803" y="129736"/>
                </a:lnTo>
                <a:lnTo>
                  <a:pt x="133968" y="124591"/>
                </a:lnTo>
                <a:lnTo>
                  <a:pt x="129051" y="120314"/>
                </a:lnTo>
                <a:lnTo>
                  <a:pt x="124081" y="116616"/>
                </a:lnTo>
                <a:lnTo>
                  <a:pt x="119073" y="113304"/>
                </a:lnTo>
                <a:lnTo>
                  <a:pt x="114888" y="110249"/>
                </a:lnTo>
                <a:lnTo>
                  <a:pt x="111251" y="107367"/>
                </a:lnTo>
                <a:lnTo>
                  <a:pt x="101438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65"/>
          <p:cNvSpPr/>
          <p:nvPr/>
        </p:nvSpPr>
        <p:spPr>
          <a:xfrm>
            <a:off x="5470560" y="4656240"/>
            <a:ext cx="503280" cy="792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02921" h="7622">
                <a:moveTo>
                  <a:pt x="0" y="7621"/>
                </a:moveTo>
                <a:lnTo>
                  <a:pt x="24473" y="7621"/>
                </a:lnTo>
                <a:lnTo>
                  <a:pt x="29016" y="6774"/>
                </a:lnTo>
                <a:lnTo>
                  <a:pt x="34583" y="5363"/>
                </a:lnTo>
                <a:lnTo>
                  <a:pt x="40835" y="3575"/>
                </a:lnTo>
                <a:lnTo>
                  <a:pt x="48390" y="2384"/>
                </a:lnTo>
                <a:lnTo>
                  <a:pt x="56813" y="1589"/>
                </a:lnTo>
                <a:lnTo>
                  <a:pt x="65815" y="1059"/>
                </a:lnTo>
                <a:lnTo>
                  <a:pt x="87107" y="471"/>
                </a:lnTo>
                <a:lnTo>
                  <a:pt x="502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66"/>
          <p:cNvSpPr/>
          <p:nvPr/>
        </p:nvSpPr>
        <p:spPr>
          <a:xfrm>
            <a:off x="6765840" y="4702320"/>
            <a:ext cx="641520" cy="21960"/>
          </a:xfrm>
          <a:custGeom>
            <a:avLst/>
            <a:gdLst>
              <a:gd name="textAreaLeft" fmla="*/ 0 w 641520"/>
              <a:gd name="textAreaRight" fmla="*/ 641880 w 641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40081" h="22861">
                <a:moveTo>
                  <a:pt x="0" y="22860"/>
                </a:moveTo>
                <a:lnTo>
                  <a:pt x="120106" y="22860"/>
                </a:lnTo>
                <a:lnTo>
                  <a:pt x="132564" y="22014"/>
                </a:lnTo>
                <a:lnTo>
                  <a:pt x="145103" y="20603"/>
                </a:lnTo>
                <a:lnTo>
                  <a:pt x="157695" y="18815"/>
                </a:lnTo>
                <a:lnTo>
                  <a:pt x="171170" y="17623"/>
                </a:lnTo>
                <a:lnTo>
                  <a:pt x="185233" y="16829"/>
                </a:lnTo>
                <a:lnTo>
                  <a:pt x="214405" y="15946"/>
                </a:lnTo>
                <a:lnTo>
                  <a:pt x="289698" y="15333"/>
                </a:lnTo>
                <a:lnTo>
                  <a:pt x="304046" y="14456"/>
                </a:lnTo>
                <a:lnTo>
                  <a:pt x="317843" y="13024"/>
                </a:lnTo>
                <a:lnTo>
                  <a:pt x="331276" y="11223"/>
                </a:lnTo>
                <a:lnTo>
                  <a:pt x="345311" y="10022"/>
                </a:lnTo>
                <a:lnTo>
                  <a:pt x="359747" y="9221"/>
                </a:lnTo>
                <a:lnTo>
                  <a:pt x="388487" y="8332"/>
                </a:lnTo>
                <a:lnTo>
                  <a:pt x="454309" y="7714"/>
                </a:lnTo>
                <a:lnTo>
                  <a:pt x="496701" y="7648"/>
                </a:lnTo>
                <a:lnTo>
                  <a:pt x="510628" y="6792"/>
                </a:lnTo>
                <a:lnTo>
                  <a:pt x="524145" y="5375"/>
                </a:lnTo>
                <a:lnTo>
                  <a:pt x="537390" y="3583"/>
                </a:lnTo>
                <a:lnTo>
                  <a:pt x="549607" y="2389"/>
                </a:lnTo>
                <a:lnTo>
                  <a:pt x="561138" y="1593"/>
                </a:lnTo>
                <a:lnTo>
                  <a:pt x="572212" y="1062"/>
                </a:lnTo>
                <a:lnTo>
                  <a:pt x="593548" y="472"/>
                </a:lnTo>
                <a:lnTo>
                  <a:pt x="6400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67"/>
          <p:cNvSpPr/>
          <p:nvPr/>
        </p:nvSpPr>
        <p:spPr>
          <a:xfrm>
            <a:off x="5594400" y="4746600"/>
            <a:ext cx="36360" cy="176400"/>
          </a:xfrm>
          <a:custGeom>
            <a:avLst/>
            <a:gdLst>
              <a:gd name="textAreaLeft" fmla="*/ 0 w 36360"/>
              <a:gd name="textAreaRight" fmla="*/ 36720 w 363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36912" h="175261">
                <a:moveTo>
                  <a:pt x="36911" y="0"/>
                </a:moveTo>
                <a:lnTo>
                  <a:pt x="36911" y="37097"/>
                </a:lnTo>
                <a:lnTo>
                  <a:pt x="36064" y="41664"/>
                </a:lnTo>
                <a:lnTo>
                  <a:pt x="34653" y="46403"/>
                </a:lnTo>
                <a:lnTo>
                  <a:pt x="32866" y="51256"/>
                </a:lnTo>
                <a:lnTo>
                  <a:pt x="31674" y="56184"/>
                </a:lnTo>
                <a:lnTo>
                  <a:pt x="30880" y="61163"/>
                </a:lnTo>
                <a:lnTo>
                  <a:pt x="30350" y="66175"/>
                </a:lnTo>
                <a:lnTo>
                  <a:pt x="29151" y="72057"/>
                </a:lnTo>
                <a:lnTo>
                  <a:pt x="27504" y="78518"/>
                </a:lnTo>
                <a:lnTo>
                  <a:pt x="25560" y="85366"/>
                </a:lnTo>
                <a:lnTo>
                  <a:pt x="23417" y="91624"/>
                </a:lnTo>
                <a:lnTo>
                  <a:pt x="21141" y="97489"/>
                </a:lnTo>
                <a:lnTo>
                  <a:pt x="18778" y="103093"/>
                </a:lnTo>
                <a:lnTo>
                  <a:pt x="16356" y="108522"/>
                </a:lnTo>
                <a:lnTo>
                  <a:pt x="11406" y="119070"/>
                </a:lnTo>
                <a:lnTo>
                  <a:pt x="9748" y="124253"/>
                </a:lnTo>
                <a:lnTo>
                  <a:pt x="8642" y="129402"/>
                </a:lnTo>
                <a:lnTo>
                  <a:pt x="7905" y="134528"/>
                </a:lnTo>
                <a:lnTo>
                  <a:pt x="6567" y="139639"/>
                </a:lnTo>
                <a:lnTo>
                  <a:pt x="4829" y="144739"/>
                </a:lnTo>
                <a:lnTo>
                  <a:pt x="2823" y="149833"/>
                </a:lnTo>
                <a:lnTo>
                  <a:pt x="1486" y="154076"/>
                </a:lnTo>
                <a:lnTo>
                  <a:pt x="594" y="157750"/>
                </a:lnTo>
                <a:lnTo>
                  <a:pt x="0" y="161047"/>
                </a:lnTo>
                <a:lnTo>
                  <a:pt x="450" y="164091"/>
                </a:lnTo>
                <a:lnTo>
                  <a:pt x="1597" y="166968"/>
                </a:lnTo>
                <a:lnTo>
                  <a:pt x="6431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68"/>
          <p:cNvSpPr/>
          <p:nvPr/>
        </p:nvSpPr>
        <p:spPr>
          <a:xfrm>
            <a:off x="5745240" y="4732200"/>
            <a:ext cx="182520" cy="198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82841" h="198026">
                <a:moveTo>
                  <a:pt x="0" y="15145"/>
                </a:moveTo>
                <a:lnTo>
                  <a:pt x="59034" y="15145"/>
                </a:lnTo>
                <a:lnTo>
                  <a:pt x="67296" y="14298"/>
                </a:lnTo>
                <a:lnTo>
                  <a:pt x="75344" y="12888"/>
                </a:lnTo>
                <a:lnTo>
                  <a:pt x="83249" y="11100"/>
                </a:lnTo>
                <a:lnTo>
                  <a:pt x="91059" y="9908"/>
                </a:lnTo>
                <a:lnTo>
                  <a:pt x="98807" y="9114"/>
                </a:lnTo>
                <a:lnTo>
                  <a:pt x="106511" y="8584"/>
                </a:lnTo>
                <a:lnTo>
                  <a:pt x="114187" y="8231"/>
                </a:lnTo>
                <a:lnTo>
                  <a:pt x="129490" y="7839"/>
                </a:lnTo>
                <a:lnTo>
                  <a:pt x="136281" y="6888"/>
                </a:lnTo>
                <a:lnTo>
                  <a:pt x="142501" y="5407"/>
                </a:lnTo>
                <a:lnTo>
                  <a:pt x="148340" y="3573"/>
                </a:lnTo>
                <a:lnTo>
                  <a:pt x="153081" y="2350"/>
                </a:lnTo>
                <a:lnTo>
                  <a:pt x="157088" y="1535"/>
                </a:lnTo>
                <a:lnTo>
                  <a:pt x="160605" y="992"/>
                </a:lnTo>
                <a:lnTo>
                  <a:pt x="163797" y="629"/>
                </a:lnTo>
                <a:lnTo>
                  <a:pt x="166772" y="388"/>
                </a:lnTo>
                <a:lnTo>
                  <a:pt x="172334" y="119"/>
                </a:lnTo>
                <a:lnTo>
                  <a:pt x="177629" y="0"/>
                </a:lnTo>
                <a:lnTo>
                  <a:pt x="179379" y="815"/>
                </a:lnTo>
                <a:lnTo>
                  <a:pt x="180547" y="2205"/>
                </a:lnTo>
                <a:lnTo>
                  <a:pt x="182419" y="6474"/>
                </a:lnTo>
                <a:lnTo>
                  <a:pt x="182744" y="11259"/>
                </a:lnTo>
                <a:lnTo>
                  <a:pt x="182840" y="18039"/>
                </a:lnTo>
                <a:lnTo>
                  <a:pt x="182007" y="21307"/>
                </a:lnTo>
                <a:lnTo>
                  <a:pt x="180605" y="25180"/>
                </a:lnTo>
                <a:lnTo>
                  <a:pt x="178823" y="29455"/>
                </a:lnTo>
                <a:lnTo>
                  <a:pt x="176789" y="33998"/>
                </a:lnTo>
                <a:lnTo>
                  <a:pt x="172271" y="43562"/>
                </a:lnTo>
                <a:lnTo>
                  <a:pt x="169034" y="48483"/>
                </a:lnTo>
                <a:lnTo>
                  <a:pt x="165183" y="53457"/>
                </a:lnTo>
                <a:lnTo>
                  <a:pt x="160922" y="58467"/>
                </a:lnTo>
                <a:lnTo>
                  <a:pt x="156388" y="64346"/>
                </a:lnTo>
                <a:lnTo>
                  <a:pt x="151672" y="70805"/>
                </a:lnTo>
                <a:lnTo>
                  <a:pt x="146835" y="77652"/>
                </a:lnTo>
                <a:lnTo>
                  <a:pt x="141917" y="83910"/>
                </a:lnTo>
                <a:lnTo>
                  <a:pt x="136945" y="89775"/>
                </a:lnTo>
                <a:lnTo>
                  <a:pt x="131937" y="95378"/>
                </a:lnTo>
                <a:lnTo>
                  <a:pt x="126904" y="101654"/>
                </a:lnTo>
                <a:lnTo>
                  <a:pt x="121856" y="108378"/>
                </a:lnTo>
                <a:lnTo>
                  <a:pt x="116797" y="115400"/>
                </a:lnTo>
                <a:lnTo>
                  <a:pt x="110885" y="122622"/>
                </a:lnTo>
                <a:lnTo>
                  <a:pt x="104404" y="129976"/>
                </a:lnTo>
                <a:lnTo>
                  <a:pt x="91275" y="144075"/>
                </a:lnTo>
                <a:lnTo>
                  <a:pt x="79796" y="155985"/>
                </a:lnTo>
                <a:lnTo>
                  <a:pt x="75211" y="161532"/>
                </a:lnTo>
                <a:lnTo>
                  <a:pt x="71307" y="166923"/>
                </a:lnTo>
                <a:lnTo>
                  <a:pt x="67858" y="172210"/>
                </a:lnTo>
                <a:lnTo>
                  <a:pt x="64712" y="176582"/>
                </a:lnTo>
                <a:lnTo>
                  <a:pt x="61768" y="180343"/>
                </a:lnTo>
                <a:lnTo>
                  <a:pt x="58959" y="183697"/>
                </a:lnTo>
                <a:lnTo>
                  <a:pt x="55837" y="189681"/>
                </a:lnTo>
                <a:lnTo>
                  <a:pt x="55005" y="192463"/>
                </a:lnTo>
                <a:lnTo>
                  <a:pt x="53604" y="194317"/>
                </a:lnTo>
                <a:lnTo>
                  <a:pt x="51822" y="195553"/>
                </a:lnTo>
                <a:lnTo>
                  <a:pt x="45720" y="198025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69"/>
          <p:cNvSpPr/>
          <p:nvPr/>
        </p:nvSpPr>
        <p:spPr>
          <a:xfrm>
            <a:off x="5775480" y="4838760"/>
            <a:ext cx="176040" cy="46080"/>
          </a:xfrm>
          <a:custGeom>
            <a:avLst/>
            <a:gdLst>
              <a:gd name="textAreaLeft" fmla="*/ 0 w 176040"/>
              <a:gd name="textAreaRight" fmla="*/ 176400 w 176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5261" h="45721">
                <a:moveTo>
                  <a:pt x="0" y="0"/>
                </a:moveTo>
                <a:lnTo>
                  <a:pt x="4045" y="4045"/>
                </a:lnTo>
                <a:lnTo>
                  <a:pt x="6083" y="5237"/>
                </a:lnTo>
                <a:lnTo>
                  <a:pt x="13844" y="7760"/>
                </a:lnTo>
                <a:lnTo>
                  <a:pt x="17696" y="9408"/>
                </a:lnTo>
                <a:lnTo>
                  <a:pt x="21957" y="11352"/>
                </a:lnTo>
                <a:lnTo>
                  <a:pt x="27338" y="13495"/>
                </a:lnTo>
                <a:lnTo>
                  <a:pt x="40090" y="18133"/>
                </a:lnTo>
                <a:lnTo>
                  <a:pt x="47894" y="20556"/>
                </a:lnTo>
                <a:lnTo>
                  <a:pt x="65595" y="25505"/>
                </a:lnTo>
                <a:lnTo>
                  <a:pt x="124644" y="40649"/>
                </a:lnTo>
                <a:lnTo>
                  <a:pt x="133049" y="42339"/>
                </a:lnTo>
                <a:lnTo>
                  <a:pt x="140347" y="43467"/>
                </a:lnTo>
                <a:lnTo>
                  <a:pt x="146904" y="44218"/>
                </a:lnTo>
                <a:lnTo>
                  <a:pt x="152969" y="44718"/>
                </a:lnTo>
                <a:lnTo>
                  <a:pt x="158706" y="45053"/>
                </a:lnTo>
                <a:lnTo>
                  <a:pt x="17526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70"/>
          <p:cNvSpPr/>
          <p:nvPr/>
        </p:nvSpPr>
        <p:spPr>
          <a:xfrm>
            <a:off x="6950160" y="4754520"/>
            <a:ext cx="14040" cy="190440"/>
          </a:xfrm>
          <a:custGeom>
            <a:avLst/>
            <a:gdLst>
              <a:gd name="textAreaLeft" fmla="*/ 0 w 14040"/>
              <a:gd name="textAreaRight" fmla="*/ 14400 w 14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088" h="190501">
                <a:moveTo>
                  <a:pt x="7526" y="0"/>
                </a:moveTo>
                <a:lnTo>
                  <a:pt x="7526" y="13867"/>
                </a:lnTo>
                <a:lnTo>
                  <a:pt x="8372" y="15171"/>
                </a:lnTo>
                <a:lnTo>
                  <a:pt x="9785" y="16887"/>
                </a:lnTo>
                <a:lnTo>
                  <a:pt x="11571" y="18878"/>
                </a:lnTo>
                <a:lnTo>
                  <a:pt x="12763" y="21899"/>
                </a:lnTo>
                <a:lnTo>
                  <a:pt x="13557" y="25606"/>
                </a:lnTo>
                <a:lnTo>
                  <a:pt x="14087" y="29771"/>
                </a:lnTo>
                <a:lnTo>
                  <a:pt x="13594" y="34240"/>
                </a:lnTo>
                <a:lnTo>
                  <a:pt x="12418" y="38913"/>
                </a:lnTo>
                <a:lnTo>
                  <a:pt x="10788" y="43722"/>
                </a:lnTo>
                <a:lnTo>
                  <a:pt x="9700" y="48622"/>
                </a:lnTo>
                <a:lnTo>
                  <a:pt x="8975" y="53581"/>
                </a:lnTo>
                <a:lnTo>
                  <a:pt x="8492" y="58580"/>
                </a:lnTo>
                <a:lnTo>
                  <a:pt x="8171" y="63607"/>
                </a:lnTo>
                <a:lnTo>
                  <a:pt x="7955" y="68652"/>
                </a:lnTo>
                <a:lnTo>
                  <a:pt x="7717" y="79618"/>
                </a:lnTo>
                <a:lnTo>
                  <a:pt x="7611" y="92959"/>
                </a:lnTo>
                <a:lnTo>
                  <a:pt x="6737" y="99226"/>
                </a:lnTo>
                <a:lnTo>
                  <a:pt x="5306" y="105097"/>
                </a:lnTo>
                <a:lnTo>
                  <a:pt x="3506" y="110705"/>
                </a:lnTo>
                <a:lnTo>
                  <a:pt x="2306" y="116983"/>
                </a:lnTo>
                <a:lnTo>
                  <a:pt x="1506" y="123709"/>
                </a:lnTo>
                <a:lnTo>
                  <a:pt x="973" y="130733"/>
                </a:lnTo>
                <a:lnTo>
                  <a:pt x="617" y="137108"/>
                </a:lnTo>
                <a:lnTo>
                  <a:pt x="222" y="148708"/>
                </a:lnTo>
                <a:lnTo>
                  <a:pt x="0" y="164759"/>
                </a:lnTo>
                <a:lnTo>
                  <a:pt x="815" y="169952"/>
                </a:lnTo>
                <a:lnTo>
                  <a:pt x="2205" y="175108"/>
                </a:lnTo>
                <a:lnTo>
                  <a:pt x="7526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71"/>
          <p:cNvSpPr/>
          <p:nvPr/>
        </p:nvSpPr>
        <p:spPr>
          <a:xfrm>
            <a:off x="7116840" y="4762440"/>
            <a:ext cx="212760" cy="228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2874" h="228508">
                <a:moveTo>
                  <a:pt x="0" y="22767"/>
                </a:moveTo>
                <a:lnTo>
                  <a:pt x="36130" y="22767"/>
                </a:lnTo>
                <a:lnTo>
                  <a:pt x="41867" y="21920"/>
                </a:lnTo>
                <a:lnTo>
                  <a:pt x="48231" y="20510"/>
                </a:lnTo>
                <a:lnTo>
                  <a:pt x="55015" y="18722"/>
                </a:lnTo>
                <a:lnTo>
                  <a:pt x="62923" y="17530"/>
                </a:lnTo>
                <a:lnTo>
                  <a:pt x="71583" y="16736"/>
                </a:lnTo>
                <a:lnTo>
                  <a:pt x="80741" y="16206"/>
                </a:lnTo>
                <a:lnTo>
                  <a:pt x="89388" y="15006"/>
                </a:lnTo>
                <a:lnTo>
                  <a:pt x="97692" y="13360"/>
                </a:lnTo>
                <a:lnTo>
                  <a:pt x="105767" y="11416"/>
                </a:lnTo>
                <a:lnTo>
                  <a:pt x="114538" y="10120"/>
                </a:lnTo>
                <a:lnTo>
                  <a:pt x="123772" y="9255"/>
                </a:lnTo>
                <a:lnTo>
                  <a:pt x="141370" y="8295"/>
                </a:lnTo>
                <a:lnTo>
                  <a:pt x="154835" y="7869"/>
                </a:lnTo>
                <a:lnTo>
                  <a:pt x="171936" y="7628"/>
                </a:lnTo>
                <a:lnTo>
                  <a:pt x="177278" y="6748"/>
                </a:lnTo>
                <a:lnTo>
                  <a:pt x="182532" y="5314"/>
                </a:lnTo>
                <a:lnTo>
                  <a:pt x="187728" y="3512"/>
                </a:lnTo>
                <a:lnTo>
                  <a:pt x="192038" y="2310"/>
                </a:lnTo>
                <a:lnTo>
                  <a:pt x="195759" y="1509"/>
                </a:lnTo>
                <a:lnTo>
                  <a:pt x="202151" y="619"/>
                </a:lnTo>
                <a:lnTo>
                  <a:pt x="207813" y="223"/>
                </a:lnTo>
                <a:lnTo>
                  <a:pt x="211716" y="0"/>
                </a:lnTo>
                <a:lnTo>
                  <a:pt x="212264" y="816"/>
                </a:lnTo>
                <a:lnTo>
                  <a:pt x="212873" y="3980"/>
                </a:lnTo>
                <a:lnTo>
                  <a:pt x="211342" y="5162"/>
                </a:lnTo>
                <a:lnTo>
                  <a:pt x="205125" y="6476"/>
                </a:lnTo>
                <a:lnTo>
                  <a:pt x="201944" y="8520"/>
                </a:lnTo>
                <a:lnTo>
                  <a:pt x="196151" y="15306"/>
                </a:lnTo>
                <a:lnTo>
                  <a:pt x="192573" y="18640"/>
                </a:lnTo>
                <a:lnTo>
                  <a:pt x="188496" y="21708"/>
                </a:lnTo>
                <a:lnTo>
                  <a:pt x="184084" y="24601"/>
                </a:lnTo>
                <a:lnTo>
                  <a:pt x="179450" y="29070"/>
                </a:lnTo>
                <a:lnTo>
                  <a:pt x="174666" y="34589"/>
                </a:lnTo>
                <a:lnTo>
                  <a:pt x="169784" y="40808"/>
                </a:lnTo>
                <a:lnTo>
                  <a:pt x="163989" y="46648"/>
                </a:lnTo>
                <a:lnTo>
                  <a:pt x="157587" y="52234"/>
                </a:lnTo>
                <a:lnTo>
                  <a:pt x="150778" y="57652"/>
                </a:lnTo>
                <a:lnTo>
                  <a:pt x="144546" y="63803"/>
                </a:lnTo>
                <a:lnTo>
                  <a:pt x="138696" y="70445"/>
                </a:lnTo>
                <a:lnTo>
                  <a:pt x="133105" y="77412"/>
                </a:lnTo>
                <a:lnTo>
                  <a:pt x="126837" y="84597"/>
                </a:lnTo>
                <a:lnTo>
                  <a:pt x="120117" y="91927"/>
                </a:lnTo>
                <a:lnTo>
                  <a:pt x="105879" y="106845"/>
                </a:lnTo>
                <a:lnTo>
                  <a:pt x="72519" y="140676"/>
                </a:lnTo>
                <a:lnTo>
                  <a:pt x="66973" y="147093"/>
                </a:lnTo>
                <a:lnTo>
                  <a:pt x="61582" y="153911"/>
                </a:lnTo>
                <a:lnTo>
                  <a:pt x="56295" y="160996"/>
                </a:lnTo>
                <a:lnTo>
                  <a:pt x="51076" y="167413"/>
                </a:lnTo>
                <a:lnTo>
                  <a:pt x="45904" y="173384"/>
                </a:lnTo>
                <a:lnTo>
                  <a:pt x="40763" y="179058"/>
                </a:lnTo>
                <a:lnTo>
                  <a:pt x="37335" y="184535"/>
                </a:lnTo>
                <a:lnTo>
                  <a:pt x="35050" y="189879"/>
                </a:lnTo>
                <a:lnTo>
                  <a:pt x="33526" y="195135"/>
                </a:lnTo>
                <a:lnTo>
                  <a:pt x="31664" y="200332"/>
                </a:lnTo>
                <a:lnTo>
                  <a:pt x="29576" y="205490"/>
                </a:lnTo>
                <a:lnTo>
                  <a:pt x="27338" y="210622"/>
                </a:lnTo>
                <a:lnTo>
                  <a:pt x="26692" y="214891"/>
                </a:lnTo>
                <a:lnTo>
                  <a:pt x="27107" y="218582"/>
                </a:lnTo>
                <a:lnTo>
                  <a:pt x="30283" y="227926"/>
                </a:lnTo>
                <a:lnTo>
                  <a:pt x="32650" y="228249"/>
                </a:lnTo>
                <a:lnTo>
                  <a:pt x="38100" y="22850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72"/>
          <p:cNvSpPr/>
          <p:nvPr/>
        </p:nvSpPr>
        <p:spPr>
          <a:xfrm>
            <a:off x="7143840" y="4846680"/>
            <a:ext cx="187200" cy="30240"/>
          </a:xfrm>
          <a:custGeom>
            <a:avLst/>
            <a:gdLst>
              <a:gd name="textAreaLeft" fmla="*/ 0 w 187200"/>
              <a:gd name="textAreaRight" fmla="*/ 187560 w 1872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87272" h="30481">
                <a:moveTo>
                  <a:pt x="4391" y="0"/>
                </a:moveTo>
                <a:lnTo>
                  <a:pt x="0" y="0"/>
                </a:lnTo>
                <a:lnTo>
                  <a:pt x="18821" y="0"/>
                </a:lnTo>
                <a:lnTo>
                  <a:pt x="25017" y="847"/>
                </a:lnTo>
                <a:lnTo>
                  <a:pt x="32536" y="2258"/>
                </a:lnTo>
                <a:lnTo>
                  <a:pt x="49920" y="6084"/>
                </a:lnTo>
                <a:lnTo>
                  <a:pt x="68935" y="10606"/>
                </a:lnTo>
                <a:lnTo>
                  <a:pt x="77900" y="12997"/>
                </a:lnTo>
                <a:lnTo>
                  <a:pt x="103500" y="20409"/>
                </a:lnTo>
                <a:lnTo>
                  <a:pt x="122382" y="25439"/>
                </a:lnTo>
                <a:lnTo>
                  <a:pt x="131312" y="27120"/>
                </a:lnTo>
                <a:lnTo>
                  <a:pt x="139805" y="28240"/>
                </a:lnTo>
                <a:lnTo>
                  <a:pt x="148007" y="28987"/>
                </a:lnTo>
                <a:lnTo>
                  <a:pt x="155168" y="29485"/>
                </a:lnTo>
                <a:lnTo>
                  <a:pt x="161636" y="29816"/>
                </a:lnTo>
                <a:lnTo>
                  <a:pt x="176572" y="30284"/>
                </a:lnTo>
                <a:lnTo>
                  <a:pt x="187271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73"/>
          <p:cNvSpPr/>
          <p:nvPr/>
        </p:nvSpPr>
        <p:spPr>
          <a:xfrm>
            <a:off x="5654520" y="5059440"/>
            <a:ext cx="219240" cy="214200"/>
          </a:xfrm>
          <a:custGeom>
            <a:avLst/>
            <a:gdLst>
              <a:gd name="textAreaLeft" fmla="*/ 0 w 219240"/>
              <a:gd name="textAreaRight" fmla="*/ 219600 w 2192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9893" h="213361">
                <a:moveTo>
                  <a:pt x="205739" y="0"/>
                </a:moveTo>
                <a:lnTo>
                  <a:pt x="205739" y="4045"/>
                </a:lnTo>
                <a:lnTo>
                  <a:pt x="206585" y="5237"/>
                </a:lnTo>
                <a:lnTo>
                  <a:pt x="207997" y="6031"/>
                </a:lnTo>
                <a:lnTo>
                  <a:pt x="212300" y="7306"/>
                </a:lnTo>
                <a:lnTo>
                  <a:pt x="212654" y="8257"/>
                </a:lnTo>
                <a:lnTo>
                  <a:pt x="213045" y="11572"/>
                </a:lnTo>
                <a:lnTo>
                  <a:pt x="213997" y="13641"/>
                </a:lnTo>
                <a:lnTo>
                  <a:pt x="217312" y="18198"/>
                </a:lnTo>
                <a:lnTo>
                  <a:pt x="218534" y="21446"/>
                </a:lnTo>
                <a:lnTo>
                  <a:pt x="219349" y="25303"/>
                </a:lnTo>
                <a:lnTo>
                  <a:pt x="219892" y="29569"/>
                </a:lnTo>
                <a:lnTo>
                  <a:pt x="219408" y="34106"/>
                </a:lnTo>
                <a:lnTo>
                  <a:pt x="218239" y="38824"/>
                </a:lnTo>
                <a:lnTo>
                  <a:pt x="216612" y="43662"/>
                </a:lnTo>
                <a:lnTo>
                  <a:pt x="213835" y="48582"/>
                </a:lnTo>
                <a:lnTo>
                  <a:pt x="210289" y="53554"/>
                </a:lnTo>
                <a:lnTo>
                  <a:pt x="206233" y="58563"/>
                </a:lnTo>
                <a:lnTo>
                  <a:pt x="201835" y="63595"/>
                </a:lnTo>
                <a:lnTo>
                  <a:pt x="197209" y="68644"/>
                </a:lnTo>
                <a:lnTo>
                  <a:pt x="192433" y="73702"/>
                </a:lnTo>
                <a:lnTo>
                  <a:pt x="187556" y="79615"/>
                </a:lnTo>
                <a:lnTo>
                  <a:pt x="182610" y="86097"/>
                </a:lnTo>
                <a:lnTo>
                  <a:pt x="177620" y="92958"/>
                </a:lnTo>
                <a:lnTo>
                  <a:pt x="171753" y="99225"/>
                </a:lnTo>
                <a:lnTo>
                  <a:pt x="165301" y="105097"/>
                </a:lnTo>
                <a:lnTo>
                  <a:pt x="158461" y="110704"/>
                </a:lnTo>
                <a:lnTo>
                  <a:pt x="151360" y="116983"/>
                </a:lnTo>
                <a:lnTo>
                  <a:pt x="136697" y="130733"/>
                </a:lnTo>
                <a:lnTo>
                  <a:pt x="128384" y="137109"/>
                </a:lnTo>
                <a:lnTo>
                  <a:pt x="119456" y="143052"/>
                </a:lnTo>
                <a:lnTo>
                  <a:pt x="110117" y="148708"/>
                </a:lnTo>
                <a:lnTo>
                  <a:pt x="101351" y="155019"/>
                </a:lnTo>
                <a:lnTo>
                  <a:pt x="92967" y="161766"/>
                </a:lnTo>
                <a:lnTo>
                  <a:pt x="84838" y="168804"/>
                </a:lnTo>
                <a:lnTo>
                  <a:pt x="76032" y="175189"/>
                </a:lnTo>
                <a:lnTo>
                  <a:pt x="66774" y="181140"/>
                </a:lnTo>
                <a:lnTo>
                  <a:pt x="57216" y="186800"/>
                </a:lnTo>
                <a:lnTo>
                  <a:pt x="42080" y="195346"/>
                </a:lnTo>
                <a:lnTo>
                  <a:pt x="29709" y="201967"/>
                </a:lnTo>
                <a:lnTo>
                  <a:pt x="18566" y="207732"/>
                </a:lnTo>
                <a:lnTo>
                  <a:pt x="14070" y="209608"/>
                </a:lnTo>
                <a:lnTo>
                  <a:pt x="10227" y="210859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74"/>
          <p:cNvSpPr/>
          <p:nvPr/>
        </p:nvSpPr>
        <p:spPr>
          <a:xfrm>
            <a:off x="5737320" y="5097600"/>
            <a:ext cx="214200" cy="114120"/>
          </a:xfrm>
          <a:custGeom>
            <a:avLst/>
            <a:gdLst>
              <a:gd name="textAreaLeft" fmla="*/ 0 w 214200"/>
              <a:gd name="textAreaRight" fmla="*/ 214560 w 2142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13361" h="114301">
                <a:moveTo>
                  <a:pt x="0" y="0"/>
                </a:moveTo>
                <a:lnTo>
                  <a:pt x="4045" y="4045"/>
                </a:lnTo>
                <a:lnTo>
                  <a:pt x="6930" y="6083"/>
                </a:lnTo>
                <a:lnTo>
                  <a:pt x="10546" y="8289"/>
                </a:lnTo>
                <a:lnTo>
                  <a:pt x="14651" y="10606"/>
                </a:lnTo>
                <a:lnTo>
                  <a:pt x="18234" y="13844"/>
                </a:lnTo>
                <a:lnTo>
                  <a:pt x="21469" y="17696"/>
                </a:lnTo>
                <a:lnTo>
                  <a:pt x="24473" y="21957"/>
                </a:lnTo>
                <a:lnTo>
                  <a:pt x="29862" y="26491"/>
                </a:lnTo>
                <a:lnTo>
                  <a:pt x="36841" y="31207"/>
                </a:lnTo>
                <a:lnTo>
                  <a:pt x="44881" y="36045"/>
                </a:lnTo>
                <a:lnTo>
                  <a:pt x="51934" y="40964"/>
                </a:lnTo>
                <a:lnTo>
                  <a:pt x="58329" y="45935"/>
                </a:lnTo>
                <a:lnTo>
                  <a:pt x="64286" y="50943"/>
                </a:lnTo>
                <a:lnTo>
                  <a:pt x="71644" y="55976"/>
                </a:lnTo>
                <a:lnTo>
                  <a:pt x="79936" y="61024"/>
                </a:lnTo>
                <a:lnTo>
                  <a:pt x="88851" y="66082"/>
                </a:lnTo>
                <a:lnTo>
                  <a:pt x="98181" y="70302"/>
                </a:lnTo>
                <a:lnTo>
                  <a:pt x="107787" y="73961"/>
                </a:lnTo>
                <a:lnTo>
                  <a:pt x="117578" y="77248"/>
                </a:lnTo>
                <a:lnTo>
                  <a:pt x="126645" y="81131"/>
                </a:lnTo>
                <a:lnTo>
                  <a:pt x="135230" y="85414"/>
                </a:lnTo>
                <a:lnTo>
                  <a:pt x="143493" y="89963"/>
                </a:lnTo>
                <a:lnTo>
                  <a:pt x="151543" y="93842"/>
                </a:lnTo>
                <a:lnTo>
                  <a:pt x="159449" y="97275"/>
                </a:lnTo>
                <a:lnTo>
                  <a:pt x="167259" y="100410"/>
                </a:lnTo>
                <a:lnTo>
                  <a:pt x="174159" y="103346"/>
                </a:lnTo>
                <a:lnTo>
                  <a:pt x="186343" y="108867"/>
                </a:lnTo>
                <a:lnTo>
                  <a:pt x="191962" y="110678"/>
                </a:lnTo>
                <a:lnTo>
                  <a:pt x="197401" y="111885"/>
                </a:lnTo>
                <a:lnTo>
                  <a:pt x="21336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75"/>
          <p:cNvSpPr/>
          <p:nvPr/>
        </p:nvSpPr>
        <p:spPr>
          <a:xfrm>
            <a:off x="6049800" y="5127480"/>
            <a:ext cx="198720" cy="16200"/>
          </a:xfrm>
          <a:custGeom>
            <a:avLst/>
            <a:gdLst>
              <a:gd name="textAreaLeft" fmla="*/ 0 w 198720"/>
              <a:gd name="textAreaRight" fmla="*/ 199080 w 19872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98121" h="15146">
                <a:moveTo>
                  <a:pt x="0" y="0"/>
                </a:moveTo>
                <a:lnTo>
                  <a:pt x="14651" y="0"/>
                </a:lnTo>
                <a:lnTo>
                  <a:pt x="18234" y="846"/>
                </a:lnTo>
                <a:lnTo>
                  <a:pt x="21469" y="2257"/>
                </a:lnTo>
                <a:lnTo>
                  <a:pt x="24473" y="4045"/>
                </a:lnTo>
                <a:lnTo>
                  <a:pt x="29016" y="5237"/>
                </a:lnTo>
                <a:lnTo>
                  <a:pt x="34583" y="6031"/>
                </a:lnTo>
                <a:lnTo>
                  <a:pt x="40835" y="6561"/>
                </a:lnTo>
                <a:lnTo>
                  <a:pt x="47544" y="6914"/>
                </a:lnTo>
                <a:lnTo>
                  <a:pt x="61771" y="7306"/>
                </a:lnTo>
                <a:lnTo>
                  <a:pt x="69967" y="8257"/>
                </a:lnTo>
                <a:lnTo>
                  <a:pt x="78818" y="9738"/>
                </a:lnTo>
                <a:lnTo>
                  <a:pt x="88106" y="11572"/>
                </a:lnTo>
                <a:lnTo>
                  <a:pt x="96837" y="12795"/>
                </a:lnTo>
                <a:lnTo>
                  <a:pt x="105198" y="13610"/>
                </a:lnTo>
                <a:lnTo>
                  <a:pt x="113312" y="14153"/>
                </a:lnTo>
                <a:lnTo>
                  <a:pt x="121262" y="14516"/>
                </a:lnTo>
                <a:lnTo>
                  <a:pt x="136868" y="14918"/>
                </a:lnTo>
                <a:lnTo>
                  <a:pt x="159934" y="15145"/>
                </a:lnTo>
                <a:lnTo>
                  <a:pt x="166736" y="14330"/>
                </a:lnTo>
                <a:lnTo>
                  <a:pt x="172964" y="12940"/>
                </a:lnTo>
                <a:lnTo>
                  <a:pt x="178809" y="11166"/>
                </a:lnTo>
                <a:lnTo>
                  <a:pt x="183553" y="9985"/>
                </a:lnTo>
                <a:lnTo>
                  <a:pt x="187563" y="9196"/>
                </a:lnTo>
                <a:lnTo>
                  <a:pt x="1981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76"/>
          <p:cNvSpPr/>
          <p:nvPr/>
        </p:nvSpPr>
        <p:spPr>
          <a:xfrm>
            <a:off x="6066000" y="5189400"/>
            <a:ext cx="236520" cy="14400"/>
          </a:xfrm>
          <a:custGeom>
            <a:avLst/>
            <a:gdLst>
              <a:gd name="textAreaLeft" fmla="*/ 0 w 236520"/>
              <a:gd name="textAreaRight" fmla="*/ 236880 w 236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36222" h="15213">
                <a:moveTo>
                  <a:pt x="0" y="7620"/>
                </a:moveTo>
                <a:lnTo>
                  <a:pt x="22179" y="7620"/>
                </a:lnTo>
                <a:lnTo>
                  <a:pt x="26639" y="8467"/>
                </a:lnTo>
                <a:lnTo>
                  <a:pt x="31306" y="9877"/>
                </a:lnTo>
                <a:lnTo>
                  <a:pt x="36111" y="11665"/>
                </a:lnTo>
                <a:lnTo>
                  <a:pt x="42701" y="12857"/>
                </a:lnTo>
                <a:lnTo>
                  <a:pt x="50480" y="13651"/>
                </a:lnTo>
                <a:lnTo>
                  <a:pt x="59053" y="14181"/>
                </a:lnTo>
                <a:lnTo>
                  <a:pt x="77611" y="14769"/>
                </a:lnTo>
                <a:lnTo>
                  <a:pt x="135027" y="15198"/>
                </a:lnTo>
                <a:lnTo>
                  <a:pt x="143358" y="15212"/>
                </a:lnTo>
                <a:lnTo>
                  <a:pt x="151452" y="14375"/>
                </a:lnTo>
                <a:lnTo>
                  <a:pt x="159388" y="12970"/>
                </a:lnTo>
                <a:lnTo>
                  <a:pt x="167219" y="11187"/>
                </a:lnTo>
                <a:lnTo>
                  <a:pt x="174980" y="9998"/>
                </a:lnTo>
                <a:lnTo>
                  <a:pt x="182693" y="9205"/>
                </a:lnTo>
                <a:lnTo>
                  <a:pt x="190375" y="8677"/>
                </a:lnTo>
                <a:lnTo>
                  <a:pt x="198038" y="7478"/>
                </a:lnTo>
                <a:lnTo>
                  <a:pt x="205685" y="5833"/>
                </a:lnTo>
                <a:lnTo>
                  <a:pt x="213323" y="3889"/>
                </a:lnTo>
                <a:lnTo>
                  <a:pt x="219263" y="2592"/>
                </a:lnTo>
                <a:lnTo>
                  <a:pt x="224069" y="1728"/>
                </a:lnTo>
                <a:lnTo>
                  <a:pt x="23622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77"/>
          <p:cNvSpPr/>
          <p:nvPr/>
        </p:nvSpPr>
        <p:spPr>
          <a:xfrm>
            <a:off x="6423120" y="5013360"/>
            <a:ext cx="15840" cy="244440"/>
          </a:xfrm>
          <a:custGeom>
            <a:avLst/>
            <a:gdLst>
              <a:gd name="textAreaLeft" fmla="*/ 0 w 15840"/>
              <a:gd name="textAreaRight" fmla="*/ 16200 w 15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241" h="243841">
                <a:moveTo>
                  <a:pt x="15240" y="0"/>
                </a:moveTo>
                <a:lnTo>
                  <a:pt x="15240" y="81485"/>
                </a:lnTo>
                <a:lnTo>
                  <a:pt x="14394" y="89884"/>
                </a:lnTo>
                <a:lnTo>
                  <a:pt x="12982" y="98022"/>
                </a:lnTo>
                <a:lnTo>
                  <a:pt x="11195" y="105988"/>
                </a:lnTo>
                <a:lnTo>
                  <a:pt x="10003" y="113839"/>
                </a:lnTo>
                <a:lnTo>
                  <a:pt x="9209" y="121613"/>
                </a:lnTo>
                <a:lnTo>
                  <a:pt x="8679" y="129335"/>
                </a:lnTo>
                <a:lnTo>
                  <a:pt x="7479" y="137023"/>
                </a:lnTo>
                <a:lnTo>
                  <a:pt x="5834" y="144689"/>
                </a:lnTo>
                <a:lnTo>
                  <a:pt x="3889" y="152339"/>
                </a:lnTo>
                <a:lnTo>
                  <a:pt x="2592" y="159980"/>
                </a:lnTo>
                <a:lnTo>
                  <a:pt x="1728" y="167613"/>
                </a:lnTo>
                <a:lnTo>
                  <a:pt x="1152" y="175242"/>
                </a:lnTo>
                <a:lnTo>
                  <a:pt x="768" y="182868"/>
                </a:lnTo>
                <a:lnTo>
                  <a:pt x="341" y="198115"/>
                </a:lnTo>
                <a:lnTo>
                  <a:pt x="20" y="232379"/>
                </a:lnTo>
                <a:lnTo>
                  <a:pt x="0" y="2438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78"/>
          <p:cNvSpPr/>
          <p:nvPr/>
        </p:nvSpPr>
        <p:spPr>
          <a:xfrm>
            <a:off x="6553080" y="5051520"/>
            <a:ext cx="160560" cy="253800"/>
          </a:xfrm>
          <a:custGeom>
            <a:avLst/>
            <a:gdLst>
              <a:gd name="textAreaLeft" fmla="*/ 0 w 160560"/>
              <a:gd name="textAreaRight" fmla="*/ 160920 w 160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59238" h="253822">
                <a:moveTo>
                  <a:pt x="106166" y="7620"/>
                </a:moveTo>
                <a:lnTo>
                  <a:pt x="102120" y="7620"/>
                </a:lnTo>
                <a:lnTo>
                  <a:pt x="100928" y="8466"/>
                </a:lnTo>
                <a:lnTo>
                  <a:pt x="100134" y="9878"/>
                </a:lnTo>
                <a:lnTo>
                  <a:pt x="99604" y="11665"/>
                </a:lnTo>
                <a:lnTo>
                  <a:pt x="96758" y="15909"/>
                </a:lnTo>
                <a:lnTo>
                  <a:pt x="91824" y="22310"/>
                </a:lnTo>
                <a:lnTo>
                  <a:pt x="83987" y="33623"/>
                </a:lnTo>
                <a:lnTo>
                  <a:pt x="78680" y="39348"/>
                </a:lnTo>
                <a:lnTo>
                  <a:pt x="72602" y="44859"/>
                </a:lnTo>
                <a:lnTo>
                  <a:pt x="66010" y="50226"/>
                </a:lnTo>
                <a:lnTo>
                  <a:pt x="59922" y="56344"/>
                </a:lnTo>
                <a:lnTo>
                  <a:pt x="54170" y="62963"/>
                </a:lnTo>
                <a:lnTo>
                  <a:pt x="42416" y="77937"/>
                </a:lnTo>
                <a:lnTo>
                  <a:pt x="28726" y="95881"/>
                </a:lnTo>
                <a:lnTo>
                  <a:pt x="23212" y="104561"/>
                </a:lnTo>
                <a:lnTo>
                  <a:pt x="18690" y="112887"/>
                </a:lnTo>
                <a:lnTo>
                  <a:pt x="14828" y="120978"/>
                </a:lnTo>
                <a:lnTo>
                  <a:pt x="11408" y="129759"/>
                </a:lnTo>
                <a:lnTo>
                  <a:pt x="8280" y="139000"/>
                </a:lnTo>
                <a:lnTo>
                  <a:pt x="5349" y="148546"/>
                </a:lnTo>
                <a:lnTo>
                  <a:pt x="3395" y="158297"/>
                </a:lnTo>
                <a:lnTo>
                  <a:pt x="2092" y="168185"/>
                </a:lnTo>
                <a:lnTo>
                  <a:pt x="1223" y="178163"/>
                </a:lnTo>
                <a:lnTo>
                  <a:pt x="643" y="187355"/>
                </a:lnTo>
                <a:lnTo>
                  <a:pt x="0" y="204342"/>
                </a:lnTo>
                <a:lnTo>
                  <a:pt x="1521" y="211582"/>
                </a:lnTo>
                <a:lnTo>
                  <a:pt x="4230" y="218101"/>
                </a:lnTo>
                <a:lnTo>
                  <a:pt x="7728" y="224141"/>
                </a:lnTo>
                <a:lnTo>
                  <a:pt x="11753" y="229861"/>
                </a:lnTo>
                <a:lnTo>
                  <a:pt x="16130" y="235367"/>
                </a:lnTo>
                <a:lnTo>
                  <a:pt x="20743" y="240731"/>
                </a:lnTo>
                <a:lnTo>
                  <a:pt x="25511" y="245154"/>
                </a:lnTo>
                <a:lnTo>
                  <a:pt x="30382" y="248949"/>
                </a:lnTo>
                <a:lnTo>
                  <a:pt x="35323" y="252327"/>
                </a:lnTo>
                <a:lnTo>
                  <a:pt x="41157" y="253731"/>
                </a:lnTo>
                <a:lnTo>
                  <a:pt x="47587" y="253821"/>
                </a:lnTo>
                <a:lnTo>
                  <a:pt x="54413" y="253034"/>
                </a:lnTo>
                <a:lnTo>
                  <a:pt x="61504" y="251663"/>
                </a:lnTo>
                <a:lnTo>
                  <a:pt x="68771" y="249902"/>
                </a:lnTo>
                <a:lnTo>
                  <a:pt x="76156" y="247882"/>
                </a:lnTo>
                <a:lnTo>
                  <a:pt x="83619" y="243994"/>
                </a:lnTo>
                <a:lnTo>
                  <a:pt x="91134" y="238864"/>
                </a:lnTo>
                <a:lnTo>
                  <a:pt x="98685" y="232902"/>
                </a:lnTo>
                <a:lnTo>
                  <a:pt x="105412" y="225541"/>
                </a:lnTo>
                <a:lnTo>
                  <a:pt x="111589" y="217248"/>
                </a:lnTo>
                <a:lnTo>
                  <a:pt x="117402" y="208332"/>
                </a:lnTo>
                <a:lnTo>
                  <a:pt x="122970" y="198154"/>
                </a:lnTo>
                <a:lnTo>
                  <a:pt x="128375" y="187136"/>
                </a:lnTo>
                <a:lnTo>
                  <a:pt x="138897" y="164452"/>
                </a:lnTo>
                <a:lnTo>
                  <a:pt x="149217" y="143081"/>
                </a:lnTo>
                <a:lnTo>
                  <a:pt x="152647" y="131794"/>
                </a:lnTo>
                <a:lnTo>
                  <a:pt x="154933" y="120036"/>
                </a:lnTo>
                <a:lnTo>
                  <a:pt x="156457" y="107964"/>
                </a:lnTo>
                <a:lnTo>
                  <a:pt x="157474" y="97376"/>
                </a:lnTo>
                <a:lnTo>
                  <a:pt x="158150" y="87777"/>
                </a:lnTo>
                <a:lnTo>
                  <a:pt x="158602" y="78838"/>
                </a:lnTo>
                <a:lnTo>
                  <a:pt x="159103" y="62132"/>
                </a:lnTo>
                <a:lnTo>
                  <a:pt x="159237" y="54122"/>
                </a:lnTo>
                <a:lnTo>
                  <a:pt x="157633" y="46241"/>
                </a:lnTo>
                <a:lnTo>
                  <a:pt x="154871" y="38447"/>
                </a:lnTo>
                <a:lnTo>
                  <a:pt x="151335" y="30712"/>
                </a:lnTo>
                <a:lnTo>
                  <a:pt x="148132" y="24708"/>
                </a:lnTo>
                <a:lnTo>
                  <a:pt x="145150" y="19859"/>
                </a:lnTo>
                <a:lnTo>
                  <a:pt x="142315" y="15779"/>
                </a:lnTo>
                <a:lnTo>
                  <a:pt x="138732" y="12213"/>
                </a:lnTo>
                <a:lnTo>
                  <a:pt x="134649" y="8988"/>
                </a:lnTo>
                <a:lnTo>
                  <a:pt x="130234" y="5992"/>
                </a:lnTo>
                <a:lnTo>
                  <a:pt x="126445" y="3995"/>
                </a:lnTo>
                <a:lnTo>
                  <a:pt x="123072" y="2663"/>
                </a:lnTo>
                <a:lnTo>
                  <a:pt x="113785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0" y="8380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3) Applicatio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Find the valu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the triangle be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352680" y="1523880"/>
            <a:ext cx="5619960" cy="4181400"/>
            <a:chOff x="3352680" y="1523880"/>
            <a:chExt cx="5619960" cy="4181400"/>
          </a:xfrm>
        </p:grpSpPr>
        <p:pic>
          <p:nvPicPr>
            <p:cNvPr id="430" name="Picture 8" descr=""/>
            <p:cNvPicPr/>
            <p:nvPr/>
          </p:nvPicPr>
          <p:blipFill>
            <a:blip r:embed="rId1"/>
            <a:stretch/>
          </p:blipFill>
          <p:spPr>
            <a:xfrm>
              <a:off x="3352680" y="1523880"/>
              <a:ext cx="5619960" cy="4181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1" name="Object 2"/>
            <p:cNvGraphicFramePr/>
            <p:nvPr/>
          </p:nvGraphicFramePr>
          <p:xfrm>
            <a:off x="4191120" y="4927320"/>
            <a:ext cx="63000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2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927320"/>
                      <a:ext cx="6300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3" name="Object 3"/>
            <p:cNvGraphicFramePr/>
            <p:nvPr/>
          </p:nvGraphicFramePr>
          <p:xfrm>
            <a:off x="7848720" y="4927320"/>
            <a:ext cx="649080" cy="474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4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48720" y="4927320"/>
                      <a:ext cx="64908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5" name="Object 4"/>
            <p:cNvGraphicFramePr/>
            <p:nvPr/>
          </p:nvGraphicFramePr>
          <p:xfrm>
            <a:off x="5029200" y="1650600"/>
            <a:ext cx="1571760" cy="577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6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1650600"/>
                      <a:ext cx="157176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7" name="Line 12"/>
            <p:cNvSpPr/>
            <p:nvPr/>
          </p:nvSpPr>
          <p:spPr>
            <a:xfrm>
              <a:off x="6553080" y="203184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7187"/>
          <p:cNvGrpSpPr/>
          <p:nvPr/>
        </p:nvGrpSpPr>
        <p:grpSpPr>
          <a:xfrm>
            <a:off x="212760" y="1562040"/>
            <a:ext cx="4903920" cy="2697120"/>
            <a:chOff x="212760" y="1562040"/>
            <a:chExt cx="4903920" cy="2697120"/>
          </a:xfrm>
        </p:grpSpPr>
        <p:sp>
          <p:nvSpPr>
            <p:cNvPr id="439" name="SMARTInkAnnotation186"/>
            <p:cNvSpPr/>
            <p:nvPr/>
          </p:nvSpPr>
          <p:spPr>
            <a:xfrm>
              <a:off x="372600" y="1767600"/>
              <a:ext cx="236160" cy="2361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6178" h="236221">
                  <a:moveTo>
                    <a:pt x="167597" y="0"/>
                  </a:moveTo>
                  <a:lnTo>
                    <a:pt x="167597" y="4045"/>
                  </a:lnTo>
                  <a:lnTo>
                    <a:pt x="166750" y="6084"/>
                  </a:lnTo>
                  <a:lnTo>
                    <a:pt x="162360" y="12998"/>
                  </a:lnTo>
                  <a:lnTo>
                    <a:pt x="161036" y="17912"/>
                  </a:lnTo>
                  <a:lnTo>
                    <a:pt x="158190" y="22919"/>
                  </a:lnTo>
                  <a:lnTo>
                    <a:pt x="154103" y="28813"/>
                  </a:lnTo>
                  <a:lnTo>
                    <a:pt x="151827" y="32755"/>
                  </a:lnTo>
                  <a:lnTo>
                    <a:pt x="147042" y="41651"/>
                  </a:lnTo>
                  <a:lnTo>
                    <a:pt x="142092" y="51250"/>
                  </a:lnTo>
                  <a:lnTo>
                    <a:pt x="138741" y="56180"/>
                  </a:lnTo>
                  <a:lnTo>
                    <a:pt x="134813" y="61160"/>
                  </a:lnTo>
                  <a:lnTo>
                    <a:pt x="130501" y="66173"/>
                  </a:lnTo>
                  <a:lnTo>
                    <a:pt x="125933" y="71209"/>
                  </a:lnTo>
                  <a:lnTo>
                    <a:pt x="116342" y="81320"/>
                  </a:lnTo>
                  <a:lnTo>
                    <a:pt x="101422" y="96532"/>
                  </a:lnTo>
                  <a:lnTo>
                    <a:pt x="97234" y="101608"/>
                  </a:lnTo>
                  <a:lnTo>
                    <a:pt x="93595" y="106685"/>
                  </a:lnTo>
                  <a:lnTo>
                    <a:pt x="90322" y="111764"/>
                  </a:lnTo>
                  <a:lnTo>
                    <a:pt x="85600" y="116842"/>
                  </a:lnTo>
                  <a:lnTo>
                    <a:pt x="79913" y="121921"/>
                  </a:lnTo>
                  <a:lnTo>
                    <a:pt x="73581" y="127001"/>
                  </a:lnTo>
                  <a:lnTo>
                    <a:pt x="67666" y="132081"/>
                  </a:lnTo>
                  <a:lnTo>
                    <a:pt x="62030" y="137161"/>
                  </a:lnTo>
                  <a:lnTo>
                    <a:pt x="51252" y="147320"/>
                  </a:lnTo>
                  <a:lnTo>
                    <a:pt x="25422" y="172720"/>
                  </a:lnTo>
                  <a:lnTo>
                    <a:pt x="21167" y="177800"/>
                  </a:lnTo>
                  <a:lnTo>
                    <a:pt x="17484" y="182880"/>
                  </a:lnTo>
                  <a:lnTo>
                    <a:pt x="14182" y="187960"/>
                  </a:lnTo>
                  <a:lnTo>
                    <a:pt x="11133" y="192194"/>
                  </a:lnTo>
                  <a:lnTo>
                    <a:pt x="5489" y="199155"/>
                  </a:lnTo>
                  <a:lnTo>
                    <a:pt x="2416" y="205071"/>
                  </a:lnTo>
                  <a:lnTo>
                    <a:pt x="1050" y="210523"/>
                  </a:lnTo>
                  <a:lnTo>
                    <a:pt x="281" y="217505"/>
                  </a:lnTo>
                  <a:lnTo>
                    <a:pt x="0" y="224568"/>
                  </a:lnTo>
                  <a:lnTo>
                    <a:pt x="1679" y="225912"/>
                  </a:lnTo>
                  <a:lnTo>
                    <a:pt x="8060" y="227405"/>
                  </a:lnTo>
                  <a:lnTo>
                    <a:pt x="12132" y="227804"/>
                  </a:lnTo>
                  <a:lnTo>
                    <a:pt x="16541" y="228069"/>
                  </a:lnTo>
                  <a:lnTo>
                    <a:pt x="21173" y="228246"/>
                  </a:lnTo>
                  <a:lnTo>
                    <a:pt x="39828" y="228495"/>
                  </a:lnTo>
                  <a:lnTo>
                    <a:pt x="61442" y="228569"/>
                  </a:lnTo>
                  <a:lnTo>
                    <a:pt x="68887" y="227733"/>
                  </a:lnTo>
                  <a:lnTo>
                    <a:pt x="76390" y="226329"/>
                  </a:lnTo>
                  <a:lnTo>
                    <a:pt x="83932" y="224546"/>
                  </a:lnTo>
                  <a:lnTo>
                    <a:pt x="91501" y="223357"/>
                  </a:lnTo>
                  <a:lnTo>
                    <a:pt x="99086" y="222565"/>
                  </a:lnTo>
                  <a:lnTo>
                    <a:pt x="106683" y="222037"/>
                  </a:lnTo>
                  <a:lnTo>
                    <a:pt x="113441" y="221684"/>
                  </a:lnTo>
                  <a:lnTo>
                    <a:pt x="125465" y="221293"/>
                  </a:lnTo>
                  <a:lnTo>
                    <a:pt x="163867" y="221008"/>
                  </a:lnTo>
                  <a:lnTo>
                    <a:pt x="191387" y="220983"/>
                  </a:lnTo>
                  <a:lnTo>
                    <a:pt x="194464" y="221828"/>
                  </a:lnTo>
                  <a:lnTo>
                    <a:pt x="200140" y="225026"/>
                  </a:lnTo>
                  <a:lnTo>
                    <a:pt x="203686" y="226217"/>
                  </a:lnTo>
                  <a:lnTo>
                    <a:pt x="207743" y="227011"/>
                  </a:lnTo>
                  <a:lnTo>
                    <a:pt x="218331" y="228286"/>
                  </a:lnTo>
                  <a:lnTo>
                    <a:pt x="224210" y="228507"/>
                  </a:lnTo>
                  <a:lnTo>
                    <a:pt x="226506" y="229385"/>
                  </a:lnTo>
                  <a:lnTo>
                    <a:pt x="232935" y="233819"/>
                  </a:lnTo>
                  <a:lnTo>
                    <a:pt x="236177" y="2362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MARTInkAnnotation187"/>
            <p:cNvSpPr/>
            <p:nvPr/>
          </p:nvSpPr>
          <p:spPr>
            <a:xfrm>
              <a:off x="837360" y="1562040"/>
              <a:ext cx="532800" cy="4798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532952" h="480021">
                  <a:moveTo>
                    <a:pt x="0" y="434300"/>
                  </a:moveTo>
                  <a:lnTo>
                    <a:pt x="0" y="427739"/>
                  </a:lnTo>
                  <a:lnTo>
                    <a:pt x="4045" y="422949"/>
                  </a:lnTo>
                  <a:lnTo>
                    <a:pt x="18234" y="412898"/>
                  </a:lnTo>
                  <a:lnTo>
                    <a:pt x="28169" y="400207"/>
                  </a:lnTo>
                  <a:lnTo>
                    <a:pt x="41460" y="385722"/>
                  </a:lnTo>
                  <a:lnTo>
                    <a:pt x="66148" y="360598"/>
                  </a:lnTo>
                  <a:lnTo>
                    <a:pt x="73991" y="348204"/>
                  </a:lnTo>
                  <a:lnTo>
                    <a:pt x="81145" y="334228"/>
                  </a:lnTo>
                  <a:lnTo>
                    <a:pt x="89969" y="319551"/>
                  </a:lnTo>
                  <a:lnTo>
                    <a:pt x="101793" y="304560"/>
                  </a:lnTo>
                  <a:lnTo>
                    <a:pt x="108502" y="297007"/>
                  </a:lnTo>
                  <a:lnTo>
                    <a:pt x="113821" y="289431"/>
                  </a:lnTo>
                  <a:lnTo>
                    <a:pt x="118214" y="281841"/>
                  </a:lnTo>
                  <a:lnTo>
                    <a:pt x="121990" y="274241"/>
                  </a:lnTo>
                  <a:lnTo>
                    <a:pt x="126200" y="266634"/>
                  </a:lnTo>
                  <a:lnTo>
                    <a:pt x="130700" y="259022"/>
                  </a:lnTo>
                  <a:lnTo>
                    <a:pt x="140216" y="243792"/>
                  </a:lnTo>
                  <a:lnTo>
                    <a:pt x="165168" y="205699"/>
                  </a:lnTo>
                  <a:lnTo>
                    <a:pt x="169379" y="197233"/>
                  </a:lnTo>
                  <a:lnTo>
                    <a:pt x="173032" y="188202"/>
                  </a:lnTo>
                  <a:lnTo>
                    <a:pt x="176315" y="178795"/>
                  </a:lnTo>
                  <a:lnTo>
                    <a:pt x="184478" y="163827"/>
                  </a:lnTo>
                  <a:lnTo>
                    <a:pt x="192904" y="150683"/>
                  </a:lnTo>
                  <a:lnTo>
                    <a:pt x="199471" y="136375"/>
                  </a:lnTo>
                  <a:lnTo>
                    <a:pt x="207469" y="121549"/>
                  </a:lnTo>
                  <a:lnTo>
                    <a:pt x="211973" y="114039"/>
                  </a:lnTo>
                  <a:lnTo>
                    <a:pt x="215822" y="106493"/>
                  </a:lnTo>
                  <a:lnTo>
                    <a:pt x="219234" y="98922"/>
                  </a:lnTo>
                  <a:lnTo>
                    <a:pt x="225284" y="84583"/>
                  </a:lnTo>
                  <a:lnTo>
                    <a:pt x="230795" y="72566"/>
                  </a:lnTo>
                  <a:lnTo>
                    <a:pt x="238658" y="56280"/>
                  </a:lnTo>
                  <a:lnTo>
                    <a:pt x="246052" y="45876"/>
                  </a:lnTo>
                  <a:lnTo>
                    <a:pt x="253290" y="36454"/>
                  </a:lnTo>
                  <a:lnTo>
                    <a:pt x="260194" y="23506"/>
                  </a:lnTo>
                  <a:lnTo>
                    <a:pt x="271080" y="10210"/>
                  </a:lnTo>
                  <a:lnTo>
                    <a:pt x="272880" y="5080"/>
                  </a:lnTo>
                  <a:lnTo>
                    <a:pt x="274207" y="3373"/>
                  </a:lnTo>
                  <a:lnTo>
                    <a:pt x="275938" y="2236"/>
                  </a:lnTo>
                  <a:lnTo>
                    <a:pt x="281836" y="0"/>
                  </a:lnTo>
                  <a:lnTo>
                    <a:pt x="281909" y="4017"/>
                  </a:lnTo>
                  <a:lnTo>
                    <a:pt x="282766" y="6051"/>
                  </a:lnTo>
                  <a:lnTo>
                    <a:pt x="288017" y="12960"/>
                  </a:lnTo>
                  <a:lnTo>
                    <a:pt x="294935" y="21216"/>
                  </a:lnTo>
                  <a:lnTo>
                    <a:pt x="299851" y="29445"/>
                  </a:lnTo>
                  <a:lnTo>
                    <a:pt x="302601" y="38747"/>
                  </a:lnTo>
                  <a:lnTo>
                    <a:pt x="304669" y="49372"/>
                  </a:lnTo>
                  <a:lnTo>
                    <a:pt x="308411" y="62561"/>
                  </a:lnTo>
                  <a:lnTo>
                    <a:pt x="312896" y="74631"/>
                  </a:lnTo>
                  <a:lnTo>
                    <a:pt x="317712" y="86487"/>
                  </a:lnTo>
                  <a:lnTo>
                    <a:pt x="322674" y="100223"/>
                  </a:lnTo>
                  <a:lnTo>
                    <a:pt x="337828" y="144846"/>
                  </a:lnTo>
                  <a:lnTo>
                    <a:pt x="340366" y="153277"/>
                  </a:lnTo>
                  <a:lnTo>
                    <a:pt x="345442" y="171677"/>
                  </a:lnTo>
                  <a:lnTo>
                    <a:pt x="348828" y="180478"/>
                  </a:lnTo>
                  <a:lnTo>
                    <a:pt x="352779" y="188885"/>
                  </a:lnTo>
                  <a:lnTo>
                    <a:pt x="357106" y="197030"/>
                  </a:lnTo>
                  <a:lnTo>
                    <a:pt x="360837" y="205847"/>
                  </a:lnTo>
                  <a:lnTo>
                    <a:pt x="364171" y="215111"/>
                  </a:lnTo>
                  <a:lnTo>
                    <a:pt x="375606" y="250269"/>
                  </a:lnTo>
                  <a:lnTo>
                    <a:pt x="379098" y="259119"/>
                  </a:lnTo>
                  <a:lnTo>
                    <a:pt x="383118" y="268406"/>
                  </a:lnTo>
                  <a:lnTo>
                    <a:pt x="387492" y="277984"/>
                  </a:lnTo>
                  <a:lnTo>
                    <a:pt x="392102" y="286910"/>
                  </a:lnTo>
                  <a:lnTo>
                    <a:pt x="396868" y="295400"/>
                  </a:lnTo>
                  <a:lnTo>
                    <a:pt x="401738" y="303600"/>
                  </a:lnTo>
                  <a:lnTo>
                    <a:pt x="411666" y="319484"/>
                  </a:lnTo>
                  <a:lnTo>
                    <a:pt x="441976" y="365675"/>
                  </a:lnTo>
                  <a:lnTo>
                    <a:pt x="452127" y="380093"/>
                  </a:lnTo>
                  <a:lnTo>
                    <a:pt x="462283" y="392146"/>
                  </a:lnTo>
                  <a:lnTo>
                    <a:pt x="472442" y="405405"/>
                  </a:lnTo>
                  <a:lnTo>
                    <a:pt x="482601" y="418918"/>
                  </a:lnTo>
                  <a:lnTo>
                    <a:pt x="492761" y="430568"/>
                  </a:lnTo>
                  <a:lnTo>
                    <a:pt x="503955" y="442602"/>
                  </a:lnTo>
                  <a:lnTo>
                    <a:pt x="512634" y="455575"/>
                  </a:lnTo>
                  <a:lnTo>
                    <a:pt x="520568" y="466098"/>
                  </a:lnTo>
                  <a:lnTo>
                    <a:pt x="523152" y="468199"/>
                  </a:lnTo>
                  <a:lnTo>
                    <a:pt x="525721" y="469599"/>
                  </a:lnTo>
                  <a:lnTo>
                    <a:pt x="528281" y="470533"/>
                  </a:lnTo>
                  <a:lnTo>
                    <a:pt x="529987" y="472002"/>
                  </a:lnTo>
                  <a:lnTo>
                    <a:pt x="531125" y="473828"/>
                  </a:lnTo>
                  <a:lnTo>
                    <a:pt x="532951" y="478797"/>
                  </a:lnTo>
                  <a:lnTo>
                    <a:pt x="532254" y="479205"/>
                  </a:lnTo>
                  <a:lnTo>
                    <a:pt x="527228" y="479779"/>
                  </a:lnTo>
                  <a:lnTo>
                    <a:pt x="512138" y="479999"/>
                  </a:lnTo>
                  <a:lnTo>
                    <a:pt x="42223" y="480020"/>
                  </a:lnTo>
                  <a:lnTo>
                    <a:pt x="37463" y="479173"/>
                  </a:lnTo>
                  <a:lnTo>
                    <a:pt x="23737" y="473989"/>
                  </a:lnTo>
                  <a:lnTo>
                    <a:pt x="15240" y="472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MARTInkAnnotation188"/>
            <p:cNvSpPr/>
            <p:nvPr/>
          </p:nvSpPr>
          <p:spPr>
            <a:xfrm>
              <a:off x="1500480" y="1839240"/>
              <a:ext cx="205560" cy="11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05741" h="12010">
                  <a:moveTo>
                    <a:pt x="0" y="12009"/>
                  </a:moveTo>
                  <a:lnTo>
                    <a:pt x="10606" y="12009"/>
                  </a:lnTo>
                  <a:lnTo>
                    <a:pt x="12997" y="11162"/>
                  </a:lnTo>
                  <a:lnTo>
                    <a:pt x="15438" y="9751"/>
                  </a:lnTo>
                  <a:lnTo>
                    <a:pt x="17912" y="7964"/>
                  </a:lnTo>
                  <a:lnTo>
                    <a:pt x="21255" y="6772"/>
                  </a:lnTo>
                  <a:lnTo>
                    <a:pt x="25177" y="5978"/>
                  </a:lnTo>
                  <a:lnTo>
                    <a:pt x="29485" y="5448"/>
                  </a:lnTo>
                  <a:lnTo>
                    <a:pt x="34050" y="5095"/>
                  </a:lnTo>
                  <a:lnTo>
                    <a:pt x="38787" y="4860"/>
                  </a:lnTo>
                  <a:lnTo>
                    <a:pt x="43638" y="4703"/>
                  </a:lnTo>
                  <a:lnTo>
                    <a:pt x="86822" y="4416"/>
                  </a:lnTo>
                  <a:lnTo>
                    <a:pt x="107569" y="4397"/>
                  </a:lnTo>
                  <a:lnTo>
                    <a:pt x="114893" y="3548"/>
                  </a:lnTo>
                  <a:lnTo>
                    <a:pt x="122315" y="2135"/>
                  </a:lnTo>
                  <a:lnTo>
                    <a:pt x="129804" y="346"/>
                  </a:lnTo>
                  <a:lnTo>
                    <a:pt x="136489" y="0"/>
                  </a:lnTo>
                  <a:lnTo>
                    <a:pt x="142640" y="617"/>
                  </a:lnTo>
                  <a:lnTo>
                    <a:pt x="148433" y="1874"/>
                  </a:lnTo>
                  <a:lnTo>
                    <a:pt x="153989" y="2712"/>
                  </a:lnTo>
                  <a:lnTo>
                    <a:pt x="159386" y="3271"/>
                  </a:lnTo>
                  <a:lnTo>
                    <a:pt x="169052" y="3892"/>
                  </a:lnTo>
                  <a:lnTo>
                    <a:pt x="176170" y="4168"/>
                  </a:lnTo>
                  <a:lnTo>
                    <a:pt x="184937" y="4323"/>
                  </a:lnTo>
                  <a:lnTo>
                    <a:pt x="205740" y="43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MARTInkAnnotation189"/>
            <p:cNvSpPr/>
            <p:nvPr/>
          </p:nvSpPr>
          <p:spPr>
            <a:xfrm>
              <a:off x="1492920" y="194292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15240"/>
                  </a:moveTo>
                  <a:lnTo>
                    <a:pt x="37097" y="15240"/>
                  </a:lnTo>
                  <a:lnTo>
                    <a:pt x="41664" y="14393"/>
                  </a:lnTo>
                  <a:lnTo>
                    <a:pt x="46403" y="12982"/>
                  </a:lnTo>
                  <a:lnTo>
                    <a:pt x="51256" y="11195"/>
                  </a:lnTo>
                  <a:lnTo>
                    <a:pt x="57030" y="10003"/>
                  </a:lnTo>
                  <a:lnTo>
                    <a:pt x="63420" y="9209"/>
                  </a:lnTo>
                  <a:lnTo>
                    <a:pt x="70220" y="8679"/>
                  </a:lnTo>
                  <a:lnTo>
                    <a:pt x="77294" y="8326"/>
                  </a:lnTo>
                  <a:lnTo>
                    <a:pt x="91926" y="7934"/>
                  </a:lnTo>
                  <a:lnTo>
                    <a:pt x="99384" y="6983"/>
                  </a:lnTo>
                  <a:lnTo>
                    <a:pt x="106896" y="5502"/>
                  </a:lnTo>
                  <a:lnTo>
                    <a:pt x="114444" y="3668"/>
                  </a:lnTo>
                  <a:lnTo>
                    <a:pt x="122016" y="2445"/>
                  </a:lnTo>
                  <a:lnTo>
                    <a:pt x="129604" y="1630"/>
                  </a:lnTo>
                  <a:lnTo>
                    <a:pt x="137203" y="1087"/>
                  </a:lnTo>
                  <a:lnTo>
                    <a:pt x="144809" y="725"/>
                  </a:lnTo>
                  <a:lnTo>
                    <a:pt x="160033" y="322"/>
                  </a:lnTo>
                  <a:lnTo>
                    <a:pt x="2895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MARTInkAnnotation190"/>
            <p:cNvSpPr/>
            <p:nvPr/>
          </p:nvSpPr>
          <p:spPr>
            <a:xfrm>
              <a:off x="2003760" y="1721880"/>
              <a:ext cx="75600" cy="266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848" h="266701">
                  <a:moveTo>
                    <a:pt x="75847" y="0"/>
                  </a:moveTo>
                  <a:lnTo>
                    <a:pt x="75847" y="4045"/>
                  </a:lnTo>
                  <a:lnTo>
                    <a:pt x="75000" y="5237"/>
                  </a:lnTo>
                  <a:lnTo>
                    <a:pt x="73589" y="6031"/>
                  </a:lnTo>
                  <a:lnTo>
                    <a:pt x="71802" y="6561"/>
                  </a:lnTo>
                  <a:lnTo>
                    <a:pt x="70610" y="7760"/>
                  </a:lnTo>
                  <a:lnTo>
                    <a:pt x="69816" y="9407"/>
                  </a:lnTo>
                  <a:lnTo>
                    <a:pt x="69286" y="11351"/>
                  </a:lnTo>
                  <a:lnTo>
                    <a:pt x="68086" y="13494"/>
                  </a:lnTo>
                  <a:lnTo>
                    <a:pt x="66440" y="15769"/>
                  </a:lnTo>
                  <a:lnTo>
                    <a:pt x="64496" y="18133"/>
                  </a:lnTo>
                  <a:lnTo>
                    <a:pt x="63199" y="21402"/>
                  </a:lnTo>
                  <a:lnTo>
                    <a:pt x="61759" y="29550"/>
                  </a:lnTo>
                  <a:lnTo>
                    <a:pt x="60528" y="34093"/>
                  </a:lnTo>
                  <a:lnTo>
                    <a:pt x="58861" y="38815"/>
                  </a:lnTo>
                  <a:lnTo>
                    <a:pt x="56903" y="43657"/>
                  </a:lnTo>
                  <a:lnTo>
                    <a:pt x="52470" y="55810"/>
                  </a:lnTo>
                  <a:lnTo>
                    <a:pt x="50102" y="62607"/>
                  </a:lnTo>
                  <a:lnTo>
                    <a:pt x="48524" y="69678"/>
                  </a:lnTo>
                  <a:lnTo>
                    <a:pt x="47471" y="76932"/>
                  </a:lnTo>
                  <a:lnTo>
                    <a:pt x="46770" y="84308"/>
                  </a:lnTo>
                  <a:lnTo>
                    <a:pt x="45456" y="90919"/>
                  </a:lnTo>
                  <a:lnTo>
                    <a:pt x="43733" y="97019"/>
                  </a:lnTo>
                  <a:lnTo>
                    <a:pt x="34884" y="123022"/>
                  </a:lnTo>
                  <a:lnTo>
                    <a:pt x="32452" y="131121"/>
                  </a:lnTo>
                  <a:lnTo>
                    <a:pt x="27492" y="149152"/>
                  </a:lnTo>
                  <a:lnTo>
                    <a:pt x="24983" y="157008"/>
                  </a:lnTo>
                  <a:lnTo>
                    <a:pt x="22465" y="163938"/>
                  </a:lnTo>
                  <a:lnTo>
                    <a:pt x="19939" y="170252"/>
                  </a:lnTo>
                  <a:lnTo>
                    <a:pt x="14875" y="184041"/>
                  </a:lnTo>
                  <a:lnTo>
                    <a:pt x="12339" y="191274"/>
                  </a:lnTo>
                  <a:lnTo>
                    <a:pt x="10648" y="197789"/>
                  </a:lnTo>
                  <a:lnTo>
                    <a:pt x="9521" y="203826"/>
                  </a:lnTo>
                  <a:lnTo>
                    <a:pt x="8770" y="209544"/>
                  </a:lnTo>
                  <a:lnTo>
                    <a:pt x="7422" y="215049"/>
                  </a:lnTo>
                  <a:lnTo>
                    <a:pt x="5677" y="220413"/>
                  </a:lnTo>
                  <a:lnTo>
                    <a:pt x="3667" y="225682"/>
                  </a:lnTo>
                  <a:lnTo>
                    <a:pt x="2327" y="230888"/>
                  </a:lnTo>
                  <a:lnTo>
                    <a:pt x="1434" y="236052"/>
                  </a:lnTo>
                  <a:lnTo>
                    <a:pt x="838" y="241188"/>
                  </a:lnTo>
                  <a:lnTo>
                    <a:pt x="177" y="249152"/>
                  </a:lnTo>
                  <a:lnTo>
                    <a:pt x="0" y="252462"/>
                  </a:lnTo>
                  <a:lnTo>
                    <a:pt x="729" y="255514"/>
                  </a:lnTo>
                  <a:lnTo>
                    <a:pt x="2062" y="258396"/>
                  </a:lnTo>
                  <a:lnTo>
                    <a:pt x="7267" y="2667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MARTInkAnnotation191"/>
            <p:cNvSpPr/>
            <p:nvPr/>
          </p:nvSpPr>
          <p:spPr>
            <a:xfrm>
              <a:off x="2171160" y="1691280"/>
              <a:ext cx="113760" cy="151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784" h="152257">
                  <a:moveTo>
                    <a:pt x="98916" y="7620"/>
                  </a:moveTo>
                  <a:lnTo>
                    <a:pt x="98916" y="93"/>
                  </a:lnTo>
                  <a:lnTo>
                    <a:pt x="96658" y="2299"/>
                  </a:lnTo>
                  <a:lnTo>
                    <a:pt x="84265" y="14660"/>
                  </a:lnTo>
                  <a:lnTo>
                    <a:pt x="79835" y="18240"/>
                  </a:lnTo>
                  <a:lnTo>
                    <a:pt x="75189" y="21473"/>
                  </a:lnTo>
                  <a:lnTo>
                    <a:pt x="70398" y="24476"/>
                  </a:lnTo>
                  <a:lnTo>
                    <a:pt x="65511" y="29017"/>
                  </a:lnTo>
                  <a:lnTo>
                    <a:pt x="60559" y="34585"/>
                  </a:lnTo>
                  <a:lnTo>
                    <a:pt x="55565" y="40837"/>
                  </a:lnTo>
                  <a:lnTo>
                    <a:pt x="50542" y="46698"/>
                  </a:lnTo>
                  <a:lnTo>
                    <a:pt x="45500" y="52299"/>
                  </a:lnTo>
                  <a:lnTo>
                    <a:pt x="40445" y="57726"/>
                  </a:lnTo>
                  <a:lnTo>
                    <a:pt x="35382" y="63884"/>
                  </a:lnTo>
                  <a:lnTo>
                    <a:pt x="30313" y="70529"/>
                  </a:lnTo>
                  <a:lnTo>
                    <a:pt x="25241" y="77499"/>
                  </a:lnTo>
                  <a:lnTo>
                    <a:pt x="21013" y="83840"/>
                  </a:lnTo>
                  <a:lnTo>
                    <a:pt x="17347" y="89760"/>
                  </a:lnTo>
                  <a:lnTo>
                    <a:pt x="14056" y="95400"/>
                  </a:lnTo>
                  <a:lnTo>
                    <a:pt x="8143" y="106182"/>
                  </a:lnTo>
                  <a:lnTo>
                    <a:pt x="5381" y="111428"/>
                  </a:lnTo>
                  <a:lnTo>
                    <a:pt x="3539" y="116619"/>
                  </a:lnTo>
                  <a:lnTo>
                    <a:pt x="2311" y="121772"/>
                  </a:lnTo>
                  <a:lnTo>
                    <a:pt x="1493" y="126902"/>
                  </a:lnTo>
                  <a:lnTo>
                    <a:pt x="947" y="131168"/>
                  </a:lnTo>
                  <a:lnTo>
                    <a:pt x="584" y="134859"/>
                  </a:lnTo>
                  <a:lnTo>
                    <a:pt x="341" y="138166"/>
                  </a:lnTo>
                  <a:lnTo>
                    <a:pt x="179" y="141217"/>
                  </a:lnTo>
                  <a:lnTo>
                    <a:pt x="0" y="146865"/>
                  </a:lnTo>
                  <a:lnTo>
                    <a:pt x="799" y="148710"/>
                  </a:lnTo>
                  <a:lnTo>
                    <a:pt x="2178" y="149940"/>
                  </a:lnTo>
                  <a:lnTo>
                    <a:pt x="3944" y="150760"/>
                  </a:lnTo>
                  <a:lnTo>
                    <a:pt x="5968" y="151307"/>
                  </a:lnTo>
                  <a:lnTo>
                    <a:pt x="8164" y="151671"/>
                  </a:lnTo>
                  <a:lnTo>
                    <a:pt x="10475" y="151914"/>
                  </a:lnTo>
                  <a:lnTo>
                    <a:pt x="13708" y="152076"/>
                  </a:lnTo>
                  <a:lnTo>
                    <a:pt x="21817" y="152256"/>
                  </a:lnTo>
                  <a:lnTo>
                    <a:pt x="26350" y="151457"/>
                  </a:lnTo>
                  <a:lnTo>
                    <a:pt x="31066" y="150078"/>
                  </a:lnTo>
                  <a:lnTo>
                    <a:pt x="35902" y="148312"/>
                  </a:lnTo>
                  <a:lnTo>
                    <a:pt x="40820" y="146288"/>
                  </a:lnTo>
                  <a:lnTo>
                    <a:pt x="45792" y="144092"/>
                  </a:lnTo>
                  <a:lnTo>
                    <a:pt x="50800" y="141781"/>
                  </a:lnTo>
                  <a:lnTo>
                    <a:pt x="55832" y="137701"/>
                  </a:lnTo>
                  <a:lnTo>
                    <a:pt x="60880" y="132441"/>
                  </a:lnTo>
                  <a:lnTo>
                    <a:pt x="65939" y="126394"/>
                  </a:lnTo>
                  <a:lnTo>
                    <a:pt x="71851" y="120669"/>
                  </a:lnTo>
                  <a:lnTo>
                    <a:pt x="78333" y="115160"/>
                  </a:lnTo>
                  <a:lnTo>
                    <a:pt x="85194" y="109793"/>
                  </a:lnTo>
                  <a:lnTo>
                    <a:pt x="90615" y="103675"/>
                  </a:lnTo>
                  <a:lnTo>
                    <a:pt x="95075" y="97057"/>
                  </a:lnTo>
                  <a:lnTo>
                    <a:pt x="98895" y="90105"/>
                  </a:lnTo>
                  <a:lnTo>
                    <a:pt x="101442" y="82930"/>
                  </a:lnTo>
                  <a:lnTo>
                    <a:pt x="103140" y="75607"/>
                  </a:lnTo>
                  <a:lnTo>
                    <a:pt x="104272" y="68184"/>
                  </a:lnTo>
                  <a:lnTo>
                    <a:pt x="105874" y="60696"/>
                  </a:lnTo>
                  <a:lnTo>
                    <a:pt x="107788" y="53164"/>
                  </a:lnTo>
                  <a:lnTo>
                    <a:pt x="109911" y="45603"/>
                  </a:lnTo>
                  <a:lnTo>
                    <a:pt x="111326" y="39715"/>
                  </a:lnTo>
                  <a:lnTo>
                    <a:pt x="112269" y="34944"/>
                  </a:lnTo>
                  <a:lnTo>
                    <a:pt x="112898" y="30916"/>
                  </a:lnTo>
                  <a:lnTo>
                    <a:pt x="113317" y="26537"/>
                  </a:lnTo>
                  <a:lnTo>
                    <a:pt x="113597" y="21925"/>
                  </a:lnTo>
                  <a:lnTo>
                    <a:pt x="113783" y="17157"/>
                  </a:lnTo>
                  <a:lnTo>
                    <a:pt x="113061" y="13978"/>
                  </a:lnTo>
                  <a:lnTo>
                    <a:pt x="111733" y="11859"/>
                  </a:lnTo>
                  <a:lnTo>
                    <a:pt x="110000" y="10446"/>
                  </a:lnTo>
                  <a:lnTo>
                    <a:pt x="107999" y="8657"/>
                  </a:lnTo>
                  <a:lnTo>
                    <a:pt x="100280" y="1307"/>
                  </a:lnTo>
                  <a:lnTo>
                    <a:pt x="98978" y="872"/>
                  </a:lnTo>
                  <a:lnTo>
                    <a:pt x="97264" y="581"/>
                  </a:lnTo>
                  <a:lnTo>
                    <a:pt x="9129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MARTInkAnnotation192"/>
            <p:cNvSpPr/>
            <p:nvPr/>
          </p:nvSpPr>
          <p:spPr>
            <a:xfrm>
              <a:off x="2140920" y="1828440"/>
              <a:ext cx="151920" cy="1584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52075" h="158411">
                  <a:moveTo>
                    <a:pt x="106509" y="30480"/>
                  </a:moveTo>
                  <a:lnTo>
                    <a:pt x="99948" y="30480"/>
                  </a:lnTo>
                  <a:lnTo>
                    <a:pt x="99595" y="29633"/>
                  </a:lnTo>
                  <a:lnTo>
                    <a:pt x="99203" y="26435"/>
                  </a:lnTo>
                  <a:lnTo>
                    <a:pt x="98252" y="25243"/>
                  </a:lnTo>
                  <a:lnTo>
                    <a:pt x="96771" y="24449"/>
                  </a:lnTo>
                  <a:lnTo>
                    <a:pt x="92868" y="23566"/>
                  </a:lnTo>
                  <a:lnTo>
                    <a:pt x="88311" y="23174"/>
                  </a:lnTo>
                  <a:lnTo>
                    <a:pt x="85910" y="23916"/>
                  </a:lnTo>
                  <a:lnTo>
                    <a:pt x="83463" y="25257"/>
                  </a:lnTo>
                  <a:lnTo>
                    <a:pt x="80985" y="26998"/>
                  </a:lnTo>
                  <a:lnTo>
                    <a:pt x="77640" y="29006"/>
                  </a:lnTo>
                  <a:lnTo>
                    <a:pt x="73716" y="31190"/>
                  </a:lnTo>
                  <a:lnTo>
                    <a:pt x="69407" y="33494"/>
                  </a:lnTo>
                  <a:lnTo>
                    <a:pt x="65688" y="35876"/>
                  </a:lnTo>
                  <a:lnTo>
                    <a:pt x="62362" y="38310"/>
                  </a:lnTo>
                  <a:lnTo>
                    <a:pt x="59297" y="40780"/>
                  </a:lnTo>
                  <a:lnTo>
                    <a:pt x="55561" y="44120"/>
                  </a:lnTo>
                  <a:lnTo>
                    <a:pt x="46894" y="52347"/>
                  </a:lnTo>
                  <a:lnTo>
                    <a:pt x="17504" y="81416"/>
                  </a:lnTo>
                  <a:lnTo>
                    <a:pt x="13306" y="86451"/>
                  </a:lnTo>
                  <a:lnTo>
                    <a:pt x="9660" y="91500"/>
                  </a:lnTo>
                  <a:lnTo>
                    <a:pt x="6383" y="96560"/>
                  </a:lnTo>
                  <a:lnTo>
                    <a:pt x="4199" y="101627"/>
                  </a:lnTo>
                  <a:lnTo>
                    <a:pt x="2742" y="106698"/>
                  </a:lnTo>
                  <a:lnTo>
                    <a:pt x="1771" y="111772"/>
                  </a:lnTo>
                  <a:lnTo>
                    <a:pt x="1124" y="116001"/>
                  </a:lnTo>
                  <a:lnTo>
                    <a:pt x="692" y="119668"/>
                  </a:lnTo>
                  <a:lnTo>
                    <a:pt x="405" y="122959"/>
                  </a:lnTo>
                  <a:lnTo>
                    <a:pt x="213" y="126846"/>
                  </a:lnTo>
                  <a:lnTo>
                    <a:pt x="0" y="135680"/>
                  </a:lnTo>
                  <a:lnTo>
                    <a:pt x="1636" y="139560"/>
                  </a:lnTo>
                  <a:lnTo>
                    <a:pt x="4421" y="142993"/>
                  </a:lnTo>
                  <a:lnTo>
                    <a:pt x="7970" y="146129"/>
                  </a:lnTo>
                  <a:lnTo>
                    <a:pt x="12030" y="149066"/>
                  </a:lnTo>
                  <a:lnTo>
                    <a:pt x="16430" y="151871"/>
                  </a:lnTo>
                  <a:lnTo>
                    <a:pt x="21056" y="154587"/>
                  </a:lnTo>
                  <a:lnTo>
                    <a:pt x="25834" y="156398"/>
                  </a:lnTo>
                  <a:lnTo>
                    <a:pt x="30712" y="157606"/>
                  </a:lnTo>
                  <a:lnTo>
                    <a:pt x="35658" y="158410"/>
                  </a:lnTo>
                  <a:lnTo>
                    <a:pt x="41495" y="158100"/>
                  </a:lnTo>
                  <a:lnTo>
                    <a:pt x="47926" y="157047"/>
                  </a:lnTo>
                  <a:lnTo>
                    <a:pt x="54754" y="155498"/>
                  </a:lnTo>
                  <a:lnTo>
                    <a:pt x="61846" y="153619"/>
                  </a:lnTo>
                  <a:lnTo>
                    <a:pt x="76499" y="149273"/>
                  </a:lnTo>
                  <a:lnTo>
                    <a:pt x="83962" y="146082"/>
                  </a:lnTo>
                  <a:lnTo>
                    <a:pt x="91478" y="142261"/>
                  </a:lnTo>
                  <a:lnTo>
                    <a:pt x="99028" y="138021"/>
                  </a:lnTo>
                  <a:lnTo>
                    <a:pt x="106602" y="134347"/>
                  </a:lnTo>
                  <a:lnTo>
                    <a:pt x="114191" y="131052"/>
                  </a:lnTo>
                  <a:lnTo>
                    <a:pt x="121790" y="128008"/>
                  </a:lnTo>
                  <a:lnTo>
                    <a:pt x="127703" y="124285"/>
                  </a:lnTo>
                  <a:lnTo>
                    <a:pt x="132492" y="120110"/>
                  </a:lnTo>
                  <a:lnTo>
                    <a:pt x="136531" y="115633"/>
                  </a:lnTo>
                  <a:lnTo>
                    <a:pt x="140070" y="110109"/>
                  </a:lnTo>
                  <a:lnTo>
                    <a:pt x="143276" y="103886"/>
                  </a:lnTo>
                  <a:lnTo>
                    <a:pt x="146260" y="97197"/>
                  </a:lnTo>
                  <a:lnTo>
                    <a:pt x="148250" y="90198"/>
                  </a:lnTo>
                  <a:lnTo>
                    <a:pt x="149577" y="82992"/>
                  </a:lnTo>
                  <a:lnTo>
                    <a:pt x="150461" y="75648"/>
                  </a:lnTo>
                  <a:lnTo>
                    <a:pt x="151050" y="69059"/>
                  </a:lnTo>
                  <a:lnTo>
                    <a:pt x="151443" y="62973"/>
                  </a:lnTo>
                  <a:lnTo>
                    <a:pt x="151880" y="51695"/>
                  </a:lnTo>
                  <a:lnTo>
                    <a:pt x="152074" y="41038"/>
                  </a:lnTo>
                  <a:lnTo>
                    <a:pt x="151279" y="35825"/>
                  </a:lnTo>
                  <a:lnTo>
                    <a:pt x="149902" y="30657"/>
                  </a:lnTo>
                  <a:lnTo>
                    <a:pt x="148138" y="25518"/>
                  </a:lnTo>
                  <a:lnTo>
                    <a:pt x="145268" y="21245"/>
                  </a:lnTo>
                  <a:lnTo>
                    <a:pt x="141662" y="17550"/>
                  </a:lnTo>
                  <a:lnTo>
                    <a:pt x="137564" y="14240"/>
                  </a:lnTo>
                  <a:lnTo>
                    <a:pt x="133986" y="11187"/>
                  </a:lnTo>
                  <a:lnTo>
                    <a:pt x="130754" y="8304"/>
                  </a:lnTo>
                  <a:lnTo>
                    <a:pt x="127752" y="5536"/>
                  </a:lnTo>
                  <a:lnTo>
                    <a:pt x="124905" y="3691"/>
                  </a:lnTo>
                  <a:lnTo>
                    <a:pt x="122159" y="2461"/>
                  </a:lnTo>
                  <a:lnTo>
                    <a:pt x="11412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MARTInkAnnotation193"/>
            <p:cNvSpPr/>
            <p:nvPr/>
          </p:nvSpPr>
          <p:spPr>
            <a:xfrm>
              <a:off x="2430360" y="1715400"/>
              <a:ext cx="109800" cy="2422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09917" h="242514">
                  <a:moveTo>
                    <a:pt x="76056" y="14153"/>
                  </a:moveTo>
                  <a:lnTo>
                    <a:pt x="76056" y="2581"/>
                  </a:lnTo>
                  <a:lnTo>
                    <a:pt x="75209" y="1358"/>
                  </a:lnTo>
                  <a:lnTo>
                    <a:pt x="73799" y="543"/>
                  </a:lnTo>
                  <a:lnTo>
                    <a:pt x="72011" y="0"/>
                  </a:lnTo>
                  <a:lnTo>
                    <a:pt x="70819" y="484"/>
                  </a:lnTo>
                  <a:lnTo>
                    <a:pt x="70025" y="1654"/>
                  </a:lnTo>
                  <a:lnTo>
                    <a:pt x="69495" y="3280"/>
                  </a:lnTo>
                  <a:lnTo>
                    <a:pt x="66650" y="7345"/>
                  </a:lnTo>
                  <a:lnTo>
                    <a:pt x="64705" y="9614"/>
                  </a:lnTo>
                  <a:lnTo>
                    <a:pt x="61715" y="12820"/>
                  </a:lnTo>
                  <a:lnTo>
                    <a:pt x="53878" y="20899"/>
                  </a:lnTo>
                  <a:lnTo>
                    <a:pt x="49417" y="26270"/>
                  </a:lnTo>
                  <a:lnTo>
                    <a:pt x="44750" y="32391"/>
                  </a:lnTo>
                  <a:lnTo>
                    <a:pt x="39946" y="39012"/>
                  </a:lnTo>
                  <a:lnTo>
                    <a:pt x="30092" y="53141"/>
                  </a:lnTo>
                  <a:lnTo>
                    <a:pt x="25093" y="60465"/>
                  </a:lnTo>
                  <a:lnTo>
                    <a:pt x="20914" y="68735"/>
                  </a:lnTo>
                  <a:lnTo>
                    <a:pt x="17281" y="77634"/>
                  </a:lnTo>
                  <a:lnTo>
                    <a:pt x="5368" y="112206"/>
                  </a:lnTo>
                  <a:lnTo>
                    <a:pt x="3531" y="121008"/>
                  </a:lnTo>
                  <a:lnTo>
                    <a:pt x="2306" y="130263"/>
                  </a:lnTo>
                  <a:lnTo>
                    <a:pt x="1489" y="139820"/>
                  </a:lnTo>
                  <a:lnTo>
                    <a:pt x="945" y="148731"/>
                  </a:lnTo>
                  <a:lnTo>
                    <a:pt x="340" y="165406"/>
                  </a:lnTo>
                  <a:lnTo>
                    <a:pt x="0" y="189073"/>
                  </a:lnTo>
                  <a:lnTo>
                    <a:pt x="799" y="195960"/>
                  </a:lnTo>
                  <a:lnTo>
                    <a:pt x="2178" y="202244"/>
                  </a:lnTo>
                  <a:lnTo>
                    <a:pt x="3944" y="208127"/>
                  </a:lnTo>
                  <a:lnTo>
                    <a:pt x="6815" y="212896"/>
                  </a:lnTo>
                  <a:lnTo>
                    <a:pt x="10422" y="216922"/>
                  </a:lnTo>
                  <a:lnTo>
                    <a:pt x="14520" y="220452"/>
                  </a:lnTo>
                  <a:lnTo>
                    <a:pt x="18945" y="224499"/>
                  </a:lnTo>
                  <a:lnTo>
                    <a:pt x="28378" y="233511"/>
                  </a:lnTo>
                  <a:lnTo>
                    <a:pt x="32418" y="236592"/>
                  </a:lnTo>
                  <a:lnTo>
                    <a:pt x="35957" y="238646"/>
                  </a:lnTo>
                  <a:lnTo>
                    <a:pt x="39164" y="240015"/>
                  </a:lnTo>
                  <a:lnTo>
                    <a:pt x="42994" y="240928"/>
                  </a:lnTo>
                  <a:lnTo>
                    <a:pt x="47242" y="241536"/>
                  </a:lnTo>
                  <a:lnTo>
                    <a:pt x="51767" y="241942"/>
                  </a:lnTo>
                  <a:lnTo>
                    <a:pt x="56476" y="242212"/>
                  </a:lnTo>
                  <a:lnTo>
                    <a:pt x="66225" y="242513"/>
                  </a:lnTo>
                  <a:lnTo>
                    <a:pt x="70349" y="241746"/>
                  </a:lnTo>
                  <a:lnTo>
                    <a:pt x="73945" y="240388"/>
                  </a:lnTo>
                  <a:lnTo>
                    <a:pt x="77188" y="238637"/>
                  </a:lnTo>
                  <a:lnTo>
                    <a:pt x="80198" y="235775"/>
                  </a:lnTo>
                  <a:lnTo>
                    <a:pt x="83050" y="232175"/>
                  </a:lnTo>
                  <a:lnTo>
                    <a:pt x="85799" y="228081"/>
                  </a:lnTo>
                  <a:lnTo>
                    <a:pt x="88478" y="223658"/>
                  </a:lnTo>
                  <a:lnTo>
                    <a:pt x="91111" y="219016"/>
                  </a:lnTo>
                  <a:lnTo>
                    <a:pt x="93713" y="214229"/>
                  </a:lnTo>
                  <a:lnTo>
                    <a:pt x="96294" y="207650"/>
                  </a:lnTo>
                  <a:lnTo>
                    <a:pt x="98862" y="199878"/>
                  </a:lnTo>
                  <a:lnTo>
                    <a:pt x="103972" y="183057"/>
                  </a:lnTo>
                  <a:lnTo>
                    <a:pt x="109066" y="167115"/>
                  </a:lnTo>
                  <a:lnTo>
                    <a:pt x="109916" y="159308"/>
                  </a:lnTo>
                  <a:lnTo>
                    <a:pt x="109636" y="151563"/>
                  </a:lnTo>
                  <a:lnTo>
                    <a:pt x="108603" y="143860"/>
                  </a:lnTo>
                  <a:lnTo>
                    <a:pt x="107067" y="136184"/>
                  </a:lnTo>
                  <a:lnTo>
                    <a:pt x="105197" y="128527"/>
                  </a:lnTo>
                  <a:lnTo>
                    <a:pt x="103103" y="120882"/>
                  </a:lnTo>
                  <a:lnTo>
                    <a:pt x="98519" y="105615"/>
                  </a:lnTo>
                  <a:lnTo>
                    <a:pt x="96112" y="97988"/>
                  </a:lnTo>
                  <a:lnTo>
                    <a:pt x="92813" y="91209"/>
                  </a:lnTo>
                  <a:lnTo>
                    <a:pt x="88921" y="84997"/>
                  </a:lnTo>
                  <a:lnTo>
                    <a:pt x="84633" y="79163"/>
                  </a:lnTo>
                  <a:lnTo>
                    <a:pt x="80081" y="73579"/>
                  </a:lnTo>
                  <a:lnTo>
                    <a:pt x="75352" y="68164"/>
                  </a:lnTo>
                  <a:lnTo>
                    <a:pt x="70507" y="62860"/>
                  </a:lnTo>
                  <a:lnTo>
                    <a:pt x="60608" y="52452"/>
                  </a:lnTo>
                  <a:lnTo>
                    <a:pt x="55597" y="47306"/>
                  </a:lnTo>
                  <a:lnTo>
                    <a:pt x="51410" y="43875"/>
                  </a:lnTo>
                  <a:lnTo>
                    <a:pt x="47772" y="41587"/>
                  </a:lnTo>
                  <a:lnTo>
                    <a:pt x="37956" y="3701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MARTInkAnnotation194"/>
            <p:cNvSpPr/>
            <p:nvPr/>
          </p:nvSpPr>
          <p:spPr>
            <a:xfrm>
              <a:off x="330120" y="2377440"/>
              <a:ext cx="217440" cy="3574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17743" h="357480">
                  <a:moveTo>
                    <a:pt x="42482" y="53205"/>
                  </a:moveTo>
                  <a:lnTo>
                    <a:pt x="42482" y="41854"/>
                  </a:lnTo>
                  <a:lnTo>
                    <a:pt x="46997" y="35178"/>
                  </a:lnTo>
                  <a:lnTo>
                    <a:pt x="50572" y="31027"/>
                  </a:lnTo>
                  <a:lnTo>
                    <a:pt x="54649" y="27413"/>
                  </a:lnTo>
                  <a:lnTo>
                    <a:pt x="59060" y="24157"/>
                  </a:lnTo>
                  <a:lnTo>
                    <a:pt x="63694" y="21140"/>
                  </a:lnTo>
                  <a:lnTo>
                    <a:pt x="68476" y="18281"/>
                  </a:lnTo>
                  <a:lnTo>
                    <a:pt x="73358" y="15529"/>
                  </a:lnTo>
                  <a:lnTo>
                    <a:pt x="78306" y="12848"/>
                  </a:lnTo>
                  <a:lnTo>
                    <a:pt x="84145" y="10214"/>
                  </a:lnTo>
                  <a:lnTo>
                    <a:pt x="90577" y="7611"/>
                  </a:lnTo>
                  <a:lnTo>
                    <a:pt x="97405" y="5029"/>
                  </a:lnTo>
                  <a:lnTo>
                    <a:pt x="105344" y="3308"/>
                  </a:lnTo>
                  <a:lnTo>
                    <a:pt x="114024" y="2160"/>
                  </a:lnTo>
                  <a:lnTo>
                    <a:pt x="123196" y="1395"/>
                  </a:lnTo>
                  <a:lnTo>
                    <a:pt x="131852" y="885"/>
                  </a:lnTo>
                  <a:lnTo>
                    <a:pt x="148242" y="319"/>
                  </a:lnTo>
                  <a:lnTo>
                    <a:pt x="167704" y="0"/>
                  </a:lnTo>
                  <a:lnTo>
                    <a:pt x="174223" y="801"/>
                  </a:lnTo>
                  <a:lnTo>
                    <a:pt x="181109" y="2183"/>
                  </a:lnTo>
                  <a:lnTo>
                    <a:pt x="188240" y="3950"/>
                  </a:lnTo>
                  <a:lnTo>
                    <a:pt x="193841" y="6822"/>
                  </a:lnTo>
                  <a:lnTo>
                    <a:pt x="198421" y="10430"/>
                  </a:lnTo>
                  <a:lnTo>
                    <a:pt x="202321" y="14528"/>
                  </a:lnTo>
                  <a:lnTo>
                    <a:pt x="208913" y="23598"/>
                  </a:lnTo>
                  <a:lnTo>
                    <a:pt x="211856" y="28387"/>
                  </a:lnTo>
                  <a:lnTo>
                    <a:pt x="213818" y="34120"/>
                  </a:lnTo>
                  <a:lnTo>
                    <a:pt x="215126" y="40481"/>
                  </a:lnTo>
                  <a:lnTo>
                    <a:pt x="215998" y="47263"/>
                  </a:lnTo>
                  <a:lnTo>
                    <a:pt x="214886" y="54323"/>
                  </a:lnTo>
                  <a:lnTo>
                    <a:pt x="212451" y="61571"/>
                  </a:lnTo>
                  <a:lnTo>
                    <a:pt x="209135" y="68942"/>
                  </a:lnTo>
                  <a:lnTo>
                    <a:pt x="204384" y="76397"/>
                  </a:lnTo>
                  <a:lnTo>
                    <a:pt x="198677" y="83906"/>
                  </a:lnTo>
                  <a:lnTo>
                    <a:pt x="192332" y="91452"/>
                  </a:lnTo>
                  <a:lnTo>
                    <a:pt x="178508" y="108868"/>
                  </a:lnTo>
                  <a:lnTo>
                    <a:pt x="144893" y="151689"/>
                  </a:lnTo>
                  <a:lnTo>
                    <a:pt x="135309" y="162888"/>
                  </a:lnTo>
                  <a:lnTo>
                    <a:pt x="125533" y="173740"/>
                  </a:lnTo>
                  <a:lnTo>
                    <a:pt x="105640" y="194830"/>
                  </a:lnTo>
                  <a:lnTo>
                    <a:pt x="85510" y="215491"/>
                  </a:lnTo>
                  <a:lnTo>
                    <a:pt x="75401" y="226589"/>
                  </a:lnTo>
                  <a:lnTo>
                    <a:pt x="65274" y="238222"/>
                  </a:lnTo>
                  <a:lnTo>
                    <a:pt x="55137" y="250209"/>
                  </a:lnTo>
                  <a:lnTo>
                    <a:pt x="45839" y="260741"/>
                  </a:lnTo>
                  <a:lnTo>
                    <a:pt x="28734" y="279217"/>
                  </a:lnTo>
                  <a:lnTo>
                    <a:pt x="21463" y="287700"/>
                  </a:lnTo>
                  <a:lnTo>
                    <a:pt x="14923" y="295895"/>
                  </a:lnTo>
                  <a:lnTo>
                    <a:pt x="8869" y="303898"/>
                  </a:lnTo>
                  <a:lnTo>
                    <a:pt x="4833" y="311774"/>
                  </a:lnTo>
                  <a:lnTo>
                    <a:pt x="2143" y="319564"/>
                  </a:lnTo>
                  <a:lnTo>
                    <a:pt x="349" y="327298"/>
                  </a:lnTo>
                  <a:lnTo>
                    <a:pt x="0" y="333300"/>
                  </a:lnTo>
                  <a:lnTo>
                    <a:pt x="614" y="338149"/>
                  </a:lnTo>
                  <a:lnTo>
                    <a:pt x="1870" y="342228"/>
                  </a:lnTo>
                  <a:lnTo>
                    <a:pt x="5247" y="345793"/>
                  </a:lnTo>
                  <a:lnTo>
                    <a:pt x="10039" y="349017"/>
                  </a:lnTo>
                  <a:lnTo>
                    <a:pt x="15773" y="352013"/>
                  </a:lnTo>
                  <a:lnTo>
                    <a:pt x="22136" y="354011"/>
                  </a:lnTo>
                  <a:lnTo>
                    <a:pt x="28918" y="355342"/>
                  </a:lnTo>
                  <a:lnTo>
                    <a:pt x="35979" y="356230"/>
                  </a:lnTo>
                  <a:lnTo>
                    <a:pt x="44920" y="356821"/>
                  </a:lnTo>
                  <a:lnTo>
                    <a:pt x="55114" y="357216"/>
                  </a:lnTo>
                  <a:lnTo>
                    <a:pt x="66143" y="357479"/>
                  </a:lnTo>
                  <a:lnTo>
                    <a:pt x="79423" y="355961"/>
                  </a:lnTo>
                  <a:lnTo>
                    <a:pt x="94203" y="353256"/>
                  </a:lnTo>
                  <a:lnTo>
                    <a:pt x="109982" y="349759"/>
                  </a:lnTo>
                  <a:lnTo>
                    <a:pt x="141062" y="343616"/>
                  </a:lnTo>
                  <a:lnTo>
                    <a:pt x="156462" y="340792"/>
                  </a:lnTo>
                  <a:lnTo>
                    <a:pt x="170115" y="337216"/>
                  </a:lnTo>
                  <a:lnTo>
                    <a:pt x="182604" y="333139"/>
                  </a:lnTo>
                  <a:lnTo>
                    <a:pt x="217742" y="31990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SMARTInkAnnotation195"/>
            <p:cNvSpPr/>
            <p:nvPr/>
          </p:nvSpPr>
          <p:spPr>
            <a:xfrm>
              <a:off x="682560" y="2331360"/>
              <a:ext cx="291960" cy="455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92010" h="455419">
                  <a:moveTo>
                    <a:pt x="93889" y="0"/>
                  </a:moveTo>
                  <a:lnTo>
                    <a:pt x="89844" y="4046"/>
                  </a:lnTo>
                  <a:lnTo>
                    <a:pt x="88652" y="6084"/>
                  </a:lnTo>
                  <a:lnTo>
                    <a:pt x="84482" y="17696"/>
                  </a:lnTo>
                  <a:lnTo>
                    <a:pt x="80395" y="27338"/>
                  </a:lnTo>
                  <a:lnTo>
                    <a:pt x="75756" y="40091"/>
                  </a:lnTo>
                  <a:lnTo>
                    <a:pt x="72487" y="47894"/>
                  </a:lnTo>
                  <a:lnTo>
                    <a:pt x="68614" y="56482"/>
                  </a:lnTo>
                  <a:lnTo>
                    <a:pt x="64339" y="65595"/>
                  </a:lnTo>
                  <a:lnTo>
                    <a:pt x="60643" y="75903"/>
                  </a:lnTo>
                  <a:lnTo>
                    <a:pt x="57331" y="87009"/>
                  </a:lnTo>
                  <a:lnTo>
                    <a:pt x="54277" y="98646"/>
                  </a:lnTo>
                  <a:lnTo>
                    <a:pt x="50548" y="110637"/>
                  </a:lnTo>
                  <a:lnTo>
                    <a:pt x="46368" y="122865"/>
                  </a:lnTo>
                  <a:lnTo>
                    <a:pt x="37209" y="148587"/>
                  </a:lnTo>
                  <a:lnTo>
                    <a:pt x="12504" y="221482"/>
                  </a:lnTo>
                  <a:lnTo>
                    <a:pt x="8305" y="236554"/>
                  </a:lnTo>
                  <a:lnTo>
                    <a:pt x="4660" y="251683"/>
                  </a:lnTo>
                  <a:lnTo>
                    <a:pt x="1383" y="266849"/>
                  </a:lnTo>
                  <a:lnTo>
                    <a:pt x="45" y="281193"/>
                  </a:lnTo>
                  <a:lnTo>
                    <a:pt x="0" y="294988"/>
                  </a:lnTo>
                  <a:lnTo>
                    <a:pt x="816" y="308419"/>
                  </a:lnTo>
                  <a:lnTo>
                    <a:pt x="1723" y="332373"/>
                  </a:lnTo>
                  <a:lnTo>
                    <a:pt x="1965" y="343502"/>
                  </a:lnTo>
                  <a:lnTo>
                    <a:pt x="4667" y="354308"/>
                  </a:lnTo>
                  <a:lnTo>
                    <a:pt x="9007" y="364899"/>
                  </a:lnTo>
                  <a:lnTo>
                    <a:pt x="14441" y="375346"/>
                  </a:lnTo>
                  <a:lnTo>
                    <a:pt x="20604" y="384850"/>
                  </a:lnTo>
                  <a:lnTo>
                    <a:pt x="27252" y="393727"/>
                  </a:lnTo>
                  <a:lnTo>
                    <a:pt x="34224" y="402185"/>
                  </a:lnTo>
                  <a:lnTo>
                    <a:pt x="42259" y="410363"/>
                  </a:lnTo>
                  <a:lnTo>
                    <a:pt x="51003" y="418355"/>
                  </a:lnTo>
                  <a:lnTo>
                    <a:pt x="60218" y="426224"/>
                  </a:lnTo>
                  <a:lnTo>
                    <a:pt x="71442" y="432316"/>
                  </a:lnTo>
                  <a:lnTo>
                    <a:pt x="84004" y="437224"/>
                  </a:lnTo>
                  <a:lnTo>
                    <a:pt x="97459" y="441343"/>
                  </a:lnTo>
                  <a:lnTo>
                    <a:pt x="110663" y="444935"/>
                  </a:lnTo>
                  <a:lnTo>
                    <a:pt x="123698" y="448177"/>
                  </a:lnTo>
                  <a:lnTo>
                    <a:pt x="136622" y="451185"/>
                  </a:lnTo>
                  <a:lnTo>
                    <a:pt x="151164" y="453189"/>
                  </a:lnTo>
                  <a:lnTo>
                    <a:pt x="166786" y="454527"/>
                  </a:lnTo>
                  <a:lnTo>
                    <a:pt x="183127" y="455418"/>
                  </a:lnTo>
                  <a:lnTo>
                    <a:pt x="199101" y="455165"/>
                  </a:lnTo>
                  <a:lnTo>
                    <a:pt x="214830" y="454150"/>
                  </a:lnTo>
                  <a:lnTo>
                    <a:pt x="230397" y="452627"/>
                  </a:lnTo>
                  <a:lnTo>
                    <a:pt x="244161" y="451611"/>
                  </a:lnTo>
                  <a:lnTo>
                    <a:pt x="256723" y="450934"/>
                  </a:lnTo>
                  <a:lnTo>
                    <a:pt x="292009" y="4495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MARTInkAnnotation196"/>
            <p:cNvSpPr/>
            <p:nvPr/>
          </p:nvSpPr>
          <p:spPr>
            <a:xfrm>
              <a:off x="845280" y="2500200"/>
              <a:ext cx="251280" cy="2502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51461" h="250402">
                  <a:moveTo>
                    <a:pt x="251460" y="6561"/>
                  </a:moveTo>
                  <a:lnTo>
                    <a:pt x="251460" y="0"/>
                  </a:lnTo>
                  <a:lnTo>
                    <a:pt x="251460" y="3300"/>
                  </a:lnTo>
                  <a:lnTo>
                    <a:pt x="250613" y="4387"/>
                  </a:lnTo>
                  <a:lnTo>
                    <a:pt x="249202" y="5112"/>
                  </a:lnTo>
                  <a:lnTo>
                    <a:pt x="247415" y="5595"/>
                  </a:lnTo>
                  <a:lnTo>
                    <a:pt x="246223" y="6764"/>
                  </a:lnTo>
                  <a:lnTo>
                    <a:pt x="245429" y="8389"/>
                  </a:lnTo>
                  <a:lnTo>
                    <a:pt x="244899" y="10320"/>
                  </a:lnTo>
                  <a:lnTo>
                    <a:pt x="242053" y="14723"/>
                  </a:lnTo>
                  <a:lnTo>
                    <a:pt x="237119" y="20348"/>
                  </a:lnTo>
                  <a:lnTo>
                    <a:pt x="229282" y="28493"/>
                  </a:lnTo>
                  <a:lnTo>
                    <a:pt x="224821" y="33882"/>
                  </a:lnTo>
                  <a:lnTo>
                    <a:pt x="220154" y="40015"/>
                  </a:lnTo>
                  <a:lnTo>
                    <a:pt x="189388" y="81616"/>
                  </a:lnTo>
                  <a:lnTo>
                    <a:pt x="174766" y="101161"/>
                  </a:lnTo>
                  <a:lnTo>
                    <a:pt x="167311" y="110268"/>
                  </a:lnTo>
                  <a:lnTo>
                    <a:pt x="159800" y="118879"/>
                  </a:lnTo>
                  <a:lnTo>
                    <a:pt x="152254" y="127160"/>
                  </a:lnTo>
                  <a:lnTo>
                    <a:pt x="144682" y="136067"/>
                  </a:lnTo>
                  <a:lnTo>
                    <a:pt x="129497" y="154995"/>
                  </a:lnTo>
                  <a:lnTo>
                    <a:pt x="121045" y="163937"/>
                  </a:lnTo>
                  <a:lnTo>
                    <a:pt x="112023" y="172439"/>
                  </a:lnTo>
                  <a:lnTo>
                    <a:pt x="102622" y="180646"/>
                  </a:lnTo>
                  <a:lnTo>
                    <a:pt x="93815" y="188658"/>
                  </a:lnTo>
                  <a:lnTo>
                    <a:pt x="77256" y="204333"/>
                  </a:lnTo>
                  <a:lnTo>
                    <a:pt x="69284" y="211222"/>
                  </a:lnTo>
                  <a:lnTo>
                    <a:pt x="61429" y="217509"/>
                  </a:lnTo>
                  <a:lnTo>
                    <a:pt x="53653" y="223393"/>
                  </a:lnTo>
                  <a:lnTo>
                    <a:pt x="46775" y="228162"/>
                  </a:lnTo>
                  <a:lnTo>
                    <a:pt x="40497" y="232189"/>
                  </a:lnTo>
                  <a:lnTo>
                    <a:pt x="34618" y="235719"/>
                  </a:lnTo>
                  <a:lnTo>
                    <a:pt x="29005" y="238920"/>
                  </a:lnTo>
                  <a:lnTo>
                    <a:pt x="18254" y="244734"/>
                  </a:lnTo>
                  <a:lnTo>
                    <a:pt x="13862" y="246623"/>
                  </a:lnTo>
                  <a:lnTo>
                    <a:pt x="10088" y="247882"/>
                  </a:lnTo>
                  <a:lnTo>
                    <a:pt x="0" y="25040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197"/>
            <p:cNvSpPr/>
            <p:nvPr/>
          </p:nvSpPr>
          <p:spPr>
            <a:xfrm>
              <a:off x="875520" y="2540520"/>
              <a:ext cx="289440" cy="1490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9561" h="149171">
                  <a:moveTo>
                    <a:pt x="0" y="4390"/>
                  </a:moveTo>
                  <a:lnTo>
                    <a:pt x="0" y="0"/>
                  </a:lnTo>
                  <a:lnTo>
                    <a:pt x="0" y="1874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8289" y="4059"/>
                  </a:lnTo>
                  <a:lnTo>
                    <a:pt x="10606" y="4169"/>
                  </a:lnTo>
                  <a:lnTo>
                    <a:pt x="12997" y="5089"/>
                  </a:lnTo>
                  <a:lnTo>
                    <a:pt x="17912" y="8370"/>
                  </a:lnTo>
                  <a:lnTo>
                    <a:pt x="21255" y="11277"/>
                  </a:lnTo>
                  <a:lnTo>
                    <a:pt x="25177" y="14907"/>
                  </a:lnTo>
                  <a:lnTo>
                    <a:pt x="38786" y="28109"/>
                  </a:lnTo>
                  <a:lnTo>
                    <a:pt x="77745" y="66905"/>
                  </a:lnTo>
                  <a:lnTo>
                    <a:pt x="85697" y="73160"/>
                  </a:lnTo>
                  <a:lnTo>
                    <a:pt x="94385" y="79024"/>
                  </a:lnTo>
                  <a:lnTo>
                    <a:pt x="103563" y="84626"/>
                  </a:lnTo>
                  <a:lnTo>
                    <a:pt x="113069" y="90901"/>
                  </a:lnTo>
                  <a:lnTo>
                    <a:pt x="132662" y="104646"/>
                  </a:lnTo>
                  <a:lnTo>
                    <a:pt x="142628" y="111021"/>
                  </a:lnTo>
                  <a:lnTo>
                    <a:pt x="152659" y="116964"/>
                  </a:lnTo>
                  <a:lnTo>
                    <a:pt x="162732" y="122619"/>
                  </a:lnTo>
                  <a:lnTo>
                    <a:pt x="172835" y="127236"/>
                  </a:lnTo>
                  <a:lnTo>
                    <a:pt x="182957" y="131161"/>
                  </a:lnTo>
                  <a:lnTo>
                    <a:pt x="193091" y="134624"/>
                  </a:lnTo>
                  <a:lnTo>
                    <a:pt x="204081" y="137779"/>
                  </a:lnTo>
                  <a:lnTo>
                    <a:pt x="215641" y="140730"/>
                  </a:lnTo>
                  <a:lnTo>
                    <a:pt x="227580" y="143543"/>
                  </a:lnTo>
                  <a:lnTo>
                    <a:pt x="237234" y="145419"/>
                  </a:lnTo>
                  <a:lnTo>
                    <a:pt x="245362" y="146669"/>
                  </a:lnTo>
                  <a:lnTo>
                    <a:pt x="252475" y="147503"/>
                  </a:lnTo>
                  <a:lnTo>
                    <a:pt x="259757" y="148059"/>
                  </a:lnTo>
                  <a:lnTo>
                    <a:pt x="267151" y="148429"/>
                  </a:lnTo>
                  <a:lnTo>
                    <a:pt x="289560" y="14917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198"/>
            <p:cNvSpPr/>
            <p:nvPr/>
          </p:nvSpPr>
          <p:spPr>
            <a:xfrm>
              <a:off x="1287000" y="2499120"/>
              <a:ext cx="37800" cy="205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8101" h="205741">
                  <a:moveTo>
                    <a:pt x="0" y="0"/>
                  </a:moveTo>
                  <a:lnTo>
                    <a:pt x="0" y="17912"/>
                  </a:lnTo>
                  <a:lnTo>
                    <a:pt x="847" y="22102"/>
                  </a:lnTo>
                  <a:lnTo>
                    <a:pt x="2258" y="27434"/>
                  </a:lnTo>
                  <a:lnTo>
                    <a:pt x="4046" y="33530"/>
                  </a:lnTo>
                  <a:lnTo>
                    <a:pt x="5237" y="40133"/>
                  </a:lnTo>
                  <a:lnTo>
                    <a:pt x="6031" y="47075"/>
                  </a:lnTo>
                  <a:lnTo>
                    <a:pt x="6561" y="54244"/>
                  </a:lnTo>
                  <a:lnTo>
                    <a:pt x="7761" y="62409"/>
                  </a:lnTo>
                  <a:lnTo>
                    <a:pt x="9407" y="71239"/>
                  </a:lnTo>
                  <a:lnTo>
                    <a:pt x="11352" y="80513"/>
                  </a:lnTo>
                  <a:lnTo>
                    <a:pt x="12648" y="89235"/>
                  </a:lnTo>
                  <a:lnTo>
                    <a:pt x="13512" y="97590"/>
                  </a:lnTo>
                  <a:lnTo>
                    <a:pt x="14088" y="105700"/>
                  </a:lnTo>
                  <a:lnTo>
                    <a:pt x="15319" y="114494"/>
                  </a:lnTo>
                  <a:lnTo>
                    <a:pt x="16986" y="123742"/>
                  </a:lnTo>
                  <a:lnTo>
                    <a:pt x="18944" y="133295"/>
                  </a:lnTo>
                  <a:lnTo>
                    <a:pt x="21096" y="141357"/>
                  </a:lnTo>
                  <a:lnTo>
                    <a:pt x="23378" y="148425"/>
                  </a:lnTo>
                  <a:lnTo>
                    <a:pt x="25745" y="154830"/>
                  </a:lnTo>
                  <a:lnTo>
                    <a:pt x="27323" y="160793"/>
                  </a:lnTo>
                  <a:lnTo>
                    <a:pt x="28376" y="166462"/>
                  </a:lnTo>
                  <a:lnTo>
                    <a:pt x="29077" y="171935"/>
                  </a:lnTo>
                  <a:lnTo>
                    <a:pt x="30392" y="177276"/>
                  </a:lnTo>
                  <a:lnTo>
                    <a:pt x="32115" y="182531"/>
                  </a:lnTo>
                  <a:lnTo>
                    <a:pt x="34110" y="187727"/>
                  </a:lnTo>
                  <a:lnTo>
                    <a:pt x="35440" y="192038"/>
                  </a:lnTo>
                  <a:lnTo>
                    <a:pt x="36327" y="195759"/>
                  </a:lnTo>
                  <a:lnTo>
                    <a:pt x="3810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199"/>
            <p:cNvSpPr/>
            <p:nvPr/>
          </p:nvSpPr>
          <p:spPr>
            <a:xfrm>
              <a:off x="1189080" y="2567520"/>
              <a:ext cx="227520" cy="302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7542" h="30481">
                  <a:moveTo>
                    <a:pt x="6561" y="30480"/>
                  </a:moveTo>
                  <a:lnTo>
                    <a:pt x="0" y="30480"/>
                  </a:lnTo>
                  <a:lnTo>
                    <a:pt x="3300" y="30480"/>
                  </a:lnTo>
                  <a:lnTo>
                    <a:pt x="5234" y="29633"/>
                  </a:lnTo>
                  <a:lnTo>
                    <a:pt x="7369" y="28222"/>
                  </a:lnTo>
                  <a:lnTo>
                    <a:pt x="9640" y="26435"/>
                  </a:lnTo>
                  <a:lnTo>
                    <a:pt x="12847" y="25243"/>
                  </a:lnTo>
                  <a:lnTo>
                    <a:pt x="16678" y="24449"/>
                  </a:lnTo>
                  <a:lnTo>
                    <a:pt x="20926" y="23919"/>
                  </a:lnTo>
                  <a:lnTo>
                    <a:pt x="26298" y="23566"/>
                  </a:lnTo>
                  <a:lnTo>
                    <a:pt x="32419" y="23331"/>
                  </a:lnTo>
                  <a:lnTo>
                    <a:pt x="39039" y="23174"/>
                  </a:lnTo>
                  <a:lnTo>
                    <a:pt x="47687" y="22223"/>
                  </a:lnTo>
                  <a:lnTo>
                    <a:pt x="57685" y="20742"/>
                  </a:lnTo>
                  <a:lnTo>
                    <a:pt x="68583" y="18908"/>
                  </a:lnTo>
                  <a:lnTo>
                    <a:pt x="80083" y="17685"/>
                  </a:lnTo>
                  <a:lnTo>
                    <a:pt x="91982" y="16870"/>
                  </a:lnTo>
                  <a:lnTo>
                    <a:pt x="104149" y="16327"/>
                  </a:lnTo>
                  <a:lnTo>
                    <a:pt x="116493" y="15118"/>
                  </a:lnTo>
                  <a:lnTo>
                    <a:pt x="128956" y="13465"/>
                  </a:lnTo>
                  <a:lnTo>
                    <a:pt x="141497" y="11517"/>
                  </a:lnTo>
                  <a:lnTo>
                    <a:pt x="166722" y="7094"/>
                  </a:lnTo>
                  <a:lnTo>
                    <a:pt x="179375" y="4730"/>
                  </a:lnTo>
                  <a:lnTo>
                    <a:pt x="190350" y="3153"/>
                  </a:lnTo>
                  <a:lnTo>
                    <a:pt x="200207" y="2102"/>
                  </a:lnTo>
                  <a:lnTo>
                    <a:pt x="22754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200"/>
            <p:cNvSpPr/>
            <p:nvPr/>
          </p:nvSpPr>
          <p:spPr>
            <a:xfrm>
              <a:off x="1512720" y="2361960"/>
              <a:ext cx="192240" cy="1940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92303" h="194288">
                  <a:moveTo>
                    <a:pt x="101924" y="0"/>
                  </a:moveTo>
                  <a:lnTo>
                    <a:pt x="97879" y="0"/>
                  </a:lnTo>
                  <a:lnTo>
                    <a:pt x="95841" y="847"/>
                  </a:lnTo>
                  <a:lnTo>
                    <a:pt x="91318" y="4045"/>
                  </a:lnTo>
                  <a:lnTo>
                    <a:pt x="88080" y="6930"/>
                  </a:lnTo>
                  <a:lnTo>
                    <a:pt x="79967" y="14651"/>
                  </a:lnTo>
                  <a:lnTo>
                    <a:pt x="61834" y="32563"/>
                  </a:lnTo>
                  <a:lnTo>
                    <a:pt x="55724" y="39489"/>
                  </a:lnTo>
                  <a:lnTo>
                    <a:pt x="49957" y="46646"/>
                  </a:lnTo>
                  <a:lnTo>
                    <a:pt x="24491" y="80428"/>
                  </a:lnTo>
                  <a:lnTo>
                    <a:pt x="18975" y="89179"/>
                  </a:lnTo>
                  <a:lnTo>
                    <a:pt x="14451" y="97552"/>
                  </a:lnTo>
                  <a:lnTo>
                    <a:pt x="10589" y="105675"/>
                  </a:lnTo>
                  <a:lnTo>
                    <a:pt x="7167" y="113630"/>
                  </a:lnTo>
                  <a:lnTo>
                    <a:pt x="4040" y="121473"/>
                  </a:lnTo>
                  <a:lnTo>
                    <a:pt x="1108" y="129242"/>
                  </a:lnTo>
                  <a:lnTo>
                    <a:pt x="0" y="136115"/>
                  </a:lnTo>
                  <a:lnTo>
                    <a:pt x="108" y="142390"/>
                  </a:lnTo>
                  <a:lnTo>
                    <a:pt x="1027" y="148267"/>
                  </a:lnTo>
                  <a:lnTo>
                    <a:pt x="3333" y="153878"/>
                  </a:lnTo>
                  <a:lnTo>
                    <a:pt x="6563" y="159312"/>
                  </a:lnTo>
                  <a:lnTo>
                    <a:pt x="10410" y="164628"/>
                  </a:lnTo>
                  <a:lnTo>
                    <a:pt x="15515" y="169865"/>
                  </a:lnTo>
                  <a:lnTo>
                    <a:pt x="21458" y="175050"/>
                  </a:lnTo>
                  <a:lnTo>
                    <a:pt x="27960" y="180200"/>
                  </a:lnTo>
                  <a:lnTo>
                    <a:pt x="34835" y="183633"/>
                  </a:lnTo>
                  <a:lnTo>
                    <a:pt x="41958" y="185922"/>
                  </a:lnTo>
                  <a:lnTo>
                    <a:pt x="49247" y="187448"/>
                  </a:lnTo>
                  <a:lnTo>
                    <a:pt x="75686" y="193641"/>
                  </a:lnTo>
                  <a:lnTo>
                    <a:pt x="85278" y="194287"/>
                  </a:lnTo>
                  <a:lnTo>
                    <a:pt x="95060" y="193872"/>
                  </a:lnTo>
                  <a:lnTo>
                    <a:pt x="104968" y="192748"/>
                  </a:lnTo>
                  <a:lnTo>
                    <a:pt x="114960" y="191152"/>
                  </a:lnTo>
                  <a:lnTo>
                    <a:pt x="125008" y="189241"/>
                  </a:lnTo>
                  <a:lnTo>
                    <a:pt x="135094" y="187121"/>
                  </a:lnTo>
                  <a:lnTo>
                    <a:pt x="144357" y="184014"/>
                  </a:lnTo>
                  <a:lnTo>
                    <a:pt x="153073" y="180249"/>
                  </a:lnTo>
                  <a:lnTo>
                    <a:pt x="161423" y="176046"/>
                  </a:lnTo>
                  <a:lnTo>
                    <a:pt x="168684" y="171551"/>
                  </a:lnTo>
                  <a:lnTo>
                    <a:pt x="175217" y="166861"/>
                  </a:lnTo>
                  <a:lnTo>
                    <a:pt x="181266" y="162040"/>
                  </a:lnTo>
                  <a:lnTo>
                    <a:pt x="185299" y="157134"/>
                  </a:lnTo>
                  <a:lnTo>
                    <a:pt x="187988" y="152169"/>
                  </a:lnTo>
                  <a:lnTo>
                    <a:pt x="189779" y="147166"/>
                  </a:lnTo>
                  <a:lnTo>
                    <a:pt x="190975" y="141291"/>
                  </a:lnTo>
                  <a:lnTo>
                    <a:pt x="191771" y="134834"/>
                  </a:lnTo>
                  <a:lnTo>
                    <a:pt x="192302" y="127989"/>
                  </a:lnTo>
                  <a:lnTo>
                    <a:pt x="191810" y="120886"/>
                  </a:lnTo>
                  <a:lnTo>
                    <a:pt x="190634" y="113611"/>
                  </a:lnTo>
                  <a:lnTo>
                    <a:pt x="189004" y="106220"/>
                  </a:lnTo>
                  <a:lnTo>
                    <a:pt x="187071" y="99600"/>
                  </a:lnTo>
                  <a:lnTo>
                    <a:pt x="184936" y="93494"/>
                  </a:lnTo>
                  <a:lnTo>
                    <a:pt x="182665" y="87729"/>
                  </a:lnTo>
                  <a:lnTo>
                    <a:pt x="179458" y="82193"/>
                  </a:lnTo>
                  <a:lnTo>
                    <a:pt x="175627" y="76809"/>
                  </a:lnTo>
                  <a:lnTo>
                    <a:pt x="171379" y="71526"/>
                  </a:lnTo>
                  <a:lnTo>
                    <a:pt x="166854" y="68004"/>
                  </a:lnTo>
                  <a:lnTo>
                    <a:pt x="162144" y="65656"/>
                  </a:lnTo>
                  <a:lnTo>
                    <a:pt x="157311" y="64091"/>
                  </a:lnTo>
                  <a:lnTo>
                    <a:pt x="151548" y="63047"/>
                  </a:lnTo>
                  <a:lnTo>
                    <a:pt x="145167" y="62351"/>
                  </a:lnTo>
                  <a:lnTo>
                    <a:pt x="138373" y="61888"/>
                  </a:lnTo>
                  <a:lnTo>
                    <a:pt x="132150" y="61578"/>
                  </a:lnTo>
                  <a:lnTo>
                    <a:pt x="120720" y="61235"/>
                  </a:lnTo>
                  <a:lnTo>
                    <a:pt x="116148" y="61990"/>
                  </a:lnTo>
                  <a:lnTo>
                    <a:pt x="112254" y="63340"/>
                  </a:lnTo>
                  <a:lnTo>
                    <a:pt x="108810" y="65087"/>
                  </a:lnTo>
                  <a:lnTo>
                    <a:pt x="105668" y="67098"/>
                  </a:lnTo>
                  <a:lnTo>
                    <a:pt x="102727" y="69285"/>
                  </a:lnTo>
                  <a:lnTo>
                    <a:pt x="94304" y="762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201"/>
            <p:cNvSpPr/>
            <p:nvPr/>
          </p:nvSpPr>
          <p:spPr>
            <a:xfrm>
              <a:off x="1554840" y="2514240"/>
              <a:ext cx="179640" cy="208800"/>
            </a:xfrm>
            <a:custGeom>
              <a:avLst/>
              <a:gdLst>
                <a:gd name="textAreaLeft" fmla="*/ 0 w 179640"/>
                <a:gd name="textAreaRight" fmla="*/ 179640 w 17964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79899" h="208812">
                  <a:moveTo>
                    <a:pt x="67719" y="91440"/>
                  </a:moveTo>
                  <a:lnTo>
                    <a:pt x="57113" y="91440"/>
                  </a:lnTo>
                  <a:lnTo>
                    <a:pt x="53875" y="92287"/>
                  </a:lnTo>
                  <a:lnTo>
                    <a:pt x="50023" y="93698"/>
                  </a:lnTo>
                  <a:lnTo>
                    <a:pt x="45762" y="95485"/>
                  </a:lnTo>
                  <a:lnTo>
                    <a:pt x="42074" y="98370"/>
                  </a:lnTo>
                  <a:lnTo>
                    <a:pt x="38769" y="101987"/>
                  </a:lnTo>
                  <a:lnTo>
                    <a:pt x="35719" y="106091"/>
                  </a:lnTo>
                  <a:lnTo>
                    <a:pt x="31992" y="110521"/>
                  </a:lnTo>
                  <a:lnTo>
                    <a:pt x="27815" y="115167"/>
                  </a:lnTo>
                  <a:lnTo>
                    <a:pt x="18657" y="124846"/>
                  </a:lnTo>
                  <a:lnTo>
                    <a:pt x="8943" y="134792"/>
                  </a:lnTo>
                  <a:lnTo>
                    <a:pt x="5675" y="140661"/>
                  </a:lnTo>
                  <a:lnTo>
                    <a:pt x="3496" y="147114"/>
                  </a:lnTo>
                  <a:lnTo>
                    <a:pt x="2044" y="153956"/>
                  </a:lnTo>
                  <a:lnTo>
                    <a:pt x="1076" y="160211"/>
                  </a:lnTo>
                  <a:lnTo>
                    <a:pt x="430" y="166074"/>
                  </a:lnTo>
                  <a:lnTo>
                    <a:pt x="0" y="171676"/>
                  </a:lnTo>
                  <a:lnTo>
                    <a:pt x="559" y="177104"/>
                  </a:lnTo>
                  <a:lnTo>
                    <a:pt x="1779" y="182416"/>
                  </a:lnTo>
                  <a:lnTo>
                    <a:pt x="3439" y="187651"/>
                  </a:lnTo>
                  <a:lnTo>
                    <a:pt x="6239" y="191987"/>
                  </a:lnTo>
                  <a:lnTo>
                    <a:pt x="9799" y="195725"/>
                  </a:lnTo>
                  <a:lnTo>
                    <a:pt x="13866" y="199063"/>
                  </a:lnTo>
                  <a:lnTo>
                    <a:pt x="19117" y="202135"/>
                  </a:lnTo>
                  <a:lnTo>
                    <a:pt x="25157" y="205031"/>
                  </a:lnTo>
                  <a:lnTo>
                    <a:pt x="31725" y="207807"/>
                  </a:lnTo>
                  <a:lnTo>
                    <a:pt x="39489" y="208811"/>
                  </a:lnTo>
                  <a:lnTo>
                    <a:pt x="48053" y="208634"/>
                  </a:lnTo>
                  <a:lnTo>
                    <a:pt x="57148" y="207669"/>
                  </a:lnTo>
                  <a:lnTo>
                    <a:pt x="66598" y="206179"/>
                  </a:lnTo>
                  <a:lnTo>
                    <a:pt x="76285" y="204340"/>
                  </a:lnTo>
                  <a:lnTo>
                    <a:pt x="96080" y="200038"/>
                  </a:lnTo>
                  <a:lnTo>
                    <a:pt x="116166" y="195303"/>
                  </a:lnTo>
                  <a:lnTo>
                    <a:pt x="125417" y="191163"/>
                  </a:lnTo>
                  <a:lnTo>
                    <a:pt x="134124" y="185862"/>
                  </a:lnTo>
                  <a:lnTo>
                    <a:pt x="142469" y="179788"/>
                  </a:lnTo>
                  <a:lnTo>
                    <a:pt x="149726" y="173199"/>
                  </a:lnTo>
                  <a:lnTo>
                    <a:pt x="156257" y="166266"/>
                  </a:lnTo>
                  <a:lnTo>
                    <a:pt x="162304" y="159104"/>
                  </a:lnTo>
                  <a:lnTo>
                    <a:pt x="167183" y="150942"/>
                  </a:lnTo>
                  <a:lnTo>
                    <a:pt x="171281" y="142115"/>
                  </a:lnTo>
                  <a:lnTo>
                    <a:pt x="174861" y="132843"/>
                  </a:lnTo>
                  <a:lnTo>
                    <a:pt x="177247" y="124122"/>
                  </a:lnTo>
                  <a:lnTo>
                    <a:pt x="178837" y="115769"/>
                  </a:lnTo>
                  <a:lnTo>
                    <a:pt x="179898" y="107659"/>
                  </a:lnTo>
                  <a:lnTo>
                    <a:pt x="179758" y="98866"/>
                  </a:lnTo>
                  <a:lnTo>
                    <a:pt x="178819" y="89617"/>
                  </a:lnTo>
                  <a:lnTo>
                    <a:pt x="177345" y="80065"/>
                  </a:lnTo>
                  <a:lnTo>
                    <a:pt x="175517" y="71157"/>
                  </a:lnTo>
                  <a:lnTo>
                    <a:pt x="173451" y="62678"/>
                  </a:lnTo>
                  <a:lnTo>
                    <a:pt x="171227" y="54485"/>
                  </a:lnTo>
                  <a:lnTo>
                    <a:pt x="168051" y="47330"/>
                  </a:lnTo>
                  <a:lnTo>
                    <a:pt x="164240" y="40867"/>
                  </a:lnTo>
                  <a:lnTo>
                    <a:pt x="160006" y="34865"/>
                  </a:lnTo>
                  <a:lnTo>
                    <a:pt x="154644" y="30016"/>
                  </a:lnTo>
                  <a:lnTo>
                    <a:pt x="148529" y="25938"/>
                  </a:lnTo>
                  <a:lnTo>
                    <a:pt x="135808" y="19148"/>
                  </a:lnTo>
                  <a:lnTo>
                    <a:pt x="124510" y="13308"/>
                  </a:lnTo>
                  <a:lnTo>
                    <a:pt x="118280" y="10566"/>
                  </a:lnTo>
                  <a:lnTo>
                    <a:pt x="111586" y="7890"/>
                  </a:lnTo>
                  <a:lnTo>
                    <a:pt x="104584" y="5260"/>
                  </a:lnTo>
                  <a:lnTo>
                    <a:pt x="99069" y="3507"/>
                  </a:lnTo>
                  <a:lnTo>
                    <a:pt x="94545" y="2338"/>
                  </a:lnTo>
                  <a:lnTo>
                    <a:pt x="90684" y="1559"/>
                  </a:lnTo>
                  <a:lnTo>
                    <a:pt x="87262" y="1039"/>
                  </a:lnTo>
                  <a:lnTo>
                    <a:pt x="84134" y="693"/>
                  </a:lnTo>
                  <a:lnTo>
                    <a:pt x="753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202"/>
            <p:cNvSpPr/>
            <p:nvPr/>
          </p:nvSpPr>
          <p:spPr>
            <a:xfrm>
              <a:off x="1808640" y="2255400"/>
              <a:ext cx="197640" cy="53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97830" h="533401">
                  <a:moveTo>
                    <a:pt x="4390" y="0"/>
                  </a:moveTo>
                  <a:lnTo>
                    <a:pt x="345" y="0"/>
                  </a:lnTo>
                  <a:lnTo>
                    <a:pt x="0" y="847"/>
                  </a:lnTo>
                  <a:lnTo>
                    <a:pt x="617" y="2258"/>
                  </a:lnTo>
                  <a:lnTo>
                    <a:pt x="5530" y="8289"/>
                  </a:lnTo>
                  <a:lnTo>
                    <a:pt x="9977" y="12998"/>
                  </a:lnTo>
                  <a:lnTo>
                    <a:pt x="14775" y="17912"/>
                  </a:lnTo>
                  <a:lnTo>
                    <a:pt x="19730" y="25177"/>
                  </a:lnTo>
                  <a:lnTo>
                    <a:pt x="22237" y="29485"/>
                  </a:lnTo>
                  <a:lnTo>
                    <a:pt x="26448" y="35743"/>
                  </a:lnTo>
                  <a:lnTo>
                    <a:pt x="37900" y="51728"/>
                  </a:lnTo>
                  <a:lnTo>
                    <a:pt x="44510" y="59886"/>
                  </a:lnTo>
                  <a:lnTo>
                    <a:pt x="51457" y="67864"/>
                  </a:lnTo>
                  <a:lnTo>
                    <a:pt x="58628" y="75723"/>
                  </a:lnTo>
                  <a:lnTo>
                    <a:pt x="65949" y="85195"/>
                  </a:lnTo>
                  <a:lnTo>
                    <a:pt x="73369" y="95743"/>
                  </a:lnTo>
                  <a:lnTo>
                    <a:pt x="80856" y="107009"/>
                  </a:lnTo>
                  <a:lnTo>
                    <a:pt x="95948" y="130815"/>
                  </a:lnTo>
                  <a:lnTo>
                    <a:pt x="103529" y="143090"/>
                  </a:lnTo>
                  <a:lnTo>
                    <a:pt x="111123" y="156354"/>
                  </a:lnTo>
                  <a:lnTo>
                    <a:pt x="126334" y="184637"/>
                  </a:lnTo>
                  <a:lnTo>
                    <a:pt x="134793" y="198445"/>
                  </a:lnTo>
                  <a:lnTo>
                    <a:pt x="143819" y="211883"/>
                  </a:lnTo>
                  <a:lnTo>
                    <a:pt x="153222" y="225075"/>
                  </a:lnTo>
                  <a:lnTo>
                    <a:pt x="161185" y="238951"/>
                  </a:lnTo>
                  <a:lnTo>
                    <a:pt x="168187" y="253281"/>
                  </a:lnTo>
                  <a:lnTo>
                    <a:pt x="174548" y="267914"/>
                  </a:lnTo>
                  <a:lnTo>
                    <a:pt x="179635" y="282749"/>
                  </a:lnTo>
                  <a:lnTo>
                    <a:pt x="183873" y="297720"/>
                  </a:lnTo>
                  <a:lnTo>
                    <a:pt x="187546" y="312780"/>
                  </a:lnTo>
                  <a:lnTo>
                    <a:pt x="190840" y="327900"/>
                  </a:lnTo>
                  <a:lnTo>
                    <a:pt x="196759" y="358247"/>
                  </a:lnTo>
                  <a:lnTo>
                    <a:pt x="197829" y="371758"/>
                  </a:lnTo>
                  <a:lnTo>
                    <a:pt x="197697" y="384152"/>
                  </a:lnTo>
                  <a:lnTo>
                    <a:pt x="196761" y="395801"/>
                  </a:lnTo>
                  <a:lnTo>
                    <a:pt x="194444" y="406955"/>
                  </a:lnTo>
                  <a:lnTo>
                    <a:pt x="191206" y="417776"/>
                  </a:lnTo>
                  <a:lnTo>
                    <a:pt x="187354" y="428377"/>
                  </a:lnTo>
                  <a:lnTo>
                    <a:pt x="183093" y="437985"/>
                  </a:lnTo>
                  <a:lnTo>
                    <a:pt x="178558" y="446930"/>
                  </a:lnTo>
                  <a:lnTo>
                    <a:pt x="173842" y="455434"/>
                  </a:lnTo>
                  <a:lnTo>
                    <a:pt x="167312" y="463642"/>
                  </a:lnTo>
                  <a:lnTo>
                    <a:pt x="159571" y="471655"/>
                  </a:lnTo>
                  <a:lnTo>
                    <a:pt x="151024" y="479537"/>
                  </a:lnTo>
                  <a:lnTo>
                    <a:pt x="141940" y="486485"/>
                  </a:lnTo>
                  <a:lnTo>
                    <a:pt x="132497" y="492810"/>
                  </a:lnTo>
                  <a:lnTo>
                    <a:pt x="122814" y="498720"/>
                  </a:lnTo>
                  <a:lnTo>
                    <a:pt x="112973" y="503507"/>
                  </a:lnTo>
                  <a:lnTo>
                    <a:pt x="103025" y="507545"/>
                  </a:lnTo>
                  <a:lnTo>
                    <a:pt x="93007" y="511083"/>
                  </a:lnTo>
                  <a:lnTo>
                    <a:pt x="84635" y="514289"/>
                  </a:lnTo>
                  <a:lnTo>
                    <a:pt x="77360" y="517273"/>
                  </a:lnTo>
                  <a:lnTo>
                    <a:pt x="70817" y="520108"/>
                  </a:lnTo>
                  <a:lnTo>
                    <a:pt x="59031" y="525517"/>
                  </a:lnTo>
                  <a:lnTo>
                    <a:pt x="42490" y="533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203"/>
            <p:cNvSpPr/>
            <p:nvPr/>
          </p:nvSpPr>
          <p:spPr>
            <a:xfrm>
              <a:off x="2277720" y="2346840"/>
              <a:ext cx="30240" cy="297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0481" h="297181">
                  <a:moveTo>
                    <a:pt x="30480" y="0"/>
                  </a:moveTo>
                  <a:lnTo>
                    <a:pt x="30480" y="43351"/>
                  </a:lnTo>
                  <a:lnTo>
                    <a:pt x="29633" y="49221"/>
                  </a:lnTo>
                  <a:lnTo>
                    <a:pt x="28222" y="55674"/>
                  </a:lnTo>
                  <a:lnTo>
                    <a:pt x="26435" y="62516"/>
                  </a:lnTo>
                  <a:lnTo>
                    <a:pt x="25243" y="69617"/>
                  </a:lnTo>
                  <a:lnTo>
                    <a:pt x="24449" y="76891"/>
                  </a:lnTo>
                  <a:lnTo>
                    <a:pt x="23919" y="84281"/>
                  </a:lnTo>
                  <a:lnTo>
                    <a:pt x="22719" y="91747"/>
                  </a:lnTo>
                  <a:lnTo>
                    <a:pt x="21073" y="99265"/>
                  </a:lnTo>
                  <a:lnTo>
                    <a:pt x="19129" y="106817"/>
                  </a:lnTo>
                  <a:lnTo>
                    <a:pt x="17832" y="115238"/>
                  </a:lnTo>
                  <a:lnTo>
                    <a:pt x="16968" y="124239"/>
                  </a:lnTo>
                  <a:lnTo>
                    <a:pt x="16392" y="133626"/>
                  </a:lnTo>
                  <a:lnTo>
                    <a:pt x="15161" y="142424"/>
                  </a:lnTo>
                  <a:lnTo>
                    <a:pt x="13494" y="150829"/>
                  </a:lnTo>
                  <a:lnTo>
                    <a:pt x="11536" y="158973"/>
                  </a:lnTo>
                  <a:lnTo>
                    <a:pt x="10230" y="166942"/>
                  </a:lnTo>
                  <a:lnTo>
                    <a:pt x="9360" y="174794"/>
                  </a:lnTo>
                  <a:lnTo>
                    <a:pt x="8780" y="182570"/>
                  </a:lnTo>
                  <a:lnTo>
                    <a:pt x="8393" y="191140"/>
                  </a:lnTo>
                  <a:lnTo>
                    <a:pt x="7964" y="209693"/>
                  </a:lnTo>
                  <a:lnTo>
                    <a:pt x="7003" y="218536"/>
                  </a:lnTo>
                  <a:lnTo>
                    <a:pt x="5515" y="226970"/>
                  </a:lnTo>
                  <a:lnTo>
                    <a:pt x="3677" y="235134"/>
                  </a:lnTo>
                  <a:lnTo>
                    <a:pt x="2451" y="242269"/>
                  </a:lnTo>
                  <a:lnTo>
                    <a:pt x="1634" y="248719"/>
                  </a:lnTo>
                  <a:lnTo>
                    <a:pt x="1089" y="254713"/>
                  </a:lnTo>
                  <a:lnTo>
                    <a:pt x="726" y="260402"/>
                  </a:lnTo>
                  <a:lnTo>
                    <a:pt x="323" y="271239"/>
                  </a:lnTo>
                  <a:lnTo>
                    <a:pt x="64" y="285910"/>
                  </a:lnTo>
                  <a:lnTo>
                    <a:pt x="0" y="2971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204"/>
            <p:cNvSpPr/>
            <p:nvPr/>
          </p:nvSpPr>
          <p:spPr>
            <a:xfrm>
              <a:off x="2193840" y="2491560"/>
              <a:ext cx="220680" cy="45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0981" h="45721">
                  <a:moveTo>
                    <a:pt x="0" y="45720"/>
                  </a:moveTo>
                  <a:lnTo>
                    <a:pt x="0" y="41675"/>
                  </a:lnTo>
                  <a:lnTo>
                    <a:pt x="847" y="40483"/>
                  </a:lnTo>
                  <a:lnTo>
                    <a:pt x="2258" y="39689"/>
                  </a:lnTo>
                  <a:lnTo>
                    <a:pt x="6561" y="38414"/>
                  </a:lnTo>
                  <a:lnTo>
                    <a:pt x="19442" y="34148"/>
                  </a:lnTo>
                  <a:lnTo>
                    <a:pt x="24815" y="32079"/>
                  </a:lnTo>
                  <a:lnTo>
                    <a:pt x="30090" y="29853"/>
                  </a:lnTo>
                  <a:lnTo>
                    <a:pt x="35300" y="27522"/>
                  </a:lnTo>
                  <a:lnTo>
                    <a:pt x="43007" y="25968"/>
                  </a:lnTo>
                  <a:lnTo>
                    <a:pt x="52378" y="24932"/>
                  </a:lnTo>
                  <a:lnTo>
                    <a:pt x="62859" y="24241"/>
                  </a:lnTo>
                  <a:lnTo>
                    <a:pt x="73233" y="22934"/>
                  </a:lnTo>
                  <a:lnTo>
                    <a:pt x="83535" y="21216"/>
                  </a:lnTo>
                  <a:lnTo>
                    <a:pt x="93790" y="19224"/>
                  </a:lnTo>
                  <a:lnTo>
                    <a:pt x="104014" y="17896"/>
                  </a:lnTo>
                  <a:lnTo>
                    <a:pt x="114215" y="17011"/>
                  </a:lnTo>
                  <a:lnTo>
                    <a:pt x="124404" y="16420"/>
                  </a:lnTo>
                  <a:lnTo>
                    <a:pt x="135429" y="15180"/>
                  </a:lnTo>
                  <a:lnTo>
                    <a:pt x="147013" y="13507"/>
                  </a:lnTo>
                  <a:lnTo>
                    <a:pt x="158969" y="11544"/>
                  </a:lnTo>
                  <a:lnTo>
                    <a:pt x="168633" y="10236"/>
                  </a:lnTo>
                  <a:lnTo>
                    <a:pt x="176769" y="9364"/>
                  </a:lnTo>
                  <a:lnTo>
                    <a:pt x="183886" y="8783"/>
                  </a:lnTo>
                  <a:lnTo>
                    <a:pt x="191171" y="7549"/>
                  </a:lnTo>
                  <a:lnTo>
                    <a:pt x="198567" y="5879"/>
                  </a:ln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205"/>
            <p:cNvSpPr/>
            <p:nvPr/>
          </p:nvSpPr>
          <p:spPr>
            <a:xfrm>
              <a:off x="2514600" y="2308680"/>
              <a:ext cx="227880" cy="16740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147" h="167508">
                  <a:moveTo>
                    <a:pt x="75746" y="0"/>
                  </a:moveTo>
                  <a:lnTo>
                    <a:pt x="71701" y="0"/>
                  </a:lnTo>
                  <a:lnTo>
                    <a:pt x="70509" y="847"/>
                  </a:lnTo>
                  <a:lnTo>
                    <a:pt x="69715" y="2258"/>
                  </a:lnTo>
                  <a:lnTo>
                    <a:pt x="68832" y="6084"/>
                  </a:lnTo>
                  <a:lnTo>
                    <a:pt x="68440" y="10606"/>
                  </a:lnTo>
                  <a:lnTo>
                    <a:pt x="67489" y="13844"/>
                  </a:lnTo>
                  <a:lnTo>
                    <a:pt x="66008" y="17696"/>
                  </a:lnTo>
                  <a:lnTo>
                    <a:pt x="64174" y="21957"/>
                  </a:lnTo>
                  <a:lnTo>
                    <a:pt x="59878" y="31208"/>
                  </a:lnTo>
                  <a:lnTo>
                    <a:pt x="42690" y="66083"/>
                  </a:lnTo>
                  <a:lnTo>
                    <a:pt x="39315" y="71149"/>
                  </a:lnTo>
                  <a:lnTo>
                    <a:pt x="35372" y="76219"/>
                  </a:lnTo>
                  <a:lnTo>
                    <a:pt x="31050" y="81293"/>
                  </a:lnTo>
                  <a:lnTo>
                    <a:pt x="27322" y="86369"/>
                  </a:lnTo>
                  <a:lnTo>
                    <a:pt x="23990" y="91446"/>
                  </a:lnTo>
                  <a:lnTo>
                    <a:pt x="20922" y="96524"/>
                  </a:lnTo>
                  <a:lnTo>
                    <a:pt x="18030" y="101603"/>
                  </a:lnTo>
                  <a:lnTo>
                    <a:pt x="12559" y="111761"/>
                  </a:lnTo>
                  <a:lnTo>
                    <a:pt x="4719" y="127001"/>
                  </a:lnTo>
                  <a:lnTo>
                    <a:pt x="2994" y="131234"/>
                  </a:lnTo>
                  <a:lnTo>
                    <a:pt x="1845" y="134903"/>
                  </a:lnTo>
                  <a:lnTo>
                    <a:pt x="1079" y="138195"/>
                  </a:lnTo>
                  <a:lnTo>
                    <a:pt x="568" y="141237"/>
                  </a:lnTo>
                  <a:lnTo>
                    <a:pt x="227" y="144111"/>
                  </a:lnTo>
                  <a:lnTo>
                    <a:pt x="0" y="146874"/>
                  </a:lnTo>
                  <a:lnTo>
                    <a:pt x="696" y="149563"/>
                  </a:lnTo>
                  <a:lnTo>
                    <a:pt x="2006" y="152202"/>
                  </a:lnTo>
                  <a:lnTo>
                    <a:pt x="3726" y="154808"/>
                  </a:lnTo>
                  <a:lnTo>
                    <a:pt x="10153" y="159962"/>
                  </a:lnTo>
                  <a:lnTo>
                    <a:pt x="14237" y="162521"/>
                  </a:lnTo>
                  <a:lnTo>
                    <a:pt x="19500" y="164227"/>
                  </a:lnTo>
                  <a:lnTo>
                    <a:pt x="25549" y="165365"/>
                  </a:lnTo>
                  <a:lnTo>
                    <a:pt x="32121" y="166123"/>
                  </a:lnTo>
                  <a:lnTo>
                    <a:pt x="39889" y="166629"/>
                  </a:lnTo>
                  <a:lnTo>
                    <a:pt x="48455" y="166966"/>
                  </a:lnTo>
                  <a:lnTo>
                    <a:pt x="67850" y="167341"/>
                  </a:lnTo>
                  <a:lnTo>
                    <a:pt x="90581" y="167507"/>
                  </a:lnTo>
                  <a:lnTo>
                    <a:pt x="102570" y="166705"/>
                  </a:lnTo>
                  <a:lnTo>
                    <a:pt x="114795" y="165323"/>
                  </a:lnTo>
                  <a:lnTo>
                    <a:pt x="127179" y="163556"/>
                  </a:lnTo>
                  <a:lnTo>
                    <a:pt x="152227" y="159334"/>
                  </a:lnTo>
                  <a:lnTo>
                    <a:pt x="164833" y="157022"/>
                  </a:lnTo>
                  <a:lnTo>
                    <a:pt x="175777" y="155482"/>
                  </a:lnTo>
                  <a:lnTo>
                    <a:pt x="185614" y="154455"/>
                  </a:lnTo>
                  <a:lnTo>
                    <a:pt x="194711" y="153770"/>
                  </a:lnTo>
                  <a:lnTo>
                    <a:pt x="202470" y="152467"/>
                  </a:lnTo>
                  <a:lnTo>
                    <a:pt x="209335" y="150751"/>
                  </a:lnTo>
                  <a:lnTo>
                    <a:pt x="228146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206"/>
            <p:cNvSpPr/>
            <p:nvPr/>
          </p:nvSpPr>
          <p:spPr>
            <a:xfrm>
              <a:off x="2683080" y="2308680"/>
              <a:ext cx="43920" cy="3502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44218" h="350521">
                  <a:moveTo>
                    <a:pt x="44217" y="0"/>
                  </a:moveTo>
                  <a:lnTo>
                    <a:pt x="44217" y="61550"/>
                  </a:lnTo>
                  <a:lnTo>
                    <a:pt x="43370" y="68973"/>
                  </a:lnTo>
                  <a:lnTo>
                    <a:pt x="41959" y="76462"/>
                  </a:lnTo>
                  <a:lnTo>
                    <a:pt x="40172" y="83995"/>
                  </a:lnTo>
                  <a:lnTo>
                    <a:pt x="38980" y="92403"/>
                  </a:lnTo>
                  <a:lnTo>
                    <a:pt x="38186" y="101395"/>
                  </a:lnTo>
                  <a:lnTo>
                    <a:pt x="37656" y="110777"/>
                  </a:lnTo>
                  <a:lnTo>
                    <a:pt x="36456" y="120418"/>
                  </a:lnTo>
                  <a:lnTo>
                    <a:pt x="34810" y="130232"/>
                  </a:lnTo>
                  <a:lnTo>
                    <a:pt x="26084" y="174362"/>
                  </a:lnTo>
                  <a:lnTo>
                    <a:pt x="21200" y="196592"/>
                  </a:lnTo>
                  <a:lnTo>
                    <a:pt x="11166" y="238458"/>
                  </a:lnTo>
                  <a:lnTo>
                    <a:pt x="8636" y="247872"/>
                  </a:lnTo>
                  <a:lnTo>
                    <a:pt x="3568" y="265105"/>
                  </a:lnTo>
                  <a:lnTo>
                    <a:pt x="1878" y="273257"/>
                  </a:lnTo>
                  <a:lnTo>
                    <a:pt x="751" y="281231"/>
                  </a:lnTo>
                  <a:lnTo>
                    <a:pt x="0" y="289087"/>
                  </a:lnTo>
                  <a:lnTo>
                    <a:pt x="345" y="296865"/>
                  </a:lnTo>
                  <a:lnTo>
                    <a:pt x="1422" y="304590"/>
                  </a:lnTo>
                  <a:lnTo>
                    <a:pt x="2987" y="312280"/>
                  </a:lnTo>
                  <a:lnTo>
                    <a:pt x="4877" y="318253"/>
                  </a:lnTo>
                  <a:lnTo>
                    <a:pt x="6984" y="323082"/>
                  </a:lnTo>
                  <a:lnTo>
                    <a:pt x="9235" y="327148"/>
                  </a:lnTo>
                  <a:lnTo>
                    <a:pt x="13994" y="336181"/>
                  </a:lnTo>
                  <a:lnTo>
                    <a:pt x="16448" y="340961"/>
                  </a:lnTo>
                  <a:lnTo>
                    <a:pt x="18931" y="344147"/>
                  </a:lnTo>
                  <a:lnTo>
                    <a:pt x="21433" y="346272"/>
                  </a:lnTo>
                  <a:lnTo>
                    <a:pt x="28977" y="3505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207"/>
            <p:cNvSpPr/>
            <p:nvPr/>
          </p:nvSpPr>
          <p:spPr>
            <a:xfrm>
              <a:off x="2819520" y="2323800"/>
              <a:ext cx="197640" cy="15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7636" h="159885">
                  <a:moveTo>
                    <a:pt x="98575" y="0"/>
                  </a:moveTo>
                  <a:lnTo>
                    <a:pt x="98575" y="4045"/>
                  </a:lnTo>
                  <a:lnTo>
                    <a:pt x="97729" y="5237"/>
                  </a:lnTo>
                  <a:lnTo>
                    <a:pt x="96318" y="6031"/>
                  </a:lnTo>
                  <a:lnTo>
                    <a:pt x="94530" y="6561"/>
                  </a:lnTo>
                  <a:lnTo>
                    <a:pt x="93339" y="7761"/>
                  </a:lnTo>
                  <a:lnTo>
                    <a:pt x="92544" y="9407"/>
                  </a:lnTo>
                  <a:lnTo>
                    <a:pt x="90815" y="14341"/>
                  </a:lnTo>
                  <a:lnTo>
                    <a:pt x="89168" y="18027"/>
                  </a:lnTo>
                  <a:lnTo>
                    <a:pt x="85081" y="26639"/>
                  </a:lnTo>
                  <a:lnTo>
                    <a:pt x="80442" y="36111"/>
                  </a:lnTo>
                  <a:lnTo>
                    <a:pt x="77173" y="41007"/>
                  </a:lnTo>
                  <a:lnTo>
                    <a:pt x="73301" y="45965"/>
                  </a:lnTo>
                  <a:lnTo>
                    <a:pt x="69025" y="50963"/>
                  </a:lnTo>
                  <a:lnTo>
                    <a:pt x="64482" y="55989"/>
                  </a:lnTo>
                  <a:lnTo>
                    <a:pt x="54918" y="66088"/>
                  </a:lnTo>
                  <a:lnTo>
                    <a:pt x="24873" y="96524"/>
                  </a:lnTo>
                  <a:lnTo>
                    <a:pt x="20654" y="101603"/>
                  </a:lnTo>
                  <a:lnTo>
                    <a:pt x="16994" y="106682"/>
                  </a:lnTo>
                  <a:lnTo>
                    <a:pt x="13708" y="111761"/>
                  </a:lnTo>
                  <a:lnTo>
                    <a:pt x="10670" y="116841"/>
                  </a:lnTo>
                  <a:lnTo>
                    <a:pt x="7799" y="121921"/>
                  </a:lnTo>
                  <a:lnTo>
                    <a:pt x="5038" y="127000"/>
                  </a:lnTo>
                  <a:lnTo>
                    <a:pt x="3197" y="131234"/>
                  </a:lnTo>
                  <a:lnTo>
                    <a:pt x="1970" y="134902"/>
                  </a:lnTo>
                  <a:lnTo>
                    <a:pt x="1152" y="138195"/>
                  </a:lnTo>
                  <a:lnTo>
                    <a:pt x="606" y="141237"/>
                  </a:lnTo>
                  <a:lnTo>
                    <a:pt x="242" y="144111"/>
                  </a:lnTo>
                  <a:lnTo>
                    <a:pt x="0" y="146874"/>
                  </a:lnTo>
                  <a:lnTo>
                    <a:pt x="685" y="149563"/>
                  </a:lnTo>
                  <a:lnTo>
                    <a:pt x="1989" y="152202"/>
                  </a:lnTo>
                  <a:lnTo>
                    <a:pt x="3704" y="154808"/>
                  </a:lnTo>
                  <a:lnTo>
                    <a:pt x="6541" y="156545"/>
                  </a:lnTo>
                  <a:lnTo>
                    <a:pt x="10126" y="157703"/>
                  </a:lnTo>
                  <a:lnTo>
                    <a:pt x="14209" y="158476"/>
                  </a:lnTo>
                  <a:lnTo>
                    <a:pt x="20318" y="158990"/>
                  </a:lnTo>
                  <a:lnTo>
                    <a:pt x="27777" y="159333"/>
                  </a:lnTo>
                  <a:lnTo>
                    <a:pt x="45096" y="159715"/>
                  </a:lnTo>
                  <a:lnTo>
                    <a:pt x="64082" y="159884"/>
                  </a:lnTo>
                  <a:lnTo>
                    <a:pt x="74733" y="159083"/>
                  </a:lnTo>
                  <a:lnTo>
                    <a:pt x="86067" y="157702"/>
                  </a:lnTo>
                  <a:lnTo>
                    <a:pt x="97857" y="155935"/>
                  </a:lnTo>
                  <a:lnTo>
                    <a:pt x="109103" y="153063"/>
                  </a:lnTo>
                  <a:lnTo>
                    <a:pt x="119987" y="149456"/>
                  </a:lnTo>
                  <a:lnTo>
                    <a:pt x="130630" y="145357"/>
                  </a:lnTo>
                  <a:lnTo>
                    <a:pt x="141958" y="141778"/>
                  </a:lnTo>
                  <a:lnTo>
                    <a:pt x="153744" y="138545"/>
                  </a:lnTo>
                  <a:lnTo>
                    <a:pt x="165834" y="135544"/>
                  </a:lnTo>
                  <a:lnTo>
                    <a:pt x="174741" y="132696"/>
                  </a:lnTo>
                  <a:lnTo>
                    <a:pt x="181526" y="129950"/>
                  </a:lnTo>
                  <a:lnTo>
                    <a:pt x="197635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208"/>
            <p:cNvSpPr/>
            <p:nvPr/>
          </p:nvSpPr>
          <p:spPr>
            <a:xfrm>
              <a:off x="3002040" y="2270520"/>
              <a:ext cx="68040" cy="403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8228" h="403861">
                  <a:moveTo>
                    <a:pt x="68227" y="0"/>
                  </a:moveTo>
                  <a:lnTo>
                    <a:pt x="64182" y="4045"/>
                  </a:lnTo>
                  <a:lnTo>
                    <a:pt x="62990" y="6084"/>
                  </a:lnTo>
                  <a:lnTo>
                    <a:pt x="61666" y="10606"/>
                  </a:lnTo>
                  <a:lnTo>
                    <a:pt x="60466" y="12998"/>
                  </a:lnTo>
                  <a:lnTo>
                    <a:pt x="58820" y="15438"/>
                  </a:lnTo>
                  <a:lnTo>
                    <a:pt x="56876" y="17912"/>
                  </a:lnTo>
                  <a:lnTo>
                    <a:pt x="54733" y="21255"/>
                  </a:lnTo>
                  <a:lnTo>
                    <a:pt x="52457" y="25177"/>
                  </a:lnTo>
                  <a:lnTo>
                    <a:pt x="50094" y="29484"/>
                  </a:lnTo>
                  <a:lnTo>
                    <a:pt x="47672" y="34896"/>
                  </a:lnTo>
                  <a:lnTo>
                    <a:pt x="45210" y="41044"/>
                  </a:lnTo>
                  <a:lnTo>
                    <a:pt x="40217" y="54649"/>
                  </a:lnTo>
                  <a:lnTo>
                    <a:pt x="35176" y="69162"/>
                  </a:lnTo>
                  <a:lnTo>
                    <a:pt x="32646" y="77434"/>
                  </a:lnTo>
                  <a:lnTo>
                    <a:pt x="27578" y="95658"/>
                  </a:lnTo>
                  <a:lnTo>
                    <a:pt x="12346" y="155087"/>
                  </a:lnTo>
                  <a:lnTo>
                    <a:pt x="10653" y="166045"/>
                  </a:lnTo>
                  <a:lnTo>
                    <a:pt x="9524" y="177583"/>
                  </a:lnTo>
                  <a:lnTo>
                    <a:pt x="8772" y="189509"/>
                  </a:lnTo>
                  <a:lnTo>
                    <a:pt x="7424" y="200846"/>
                  </a:lnTo>
                  <a:lnTo>
                    <a:pt x="5678" y="211791"/>
                  </a:lnTo>
                  <a:lnTo>
                    <a:pt x="3668" y="222474"/>
                  </a:lnTo>
                  <a:lnTo>
                    <a:pt x="2328" y="232983"/>
                  </a:lnTo>
                  <a:lnTo>
                    <a:pt x="1434" y="243375"/>
                  </a:lnTo>
                  <a:lnTo>
                    <a:pt x="838" y="253690"/>
                  </a:lnTo>
                  <a:lnTo>
                    <a:pt x="177" y="274182"/>
                  </a:lnTo>
                  <a:lnTo>
                    <a:pt x="0" y="284388"/>
                  </a:lnTo>
                  <a:lnTo>
                    <a:pt x="729" y="293732"/>
                  </a:lnTo>
                  <a:lnTo>
                    <a:pt x="2062" y="302502"/>
                  </a:lnTo>
                  <a:lnTo>
                    <a:pt x="3797" y="310888"/>
                  </a:lnTo>
                  <a:lnTo>
                    <a:pt x="4954" y="319865"/>
                  </a:lnTo>
                  <a:lnTo>
                    <a:pt x="5725" y="329237"/>
                  </a:lnTo>
                  <a:lnTo>
                    <a:pt x="6239" y="338871"/>
                  </a:lnTo>
                  <a:lnTo>
                    <a:pt x="7428" y="347834"/>
                  </a:lnTo>
                  <a:lnTo>
                    <a:pt x="9068" y="356350"/>
                  </a:lnTo>
                  <a:lnTo>
                    <a:pt x="11008" y="364566"/>
                  </a:lnTo>
                  <a:lnTo>
                    <a:pt x="13148" y="371738"/>
                  </a:lnTo>
                  <a:lnTo>
                    <a:pt x="15421" y="378212"/>
                  </a:lnTo>
                  <a:lnTo>
                    <a:pt x="17783" y="384222"/>
                  </a:lnTo>
                  <a:lnTo>
                    <a:pt x="19357" y="389074"/>
                  </a:lnTo>
                  <a:lnTo>
                    <a:pt x="20407" y="393156"/>
                  </a:lnTo>
                  <a:lnTo>
                    <a:pt x="22507" y="403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209"/>
            <p:cNvSpPr/>
            <p:nvPr/>
          </p:nvSpPr>
          <p:spPr>
            <a:xfrm>
              <a:off x="3276360" y="2262960"/>
              <a:ext cx="37440" cy="3200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7784" h="320041">
                  <a:moveTo>
                    <a:pt x="37783" y="0"/>
                  </a:moveTo>
                  <a:lnTo>
                    <a:pt x="37783" y="15397"/>
                  </a:lnTo>
                  <a:lnTo>
                    <a:pt x="36937" y="19578"/>
                  </a:lnTo>
                  <a:lnTo>
                    <a:pt x="35526" y="24059"/>
                  </a:lnTo>
                  <a:lnTo>
                    <a:pt x="33739" y="28739"/>
                  </a:lnTo>
                  <a:lnTo>
                    <a:pt x="32546" y="33553"/>
                  </a:lnTo>
                  <a:lnTo>
                    <a:pt x="31752" y="38455"/>
                  </a:lnTo>
                  <a:lnTo>
                    <a:pt x="31223" y="43417"/>
                  </a:lnTo>
                  <a:lnTo>
                    <a:pt x="30023" y="49264"/>
                  </a:lnTo>
                  <a:lnTo>
                    <a:pt x="28376" y="55703"/>
                  </a:lnTo>
                  <a:lnTo>
                    <a:pt x="26432" y="62535"/>
                  </a:lnTo>
                  <a:lnTo>
                    <a:pt x="25136" y="69630"/>
                  </a:lnTo>
                  <a:lnTo>
                    <a:pt x="24272" y="76900"/>
                  </a:lnTo>
                  <a:lnTo>
                    <a:pt x="23695" y="84287"/>
                  </a:lnTo>
                  <a:lnTo>
                    <a:pt x="22465" y="91751"/>
                  </a:lnTo>
                  <a:lnTo>
                    <a:pt x="20798" y="99268"/>
                  </a:lnTo>
                  <a:lnTo>
                    <a:pt x="12038" y="133626"/>
                  </a:lnTo>
                  <a:lnTo>
                    <a:pt x="10460" y="142424"/>
                  </a:lnTo>
                  <a:lnTo>
                    <a:pt x="9408" y="150830"/>
                  </a:lnTo>
                  <a:lnTo>
                    <a:pt x="8706" y="158973"/>
                  </a:lnTo>
                  <a:lnTo>
                    <a:pt x="8239" y="166942"/>
                  </a:lnTo>
                  <a:lnTo>
                    <a:pt x="7719" y="182570"/>
                  </a:lnTo>
                  <a:lnTo>
                    <a:pt x="7426" y="205648"/>
                  </a:lnTo>
                  <a:lnTo>
                    <a:pt x="6539" y="214145"/>
                  </a:lnTo>
                  <a:lnTo>
                    <a:pt x="5100" y="223197"/>
                  </a:lnTo>
                  <a:lnTo>
                    <a:pt x="3295" y="232618"/>
                  </a:lnTo>
                  <a:lnTo>
                    <a:pt x="2091" y="241439"/>
                  </a:lnTo>
                  <a:lnTo>
                    <a:pt x="1288" y="249859"/>
                  </a:lnTo>
                  <a:lnTo>
                    <a:pt x="753" y="258013"/>
                  </a:lnTo>
                  <a:lnTo>
                    <a:pt x="397" y="265988"/>
                  </a:lnTo>
                  <a:lnTo>
                    <a:pt x="0" y="281624"/>
                  </a:lnTo>
                  <a:lnTo>
                    <a:pt x="741" y="289349"/>
                  </a:lnTo>
                  <a:lnTo>
                    <a:pt x="2082" y="297040"/>
                  </a:lnTo>
                  <a:lnTo>
                    <a:pt x="7303" y="3200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210"/>
            <p:cNvSpPr/>
            <p:nvPr/>
          </p:nvSpPr>
          <p:spPr>
            <a:xfrm>
              <a:off x="3200040" y="246096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5" y="22860"/>
                  </a:lnTo>
                  <a:lnTo>
                    <a:pt x="6084" y="22013"/>
                  </a:lnTo>
                  <a:lnTo>
                    <a:pt x="8289" y="20602"/>
                  </a:lnTo>
                  <a:lnTo>
                    <a:pt x="10606" y="18815"/>
                  </a:lnTo>
                  <a:lnTo>
                    <a:pt x="12997" y="17623"/>
                  </a:lnTo>
                  <a:lnTo>
                    <a:pt x="15438" y="16829"/>
                  </a:lnTo>
                  <a:lnTo>
                    <a:pt x="17912" y="16299"/>
                  </a:lnTo>
                  <a:lnTo>
                    <a:pt x="21255" y="15946"/>
                  </a:lnTo>
                  <a:lnTo>
                    <a:pt x="25176" y="15711"/>
                  </a:lnTo>
                  <a:lnTo>
                    <a:pt x="29484" y="15554"/>
                  </a:lnTo>
                  <a:lnTo>
                    <a:pt x="34896" y="14603"/>
                  </a:lnTo>
                  <a:lnTo>
                    <a:pt x="41044" y="13122"/>
                  </a:lnTo>
                  <a:lnTo>
                    <a:pt x="47683" y="11288"/>
                  </a:lnTo>
                  <a:lnTo>
                    <a:pt x="54649" y="10065"/>
                  </a:lnTo>
                  <a:lnTo>
                    <a:pt x="61833" y="9250"/>
                  </a:lnTo>
                  <a:lnTo>
                    <a:pt x="69162" y="8707"/>
                  </a:lnTo>
                  <a:lnTo>
                    <a:pt x="76588" y="8344"/>
                  </a:lnTo>
                  <a:lnTo>
                    <a:pt x="91612" y="7942"/>
                  </a:lnTo>
                  <a:lnTo>
                    <a:pt x="100021" y="6988"/>
                  </a:lnTo>
                  <a:lnTo>
                    <a:pt x="109015" y="5506"/>
                  </a:lnTo>
                  <a:lnTo>
                    <a:pt x="118397" y="3670"/>
                  </a:lnTo>
                  <a:lnTo>
                    <a:pt x="126345" y="2447"/>
                  </a:lnTo>
                  <a:lnTo>
                    <a:pt x="133337" y="1632"/>
                  </a:lnTo>
                  <a:lnTo>
                    <a:pt x="139691" y="1088"/>
                  </a:lnTo>
                  <a:lnTo>
                    <a:pt x="144774" y="725"/>
                  </a:ln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211"/>
            <p:cNvSpPr/>
            <p:nvPr/>
          </p:nvSpPr>
          <p:spPr>
            <a:xfrm>
              <a:off x="3505320" y="2270520"/>
              <a:ext cx="220320" cy="133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20535" h="133841">
                  <a:moveTo>
                    <a:pt x="52894" y="0"/>
                  </a:moveTo>
                  <a:lnTo>
                    <a:pt x="52894" y="4045"/>
                  </a:lnTo>
                  <a:lnTo>
                    <a:pt x="52048" y="6084"/>
                  </a:lnTo>
                  <a:lnTo>
                    <a:pt x="50637" y="8289"/>
                  </a:lnTo>
                  <a:lnTo>
                    <a:pt x="48849" y="10606"/>
                  </a:lnTo>
                  <a:lnTo>
                    <a:pt x="47657" y="12998"/>
                  </a:lnTo>
                  <a:lnTo>
                    <a:pt x="46863" y="15438"/>
                  </a:lnTo>
                  <a:lnTo>
                    <a:pt x="46333" y="17912"/>
                  </a:lnTo>
                  <a:lnTo>
                    <a:pt x="45134" y="20408"/>
                  </a:lnTo>
                  <a:lnTo>
                    <a:pt x="43487" y="22919"/>
                  </a:lnTo>
                  <a:lnTo>
                    <a:pt x="41543" y="25439"/>
                  </a:lnTo>
                  <a:lnTo>
                    <a:pt x="39400" y="28813"/>
                  </a:lnTo>
                  <a:lnTo>
                    <a:pt x="37124" y="32755"/>
                  </a:lnTo>
                  <a:lnTo>
                    <a:pt x="34761" y="37077"/>
                  </a:lnTo>
                  <a:lnTo>
                    <a:pt x="32338" y="40805"/>
                  </a:lnTo>
                  <a:lnTo>
                    <a:pt x="29877" y="44136"/>
                  </a:lnTo>
                  <a:lnTo>
                    <a:pt x="27389" y="47204"/>
                  </a:lnTo>
                  <a:lnTo>
                    <a:pt x="24884" y="50943"/>
                  </a:lnTo>
                  <a:lnTo>
                    <a:pt x="22368" y="55129"/>
                  </a:lnTo>
                  <a:lnTo>
                    <a:pt x="19843" y="59612"/>
                  </a:lnTo>
                  <a:lnTo>
                    <a:pt x="17313" y="63448"/>
                  </a:lnTo>
                  <a:lnTo>
                    <a:pt x="14781" y="66852"/>
                  </a:lnTo>
                  <a:lnTo>
                    <a:pt x="12245" y="69968"/>
                  </a:lnTo>
                  <a:lnTo>
                    <a:pt x="9708" y="73739"/>
                  </a:lnTo>
                  <a:lnTo>
                    <a:pt x="7170" y="77946"/>
                  </a:lnTo>
                  <a:lnTo>
                    <a:pt x="4632" y="82444"/>
                  </a:lnTo>
                  <a:lnTo>
                    <a:pt x="2939" y="87136"/>
                  </a:lnTo>
                  <a:lnTo>
                    <a:pt x="1811" y="91957"/>
                  </a:lnTo>
                  <a:lnTo>
                    <a:pt x="1058" y="96865"/>
                  </a:lnTo>
                  <a:lnTo>
                    <a:pt x="557" y="100984"/>
                  </a:lnTo>
                  <a:lnTo>
                    <a:pt x="223" y="104575"/>
                  </a:lnTo>
                  <a:lnTo>
                    <a:pt x="0" y="107817"/>
                  </a:lnTo>
                  <a:lnTo>
                    <a:pt x="698" y="110825"/>
                  </a:lnTo>
                  <a:lnTo>
                    <a:pt x="2010" y="113676"/>
                  </a:lnTo>
                  <a:lnTo>
                    <a:pt x="3731" y="116425"/>
                  </a:lnTo>
                  <a:lnTo>
                    <a:pt x="5725" y="119103"/>
                  </a:lnTo>
                  <a:lnTo>
                    <a:pt x="7902" y="121735"/>
                  </a:lnTo>
                  <a:lnTo>
                    <a:pt x="10199" y="124337"/>
                  </a:lnTo>
                  <a:lnTo>
                    <a:pt x="14271" y="126071"/>
                  </a:lnTo>
                  <a:lnTo>
                    <a:pt x="19525" y="127227"/>
                  </a:lnTo>
                  <a:lnTo>
                    <a:pt x="25568" y="127998"/>
                  </a:lnTo>
                  <a:lnTo>
                    <a:pt x="32984" y="128512"/>
                  </a:lnTo>
                  <a:lnTo>
                    <a:pt x="41313" y="128855"/>
                  </a:lnTo>
                  <a:lnTo>
                    <a:pt x="50254" y="129083"/>
                  </a:lnTo>
                  <a:lnTo>
                    <a:pt x="59601" y="130082"/>
                  </a:lnTo>
                  <a:lnTo>
                    <a:pt x="69219" y="131595"/>
                  </a:lnTo>
                  <a:lnTo>
                    <a:pt x="79017" y="133450"/>
                  </a:lnTo>
                  <a:lnTo>
                    <a:pt x="90629" y="133840"/>
                  </a:lnTo>
                  <a:lnTo>
                    <a:pt x="103451" y="133253"/>
                  </a:lnTo>
                  <a:lnTo>
                    <a:pt x="117079" y="132015"/>
                  </a:lnTo>
                  <a:lnTo>
                    <a:pt x="129550" y="131190"/>
                  </a:lnTo>
                  <a:lnTo>
                    <a:pt x="141251" y="130641"/>
                  </a:lnTo>
                  <a:lnTo>
                    <a:pt x="163284" y="130029"/>
                  </a:lnTo>
                  <a:lnTo>
                    <a:pt x="184365" y="129757"/>
                  </a:lnTo>
                  <a:lnTo>
                    <a:pt x="193035" y="128838"/>
                  </a:lnTo>
                  <a:lnTo>
                    <a:pt x="200508" y="127379"/>
                  </a:lnTo>
                  <a:lnTo>
                    <a:pt x="220534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212"/>
            <p:cNvSpPr/>
            <p:nvPr/>
          </p:nvSpPr>
          <p:spPr>
            <a:xfrm>
              <a:off x="3657240" y="2247480"/>
              <a:ext cx="60480" cy="281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60829" h="281941">
                  <a:moveTo>
                    <a:pt x="60828" y="0"/>
                  </a:moveTo>
                  <a:lnTo>
                    <a:pt x="60828" y="6561"/>
                  </a:lnTo>
                  <a:lnTo>
                    <a:pt x="59981" y="7761"/>
                  </a:lnTo>
                  <a:lnTo>
                    <a:pt x="58570" y="9407"/>
                  </a:lnTo>
                  <a:lnTo>
                    <a:pt x="56783" y="11352"/>
                  </a:lnTo>
                  <a:lnTo>
                    <a:pt x="55591" y="14341"/>
                  </a:lnTo>
                  <a:lnTo>
                    <a:pt x="54267" y="22178"/>
                  </a:lnTo>
                  <a:lnTo>
                    <a:pt x="53067" y="26639"/>
                  </a:lnTo>
                  <a:lnTo>
                    <a:pt x="51420" y="31306"/>
                  </a:lnTo>
                  <a:lnTo>
                    <a:pt x="49476" y="36111"/>
                  </a:lnTo>
                  <a:lnTo>
                    <a:pt x="47334" y="41007"/>
                  </a:lnTo>
                  <a:lnTo>
                    <a:pt x="42695" y="50963"/>
                  </a:lnTo>
                  <a:lnTo>
                    <a:pt x="40272" y="56835"/>
                  </a:lnTo>
                  <a:lnTo>
                    <a:pt x="37811" y="63290"/>
                  </a:lnTo>
                  <a:lnTo>
                    <a:pt x="32818" y="77236"/>
                  </a:lnTo>
                  <a:lnTo>
                    <a:pt x="27778" y="91900"/>
                  </a:lnTo>
                  <a:lnTo>
                    <a:pt x="25247" y="100213"/>
                  </a:lnTo>
                  <a:lnTo>
                    <a:pt x="17642" y="127248"/>
                  </a:lnTo>
                  <a:lnTo>
                    <a:pt x="12566" y="143761"/>
                  </a:lnTo>
                  <a:lnTo>
                    <a:pt x="4948" y="167338"/>
                  </a:lnTo>
                  <a:lnTo>
                    <a:pt x="3255" y="175059"/>
                  </a:lnTo>
                  <a:lnTo>
                    <a:pt x="2125" y="182746"/>
                  </a:lnTo>
                  <a:lnTo>
                    <a:pt x="1373" y="190410"/>
                  </a:lnTo>
                  <a:lnTo>
                    <a:pt x="871" y="198060"/>
                  </a:lnTo>
                  <a:lnTo>
                    <a:pt x="537" y="205700"/>
                  </a:lnTo>
                  <a:lnTo>
                    <a:pt x="165" y="220962"/>
                  </a:lnTo>
                  <a:lnTo>
                    <a:pt x="0" y="236212"/>
                  </a:lnTo>
                  <a:lnTo>
                    <a:pt x="803" y="242988"/>
                  </a:lnTo>
                  <a:lnTo>
                    <a:pt x="2184" y="249199"/>
                  </a:lnTo>
                  <a:lnTo>
                    <a:pt x="3953" y="255032"/>
                  </a:lnTo>
                  <a:lnTo>
                    <a:pt x="5131" y="259768"/>
                  </a:lnTo>
                  <a:lnTo>
                    <a:pt x="6441" y="267288"/>
                  </a:lnTo>
                  <a:lnTo>
                    <a:pt x="7023" y="273452"/>
                  </a:lnTo>
                  <a:lnTo>
                    <a:pt x="7488" y="2819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213"/>
            <p:cNvSpPr/>
            <p:nvPr/>
          </p:nvSpPr>
          <p:spPr>
            <a:xfrm>
              <a:off x="3741120" y="2369520"/>
              <a:ext cx="194760" cy="2206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4891" h="220981">
                  <a:moveTo>
                    <a:pt x="190500" y="0"/>
                  </a:moveTo>
                  <a:lnTo>
                    <a:pt x="194545" y="4046"/>
                  </a:lnTo>
                  <a:lnTo>
                    <a:pt x="194890" y="5237"/>
                  </a:lnTo>
                  <a:lnTo>
                    <a:pt x="194273" y="6031"/>
                  </a:lnTo>
                  <a:lnTo>
                    <a:pt x="193016" y="6561"/>
                  </a:lnTo>
                  <a:lnTo>
                    <a:pt x="189361" y="11665"/>
                  </a:lnTo>
                  <a:lnTo>
                    <a:pt x="187201" y="15397"/>
                  </a:lnTo>
                  <a:lnTo>
                    <a:pt x="182542" y="24059"/>
                  </a:lnTo>
                  <a:lnTo>
                    <a:pt x="180115" y="28739"/>
                  </a:lnTo>
                  <a:lnTo>
                    <a:pt x="176803" y="34400"/>
                  </a:lnTo>
                  <a:lnTo>
                    <a:pt x="168608" y="47462"/>
                  </a:lnTo>
                  <a:lnTo>
                    <a:pt x="154474" y="69096"/>
                  </a:lnTo>
                  <a:lnTo>
                    <a:pt x="147856" y="75698"/>
                  </a:lnTo>
                  <a:lnTo>
                    <a:pt x="140058" y="81792"/>
                  </a:lnTo>
                  <a:lnTo>
                    <a:pt x="131472" y="87548"/>
                  </a:lnTo>
                  <a:lnTo>
                    <a:pt x="124055" y="94772"/>
                  </a:lnTo>
                  <a:lnTo>
                    <a:pt x="117416" y="102975"/>
                  </a:lnTo>
                  <a:lnTo>
                    <a:pt x="111298" y="111830"/>
                  </a:lnTo>
                  <a:lnTo>
                    <a:pt x="104679" y="120273"/>
                  </a:lnTo>
                  <a:lnTo>
                    <a:pt x="97726" y="128442"/>
                  </a:lnTo>
                  <a:lnTo>
                    <a:pt x="90551" y="136428"/>
                  </a:lnTo>
                  <a:lnTo>
                    <a:pt x="83227" y="143446"/>
                  </a:lnTo>
                  <a:lnTo>
                    <a:pt x="75805" y="149817"/>
                  </a:lnTo>
                  <a:lnTo>
                    <a:pt x="68316" y="155758"/>
                  </a:lnTo>
                  <a:lnTo>
                    <a:pt x="61632" y="162259"/>
                  </a:lnTo>
                  <a:lnTo>
                    <a:pt x="55481" y="169133"/>
                  </a:lnTo>
                  <a:lnTo>
                    <a:pt x="49688" y="176255"/>
                  </a:lnTo>
                  <a:lnTo>
                    <a:pt x="44132" y="182697"/>
                  </a:lnTo>
                  <a:lnTo>
                    <a:pt x="38735" y="188685"/>
                  </a:lnTo>
                  <a:lnTo>
                    <a:pt x="33443" y="194370"/>
                  </a:lnTo>
                  <a:lnTo>
                    <a:pt x="28222" y="199007"/>
                  </a:lnTo>
                  <a:lnTo>
                    <a:pt x="23048" y="202944"/>
                  </a:lnTo>
                  <a:lnTo>
                    <a:pt x="17906" y="206416"/>
                  </a:lnTo>
                  <a:lnTo>
                    <a:pt x="13631" y="209577"/>
                  </a:lnTo>
                  <a:lnTo>
                    <a:pt x="9934" y="212532"/>
                  </a:lnTo>
                  <a:lnTo>
                    <a:pt x="0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214"/>
            <p:cNvSpPr/>
            <p:nvPr/>
          </p:nvSpPr>
          <p:spPr>
            <a:xfrm>
              <a:off x="3786840" y="2400120"/>
              <a:ext cx="205560" cy="1371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5740" h="137161">
                  <a:moveTo>
                    <a:pt x="0" y="0"/>
                  </a:moveTo>
                  <a:lnTo>
                    <a:pt x="10605" y="10606"/>
                  </a:lnTo>
                  <a:lnTo>
                    <a:pt x="12150" y="13844"/>
                  </a:lnTo>
                  <a:lnTo>
                    <a:pt x="13180" y="17696"/>
                  </a:lnTo>
                  <a:lnTo>
                    <a:pt x="13866" y="21957"/>
                  </a:lnTo>
                  <a:lnTo>
                    <a:pt x="16018" y="26491"/>
                  </a:lnTo>
                  <a:lnTo>
                    <a:pt x="19144" y="31208"/>
                  </a:lnTo>
                  <a:lnTo>
                    <a:pt x="22923" y="36045"/>
                  </a:lnTo>
                  <a:lnTo>
                    <a:pt x="26288" y="40963"/>
                  </a:lnTo>
                  <a:lnTo>
                    <a:pt x="29379" y="45936"/>
                  </a:lnTo>
                  <a:lnTo>
                    <a:pt x="32286" y="50944"/>
                  </a:lnTo>
                  <a:lnTo>
                    <a:pt x="35917" y="55129"/>
                  </a:lnTo>
                  <a:lnTo>
                    <a:pt x="40032" y="58766"/>
                  </a:lnTo>
                  <a:lnTo>
                    <a:pt x="44467" y="62037"/>
                  </a:lnTo>
                  <a:lnTo>
                    <a:pt x="56169" y="70188"/>
                  </a:lnTo>
                  <a:lnTo>
                    <a:pt x="84378" y="89218"/>
                  </a:lnTo>
                  <a:lnTo>
                    <a:pt x="91812" y="93345"/>
                  </a:lnTo>
                  <a:lnTo>
                    <a:pt x="99307" y="96944"/>
                  </a:lnTo>
                  <a:lnTo>
                    <a:pt x="106845" y="100189"/>
                  </a:lnTo>
                  <a:lnTo>
                    <a:pt x="114410" y="103200"/>
                  </a:lnTo>
                  <a:lnTo>
                    <a:pt x="129588" y="108802"/>
                  </a:lnTo>
                  <a:lnTo>
                    <a:pt x="137192" y="112328"/>
                  </a:lnTo>
                  <a:lnTo>
                    <a:pt x="144801" y="116372"/>
                  </a:lnTo>
                  <a:lnTo>
                    <a:pt x="152413" y="120761"/>
                  </a:lnTo>
                  <a:lnTo>
                    <a:pt x="160029" y="124534"/>
                  </a:lnTo>
                  <a:lnTo>
                    <a:pt x="167646" y="127896"/>
                  </a:lnTo>
                  <a:lnTo>
                    <a:pt x="175263" y="130984"/>
                  </a:lnTo>
                  <a:lnTo>
                    <a:pt x="182035" y="133043"/>
                  </a:lnTo>
                  <a:lnTo>
                    <a:pt x="188243" y="134415"/>
                  </a:lnTo>
                  <a:lnTo>
                    <a:pt x="205739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215"/>
            <p:cNvSpPr/>
            <p:nvPr/>
          </p:nvSpPr>
          <p:spPr>
            <a:xfrm>
              <a:off x="4114440" y="243036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MARTInkAnnotation216"/>
            <p:cNvSpPr/>
            <p:nvPr/>
          </p:nvSpPr>
          <p:spPr>
            <a:xfrm>
              <a:off x="4099320" y="25066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0"/>
                  </a:moveTo>
                  <a:lnTo>
                    <a:pt x="6561" y="6561"/>
                  </a:lnTo>
                  <a:lnTo>
                    <a:pt x="8607" y="6914"/>
                  </a:lnTo>
                  <a:lnTo>
                    <a:pt x="11665" y="7149"/>
                  </a:lnTo>
                  <a:lnTo>
                    <a:pt x="15397" y="7306"/>
                  </a:lnTo>
                  <a:lnTo>
                    <a:pt x="32784" y="7527"/>
                  </a:lnTo>
                  <a:lnTo>
                    <a:pt x="39636" y="8405"/>
                  </a:lnTo>
                  <a:lnTo>
                    <a:pt x="46744" y="9837"/>
                  </a:lnTo>
                  <a:lnTo>
                    <a:pt x="54023" y="11638"/>
                  </a:lnTo>
                  <a:lnTo>
                    <a:pt x="61415" y="12839"/>
                  </a:lnTo>
                  <a:lnTo>
                    <a:pt x="68883" y="13639"/>
                  </a:lnTo>
                  <a:lnTo>
                    <a:pt x="76402" y="14173"/>
                  </a:lnTo>
                  <a:lnTo>
                    <a:pt x="84801" y="14529"/>
                  </a:lnTo>
                  <a:lnTo>
                    <a:pt x="111110" y="15029"/>
                  </a:lnTo>
                  <a:lnTo>
                    <a:pt x="15240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ARTInkAnnotation217"/>
            <p:cNvSpPr/>
            <p:nvPr/>
          </p:nvSpPr>
          <p:spPr>
            <a:xfrm>
              <a:off x="4419720" y="2285640"/>
              <a:ext cx="60480" cy="266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0515" h="266701">
                  <a:moveTo>
                    <a:pt x="60514" y="0"/>
                  </a:moveTo>
                  <a:lnTo>
                    <a:pt x="60514" y="13867"/>
                  </a:lnTo>
                  <a:lnTo>
                    <a:pt x="59667" y="16018"/>
                  </a:lnTo>
                  <a:lnTo>
                    <a:pt x="58257" y="19145"/>
                  </a:lnTo>
                  <a:lnTo>
                    <a:pt x="56469" y="22924"/>
                  </a:lnTo>
                  <a:lnTo>
                    <a:pt x="54430" y="27982"/>
                  </a:lnTo>
                  <a:lnTo>
                    <a:pt x="49909" y="40377"/>
                  </a:lnTo>
                  <a:lnTo>
                    <a:pt x="27483" y="106739"/>
                  </a:lnTo>
                  <a:lnTo>
                    <a:pt x="24947" y="115186"/>
                  </a:lnTo>
                  <a:lnTo>
                    <a:pt x="17332" y="142409"/>
                  </a:lnTo>
                  <a:lnTo>
                    <a:pt x="12253" y="158966"/>
                  </a:lnTo>
                  <a:lnTo>
                    <a:pt x="4634" y="182568"/>
                  </a:lnTo>
                  <a:lnTo>
                    <a:pt x="2941" y="190292"/>
                  </a:lnTo>
                  <a:lnTo>
                    <a:pt x="1812" y="197982"/>
                  </a:lnTo>
                  <a:lnTo>
                    <a:pt x="1060" y="205648"/>
                  </a:lnTo>
                  <a:lnTo>
                    <a:pt x="558" y="212452"/>
                  </a:lnTo>
                  <a:lnTo>
                    <a:pt x="223" y="218681"/>
                  </a:lnTo>
                  <a:lnTo>
                    <a:pt x="0" y="224528"/>
                  </a:lnTo>
                  <a:lnTo>
                    <a:pt x="699" y="230119"/>
                  </a:lnTo>
                  <a:lnTo>
                    <a:pt x="2010" y="235539"/>
                  </a:lnTo>
                  <a:lnTo>
                    <a:pt x="3732" y="240846"/>
                  </a:lnTo>
                  <a:lnTo>
                    <a:pt x="4879" y="245231"/>
                  </a:lnTo>
                  <a:lnTo>
                    <a:pt x="6154" y="252360"/>
                  </a:lnTo>
                  <a:lnTo>
                    <a:pt x="7341" y="255447"/>
                  </a:lnTo>
                  <a:lnTo>
                    <a:pt x="8979" y="258351"/>
                  </a:lnTo>
                  <a:lnTo>
                    <a:pt x="14795" y="2667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ARTInkAnnotation218"/>
            <p:cNvSpPr/>
            <p:nvPr/>
          </p:nvSpPr>
          <p:spPr>
            <a:xfrm>
              <a:off x="4615200" y="2224800"/>
              <a:ext cx="161640" cy="15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61918" h="158382">
                  <a:moveTo>
                    <a:pt x="131934" y="15145"/>
                  </a:moveTo>
                  <a:lnTo>
                    <a:pt x="131934" y="7839"/>
                  </a:lnTo>
                  <a:lnTo>
                    <a:pt x="127890" y="3573"/>
                  </a:lnTo>
                  <a:lnTo>
                    <a:pt x="125373" y="992"/>
                  </a:lnTo>
                  <a:lnTo>
                    <a:pt x="124173" y="629"/>
                  </a:lnTo>
                  <a:lnTo>
                    <a:pt x="120583" y="227"/>
                  </a:lnTo>
                  <a:lnTo>
                    <a:pt x="116165" y="48"/>
                  </a:lnTo>
                  <a:lnTo>
                    <a:pt x="113802" y="0"/>
                  </a:lnTo>
                  <a:lnTo>
                    <a:pt x="109686" y="815"/>
                  </a:lnTo>
                  <a:lnTo>
                    <a:pt x="104402" y="2205"/>
                  </a:lnTo>
                  <a:lnTo>
                    <a:pt x="98339" y="3979"/>
                  </a:lnTo>
                  <a:lnTo>
                    <a:pt x="92604" y="6854"/>
                  </a:lnTo>
                  <a:lnTo>
                    <a:pt x="87087" y="10464"/>
                  </a:lnTo>
                  <a:lnTo>
                    <a:pt x="81716" y="14565"/>
                  </a:lnTo>
                  <a:lnTo>
                    <a:pt x="76442" y="18991"/>
                  </a:lnTo>
                  <a:lnTo>
                    <a:pt x="71233" y="23636"/>
                  </a:lnTo>
                  <a:lnTo>
                    <a:pt x="66067" y="28426"/>
                  </a:lnTo>
                  <a:lnTo>
                    <a:pt x="60082" y="33312"/>
                  </a:lnTo>
                  <a:lnTo>
                    <a:pt x="53553" y="38263"/>
                  </a:lnTo>
                  <a:lnTo>
                    <a:pt x="46660" y="43257"/>
                  </a:lnTo>
                  <a:lnTo>
                    <a:pt x="40371" y="49126"/>
                  </a:lnTo>
                  <a:lnTo>
                    <a:pt x="34486" y="55579"/>
                  </a:lnTo>
                  <a:lnTo>
                    <a:pt x="28868" y="62421"/>
                  </a:lnTo>
                  <a:lnTo>
                    <a:pt x="23431" y="68676"/>
                  </a:lnTo>
                  <a:lnTo>
                    <a:pt x="18112" y="74539"/>
                  </a:lnTo>
                  <a:lnTo>
                    <a:pt x="12873" y="80141"/>
                  </a:lnTo>
                  <a:lnTo>
                    <a:pt x="8533" y="85569"/>
                  </a:lnTo>
                  <a:lnTo>
                    <a:pt x="4794" y="90881"/>
                  </a:lnTo>
                  <a:lnTo>
                    <a:pt x="1453" y="96116"/>
                  </a:lnTo>
                  <a:lnTo>
                    <a:pt x="74" y="101299"/>
                  </a:lnTo>
                  <a:lnTo>
                    <a:pt x="0" y="106448"/>
                  </a:lnTo>
                  <a:lnTo>
                    <a:pt x="798" y="111574"/>
                  </a:lnTo>
                  <a:lnTo>
                    <a:pt x="2177" y="116684"/>
                  </a:lnTo>
                  <a:lnTo>
                    <a:pt x="3943" y="121785"/>
                  </a:lnTo>
                  <a:lnTo>
                    <a:pt x="5967" y="126878"/>
                  </a:lnTo>
                  <a:lnTo>
                    <a:pt x="9009" y="131120"/>
                  </a:lnTo>
                  <a:lnTo>
                    <a:pt x="12731" y="134795"/>
                  </a:lnTo>
                  <a:lnTo>
                    <a:pt x="16906" y="138092"/>
                  </a:lnTo>
                  <a:lnTo>
                    <a:pt x="21381" y="141136"/>
                  </a:lnTo>
                  <a:lnTo>
                    <a:pt x="26059" y="144013"/>
                  </a:lnTo>
                  <a:lnTo>
                    <a:pt x="30870" y="146777"/>
                  </a:lnTo>
                  <a:lnTo>
                    <a:pt x="36619" y="149466"/>
                  </a:lnTo>
                  <a:lnTo>
                    <a:pt x="42990" y="152106"/>
                  </a:lnTo>
                  <a:lnTo>
                    <a:pt x="49778" y="154712"/>
                  </a:lnTo>
                  <a:lnTo>
                    <a:pt x="56843" y="156450"/>
                  </a:lnTo>
                  <a:lnTo>
                    <a:pt x="64093" y="157608"/>
                  </a:lnTo>
                  <a:lnTo>
                    <a:pt x="71467" y="158381"/>
                  </a:lnTo>
                  <a:lnTo>
                    <a:pt x="78923" y="157202"/>
                  </a:lnTo>
                  <a:lnTo>
                    <a:pt x="86433" y="154723"/>
                  </a:lnTo>
                  <a:lnTo>
                    <a:pt x="93980" y="151377"/>
                  </a:lnTo>
                  <a:lnTo>
                    <a:pt x="101552" y="148300"/>
                  </a:lnTo>
                  <a:lnTo>
                    <a:pt x="109139" y="145402"/>
                  </a:lnTo>
                  <a:lnTo>
                    <a:pt x="116737" y="142623"/>
                  </a:lnTo>
                  <a:lnTo>
                    <a:pt x="123496" y="139077"/>
                  </a:lnTo>
                  <a:lnTo>
                    <a:pt x="129696" y="135020"/>
                  </a:lnTo>
                  <a:lnTo>
                    <a:pt x="135522" y="130621"/>
                  </a:lnTo>
                  <a:lnTo>
                    <a:pt x="140253" y="125149"/>
                  </a:lnTo>
                  <a:lnTo>
                    <a:pt x="144253" y="118961"/>
                  </a:lnTo>
                  <a:lnTo>
                    <a:pt x="147767" y="112296"/>
                  </a:lnTo>
                  <a:lnTo>
                    <a:pt x="150956" y="105312"/>
                  </a:lnTo>
                  <a:lnTo>
                    <a:pt x="153929" y="98116"/>
                  </a:lnTo>
                  <a:lnTo>
                    <a:pt x="156757" y="90779"/>
                  </a:lnTo>
                  <a:lnTo>
                    <a:pt x="158643" y="84195"/>
                  </a:lnTo>
                  <a:lnTo>
                    <a:pt x="159900" y="78112"/>
                  </a:lnTo>
                  <a:lnTo>
                    <a:pt x="160738" y="72363"/>
                  </a:lnTo>
                  <a:lnTo>
                    <a:pt x="161297" y="66837"/>
                  </a:lnTo>
                  <a:lnTo>
                    <a:pt x="161669" y="61459"/>
                  </a:lnTo>
                  <a:lnTo>
                    <a:pt x="161917" y="56181"/>
                  </a:lnTo>
                  <a:lnTo>
                    <a:pt x="161236" y="51816"/>
                  </a:lnTo>
                  <a:lnTo>
                    <a:pt x="159936" y="48059"/>
                  </a:lnTo>
                  <a:lnTo>
                    <a:pt x="158222" y="44708"/>
                  </a:lnTo>
                  <a:lnTo>
                    <a:pt x="155386" y="42473"/>
                  </a:lnTo>
                  <a:lnTo>
                    <a:pt x="151802" y="40984"/>
                  </a:lnTo>
                  <a:lnTo>
                    <a:pt x="147719" y="39991"/>
                  </a:lnTo>
                  <a:lnTo>
                    <a:pt x="144151" y="38482"/>
                  </a:lnTo>
                  <a:lnTo>
                    <a:pt x="140926" y="36630"/>
                  </a:lnTo>
                  <a:lnTo>
                    <a:pt x="137928" y="34548"/>
                  </a:lnTo>
                  <a:lnTo>
                    <a:pt x="134237" y="34007"/>
                  </a:lnTo>
                  <a:lnTo>
                    <a:pt x="130083" y="34493"/>
                  </a:lnTo>
                  <a:lnTo>
                    <a:pt x="119339" y="37311"/>
                  </a:lnTo>
                  <a:lnTo>
                    <a:pt x="115612" y="39954"/>
                  </a:lnTo>
                  <a:lnTo>
                    <a:pt x="109074" y="4562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ARTInkAnnotation219"/>
            <p:cNvSpPr/>
            <p:nvPr/>
          </p:nvSpPr>
          <p:spPr>
            <a:xfrm>
              <a:off x="4588560" y="2377080"/>
              <a:ext cx="158040" cy="1519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51920"/>
                <a:gd name="textAreaBottom" fmla="*/ 151920 h 151920"/>
              </a:gdLst>
              <a:ahLst/>
              <a:rect l="textAreaLeft" t="textAreaTop" r="textAreaRight" b="textAreaBottom"/>
              <a:pathLst>
                <a:path w="158220" h="152155">
                  <a:moveTo>
                    <a:pt x="120276" y="0"/>
                  </a:moveTo>
                  <a:lnTo>
                    <a:pt x="107154" y="6561"/>
                  </a:lnTo>
                  <a:lnTo>
                    <a:pt x="103719" y="9407"/>
                  </a:lnTo>
                  <a:lnTo>
                    <a:pt x="101617" y="11351"/>
                  </a:lnTo>
                  <a:lnTo>
                    <a:pt x="86078" y="26639"/>
                  </a:lnTo>
                  <a:lnTo>
                    <a:pt x="57655" y="55008"/>
                  </a:lnTo>
                  <a:lnTo>
                    <a:pt x="51435" y="62072"/>
                  </a:lnTo>
                  <a:lnTo>
                    <a:pt x="45595" y="69321"/>
                  </a:lnTo>
                  <a:lnTo>
                    <a:pt x="40009" y="76694"/>
                  </a:lnTo>
                  <a:lnTo>
                    <a:pt x="34591" y="83303"/>
                  </a:lnTo>
                  <a:lnTo>
                    <a:pt x="29286" y="89402"/>
                  </a:lnTo>
                  <a:lnTo>
                    <a:pt x="24056" y="95161"/>
                  </a:lnTo>
                  <a:lnTo>
                    <a:pt x="19722" y="101541"/>
                  </a:lnTo>
                  <a:lnTo>
                    <a:pt x="15986" y="108334"/>
                  </a:lnTo>
                  <a:lnTo>
                    <a:pt x="12650" y="115402"/>
                  </a:lnTo>
                  <a:lnTo>
                    <a:pt x="9578" y="120962"/>
                  </a:lnTo>
                  <a:lnTo>
                    <a:pt x="6684" y="125514"/>
                  </a:lnTo>
                  <a:lnTo>
                    <a:pt x="3908" y="129396"/>
                  </a:lnTo>
                  <a:lnTo>
                    <a:pt x="2057" y="133677"/>
                  </a:lnTo>
                  <a:lnTo>
                    <a:pt x="823" y="138225"/>
                  </a:lnTo>
                  <a:lnTo>
                    <a:pt x="0" y="142950"/>
                  </a:lnTo>
                  <a:lnTo>
                    <a:pt x="299" y="146100"/>
                  </a:lnTo>
                  <a:lnTo>
                    <a:pt x="1345" y="148200"/>
                  </a:lnTo>
                  <a:lnTo>
                    <a:pt x="2888" y="149600"/>
                  </a:lnTo>
                  <a:lnTo>
                    <a:pt x="4764" y="150533"/>
                  </a:lnTo>
                  <a:lnTo>
                    <a:pt x="9106" y="151571"/>
                  </a:lnTo>
                  <a:lnTo>
                    <a:pt x="12295" y="151847"/>
                  </a:lnTo>
                  <a:lnTo>
                    <a:pt x="16116" y="152031"/>
                  </a:lnTo>
                  <a:lnTo>
                    <a:pt x="20355" y="152154"/>
                  </a:lnTo>
                  <a:lnTo>
                    <a:pt x="25722" y="151389"/>
                  </a:lnTo>
                  <a:lnTo>
                    <a:pt x="31840" y="150033"/>
                  </a:lnTo>
                  <a:lnTo>
                    <a:pt x="38459" y="148282"/>
                  </a:lnTo>
                  <a:lnTo>
                    <a:pt x="44564" y="145421"/>
                  </a:lnTo>
                  <a:lnTo>
                    <a:pt x="50328" y="141821"/>
                  </a:lnTo>
                  <a:lnTo>
                    <a:pt x="55864" y="137727"/>
                  </a:lnTo>
                  <a:lnTo>
                    <a:pt x="62941" y="133305"/>
                  </a:lnTo>
                  <a:lnTo>
                    <a:pt x="71046" y="128663"/>
                  </a:lnTo>
                  <a:lnTo>
                    <a:pt x="79835" y="123876"/>
                  </a:lnTo>
                  <a:lnTo>
                    <a:pt x="88236" y="118144"/>
                  </a:lnTo>
                  <a:lnTo>
                    <a:pt x="96376" y="111782"/>
                  </a:lnTo>
                  <a:lnTo>
                    <a:pt x="104342" y="105001"/>
                  </a:lnTo>
                  <a:lnTo>
                    <a:pt x="112193" y="98788"/>
                  </a:lnTo>
                  <a:lnTo>
                    <a:pt x="119967" y="92952"/>
                  </a:lnTo>
                  <a:lnTo>
                    <a:pt x="127690" y="87368"/>
                  </a:lnTo>
                  <a:lnTo>
                    <a:pt x="133685" y="81952"/>
                  </a:lnTo>
                  <a:lnTo>
                    <a:pt x="138528" y="76648"/>
                  </a:lnTo>
                  <a:lnTo>
                    <a:pt x="142604" y="71419"/>
                  </a:lnTo>
                  <a:lnTo>
                    <a:pt x="146168" y="67086"/>
                  </a:lnTo>
                  <a:lnTo>
                    <a:pt x="149390" y="63351"/>
                  </a:lnTo>
                  <a:lnTo>
                    <a:pt x="152385" y="60014"/>
                  </a:lnTo>
                  <a:lnTo>
                    <a:pt x="154382" y="56096"/>
                  </a:lnTo>
                  <a:lnTo>
                    <a:pt x="155713" y="51791"/>
                  </a:lnTo>
                  <a:lnTo>
                    <a:pt x="158219" y="38901"/>
                  </a:lnTo>
                  <a:lnTo>
                    <a:pt x="157425" y="38634"/>
                  </a:lnTo>
                  <a:lnTo>
                    <a:pt x="154284" y="38337"/>
                  </a:lnTo>
                  <a:lnTo>
                    <a:pt x="150066" y="38206"/>
                  </a:lnTo>
                  <a:lnTo>
                    <a:pt x="136414" y="38121"/>
                  </a:lnTo>
                  <a:lnTo>
                    <a:pt x="132727" y="38961"/>
                  </a:lnTo>
                  <a:lnTo>
                    <a:pt x="129424" y="40367"/>
                  </a:lnTo>
                  <a:lnTo>
                    <a:pt x="120276" y="457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220"/>
            <p:cNvSpPr/>
            <p:nvPr/>
          </p:nvSpPr>
          <p:spPr>
            <a:xfrm>
              <a:off x="4901400" y="2221920"/>
              <a:ext cx="215280" cy="282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15453" h="282662">
                  <a:moveTo>
                    <a:pt x="127579" y="71264"/>
                  </a:moveTo>
                  <a:lnTo>
                    <a:pt x="123534" y="71264"/>
                  </a:lnTo>
                  <a:lnTo>
                    <a:pt x="121496" y="72111"/>
                  </a:lnTo>
                  <a:lnTo>
                    <a:pt x="115429" y="76501"/>
                  </a:lnTo>
                  <a:lnTo>
                    <a:pt x="113712" y="77825"/>
                  </a:lnTo>
                  <a:lnTo>
                    <a:pt x="108434" y="80671"/>
                  </a:lnTo>
                  <a:lnTo>
                    <a:pt x="104656" y="82616"/>
                  </a:lnTo>
                  <a:lnTo>
                    <a:pt x="99597" y="85605"/>
                  </a:lnTo>
                  <a:lnTo>
                    <a:pt x="87202" y="93442"/>
                  </a:lnTo>
                  <a:lnTo>
                    <a:pt x="65944" y="107375"/>
                  </a:lnTo>
                  <a:lnTo>
                    <a:pt x="59396" y="113118"/>
                  </a:lnTo>
                  <a:lnTo>
                    <a:pt x="53337" y="119487"/>
                  </a:lnTo>
                  <a:lnTo>
                    <a:pt x="47605" y="126272"/>
                  </a:lnTo>
                  <a:lnTo>
                    <a:pt x="42089" y="133336"/>
                  </a:lnTo>
                  <a:lnTo>
                    <a:pt x="36719" y="140585"/>
                  </a:lnTo>
                  <a:lnTo>
                    <a:pt x="26236" y="155414"/>
                  </a:lnTo>
                  <a:lnTo>
                    <a:pt x="15933" y="170471"/>
                  </a:lnTo>
                  <a:lnTo>
                    <a:pt x="11662" y="178042"/>
                  </a:lnTo>
                  <a:lnTo>
                    <a:pt x="7968" y="185629"/>
                  </a:lnTo>
                  <a:lnTo>
                    <a:pt x="4659" y="193228"/>
                  </a:lnTo>
                  <a:lnTo>
                    <a:pt x="2452" y="200833"/>
                  </a:lnTo>
                  <a:lnTo>
                    <a:pt x="981" y="208443"/>
                  </a:lnTo>
                  <a:lnTo>
                    <a:pt x="0" y="216057"/>
                  </a:lnTo>
                  <a:lnTo>
                    <a:pt x="194" y="222826"/>
                  </a:lnTo>
                  <a:lnTo>
                    <a:pt x="1168" y="229032"/>
                  </a:lnTo>
                  <a:lnTo>
                    <a:pt x="2665" y="234863"/>
                  </a:lnTo>
                  <a:lnTo>
                    <a:pt x="5357" y="240443"/>
                  </a:lnTo>
                  <a:lnTo>
                    <a:pt x="8844" y="245857"/>
                  </a:lnTo>
                  <a:lnTo>
                    <a:pt x="12863" y="251159"/>
                  </a:lnTo>
                  <a:lnTo>
                    <a:pt x="17235" y="256387"/>
                  </a:lnTo>
                  <a:lnTo>
                    <a:pt x="21843" y="261566"/>
                  </a:lnTo>
                  <a:lnTo>
                    <a:pt x="26608" y="266712"/>
                  </a:lnTo>
                  <a:lnTo>
                    <a:pt x="32325" y="270989"/>
                  </a:lnTo>
                  <a:lnTo>
                    <a:pt x="38676" y="274688"/>
                  </a:lnTo>
                  <a:lnTo>
                    <a:pt x="45451" y="278000"/>
                  </a:lnTo>
                  <a:lnTo>
                    <a:pt x="53353" y="280208"/>
                  </a:lnTo>
                  <a:lnTo>
                    <a:pt x="62009" y="281680"/>
                  </a:lnTo>
                  <a:lnTo>
                    <a:pt x="71165" y="282661"/>
                  </a:lnTo>
                  <a:lnTo>
                    <a:pt x="81504" y="282469"/>
                  </a:lnTo>
                  <a:lnTo>
                    <a:pt x="92628" y="281494"/>
                  </a:lnTo>
                  <a:lnTo>
                    <a:pt x="104279" y="279997"/>
                  </a:lnTo>
                  <a:lnTo>
                    <a:pt x="114585" y="277306"/>
                  </a:lnTo>
                  <a:lnTo>
                    <a:pt x="123997" y="273819"/>
                  </a:lnTo>
                  <a:lnTo>
                    <a:pt x="132811" y="269801"/>
                  </a:lnTo>
                  <a:lnTo>
                    <a:pt x="142073" y="264582"/>
                  </a:lnTo>
                  <a:lnTo>
                    <a:pt x="151636" y="258563"/>
                  </a:lnTo>
                  <a:lnTo>
                    <a:pt x="161396" y="252010"/>
                  </a:lnTo>
                  <a:lnTo>
                    <a:pt x="170444" y="244254"/>
                  </a:lnTo>
                  <a:lnTo>
                    <a:pt x="179016" y="235698"/>
                  </a:lnTo>
                  <a:lnTo>
                    <a:pt x="187271" y="226607"/>
                  </a:lnTo>
                  <a:lnTo>
                    <a:pt x="194467" y="216313"/>
                  </a:lnTo>
                  <a:lnTo>
                    <a:pt x="200957" y="205216"/>
                  </a:lnTo>
                  <a:lnTo>
                    <a:pt x="206978" y="193585"/>
                  </a:lnTo>
                  <a:lnTo>
                    <a:pt x="210992" y="181598"/>
                  </a:lnTo>
                  <a:lnTo>
                    <a:pt x="213668" y="169374"/>
                  </a:lnTo>
                  <a:lnTo>
                    <a:pt x="215452" y="156991"/>
                  </a:lnTo>
                  <a:lnTo>
                    <a:pt x="214947" y="145348"/>
                  </a:lnTo>
                  <a:lnTo>
                    <a:pt x="212918" y="134200"/>
                  </a:lnTo>
                  <a:lnTo>
                    <a:pt x="209872" y="123382"/>
                  </a:lnTo>
                  <a:lnTo>
                    <a:pt x="205301" y="111936"/>
                  </a:lnTo>
                  <a:lnTo>
                    <a:pt x="199714" y="100072"/>
                  </a:lnTo>
                  <a:lnTo>
                    <a:pt x="193449" y="87929"/>
                  </a:lnTo>
                  <a:lnTo>
                    <a:pt x="185886" y="76447"/>
                  </a:lnTo>
                  <a:lnTo>
                    <a:pt x="177457" y="65406"/>
                  </a:lnTo>
                  <a:lnTo>
                    <a:pt x="168451" y="54659"/>
                  </a:lnTo>
                  <a:lnTo>
                    <a:pt x="159060" y="44954"/>
                  </a:lnTo>
                  <a:lnTo>
                    <a:pt x="149414" y="35944"/>
                  </a:lnTo>
                  <a:lnTo>
                    <a:pt x="139595" y="27397"/>
                  </a:lnTo>
                  <a:lnTo>
                    <a:pt x="128817" y="20853"/>
                  </a:lnTo>
                  <a:lnTo>
                    <a:pt x="117398" y="15643"/>
                  </a:lnTo>
                  <a:lnTo>
                    <a:pt x="105551" y="11324"/>
                  </a:lnTo>
                  <a:lnTo>
                    <a:pt x="94267" y="7597"/>
                  </a:lnTo>
                  <a:lnTo>
                    <a:pt x="83357" y="4266"/>
                  </a:lnTo>
                  <a:lnTo>
                    <a:pt x="72698" y="1199"/>
                  </a:lnTo>
                  <a:lnTo>
                    <a:pt x="63052" y="0"/>
                  </a:lnTo>
                  <a:lnTo>
                    <a:pt x="54081" y="48"/>
                  </a:lnTo>
                  <a:lnTo>
                    <a:pt x="39033" y="1513"/>
                  </a:lnTo>
                  <a:lnTo>
                    <a:pt x="33835" y="1903"/>
                  </a:lnTo>
                  <a:lnTo>
                    <a:pt x="29523" y="2163"/>
                  </a:lnTo>
                  <a:lnTo>
                    <a:pt x="25801" y="3184"/>
                  </a:lnTo>
                  <a:lnTo>
                    <a:pt x="22474" y="4710"/>
                  </a:lnTo>
                  <a:lnTo>
                    <a:pt x="13279" y="10304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21"/>
            <p:cNvSpPr/>
            <p:nvPr/>
          </p:nvSpPr>
          <p:spPr>
            <a:xfrm>
              <a:off x="212760" y="3954600"/>
              <a:ext cx="320040" cy="3045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320041" h="304801">
                  <a:moveTo>
                    <a:pt x="320040" y="0"/>
                  </a:moveTo>
                  <a:lnTo>
                    <a:pt x="315995" y="4045"/>
                  </a:lnTo>
                  <a:lnTo>
                    <a:pt x="314803" y="6083"/>
                  </a:lnTo>
                  <a:lnTo>
                    <a:pt x="312280" y="12997"/>
                  </a:lnTo>
                  <a:lnTo>
                    <a:pt x="306546" y="21254"/>
                  </a:lnTo>
                  <a:lnTo>
                    <a:pt x="301907" y="29484"/>
                  </a:lnTo>
                  <a:lnTo>
                    <a:pt x="298638" y="34896"/>
                  </a:lnTo>
                  <a:lnTo>
                    <a:pt x="290490" y="47683"/>
                  </a:lnTo>
                  <a:lnTo>
                    <a:pt x="285100" y="55495"/>
                  </a:lnTo>
                  <a:lnTo>
                    <a:pt x="272338" y="73207"/>
                  </a:lnTo>
                  <a:lnTo>
                    <a:pt x="255941" y="94626"/>
                  </a:lnTo>
                  <a:lnTo>
                    <a:pt x="187776" y="180526"/>
                  </a:lnTo>
                  <a:lnTo>
                    <a:pt x="176831" y="192318"/>
                  </a:lnTo>
                  <a:lnTo>
                    <a:pt x="165301" y="203565"/>
                  </a:lnTo>
                  <a:lnTo>
                    <a:pt x="153381" y="214450"/>
                  </a:lnTo>
                  <a:lnTo>
                    <a:pt x="142047" y="224247"/>
                  </a:lnTo>
                  <a:lnTo>
                    <a:pt x="131105" y="233318"/>
                  </a:lnTo>
                  <a:lnTo>
                    <a:pt x="109915" y="250170"/>
                  </a:lnTo>
                  <a:lnTo>
                    <a:pt x="89209" y="266127"/>
                  </a:lnTo>
                  <a:lnTo>
                    <a:pt x="70975" y="279427"/>
                  </a:lnTo>
                  <a:lnTo>
                    <a:pt x="62557" y="285345"/>
                  </a:lnTo>
                  <a:lnTo>
                    <a:pt x="54405" y="290137"/>
                  </a:lnTo>
                  <a:lnTo>
                    <a:pt x="46430" y="294178"/>
                  </a:lnTo>
                  <a:lnTo>
                    <a:pt x="38573" y="297719"/>
                  </a:lnTo>
                  <a:lnTo>
                    <a:pt x="32489" y="300079"/>
                  </a:lnTo>
                  <a:lnTo>
                    <a:pt x="23471" y="302702"/>
                  </a:lnTo>
                  <a:lnTo>
                    <a:pt x="14383" y="303867"/>
                  </a:lnTo>
                  <a:lnTo>
                    <a:pt x="0" y="3048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ARTInkAnnotation222"/>
            <p:cNvSpPr/>
            <p:nvPr/>
          </p:nvSpPr>
          <p:spPr>
            <a:xfrm>
              <a:off x="334440" y="3992760"/>
              <a:ext cx="304560" cy="258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01" h="259081">
                  <a:moveTo>
                    <a:pt x="0" y="0"/>
                  </a:moveTo>
                  <a:lnTo>
                    <a:pt x="17912" y="0"/>
                  </a:lnTo>
                  <a:lnTo>
                    <a:pt x="20408" y="846"/>
                  </a:lnTo>
                  <a:lnTo>
                    <a:pt x="25439" y="4045"/>
                  </a:lnTo>
                  <a:lnTo>
                    <a:pt x="32755" y="10546"/>
                  </a:lnTo>
                  <a:lnTo>
                    <a:pt x="37077" y="14651"/>
                  </a:lnTo>
                  <a:lnTo>
                    <a:pt x="41651" y="19927"/>
                  </a:lnTo>
                  <a:lnTo>
                    <a:pt x="46394" y="25985"/>
                  </a:lnTo>
                  <a:lnTo>
                    <a:pt x="51250" y="32563"/>
                  </a:lnTo>
                  <a:lnTo>
                    <a:pt x="61160" y="46646"/>
                  </a:lnTo>
                  <a:lnTo>
                    <a:pt x="66173" y="53957"/>
                  </a:lnTo>
                  <a:lnTo>
                    <a:pt x="78517" y="71112"/>
                  </a:lnTo>
                  <a:lnTo>
                    <a:pt x="85365" y="80428"/>
                  </a:lnTo>
                  <a:lnTo>
                    <a:pt x="92470" y="89179"/>
                  </a:lnTo>
                  <a:lnTo>
                    <a:pt x="99747" y="97552"/>
                  </a:lnTo>
                  <a:lnTo>
                    <a:pt x="107138" y="105675"/>
                  </a:lnTo>
                  <a:lnTo>
                    <a:pt x="115452" y="115323"/>
                  </a:lnTo>
                  <a:lnTo>
                    <a:pt x="133721" y="137333"/>
                  </a:lnTo>
                  <a:lnTo>
                    <a:pt x="143334" y="147435"/>
                  </a:lnTo>
                  <a:lnTo>
                    <a:pt x="153129" y="156710"/>
                  </a:lnTo>
                  <a:lnTo>
                    <a:pt x="163046" y="165434"/>
                  </a:lnTo>
                  <a:lnTo>
                    <a:pt x="173044" y="174635"/>
                  </a:lnTo>
                  <a:lnTo>
                    <a:pt x="193184" y="193892"/>
                  </a:lnTo>
                  <a:lnTo>
                    <a:pt x="204143" y="202921"/>
                  </a:lnTo>
                  <a:lnTo>
                    <a:pt x="215682" y="211481"/>
                  </a:lnTo>
                  <a:lnTo>
                    <a:pt x="227608" y="219727"/>
                  </a:lnTo>
                  <a:lnTo>
                    <a:pt x="238945" y="226918"/>
                  </a:lnTo>
                  <a:lnTo>
                    <a:pt x="249890" y="233405"/>
                  </a:lnTo>
                  <a:lnTo>
                    <a:pt x="260574" y="239424"/>
                  </a:lnTo>
                  <a:lnTo>
                    <a:pt x="270236" y="244282"/>
                  </a:lnTo>
                  <a:lnTo>
                    <a:pt x="279217" y="248368"/>
                  </a:lnTo>
                  <a:lnTo>
                    <a:pt x="304800" y="2590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ARTInkAnnotation223"/>
            <p:cNvSpPr/>
            <p:nvPr/>
          </p:nvSpPr>
          <p:spPr>
            <a:xfrm>
              <a:off x="677520" y="406116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ARTInkAnnotation224"/>
            <p:cNvSpPr/>
            <p:nvPr/>
          </p:nvSpPr>
          <p:spPr>
            <a:xfrm>
              <a:off x="730800" y="4137480"/>
              <a:ext cx="198000" cy="118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8121" h="11993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7"/>
                  </a:lnTo>
                  <a:lnTo>
                    <a:pt x="6561" y="4045"/>
                  </a:lnTo>
                  <a:lnTo>
                    <a:pt x="8607" y="5237"/>
                  </a:lnTo>
                  <a:lnTo>
                    <a:pt x="11665" y="6031"/>
                  </a:lnTo>
                  <a:lnTo>
                    <a:pt x="15397" y="6561"/>
                  </a:lnTo>
                  <a:lnTo>
                    <a:pt x="19578" y="6914"/>
                  </a:lnTo>
                  <a:lnTo>
                    <a:pt x="24059" y="7149"/>
                  </a:lnTo>
                  <a:lnTo>
                    <a:pt x="28739" y="7306"/>
                  </a:lnTo>
                  <a:lnTo>
                    <a:pt x="47462" y="7527"/>
                  </a:lnTo>
                  <a:lnTo>
                    <a:pt x="55348" y="8405"/>
                  </a:lnTo>
                  <a:lnTo>
                    <a:pt x="63992" y="9836"/>
                  </a:lnTo>
                  <a:lnTo>
                    <a:pt x="73141" y="11638"/>
                  </a:lnTo>
                  <a:lnTo>
                    <a:pt x="82628" y="11992"/>
                  </a:lnTo>
                  <a:lnTo>
                    <a:pt x="92338" y="11381"/>
                  </a:lnTo>
                  <a:lnTo>
                    <a:pt x="102199" y="10127"/>
                  </a:lnTo>
                  <a:lnTo>
                    <a:pt x="112159" y="9292"/>
                  </a:lnTo>
                  <a:lnTo>
                    <a:pt x="122186" y="8735"/>
                  </a:lnTo>
                  <a:lnTo>
                    <a:pt x="142358" y="8115"/>
                  </a:lnTo>
                  <a:lnTo>
                    <a:pt x="19812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ARTInkAnnotation225"/>
            <p:cNvSpPr/>
            <p:nvPr/>
          </p:nvSpPr>
          <p:spPr>
            <a:xfrm>
              <a:off x="1033200" y="3843720"/>
              <a:ext cx="215640" cy="403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5676" h="403521">
                  <a:moveTo>
                    <a:pt x="40415" y="72653"/>
                  </a:moveTo>
                  <a:lnTo>
                    <a:pt x="40415" y="49730"/>
                  </a:lnTo>
                  <a:lnTo>
                    <a:pt x="41262" y="46364"/>
                  </a:lnTo>
                  <a:lnTo>
                    <a:pt x="44461" y="40367"/>
                  </a:lnTo>
                  <a:lnTo>
                    <a:pt x="50962" y="32621"/>
                  </a:lnTo>
                  <a:lnTo>
                    <a:pt x="58649" y="24381"/>
                  </a:lnTo>
                  <a:lnTo>
                    <a:pt x="64888" y="17897"/>
                  </a:lnTo>
                  <a:lnTo>
                    <a:pt x="68584" y="14982"/>
                  </a:lnTo>
                  <a:lnTo>
                    <a:pt x="72741" y="12193"/>
                  </a:lnTo>
                  <a:lnTo>
                    <a:pt x="77206" y="9486"/>
                  </a:lnTo>
                  <a:lnTo>
                    <a:pt x="83569" y="7682"/>
                  </a:lnTo>
                  <a:lnTo>
                    <a:pt x="91198" y="6479"/>
                  </a:lnTo>
                  <a:lnTo>
                    <a:pt x="99670" y="5677"/>
                  </a:lnTo>
                  <a:lnTo>
                    <a:pt x="107012" y="4296"/>
                  </a:lnTo>
                  <a:lnTo>
                    <a:pt x="113600" y="2528"/>
                  </a:lnTo>
                  <a:lnTo>
                    <a:pt x="119685" y="503"/>
                  </a:lnTo>
                  <a:lnTo>
                    <a:pt x="126282" y="0"/>
                  </a:lnTo>
                  <a:lnTo>
                    <a:pt x="133219" y="511"/>
                  </a:lnTo>
                  <a:lnTo>
                    <a:pt x="140385" y="1698"/>
                  </a:lnTo>
                  <a:lnTo>
                    <a:pt x="146855" y="3337"/>
                  </a:lnTo>
                  <a:lnTo>
                    <a:pt x="152862" y="5275"/>
                  </a:lnTo>
                  <a:lnTo>
                    <a:pt x="158560" y="7414"/>
                  </a:lnTo>
                  <a:lnTo>
                    <a:pt x="164052" y="9687"/>
                  </a:lnTo>
                  <a:lnTo>
                    <a:pt x="169406" y="12049"/>
                  </a:lnTo>
                  <a:lnTo>
                    <a:pt x="179871" y="16932"/>
                  </a:lnTo>
                  <a:lnTo>
                    <a:pt x="190167" y="21923"/>
                  </a:lnTo>
                  <a:lnTo>
                    <a:pt x="194436" y="26134"/>
                  </a:lnTo>
                  <a:lnTo>
                    <a:pt x="198129" y="31480"/>
                  </a:lnTo>
                  <a:lnTo>
                    <a:pt x="203644" y="43347"/>
                  </a:lnTo>
                  <a:lnTo>
                    <a:pt x="206095" y="54266"/>
                  </a:lnTo>
                  <a:lnTo>
                    <a:pt x="205055" y="60395"/>
                  </a:lnTo>
                  <a:lnTo>
                    <a:pt x="202668" y="67021"/>
                  </a:lnTo>
                  <a:lnTo>
                    <a:pt x="195501" y="82003"/>
                  </a:lnTo>
                  <a:lnTo>
                    <a:pt x="172180" y="129095"/>
                  </a:lnTo>
                  <a:lnTo>
                    <a:pt x="165512" y="139068"/>
                  </a:lnTo>
                  <a:lnTo>
                    <a:pt x="157680" y="149103"/>
                  </a:lnTo>
                  <a:lnTo>
                    <a:pt x="149071" y="159179"/>
                  </a:lnTo>
                  <a:lnTo>
                    <a:pt x="139100" y="170131"/>
                  </a:lnTo>
                  <a:lnTo>
                    <a:pt x="116730" y="193587"/>
                  </a:lnTo>
                  <a:lnTo>
                    <a:pt x="53349" y="257764"/>
                  </a:lnTo>
                  <a:lnTo>
                    <a:pt x="44804" y="268873"/>
                  </a:lnTo>
                  <a:lnTo>
                    <a:pt x="37415" y="280513"/>
                  </a:lnTo>
                  <a:lnTo>
                    <a:pt x="30795" y="292507"/>
                  </a:lnTo>
                  <a:lnTo>
                    <a:pt x="24689" y="303042"/>
                  </a:lnTo>
                  <a:lnTo>
                    <a:pt x="13388" y="321521"/>
                  </a:lnTo>
                  <a:lnTo>
                    <a:pt x="8850" y="330005"/>
                  </a:lnTo>
                  <a:lnTo>
                    <a:pt x="4978" y="338201"/>
                  </a:lnTo>
                  <a:lnTo>
                    <a:pt x="1551" y="346205"/>
                  </a:lnTo>
                  <a:lnTo>
                    <a:pt x="112" y="354081"/>
                  </a:lnTo>
                  <a:lnTo>
                    <a:pt x="0" y="361872"/>
                  </a:lnTo>
                  <a:lnTo>
                    <a:pt x="772" y="369606"/>
                  </a:lnTo>
                  <a:lnTo>
                    <a:pt x="2980" y="375608"/>
                  </a:lnTo>
                  <a:lnTo>
                    <a:pt x="6145" y="380457"/>
                  </a:lnTo>
                  <a:lnTo>
                    <a:pt x="9948" y="384535"/>
                  </a:lnTo>
                  <a:lnTo>
                    <a:pt x="15024" y="388101"/>
                  </a:lnTo>
                  <a:lnTo>
                    <a:pt x="20948" y="391325"/>
                  </a:lnTo>
                  <a:lnTo>
                    <a:pt x="27437" y="394321"/>
                  </a:lnTo>
                  <a:lnTo>
                    <a:pt x="35997" y="397165"/>
                  </a:lnTo>
                  <a:lnTo>
                    <a:pt x="45936" y="399908"/>
                  </a:lnTo>
                  <a:lnTo>
                    <a:pt x="56796" y="402583"/>
                  </a:lnTo>
                  <a:lnTo>
                    <a:pt x="69116" y="403520"/>
                  </a:lnTo>
                  <a:lnTo>
                    <a:pt x="82409" y="403297"/>
                  </a:lnTo>
                  <a:lnTo>
                    <a:pt x="96351" y="402303"/>
                  </a:lnTo>
                  <a:lnTo>
                    <a:pt x="110726" y="400793"/>
                  </a:lnTo>
                  <a:lnTo>
                    <a:pt x="140244" y="396858"/>
                  </a:lnTo>
                  <a:lnTo>
                    <a:pt x="152688" y="394623"/>
                  </a:lnTo>
                  <a:lnTo>
                    <a:pt x="163524" y="392286"/>
                  </a:lnTo>
                  <a:lnTo>
                    <a:pt x="173287" y="389882"/>
                  </a:lnTo>
                  <a:lnTo>
                    <a:pt x="182337" y="387433"/>
                  </a:lnTo>
                  <a:lnTo>
                    <a:pt x="215675" y="37745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MARTInkAnnotation226"/>
            <p:cNvSpPr/>
            <p:nvPr/>
          </p:nvSpPr>
          <p:spPr>
            <a:xfrm>
              <a:off x="1470960" y="3885840"/>
              <a:ext cx="376920" cy="3484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377169" h="348709">
                  <a:moveTo>
                    <a:pt x="98160" y="0"/>
                  </a:moveTo>
                  <a:lnTo>
                    <a:pt x="98160" y="4045"/>
                  </a:lnTo>
                  <a:lnTo>
                    <a:pt x="93645" y="10547"/>
                  </a:lnTo>
                  <a:lnTo>
                    <a:pt x="85993" y="19081"/>
                  </a:lnTo>
                  <a:lnTo>
                    <a:pt x="76948" y="28518"/>
                  </a:lnTo>
                  <a:lnTo>
                    <a:pt x="58291" y="47397"/>
                  </a:lnTo>
                  <a:lnTo>
                    <a:pt x="52107" y="56151"/>
                  </a:lnTo>
                  <a:lnTo>
                    <a:pt x="46292" y="66221"/>
                  </a:lnTo>
                  <a:lnTo>
                    <a:pt x="40721" y="77167"/>
                  </a:lnTo>
                  <a:lnTo>
                    <a:pt x="35314" y="88698"/>
                  </a:lnTo>
                  <a:lnTo>
                    <a:pt x="24791" y="112799"/>
                  </a:lnTo>
                  <a:lnTo>
                    <a:pt x="9346" y="150168"/>
                  </a:lnTo>
                  <a:lnTo>
                    <a:pt x="5931" y="162766"/>
                  </a:lnTo>
                  <a:lnTo>
                    <a:pt x="3654" y="175397"/>
                  </a:lnTo>
                  <a:lnTo>
                    <a:pt x="2136" y="188051"/>
                  </a:lnTo>
                  <a:lnTo>
                    <a:pt x="1124" y="200721"/>
                  </a:lnTo>
                  <a:lnTo>
                    <a:pt x="450" y="213401"/>
                  </a:lnTo>
                  <a:lnTo>
                    <a:pt x="0" y="226087"/>
                  </a:lnTo>
                  <a:lnTo>
                    <a:pt x="1393" y="237932"/>
                  </a:lnTo>
                  <a:lnTo>
                    <a:pt x="4016" y="249215"/>
                  </a:lnTo>
                  <a:lnTo>
                    <a:pt x="7457" y="260123"/>
                  </a:lnTo>
                  <a:lnTo>
                    <a:pt x="12292" y="270782"/>
                  </a:lnTo>
                  <a:lnTo>
                    <a:pt x="18054" y="281275"/>
                  </a:lnTo>
                  <a:lnTo>
                    <a:pt x="24436" y="291657"/>
                  </a:lnTo>
                  <a:lnTo>
                    <a:pt x="32924" y="301118"/>
                  </a:lnTo>
                  <a:lnTo>
                    <a:pt x="42816" y="309965"/>
                  </a:lnTo>
                  <a:lnTo>
                    <a:pt x="53644" y="318403"/>
                  </a:lnTo>
                  <a:lnTo>
                    <a:pt x="65096" y="324876"/>
                  </a:lnTo>
                  <a:lnTo>
                    <a:pt x="76964" y="330037"/>
                  </a:lnTo>
                  <a:lnTo>
                    <a:pt x="89110" y="334325"/>
                  </a:lnTo>
                  <a:lnTo>
                    <a:pt x="102286" y="338030"/>
                  </a:lnTo>
                  <a:lnTo>
                    <a:pt x="116151" y="341347"/>
                  </a:lnTo>
                  <a:lnTo>
                    <a:pt x="130474" y="344404"/>
                  </a:lnTo>
                  <a:lnTo>
                    <a:pt x="145949" y="346443"/>
                  </a:lnTo>
                  <a:lnTo>
                    <a:pt x="162193" y="347802"/>
                  </a:lnTo>
                  <a:lnTo>
                    <a:pt x="178949" y="348708"/>
                  </a:lnTo>
                  <a:lnTo>
                    <a:pt x="196046" y="347619"/>
                  </a:lnTo>
                  <a:lnTo>
                    <a:pt x="213371" y="345199"/>
                  </a:lnTo>
                  <a:lnTo>
                    <a:pt x="230847" y="341893"/>
                  </a:lnTo>
                  <a:lnTo>
                    <a:pt x="247578" y="337148"/>
                  </a:lnTo>
                  <a:lnTo>
                    <a:pt x="263812" y="331446"/>
                  </a:lnTo>
                  <a:lnTo>
                    <a:pt x="279715" y="325104"/>
                  </a:lnTo>
                  <a:lnTo>
                    <a:pt x="293703" y="316643"/>
                  </a:lnTo>
                  <a:lnTo>
                    <a:pt x="306416" y="306768"/>
                  </a:lnTo>
                  <a:lnTo>
                    <a:pt x="318277" y="295952"/>
                  </a:lnTo>
                  <a:lnTo>
                    <a:pt x="329571" y="283661"/>
                  </a:lnTo>
                  <a:lnTo>
                    <a:pt x="340488" y="270388"/>
                  </a:lnTo>
                  <a:lnTo>
                    <a:pt x="351152" y="256458"/>
                  </a:lnTo>
                  <a:lnTo>
                    <a:pt x="359108" y="242939"/>
                  </a:lnTo>
                  <a:lnTo>
                    <a:pt x="365259" y="229693"/>
                  </a:lnTo>
                  <a:lnTo>
                    <a:pt x="370206" y="216629"/>
                  </a:lnTo>
                  <a:lnTo>
                    <a:pt x="373504" y="203686"/>
                  </a:lnTo>
                  <a:lnTo>
                    <a:pt x="375703" y="190824"/>
                  </a:lnTo>
                  <a:lnTo>
                    <a:pt x="377168" y="178016"/>
                  </a:lnTo>
                  <a:lnTo>
                    <a:pt x="376453" y="165244"/>
                  </a:lnTo>
                  <a:lnTo>
                    <a:pt x="374282" y="152496"/>
                  </a:lnTo>
                  <a:lnTo>
                    <a:pt x="371141" y="139764"/>
                  </a:lnTo>
                  <a:lnTo>
                    <a:pt x="365661" y="127889"/>
                  </a:lnTo>
                  <a:lnTo>
                    <a:pt x="358620" y="116586"/>
                  </a:lnTo>
                  <a:lnTo>
                    <a:pt x="350540" y="105664"/>
                  </a:lnTo>
                  <a:lnTo>
                    <a:pt x="340920" y="94996"/>
                  </a:lnTo>
                  <a:lnTo>
                    <a:pt x="330273" y="84498"/>
                  </a:lnTo>
                  <a:lnTo>
                    <a:pt x="318942" y="74112"/>
                  </a:lnTo>
                  <a:lnTo>
                    <a:pt x="307155" y="64648"/>
                  </a:lnTo>
                  <a:lnTo>
                    <a:pt x="295063" y="55799"/>
                  </a:lnTo>
                  <a:lnTo>
                    <a:pt x="282769" y="47359"/>
                  </a:lnTo>
                  <a:lnTo>
                    <a:pt x="269493" y="40039"/>
                  </a:lnTo>
                  <a:lnTo>
                    <a:pt x="255562" y="33466"/>
                  </a:lnTo>
                  <a:lnTo>
                    <a:pt x="241195" y="27391"/>
                  </a:lnTo>
                  <a:lnTo>
                    <a:pt x="226536" y="22494"/>
                  </a:lnTo>
                  <a:lnTo>
                    <a:pt x="211685" y="18382"/>
                  </a:lnTo>
                  <a:lnTo>
                    <a:pt x="196703" y="14795"/>
                  </a:lnTo>
                  <a:lnTo>
                    <a:pt x="182482" y="12404"/>
                  </a:lnTo>
                  <a:lnTo>
                    <a:pt x="168768" y="10809"/>
                  </a:lnTo>
                  <a:lnTo>
                    <a:pt x="155392" y="9746"/>
                  </a:lnTo>
                  <a:lnTo>
                    <a:pt x="143935" y="9037"/>
                  </a:lnTo>
                  <a:lnTo>
                    <a:pt x="124431" y="8250"/>
                  </a:lnTo>
                  <a:lnTo>
                    <a:pt x="116521" y="8887"/>
                  </a:lnTo>
                  <a:lnTo>
                    <a:pt x="109554" y="10158"/>
                  </a:lnTo>
                  <a:lnTo>
                    <a:pt x="9054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0" y="8380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4) Applicatio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You need to build a rectangular frame for a picture that you painted in art class. To fit the picture, the length of the frame needs to be 5 less than 3 times the width. What are the dimensions of the frame if its perimeter is 78 inch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0"/>
          <p:cNvSpPr/>
          <p:nvPr/>
        </p:nvSpPr>
        <p:spPr>
          <a:xfrm>
            <a:off x="419040" y="2971800"/>
            <a:ext cx="2438640" cy="91440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438335" h="914349">
                <a:moveTo>
                  <a:pt x="144750" y="22851"/>
                </a:moveTo>
                <a:lnTo>
                  <a:pt x="144750" y="26897"/>
                </a:lnTo>
                <a:lnTo>
                  <a:pt x="143903" y="28935"/>
                </a:lnTo>
                <a:lnTo>
                  <a:pt x="139513" y="35848"/>
                </a:lnTo>
                <a:lnTo>
                  <a:pt x="138189" y="40763"/>
                </a:lnTo>
                <a:lnTo>
                  <a:pt x="137270" y="67669"/>
                </a:lnTo>
                <a:lnTo>
                  <a:pt x="136345" y="80024"/>
                </a:lnTo>
                <a:lnTo>
                  <a:pt x="131065" y="105173"/>
                </a:lnTo>
                <a:lnTo>
                  <a:pt x="124985" y="129934"/>
                </a:lnTo>
                <a:lnTo>
                  <a:pt x="121960" y="159190"/>
                </a:lnTo>
                <a:lnTo>
                  <a:pt x="118253" y="182224"/>
                </a:lnTo>
                <a:lnTo>
                  <a:pt x="113782" y="204315"/>
                </a:lnTo>
                <a:lnTo>
                  <a:pt x="106505" y="238049"/>
                </a:lnTo>
                <a:lnTo>
                  <a:pt x="96461" y="287374"/>
                </a:lnTo>
                <a:lnTo>
                  <a:pt x="81247" y="369804"/>
                </a:lnTo>
                <a:lnTo>
                  <a:pt x="78427" y="398032"/>
                </a:lnTo>
                <a:lnTo>
                  <a:pt x="77674" y="412672"/>
                </a:lnTo>
                <a:lnTo>
                  <a:pt x="76326" y="427512"/>
                </a:lnTo>
                <a:lnTo>
                  <a:pt x="74581" y="442485"/>
                </a:lnTo>
                <a:lnTo>
                  <a:pt x="72571" y="457547"/>
                </a:lnTo>
                <a:lnTo>
                  <a:pt x="71230" y="472668"/>
                </a:lnTo>
                <a:lnTo>
                  <a:pt x="70337" y="487829"/>
                </a:lnTo>
                <a:lnTo>
                  <a:pt x="69741" y="503016"/>
                </a:lnTo>
                <a:lnTo>
                  <a:pt x="66822" y="531180"/>
                </a:lnTo>
                <a:lnTo>
                  <a:pt x="62702" y="557808"/>
                </a:lnTo>
                <a:lnTo>
                  <a:pt x="58049" y="583754"/>
                </a:lnTo>
                <a:lnTo>
                  <a:pt x="55416" y="611655"/>
                </a:lnTo>
                <a:lnTo>
                  <a:pt x="53399" y="640141"/>
                </a:lnTo>
                <a:lnTo>
                  <a:pt x="49681" y="666913"/>
                </a:lnTo>
                <a:lnTo>
                  <a:pt x="45206" y="692923"/>
                </a:lnTo>
                <a:lnTo>
                  <a:pt x="41242" y="717747"/>
                </a:lnTo>
                <a:lnTo>
                  <a:pt x="39480" y="740069"/>
                </a:lnTo>
                <a:lnTo>
                  <a:pt x="36439" y="761279"/>
                </a:lnTo>
                <a:lnTo>
                  <a:pt x="32265" y="781994"/>
                </a:lnTo>
                <a:lnTo>
                  <a:pt x="27588" y="802490"/>
                </a:lnTo>
                <a:lnTo>
                  <a:pt x="20195" y="829024"/>
                </a:lnTo>
                <a:lnTo>
                  <a:pt x="15348" y="859899"/>
                </a:lnTo>
                <a:lnTo>
                  <a:pt x="9373" y="883182"/>
                </a:lnTo>
                <a:lnTo>
                  <a:pt x="8779" y="888505"/>
                </a:lnTo>
                <a:lnTo>
                  <a:pt x="5861" y="896677"/>
                </a:lnTo>
                <a:lnTo>
                  <a:pt x="2588" y="903131"/>
                </a:lnTo>
                <a:lnTo>
                  <a:pt x="0" y="914246"/>
                </a:lnTo>
                <a:lnTo>
                  <a:pt x="4024" y="914348"/>
                </a:lnTo>
                <a:lnTo>
                  <a:pt x="5213" y="913516"/>
                </a:lnTo>
                <a:lnTo>
                  <a:pt x="6005" y="912114"/>
                </a:lnTo>
                <a:lnTo>
                  <a:pt x="6533" y="910333"/>
                </a:lnTo>
                <a:lnTo>
                  <a:pt x="8579" y="909146"/>
                </a:lnTo>
                <a:lnTo>
                  <a:pt x="15367" y="907826"/>
                </a:lnTo>
                <a:lnTo>
                  <a:pt x="24029" y="902724"/>
                </a:lnTo>
                <a:lnTo>
                  <a:pt x="62505" y="877535"/>
                </a:lnTo>
                <a:lnTo>
                  <a:pt x="97805" y="859102"/>
                </a:lnTo>
                <a:lnTo>
                  <a:pt x="181867" y="831728"/>
                </a:lnTo>
                <a:lnTo>
                  <a:pt x="250046" y="813560"/>
                </a:lnTo>
                <a:lnTo>
                  <a:pt x="277062" y="806077"/>
                </a:lnTo>
                <a:lnTo>
                  <a:pt x="387164" y="792152"/>
                </a:lnTo>
                <a:lnTo>
                  <a:pt x="457359" y="782248"/>
                </a:lnTo>
                <a:lnTo>
                  <a:pt x="542269" y="775634"/>
                </a:lnTo>
                <a:lnTo>
                  <a:pt x="612363" y="770801"/>
                </a:lnTo>
                <a:lnTo>
                  <a:pt x="683280" y="769846"/>
                </a:lnTo>
                <a:lnTo>
                  <a:pt x="754360" y="767400"/>
                </a:lnTo>
                <a:lnTo>
                  <a:pt x="825472" y="763060"/>
                </a:lnTo>
                <a:lnTo>
                  <a:pt x="901827" y="762202"/>
                </a:lnTo>
                <a:lnTo>
                  <a:pt x="1575858" y="761991"/>
                </a:lnTo>
                <a:lnTo>
                  <a:pt x="1668225" y="768022"/>
                </a:lnTo>
                <a:lnTo>
                  <a:pt x="1739767" y="769297"/>
                </a:lnTo>
                <a:lnTo>
                  <a:pt x="1805733" y="775632"/>
                </a:lnTo>
                <a:lnTo>
                  <a:pt x="1872699" y="782779"/>
                </a:lnTo>
                <a:lnTo>
                  <a:pt x="1935096" y="788487"/>
                </a:lnTo>
                <a:lnTo>
                  <a:pt x="2009346" y="797978"/>
                </a:lnTo>
                <a:lnTo>
                  <a:pt x="2074847" y="805896"/>
                </a:lnTo>
                <a:lnTo>
                  <a:pt x="2145240" y="819628"/>
                </a:lnTo>
                <a:lnTo>
                  <a:pt x="2219420" y="829382"/>
                </a:lnTo>
                <a:lnTo>
                  <a:pt x="2275417" y="830540"/>
                </a:lnTo>
                <a:lnTo>
                  <a:pt x="2285795" y="828299"/>
                </a:lnTo>
                <a:lnTo>
                  <a:pt x="2295206" y="824481"/>
                </a:lnTo>
                <a:lnTo>
                  <a:pt x="2305264" y="817572"/>
                </a:lnTo>
                <a:lnTo>
                  <a:pt x="2310914" y="812658"/>
                </a:lnTo>
                <a:lnTo>
                  <a:pt x="2318855" y="801086"/>
                </a:lnTo>
                <a:lnTo>
                  <a:pt x="2321753" y="791785"/>
                </a:lnTo>
                <a:lnTo>
                  <a:pt x="2327658" y="767970"/>
                </a:lnTo>
                <a:lnTo>
                  <a:pt x="2330496" y="746265"/>
                </a:lnTo>
                <a:lnTo>
                  <a:pt x="2335382" y="719702"/>
                </a:lnTo>
                <a:lnTo>
                  <a:pt x="2342192" y="690382"/>
                </a:lnTo>
                <a:lnTo>
                  <a:pt x="2349572" y="664292"/>
                </a:lnTo>
                <a:lnTo>
                  <a:pt x="2352337" y="643780"/>
                </a:lnTo>
                <a:lnTo>
                  <a:pt x="2354414" y="621400"/>
                </a:lnTo>
                <a:lnTo>
                  <a:pt x="2358158" y="600164"/>
                </a:lnTo>
                <a:lnTo>
                  <a:pt x="2362645" y="579437"/>
                </a:lnTo>
                <a:lnTo>
                  <a:pt x="2367462" y="558089"/>
                </a:lnTo>
                <a:lnTo>
                  <a:pt x="2387579" y="459604"/>
                </a:lnTo>
                <a:lnTo>
                  <a:pt x="2390397" y="436533"/>
                </a:lnTo>
                <a:lnTo>
                  <a:pt x="2392495" y="414143"/>
                </a:lnTo>
                <a:lnTo>
                  <a:pt x="2396250" y="390081"/>
                </a:lnTo>
                <a:lnTo>
                  <a:pt x="2398483" y="365275"/>
                </a:lnTo>
                <a:lnTo>
                  <a:pt x="2400323" y="340986"/>
                </a:lnTo>
                <a:lnTo>
                  <a:pt x="2403963" y="318902"/>
                </a:lnTo>
                <a:lnTo>
                  <a:pt x="2406144" y="295540"/>
                </a:lnTo>
                <a:lnTo>
                  <a:pt x="2407961" y="271893"/>
                </a:lnTo>
                <a:lnTo>
                  <a:pt x="2411591" y="250094"/>
                </a:lnTo>
                <a:lnTo>
                  <a:pt x="2413768" y="229117"/>
                </a:lnTo>
                <a:lnTo>
                  <a:pt x="2415583" y="209351"/>
                </a:lnTo>
                <a:lnTo>
                  <a:pt x="2420518" y="183097"/>
                </a:lnTo>
                <a:lnTo>
                  <a:pt x="2423203" y="155092"/>
                </a:lnTo>
                <a:lnTo>
                  <a:pt x="2428985" y="130331"/>
                </a:lnTo>
                <a:lnTo>
                  <a:pt x="2435213" y="107755"/>
                </a:lnTo>
                <a:lnTo>
                  <a:pt x="2437747" y="82269"/>
                </a:lnTo>
                <a:lnTo>
                  <a:pt x="2438288" y="56828"/>
                </a:lnTo>
                <a:lnTo>
                  <a:pt x="2438334" y="47547"/>
                </a:lnTo>
                <a:lnTo>
                  <a:pt x="2436096" y="37778"/>
                </a:lnTo>
                <a:lnTo>
                  <a:pt x="2432280" y="28638"/>
                </a:lnTo>
                <a:lnTo>
                  <a:pt x="2427761" y="21755"/>
                </a:lnTo>
                <a:lnTo>
                  <a:pt x="2420673" y="15873"/>
                </a:lnTo>
                <a:lnTo>
                  <a:pt x="2412725" y="11283"/>
                </a:lnTo>
                <a:lnTo>
                  <a:pt x="2384072" y="2697"/>
                </a:lnTo>
                <a:lnTo>
                  <a:pt x="2339982" y="229"/>
                </a:lnTo>
                <a:lnTo>
                  <a:pt x="2245846" y="0"/>
                </a:lnTo>
                <a:lnTo>
                  <a:pt x="2163115" y="6024"/>
                </a:lnTo>
                <a:lnTo>
                  <a:pt x="2092746" y="7297"/>
                </a:lnTo>
                <a:lnTo>
                  <a:pt x="1973113" y="7583"/>
                </a:lnTo>
                <a:lnTo>
                  <a:pt x="1865809" y="13639"/>
                </a:lnTo>
                <a:lnTo>
                  <a:pt x="1797976" y="14759"/>
                </a:lnTo>
                <a:lnTo>
                  <a:pt x="1706788" y="15138"/>
                </a:lnTo>
                <a:lnTo>
                  <a:pt x="1638252" y="11158"/>
                </a:lnTo>
                <a:lnTo>
                  <a:pt x="1569685" y="8662"/>
                </a:lnTo>
                <a:lnTo>
                  <a:pt x="1405280" y="7673"/>
                </a:lnTo>
                <a:lnTo>
                  <a:pt x="1157399" y="7612"/>
                </a:lnTo>
                <a:lnTo>
                  <a:pt x="1093435" y="11657"/>
                </a:lnTo>
                <a:lnTo>
                  <a:pt x="1027540" y="14172"/>
                </a:lnTo>
                <a:lnTo>
                  <a:pt x="902017" y="15138"/>
                </a:lnTo>
                <a:lnTo>
                  <a:pt x="357524" y="15231"/>
                </a:lnTo>
                <a:lnTo>
                  <a:pt x="285411" y="8317"/>
                </a:lnTo>
                <a:lnTo>
                  <a:pt x="210286" y="7623"/>
                </a:lnTo>
                <a:lnTo>
                  <a:pt x="175230" y="761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1"/>
          <p:cNvSpPr/>
          <p:nvPr/>
        </p:nvSpPr>
        <p:spPr>
          <a:xfrm>
            <a:off x="3382920" y="2606760"/>
            <a:ext cx="380880" cy="258840"/>
          </a:xfrm>
          <a:custGeom>
            <a:avLst/>
            <a:gdLst>
              <a:gd name="textAreaLeft" fmla="*/ 0 w 380880"/>
              <a:gd name="textAreaRight" fmla="*/ 381240 w 3808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81000" h="259081">
                <a:moveTo>
                  <a:pt x="380999" y="0"/>
                </a:moveTo>
                <a:lnTo>
                  <a:pt x="374438" y="0"/>
                </a:lnTo>
                <a:lnTo>
                  <a:pt x="369648" y="8090"/>
                </a:lnTo>
                <a:lnTo>
                  <a:pt x="362972" y="14320"/>
                </a:lnTo>
                <a:lnTo>
                  <a:pt x="354360" y="20758"/>
                </a:lnTo>
                <a:lnTo>
                  <a:pt x="349694" y="24845"/>
                </a:lnTo>
                <a:lnTo>
                  <a:pt x="344889" y="29263"/>
                </a:lnTo>
                <a:lnTo>
                  <a:pt x="335035" y="38688"/>
                </a:lnTo>
                <a:lnTo>
                  <a:pt x="289099" y="84300"/>
                </a:lnTo>
                <a:lnTo>
                  <a:pt x="280786" y="90913"/>
                </a:lnTo>
                <a:lnTo>
                  <a:pt x="271857" y="97016"/>
                </a:lnTo>
                <a:lnTo>
                  <a:pt x="262518" y="102777"/>
                </a:lnTo>
                <a:lnTo>
                  <a:pt x="253752" y="109158"/>
                </a:lnTo>
                <a:lnTo>
                  <a:pt x="245368" y="115952"/>
                </a:lnTo>
                <a:lnTo>
                  <a:pt x="237239" y="123021"/>
                </a:lnTo>
                <a:lnTo>
                  <a:pt x="228432" y="130274"/>
                </a:lnTo>
                <a:lnTo>
                  <a:pt x="209616" y="145106"/>
                </a:lnTo>
                <a:lnTo>
                  <a:pt x="179983" y="167737"/>
                </a:lnTo>
                <a:lnTo>
                  <a:pt x="169942" y="174478"/>
                </a:lnTo>
                <a:lnTo>
                  <a:pt x="159861" y="180665"/>
                </a:lnTo>
                <a:lnTo>
                  <a:pt x="149754" y="186484"/>
                </a:lnTo>
                <a:lnTo>
                  <a:pt x="139629" y="192902"/>
                </a:lnTo>
                <a:lnTo>
                  <a:pt x="129493" y="199722"/>
                </a:lnTo>
                <a:lnTo>
                  <a:pt x="92936" y="224871"/>
                </a:lnTo>
                <a:lnTo>
                  <a:pt x="83970" y="229501"/>
                </a:lnTo>
                <a:lnTo>
                  <a:pt x="74607" y="233434"/>
                </a:lnTo>
                <a:lnTo>
                  <a:pt x="64977" y="236903"/>
                </a:lnTo>
                <a:lnTo>
                  <a:pt x="56865" y="240062"/>
                </a:lnTo>
                <a:lnTo>
                  <a:pt x="49763" y="243015"/>
                </a:lnTo>
                <a:lnTo>
                  <a:pt x="43335" y="245830"/>
                </a:lnTo>
                <a:lnTo>
                  <a:pt x="35664" y="248553"/>
                </a:lnTo>
                <a:lnTo>
                  <a:pt x="27162" y="251216"/>
                </a:lnTo>
                <a:lnTo>
                  <a:pt x="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2"/>
          <p:cNvSpPr/>
          <p:nvPr/>
        </p:nvSpPr>
        <p:spPr>
          <a:xfrm>
            <a:off x="3375000" y="2606760"/>
            <a:ext cx="274680" cy="266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74321" h="266701">
                <a:moveTo>
                  <a:pt x="0" y="0"/>
                </a:moveTo>
                <a:lnTo>
                  <a:pt x="6561" y="0"/>
                </a:lnTo>
                <a:lnTo>
                  <a:pt x="11665" y="2258"/>
                </a:lnTo>
                <a:lnTo>
                  <a:pt x="28739" y="10606"/>
                </a:lnTo>
                <a:lnTo>
                  <a:pt x="32706" y="13844"/>
                </a:lnTo>
                <a:lnTo>
                  <a:pt x="39372" y="21957"/>
                </a:lnTo>
                <a:lnTo>
                  <a:pt x="43181" y="26491"/>
                </a:lnTo>
                <a:lnTo>
                  <a:pt x="47414" y="31207"/>
                </a:lnTo>
                <a:lnTo>
                  <a:pt x="51930" y="36045"/>
                </a:lnTo>
                <a:lnTo>
                  <a:pt x="56633" y="41810"/>
                </a:lnTo>
                <a:lnTo>
                  <a:pt x="61462" y="48193"/>
                </a:lnTo>
                <a:lnTo>
                  <a:pt x="71343" y="62059"/>
                </a:lnTo>
                <a:lnTo>
                  <a:pt x="101620" y="106776"/>
                </a:lnTo>
                <a:lnTo>
                  <a:pt x="111769" y="121963"/>
                </a:lnTo>
                <a:lnTo>
                  <a:pt x="117692" y="129569"/>
                </a:lnTo>
                <a:lnTo>
                  <a:pt x="124182" y="137179"/>
                </a:lnTo>
                <a:lnTo>
                  <a:pt x="137319" y="151561"/>
                </a:lnTo>
                <a:lnTo>
                  <a:pt x="148802" y="163598"/>
                </a:lnTo>
                <a:lnTo>
                  <a:pt x="168832" y="183940"/>
                </a:lnTo>
                <a:lnTo>
                  <a:pt x="175208" y="191207"/>
                </a:lnTo>
                <a:lnTo>
                  <a:pt x="181152" y="198591"/>
                </a:lnTo>
                <a:lnTo>
                  <a:pt x="186808" y="206054"/>
                </a:lnTo>
                <a:lnTo>
                  <a:pt x="193119" y="212723"/>
                </a:lnTo>
                <a:lnTo>
                  <a:pt x="199866" y="218862"/>
                </a:lnTo>
                <a:lnTo>
                  <a:pt x="206904" y="224648"/>
                </a:lnTo>
                <a:lnTo>
                  <a:pt x="213290" y="229352"/>
                </a:lnTo>
                <a:lnTo>
                  <a:pt x="219240" y="233334"/>
                </a:lnTo>
                <a:lnTo>
                  <a:pt x="224900" y="236836"/>
                </a:lnTo>
                <a:lnTo>
                  <a:pt x="230366" y="240017"/>
                </a:lnTo>
                <a:lnTo>
                  <a:pt x="240956" y="245810"/>
                </a:lnTo>
                <a:lnTo>
                  <a:pt x="256438" y="253831"/>
                </a:lnTo>
                <a:lnTo>
                  <a:pt x="264397" y="259005"/>
                </a:lnTo>
                <a:lnTo>
                  <a:pt x="27432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3"/>
          <p:cNvSpPr/>
          <p:nvPr/>
        </p:nvSpPr>
        <p:spPr>
          <a:xfrm>
            <a:off x="3772080" y="2674800"/>
            <a:ext cx="274320" cy="22320"/>
          </a:xfrm>
          <a:custGeom>
            <a:avLst/>
            <a:gdLst>
              <a:gd name="textAreaLeft" fmla="*/ 0 w 274320"/>
              <a:gd name="textAreaRight" fmla="*/ 274680 w 274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74321" h="22833">
                <a:moveTo>
                  <a:pt x="0" y="22832"/>
                </a:moveTo>
                <a:lnTo>
                  <a:pt x="6560" y="16271"/>
                </a:lnTo>
                <a:lnTo>
                  <a:pt x="11664" y="15683"/>
                </a:lnTo>
                <a:lnTo>
                  <a:pt x="15396" y="15526"/>
                </a:lnTo>
                <a:lnTo>
                  <a:pt x="19577" y="14575"/>
                </a:lnTo>
                <a:lnTo>
                  <a:pt x="24058" y="13094"/>
                </a:lnTo>
                <a:lnTo>
                  <a:pt x="28739" y="11260"/>
                </a:lnTo>
                <a:lnTo>
                  <a:pt x="34399" y="10037"/>
                </a:lnTo>
                <a:lnTo>
                  <a:pt x="40713" y="9222"/>
                </a:lnTo>
                <a:lnTo>
                  <a:pt x="47461" y="8679"/>
                </a:lnTo>
                <a:lnTo>
                  <a:pt x="54501" y="8316"/>
                </a:lnTo>
                <a:lnTo>
                  <a:pt x="69095" y="7914"/>
                </a:lnTo>
                <a:lnTo>
                  <a:pt x="76544" y="6960"/>
                </a:lnTo>
                <a:lnTo>
                  <a:pt x="84049" y="5478"/>
                </a:lnTo>
                <a:lnTo>
                  <a:pt x="91592" y="3642"/>
                </a:lnTo>
                <a:lnTo>
                  <a:pt x="100008" y="2419"/>
                </a:lnTo>
                <a:lnTo>
                  <a:pt x="109005" y="1603"/>
                </a:lnTo>
                <a:lnTo>
                  <a:pt x="118390" y="1060"/>
                </a:lnTo>
                <a:lnTo>
                  <a:pt x="135591" y="455"/>
                </a:lnTo>
                <a:lnTo>
                  <a:pt x="161812" y="115"/>
                </a:lnTo>
                <a:lnTo>
                  <a:pt x="196968" y="0"/>
                </a:lnTo>
                <a:lnTo>
                  <a:pt x="204972" y="838"/>
                </a:lnTo>
                <a:lnTo>
                  <a:pt x="212848" y="2242"/>
                </a:lnTo>
                <a:lnTo>
                  <a:pt x="220638" y="4026"/>
                </a:lnTo>
                <a:lnTo>
                  <a:pt x="227526" y="5214"/>
                </a:lnTo>
                <a:lnTo>
                  <a:pt x="233811" y="6007"/>
                </a:lnTo>
                <a:lnTo>
                  <a:pt x="239693" y="6535"/>
                </a:lnTo>
                <a:lnTo>
                  <a:pt x="245309" y="6888"/>
                </a:lnTo>
                <a:lnTo>
                  <a:pt x="256063" y="7279"/>
                </a:lnTo>
                <a:lnTo>
                  <a:pt x="274320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4"/>
          <p:cNvSpPr/>
          <p:nvPr/>
        </p:nvSpPr>
        <p:spPr>
          <a:xfrm>
            <a:off x="3832200" y="2743200"/>
            <a:ext cx="222120" cy="22320"/>
          </a:xfrm>
          <a:custGeom>
            <a:avLst/>
            <a:gdLst>
              <a:gd name="textAreaLeft" fmla="*/ 0 w 222120"/>
              <a:gd name="textAreaRight" fmla="*/ 222480 w 2221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2" h="22519">
                <a:moveTo>
                  <a:pt x="0" y="22518"/>
                </a:moveTo>
                <a:lnTo>
                  <a:pt x="17912" y="22518"/>
                </a:lnTo>
                <a:lnTo>
                  <a:pt x="21254" y="21671"/>
                </a:lnTo>
                <a:lnTo>
                  <a:pt x="25176" y="20260"/>
                </a:lnTo>
                <a:lnTo>
                  <a:pt x="29484" y="18472"/>
                </a:lnTo>
                <a:lnTo>
                  <a:pt x="34050" y="17281"/>
                </a:lnTo>
                <a:lnTo>
                  <a:pt x="38786" y="16487"/>
                </a:lnTo>
                <a:lnTo>
                  <a:pt x="43637" y="15957"/>
                </a:lnTo>
                <a:lnTo>
                  <a:pt x="49412" y="15604"/>
                </a:lnTo>
                <a:lnTo>
                  <a:pt x="62601" y="15211"/>
                </a:lnTo>
                <a:lnTo>
                  <a:pt x="69674" y="14260"/>
                </a:lnTo>
                <a:lnTo>
                  <a:pt x="76929" y="12779"/>
                </a:lnTo>
                <a:lnTo>
                  <a:pt x="84306" y="10945"/>
                </a:lnTo>
                <a:lnTo>
                  <a:pt x="91764" y="9723"/>
                </a:lnTo>
                <a:lnTo>
                  <a:pt x="99276" y="8908"/>
                </a:lnTo>
                <a:lnTo>
                  <a:pt x="106825" y="8364"/>
                </a:lnTo>
                <a:lnTo>
                  <a:pt x="114396" y="7156"/>
                </a:lnTo>
                <a:lnTo>
                  <a:pt x="121984" y="5503"/>
                </a:lnTo>
                <a:lnTo>
                  <a:pt x="129583" y="3554"/>
                </a:lnTo>
                <a:lnTo>
                  <a:pt x="137189" y="2256"/>
                </a:lnTo>
                <a:lnTo>
                  <a:pt x="144799" y="1390"/>
                </a:lnTo>
                <a:lnTo>
                  <a:pt x="152413" y="813"/>
                </a:lnTo>
                <a:lnTo>
                  <a:pt x="159182" y="428"/>
                </a:lnTo>
                <a:lnTo>
                  <a:pt x="171218" y="0"/>
                </a:lnTo>
                <a:lnTo>
                  <a:pt x="176799" y="733"/>
                </a:lnTo>
                <a:lnTo>
                  <a:pt x="182213" y="2068"/>
                </a:lnTo>
                <a:lnTo>
                  <a:pt x="187515" y="3804"/>
                </a:lnTo>
                <a:lnTo>
                  <a:pt x="192744" y="4962"/>
                </a:lnTo>
                <a:lnTo>
                  <a:pt x="197923" y="5734"/>
                </a:lnTo>
                <a:lnTo>
                  <a:pt x="203068" y="6249"/>
                </a:lnTo>
                <a:lnTo>
                  <a:pt x="207346" y="6592"/>
                </a:lnTo>
                <a:lnTo>
                  <a:pt x="211044" y="6820"/>
                </a:lnTo>
                <a:lnTo>
                  <a:pt x="220981" y="727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5"/>
          <p:cNvSpPr/>
          <p:nvPr/>
        </p:nvSpPr>
        <p:spPr>
          <a:xfrm>
            <a:off x="4237200" y="2666880"/>
            <a:ext cx="501480" cy="158760"/>
          </a:xfrm>
          <a:custGeom>
            <a:avLst/>
            <a:gdLst>
              <a:gd name="textAreaLeft" fmla="*/ 0 w 501480"/>
              <a:gd name="textAreaRight" fmla="*/ 501840 w 5014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502035" h="159525">
                <a:moveTo>
                  <a:pt x="37969" y="0"/>
                </a:moveTo>
                <a:lnTo>
                  <a:pt x="33924" y="4045"/>
                </a:lnTo>
                <a:lnTo>
                  <a:pt x="32733" y="6084"/>
                </a:lnTo>
                <a:lnTo>
                  <a:pt x="30208" y="13844"/>
                </a:lnTo>
                <a:lnTo>
                  <a:pt x="28562" y="17696"/>
                </a:lnTo>
                <a:lnTo>
                  <a:pt x="24475" y="26491"/>
                </a:lnTo>
                <a:lnTo>
                  <a:pt x="19836" y="36045"/>
                </a:lnTo>
                <a:lnTo>
                  <a:pt x="17414" y="41810"/>
                </a:lnTo>
                <a:lnTo>
                  <a:pt x="14952" y="48194"/>
                </a:lnTo>
                <a:lnTo>
                  <a:pt x="12464" y="54989"/>
                </a:lnTo>
                <a:lnTo>
                  <a:pt x="9959" y="61213"/>
                </a:lnTo>
                <a:lnTo>
                  <a:pt x="7442" y="67055"/>
                </a:lnTo>
                <a:lnTo>
                  <a:pt x="4918" y="72643"/>
                </a:lnTo>
                <a:lnTo>
                  <a:pt x="3235" y="78909"/>
                </a:lnTo>
                <a:lnTo>
                  <a:pt x="2113" y="85626"/>
                </a:lnTo>
                <a:lnTo>
                  <a:pt x="1365" y="92644"/>
                </a:lnTo>
                <a:lnTo>
                  <a:pt x="866" y="99863"/>
                </a:lnTo>
                <a:lnTo>
                  <a:pt x="534" y="107215"/>
                </a:lnTo>
                <a:lnTo>
                  <a:pt x="66" y="127440"/>
                </a:lnTo>
                <a:lnTo>
                  <a:pt x="0" y="133221"/>
                </a:lnTo>
                <a:lnTo>
                  <a:pt x="1650" y="137920"/>
                </a:lnTo>
                <a:lnTo>
                  <a:pt x="4443" y="141900"/>
                </a:lnTo>
                <a:lnTo>
                  <a:pt x="7998" y="145400"/>
                </a:lnTo>
                <a:lnTo>
                  <a:pt x="12062" y="148580"/>
                </a:lnTo>
                <a:lnTo>
                  <a:pt x="16464" y="151547"/>
                </a:lnTo>
                <a:lnTo>
                  <a:pt x="21093" y="154371"/>
                </a:lnTo>
                <a:lnTo>
                  <a:pt x="33008" y="157509"/>
                </a:lnTo>
                <a:lnTo>
                  <a:pt x="47618" y="158904"/>
                </a:lnTo>
                <a:lnTo>
                  <a:pt x="56254" y="159276"/>
                </a:lnTo>
                <a:lnTo>
                  <a:pt x="65400" y="159524"/>
                </a:lnTo>
                <a:lnTo>
                  <a:pt x="74036" y="158843"/>
                </a:lnTo>
                <a:lnTo>
                  <a:pt x="82333" y="157542"/>
                </a:lnTo>
                <a:lnTo>
                  <a:pt x="90405" y="155828"/>
                </a:lnTo>
                <a:lnTo>
                  <a:pt x="99173" y="152992"/>
                </a:lnTo>
                <a:lnTo>
                  <a:pt x="108405" y="149408"/>
                </a:lnTo>
                <a:lnTo>
                  <a:pt x="117946" y="145325"/>
                </a:lnTo>
                <a:lnTo>
                  <a:pt x="126848" y="140910"/>
                </a:lnTo>
                <a:lnTo>
                  <a:pt x="135322" y="136273"/>
                </a:lnTo>
                <a:lnTo>
                  <a:pt x="143510" y="131489"/>
                </a:lnTo>
                <a:lnTo>
                  <a:pt x="159383" y="121657"/>
                </a:lnTo>
                <a:lnTo>
                  <a:pt x="167172" y="116665"/>
                </a:lnTo>
                <a:lnTo>
                  <a:pt x="174057" y="112490"/>
                </a:lnTo>
                <a:lnTo>
                  <a:pt x="180341" y="108860"/>
                </a:lnTo>
                <a:lnTo>
                  <a:pt x="186224" y="105593"/>
                </a:lnTo>
                <a:lnTo>
                  <a:pt x="190993" y="102569"/>
                </a:lnTo>
                <a:lnTo>
                  <a:pt x="195018" y="99706"/>
                </a:lnTo>
                <a:lnTo>
                  <a:pt x="198548" y="96951"/>
                </a:lnTo>
                <a:lnTo>
                  <a:pt x="200902" y="94267"/>
                </a:lnTo>
                <a:lnTo>
                  <a:pt x="202471" y="91631"/>
                </a:lnTo>
                <a:lnTo>
                  <a:pt x="203517" y="89028"/>
                </a:lnTo>
                <a:lnTo>
                  <a:pt x="205062" y="87292"/>
                </a:lnTo>
                <a:lnTo>
                  <a:pt x="206937" y="86134"/>
                </a:lnTo>
                <a:lnTo>
                  <a:pt x="212861" y="83955"/>
                </a:lnTo>
                <a:lnTo>
                  <a:pt x="213120" y="87905"/>
                </a:lnTo>
                <a:lnTo>
                  <a:pt x="213197" y="94438"/>
                </a:lnTo>
                <a:lnTo>
                  <a:pt x="214054" y="96825"/>
                </a:lnTo>
                <a:lnTo>
                  <a:pt x="217265" y="101736"/>
                </a:lnTo>
                <a:lnTo>
                  <a:pt x="220153" y="105077"/>
                </a:lnTo>
                <a:lnTo>
                  <a:pt x="223772" y="108998"/>
                </a:lnTo>
                <a:lnTo>
                  <a:pt x="227877" y="113305"/>
                </a:lnTo>
                <a:lnTo>
                  <a:pt x="233155" y="117023"/>
                </a:lnTo>
                <a:lnTo>
                  <a:pt x="239213" y="120349"/>
                </a:lnTo>
                <a:lnTo>
                  <a:pt x="245792" y="123412"/>
                </a:lnTo>
                <a:lnTo>
                  <a:pt x="254411" y="126302"/>
                </a:lnTo>
                <a:lnTo>
                  <a:pt x="264390" y="129074"/>
                </a:lnTo>
                <a:lnTo>
                  <a:pt x="306779" y="139608"/>
                </a:lnTo>
                <a:lnTo>
                  <a:pt x="317929" y="141332"/>
                </a:lnTo>
                <a:lnTo>
                  <a:pt x="329596" y="142481"/>
                </a:lnTo>
                <a:lnTo>
                  <a:pt x="341607" y="143247"/>
                </a:lnTo>
                <a:lnTo>
                  <a:pt x="354695" y="143758"/>
                </a:lnTo>
                <a:lnTo>
                  <a:pt x="382783" y="144326"/>
                </a:lnTo>
                <a:lnTo>
                  <a:pt x="395692" y="143631"/>
                </a:lnTo>
                <a:lnTo>
                  <a:pt x="407684" y="142320"/>
                </a:lnTo>
                <a:lnTo>
                  <a:pt x="419066" y="140600"/>
                </a:lnTo>
                <a:lnTo>
                  <a:pt x="430040" y="138607"/>
                </a:lnTo>
                <a:lnTo>
                  <a:pt x="440743" y="136431"/>
                </a:lnTo>
                <a:lnTo>
                  <a:pt x="451266" y="134134"/>
                </a:lnTo>
                <a:lnTo>
                  <a:pt x="460820" y="130909"/>
                </a:lnTo>
                <a:lnTo>
                  <a:pt x="469730" y="127066"/>
                </a:lnTo>
                <a:lnTo>
                  <a:pt x="478210" y="122811"/>
                </a:lnTo>
                <a:lnTo>
                  <a:pt x="484710" y="119127"/>
                </a:lnTo>
                <a:lnTo>
                  <a:pt x="489889" y="115825"/>
                </a:lnTo>
                <a:lnTo>
                  <a:pt x="494189" y="112777"/>
                </a:lnTo>
                <a:lnTo>
                  <a:pt x="497055" y="109051"/>
                </a:lnTo>
                <a:lnTo>
                  <a:pt x="498967" y="104874"/>
                </a:lnTo>
                <a:lnTo>
                  <a:pt x="500241" y="100396"/>
                </a:lnTo>
                <a:lnTo>
                  <a:pt x="501090" y="95717"/>
                </a:lnTo>
                <a:lnTo>
                  <a:pt x="501657" y="90905"/>
                </a:lnTo>
                <a:lnTo>
                  <a:pt x="502034" y="86003"/>
                </a:lnTo>
                <a:lnTo>
                  <a:pt x="501439" y="81042"/>
                </a:lnTo>
                <a:lnTo>
                  <a:pt x="500196" y="76041"/>
                </a:lnTo>
                <a:lnTo>
                  <a:pt x="498520" y="71014"/>
                </a:lnTo>
                <a:lnTo>
                  <a:pt x="496557" y="65969"/>
                </a:lnTo>
                <a:lnTo>
                  <a:pt x="494401" y="60913"/>
                </a:lnTo>
                <a:lnTo>
                  <a:pt x="492117" y="55849"/>
                </a:lnTo>
                <a:lnTo>
                  <a:pt x="488900" y="51626"/>
                </a:lnTo>
                <a:lnTo>
                  <a:pt x="485063" y="47964"/>
                </a:lnTo>
                <a:lnTo>
                  <a:pt x="480813" y="44676"/>
                </a:lnTo>
                <a:lnTo>
                  <a:pt x="477131" y="41637"/>
                </a:lnTo>
                <a:lnTo>
                  <a:pt x="473830" y="38765"/>
                </a:lnTo>
                <a:lnTo>
                  <a:pt x="470783" y="36003"/>
                </a:lnTo>
                <a:lnTo>
                  <a:pt x="467905" y="34162"/>
                </a:lnTo>
                <a:lnTo>
                  <a:pt x="462450" y="32117"/>
                </a:lnTo>
                <a:lnTo>
                  <a:pt x="452048" y="30803"/>
                </a:lnTo>
                <a:lnTo>
                  <a:pt x="441829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6"/>
          <p:cNvSpPr/>
          <p:nvPr/>
        </p:nvSpPr>
        <p:spPr>
          <a:xfrm>
            <a:off x="4876920" y="2720880"/>
            <a:ext cx="360" cy="76320"/>
          </a:xfrm>
          <a:custGeom>
            <a:avLst/>
            <a:gdLst>
              <a:gd name="textAreaLeft" fmla="*/ 0 w 360"/>
              <a:gd name="textAreaRight" fmla="*/ 720 w 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" h="76201">
                <a:moveTo>
                  <a:pt x="0" y="0"/>
                </a:moveTo>
                <a:lnTo>
                  <a:pt x="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0"/>
          <p:cNvSpPr/>
          <p:nvPr/>
        </p:nvSpPr>
        <p:spPr>
          <a:xfrm>
            <a:off x="4983120" y="256068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InkAnnotation8"/>
          <p:cNvSpPr/>
          <p:nvPr/>
        </p:nvSpPr>
        <p:spPr>
          <a:xfrm>
            <a:off x="4968720" y="2536920"/>
            <a:ext cx="166680" cy="225360"/>
          </a:xfrm>
          <a:custGeom>
            <a:avLst/>
            <a:gdLst>
              <a:gd name="textAreaLeft" fmla="*/ 0 w 166680"/>
              <a:gd name="textAreaRight" fmla="*/ 167040 w 166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67459" h="225075">
                <a:moveTo>
                  <a:pt x="114118" y="0"/>
                </a:moveTo>
                <a:lnTo>
                  <a:pt x="114118" y="140769"/>
                </a:lnTo>
                <a:lnTo>
                  <a:pt x="114964" y="147186"/>
                </a:lnTo>
                <a:lnTo>
                  <a:pt x="116375" y="154004"/>
                </a:lnTo>
                <a:lnTo>
                  <a:pt x="118163" y="161090"/>
                </a:lnTo>
                <a:lnTo>
                  <a:pt x="119355" y="167506"/>
                </a:lnTo>
                <a:lnTo>
                  <a:pt x="120149" y="173478"/>
                </a:lnTo>
                <a:lnTo>
                  <a:pt x="120679" y="179152"/>
                </a:lnTo>
                <a:lnTo>
                  <a:pt x="121878" y="184628"/>
                </a:lnTo>
                <a:lnTo>
                  <a:pt x="123525" y="189972"/>
                </a:lnTo>
                <a:lnTo>
                  <a:pt x="125469" y="195228"/>
                </a:lnTo>
                <a:lnTo>
                  <a:pt x="126765" y="199579"/>
                </a:lnTo>
                <a:lnTo>
                  <a:pt x="127629" y="203326"/>
                </a:lnTo>
                <a:lnTo>
                  <a:pt x="128590" y="209748"/>
                </a:lnTo>
                <a:lnTo>
                  <a:pt x="129016" y="215424"/>
                </a:lnTo>
                <a:lnTo>
                  <a:pt x="129256" y="219334"/>
                </a:lnTo>
                <a:lnTo>
                  <a:pt x="128444" y="219883"/>
                </a:lnTo>
                <a:lnTo>
                  <a:pt x="125283" y="220493"/>
                </a:lnTo>
                <a:lnTo>
                  <a:pt x="121056" y="220764"/>
                </a:lnTo>
                <a:lnTo>
                  <a:pt x="118743" y="220836"/>
                </a:lnTo>
                <a:lnTo>
                  <a:pt x="116354" y="220038"/>
                </a:lnTo>
                <a:lnTo>
                  <a:pt x="111443" y="216893"/>
                </a:lnTo>
                <a:lnTo>
                  <a:pt x="107254" y="215715"/>
                </a:lnTo>
                <a:lnTo>
                  <a:pt x="101922" y="214930"/>
                </a:lnTo>
                <a:lnTo>
                  <a:pt x="95827" y="214407"/>
                </a:lnTo>
                <a:lnTo>
                  <a:pt x="90071" y="213211"/>
                </a:lnTo>
                <a:lnTo>
                  <a:pt x="84540" y="211568"/>
                </a:lnTo>
                <a:lnTo>
                  <a:pt x="73032" y="207483"/>
                </a:lnTo>
                <a:lnTo>
                  <a:pt x="37524" y="195476"/>
                </a:lnTo>
                <a:lnTo>
                  <a:pt x="30882" y="192970"/>
                </a:lnTo>
                <a:lnTo>
                  <a:pt x="24761" y="190454"/>
                </a:lnTo>
                <a:lnTo>
                  <a:pt x="18987" y="187929"/>
                </a:lnTo>
                <a:lnTo>
                  <a:pt x="14291" y="186247"/>
                </a:lnTo>
                <a:lnTo>
                  <a:pt x="10313" y="185124"/>
                </a:lnTo>
                <a:lnTo>
                  <a:pt x="1891" y="183324"/>
                </a:lnTo>
                <a:lnTo>
                  <a:pt x="1200" y="184023"/>
                </a:lnTo>
                <a:lnTo>
                  <a:pt x="739" y="185335"/>
                </a:lnTo>
                <a:lnTo>
                  <a:pt x="91" y="191228"/>
                </a:lnTo>
                <a:lnTo>
                  <a:pt x="0" y="193525"/>
                </a:lnTo>
                <a:lnTo>
                  <a:pt x="786" y="195904"/>
                </a:lnTo>
                <a:lnTo>
                  <a:pt x="3917" y="200804"/>
                </a:lnTo>
                <a:lnTo>
                  <a:pt x="6784" y="203296"/>
                </a:lnTo>
                <a:lnTo>
                  <a:pt x="10388" y="205805"/>
                </a:lnTo>
                <a:lnTo>
                  <a:pt x="14485" y="208323"/>
                </a:lnTo>
                <a:lnTo>
                  <a:pt x="19755" y="210849"/>
                </a:lnTo>
                <a:lnTo>
                  <a:pt x="25810" y="213379"/>
                </a:lnTo>
                <a:lnTo>
                  <a:pt x="32386" y="215913"/>
                </a:lnTo>
                <a:lnTo>
                  <a:pt x="40156" y="217602"/>
                </a:lnTo>
                <a:lnTo>
                  <a:pt x="48724" y="218728"/>
                </a:lnTo>
                <a:lnTo>
                  <a:pt x="57822" y="219479"/>
                </a:lnTo>
                <a:lnTo>
                  <a:pt x="66427" y="220826"/>
                </a:lnTo>
                <a:lnTo>
                  <a:pt x="74704" y="222571"/>
                </a:lnTo>
                <a:lnTo>
                  <a:pt x="82762" y="224581"/>
                </a:lnTo>
                <a:lnTo>
                  <a:pt x="90673" y="225074"/>
                </a:lnTo>
                <a:lnTo>
                  <a:pt x="98488" y="224556"/>
                </a:lnTo>
                <a:lnTo>
                  <a:pt x="106238" y="223364"/>
                </a:lnTo>
                <a:lnTo>
                  <a:pt x="113945" y="222570"/>
                </a:lnTo>
                <a:lnTo>
                  <a:pt x="121622" y="222040"/>
                </a:lnTo>
                <a:lnTo>
                  <a:pt x="140048" y="221294"/>
                </a:lnTo>
                <a:lnTo>
                  <a:pt x="148502" y="221120"/>
                </a:lnTo>
                <a:lnTo>
                  <a:pt x="16745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9"/>
          <p:cNvSpPr/>
          <p:nvPr/>
        </p:nvSpPr>
        <p:spPr>
          <a:xfrm>
            <a:off x="5227560" y="2598840"/>
            <a:ext cx="84240" cy="160200"/>
          </a:xfrm>
          <a:custGeom>
            <a:avLst/>
            <a:gdLst>
              <a:gd name="textAreaLeft" fmla="*/ 0 w 84240"/>
              <a:gd name="textAreaRight" fmla="*/ 84240 w 842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3822" h="160021">
                <a:moveTo>
                  <a:pt x="0" y="0"/>
                </a:moveTo>
                <a:lnTo>
                  <a:pt x="11352" y="11351"/>
                </a:lnTo>
                <a:lnTo>
                  <a:pt x="13495" y="14341"/>
                </a:lnTo>
                <a:lnTo>
                  <a:pt x="15770" y="18027"/>
                </a:lnTo>
                <a:lnTo>
                  <a:pt x="18133" y="22178"/>
                </a:lnTo>
                <a:lnTo>
                  <a:pt x="23018" y="31306"/>
                </a:lnTo>
                <a:lnTo>
                  <a:pt x="33052" y="50963"/>
                </a:lnTo>
                <a:lnTo>
                  <a:pt x="35581" y="56835"/>
                </a:lnTo>
                <a:lnTo>
                  <a:pt x="38114" y="63290"/>
                </a:lnTo>
                <a:lnTo>
                  <a:pt x="40650" y="70133"/>
                </a:lnTo>
                <a:lnTo>
                  <a:pt x="43186" y="76389"/>
                </a:lnTo>
                <a:lnTo>
                  <a:pt x="45724" y="82253"/>
                </a:lnTo>
                <a:lnTo>
                  <a:pt x="48263" y="87855"/>
                </a:lnTo>
                <a:lnTo>
                  <a:pt x="50802" y="94130"/>
                </a:lnTo>
                <a:lnTo>
                  <a:pt x="55881" y="107875"/>
                </a:lnTo>
                <a:lnTo>
                  <a:pt x="58421" y="114250"/>
                </a:lnTo>
                <a:lnTo>
                  <a:pt x="60961" y="120193"/>
                </a:lnTo>
                <a:lnTo>
                  <a:pt x="66041" y="131312"/>
                </a:lnTo>
                <a:lnTo>
                  <a:pt x="74696" y="149288"/>
                </a:lnTo>
                <a:lnTo>
                  <a:pt x="76043" y="151172"/>
                </a:lnTo>
                <a:lnTo>
                  <a:pt x="77789" y="153275"/>
                </a:lnTo>
                <a:lnTo>
                  <a:pt x="83821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10"/>
          <p:cNvSpPr/>
          <p:nvPr/>
        </p:nvSpPr>
        <p:spPr>
          <a:xfrm>
            <a:off x="5197320" y="2682720"/>
            <a:ext cx="152640" cy="14400"/>
          </a:xfrm>
          <a:custGeom>
            <a:avLst/>
            <a:gdLst>
              <a:gd name="textAreaLeft" fmla="*/ 0 w 152640"/>
              <a:gd name="textAreaRight" fmla="*/ 153000 w 1526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4154">
                <a:moveTo>
                  <a:pt x="0" y="0"/>
                </a:moveTo>
                <a:lnTo>
                  <a:pt x="0" y="4045"/>
                </a:lnTo>
                <a:lnTo>
                  <a:pt x="1693" y="5237"/>
                </a:lnTo>
                <a:lnTo>
                  <a:pt x="4515" y="6031"/>
                </a:lnTo>
                <a:lnTo>
                  <a:pt x="8090" y="6561"/>
                </a:lnTo>
                <a:lnTo>
                  <a:pt x="11320" y="6914"/>
                </a:lnTo>
                <a:lnTo>
                  <a:pt x="14320" y="7149"/>
                </a:lnTo>
                <a:lnTo>
                  <a:pt x="17166" y="7306"/>
                </a:lnTo>
                <a:lnTo>
                  <a:pt x="21604" y="8257"/>
                </a:lnTo>
                <a:lnTo>
                  <a:pt x="27102" y="9738"/>
                </a:lnTo>
                <a:lnTo>
                  <a:pt x="33308" y="11572"/>
                </a:lnTo>
                <a:lnTo>
                  <a:pt x="40832" y="12795"/>
                </a:lnTo>
                <a:lnTo>
                  <a:pt x="49234" y="13610"/>
                </a:lnTo>
                <a:lnTo>
                  <a:pt x="58223" y="14153"/>
                </a:lnTo>
                <a:lnTo>
                  <a:pt x="67601" y="13669"/>
                </a:lnTo>
                <a:lnTo>
                  <a:pt x="77241" y="12499"/>
                </a:lnTo>
                <a:lnTo>
                  <a:pt x="87054" y="10873"/>
                </a:lnTo>
                <a:lnTo>
                  <a:pt x="96982" y="9789"/>
                </a:lnTo>
                <a:lnTo>
                  <a:pt x="106988" y="9065"/>
                </a:lnTo>
                <a:lnTo>
                  <a:pt x="125443" y="8263"/>
                </a:lnTo>
                <a:lnTo>
                  <a:pt x="1524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11"/>
          <p:cNvSpPr/>
          <p:nvPr/>
        </p:nvSpPr>
        <p:spPr>
          <a:xfrm>
            <a:off x="5410080" y="2506680"/>
            <a:ext cx="198720" cy="290520"/>
          </a:xfrm>
          <a:custGeom>
            <a:avLst/>
            <a:gdLst>
              <a:gd name="textAreaLeft" fmla="*/ 0 w 198720"/>
              <a:gd name="textAreaRight" fmla="*/ 199080 w 19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98080" h="289561">
                <a:moveTo>
                  <a:pt x="0" y="0"/>
                </a:moveTo>
                <a:lnTo>
                  <a:pt x="4044" y="0"/>
                </a:lnTo>
                <a:lnTo>
                  <a:pt x="5237" y="846"/>
                </a:lnTo>
                <a:lnTo>
                  <a:pt x="6031" y="2258"/>
                </a:lnTo>
                <a:lnTo>
                  <a:pt x="6560" y="4045"/>
                </a:lnTo>
                <a:lnTo>
                  <a:pt x="9407" y="8289"/>
                </a:lnTo>
                <a:lnTo>
                  <a:pt x="13495" y="12997"/>
                </a:lnTo>
                <a:lnTo>
                  <a:pt x="18133" y="17912"/>
                </a:lnTo>
                <a:lnTo>
                  <a:pt x="23017" y="25176"/>
                </a:lnTo>
                <a:lnTo>
                  <a:pt x="28010" y="34049"/>
                </a:lnTo>
                <a:lnTo>
                  <a:pt x="33051" y="43637"/>
                </a:lnTo>
                <a:lnTo>
                  <a:pt x="38113" y="51285"/>
                </a:lnTo>
                <a:lnTo>
                  <a:pt x="40649" y="54510"/>
                </a:lnTo>
                <a:lnTo>
                  <a:pt x="42339" y="58353"/>
                </a:lnTo>
                <a:lnTo>
                  <a:pt x="44217" y="67139"/>
                </a:lnTo>
                <a:lnTo>
                  <a:pt x="45052" y="74431"/>
                </a:lnTo>
                <a:lnTo>
                  <a:pt x="45423" y="81340"/>
                </a:lnTo>
                <a:lnTo>
                  <a:pt x="45632" y="94750"/>
                </a:lnTo>
                <a:lnTo>
                  <a:pt x="45720" y="199915"/>
                </a:lnTo>
                <a:lnTo>
                  <a:pt x="46566" y="202703"/>
                </a:lnTo>
                <a:lnTo>
                  <a:pt x="50957" y="210673"/>
                </a:lnTo>
                <a:lnTo>
                  <a:pt x="52281" y="215835"/>
                </a:lnTo>
                <a:lnTo>
                  <a:pt x="53025" y="223501"/>
                </a:lnTo>
                <a:lnTo>
                  <a:pt x="53339" y="228588"/>
                </a:lnTo>
                <a:lnTo>
                  <a:pt x="53340" y="181701"/>
                </a:lnTo>
                <a:lnTo>
                  <a:pt x="55597" y="173607"/>
                </a:lnTo>
                <a:lnTo>
                  <a:pt x="57385" y="169078"/>
                </a:lnTo>
                <a:lnTo>
                  <a:pt x="59423" y="164365"/>
                </a:lnTo>
                <a:lnTo>
                  <a:pt x="63945" y="154613"/>
                </a:lnTo>
                <a:lnTo>
                  <a:pt x="66337" y="151335"/>
                </a:lnTo>
                <a:lnTo>
                  <a:pt x="68777" y="149150"/>
                </a:lnTo>
                <a:lnTo>
                  <a:pt x="71251" y="147693"/>
                </a:lnTo>
                <a:lnTo>
                  <a:pt x="76258" y="146075"/>
                </a:lnTo>
                <a:lnTo>
                  <a:pt x="82152" y="145355"/>
                </a:lnTo>
                <a:lnTo>
                  <a:pt x="86095" y="145164"/>
                </a:lnTo>
                <a:lnTo>
                  <a:pt x="97476" y="144893"/>
                </a:lnTo>
                <a:lnTo>
                  <a:pt x="100543" y="144856"/>
                </a:lnTo>
                <a:lnTo>
                  <a:pt x="104282" y="145677"/>
                </a:lnTo>
                <a:lnTo>
                  <a:pt x="108468" y="147071"/>
                </a:lnTo>
                <a:lnTo>
                  <a:pt x="112951" y="148847"/>
                </a:lnTo>
                <a:lnTo>
                  <a:pt x="118481" y="151725"/>
                </a:lnTo>
                <a:lnTo>
                  <a:pt x="124708" y="155336"/>
                </a:lnTo>
                <a:lnTo>
                  <a:pt x="131398" y="159437"/>
                </a:lnTo>
                <a:lnTo>
                  <a:pt x="137552" y="163865"/>
                </a:lnTo>
                <a:lnTo>
                  <a:pt x="143348" y="168510"/>
                </a:lnTo>
                <a:lnTo>
                  <a:pt x="148905" y="173300"/>
                </a:lnTo>
                <a:lnTo>
                  <a:pt x="154303" y="178186"/>
                </a:lnTo>
                <a:lnTo>
                  <a:pt x="164817" y="188131"/>
                </a:lnTo>
                <a:lnTo>
                  <a:pt x="169145" y="194001"/>
                </a:lnTo>
                <a:lnTo>
                  <a:pt x="172877" y="200454"/>
                </a:lnTo>
                <a:lnTo>
                  <a:pt x="192900" y="240990"/>
                </a:lnTo>
                <a:lnTo>
                  <a:pt x="195800" y="249065"/>
                </a:lnTo>
                <a:lnTo>
                  <a:pt x="197088" y="255475"/>
                </a:lnTo>
                <a:lnTo>
                  <a:pt x="197661" y="261146"/>
                </a:lnTo>
                <a:lnTo>
                  <a:pt x="197916" y="268747"/>
                </a:lnTo>
                <a:lnTo>
                  <a:pt x="198079" y="279334"/>
                </a:lnTo>
                <a:lnTo>
                  <a:pt x="197246" y="281049"/>
                </a:lnTo>
                <a:lnTo>
                  <a:pt x="192083" y="287628"/>
                </a:lnTo>
                <a:lnTo>
                  <a:pt x="190500" y="289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12"/>
          <p:cNvSpPr/>
          <p:nvPr/>
        </p:nvSpPr>
        <p:spPr>
          <a:xfrm>
            <a:off x="6248520" y="2674800"/>
            <a:ext cx="349200" cy="381240"/>
          </a:xfrm>
          <a:custGeom>
            <a:avLst/>
            <a:gdLst>
              <a:gd name="textAreaLeft" fmla="*/ 0 w 349200"/>
              <a:gd name="textAreaRight" fmla="*/ 349560 w 34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348825" h="380636">
                <a:moveTo>
                  <a:pt x="15212" y="22678"/>
                </a:moveTo>
                <a:lnTo>
                  <a:pt x="8651" y="29238"/>
                </a:lnTo>
                <a:lnTo>
                  <a:pt x="7905" y="38074"/>
                </a:lnTo>
                <a:lnTo>
                  <a:pt x="5473" y="46736"/>
                </a:lnTo>
                <a:lnTo>
                  <a:pt x="2416" y="56230"/>
                </a:lnTo>
                <a:lnTo>
                  <a:pt x="1058" y="66094"/>
                </a:lnTo>
                <a:lnTo>
                  <a:pt x="696" y="71942"/>
                </a:lnTo>
                <a:lnTo>
                  <a:pt x="293" y="85213"/>
                </a:lnTo>
                <a:lnTo>
                  <a:pt x="14" y="115914"/>
                </a:lnTo>
                <a:lnTo>
                  <a:pt x="0" y="122935"/>
                </a:lnTo>
                <a:lnTo>
                  <a:pt x="837" y="129309"/>
                </a:lnTo>
                <a:lnTo>
                  <a:pt x="4025" y="140907"/>
                </a:lnTo>
                <a:lnTo>
                  <a:pt x="6907" y="145524"/>
                </a:lnTo>
                <a:lnTo>
                  <a:pt x="14625" y="152911"/>
                </a:lnTo>
                <a:lnTo>
                  <a:pt x="23700" y="159017"/>
                </a:lnTo>
                <a:lnTo>
                  <a:pt x="34224" y="164553"/>
                </a:lnTo>
                <a:lnTo>
                  <a:pt x="40587" y="167215"/>
                </a:lnTo>
                <a:lnTo>
                  <a:pt x="47368" y="169836"/>
                </a:lnTo>
                <a:lnTo>
                  <a:pt x="55276" y="170736"/>
                </a:lnTo>
                <a:lnTo>
                  <a:pt x="63934" y="170490"/>
                </a:lnTo>
                <a:lnTo>
                  <a:pt x="73094" y="169479"/>
                </a:lnTo>
                <a:lnTo>
                  <a:pt x="81739" y="168806"/>
                </a:lnTo>
                <a:lnTo>
                  <a:pt x="90043" y="168356"/>
                </a:lnTo>
                <a:lnTo>
                  <a:pt x="98120" y="168057"/>
                </a:lnTo>
                <a:lnTo>
                  <a:pt x="106890" y="166164"/>
                </a:lnTo>
                <a:lnTo>
                  <a:pt x="116123" y="163208"/>
                </a:lnTo>
                <a:lnTo>
                  <a:pt x="125666" y="159545"/>
                </a:lnTo>
                <a:lnTo>
                  <a:pt x="134568" y="154562"/>
                </a:lnTo>
                <a:lnTo>
                  <a:pt x="143043" y="148701"/>
                </a:lnTo>
                <a:lnTo>
                  <a:pt x="151232" y="142253"/>
                </a:lnTo>
                <a:lnTo>
                  <a:pt x="158385" y="136261"/>
                </a:lnTo>
                <a:lnTo>
                  <a:pt x="164847" y="130573"/>
                </a:lnTo>
                <a:lnTo>
                  <a:pt x="170849" y="125088"/>
                </a:lnTo>
                <a:lnTo>
                  <a:pt x="176543" y="118045"/>
                </a:lnTo>
                <a:lnTo>
                  <a:pt x="182032" y="109962"/>
                </a:lnTo>
                <a:lnTo>
                  <a:pt x="187385" y="101187"/>
                </a:lnTo>
                <a:lnTo>
                  <a:pt x="191801" y="93644"/>
                </a:lnTo>
                <a:lnTo>
                  <a:pt x="198965" y="80747"/>
                </a:lnTo>
                <a:lnTo>
                  <a:pt x="202060" y="74091"/>
                </a:lnTo>
                <a:lnTo>
                  <a:pt x="204971" y="67113"/>
                </a:lnTo>
                <a:lnTo>
                  <a:pt x="207757" y="59921"/>
                </a:lnTo>
                <a:lnTo>
                  <a:pt x="209615" y="52587"/>
                </a:lnTo>
                <a:lnTo>
                  <a:pt x="210854" y="45157"/>
                </a:lnTo>
                <a:lnTo>
                  <a:pt x="211680" y="37664"/>
                </a:lnTo>
                <a:lnTo>
                  <a:pt x="213077" y="30975"/>
                </a:lnTo>
                <a:lnTo>
                  <a:pt x="214855" y="24823"/>
                </a:lnTo>
                <a:lnTo>
                  <a:pt x="218242" y="14318"/>
                </a:lnTo>
                <a:lnTo>
                  <a:pt x="220417" y="2933"/>
                </a:lnTo>
                <a:lnTo>
                  <a:pt x="220920" y="0"/>
                </a:lnTo>
                <a:lnTo>
                  <a:pt x="220952" y="32386"/>
                </a:lnTo>
                <a:lnTo>
                  <a:pt x="222644" y="39309"/>
                </a:lnTo>
                <a:lnTo>
                  <a:pt x="225467" y="46466"/>
                </a:lnTo>
                <a:lnTo>
                  <a:pt x="229042" y="53776"/>
                </a:lnTo>
                <a:lnTo>
                  <a:pt x="232272" y="62037"/>
                </a:lnTo>
                <a:lnTo>
                  <a:pt x="235271" y="70930"/>
                </a:lnTo>
                <a:lnTo>
                  <a:pt x="238118" y="80246"/>
                </a:lnTo>
                <a:lnTo>
                  <a:pt x="241710" y="89843"/>
                </a:lnTo>
                <a:lnTo>
                  <a:pt x="245797" y="99628"/>
                </a:lnTo>
                <a:lnTo>
                  <a:pt x="250215" y="109538"/>
                </a:lnTo>
                <a:lnTo>
                  <a:pt x="255701" y="120378"/>
                </a:lnTo>
                <a:lnTo>
                  <a:pt x="261898" y="131838"/>
                </a:lnTo>
                <a:lnTo>
                  <a:pt x="268569" y="143711"/>
                </a:lnTo>
                <a:lnTo>
                  <a:pt x="280497" y="165935"/>
                </a:lnTo>
                <a:lnTo>
                  <a:pt x="286048" y="176602"/>
                </a:lnTo>
                <a:lnTo>
                  <a:pt x="292289" y="187101"/>
                </a:lnTo>
                <a:lnTo>
                  <a:pt x="298990" y="197487"/>
                </a:lnTo>
                <a:lnTo>
                  <a:pt x="305998" y="207797"/>
                </a:lnTo>
                <a:lnTo>
                  <a:pt x="312362" y="218057"/>
                </a:lnTo>
                <a:lnTo>
                  <a:pt x="318298" y="228284"/>
                </a:lnTo>
                <a:lnTo>
                  <a:pt x="323950" y="238488"/>
                </a:lnTo>
                <a:lnTo>
                  <a:pt x="328564" y="248678"/>
                </a:lnTo>
                <a:lnTo>
                  <a:pt x="332486" y="258858"/>
                </a:lnTo>
                <a:lnTo>
                  <a:pt x="344866" y="295485"/>
                </a:lnTo>
                <a:lnTo>
                  <a:pt x="346741" y="303609"/>
                </a:lnTo>
                <a:lnTo>
                  <a:pt x="347992" y="311565"/>
                </a:lnTo>
                <a:lnTo>
                  <a:pt x="348824" y="319409"/>
                </a:lnTo>
                <a:lnTo>
                  <a:pt x="348534" y="327179"/>
                </a:lnTo>
                <a:lnTo>
                  <a:pt x="347493" y="334898"/>
                </a:lnTo>
                <a:lnTo>
                  <a:pt x="345952" y="342585"/>
                </a:lnTo>
                <a:lnTo>
                  <a:pt x="342386" y="349403"/>
                </a:lnTo>
                <a:lnTo>
                  <a:pt x="337467" y="355641"/>
                </a:lnTo>
                <a:lnTo>
                  <a:pt x="331649" y="361493"/>
                </a:lnTo>
                <a:lnTo>
                  <a:pt x="325230" y="366241"/>
                </a:lnTo>
                <a:lnTo>
                  <a:pt x="318410" y="370253"/>
                </a:lnTo>
                <a:lnTo>
                  <a:pt x="311324" y="373775"/>
                </a:lnTo>
                <a:lnTo>
                  <a:pt x="303213" y="376122"/>
                </a:lnTo>
                <a:lnTo>
                  <a:pt x="294418" y="377688"/>
                </a:lnTo>
                <a:lnTo>
                  <a:pt x="285170" y="378731"/>
                </a:lnTo>
                <a:lnTo>
                  <a:pt x="273923" y="379427"/>
                </a:lnTo>
                <a:lnTo>
                  <a:pt x="247881" y="380199"/>
                </a:lnTo>
                <a:lnTo>
                  <a:pt x="208705" y="380635"/>
                </a:lnTo>
                <a:lnTo>
                  <a:pt x="195853" y="379849"/>
                </a:lnTo>
                <a:lnTo>
                  <a:pt x="183053" y="378478"/>
                </a:lnTo>
                <a:lnTo>
                  <a:pt x="170286" y="376719"/>
                </a:lnTo>
                <a:lnTo>
                  <a:pt x="144811" y="372505"/>
                </a:lnTo>
                <a:lnTo>
                  <a:pt x="132092" y="370196"/>
                </a:lnTo>
                <a:lnTo>
                  <a:pt x="119378" y="366963"/>
                </a:lnTo>
                <a:lnTo>
                  <a:pt x="106669" y="363115"/>
                </a:lnTo>
                <a:lnTo>
                  <a:pt x="93963" y="358855"/>
                </a:lnTo>
                <a:lnTo>
                  <a:pt x="82953" y="354323"/>
                </a:lnTo>
                <a:lnTo>
                  <a:pt x="73073" y="349608"/>
                </a:lnTo>
                <a:lnTo>
                  <a:pt x="63946" y="344771"/>
                </a:lnTo>
                <a:lnTo>
                  <a:pt x="55321" y="339853"/>
                </a:lnTo>
                <a:lnTo>
                  <a:pt x="47031" y="334882"/>
                </a:lnTo>
                <a:lnTo>
                  <a:pt x="38965" y="329874"/>
                </a:lnTo>
                <a:lnTo>
                  <a:pt x="32740" y="324842"/>
                </a:lnTo>
                <a:lnTo>
                  <a:pt x="23566" y="314735"/>
                </a:lnTo>
                <a:lnTo>
                  <a:pt x="18925" y="306857"/>
                </a:lnTo>
                <a:lnTo>
                  <a:pt x="15212" y="2969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13"/>
          <p:cNvSpPr/>
          <p:nvPr/>
        </p:nvSpPr>
        <p:spPr>
          <a:xfrm>
            <a:off x="6583320" y="2682720"/>
            <a:ext cx="168480" cy="1440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0"/>
                </a:moveTo>
                <a:lnTo>
                  <a:pt x="54022" y="0"/>
                </a:lnTo>
                <a:lnTo>
                  <a:pt x="62262" y="847"/>
                </a:lnTo>
                <a:lnTo>
                  <a:pt x="71141" y="2258"/>
                </a:lnTo>
                <a:lnTo>
                  <a:pt x="80447" y="4045"/>
                </a:lnTo>
                <a:lnTo>
                  <a:pt x="89191" y="5237"/>
                </a:lnTo>
                <a:lnTo>
                  <a:pt x="97561" y="6031"/>
                </a:lnTo>
                <a:lnTo>
                  <a:pt x="105680" y="6561"/>
                </a:lnTo>
                <a:lnTo>
                  <a:pt x="114480" y="6914"/>
                </a:lnTo>
                <a:lnTo>
                  <a:pt x="133288" y="7306"/>
                </a:lnTo>
                <a:lnTo>
                  <a:pt x="141352" y="8257"/>
                </a:lnTo>
                <a:lnTo>
                  <a:pt x="148421" y="9738"/>
                </a:lnTo>
                <a:lnTo>
                  <a:pt x="1676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14"/>
          <p:cNvSpPr/>
          <p:nvPr/>
        </p:nvSpPr>
        <p:spPr>
          <a:xfrm>
            <a:off x="6613560" y="275112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14651" y="0"/>
                </a:lnTo>
                <a:lnTo>
                  <a:pt x="19081" y="847"/>
                </a:lnTo>
                <a:lnTo>
                  <a:pt x="23728" y="2258"/>
                </a:lnTo>
                <a:lnTo>
                  <a:pt x="28518" y="4046"/>
                </a:lnTo>
                <a:lnTo>
                  <a:pt x="35099" y="5237"/>
                </a:lnTo>
                <a:lnTo>
                  <a:pt x="42873" y="6031"/>
                </a:lnTo>
                <a:lnTo>
                  <a:pt x="51442" y="6561"/>
                </a:lnTo>
                <a:lnTo>
                  <a:pt x="69994" y="7149"/>
                </a:lnTo>
                <a:lnTo>
                  <a:pt x="131180" y="7578"/>
                </a:lnTo>
                <a:lnTo>
                  <a:pt x="1524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15"/>
          <p:cNvSpPr/>
          <p:nvPr/>
        </p:nvSpPr>
        <p:spPr>
          <a:xfrm>
            <a:off x="6942240" y="2514600"/>
            <a:ext cx="304560" cy="244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304331" h="243805">
                <a:moveTo>
                  <a:pt x="0" y="30444"/>
                </a:moveTo>
                <a:lnTo>
                  <a:pt x="8090" y="34489"/>
                </a:lnTo>
                <a:lnTo>
                  <a:pt x="16578" y="36475"/>
                </a:lnTo>
                <a:lnTo>
                  <a:pt x="21212" y="37005"/>
                </a:lnTo>
                <a:lnTo>
                  <a:pt x="26841" y="37358"/>
                </a:lnTo>
                <a:lnTo>
                  <a:pt x="39869" y="37750"/>
                </a:lnTo>
                <a:lnTo>
                  <a:pt x="65530" y="37971"/>
                </a:lnTo>
                <a:lnTo>
                  <a:pt x="75013" y="37155"/>
                </a:lnTo>
                <a:lnTo>
                  <a:pt x="84722" y="35765"/>
                </a:lnTo>
                <a:lnTo>
                  <a:pt x="94581" y="33991"/>
                </a:lnTo>
                <a:lnTo>
                  <a:pt x="104540" y="31962"/>
                </a:lnTo>
                <a:lnTo>
                  <a:pt x="124638" y="27450"/>
                </a:lnTo>
                <a:lnTo>
                  <a:pt x="134738" y="25908"/>
                </a:lnTo>
                <a:lnTo>
                  <a:pt x="144858" y="24880"/>
                </a:lnTo>
                <a:lnTo>
                  <a:pt x="154993" y="24194"/>
                </a:lnTo>
                <a:lnTo>
                  <a:pt x="165135" y="22891"/>
                </a:lnTo>
                <a:lnTo>
                  <a:pt x="175283" y="21175"/>
                </a:lnTo>
                <a:lnTo>
                  <a:pt x="185435" y="19185"/>
                </a:lnTo>
                <a:lnTo>
                  <a:pt x="195590" y="17858"/>
                </a:lnTo>
                <a:lnTo>
                  <a:pt x="205746" y="16973"/>
                </a:lnTo>
                <a:lnTo>
                  <a:pt x="215904" y="16383"/>
                </a:lnTo>
                <a:lnTo>
                  <a:pt x="225216" y="15143"/>
                </a:lnTo>
                <a:lnTo>
                  <a:pt x="233964" y="13470"/>
                </a:lnTo>
                <a:lnTo>
                  <a:pt x="242336" y="11508"/>
                </a:lnTo>
                <a:lnTo>
                  <a:pt x="250456" y="9353"/>
                </a:lnTo>
                <a:lnTo>
                  <a:pt x="266254" y="4701"/>
                </a:lnTo>
                <a:lnTo>
                  <a:pt x="272330" y="3122"/>
                </a:lnTo>
                <a:lnTo>
                  <a:pt x="281337" y="1367"/>
                </a:lnTo>
                <a:lnTo>
                  <a:pt x="288163" y="588"/>
                </a:lnTo>
                <a:lnTo>
                  <a:pt x="296767" y="149"/>
                </a:lnTo>
                <a:lnTo>
                  <a:pt x="303213" y="0"/>
                </a:lnTo>
                <a:lnTo>
                  <a:pt x="303742" y="835"/>
                </a:lnTo>
                <a:lnTo>
                  <a:pt x="304330" y="4020"/>
                </a:lnTo>
                <a:lnTo>
                  <a:pt x="303639" y="6054"/>
                </a:lnTo>
                <a:lnTo>
                  <a:pt x="299470" y="12963"/>
                </a:lnTo>
                <a:lnTo>
                  <a:pt x="298198" y="17877"/>
                </a:lnTo>
                <a:lnTo>
                  <a:pt x="293117" y="25141"/>
                </a:lnTo>
                <a:lnTo>
                  <a:pt x="289391" y="29448"/>
                </a:lnTo>
                <a:lnTo>
                  <a:pt x="285214" y="34013"/>
                </a:lnTo>
                <a:lnTo>
                  <a:pt x="276057" y="43601"/>
                </a:lnTo>
                <a:lnTo>
                  <a:pt x="261381" y="58519"/>
                </a:lnTo>
                <a:lnTo>
                  <a:pt x="255535" y="63554"/>
                </a:lnTo>
                <a:lnTo>
                  <a:pt x="249097" y="68604"/>
                </a:lnTo>
                <a:lnTo>
                  <a:pt x="242264" y="73664"/>
                </a:lnTo>
                <a:lnTo>
                  <a:pt x="227900" y="83802"/>
                </a:lnTo>
                <a:lnTo>
                  <a:pt x="220513" y="88876"/>
                </a:lnTo>
                <a:lnTo>
                  <a:pt x="213048" y="94799"/>
                </a:lnTo>
                <a:lnTo>
                  <a:pt x="205532" y="101287"/>
                </a:lnTo>
                <a:lnTo>
                  <a:pt x="197981" y="108153"/>
                </a:lnTo>
                <a:lnTo>
                  <a:pt x="182819" y="122554"/>
                </a:lnTo>
                <a:lnTo>
                  <a:pt x="140142" y="164657"/>
                </a:lnTo>
                <a:lnTo>
                  <a:pt x="134915" y="170719"/>
                </a:lnTo>
                <a:lnTo>
                  <a:pt x="129737" y="177301"/>
                </a:lnTo>
                <a:lnTo>
                  <a:pt x="124591" y="184228"/>
                </a:lnTo>
                <a:lnTo>
                  <a:pt x="119467" y="190540"/>
                </a:lnTo>
                <a:lnTo>
                  <a:pt x="114358" y="196442"/>
                </a:lnTo>
                <a:lnTo>
                  <a:pt x="105013" y="206667"/>
                </a:lnTo>
                <a:lnTo>
                  <a:pt x="98036" y="214034"/>
                </a:lnTo>
                <a:lnTo>
                  <a:pt x="95838" y="217184"/>
                </a:lnTo>
                <a:lnTo>
                  <a:pt x="93394" y="222941"/>
                </a:lnTo>
                <a:lnTo>
                  <a:pt x="90051" y="228323"/>
                </a:lnTo>
                <a:lnTo>
                  <a:pt x="87973" y="230943"/>
                </a:lnTo>
                <a:lnTo>
                  <a:pt x="85667" y="236112"/>
                </a:lnTo>
                <a:lnTo>
                  <a:pt x="83820" y="24380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16"/>
          <p:cNvSpPr/>
          <p:nvPr/>
        </p:nvSpPr>
        <p:spPr>
          <a:xfrm>
            <a:off x="6950160" y="2620800"/>
            <a:ext cx="234720" cy="38160"/>
          </a:xfrm>
          <a:custGeom>
            <a:avLst/>
            <a:gdLst>
              <a:gd name="textAreaLeft" fmla="*/ 0 w 234720"/>
              <a:gd name="textAreaRight" fmla="*/ 235080 w 234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19" h="38101">
                <a:moveTo>
                  <a:pt x="0" y="38100"/>
                </a:moveTo>
                <a:lnTo>
                  <a:pt x="4046" y="38100"/>
                </a:lnTo>
                <a:lnTo>
                  <a:pt x="6930" y="37253"/>
                </a:lnTo>
                <a:lnTo>
                  <a:pt x="10548" y="35842"/>
                </a:lnTo>
                <a:lnTo>
                  <a:pt x="14650" y="34055"/>
                </a:lnTo>
                <a:lnTo>
                  <a:pt x="19080" y="32863"/>
                </a:lnTo>
                <a:lnTo>
                  <a:pt x="23727" y="32069"/>
                </a:lnTo>
                <a:lnTo>
                  <a:pt x="28518" y="31539"/>
                </a:lnTo>
                <a:lnTo>
                  <a:pt x="34252" y="31186"/>
                </a:lnTo>
                <a:lnTo>
                  <a:pt x="47396" y="30794"/>
                </a:lnTo>
                <a:lnTo>
                  <a:pt x="56150" y="29843"/>
                </a:lnTo>
                <a:lnTo>
                  <a:pt x="66219" y="28362"/>
                </a:lnTo>
                <a:lnTo>
                  <a:pt x="77166" y="26528"/>
                </a:lnTo>
                <a:lnTo>
                  <a:pt x="87851" y="25305"/>
                </a:lnTo>
                <a:lnTo>
                  <a:pt x="98360" y="24490"/>
                </a:lnTo>
                <a:lnTo>
                  <a:pt x="108752" y="23947"/>
                </a:lnTo>
                <a:lnTo>
                  <a:pt x="119915" y="22738"/>
                </a:lnTo>
                <a:lnTo>
                  <a:pt x="131589" y="21085"/>
                </a:lnTo>
                <a:lnTo>
                  <a:pt x="155850" y="16991"/>
                </a:lnTo>
                <a:lnTo>
                  <a:pt x="180744" y="12349"/>
                </a:lnTo>
                <a:lnTo>
                  <a:pt x="190769" y="9926"/>
                </a:lnTo>
                <a:lnTo>
                  <a:pt x="199146" y="7464"/>
                </a:lnTo>
                <a:lnTo>
                  <a:pt x="206423" y="4976"/>
                </a:lnTo>
                <a:lnTo>
                  <a:pt x="212969" y="3317"/>
                </a:lnTo>
                <a:lnTo>
                  <a:pt x="219026" y="2211"/>
                </a:lnTo>
                <a:lnTo>
                  <a:pt x="23621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17"/>
          <p:cNvSpPr/>
          <p:nvPr/>
        </p:nvSpPr>
        <p:spPr>
          <a:xfrm>
            <a:off x="7251840" y="2446200"/>
            <a:ext cx="191880" cy="127080"/>
          </a:xfrm>
          <a:custGeom>
            <a:avLst/>
            <a:gdLst>
              <a:gd name="textAreaLeft" fmla="*/ 0 w 191880"/>
              <a:gd name="textAreaRight" fmla="*/ 192240 w 1918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92217" h="126936">
                <a:moveTo>
                  <a:pt x="154736" y="21772"/>
                </a:moveTo>
                <a:lnTo>
                  <a:pt x="154736" y="17727"/>
                </a:lnTo>
                <a:lnTo>
                  <a:pt x="155582" y="16535"/>
                </a:lnTo>
                <a:lnTo>
                  <a:pt x="156995" y="15741"/>
                </a:lnTo>
                <a:lnTo>
                  <a:pt x="161298" y="14466"/>
                </a:lnTo>
                <a:lnTo>
                  <a:pt x="161650" y="13515"/>
                </a:lnTo>
                <a:lnTo>
                  <a:pt x="162042" y="10200"/>
                </a:lnTo>
                <a:lnTo>
                  <a:pt x="162328" y="6854"/>
                </a:lnTo>
                <a:lnTo>
                  <a:pt x="162348" y="2582"/>
                </a:lnTo>
                <a:lnTo>
                  <a:pt x="160657" y="1359"/>
                </a:lnTo>
                <a:lnTo>
                  <a:pt x="157837" y="543"/>
                </a:lnTo>
                <a:lnTo>
                  <a:pt x="154264" y="0"/>
                </a:lnTo>
                <a:lnTo>
                  <a:pt x="150187" y="484"/>
                </a:lnTo>
                <a:lnTo>
                  <a:pt x="145777" y="1653"/>
                </a:lnTo>
                <a:lnTo>
                  <a:pt x="141143" y="3280"/>
                </a:lnTo>
                <a:lnTo>
                  <a:pt x="135514" y="4363"/>
                </a:lnTo>
                <a:lnTo>
                  <a:pt x="129221" y="5087"/>
                </a:lnTo>
                <a:lnTo>
                  <a:pt x="122486" y="5568"/>
                </a:lnTo>
                <a:lnTo>
                  <a:pt x="115455" y="7583"/>
                </a:lnTo>
                <a:lnTo>
                  <a:pt x="108230" y="10619"/>
                </a:lnTo>
                <a:lnTo>
                  <a:pt x="100871" y="14337"/>
                </a:lnTo>
                <a:lnTo>
                  <a:pt x="93426" y="18509"/>
                </a:lnTo>
                <a:lnTo>
                  <a:pt x="85922" y="22983"/>
                </a:lnTo>
                <a:lnTo>
                  <a:pt x="78381" y="27660"/>
                </a:lnTo>
                <a:lnTo>
                  <a:pt x="69965" y="32470"/>
                </a:lnTo>
                <a:lnTo>
                  <a:pt x="51585" y="42331"/>
                </a:lnTo>
                <a:lnTo>
                  <a:pt x="43635" y="47332"/>
                </a:lnTo>
                <a:lnTo>
                  <a:pt x="36642" y="52358"/>
                </a:lnTo>
                <a:lnTo>
                  <a:pt x="30287" y="57403"/>
                </a:lnTo>
                <a:lnTo>
                  <a:pt x="24357" y="62460"/>
                </a:lnTo>
                <a:lnTo>
                  <a:pt x="18710" y="67524"/>
                </a:lnTo>
                <a:lnTo>
                  <a:pt x="13251" y="72593"/>
                </a:lnTo>
                <a:lnTo>
                  <a:pt x="8767" y="77666"/>
                </a:lnTo>
                <a:lnTo>
                  <a:pt x="4930" y="82741"/>
                </a:lnTo>
                <a:lnTo>
                  <a:pt x="1525" y="87818"/>
                </a:lnTo>
                <a:lnTo>
                  <a:pt x="102" y="92050"/>
                </a:lnTo>
                <a:lnTo>
                  <a:pt x="0" y="95717"/>
                </a:lnTo>
                <a:lnTo>
                  <a:pt x="779" y="99009"/>
                </a:lnTo>
                <a:lnTo>
                  <a:pt x="2991" y="102050"/>
                </a:lnTo>
                <a:lnTo>
                  <a:pt x="6158" y="104924"/>
                </a:lnTo>
                <a:lnTo>
                  <a:pt x="9964" y="107687"/>
                </a:lnTo>
                <a:lnTo>
                  <a:pt x="15041" y="110375"/>
                </a:lnTo>
                <a:lnTo>
                  <a:pt x="20967" y="113014"/>
                </a:lnTo>
                <a:lnTo>
                  <a:pt x="27456" y="115620"/>
                </a:lnTo>
                <a:lnTo>
                  <a:pt x="41440" y="120774"/>
                </a:lnTo>
                <a:lnTo>
                  <a:pt x="48725" y="123333"/>
                </a:lnTo>
                <a:lnTo>
                  <a:pt x="56969" y="125040"/>
                </a:lnTo>
                <a:lnTo>
                  <a:pt x="65852" y="126177"/>
                </a:lnTo>
                <a:lnTo>
                  <a:pt x="75159" y="126935"/>
                </a:lnTo>
                <a:lnTo>
                  <a:pt x="84751" y="126595"/>
                </a:lnTo>
                <a:lnTo>
                  <a:pt x="94533" y="125520"/>
                </a:lnTo>
                <a:lnTo>
                  <a:pt x="104441" y="123958"/>
                </a:lnTo>
                <a:lnTo>
                  <a:pt x="113586" y="122069"/>
                </a:lnTo>
                <a:lnTo>
                  <a:pt x="122222" y="119964"/>
                </a:lnTo>
                <a:lnTo>
                  <a:pt x="130520" y="117713"/>
                </a:lnTo>
                <a:lnTo>
                  <a:pt x="146513" y="112955"/>
                </a:lnTo>
                <a:lnTo>
                  <a:pt x="154334" y="110501"/>
                </a:lnTo>
                <a:lnTo>
                  <a:pt x="161242" y="107171"/>
                </a:lnTo>
                <a:lnTo>
                  <a:pt x="167539" y="103258"/>
                </a:lnTo>
                <a:lnTo>
                  <a:pt x="173432" y="98956"/>
                </a:lnTo>
                <a:lnTo>
                  <a:pt x="178207" y="94395"/>
                </a:lnTo>
                <a:lnTo>
                  <a:pt x="182236" y="89661"/>
                </a:lnTo>
                <a:lnTo>
                  <a:pt x="185770" y="84811"/>
                </a:lnTo>
                <a:lnTo>
                  <a:pt x="188125" y="79885"/>
                </a:lnTo>
                <a:lnTo>
                  <a:pt x="189695" y="74907"/>
                </a:lnTo>
                <a:lnTo>
                  <a:pt x="190742" y="69896"/>
                </a:lnTo>
                <a:lnTo>
                  <a:pt x="191440" y="64861"/>
                </a:lnTo>
                <a:lnTo>
                  <a:pt x="191905" y="59811"/>
                </a:lnTo>
                <a:lnTo>
                  <a:pt x="192216" y="54752"/>
                </a:lnTo>
                <a:lnTo>
                  <a:pt x="191576" y="50532"/>
                </a:lnTo>
                <a:lnTo>
                  <a:pt x="190302" y="46872"/>
                </a:lnTo>
                <a:lnTo>
                  <a:pt x="182175" y="30870"/>
                </a:lnTo>
                <a:lnTo>
                  <a:pt x="179803" y="27837"/>
                </a:lnTo>
                <a:lnTo>
                  <a:pt x="177374" y="25815"/>
                </a:lnTo>
                <a:lnTo>
                  <a:pt x="171571" y="22723"/>
                </a:lnTo>
                <a:lnTo>
                  <a:pt x="163347" y="18526"/>
                </a:lnTo>
                <a:lnTo>
                  <a:pt x="159629" y="17068"/>
                </a:lnTo>
                <a:lnTo>
                  <a:pt x="156306" y="16096"/>
                </a:lnTo>
                <a:lnTo>
                  <a:pt x="147116" y="141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18"/>
          <p:cNvSpPr/>
          <p:nvPr/>
        </p:nvSpPr>
        <p:spPr>
          <a:xfrm>
            <a:off x="7286760" y="2556000"/>
            <a:ext cx="187200" cy="171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87579" h="170850">
                <a:moveTo>
                  <a:pt x="104727" y="19028"/>
                </a:moveTo>
                <a:lnTo>
                  <a:pt x="104727" y="26334"/>
                </a:lnTo>
                <a:lnTo>
                  <a:pt x="100682" y="26555"/>
                </a:lnTo>
                <a:lnTo>
                  <a:pt x="98644" y="27432"/>
                </a:lnTo>
                <a:lnTo>
                  <a:pt x="94122" y="30666"/>
                </a:lnTo>
                <a:lnTo>
                  <a:pt x="90037" y="32713"/>
                </a:lnTo>
                <a:lnTo>
                  <a:pt x="84773" y="34925"/>
                </a:lnTo>
                <a:lnTo>
                  <a:pt x="78725" y="37246"/>
                </a:lnTo>
                <a:lnTo>
                  <a:pt x="72999" y="39640"/>
                </a:lnTo>
                <a:lnTo>
                  <a:pt x="67488" y="42082"/>
                </a:lnTo>
                <a:lnTo>
                  <a:pt x="62121" y="44557"/>
                </a:lnTo>
                <a:lnTo>
                  <a:pt x="56850" y="47901"/>
                </a:lnTo>
                <a:lnTo>
                  <a:pt x="51642" y="51823"/>
                </a:lnTo>
                <a:lnTo>
                  <a:pt x="46477" y="56131"/>
                </a:lnTo>
                <a:lnTo>
                  <a:pt x="41340" y="60697"/>
                </a:lnTo>
                <a:lnTo>
                  <a:pt x="31118" y="70285"/>
                </a:lnTo>
                <a:lnTo>
                  <a:pt x="26020" y="76060"/>
                </a:lnTo>
                <a:lnTo>
                  <a:pt x="20929" y="82449"/>
                </a:lnTo>
                <a:lnTo>
                  <a:pt x="15843" y="89248"/>
                </a:lnTo>
                <a:lnTo>
                  <a:pt x="11603" y="95475"/>
                </a:lnTo>
                <a:lnTo>
                  <a:pt x="7932" y="101320"/>
                </a:lnTo>
                <a:lnTo>
                  <a:pt x="4636" y="106909"/>
                </a:lnTo>
                <a:lnTo>
                  <a:pt x="2440" y="112328"/>
                </a:lnTo>
                <a:lnTo>
                  <a:pt x="975" y="117635"/>
                </a:lnTo>
                <a:lnTo>
                  <a:pt x="0" y="122866"/>
                </a:lnTo>
                <a:lnTo>
                  <a:pt x="196" y="128047"/>
                </a:lnTo>
                <a:lnTo>
                  <a:pt x="1172" y="133194"/>
                </a:lnTo>
                <a:lnTo>
                  <a:pt x="2671" y="138319"/>
                </a:lnTo>
                <a:lnTo>
                  <a:pt x="6209" y="143428"/>
                </a:lnTo>
                <a:lnTo>
                  <a:pt x="11109" y="148528"/>
                </a:lnTo>
                <a:lnTo>
                  <a:pt x="16915" y="153622"/>
                </a:lnTo>
                <a:lnTo>
                  <a:pt x="22480" y="157864"/>
                </a:lnTo>
                <a:lnTo>
                  <a:pt x="27882" y="161538"/>
                </a:lnTo>
                <a:lnTo>
                  <a:pt x="33177" y="164835"/>
                </a:lnTo>
                <a:lnTo>
                  <a:pt x="39247" y="167033"/>
                </a:lnTo>
                <a:lnTo>
                  <a:pt x="45833" y="168498"/>
                </a:lnTo>
                <a:lnTo>
                  <a:pt x="52765" y="169474"/>
                </a:lnTo>
                <a:lnTo>
                  <a:pt x="60772" y="170126"/>
                </a:lnTo>
                <a:lnTo>
                  <a:pt x="69497" y="170560"/>
                </a:lnTo>
                <a:lnTo>
                  <a:pt x="78701" y="170849"/>
                </a:lnTo>
                <a:lnTo>
                  <a:pt x="88224" y="170195"/>
                </a:lnTo>
                <a:lnTo>
                  <a:pt x="97958" y="168913"/>
                </a:lnTo>
                <a:lnTo>
                  <a:pt x="107834" y="167211"/>
                </a:lnTo>
                <a:lnTo>
                  <a:pt x="117805" y="165230"/>
                </a:lnTo>
                <a:lnTo>
                  <a:pt x="137916" y="160771"/>
                </a:lnTo>
                <a:lnTo>
                  <a:pt x="146325" y="157550"/>
                </a:lnTo>
                <a:lnTo>
                  <a:pt x="153627" y="153709"/>
                </a:lnTo>
                <a:lnTo>
                  <a:pt x="160187" y="149455"/>
                </a:lnTo>
                <a:lnTo>
                  <a:pt x="166254" y="144080"/>
                </a:lnTo>
                <a:lnTo>
                  <a:pt x="171993" y="137955"/>
                </a:lnTo>
                <a:lnTo>
                  <a:pt x="177511" y="131333"/>
                </a:lnTo>
                <a:lnTo>
                  <a:pt x="181190" y="124378"/>
                </a:lnTo>
                <a:lnTo>
                  <a:pt x="183642" y="117202"/>
                </a:lnTo>
                <a:lnTo>
                  <a:pt x="185277" y="109877"/>
                </a:lnTo>
                <a:lnTo>
                  <a:pt x="186367" y="102454"/>
                </a:lnTo>
                <a:lnTo>
                  <a:pt x="187094" y="94965"/>
                </a:lnTo>
                <a:lnTo>
                  <a:pt x="187578" y="87433"/>
                </a:lnTo>
                <a:lnTo>
                  <a:pt x="187055" y="79871"/>
                </a:lnTo>
                <a:lnTo>
                  <a:pt x="185858" y="72290"/>
                </a:lnTo>
                <a:lnTo>
                  <a:pt x="184215" y="64696"/>
                </a:lnTo>
                <a:lnTo>
                  <a:pt x="181426" y="57940"/>
                </a:lnTo>
                <a:lnTo>
                  <a:pt x="177872" y="51743"/>
                </a:lnTo>
                <a:lnTo>
                  <a:pt x="173811" y="45917"/>
                </a:lnTo>
                <a:lnTo>
                  <a:pt x="168564" y="40341"/>
                </a:lnTo>
                <a:lnTo>
                  <a:pt x="162524" y="34930"/>
                </a:lnTo>
                <a:lnTo>
                  <a:pt x="155959" y="29629"/>
                </a:lnTo>
                <a:lnTo>
                  <a:pt x="149042" y="24402"/>
                </a:lnTo>
                <a:lnTo>
                  <a:pt x="134584" y="14079"/>
                </a:lnTo>
                <a:lnTo>
                  <a:pt x="126324" y="10648"/>
                </a:lnTo>
                <a:lnTo>
                  <a:pt x="117433" y="8361"/>
                </a:lnTo>
                <a:lnTo>
                  <a:pt x="108117" y="6837"/>
                </a:lnTo>
                <a:lnTo>
                  <a:pt x="99368" y="4974"/>
                </a:lnTo>
                <a:lnTo>
                  <a:pt x="90994" y="2885"/>
                </a:lnTo>
                <a:lnTo>
                  <a:pt x="82872" y="646"/>
                </a:lnTo>
                <a:lnTo>
                  <a:pt x="75764" y="0"/>
                </a:lnTo>
                <a:lnTo>
                  <a:pt x="69332" y="416"/>
                </a:lnTo>
                <a:lnTo>
                  <a:pt x="51387" y="378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19"/>
          <p:cNvSpPr/>
          <p:nvPr/>
        </p:nvSpPr>
        <p:spPr>
          <a:xfrm>
            <a:off x="3298680" y="3070080"/>
            <a:ext cx="351000" cy="260640"/>
          </a:xfrm>
          <a:custGeom>
            <a:avLst/>
            <a:gdLst>
              <a:gd name="textAreaLeft" fmla="*/ 0 w 351000"/>
              <a:gd name="textAreaRight" fmla="*/ 351360 w 3510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350521" h="259014">
                <a:moveTo>
                  <a:pt x="0" y="7592"/>
                </a:moveTo>
                <a:lnTo>
                  <a:pt x="33530" y="7592"/>
                </a:lnTo>
                <a:lnTo>
                  <a:pt x="40133" y="6746"/>
                </a:lnTo>
                <a:lnTo>
                  <a:pt x="47076" y="5335"/>
                </a:lnTo>
                <a:lnTo>
                  <a:pt x="54244" y="3547"/>
                </a:lnTo>
                <a:lnTo>
                  <a:pt x="62409" y="2355"/>
                </a:lnTo>
                <a:lnTo>
                  <a:pt x="71239" y="1561"/>
                </a:lnTo>
                <a:lnTo>
                  <a:pt x="80513" y="1032"/>
                </a:lnTo>
                <a:lnTo>
                  <a:pt x="99848" y="443"/>
                </a:lnTo>
                <a:lnTo>
                  <a:pt x="166120" y="14"/>
                </a:lnTo>
                <a:lnTo>
                  <a:pt x="176787" y="0"/>
                </a:lnTo>
                <a:lnTo>
                  <a:pt x="187285" y="838"/>
                </a:lnTo>
                <a:lnTo>
                  <a:pt x="197670" y="2242"/>
                </a:lnTo>
                <a:lnTo>
                  <a:pt x="207980" y="4026"/>
                </a:lnTo>
                <a:lnTo>
                  <a:pt x="217393" y="5215"/>
                </a:lnTo>
                <a:lnTo>
                  <a:pt x="226209" y="6007"/>
                </a:lnTo>
                <a:lnTo>
                  <a:pt x="234626" y="6536"/>
                </a:lnTo>
                <a:lnTo>
                  <a:pt x="241931" y="7735"/>
                </a:lnTo>
                <a:lnTo>
                  <a:pt x="248494" y="9381"/>
                </a:lnTo>
                <a:lnTo>
                  <a:pt x="254563" y="11325"/>
                </a:lnTo>
                <a:lnTo>
                  <a:pt x="263564" y="15742"/>
                </a:lnTo>
                <a:lnTo>
                  <a:pt x="273391" y="22989"/>
                </a:lnTo>
                <a:lnTo>
                  <a:pt x="276240" y="25477"/>
                </a:lnTo>
                <a:lnTo>
                  <a:pt x="277294" y="27982"/>
                </a:lnTo>
                <a:lnTo>
                  <a:pt x="277149" y="30499"/>
                </a:lnTo>
                <a:lnTo>
                  <a:pt x="274731" y="36400"/>
                </a:lnTo>
                <a:lnTo>
                  <a:pt x="270834" y="44667"/>
                </a:lnTo>
                <a:lnTo>
                  <a:pt x="267762" y="49242"/>
                </a:lnTo>
                <a:lnTo>
                  <a:pt x="264022" y="53985"/>
                </a:lnTo>
                <a:lnTo>
                  <a:pt x="259834" y="58841"/>
                </a:lnTo>
                <a:lnTo>
                  <a:pt x="254503" y="64618"/>
                </a:lnTo>
                <a:lnTo>
                  <a:pt x="241806" y="77811"/>
                </a:lnTo>
                <a:lnTo>
                  <a:pt x="234864" y="84038"/>
                </a:lnTo>
                <a:lnTo>
                  <a:pt x="227696" y="89883"/>
                </a:lnTo>
                <a:lnTo>
                  <a:pt x="220377" y="95473"/>
                </a:lnTo>
                <a:lnTo>
                  <a:pt x="211265" y="100893"/>
                </a:lnTo>
                <a:lnTo>
                  <a:pt x="200957" y="106199"/>
                </a:lnTo>
                <a:lnTo>
                  <a:pt x="189851" y="111430"/>
                </a:lnTo>
                <a:lnTo>
                  <a:pt x="179907" y="117458"/>
                </a:lnTo>
                <a:lnTo>
                  <a:pt x="170738" y="124016"/>
                </a:lnTo>
                <a:lnTo>
                  <a:pt x="162086" y="130928"/>
                </a:lnTo>
                <a:lnTo>
                  <a:pt x="152930" y="137230"/>
                </a:lnTo>
                <a:lnTo>
                  <a:pt x="143440" y="143124"/>
                </a:lnTo>
                <a:lnTo>
                  <a:pt x="133727" y="148747"/>
                </a:lnTo>
                <a:lnTo>
                  <a:pt x="125558" y="154189"/>
                </a:lnTo>
                <a:lnTo>
                  <a:pt x="118419" y="159510"/>
                </a:lnTo>
                <a:lnTo>
                  <a:pt x="111966" y="164751"/>
                </a:lnTo>
                <a:lnTo>
                  <a:pt x="105124" y="169938"/>
                </a:lnTo>
                <a:lnTo>
                  <a:pt x="90749" y="180217"/>
                </a:lnTo>
                <a:lnTo>
                  <a:pt x="84206" y="185329"/>
                </a:lnTo>
                <a:lnTo>
                  <a:pt x="78151" y="190430"/>
                </a:lnTo>
                <a:lnTo>
                  <a:pt x="72420" y="195524"/>
                </a:lnTo>
                <a:lnTo>
                  <a:pt x="68600" y="200614"/>
                </a:lnTo>
                <a:lnTo>
                  <a:pt x="66054" y="205700"/>
                </a:lnTo>
                <a:lnTo>
                  <a:pt x="64356" y="210784"/>
                </a:lnTo>
                <a:lnTo>
                  <a:pt x="60211" y="218691"/>
                </a:lnTo>
                <a:lnTo>
                  <a:pt x="56394" y="225027"/>
                </a:lnTo>
                <a:lnTo>
                  <a:pt x="54698" y="230666"/>
                </a:lnTo>
                <a:lnTo>
                  <a:pt x="53742" y="238600"/>
                </a:lnTo>
                <a:lnTo>
                  <a:pt x="55302" y="241184"/>
                </a:lnTo>
                <a:lnTo>
                  <a:pt x="64740" y="248866"/>
                </a:lnTo>
                <a:lnTo>
                  <a:pt x="70542" y="253961"/>
                </a:lnTo>
                <a:lnTo>
                  <a:pt x="74122" y="255658"/>
                </a:lnTo>
                <a:lnTo>
                  <a:pt x="82614" y="257544"/>
                </a:lnTo>
                <a:lnTo>
                  <a:pt x="92033" y="258381"/>
                </a:lnTo>
                <a:lnTo>
                  <a:pt x="102710" y="258754"/>
                </a:lnTo>
                <a:lnTo>
                  <a:pt x="141686" y="259013"/>
                </a:lnTo>
                <a:lnTo>
                  <a:pt x="150338" y="258180"/>
                </a:lnTo>
                <a:lnTo>
                  <a:pt x="158645" y="256777"/>
                </a:lnTo>
                <a:lnTo>
                  <a:pt x="166723" y="254996"/>
                </a:lnTo>
                <a:lnTo>
                  <a:pt x="175495" y="253808"/>
                </a:lnTo>
                <a:lnTo>
                  <a:pt x="184731" y="253016"/>
                </a:lnTo>
                <a:lnTo>
                  <a:pt x="194274" y="252488"/>
                </a:lnTo>
                <a:lnTo>
                  <a:pt x="204869" y="251290"/>
                </a:lnTo>
                <a:lnTo>
                  <a:pt x="216166" y="249644"/>
                </a:lnTo>
                <a:lnTo>
                  <a:pt x="227931" y="247700"/>
                </a:lnTo>
                <a:lnTo>
                  <a:pt x="238314" y="245557"/>
                </a:lnTo>
                <a:lnTo>
                  <a:pt x="247776" y="243282"/>
                </a:lnTo>
                <a:lnTo>
                  <a:pt x="285258" y="233548"/>
                </a:lnTo>
                <a:lnTo>
                  <a:pt x="294312" y="231889"/>
                </a:lnTo>
                <a:lnTo>
                  <a:pt x="302888" y="230783"/>
                </a:lnTo>
                <a:lnTo>
                  <a:pt x="311145" y="230046"/>
                </a:lnTo>
                <a:lnTo>
                  <a:pt x="318343" y="229555"/>
                </a:lnTo>
                <a:lnTo>
                  <a:pt x="324835" y="229227"/>
                </a:lnTo>
                <a:lnTo>
                  <a:pt x="330857" y="229009"/>
                </a:lnTo>
                <a:lnTo>
                  <a:pt x="335718" y="228017"/>
                </a:lnTo>
                <a:lnTo>
                  <a:pt x="339805" y="226509"/>
                </a:lnTo>
                <a:lnTo>
                  <a:pt x="350520" y="2209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20"/>
          <p:cNvSpPr/>
          <p:nvPr/>
        </p:nvSpPr>
        <p:spPr>
          <a:xfrm>
            <a:off x="3292560" y="3192480"/>
            <a:ext cx="304560" cy="15840"/>
          </a:xfrm>
          <a:custGeom>
            <a:avLst/>
            <a:gdLst>
              <a:gd name="textAreaLeft" fmla="*/ 0 w 304560"/>
              <a:gd name="textAreaRight" fmla="*/ 304560 w 304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04801" h="15240">
                <a:moveTo>
                  <a:pt x="0" y="15239"/>
                </a:moveTo>
                <a:lnTo>
                  <a:pt x="6561" y="15239"/>
                </a:lnTo>
                <a:lnTo>
                  <a:pt x="7760" y="14393"/>
                </a:lnTo>
                <a:lnTo>
                  <a:pt x="9407" y="12982"/>
                </a:lnTo>
                <a:lnTo>
                  <a:pt x="11351" y="11194"/>
                </a:lnTo>
                <a:lnTo>
                  <a:pt x="14341" y="10003"/>
                </a:lnTo>
                <a:lnTo>
                  <a:pt x="18027" y="9208"/>
                </a:lnTo>
                <a:lnTo>
                  <a:pt x="22178" y="8679"/>
                </a:lnTo>
                <a:lnTo>
                  <a:pt x="26638" y="8326"/>
                </a:lnTo>
                <a:lnTo>
                  <a:pt x="36110" y="7933"/>
                </a:lnTo>
                <a:lnTo>
                  <a:pt x="59053" y="7713"/>
                </a:lnTo>
                <a:lnTo>
                  <a:pt x="69002" y="6835"/>
                </a:lnTo>
                <a:lnTo>
                  <a:pt x="79868" y="5403"/>
                </a:lnTo>
                <a:lnTo>
                  <a:pt x="91345" y="3602"/>
                </a:lnTo>
                <a:lnTo>
                  <a:pt x="102383" y="2401"/>
                </a:lnTo>
                <a:lnTo>
                  <a:pt x="113129" y="1601"/>
                </a:lnTo>
                <a:lnTo>
                  <a:pt x="123679" y="1067"/>
                </a:lnTo>
                <a:lnTo>
                  <a:pt x="146690" y="474"/>
                </a:lnTo>
                <a:lnTo>
                  <a:pt x="3048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21"/>
          <p:cNvSpPr/>
          <p:nvPr/>
        </p:nvSpPr>
        <p:spPr>
          <a:xfrm>
            <a:off x="3703680" y="3162240"/>
            <a:ext cx="160200" cy="15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022" h="15241">
                <a:moveTo>
                  <a:pt x="0" y="15240"/>
                </a:moveTo>
                <a:lnTo>
                  <a:pt x="15397" y="15240"/>
                </a:lnTo>
                <a:lnTo>
                  <a:pt x="19578" y="14393"/>
                </a:lnTo>
                <a:lnTo>
                  <a:pt x="24059" y="12982"/>
                </a:lnTo>
                <a:lnTo>
                  <a:pt x="28739" y="11194"/>
                </a:lnTo>
                <a:lnTo>
                  <a:pt x="35247" y="10003"/>
                </a:lnTo>
                <a:lnTo>
                  <a:pt x="42971" y="9209"/>
                </a:lnTo>
                <a:lnTo>
                  <a:pt x="51507" y="8679"/>
                </a:lnTo>
                <a:lnTo>
                  <a:pt x="67766" y="8090"/>
                </a:lnTo>
                <a:lnTo>
                  <a:pt x="93457" y="7759"/>
                </a:lnTo>
                <a:lnTo>
                  <a:pt x="102945" y="7713"/>
                </a:lnTo>
                <a:lnTo>
                  <a:pt x="111810" y="6835"/>
                </a:lnTo>
                <a:lnTo>
                  <a:pt x="120260" y="5403"/>
                </a:lnTo>
                <a:lnTo>
                  <a:pt x="128434" y="3602"/>
                </a:lnTo>
                <a:lnTo>
                  <a:pt x="135576" y="2401"/>
                </a:lnTo>
                <a:lnTo>
                  <a:pt x="142031" y="1601"/>
                </a:lnTo>
                <a:lnTo>
                  <a:pt x="16002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22"/>
          <p:cNvSpPr/>
          <p:nvPr/>
        </p:nvSpPr>
        <p:spPr>
          <a:xfrm>
            <a:off x="3749760" y="3208320"/>
            <a:ext cx="212760" cy="22320"/>
          </a:xfrm>
          <a:custGeom>
            <a:avLst/>
            <a:gdLst>
              <a:gd name="textAreaLeft" fmla="*/ 0 w 212760"/>
              <a:gd name="textAreaRight" fmla="*/ 213120 w 212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2302" h="22861">
                <a:moveTo>
                  <a:pt x="6562" y="0"/>
                </a:moveTo>
                <a:lnTo>
                  <a:pt x="2517" y="0"/>
                </a:lnTo>
                <a:lnTo>
                  <a:pt x="1325" y="847"/>
                </a:lnTo>
                <a:lnTo>
                  <a:pt x="530" y="2258"/>
                </a:lnTo>
                <a:lnTo>
                  <a:pt x="0" y="4046"/>
                </a:lnTo>
                <a:lnTo>
                  <a:pt x="494" y="5237"/>
                </a:lnTo>
                <a:lnTo>
                  <a:pt x="1670" y="6031"/>
                </a:lnTo>
                <a:lnTo>
                  <a:pt x="5595" y="7306"/>
                </a:lnTo>
                <a:lnTo>
                  <a:pt x="10648" y="9738"/>
                </a:lnTo>
                <a:lnTo>
                  <a:pt x="14366" y="11572"/>
                </a:lnTo>
                <a:lnTo>
                  <a:pt x="17691" y="12795"/>
                </a:lnTo>
                <a:lnTo>
                  <a:pt x="20754" y="13610"/>
                </a:lnTo>
                <a:lnTo>
                  <a:pt x="23643" y="14153"/>
                </a:lnTo>
                <a:lnTo>
                  <a:pt x="28110" y="15362"/>
                </a:lnTo>
                <a:lnTo>
                  <a:pt x="39845" y="18963"/>
                </a:lnTo>
                <a:lnTo>
                  <a:pt x="46530" y="20262"/>
                </a:lnTo>
                <a:lnTo>
                  <a:pt x="53527" y="21128"/>
                </a:lnTo>
                <a:lnTo>
                  <a:pt x="60732" y="21706"/>
                </a:lnTo>
                <a:lnTo>
                  <a:pt x="68075" y="22090"/>
                </a:lnTo>
                <a:lnTo>
                  <a:pt x="83007" y="22518"/>
                </a:lnTo>
                <a:lnTo>
                  <a:pt x="212301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23"/>
          <p:cNvSpPr/>
          <p:nvPr/>
        </p:nvSpPr>
        <p:spPr>
          <a:xfrm>
            <a:off x="5159520" y="3040200"/>
            <a:ext cx="29880" cy="198360"/>
          </a:xfrm>
          <a:custGeom>
            <a:avLst/>
            <a:gdLst>
              <a:gd name="textAreaLeft" fmla="*/ 0 w 29880"/>
              <a:gd name="textAreaRight" fmla="*/ 30240 w 298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480" h="198121">
                <a:moveTo>
                  <a:pt x="30479" y="0"/>
                </a:moveTo>
                <a:lnTo>
                  <a:pt x="26434" y="4045"/>
                </a:lnTo>
                <a:lnTo>
                  <a:pt x="25243" y="6083"/>
                </a:lnTo>
                <a:lnTo>
                  <a:pt x="24448" y="8289"/>
                </a:lnTo>
                <a:lnTo>
                  <a:pt x="23566" y="12997"/>
                </a:lnTo>
                <a:lnTo>
                  <a:pt x="23173" y="17912"/>
                </a:lnTo>
                <a:lnTo>
                  <a:pt x="22222" y="22101"/>
                </a:lnTo>
                <a:lnTo>
                  <a:pt x="20741" y="27434"/>
                </a:lnTo>
                <a:lnTo>
                  <a:pt x="18907" y="33529"/>
                </a:lnTo>
                <a:lnTo>
                  <a:pt x="17685" y="39286"/>
                </a:lnTo>
                <a:lnTo>
                  <a:pt x="16869" y="44817"/>
                </a:lnTo>
                <a:lnTo>
                  <a:pt x="16327" y="50198"/>
                </a:lnTo>
                <a:lnTo>
                  <a:pt x="15964" y="55479"/>
                </a:lnTo>
                <a:lnTo>
                  <a:pt x="15722" y="60692"/>
                </a:lnTo>
                <a:lnTo>
                  <a:pt x="15454" y="71847"/>
                </a:lnTo>
                <a:lnTo>
                  <a:pt x="15268" y="107110"/>
                </a:lnTo>
                <a:lnTo>
                  <a:pt x="14412" y="113740"/>
                </a:lnTo>
                <a:lnTo>
                  <a:pt x="12994" y="119853"/>
                </a:lnTo>
                <a:lnTo>
                  <a:pt x="11203" y="125622"/>
                </a:lnTo>
                <a:lnTo>
                  <a:pt x="10008" y="132008"/>
                </a:lnTo>
                <a:lnTo>
                  <a:pt x="9212" y="138805"/>
                </a:lnTo>
                <a:lnTo>
                  <a:pt x="8681" y="145877"/>
                </a:lnTo>
                <a:lnTo>
                  <a:pt x="8327" y="152284"/>
                </a:lnTo>
                <a:lnTo>
                  <a:pt x="7934" y="163920"/>
                </a:lnTo>
                <a:lnTo>
                  <a:pt x="6982" y="168546"/>
                </a:lnTo>
                <a:lnTo>
                  <a:pt x="5502" y="172478"/>
                </a:lnTo>
                <a:lnTo>
                  <a:pt x="3668" y="175945"/>
                </a:lnTo>
                <a:lnTo>
                  <a:pt x="2445" y="179103"/>
                </a:lnTo>
                <a:lnTo>
                  <a:pt x="1630" y="182055"/>
                </a:lnTo>
                <a:lnTo>
                  <a:pt x="724" y="187594"/>
                </a:lnTo>
                <a:lnTo>
                  <a:pt x="482" y="190256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24"/>
          <p:cNvSpPr/>
          <p:nvPr/>
        </p:nvSpPr>
        <p:spPr>
          <a:xfrm>
            <a:off x="5083200" y="2960640"/>
            <a:ext cx="479520" cy="270000"/>
          </a:xfrm>
          <a:custGeom>
            <a:avLst/>
            <a:gdLst>
              <a:gd name="textAreaLeft" fmla="*/ 0 w 479520"/>
              <a:gd name="textAreaRight" fmla="*/ 479880 w 479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480060" h="270698">
                <a:moveTo>
                  <a:pt x="0" y="186877"/>
                </a:moveTo>
                <a:lnTo>
                  <a:pt x="0" y="179571"/>
                </a:lnTo>
                <a:lnTo>
                  <a:pt x="13843" y="179276"/>
                </a:lnTo>
                <a:lnTo>
                  <a:pt x="114822" y="179257"/>
                </a:lnTo>
                <a:lnTo>
                  <a:pt x="125654" y="180104"/>
                </a:lnTo>
                <a:lnTo>
                  <a:pt x="136263" y="181515"/>
                </a:lnTo>
                <a:lnTo>
                  <a:pt x="146721" y="183303"/>
                </a:lnTo>
                <a:lnTo>
                  <a:pt x="156234" y="183647"/>
                </a:lnTo>
                <a:lnTo>
                  <a:pt x="165115" y="183031"/>
                </a:lnTo>
                <a:lnTo>
                  <a:pt x="173577" y="181773"/>
                </a:lnTo>
                <a:lnTo>
                  <a:pt x="181758" y="180934"/>
                </a:lnTo>
                <a:lnTo>
                  <a:pt x="189751" y="180375"/>
                </a:lnTo>
                <a:lnTo>
                  <a:pt x="197620" y="180002"/>
                </a:lnTo>
                <a:lnTo>
                  <a:pt x="205407" y="178908"/>
                </a:lnTo>
                <a:lnTo>
                  <a:pt x="213138" y="177331"/>
                </a:lnTo>
                <a:lnTo>
                  <a:pt x="220831" y="175433"/>
                </a:lnTo>
                <a:lnTo>
                  <a:pt x="233895" y="168809"/>
                </a:lnTo>
                <a:lnTo>
                  <a:pt x="244500" y="161067"/>
                </a:lnTo>
                <a:lnTo>
                  <a:pt x="252035" y="154804"/>
                </a:lnTo>
                <a:lnTo>
                  <a:pt x="255230" y="150255"/>
                </a:lnTo>
                <a:lnTo>
                  <a:pt x="258206" y="144682"/>
                </a:lnTo>
                <a:lnTo>
                  <a:pt x="263771" y="132564"/>
                </a:lnTo>
                <a:lnTo>
                  <a:pt x="269067" y="121534"/>
                </a:lnTo>
                <a:lnTo>
                  <a:pt x="269971" y="115375"/>
                </a:lnTo>
                <a:lnTo>
                  <a:pt x="269727" y="108729"/>
                </a:lnTo>
                <a:lnTo>
                  <a:pt x="268718" y="101759"/>
                </a:lnTo>
                <a:lnTo>
                  <a:pt x="267198" y="94571"/>
                </a:lnTo>
                <a:lnTo>
                  <a:pt x="265339" y="87240"/>
                </a:lnTo>
                <a:lnTo>
                  <a:pt x="263252" y="79813"/>
                </a:lnTo>
                <a:lnTo>
                  <a:pt x="261861" y="72321"/>
                </a:lnTo>
                <a:lnTo>
                  <a:pt x="260934" y="64786"/>
                </a:lnTo>
                <a:lnTo>
                  <a:pt x="260316" y="57223"/>
                </a:lnTo>
                <a:lnTo>
                  <a:pt x="259057" y="50488"/>
                </a:lnTo>
                <a:lnTo>
                  <a:pt x="257371" y="44305"/>
                </a:lnTo>
                <a:lnTo>
                  <a:pt x="255401" y="38489"/>
                </a:lnTo>
                <a:lnTo>
                  <a:pt x="254086" y="32918"/>
                </a:lnTo>
                <a:lnTo>
                  <a:pt x="253210" y="27511"/>
                </a:lnTo>
                <a:lnTo>
                  <a:pt x="252627" y="22213"/>
                </a:lnTo>
                <a:lnTo>
                  <a:pt x="249720" y="14069"/>
                </a:lnTo>
                <a:lnTo>
                  <a:pt x="245001" y="5987"/>
                </a:lnTo>
                <a:lnTo>
                  <a:pt x="244355" y="2624"/>
                </a:lnTo>
                <a:lnTo>
                  <a:pt x="244068" y="0"/>
                </a:lnTo>
                <a:lnTo>
                  <a:pt x="243885" y="5215"/>
                </a:lnTo>
                <a:lnTo>
                  <a:pt x="243870" y="7349"/>
                </a:lnTo>
                <a:lnTo>
                  <a:pt x="244706" y="9619"/>
                </a:lnTo>
                <a:lnTo>
                  <a:pt x="249928" y="17704"/>
                </a:lnTo>
                <a:lnTo>
                  <a:pt x="254448" y="25894"/>
                </a:lnTo>
                <a:lnTo>
                  <a:pt x="256838" y="31295"/>
                </a:lnTo>
                <a:lnTo>
                  <a:pt x="259279" y="37436"/>
                </a:lnTo>
                <a:lnTo>
                  <a:pt x="261752" y="44070"/>
                </a:lnTo>
                <a:lnTo>
                  <a:pt x="264248" y="51879"/>
                </a:lnTo>
                <a:lnTo>
                  <a:pt x="266758" y="60472"/>
                </a:lnTo>
                <a:lnTo>
                  <a:pt x="271805" y="79051"/>
                </a:lnTo>
                <a:lnTo>
                  <a:pt x="302259" y="198742"/>
                </a:lnTo>
                <a:lnTo>
                  <a:pt x="307339" y="215857"/>
                </a:lnTo>
                <a:lnTo>
                  <a:pt x="309032" y="222284"/>
                </a:lnTo>
                <a:lnTo>
                  <a:pt x="310162" y="227415"/>
                </a:lnTo>
                <a:lnTo>
                  <a:pt x="310914" y="231682"/>
                </a:lnTo>
                <a:lnTo>
                  <a:pt x="312263" y="236221"/>
                </a:lnTo>
                <a:lnTo>
                  <a:pt x="314008" y="240940"/>
                </a:lnTo>
                <a:lnTo>
                  <a:pt x="316019" y="245779"/>
                </a:lnTo>
                <a:lnTo>
                  <a:pt x="320510" y="253414"/>
                </a:lnTo>
                <a:lnTo>
                  <a:pt x="327240" y="262512"/>
                </a:lnTo>
                <a:lnTo>
                  <a:pt x="329731" y="260568"/>
                </a:lnTo>
                <a:lnTo>
                  <a:pt x="331580" y="258865"/>
                </a:lnTo>
                <a:lnTo>
                  <a:pt x="332814" y="256882"/>
                </a:lnTo>
                <a:lnTo>
                  <a:pt x="335396" y="249200"/>
                </a:lnTo>
                <a:lnTo>
                  <a:pt x="338999" y="241105"/>
                </a:lnTo>
                <a:lnTo>
                  <a:pt x="341146" y="235729"/>
                </a:lnTo>
                <a:lnTo>
                  <a:pt x="345789" y="222983"/>
                </a:lnTo>
                <a:lnTo>
                  <a:pt x="353162" y="201526"/>
                </a:lnTo>
                <a:lnTo>
                  <a:pt x="356515" y="195796"/>
                </a:lnTo>
                <a:lnTo>
                  <a:pt x="360443" y="191130"/>
                </a:lnTo>
                <a:lnTo>
                  <a:pt x="369323" y="182841"/>
                </a:lnTo>
                <a:lnTo>
                  <a:pt x="378914" y="173512"/>
                </a:lnTo>
                <a:lnTo>
                  <a:pt x="383843" y="170347"/>
                </a:lnTo>
                <a:lnTo>
                  <a:pt x="393834" y="166831"/>
                </a:lnTo>
                <a:lnTo>
                  <a:pt x="403919" y="165268"/>
                </a:lnTo>
                <a:lnTo>
                  <a:pt x="408979" y="164851"/>
                </a:lnTo>
                <a:lnTo>
                  <a:pt x="419117" y="166646"/>
                </a:lnTo>
                <a:lnTo>
                  <a:pt x="428420" y="170265"/>
                </a:lnTo>
                <a:lnTo>
                  <a:pt x="435378" y="174697"/>
                </a:lnTo>
                <a:lnTo>
                  <a:pt x="443550" y="181746"/>
                </a:lnTo>
                <a:lnTo>
                  <a:pt x="448099" y="185997"/>
                </a:lnTo>
                <a:lnTo>
                  <a:pt x="451980" y="190524"/>
                </a:lnTo>
                <a:lnTo>
                  <a:pt x="455413" y="195235"/>
                </a:lnTo>
                <a:lnTo>
                  <a:pt x="458548" y="200069"/>
                </a:lnTo>
                <a:lnTo>
                  <a:pt x="461486" y="204985"/>
                </a:lnTo>
                <a:lnTo>
                  <a:pt x="464290" y="209956"/>
                </a:lnTo>
                <a:lnTo>
                  <a:pt x="467006" y="214963"/>
                </a:lnTo>
                <a:lnTo>
                  <a:pt x="468817" y="219994"/>
                </a:lnTo>
                <a:lnTo>
                  <a:pt x="470025" y="225042"/>
                </a:lnTo>
                <a:lnTo>
                  <a:pt x="470829" y="230100"/>
                </a:lnTo>
                <a:lnTo>
                  <a:pt x="473981" y="237979"/>
                </a:lnTo>
                <a:lnTo>
                  <a:pt x="476008" y="241265"/>
                </a:lnTo>
                <a:lnTo>
                  <a:pt x="478259" y="249432"/>
                </a:lnTo>
                <a:lnTo>
                  <a:pt x="479259" y="257859"/>
                </a:lnTo>
                <a:lnTo>
                  <a:pt x="479703" y="264427"/>
                </a:lnTo>
                <a:lnTo>
                  <a:pt x="480059" y="27069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25"/>
          <p:cNvSpPr/>
          <p:nvPr/>
        </p:nvSpPr>
        <p:spPr>
          <a:xfrm>
            <a:off x="1333440" y="1660680"/>
            <a:ext cx="5500800" cy="49500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5500458" h="495301">
                <a:moveTo>
                  <a:pt x="0" y="464820"/>
                </a:moveTo>
                <a:lnTo>
                  <a:pt x="0" y="471381"/>
                </a:lnTo>
                <a:lnTo>
                  <a:pt x="847" y="471734"/>
                </a:lnTo>
                <a:lnTo>
                  <a:pt x="7760" y="472378"/>
                </a:lnTo>
                <a:lnTo>
                  <a:pt x="77368" y="472440"/>
                </a:lnTo>
                <a:lnTo>
                  <a:pt x="80365" y="471594"/>
                </a:lnTo>
                <a:lnTo>
                  <a:pt x="85953" y="468395"/>
                </a:lnTo>
                <a:lnTo>
                  <a:pt x="95775" y="466409"/>
                </a:lnTo>
                <a:lnTo>
                  <a:pt x="261641" y="464820"/>
                </a:lnTo>
                <a:lnTo>
                  <a:pt x="1190192" y="464820"/>
                </a:lnTo>
                <a:lnTo>
                  <a:pt x="1350482" y="472399"/>
                </a:lnTo>
                <a:lnTo>
                  <a:pt x="1708385" y="472440"/>
                </a:lnTo>
                <a:lnTo>
                  <a:pt x="1878200" y="479967"/>
                </a:lnTo>
                <a:lnTo>
                  <a:pt x="2045856" y="486620"/>
                </a:lnTo>
                <a:lnTo>
                  <a:pt x="2209843" y="489926"/>
                </a:lnTo>
                <a:lnTo>
                  <a:pt x="2378784" y="495238"/>
                </a:lnTo>
                <a:lnTo>
                  <a:pt x="2975504" y="495300"/>
                </a:lnTo>
                <a:lnTo>
                  <a:pt x="3147015" y="487820"/>
                </a:lnTo>
                <a:lnTo>
                  <a:pt x="3383593" y="480088"/>
                </a:lnTo>
                <a:lnTo>
                  <a:pt x="3551329" y="468488"/>
                </a:lnTo>
                <a:lnTo>
                  <a:pt x="3735400" y="459602"/>
                </a:lnTo>
                <a:lnTo>
                  <a:pt x="3894467" y="450305"/>
                </a:lnTo>
                <a:lnTo>
                  <a:pt x="4057677" y="440177"/>
                </a:lnTo>
                <a:lnTo>
                  <a:pt x="4226452" y="434360"/>
                </a:lnTo>
                <a:lnTo>
                  <a:pt x="4273043" y="432086"/>
                </a:lnTo>
                <a:lnTo>
                  <a:pt x="4341656" y="427191"/>
                </a:lnTo>
                <a:lnTo>
                  <a:pt x="4564368" y="419112"/>
                </a:lnTo>
                <a:lnTo>
                  <a:pt x="4655820" y="421358"/>
                </a:lnTo>
                <a:lnTo>
                  <a:pt x="4706620" y="426014"/>
                </a:lnTo>
                <a:lnTo>
                  <a:pt x="4804844" y="428966"/>
                </a:lnTo>
                <a:lnTo>
                  <a:pt x="4832338" y="432748"/>
                </a:lnTo>
                <a:lnTo>
                  <a:pt x="5005158" y="448493"/>
                </a:lnTo>
                <a:lnTo>
                  <a:pt x="5135536" y="463731"/>
                </a:lnTo>
                <a:lnTo>
                  <a:pt x="5196827" y="467035"/>
                </a:lnTo>
                <a:lnTo>
                  <a:pt x="5223272" y="471373"/>
                </a:lnTo>
                <a:lnTo>
                  <a:pt x="5255128" y="472346"/>
                </a:lnTo>
                <a:lnTo>
                  <a:pt x="5265362" y="470141"/>
                </a:lnTo>
                <a:lnTo>
                  <a:pt x="5276401" y="467185"/>
                </a:lnTo>
                <a:lnTo>
                  <a:pt x="5295202" y="464674"/>
                </a:lnTo>
                <a:lnTo>
                  <a:pt x="5307736" y="459791"/>
                </a:lnTo>
                <a:lnTo>
                  <a:pt x="5326711" y="455454"/>
                </a:lnTo>
                <a:lnTo>
                  <a:pt x="5350977" y="444270"/>
                </a:lnTo>
                <a:lnTo>
                  <a:pt x="5370625" y="431770"/>
                </a:lnTo>
                <a:lnTo>
                  <a:pt x="5385116" y="420126"/>
                </a:lnTo>
                <a:lnTo>
                  <a:pt x="5396088" y="405951"/>
                </a:lnTo>
                <a:lnTo>
                  <a:pt x="5408227" y="391228"/>
                </a:lnTo>
                <a:lnTo>
                  <a:pt x="5420435" y="378574"/>
                </a:lnTo>
                <a:lnTo>
                  <a:pt x="5426884" y="372020"/>
                </a:lnTo>
                <a:lnTo>
                  <a:pt x="5432574" y="361769"/>
                </a:lnTo>
                <a:lnTo>
                  <a:pt x="5438770" y="349593"/>
                </a:lnTo>
                <a:lnTo>
                  <a:pt x="5447169" y="338537"/>
                </a:lnTo>
                <a:lnTo>
                  <a:pt x="5457373" y="326838"/>
                </a:lnTo>
                <a:lnTo>
                  <a:pt x="5465758" y="313964"/>
                </a:lnTo>
                <a:lnTo>
                  <a:pt x="5471016" y="302100"/>
                </a:lnTo>
                <a:lnTo>
                  <a:pt x="5475330" y="290053"/>
                </a:lnTo>
                <a:lnTo>
                  <a:pt x="5478604" y="277665"/>
                </a:lnTo>
                <a:lnTo>
                  <a:pt x="5484561" y="263646"/>
                </a:lnTo>
                <a:lnTo>
                  <a:pt x="5490841" y="248768"/>
                </a:lnTo>
                <a:lnTo>
                  <a:pt x="5493924" y="233635"/>
                </a:lnTo>
                <a:lnTo>
                  <a:pt x="5498978" y="218427"/>
                </a:lnTo>
                <a:lnTo>
                  <a:pt x="5500457" y="208274"/>
                </a:lnTo>
                <a:lnTo>
                  <a:pt x="5500005" y="204043"/>
                </a:lnTo>
                <a:lnTo>
                  <a:pt x="5498857" y="200375"/>
                </a:lnTo>
                <a:lnTo>
                  <a:pt x="5497244" y="197084"/>
                </a:lnTo>
                <a:lnTo>
                  <a:pt x="5495454" y="188911"/>
                </a:lnTo>
                <a:lnTo>
                  <a:pt x="5494303" y="173911"/>
                </a:lnTo>
                <a:lnTo>
                  <a:pt x="5490059" y="161408"/>
                </a:lnTo>
                <a:lnTo>
                  <a:pt x="5485769" y="154146"/>
                </a:lnTo>
                <a:lnTo>
                  <a:pt x="5483439" y="151024"/>
                </a:lnTo>
                <a:lnTo>
                  <a:pt x="5480851" y="145297"/>
                </a:lnTo>
                <a:lnTo>
                  <a:pt x="5480160" y="142585"/>
                </a:lnTo>
                <a:lnTo>
                  <a:pt x="5477135" y="137313"/>
                </a:lnTo>
                <a:lnTo>
                  <a:pt x="5475144" y="134722"/>
                </a:lnTo>
                <a:lnTo>
                  <a:pt x="5468415" y="129586"/>
                </a:lnTo>
                <a:lnTo>
                  <a:pt x="5464250" y="127030"/>
                </a:lnTo>
                <a:lnTo>
                  <a:pt x="5455107" y="124191"/>
                </a:lnTo>
                <a:lnTo>
                  <a:pt x="5445398" y="122083"/>
                </a:lnTo>
                <a:lnTo>
                  <a:pt x="5414401" y="109858"/>
                </a:lnTo>
                <a:lnTo>
                  <a:pt x="5371800" y="106959"/>
                </a:lnTo>
                <a:lnTo>
                  <a:pt x="5306680" y="104439"/>
                </a:lnTo>
                <a:lnTo>
                  <a:pt x="5279339" y="100654"/>
                </a:lnTo>
                <a:lnTo>
                  <a:pt x="5117364" y="91305"/>
                </a:lnTo>
                <a:lnTo>
                  <a:pt x="4950523" y="78651"/>
                </a:lnTo>
                <a:lnTo>
                  <a:pt x="4792268" y="63062"/>
                </a:lnTo>
                <a:lnTo>
                  <a:pt x="4619213" y="54436"/>
                </a:lnTo>
                <a:lnTo>
                  <a:pt x="4436681" y="40712"/>
                </a:lnTo>
                <a:lnTo>
                  <a:pt x="4283794" y="34157"/>
                </a:lnTo>
                <a:lnTo>
                  <a:pt x="4123492" y="30624"/>
                </a:lnTo>
                <a:lnTo>
                  <a:pt x="3744173" y="30480"/>
                </a:lnTo>
                <a:lnTo>
                  <a:pt x="3588557" y="37629"/>
                </a:lnTo>
                <a:lnTo>
                  <a:pt x="2893097" y="38100"/>
                </a:lnTo>
                <a:lnTo>
                  <a:pt x="2733041" y="30794"/>
                </a:lnTo>
                <a:lnTo>
                  <a:pt x="2567887" y="29639"/>
                </a:lnTo>
                <a:lnTo>
                  <a:pt x="2404697" y="23000"/>
                </a:lnTo>
                <a:lnTo>
                  <a:pt x="1652506" y="22860"/>
                </a:lnTo>
                <a:lnTo>
                  <a:pt x="1486254" y="7942"/>
                </a:lnTo>
                <a:lnTo>
                  <a:pt x="1433428" y="6792"/>
                </a:lnTo>
                <a:lnTo>
                  <a:pt x="1405068" y="1062"/>
                </a:lnTo>
                <a:lnTo>
                  <a:pt x="1244606" y="0"/>
                </a:lnTo>
                <a:lnTo>
                  <a:pt x="1240371" y="847"/>
                </a:lnTo>
                <a:lnTo>
                  <a:pt x="1229518" y="5237"/>
                </a:lnTo>
                <a:lnTo>
                  <a:pt x="1210232" y="7306"/>
                </a:lnTo>
                <a:lnTo>
                  <a:pt x="1201773" y="7527"/>
                </a:lnTo>
                <a:lnTo>
                  <a:pt x="1199116" y="8405"/>
                </a:lnTo>
                <a:lnTo>
                  <a:pt x="1191330" y="12839"/>
                </a:lnTo>
                <a:lnTo>
                  <a:pt x="1183661" y="15375"/>
                </a:lnTo>
                <a:lnTo>
                  <a:pt x="1176026" y="20266"/>
                </a:lnTo>
                <a:lnTo>
                  <a:pt x="1167366" y="22518"/>
                </a:lnTo>
                <a:lnTo>
                  <a:pt x="1166864" y="23479"/>
                </a:lnTo>
                <a:lnTo>
                  <a:pt x="1166306" y="26804"/>
                </a:lnTo>
                <a:lnTo>
                  <a:pt x="1165311" y="28876"/>
                </a:lnTo>
                <a:lnTo>
                  <a:pt x="1160712" y="35837"/>
                </a:lnTo>
                <a:lnTo>
                  <a:pt x="1158126" y="43262"/>
                </a:lnTo>
                <a:lnTo>
                  <a:pt x="1153220" y="50824"/>
                </a:lnTo>
                <a:lnTo>
                  <a:pt x="1151776" y="55891"/>
                </a:lnTo>
                <a:lnTo>
                  <a:pt x="1150848" y="71279"/>
                </a:lnTo>
                <a:lnTo>
                  <a:pt x="1150665" y="85608"/>
                </a:lnTo>
                <a:lnTo>
                  <a:pt x="1150650" y="90092"/>
                </a:lnTo>
                <a:lnTo>
                  <a:pt x="1152891" y="99590"/>
                </a:lnTo>
                <a:lnTo>
                  <a:pt x="1158913" y="114457"/>
                </a:lnTo>
                <a:lnTo>
                  <a:pt x="1161229" y="119485"/>
                </a:lnTo>
                <a:lnTo>
                  <a:pt x="1163801" y="131845"/>
                </a:lnTo>
                <a:lnTo>
                  <a:pt x="1164945" y="144958"/>
                </a:lnTo>
                <a:lnTo>
                  <a:pt x="1165453" y="156430"/>
                </a:lnTo>
                <a:lnTo>
                  <a:pt x="1165740" y="172409"/>
                </a:lnTo>
                <a:lnTo>
                  <a:pt x="1165857" y="229783"/>
                </a:lnTo>
                <a:lnTo>
                  <a:pt x="1168116" y="242109"/>
                </a:lnTo>
                <a:lnTo>
                  <a:pt x="1171943" y="253231"/>
                </a:lnTo>
                <a:lnTo>
                  <a:pt x="1176466" y="263818"/>
                </a:lnTo>
                <a:lnTo>
                  <a:pt x="1179040" y="276426"/>
                </a:lnTo>
                <a:lnTo>
                  <a:pt x="1180185" y="289649"/>
                </a:lnTo>
                <a:lnTo>
                  <a:pt x="1180693" y="301171"/>
                </a:lnTo>
                <a:lnTo>
                  <a:pt x="1183177" y="311936"/>
                </a:lnTo>
                <a:lnTo>
                  <a:pt x="1186257" y="322365"/>
                </a:lnTo>
                <a:lnTo>
                  <a:pt x="1188837" y="337756"/>
                </a:lnTo>
                <a:lnTo>
                  <a:pt x="1193741" y="353041"/>
                </a:lnTo>
                <a:lnTo>
                  <a:pt x="1196417" y="368295"/>
                </a:lnTo>
                <a:lnTo>
                  <a:pt x="1201349" y="382692"/>
                </a:lnTo>
                <a:lnTo>
                  <a:pt x="1202799" y="389654"/>
                </a:lnTo>
                <a:lnTo>
                  <a:pt x="1205702" y="395571"/>
                </a:lnTo>
                <a:lnTo>
                  <a:pt x="1211580" y="403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26"/>
          <p:cNvSpPr/>
          <p:nvPr/>
        </p:nvSpPr>
        <p:spPr>
          <a:xfrm>
            <a:off x="3726000" y="3589200"/>
            <a:ext cx="176040" cy="7920"/>
          </a:xfrm>
          <a:custGeom>
            <a:avLst/>
            <a:gdLst>
              <a:gd name="textAreaLeft" fmla="*/ 0 w 176040"/>
              <a:gd name="textAreaRight" fmla="*/ 176400 w 176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2" h="7622">
                <a:moveTo>
                  <a:pt x="0" y="7621"/>
                </a:moveTo>
                <a:lnTo>
                  <a:pt x="8091" y="7621"/>
                </a:lnTo>
                <a:lnTo>
                  <a:pt x="12167" y="6774"/>
                </a:lnTo>
                <a:lnTo>
                  <a:pt x="16578" y="5363"/>
                </a:lnTo>
                <a:lnTo>
                  <a:pt x="21212" y="3575"/>
                </a:lnTo>
                <a:lnTo>
                  <a:pt x="25994" y="2384"/>
                </a:lnTo>
                <a:lnTo>
                  <a:pt x="30876" y="1589"/>
                </a:lnTo>
                <a:lnTo>
                  <a:pt x="35824" y="1059"/>
                </a:lnTo>
                <a:lnTo>
                  <a:pt x="42510" y="706"/>
                </a:lnTo>
                <a:lnTo>
                  <a:pt x="58969" y="314"/>
                </a:lnTo>
                <a:lnTo>
                  <a:pt x="17526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27"/>
          <p:cNvSpPr/>
          <p:nvPr/>
        </p:nvSpPr>
        <p:spPr>
          <a:xfrm>
            <a:off x="3733920" y="3679920"/>
            <a:ext cx="168120" cy="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12">
                <a:moveTo>
                  <a:pt x="0" y="0"/>
                </a:moveTo>
                <a:lnTo>
                  <a:pt x="6560" y="0"/>
                </a:lnTo>
                <a:lnTo>
                  <a:pt x="7760" y="847"/>
                </a:lnTo>
                <a:lnTo>
                  <a:pt x="9407" y="2257"/>
                </a:lnTo>
                <a:lnTo>
                  <a:pt x="11351" y="4045"/>
                </a:lnTo>
                <a:lnTo>
                  <a:pt x="13494" y="5236"/>
                </a:lnTo>
                <a:lnTo>
                  <a:pt x="15769" y="6031"/>
                </a:lnTo>
                <a:lnTo>
                  <a:pt x="18133" y="6561"/>
                </a:lnTo>
                <a:lnTo>
                  <a:pt x="21401" y="6914"/>
                </a:lnTo>
                <a:lnTo>
                  <a:pt x="25274" y="7149"/>
                </a:lnTo>
                <a:lnTo>
                  <a:pt x="34093" y="7410"/>
                </a:lnTo>
                <a:lnTo>
                  <a:pt x="76931" y="7608"/>
                </a:lnTo>
                <a:lnTo>
                  <a:pt x="84307" y="7611"/>
                </a:lnTo>
                <a:lnTo>
                  <a:pt x="91765" y="6768"/>
                </a:lnTo>
                <a:lnTo>
                  <a:pt x="99276" y="5358"/>
                </a:lnTo>
                <a:lnTo>
                  <a:pt x="106824" y="3572"/>
                </a:lnTo>
                <a:lnTo>
                  <a:pt x="113549" y="2381"/>
                </a:lnTo>
                <a:lnTo>
                  <a:pt x="119726" y="1587"/>
                </a:lnTo>
                <a:lnTo>
                  <a:pt x="125537" y="1058"/>
                </a:lnTo>
                <a:lnTo>
                  <a:pt x="131952" y="706"/>
                </a:lnTo>
                <a:lnTo>
                  <a:pt x="145852" y="313"/>
                </a:lnTo>
                <a:lnTo>
                  <a:pt x="1676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28"/>
          <p:cNvSpPr/>
          <p:nvPr/>
        </p:nvSpPr>
        <p:spPr>
          <a:xfrm>
            <a:off x="3246480" y="3459240"/>
            <a:ext cx="304920" cy="282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04800" h="281876">
                <a:moveTo>
                  <a:pt x="0" y="15213"/>
                </a:moveTo>
                <a:lnTo>
                  <a:pt x="6561" y="15213"/>
                </a:lnTo>
                <a:lnTo>
                  <a:pt x="13494" y="9976"/>
                </a:lnTo>
                <a:lnTo>
                  <a:pt x="18132" y="8652"/>
                </a:lnTo>
                <a:lnTo>
                  <a:pt x="25504" y="7907"/>
                </a:lnTo>
                <a:lnTo>
                  <a:pt x="35042" y="7732"/>
                </a:lnTo>
                <a:lnTo>
                  <a:pt x="57816" y="7621"/>
                </a:lnTo>
                <a:lnTo>
                  <a:pt x="63097" y="6765"/>
                </a:lnTo>
                <a:lnTo>
                  <a:pt x="68311" y="5347"/>
                </a:lnTo>
                <a:lnTo>
                  <a:pt x="73481" y="3556"/>
                </a:lnTo>
                <a:lnTo>
                  <a:pt x="80314" y="2362"/>
                </a:lnTo>
                <a:lnTo>
                  <a:pt x="88256" y="1565"/>
                </a:lnTo>
                <a:lnTo>
                  <a:pt x="104418" y="681"/>
                </a:lnTo>
                <a:lnTo>
                  <a:pt x="117245" y="288"/>
                </a:lnTo>
                <a:lnTo>
                  <a:pt x="166839" y="0"/>
                </a:lnTo>
                <a:lnTo>
                  <a:pt x="174726" y="838"/>
                </a:lnTo>
                <a:lnTo>
                  <a:pt x="182524" y="2243"/>
                </a:lnTo>
                <a:lnTo>
                  <a:pt x="190262" y="4026"/>
                </a:lnTo>
                <a:lnTo>
                  <a:pt x="197961" y="5215"/>
                </a:lnTo>
                <a:lnTo>
                  <a:pt x="205634" y="6007"/>
                </a:lnTo>
                <a:lnTo>
                  <a:pt x="213289" y="6536"/>
                </a:lnTo>
                <a:lnTo>
                  <a:pt x="220932" y="7735"/>
                </a:lnTo>
                <a:lnTo>
                  <a:pt x="228568" y="9381"/>
                </a:lnTo>
                <a:lnTo>
                  <a:pt x="236199" y="11325"/>
                </a:lnTo>
                <a:lnTo>
                  <a:pt x="242132" y="12621"/>
                </a:lnTo>
                <a:lnTo>
                  <a:pt x="250983" y="14061"/>
                </a:lnTo>
                <a:lnTo>
                  <a:pt x="254529" y="16138"/>
                </a:lnTo>
                <a:lnTo>
                  <a:pt x="260726" y="22962"/>
                </a:lnTo>
                <a:lnTo>
                  <a:pt x="266302" y="29381"/>
                </a:lnTo>
                <a:lnTo>
                  <a:pt x="268975" y="32279"/>
                </a:lnTo>
                <a:lnTo>
                  <a:pt x="270757" y="35056"/>
                </a:lnTo>
                <a:lnTo>
                  <a:pt x="272736" y="40401"/>
                </a:lnTo>
                <a:lnTo>
                  <a:pt x="272417" y="43858"/>
                </a:lnTo>
                <a:lnTo>
                  <a:pt x="269805" y="52215"/>
                </a:lnTo>
                <a:lnTo>
                  <a:pt x="265822" y="59316"/>
                </a:lnTo>
                <a:lnTo>
                  <a:pt x="259536" y="66987"/>
                </a:lnTo>
                <a:lnTo>
                  <a:pt x="248275" y="78864"/>
                </a:lnTo>
                <a:lnTo>
                  <a:pt x="231702" y="95785"/>
                </a:lnTo>
                <a:lnTo>
                  <a:pt x="224741" y="101101"/>
                </a:lnTo>
                <a:lnTo>
                  <a:pt x="216714" y="106338"/>
                </a:lnTo>
                <a:lnTo>
                  <a:pt x="207976" y="111523"/>
                </a:lnTo>
                <a:lnTo>
                  <a:pt x="191494" y="121800"/>
                </a:lnTo>
                <a:lnTo>
                  <a:pt x="183542" y="126911"/>
                </a:lnTo>
                <a:lnTo>
                  <a:pt x="174854" y="132858"/>
                </a:lnTo>
                <a:lnTo>
                  <a:pt x="138836" y="158396"/>
                </a:lnTo>
                <a:lnTo>
                  <a:pt x="130657" y="164008"/>
                </a:lnTo>
                <a:lnTo>
                  <a:pt x="112538" y="177018"/>
                </a:lnTo>
                <a:lnTo>
                  <a:pt x="102965" y="184042"/>
                </a:lnTo>
                <a:lnTo>
                  <a:pt x="94890" y="190419"/>
                </a:lnTo>
                <a:lnTo>
                  <a:pt x="87813" y="196364"/>
                </a:lnTo>
                <a:lnTo>
                  <a:pt x="81402" y="202020"/>
                </a:lnTo>
                <a:lnTo>
                  <a:pt x="69763" y="212820"/>
                </a:lnTo>
                <a:lnTo>
                  <a:pt x="64288" y="218071"/>
                </a:lnTo>
                <a:lnTo>
                  <a:pt x="59792" y="223265"/>
                </a:lnTo>
                <a:lnTo>
                  <a:pt x="55948" y="228421"/>
                </a:lnTo>
                <a:lnTo>
                  <a:pt x="52538" y="233552"/>
                </a:lnTo>
                <a:lnTo>
                  <a:pt x="46492" y="241510"/>
                </a:lnTo>
                <a:lnTo>
                  <a:pt x="43694" y="244818"/>
                </a:lnTo>
                <a:lnTo>
                  <a:pt x="41829" y="248716"/>
                </a:lnTo>
                <a:lnTo>
                  <a:pt x="40587" y="253008"/>
                </a:lnTo>
                <a:lnTo>
                  <a:pt x="38591" y="263974"/>
                </a:lnTo>
                <a:lnTo>
                  <a:pt x="39273" y="265720"/>
                </a:lnTo>
                <a:lnTo>
                  <a:pt x="44280" y="272223"/>
                </a:lnTo>
                <a:lnTo>
                  <a:pt x="48749" y="277042"/>
                </a:lnTo>
                <a:lnTo>
                  <a:pt x="51972" y="278666"/>
                </a:lnTo>
                <a:lnTo>
                  <a:pt x="60070" y="280469"/>
                </a:lnTo>
                <a:lnTo>
                  <a:pt x="65446" y="280951"/>
                </a:lnTo>
                <a:lnTo>
                  <a:pt x="71571" y="281272"/>
                </a:lnTo>
                <a:lnTo>
                  <a:pt x="85149" y="281628"/>
                </a:lnTo>
                <a:lnTo>
                  <a:pt x="126140" y="281875"/>
                </a:lnTo>
                <a:lnTo>
                  <a:pt x="135740" y="281041"/>
                </a:lnTo>
                <a:lnTo>
                  <a:pt x="145527" y="279638"/>
                </a:lnTo>
                <a:lnTo>
                  <a:pt x="155438" y="277856"/>
                </a:lnTo>
                <a:lnTo>
                  <a:pt x="165432" y="276668"/>
                </a:lnTo>
                <a:lnTo>
                  <a:pt x="175481" y="275877"/>
                </a:lnTo>
                <a:lnTo>
                  <a:pt x="185567" y="275348"/>
                </a:lnTo>
                <a:lnTo>
                  <a:pt x="203547" y="274762"/>
                </a:lnTo>
                <a:lnTo>
                  <a:pt x="211898" y="274606"/>
                </a:lnTo>
                <a:lnTo>
                  <a:pt x="220851" y="273655"/>
                </a:lnTo>
                <a:lnTo>
                  <a:pt x="230208" y="272174"/>
                </a:lnTo>
                <a:lnTo>
                  <a:pt x="239832" y="270340"/>
                </a:lnTo>
                <a:lnTo>
                  <a:pt x="247941" y="269118"/>
                </a:lnTo>
                <a:lnTo>
                  <a:pt x="255041" y="268303"/>
                </a:lnTo>
                <a:lnTo>
                  <a:pt x="261467" y="267760"/>
                </a:lnTo>
                <a:lnTo>
                  <a:pt x="267445" y="266551"/>
                </a:lnTo>
                <a:lnTo>
                  <a:pt x="273123" y="264898"/>
                </a:lnTo>
                <a:lnTo>
                  <a:pt x="278601" y="262950"/>
                </a:lnTo>
                <a:lnTo>
                  <a:pt x="286947" y="258527"/>
                </a:lnTo>
                <a:lnTo>
                  <a:pt x="293478" y="254586"/>
                </a:lnTo>
                <a:lnTo>
                  <a:pt x="302312" y="252055"/>
                </a:lnTo>
                <a:lnTo>
                  <a:pt x="304799" y="25143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29"/>
          <p:cNvSpPr/>
          <p:nvPr/>
        </p:nvSpPr>
        <p:spPr>
          <a:xfrm>
            <a:off x="3276720" y="3559320"/>
            <a:ext cx="174600" cy="6120"/>
          </a:xfrm>
          <a:custGeom>
            <a:avLst/>
            <a:gdLst>
              <a:gd name="textAreaLeft" fmla="*/ 0 w 174600"/>
              <a:gd name="textAreaRight" fmla="*/ 174960 w 1746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75261" h="7621">
                <a:moveTo>
                  <a:pt x="0" y="7620"/>
                </a:moveTo>
                <a:lnTo>
                  <a:pt x="59034" y="7620"/>
                </a:lnTo>
                <a:lnTo>
                  <a:pt x="67296" y="6773"/>
                </a:lnTo>
                <a:lnTo>
                  <a:pt x="75344" y="5363"/>
                </a:lnTo>
                <a:lnTo>
                  <a:pt x="83250" y="3575"/>
                </a:lnTo>
                <a:lnTo>
                  <a:pt x="91906" y="2383"/>
                </a:lnTo>
                <a:lnTo>
                  <a:pt x="101064" y="1589"/>
                </a:lnTo>
                <a:lnTo>
                  <a:pt x="110556" y="1059"/>
                </a:lnTo>
                <a:lnTo>
                  <a:pt x="130134" y="471"/>
                </a:lnTo>
                <a:lnTo>
                  <a:pt x="175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30"/>
          <p:cNvSpPr/>
          <p:nvPr/>
        </p:nvSpPr>
        <p:spPr>
          <a:xfrm>
            <a:off x="3178080" y="3902040"/>
            <a:ext cx="381240" cy="235080"/>
          </a:xfrm>
          <a:custGeom>
            <a:avLst/>
            <a:gdLst>
              <a:gd name="textAreaLeft" fmla="*/ 0 w 381240"/>
              <a:gd name="textAreaRight" fmla="*/ 381600 w 381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81002" h="236221">
                <a:moveTo>
                  <a:pt x="381001" y="0"/>
                </a:moveTo>
                <a:lnTo>
                  <a:pt x="376956" y="0"/>
                </a:lnTo>
                <a:lnTo>
                  <a:pt x="374917" y="847"/>
                </a:lnTo>
                <a:lnTo>
                  <a:pt x="367134" y="6562"/>
                </a:lnTo>
                <a:lnTo>
                  <a:pt x="361855" y="11665"/>
                </a:lnTo>
                <a:lnTo>
                  <a:pt x="329972" y="43417"/>
                </a:lnTo>
                <a:lnTo>
                  <a:pt x="323275" y="48418"/>
                </a:lnTo>
                <a:lnTo>
                  <a:pt x="315424" y="53446"/>
                </a:lnTo>
                <a:lnTo>
                  <a:pt x="306803" y="58491"/>
                </a:lnTo>
                <a:lnTo>
                  <a:pt x="298515" y="64394"/>
                </a:lnTo>
                <a:lnTo>
                  <a:pt x="290450" y="70869"/>
                </a:lnTo>
                <a:lnTo>
                  <a:pt x="282533" y="77726"/>
                </a:lnTo>
                <a:lnTo>
                  <a:pt x="274716" y="84837"/>
                </a:lnTo>
                <a:lnTo>
                  <a:pt x="259256" y="99512"/>
                </a:lnTo>
                <a:lnTo>
                  <a:pt x="250731" y="106981"/>
                </a:lnTo>
                <a:lnTo>
                  <a:pt x="241661" y="114502"/>
                </a:lnTo>
                <a:lnTo>
                  <a:pt x="222552" y="129630"/>
                </a:lnTo>
                <a:lnTo>
                  <a:pt x="202770" y="144820"/>
                </a:lnTo>
                <a:lnTo>
                  <a:pt x="192754" y="151580"/>
                </a:lnTo>
                <a:lnTo>
                  <a:pt x="182689" y="157780"/>
                </a:lnTo>
                <a:lnTo>
                  <a:pt x="172593" y="163607"/>
                </a:lnTo>
                <a:lnTo>
                  <a:pt x="162475" y="170031"/>
                </a:lnTo>
                <a:lnTo>
                  <a:pt x="152344" y="176855"/>
                </a:lnTo>
                <a:lnTo>
                  <a:pt x="142202" y="183943"/>
                </a:lnTo>
                <a:lnTo>
                  <a:pt x="131209" y="190362"/>
                </a:lnTo>
                <a:lnTo>
                  <a:pt x="119646" y="196335"/>
                </a:lnTo>
                <a:lnTo>
                  <a:pt x="107704" y="202010"/>
                </a:lnTo>
                <a:lnTo>
                  <a:pt x="97203" y="206640"/>
                </a:lnTo>
                <a:lnTo>
                  <a:pt x="87662" y="210573"/>
                </a:lnTo>
                <a:lnTo>
                  <a:pt x="78761" y="214042"/>
                </a:lnTo>
                <a:lnTo>
                  <a:pt x="69441" y="217202"/>
                </a:lnTo>
                <a:lnTo>
                  <a:pt x="59841" y="220155"/>
                </a:lnTo>
                <a:lnTo>
                  <a:pt x="40990" y="225693"/>
                </a:lnTo>
                <a:lnTo>
                  <a:pt x="24144" y="230977"/>
                </a:lnTo>
                <a:lnTo>
                  <a:pt x="12707" y="233890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31"/>
          <p:cNvSpPr/>
          <p:nvPr/>
        </p:nvSpPr>
        <p:spPr>
          <a:xfrm>
            <a:off x="3314880" y="3902040"/>
            <a:ext cx="236520" cy="212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36221" h="213362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2"/>
                </a:lnTo>
                <a:lnTo>
                  <a:pt x="5237" y="7761"/>
                </a:lnTo>
                <a:lnTo>
                  <a:pt x="6031" y="9408"/>
                </a:lnTo>
                <a:lnTo>
                  <a:pt x="6561" y="11352"/>
                </a:lnTo>
                <a:lnTo>
                  <a:pt x="9408" y="15770"/>
                </a:lnTo>
                <a:lnTo>
                  <a:pt x="13495" y="21403"/>
                </a:lnTo>
                <a:lnTo>
                  <a:pt x="15770" y="25275"/>
                </a:lnTo>
                <a:lnTo>
                  <a:pt x="18133" y="29551"/>
                </a:lnTo>
                <a:lnTo>
                  <a:pt x="21402" y="34094"/>
                </a:lnTo>
                <a:lnTo>
                  <a:pt x="25275" y="38816"/>
                </a:lnTo>
                <a:lnTo>
                  <a:pt x="29550" y="43657"/>
                </a:lnTo>
                <a:lnTo>
                  <a:pt x="33246" y="48578"/>
                </a:lnTo>
                <a:lnTo>
                  <a:pt x="36558" y="53553"/>
                </a:lnTo>
                <a:lnTo>
                  <a:pt x="39612" y="58562"/>
                </a:lnTo>
                <a:lnTo>
                  <a:pt x="42495" y="64441"/>
                </a:lnTo>
                <a:lnTo>
                  <a:pt x="45264" y="70901"/>
                </a:lnTo>
                <a:lnTo>
                  <a:pt x="47956" y="77748"/>
                </a:lnTo>
                <a:lnTo>
                  <a:pt x="51444" y="84852"/>
                </a:lnTo>
                <a:lnTo>
                  <a:pt x="55463" y="92128"/>
                </a:lnTo>
                <a:lnTo>
                  <a:pt x="59835" y="99519"/>
                </a:lnTo>
                <a:lnTo>
                  <a:pt x="69209" y="114504"/>
                </a:lnTo>
                <a:lnTo>
                  <a:pt x="74079" y="122056"/>
                </a:lnTo>
                <a:lnTo>
                  <a:pt x="79866" y="129631"/>
                </a:lnTo>
                <a:lnTo>
                  <a:pt x="86264" y="137221"/>
                </a:lnTo>
                <a:lnTo>
                  <a:pt x="93070" y="144821"/>
                </a:lnTo>
                <a:lnTo>
                  <a:pt x="100147" y="151581"/>
                </a:lnTo>
                <a:lnTo>
                  <a:pt x="107404" y="157781"/>
                </a:lnTo>
                <a:lnTo>
                  <a:pt x="114783" y="163607"/>
                </a:lnTo>
                <a:lnTo>
                  <a:pt x="122242" y="169185"/>
                </a:lnTo>
                <a:lnTo>
                  <a:pt x="137303" y="179899"/>
                </a:lnTo>
                <a:lnTo>
                  <a:pt x="145722" y="184279"/>
                </a:lnTo>
                <a:lnTo>
                  <a:pt x="154722" y="188046"/>
                </a:lnTo>
                <a:lnTo>
                  <a:pt x="164108" y="191404"/>
                </a:lnTo>
                <a:lnTo>
                  <a:pt x="173752" y="195337"/>
                </a:lnTo>
                <a:lnTo>
                  <a:pt x="183568" y="199651"/>
                </a:lnTo>
                <a:lnTo>
                  <a:pt x="193499" y="204221"/>
                </a:lnTo>
                <a:lnTo>
                  <a:pt x="202659" y="207268"/>
                </a:lnTo>
                <a:lnTo>
                  <a:pt x="211306" y="209298"/>
                </a:lnTo>
                <a:lnTo>
                  <a:pt x="236220" y="2133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32"/>
          <p:cNvSpPr/>
          <p:nvPr/>
        </p:nvSpPr>
        <p:spPr>
          <a:xfrm>
            <a:off x="3657600" y="3992400"/>
            <a:ext cx="212760" cy="8280"/>
          </a:xfrm>
          <a:custGeom>
            <a:avLst/>
            <a:gdLst>
              <a:gd name="textAreaLeft" fmla="*/ 0 w 212760"/>
              <a:gd name="textAreaRight" fmla="*/ 213120 w 21276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213360" h="7622">
                <a:moveTo>
                  <a:pt x="0" y="0"/>
                </a:moveTo>
                <a:lnTo>
                  <a:pt x="47682" y="0"/>
                </a:lnTo>
                <a:lnTo>
                  <a:pt x="54648" y="847"/>
                </a:lnTo>
                <a:lnTo>
                  <a:pt x="61831" y="2258"/>
                </a:lnTo>
                <a:lnTo>
                  <a:pt x="69161" y="4045"/>
                </a:lnTo>
                <a:lnTo>
                  <a:pt x="77434" y="5237"/>
                </a:lnTo>
                <a:lnTo>
                  <a:pt x="86336" y="6032"/>
                </a:lnTo>
                <a:lnTo>
                  <a:pt x="95657" y="6561"/>
                </a:lnTo>
                <a:lnTo>
                  <a:pt x="115046" y="7150"/>
                </a:lnTo>
                <a:lnTo>
                  <a:pt x="174857" y="7593"/>
                </a:lnTo>
                <a:lnTo>
                  <a:pt x="213359" y="76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33"/>
          <p:cNvSpPr/>
          <p:nvPr/>
        </p:nvSpPr>
        <p:spPr>
          <a:xfrm>
            <a:off x="3673440" y="4046400"/>
            <a:ext cx="196920" cy="14400"/>
          </a:xfrm>
          <a:custGeom>
            <a:avLst/>
            <a:gdLst>
              <a:gd name="textAreaLeft" fmla="*/ 0 w 196920"/>
              <a:gd name="textAreaRight" fmla="*/ 197280 w 1969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0" h="15213">
                <a:moveTo>
                  <a:pt x="0" y="7620"/>
                </a:moveTo>
                <a:lnTo>
                  <a:pt x="4044" y="11664"/>
                </a:lnTo>
                <a:lnTo>
                  <a:pt x="6083" y="12857"/>
                </a:lnTo>
                <a:lnTo>
                  <a:pt x="8288" y="13651"/>
                </a:lnTo>
                <a:lnTo>
                  <a:pt x="10605" y="14181"/>
                </a:lnTo>
                <a:lnTo>
                  <a:pt x="14690" y="14534"/>
                </a:lnTo>
                <a:lnTo>
                  <a:pt x="19953" y="14769"/>
                </a:lnTo>
                <a:lnTo>
                  <a:pt x="37238" y="15100"/>
                </a:lnTo>
                <a:lnTo>
                  <a:pt x="66340" y="15212"/>
                </a:lnTo>
                <a:lnTo>
                  <a:pt x="75553" y="14375"/>
                </a:lnTo>
                <a:lnTo>
                  <a:pt x="85081" y="12970"/>
                </a:lnTo>
                <a:lnTo>
                  <a:pt x="94821" y="11187"/>
                </a:lnTo>
                <a:lnTo>
                  <a:pt x="104700" y="9997"/>
                </a:lnTo>
                <a:lnTo>
                  <a:pt x="114673" y="9205"/>
                </a:lnTo>
                <a:lnTo>
                  <a:pt x="124709" y="8676"/>
                </a:lnTo>
                <a:lnTo>
                  <a:pt x="133939" y="7478"/>
                </a:lnTo>
                <a:lnTo>
                  <a:pt x="142632" y="5832"/>
                </a:lnTo>
                <a:lnTo>
                  <a:pt x="150967" y="3888"/>
                </a:lnTo>
                <a:lnTo>
                  <a:pt x="158218" y="2592"/>
                </a:lnTo>
                <a:lnTo>
                  <a:pt x="164745" y="1728"/>
                </a:lnTo>
                <a:lnTo>
                  <a:pt x="170790" y="1152"/>
                </a:lnTo>
                <a:lnTo>
                  <a:pt x="176513" y="767"/>
                </a:lnTo>
                <a:lnTo>
                  <a:pt x="182021" y="512"/>
                </a:lnTo>
                <a:lnTo>
                  <a:pt x="198119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34"/>
          <p:cNvSpPr/>
          <p:nvPr/>
        </p:nvSpPr>
        <p:spPr>
          <a:xfrm>
            <a:off x="3924360" y="3940200"/>
            <a:ext cx="266760" cy="204840"/>
          </a:xfrm>
          <a:custGeom>
            <a:avLst/>
            <a:gdLst>
              <a:gd name="textAreaLeft" fmla="*/ 0 w 266760"/>
              <a:gd name="textAreaRight" fmla="*/ 267120 w 266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66701" h="205742">
                <a:moveTo>
                  <a:pt x="266700" y="0"/>
                </a:moveTo>
                <a:lnTo>
                  <a:pt x="262655" y="0"/>
                </a:lnTo>
                <a:lnTo>
                  <a:pt x="261463" y="847"/>
                </a:lnTo>
                <a:lnTo>
                  <a:pt x="260669" y="2258"/>
                </a:lnTo>
                <a:lnTo>
                  <a:pt x="259393" y="6562"/>
                </a:lnTo>
                <a:lnTo>
                  <a:pt x="255127" y="11352"/>
                </a:lnTo>
                <a:lnTo>
                  <a:pt x="244456" y="22178"/>
                </a:lnTo>
                <a:lnTo>
                  <a:pt x="240017" y="25792"/>
                </a:lnTo>
                <a:lnTo>
                  <a:pt x="235365" y="29049"/>
                </a:lnTo>
                <a:lnTo>
                  <a:pt x="224833" y="35771"/>
                </a:lnTo>
                <a:lnTo>
                  <a:pt x="211686" y="44403"/>
                </a:lnTo>
                <a:lnTo>
                  <a:pt x="205470" y="49922"/>
                </a:lnTo>
                <a:lnTo>
                  <a:pt x="199633" y="56141"/>
                </a:lnTo>
                <a:lnTo>
                  <a:pt x="194049" y="62828"/>
                </a:lnTo>
                <a:lnTo>
                  <a:pt x="186939" y="68979"/>
                </a:lnTo>
                <a:lnTo>
                  <a:pt x="178812" y="74773"/>
                </a:lnTo>
                <a:lnTo>
                  <a:pt x="153452" y="91018"/>
                </a:lnTo>
                <a:lnTo>
                  <a:pt x="145482" y="96238"/>
                </a:lnTo>
                <a:lnTo>
                  <a:pt x="136780" y="102259"/>
                </a:lnTo>
                <a:lnTo>
                  <a:pt x="118082" y="115722"/>
                </a:lnTo>
                <a:lnTo>
                  <a:pt x="109201" y="122868"/>
                </a:lnTo>
                <a:lnTo>
                  <a:pt x="100741" y="130172"/>
                </a:lnTo>
                <a:lnTo>
                  <a:pt x="92561" y="137582"/>
                </a:lnTo>
                <a:lnTo>
                  <a:pt x="84567" y="144214"/>
                </a:lnTo>
                <a:lnTo>
                  <a:pt x="76698" y="150330"/>
                </a:lnTo>
                <a:lnTo>
                  <a:pt x="68912" y="156099"/>
                </a:lnTo>
                <a:lnTo>
                  <a:pt x="61181" y="160793"/>
                </a:lnTo>
                <a:lnTo>
                  <a:pt x="53487" y="164769"/>
                </a:lnTo>
                <a:lnTo>
                  <a:pt x="45818" y="168266"/>
                </a:lnTo>
                <a:lnTo>
                  <a:pt x="39012" y="172291"/>
                </a:lnTo>
                <a:lnTo>
                  <a:pt x="32781" y="176668"/>
                </a:lnTo>
                <a:lnTo>
                  <a:pt x="26933" y="181279"/>
                </a:lnTo>
                <a:lnTo>
                  <a:pt x="22189" y="185200"/>
                </a:lnTo>
                <a:lnTo>
                  <a:pt x="18179" y="188660"/>
                </a:lnTo>
                <a:lnTo>
                  <a:pt x="11466" y="194762"/>
                </a:lnTo>
                <a:lnTo>
                  <a:pt x="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35"/>
          <p:cNvSpPr/>
          <p:nvPr/>
        </p:nvSpPr>
        <p:spPr>
          <a:xfrm>
            <a:off x="4000680" y="3940200"/>
            <a:ext cx="274320" cy="204840"/>
          </a:xfrm>
          <a:custGeom>
            <a:avLst/>
            <a:gdLst>
              <a:gd name="textAreaLeft" fmla="*/ 0 w 274320"/>
              <a:gd name="textAreaRight" fmla="*/ 274680 w 2743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74321" h="205742">
                <a:moveTo>
                  <a:pt x="0" y="0"/>
                </a:moveTo>
                <a:lnTo>
                  <a:pt x="0" y="6562"/>
                </a:lnTo>
                <a:lnTo>
                  <a:pt x="4515" y="11665"/>
                </a:lnTo>
                <a:lnTo>
                  <a:pt x="8090" y="15397"/>
                </a:lnTo>
                <a:lnTo>
                  <a:pt x="16577" y="21801"/>
                </a:lnTo>
                <a:lnTo>
                  <a:pt x="26840" y="28316"/>
                </a:lnTo>
                <a:lnTo>
                  <a:pt x="39869" y="36856"/>
                </a:lnTo>
                <a:lnTo>
                  <a:pt x="46053" y="42351"/>
                </a:lnTo>
                <a:lnTo>
                  <a:pt x="51868" y="48554"/>
                </a:lnTo>
                <a:lnTo>
                  <a:pt x="57438" y="55230"/>
                </a:lnTo>
                <a:lnTo>
                  <a:pt x="63693" y="61373"/>
                </a:lnTo>
                <a:lnTo>
                  <a:pt x="70401" y="67163"/>
                </a:lnTo>
                <a:lnTo>
                  <a:pt x="85476" y="78957"/>
                </a:lnTo>
                <a:lnTo>
                  <a:pt x="103464" y="92666"/>
                </a:lnTo>
                <a:lnTo>
                  <a:pt x="113002" y="99030"/>
                </a:lnTo>
                <a:lnTo>
                  <a:pt x="122748" y="104967"/>
                </a:lnTo>
                <a:lnTo>
                  <a:pt x="154903" y="123671"/>
                </a:lnTo>
                <a:lnTo>
                  <a:pt x="166769" y="130707"/>
                </a:lnTo>
                <a:lnTo>
                  <a:pt x="178066" y="137938"/>
                </a:lnTo>
                <a:lnTo>
                  <a:pt x="188983" y="145299"/>
                </a:lnTo>
                <a:lnTo>
                  <a:pt x="199649" y="152746"/>
                </a:lnTo>
                <a:lnTo>
                  <a:pt x="210146" y="159404"/>
                </a:lnTo>
                <a:lnTo>
                  <a:pt x="220530" y="165536"/>
                </a:lnTo>
                <a:lnTo>
                  <a:pt x="230840" y="171317"/>
                </a:lnTo>
                <a:lnTo>
                  <a:pt x="239406" y="176865"/>
                </a:lnTo>
                <a:lnTo>
                  <a:pt x="246811" y="182257"/>
                </a:lnTo>
                <a:lnTo>
                  <a:pt x="253440" y="187545"/>
                </a:lnTo>
                <a:lnTo>
                  <a:pt x="258707" y="191917"/>
                </a:lnTo>
                <a:lnTo>
                  <a:pt x="263065" y="195678"/>
                </a:lnTo>
                <a:lnTo>
                  <a:pt x="27432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36"/>
          <p:cNvSpPr/>
          <p:nvPr/>
        </p:nvSpPr>
        <p:spPr>
          <a:xfrm>
            <a:off x="4138560" y="3017880"/>
            <a:ext cx="98640" cy="210960"/>
          </a:xfrm>
          <a:custGeom>
            <a:avLst/>
            <a:gdLst>
              <a:gd name="textAreaLeft" fmla="*/ 0 w 98640"/>
              <a:gd name="textAreaRight" fmla="*/ 99000 w 98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98776" h="211488">
                <a:moveTo>
                  <a:pt x="98775" y="0"/>
                </a:moveTo>
                <a:lnTo>
                  <a:pt x="92213" y="0"/>
                </a:lnTo>
                <a:lnTo>
                  <a:pt x="91861" y="847"/>
                </a:lnTo>
                <a:lnTo>
                  <a:pt x="91469" y="4046"/>
                </a:lnTo>
                <a:lnTo>
                  <a:pt x="90517" y="6084"/>
                </a:lnTo>
                <a:lnTo>
                  <a:pt x="85133" y="13844"/>
                </a:lnTo>
                <a:lnTo>
                  <a:pt x="82907" y="17696"/>
                </a:lnTo>
                <a:lnTo>
                  <a:pt x="78176" y="26492"/>
                </a:lnTo>
                <a:lnTo>
                  <a:pt x="73251" y="36045"/>
                </a:lnTo>
                <a:lnTo>
                  <a:pt x="70752" y="41810"/>
                </a:lnTo>
                <a:lnTo>
                  <a:pt x="68240" y="48194"/>
                </a:lnTo>
                <a:lnTo>
                  <a:pt x="65718" y="54989"/>
                </a:lnTo>
                <a:lnTo>
                  <a:pt x="62344" y="61213"/>
                </a:lnTo>
                <a:lnTo>
                  <a:pt x="58400" y="67055"/>
                </a:lnTo>
                <a:lnTo>
                  <a:pt x="54078" y="72644"/>
                </a:lnTo>
                <a:lnTo>
                  <a:pt x="50351" y="78909"/>
                </a:lnTo>
                <a:lnTo>
                  <a:pt x="47018" y="85626"/>
                </a:lnTo>
                <a:lnTo>
                  <a:pt x="43951" y="92644"/>
                </a:lnTo>
                <a:lnTo>
                  <a:pt x="40212" y="99863"/>
                </a:lnTo>
                <a:lnTo>
                  <a:pt x="36026" y="107215"/>
                </a:lnTo>
                <a:lnTo>
                  <a:pt x="31542" y="114657"/>
                </a:lnTo>
                <a:lnTo>
                  <a:pt x="27707" y="122158"/>
                </a:lnTo>
                <a:lnTo>
                  <a:pt x="24303" y="129699"/>
                </a:lnTo>
                <a:lnTo>
                  <a:pt x="21187" y="137266"/>
                </a:lnTo>
                <a:lnTo>
                  <a:pt x="18263" y="144004"/>
                </a:lnTo>
                <a:lnTo>
                  <a:pt x="12756" y="156006"/>
                </a:lnTo>
                <a:lnTo>
                  <a:pt x="10102" y="162424"/>
                </a:lnTo>
                <a:lnTo>
                  <a:pt x="7486" y="169243"/>
                </a:lnTo>
                <a:lnTo>
                  <a:pt x="4896" y="176329"/>
                </a:lnTo>
                <a:lnTo>
                  <a:pt x="3169" y="182746"/>
                </a:lnTo>
                <a:lnTo>
                  <a:pt x="2017" y="188717"/>
                </a:lnTo>
                <a:lnTo>
                  <a:pt x="1250" y="194391"/>
                </a:lnTo>
                <a:lnTo>
                  <a:pt x="738" y="199021"/>
                </a:lnTo>
                <a:lnTo>
                  <a:pt x="169" y="206423"/>
                </a:lnTo>
                <a:lnTo>
                  <a:pt x="18" y="210429"/>
                </a:lnTo>
                <a:lnTo>
                  <a:pt x="0" y="21148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37"/>
          <p:cNvSpPr/>
          <p:nvPr/>
        </p:nvSpPr>
        <p:spPr>
          <a:xfrm>
            <a:off x="4352760" y="323064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6956" h="7138">
                <a:moveTo>
                  <a:pt x="0" y="7137"/>
                </a:moveTo>
                <a:lnTo>
                  <a:pt x="827" y="6990"/>
                </a:lnTo>
                <a:lnTo>
                  <a:pt x="6096" y="5507"/>
                </a:lnTo>
                <a:lnTo>
                  <a:pt x="11302" y="3671"/>
                </a:lnTo>
                <a:lnTo>
                  <a:pt x="15620" y="2447"/>
                </a:lnTo>
                <a:lnTo>
                  <a:pt x="22675" y="1088"/>
                </a:lnTo>
                <a:lnTo>
                  <a:pt x="28632" y="484"/>
                </a:lnTo>
                <a:lnTo>
                  <a:pt x="-2858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38"/>
          <p:cNvSpPr/>
          <p:nvPr/>
        </p:nvSpPr>
        <p:spPr>
          <a:xfrm>
            <a:off x="4427640" y="3124080"/>
            <a:ext cx="426960" cy="114480"/>
          </a:xfrm>
          <a:custGeom>
            <a:avLst/>
            <a:gdLst>
              <a:gd name="textAreaLeft" fmla="*/ 0 w 426960"/>
              <a:gd name="textAreaRight" fmla="*/ 427320 w 426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426559" h="114197">
                <a:moveTo>
                  <a:pt x="76037" y="0"/>
                </a:moveTo>
                <a:lnTo>
                  <a:pt x="39926" y="0"/>
                </a:lnTo>
                <a:lnTo>
                  <a:pt x="35877" y="847"/>
                </a:lnTo>
                <a:lnTo>
                  <a:pt x="29119" y="4045"/>
                </a:lnTo>
                <a:lnTo>
                  <a:pt x="21036" y="8289"/>
                </a:lnTo>
                <a:lnTo>
                  <a:pt x="16510" y="10606"/>
                </a:lnTo>
                <a:lnTo>
                  <a:pt x="9223" y="13180"/>
                </a:lnTo>
                <a:lnTo>
                  <a:pt x="6095" y="13867"/>
                </a:lnTo>
                <a:lnTo>
                  <a:pt x="4009" y="15171"/>
                </a:lnTo>
                <a:lnTo>
                  <a:pt x="2619" y="16888"/>
                </a:lnTo>
                <a:lnTo>
                  <a:pt x="1691" y="18878"/>
                </a:lnTo>
                <a:lnTo>
                  <a:pt x="1074" y="21052"/>
                </a:lnTo>
                <a:lnTo>
                  <a:pt x="661" y="23348"/>
                </a:lnTo>
                <a:lnTo>
                  <a:pt x="387" y="25725"/>
                </a:lnTo>
                <a:lnTo>
                  <a:pt x="203" y="28157"/>
                </a:lnTo>
                <a:lnTo>
                  <a:pt x="82" y="30625"/>
                </a:lnTo>
                <a:lnTo>
                  <a:pt x="0" y="33116"/>
                </a:lnTo>
                <a:lnTo>
                  <a:pt x="793" y="35625"/>
                </a:lnTo>
                <a:lnTo>
                  <a:pt x="2168" y="38143"/>
                </a:lnTo>
                <a:lnTo>
                  <a:pt x="3931" y="40669"/>
                </a:lnTo>
                <a:lnTo>
                  <a:pt x="6800" y="42352"/>
                </a:lnTo>
                <a:lnTo>
                  <a:pt x="18928" y="45569"/>
                </a:lnTo>
                <a:lnTo>
                  <a:pt x="23571" y="47313"/>
                </a:lnTo>
                <a:lnTo>
                  <a:pt x="32399" y="50661"/>
                </a:lnTo>
                <a:lnTo>
                  <a:pt x="42129" y="52546"/>
                </a:lnTo>
                <a:lnTo>
                  <a:pt x="47702" y="52987"/>
                </a:lnTo>
                <a:lnTo>
                  <a:pt x="50374" y="53952"/>
                </a:lnTo>
                <a:lnTo>
                  <a:pt x="55600" y="57281"/>
                </a:lnTo>
                <a:lnTo>
                  <a:pt x="60745" y="59325"/>
                </a:lnTo>
                <a:lnTo>
                  <a:pt x="66902" y="60637"/>
                </a:lnTo>
                <a:lnTo>
                  <a:pt x="66560" y="60745"/>
                </a:lnTo>
                <a:lnTo>
                  <a:pt x="63923" y="60864"/>
                </a:lnTo>
                <a:lnTo>
                  <a:pt x="62034" y="61743"/>
                </a:lnTo>
                <a:lnTo>
                  <a:pt x="57678" y="64977"/>
                </a:lnTo>
                <a:lnTo>
                  <a:pt x="55331" y="67025"/>
                </a:lnTo>
                <a:lnTo>
                  <a:pt x="52920" y="69236"/>
                </a:lnTo>
                <a:lnTo>
                  <a:pt x="50465" y="71557"/>
                </a:lnTo>
                <a:lnTo>
                  <a:pt x="47983" y="73105"/>
                </a:lnTo>
                <a:lnTo>
                  <a:pt x="40444" y="76130"/>
                </a:lnTo>
                <a:lnTo>
                  <a:pt x="37915" y="77847"/>
                </a:lnTo>
                <a:lnTo>
                  <a:pt x="35382" y="79838"/>
                </a:lnTo>
                <a:lnTo>
                  <a:pt x="32847" y="82012"/>
                </a:lnTo>
                <a:lnTo>
                  <a:pt x="30310" y="84308"/>
                </a:lnTo>
                <a:lnTo>
                  <a:pt x="27773" y="86685"/>
                </a:lnTo>
                <a:lnTo>
                  <a:pt x="26081" y="89117"/>
                </a:lnTo>
                <a:lnTo>
                  <a:pt x="24953" y="91585"/>
                </a:lnTo>
                <a:lnTo>
                  <a:pt x="24201" y="94076"/>
                </a:lnTo>
                <a:lnTo>
                  <a:pt x="23700" y="96584"/>
                </a:lnTo>
                <a:lnTo>
                  <a:pt x="23365" y="99103"/>
                </a:lnTo>
                <a:lnTo>
                  <a:pt x="23143" y="101628"/>
                </a:lnTo>
                <a:lnTo>
                  <a:pt x="23841" y="103312"/>
                </a:lnTo>
                <a:lnTo>
                  <a:pt x="25153" y="104435"/>
                </a:lnTo>
                <a:lnTo>
                  <a:pt x="26874" y="105183"/>
                </a:lnTo>
                <a:lnTo>
                  <a:pt x="28022" y="106529"/>
                </a:lnTo>
                <a:lnTo>
                  <a:pt x="28787" y="108273"/>
                </a:lnTo>
                <a:lnTo>
                  <a:pt x="29297" y="110282"/>
                </a:lnTo>
                <a:lnTo>
                  <a:pt x="32177" y="111621"/>
                </a:lnTo>
                <a:lnTo>
                  <a:pt x="42150" y="113110"/>
                </a:lnTo>
                <a:lnTo>
                  <a:pt x="52792" y="113771"/>
                </a:lnTo>
                <a:lnTo>
                  <a:pt x="63166" y="114065"/>
                </a:lnTo>
                <a:lnTo>
                  <a:pt x="73421" y="114196"/>
                </a:lnTo>
                <a:lnTo>
                  <a:pt x="85881" y="111996"/>
                </a:lnTo>
                <a:lnTo>
                  <a:pt x="92760" y="110224"/>
                </a:lnTo>
                <a:lnTo>
                  <a:pt x="99039" y="108196"/>
                </a:lnTo>
                <a:lnTo>
                  <a:pt x="104919" y="105997"/>
                </a:lnTo>
                <a:lnTo>
                  <a:pt x="110531" y="103685"/>
                </a:lnTo>
                <a:lnTo>
                  <a:pt x="115120" y="101297"/>
                </a:lnTo>
                <a:lnTo>
                  <a:pt x="119026" y="98858"/>
                </a:lnTo>
                <a:lnTo>
                  <a:pt x="122476" y="96385"/>
                </a:lnTo>
                <a:lnTo>
                  <a:pt x="126470" y="93890"/>
                </a:lnTo>
                <a:lnTo>
                  <a:pt x="130826" y="91380"/>
                </a:lnTo>
                <a:lnTo>
                  <a:pt x="135423" y="88860"/>
                </a:lnTo>
                <a:lnTo>
                  <a:pt x="140182" y="85487"/>
                </a:lnTo>
                <a:lnTo>
                  <a:pt x="145046" y="81544"/>
                </a:lnTo>
                <a:lnTo>
                  <a:pt x="149984" y="77223"/>
                </a:lnTo>
                <a:lnTo>
                  <a:pt x="154121" y="72649"/>
                </a:lnTo>
                <a:lnTo>
                  <a:pt x="157727" y="67906"/>
                </a:lnTo>
                <a:lnTo>
                  <a:pt x="160977" y="63051"/>
                </a:lnTo>
                <a:lnTo>
                  <a:pt x="163991" y="58967"/>
                </a:lnTo>
                <a:lnTo>
                  <a:pt x="166846" y="55398"/>
                </a:lnTo>
                <a:lnTo>
                  <a:pt x="169596" y="52172"/>
                </a:lnTo>
                <a:lnTo>
                  <a:pt x="172277" y="48328"/>
                </a:lnTo>
                <a:lnTo>
                  <a:pt x="174910" y="44072"/>
                </a:lnTo>
                <a:lnTo>
                  <a:pt x="177513" y="39542"/>
                </a:lnTo>
                <a:lnTo>
                  <a:pt x="180094" y="35674"/>
                </a:lnTo>
                <a:lnTo>
                  <a:pt x="182662" y="32250"/>
                </a:lnTo>
                <a:lnTo>
                  <a:pt x="185221" y="29120"/>
                </a:lnTo>
                <a:lnTo>
                  <a:pt x="187773" y="25340"/>
                </a:lnTo>
                <a:lnTo>
                  <a:pt x="190321" y="21127"/>
                </a:lnTo>
                <a:lnTo>
                  <a:pt x="192867" y="16624"/>
                </a:lnTo>
                <a:lnTo>
                  <a:pt x="195410" y="13623"/>
                </a:lnTo>
                <a:lnTo>
                  <a:pt x="197952" y="11622"/>
                </a:lnTo>
                <a:lnTo>
                  <a:pt x="200494" y="10288"/>
                </a:lnTo>
                <a:lnTo>
                  <a:pt x="202188" y="8552"/>
                </a:lnTo>
                <a:lnTo>
                  <a:pt x="203318" y="6548"/>
                </a:lnTo>
                <a:lnTo>
                  <a:pt x="204071" y="4365"/>
                </a:lnTo>
                <a:lnTo>
                  <a:pt x="205419" y="2910"/>
                </a:lnTo>
                <a:lnTo>
                  <a:pt x="207166" y="1940"/>
                </a:lnTo>
                <a:lnTo>
                  <a:pt x="212006" y="384"/>
                </a:lnTo>
                <a:lnTo>
                  <a:pt x="216889" y="114"/>
                </a:lnTo>
                <a:lnTo>
                  <a:pt x="219045" y="922"/>
                </a:lnTo>
                <a:lnTo>
                  <a:pt x="223699" y="4079"/>
                </a:lnTo>
                <a:lnTo>
                  <a:pt x="225279" y="6106"/>
                </a:lnTo>
                <a:lnTo>
                  <a:pt x="226332" y="8304"/>
                </a:lnTo>
                <a:lnTo>
                  <a:pt x="227033" y="10616"/>
                </a:lnTo>
                <a:lnTo>
                  <a:pt x="227502" y="13851"/>
                </a:lnTo>
                <a:lnTo>
                  <a:pt x="227813" y="17700"/>
                </a:lnTo>
                <a:lnTo>
                  <a:pt x="228021" y="21960"/>
                </a:lnTo>
                <a:lnTo>
                  <a:pt x="229007" y="25647"/>
                </a:lnTo>
                <a:lnTo>
                  <a:pt x="230510" y="28952"/>
                </a:lnTo>
                <a:lnTo>
                  <a:pt x="232359" y="32001"/>
                </a:lnTo>
                <a:lnTo>
                  <a:pt x="233592" y="35727"/>
                </a:lnTo>
                <a:lnTo>
                  <a:pt x="234414" y="39905"/>
                </a:lnTo>
                <a:lnTo>
                  <a:pt x="234962" y="44383"/>
                </a:lnTo>
                <a:lnTo>
                  <a:pt x="236174" y="49062"/>
                </a:lnTo>
                <a:lnTo>
                  <a:pt x="237828" y="53875"/>
                </a:lnTo>
                <a:lnTo>
                  <a:pt x="239777" y="58777"/>
                </a:lnTo>
                <a:lnTo>
                  <a:pt x="241078" y="62891"/>
                </a:lnTo>
                <a:lnTo>
                  <a:pt x="241944" y="66481"/>
                </a:lnTo>
                <a:lnTo>
                  <a:pt x="242522" y="69720"/>
                </a:lnTo>
                <a:lnTo>
                  <a:pt x="243754" y="72727"/>
                </a:lnTo>
                <a:lnTo>
                  <a:pt x="245422" y="75578"/>
                </a:lnTo>
                <a:lnTo>
                  <a:pt x="247380" y="78326"/>
                </a:lnTo>
                <a:lnTo>
                  <a:pt x="248686" y="81004"/>
                </a:lnTo>
                <a:lnTo>
                  <a:pt x="249556" y="83636"/>
                </a:lnTo>
                <a:lnTo>
                  <a:pt x="250954" y="89899"/>
                </a:lnTo>
                <a:lnTo>
                  <a:pt x="251914" y="90412"/>
                </a:lnTo>
                <a:lnTo>
                  <a:pt x="257828" y="91305"/>
                </a:lnTo>
                <a:lnTo>
                  <a:pt x="260691" y="89122"/>
                </a:lnTo>
                <a:lnTo>
                  <a:pt x="262640" y="87355"/>
                </a:lnTo>
                <a:lnTo>
                  <a:pt x="267063" y="83133"/>
                </a:lnTo>
                <a:lnTo>
                  <a:pt x="269428" y="80822"/>
                </a:lnTo>
                <a:lnTo>
                  <a:pt x="271004" y="78435"/>
                </a:lnTo>
                <a:lnTo>
                  <a:pt x="272055" y="75997"/>
                </a:lnTo>
                <a:lnTo>
                  <a:pt x="272756" y="73525"/>
                </a:lnTo>
                <a:lnTo>
                  <a:pt x="274916" y="70183"/>
                </a:lnTo>
                <a:lnTo>
                  <a:pt x="278050" y="66262"/>
                </a:lnTo>
                <a:lnTo>
                  <a:pt x="281833" y="61955"/>
                </a:lnTo>
                <a:lnTo>
                  <a:pt x="288294" y="54911"/>
                </a:lnTo>
                <a:lnTo>
                  <a:pt x="296690" y="46186"/>
                </a:lnTo>
                <a:lnTo>
                  <a:pt x="307113" y="35652"/>
                </a:lnTo>
                <a:lnTo>
                  <a:pt x="309674" y="33928"/>
                </a:lnTo>
                <a:lnTo>
                  <a:pt x="314778" y="32012"/>
                </a:lnTo>
                <a:lnTo>
                  <a:pt x="324954" y="30783"/>
                </a:lnTo>
                <a:lnTo>
                  <a:pt x="330036" y="30615"/>
                </a:lnTo>
                <a:lnTo>
                  <a:pt x="332576" y="31416"/>
                </a:lnTo>
                <a:lnTo>
                  <a:pt x="337656" y="34565"/>
                </a:lnTo>
                <a:lnTo>
                  <a:pt x="340197" y="36590"/>
                </a:lnTo>
                <a:lnTo>
                  <a:pt x="342737" y="38787"/>
                </a:lnTo>
                <a:lnTo>
                  <a:pt x="345277" y="41098"/>
                </a:lnTo>
                <a:lnTo>
                  <a:pt x="346971" y="43486"/>
                </a:lnTo>
                <a:lnTo>
                  <a:pt x="348099" y="45924"/>
                </a:lnTo>
                <a:lnTo>
                  <a:pt x="348852" y="48396"/>
                </a:lnTo>
                <a:lnTo>
                  <a:pt x="350201" y="50890"/>
                </a:lnTo>
                <a:lnTo>
                  <a:pt x="351946" y="53400"/>
                </a:lnTo>
                <a:lnTo>
                  <a:pt x="353957" y="55920"/>
                </a:lnTo>
                <a:lnTo>
                  <a:pt x="356144" y="59294"/>
                </a:lnTo>
                <a:lnTo>
                  <a:pt x="358448" y="63236"/>
                </a:lnTo>
                <a:lnTo>
                  <a:pt x="360831" y="67557"/>
                </a:lnTo>
                <a:lnTo>
                  <a:pt x="363267" y="71285"/>
                </a:lnTo>
                <a:lnTo>
                  <a:pt x="365737" y="74617"/>
                </a:lnTo>
                <a:lnTo>
                  <a:pt x="368230" y="77684"/>
                </a:lnTo>
                <a:lnTo>
                  <a:pt x="371586" y="80576"/>
                </a:lnTo>
                <a:lnTo>
                  <a:pt x="375516" y="83351"/>
                </a:lnTo>
                <a:lnTo>
                  <a:pt x="379830" y="86047"/>
                </a:lnTo>
                <a:lnTo>
                  <a:pt x="384399" y="88692"/>
                </a:lnTo>
                <a:lnTo>
                  <a:pt x="393991" y="93887"/>
                </a:lnTo>
                <a:lnTo>
                  <a:pt x="408912" y="101573"/>
                </a:lnTo>
                <a:lnTo>
                  <a:pt x="416740" y="104410"/>
                </a:lnTo>
                <a:lnTo>
                  <a:pt x="426558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39"/>
          <p:cNvSpPr/>
          <p:nvPr/>
        </p:nvSpPr>
        <p:spPr>
          <a:xfrm>
            <a:off x="4857840" y="3124080"/>
            <a:ext cx="180720" cy="160560"/>
          </a:xfrm>
          <a:custGeom>
            <a:avLst/>
            <a:gdLst>
              <a:gd name="textAreaLeft" fmla="*/ 0 w 180720"/>
              <a:gd name="textAreaRight" fmla="*/ 181080 w 180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79619" h="159837">
                <a:moveTo>
                  <a:pt x="109753" y="22823"/>
                </a:moveTo>
                <a:lnTo>
                  <a:pt x="109753" y="4690"/>
                </a:lnTo>
                <a:lnTo>
                  <a:pt x="108906" y="3115"/>
                </a:lnTo>
                <a:lnTo>
                  <a:pt x="107495" y="2064"/>
                </a:lnTo>
                <a:lnTo>
                  <a:pt x="105707" y="1364"/>
                </a:lnTo>
                <a:lnTo>
                  <a:pt x="99206" y="586"/>
                </a:lnTo>
                <a:lnTo>
                  <a:pt x="91518" y="240"/>
                </a:lnTo>
                <a:lnTo>
                  <a:pt x="85280" y="86"/>
                </a:lnTo>
                <a:lnTo>
                  <a:pt x="72962" y="0"/>
                </a:lnTo>
                <a:lnTo>
                  <a:pt x="67445" y="834"/>
                </a:lnTo>
                <a:lnTo>
                  <a:pt x="61228" y="2237"/>
                </a:lnTo>
                <a:lnTo>
                  <a:pt x="54542" y="4019"/>
                </a:lnTo>
                <a:lnTo>
                  <a:pt x="48393" y="6054"/>
                </a:lnTo>
                <a:lnTo>
                  <a:pt x="42599" y="8257"/>
                </a:lnTo>
                <a:lnTo>
                  <a:pt x="37043" y="10573"/>
                </a:lnTo>
                <a:lnTo>
                  <a:pt x="31646" y="12963"/>
                </a:lnTo>
                <a:lnTo>
                  <a:pt x="21135" y="17877"/>
                </a:lnTo>
                <a:lnTo>
                  <a:pt x="16807" y="21219"/>
                </a:lnTo>
                <a:lnTo>
                  <a:pt x="13075" y="25140"/>
                </a:lnTo>
                <a:lnTo>
                  <a:pt x="6671" y="33166"/>
                </a:lnTo>
                <a:lnTo>
                  <a:pt x="1004" y="39556"/>
                </a:lnTo>
                <a:lnTo>
                  <a:pt x="0" y="43292"/>
                </a:lnTo>
                <a:lnTo>
                  <a:pt x="177" y="47476"/>
                </a:lnTo>
                <a:lnTo>
                  <a:pt x="1143" y="51958"/>
                </a:lnTo>
                <a:lnTo>
                  <a:pt x="3479" y="55793"/>
                </a:lnTo>
                <a:lnTo>
                  <a:pt x="6730" y="59197"/>
                </a:lnTo>
                <a:lnTo>
                  <a:pt x="10591" y="62313"/>
                </a:lnTo>
                <a:lnTo>
                  <a:pt x="14859" y="65236"/>
                </a:lnTo>
                <a:lnTo>
                  <a:pt x="19396" y="68032"/>
                </a:lnTo>
                <a:lnTo>
                  <a:pt x="24115" y="70742"/>
                </a:lnTo>
                <a:lnTo>
                  <a:pt x="29801" y="73396"/>
                </a:lnTo>
                <a:lnTo>
                  <a:pt x="36132" y="76012"/>
                </a:lnTo>
                <a:lnTo>
                  <a:pt x="42892" y="78602"/>
                </a:lnTo>
                <a:lnTo>
                  <a:pt x="49092" y="81176"/>
                </a:lnTo>
                <a:lnTo>
                  <a:pt x="54919" y="83738"/>
                </a:lnTo>
                <a:lnTo>
                  <a:pt x="60497" y="86293"/>
                </a:lnTo>
                <a:lnTo>
                  <a:pt x="66755" y="87997"/>
                </a:lnTo>
                <a:lnTo>
                  <a:pt x="73468" y="89132"/>
                </a:lnTo>
                <a:lnTo>
                  <a:pt x="80483" y="89889"/>
                </a:lnTo>
                <a:lnTo>
                  <a:pt x="87699" y="90394"/>
                </a:lnTo>
                <a:lnTo>
                  <a:pt x="95050" y="90731"/>
                </a:lnTo>
                <a:lnTo>
                  <a:pt x="102491" y="90955"/>
                </a:lnTo>
                <a:lnTo>
                  <a:pt x="109145" y="90258"/>
                </a:lnTo>
                <a:lnTo>
                  <a:pt x="115274" y="88946"/>
                </a:lnTo>
                <a:lnTo>
                  <a:pt x="121053" y="87225"/>
                </a:lnTo>
                <a:lnTo>
                  <a:pt x="125754" y="85231"/>
                </a:lnTo>
                <a:lnTo>
                  <a:pt x="129733" y="83055"/>
                </a:lnTo>
                <a:lnTo>
                  <a:pt x="138159" y="77525"/>
                </a:lnTo>
                <a:lnTo>
                  <a:pt x="143663" y="68476"/>
                </a:lnTo>
                <a:lnTo>
                  <a:pt x="144213" y="65112"/>
                </a:lnTo>
                <a:lnTo>
                  <a:pt x="143732" y="62022"/>
                </a:lnTo>
                <a:lnTo>
                  <a:pt x="141788" y="56332"/>
                </a:lnTo>
                <a:lnTo>
                  <a:pt x="140693" y="48368"/>
                </a:lnTo>
                <a:lnTo>
                  <a:pt x="140437" y="43208"/>
                </a:lnTo>
                <a:lnTo>
                  <a:pt x="139522" y="41493"/>
                </a:lnTo>
                <a:lnTo>
                  <a:pt x="138066" y="40350"/>
                </a:lnTo>
                <a:lnTo>
                  <a:pt x="133690" y="38515"/>
                </a:lnTo>
                <a:lnTo>
                  <a:pt x="127589" y="38153"/>
                </a:lnTo>
                <a:lnTo>
                  <a:pt x="126146" y="38103"/>
                </a:lnTo>
                <a:lnTo>
                  <a:pt x="125761" y="38936"/>
                </a:lnTo>
                <a:lnTo>
                  <a:pt x="125144" y="46358"/>
                </a:lnTo>
                <a:lnTo>
                  <a:pt x="125093" y="48673"/>
                </a:lnTo>
                <a:lnTo>
                  <a:pt x="127295" y="55761"/>
                </a:lnTo>
                <a:lnTo>
                  <a:pt x="131096" y="65402"/>
                </a:lnTo>
                <a:lnTo>
                  <a:pt x="135607" y="78154"/>
                </a:lnTo>
                <a:lnTo>
                  <a:pt x="138842" y="84264"/>
                </a:lnTo>
                <a:lnTo>
                  <a:pt x="142692" y="90030"/>
                </a:lnTo>
                <a:lnTo>
                  <a:pt x="146952" y="95568"/>
                </a:lnTo>
                <a:lnTo>
                  <a:pt x="150639" y="101800"/>
                </a:lnTo>
                <a:lnTo>
                  <a:pt x="153944" y="108494"/>
                </a:lnTo>
                <a:lnTo>
                  <a:pt x="156993" y="115497"/>
                </a:lnTo>
                <a:lnTo>
                  <a:pt x="160720" y="122706"/>
                </a:lnTo>
                <a:lnTo>
                  <a:pt x="164897" y="130052"/>
                </a:lnTo>
                <a:lnTo>
                  <a:pt x="169376" y="137489"/>
                </a:lnTo>
                <a:lnTo>
                  <a:pt x="173208" y="144987"/>
                </a:lnTo>
                <a:lnTo>
                  <a:pt x="176609" y="152526"/>
                </a:lnTo>
                <a:lnTo>
                  <a:pt x="179618" y="15983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40"/>
          <p:cNvSpPr/>
          <p:nvPr/>
        </p:nvSpPr>
        <p:spPr>
          <a:xfrm>
            <a:off x="4191120" y="3467160"/>
            <a:ext cx="230040" cy="236520"/>
          </a:xfrm>
          <a:custGeom>
            <a:avLst/>
            <a:gdLst>
              <a:gd name="textAreaLeft" fmla="*/ 0 w 230040"/>
              <a:gd name="textAreaRight" fmla="*/ 230400 w 2300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0782" h="236143">
                <a:moveTo>
                  <a:pt x="0" y="53301"/>
                </a:moveTo>
                <a:lnTo>
                  <a:pt x="0" y="41950"/>
                </a:lnTo>
                <a:lnTo>
                  <a:pt x="846" y="40653"/>
                </a:lnTo>
                <a:lnTo>
                  <a:pt x="2258" y="39789"/>
                </a:lnTo>
                <a:lnTo>
                  <a:pt x="6931" y="37983"/>
                </a:lnTo>
                <a:lnTo>
                  <a:pt x="14651" y="34357"/>
                </a:lnTo>
                <a:lnTo>
                  <a:pt x="28518" y="27557"/>
                </a:lnTo>
                <a:lnTo>
                  <a:pt x="34252" y="25131"/>
                </a:lnTo>
                <a:lnTo>
                  <a:pt x="40615" y="22668"/>
                </a:lnTo>
                <a:lnTo>
                  <a:pt x="54458" y="17673"/>
                </a:lnTo>
                <a:lnTo>
                  <a:pt x="91587" y="5032"/>
                </a:lnTo>
                <a:lnTo>
                  <a:pt x="100005" y="3342"/>
                </a:lnTo>
                <a:lnTo>
                  <a:pt x="109003" y="2215"/>
                </a:lnTo>
                <a:lnTo>
                  <a:pt x="118389" y="1464"/>
                </a:lnTo>
                <a:lnTo>
                  <a:pt x="126339" y="963"/>
                </a:lnTo>
                <a:lnTo>
                  <a:pt x="139689" y="407"/>
                </a:lnTo>
                <a:lnTo>
                  <a:pt x="156724" y="93"/>
                </a:lnTo>
                <a:lnTo>
                  <a:pt x="176542" y="0"/>
                </a:lnTo>
                <a:lnTo>
                  <a:pt x="181194" y="834"/>
                </a:lnTo>
                <a:lnTo>
                  <a:pt x="184296" y="2236"/>
                </a:lnTo>
                <a:lnTo>
                  <a:pt x="186364" y="4018"/>
                </a:lnTo>
                <a:lnTo>
                  <a:pt x="187742" y="6052"/>
                </a:lnTo>
                <a:lnTo>
                  <a:pt x="189274" y="10571"/>
                </a:lnTo>
                <a:lnTo>
                  <a:pt x="187143" y="12961"/>
                </a:lnTo>
                <a:lnTo>
                  <a:pt x="183182" y="15401"/>
                </a:lnTo>
                <a:lnTo>
                  <a:pt x="162620" y="25401"/>
                </a:lnTo>
                <a:lnTo>
                  <a:pt x="156673" y="27928"/>
                </a:lnTo>
                <a:lnTo>
                  <a:pt x="150169" y="30459"/>
                </a:lnTo>
                <a:lnTo>
                  <a:pt x="143292" y="32993"/>
                </a:lnTo>
                <a:lnTo>
                  <a:pt x="136168" y="36375"/>
                </a:lnTo>
                <a:lnTo>
                  <a:pt x="128879" y="40324"/>
                </a:lnTo>
                <a:lnTo>
                  <a:pt x="121479" y="44650"/>
                </a:lnTo>
                <a:lnTo>
                  <a:pt x="113159" y="48381"/>
                </a:lnTo>
                <a:lnTo>
                  <a:pt x="104226" y="51714"/>
                </a:lnTo>
                <a:lnTo>
                  <a:pt x="94885" y="54783"/>
                </a:lnTo>
                <a:lnTo>
                  <a:pt x="86963" y="57676"/>
                </a:lnTo>
                <a:lnTo>
                  <a:pt x="79989" y="60451"/>
                </a:lnTo>
                <a:lnTo>
                  <a:pt x="73646" y="63148"/>
                </a:lnTo>
                <a:lnTo>
                  <a:pt x="68570" y="65792"/>
                </a:lnTo>
                <a:lnTo>
                  <a:pt x="64340" y="68402"/>
                </a:lnTo>
                <a:lnTo>
                  <a:pt x="60673" y="70988"/>
                </a:lnTo>
                <a:lnTo>
                  <a:pt x="58229" y="73559"/>
                </a:lnTo>
                <a:lnTo>
                  <a:pt x="56599" y="76120"/>
                </a:lnTo>
                <a:lnTo>
                  <a:pt x="55513" y="78674"/>
                </a:lnTo>
                <a:lnTo>
                  <a:pt x="55635" y="81223"/>
                </a:lnTo>
                <a:lnTo>
                  <a:pt x="56564" y="83769"/>
                </a:lnTo>
                <a:lnTo>
                  <a:pt x="58029" y="86313"/>
                </a:lnTo>
                <a:lnTo>
                  <a:pt x="64173" y="91397"/>
                </a:lnTo>
                <a:lnTo>
                  <a:pt x="68182" y="93939"/>
                </a:lnTo>
                <a:lnTo>
                  <a:pt x="73395" y="96480"/>
                </a:lnTo>
                <a:lnTo>
                  <a:pt x="79410" y="99020"/>
                </a:lnTo>
                <a:lnTo>
                  <a:pt x="85960" y="101560"/>
                </a:lnTo>
                <a:lnTo>
                  <a:pt x="93713" y="104101"/>
                </a:lnTo>
                <a:lnTo>
                  <a:pt x="102269" y="106641"/>
                </a:lnTo>
                <a:lnTo>
                  <a:pt x="120806" y="111721"/>
                </a:lnTo>
                <a:lnTo>
                  <a:pt x="140334" y="116801"/>
                </a:lnTo>
                <a:lnTo>
                  <a:pt x="150283" y="120188"/>
                </a:lnTo>
                <a:lnTo>
                  <a:pt x="160301" y="124139"/>
                </a:lnTo>
                <a:lnTo>
                  <a:pt x="170368" y="128466"/>
                </a:lnTo>
                <a:lnTo>
                  <a:pt x="179618" y="132198"/>
                </a:lnTo>
                <a:lnTo>
                  <a:pt x="196671" y="138602"/>
                </a:lnTo>
                <a:lnTo>
                  <a:pt x="203927" y="142342"/>
                </a:lnTo>
                <a:lnTo>
                  <a:pt x="210458" y="146528"/>
                </a:lnTo>
                <a:lnTo>
                  <a:pt x="216505" y="151013"/>
                </a:lnTo>
                <a:lnTo>
                  <a:pt x="221383" y="154849"/>
                </a:lnTo>
                <a:lnTo>
                  <a:pt x="225483" y="158253"/>
                </a:lnTo>
                <a:lnTo>
                  <a:pt x="229062" y="161369"/>
                </a:lnTo>
                <a:lnTo>
                  <a:pt x="230601" y="165140"/>
                </a:lnTo>
                <a:lnTo>
                  <a:pt x="230781" y="169347"/>
                </a:lnTo>
                <a:lnTo>
                  <a:pt x="230054" y="173845"/>
                </a:lnTo>
                <a:lnTo>
                  <a:pt x="227876" y="177690"/>
                </a:lnTo>
                <a:lnTo>
                  <a:pt x="220940" y="184221"/>
                </a:lnTo>
                <a:lnTo>
                  <a:pt x="216720" y="187994"/>
                </a:lnTo>
                <a:lnTo>
                  <a:pt x="207516" y="196702"/>
                </a:lnTo>
                <a:lnTo>
                  <a:pt x="201843" y="200548"/>
                </a:lnTo>
                <a:lnTo>
                  <a:pt x="195523" y="203959"/>
                </a:lnTo>
                <a:lnTo>
                  <a:pt x="188769" y="207080"/>
                </a:lnTo>
                <a:lnTo>
                  <a:pt x="181726" y="210007"/>
                </a:lnTo>
                <a:lnTo>
                  <a:pt x="174491" y="212805"/>
                </a:lnTo>
                <a:lnTo>
                  <a:pt x="167127" y="215517"/>
                </a:lnTo>
                <a:lnTo>
                  <a:pt x="158831" y="218172"/>
                </a:lnTo>
                <a:lnTo>
                  <a:pt x="149914" y="220788"/>
                </a:lnTo>
                <a:lnTo>
                  <a:pt x="140583" y="223379"/>
                </a:lnTo>
                <a:lnTo>
                  <a:pt x="123441" y="228515"/>
                </a:lnTo>
                <a:lnTo>
                  <a:pt x="115315" y="231071"/>
                </a:lnTo>
                <a:lnTo>
                  <a:pt x="106509" y="232774"/>
                </a:lnTo>
                <a:lnTo>
                  <a:pt x="97253" y="233910"/>
                </a:lnTo>
                <a:lnTo>
                  <a:pt x="87695" y="234667"/>
                </a:lnTo>
                <a:lnTo>
                  <a:pt x="79630" y="235172"/>
                </a:lnTo>
                <a:lnTo>
                  <a:pt x="66154" y="235732"/>
                </a:lnTo>
                <a:lnTo>
                  <a:pt x="45002" y="236049"/>
                </a:lnTo>
                <a:lnTo>
                  <a:pt x="26692" y="236142"/>
                </a:lnTo>
                <a:lnTo>
                  <a:pt x="21182" y="235308"/>
                </a:lnTo>
                <a:lnTo>
                  <a:pt x="15815" y="233906"/>
                </a:lnTo>
                <a:lnTo>
                  <a:pt x="0" y="2285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41"/>
          <p:cNvSpPr/>
          <p:nvPr/>
        </p:nvSpPr>
        <p:spPr>
          <a:xfrm>
            <a:off x="4449600" y="3551400"/>
            <a:ext cx="190800" cy="144360"/>
          </a:xfrm>
          <a:custGeom>
            <a:avLst/>
            <a:gdLst>
              <a:gd name="textAreaLeft" fmla="*/ 0 w 190800"/>
              <a:gd name="textAreaRight" fmla="*/ 191160 w 1908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90501" h="144781">
                <a:moveTo>
                  <a:pt x="190500" y="0"/>
                </a:moveTo>
                <a:lnTo>
                  <a:pt x="186455" y="0"/>
                </a:lnTo>
                <a:lnTo>
                  <a:pt x="185263" y="847"/>
                </a:lnTo>
                <a:lnTo>
                  <a:pt x="184469" y="2258"/>
                </a:lnTo>
                <a:lnTo>
                  <a:pt x="183939" y="4045"/>
                </a:lnTo>
                <a:lnTo>
                  <a:pt x="182740" y="6930"/>
                </a:lnTo>
                <a:lnTo>
                  <a:pt x="181093" y="10547"/>
                </a:lnTo>
                <a:lnTo>
                  <a:pt x="179149" y="14651"/>
                </a:lnTo>
                <a:lnTo>
                  <a:pt x="176159" y="18234"/>
                </a:lnTo>
                <a:lnTo>
                  <a:pt x="172473" y="21470"/>
                </a:lnTo>
                <a:lnTo>
                  <a:pt x="168322" y="24473"/>
                </a:lnTo>
                <a:lnTo>
                  <a:pt x="163015" y="29015"/>
                </a:lnTo>
                <a:lnTo>
                  <a:pt x="156936" y="34584"/>
                </a:lnTo>
                <a:lnTo>
                  <a:pt x="150344" y="40836"/>
                </a:lnTo>
                <a:lnTo>
                  <a:pt x="143409" y="46697"/>
                </a:lnTo>
                <a:lnTo>
                  <a:pt x="136247" y="52298"/>
                </a:lnTo>
                <a:lnTo>
                  <a:pt x="128931" y="57726"/>
                </a:lnTo>
                <a:lnTo>
                  <a:pt x="121514" y="63884"/>
                </a:lnTo>
                <a:lnTo>
                  <a:pt x="114030" y="70529"/>
                </a:lnTo>
                <a:lnTo>
                  <a:pt x="106500" y="77500"/>
                </a:lnTo>
                <a:lnTo>
                  <a:pt x="98093" y="83840"/>
                </a:lnTo>
                <a:lnTo>
                  <a:pt x="89102" y="89760"/>
                </a:lnTo>
                <a:lnTo>
                  <a:pt x="70928" y="100854"/>
                </a:lnTo>
                <a:lnTo>
                  <a:pt x="54383" y="111428"/>
                </a:lnTo>
                <a:lnTo>
                  <a:pt x="46416" y="115772"/>
                </a:lnTo>
                <a:lnTo>
                  <a:pt x="38564" y="119515"/>
                </a:lnTo>
                <a:lnTo>
                  <a:pt x="30790" y="122857"/>
                </a:lnTo>
                <a:lnTo>
                  <a:pt x="24759" y="125931"/>
                </a:lnTo>
                <a:lnTo>
                  <a:pt x="19893" y="128827"/>
                </a:lnTo>
                <a:lnTo>
                  <a:pt x="15802" y="131605"/>
                </a:lnTo>
                <a:lnTo>
                  <a:pt x="12228" y="134304"/>
                </a:lnTo>
                <a:lnTo>
                  <a:pt x="8999" y="136949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42"/>
          <p:cNvSpPr/>
          <p:nvPr/>
        </p:nvSpPr>
        <p:spPr>
          <a:xfrm>
            <a:off x="4495680" y="3535200"/>
            <a:ext cx="212760" cy="106560"/>
          </a:xfrm>
          <a:custGeom>
            <a:avLst/>
            <a:gdLst>
              <a:gd name="textAreaLeft" fmla="*/ 0 w 212760"/>
              <a:gd name="textAreaRight" fmla="*/ 213120 w 2127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3361" h="106681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8" y="8289"/>
                </a:lnTo>
                <a:lnTo>
                  <a:pt x="4045" y="10605"/>
                </a:lnTo>
                <a:lnTo>
                  <a:pt x="6083" y="12150"/>
                </a:lnTo>
                <a:lnTo>
                  <a:pt x="8289" y="13180"/>
                </a:lnTo>
                <a:lnTo>
                  <a:pt x="10606" y="13867"/>
                </a:lnTo>
                <a:lnTo>
                  <a:pt x="13844" y="16018"/>
                </a:lnTo>
                <a:lnTo>
                  <a:pt x="17696" y="19145"/>
                </a:lnTo>
                <a:lnTo>
                  <a:pt x="21958" y="22923"/>
                </a:lnTo>
                <a:lnTo>
                  <a:pt x="26491" y="26289"/>
                </a:lnTo>
                <a:lnTo>
                  <a:pt x="31207" y="29379"/>
                </a:lnTo>
                <a:lnTo>
                  <a:pt x="36045" y="32286"/>
                </a:lnTo>
                <a:lnTo>
                  <a:pt x="48193" y="40032"/>
                </a:lnTo>
                <a:lnTo>
                  <a:pt x="99205" y="73773"/>
                </a:lnTo>
                <a:lnTo>
                  <a:pt x="107624" y="77969"/>
                </a:lnTo>
                <a:lnTo>
                  <a:pt x="116622" y="81612"/>
                </a:lnTo>
                <a:lnTo>
                  <a:pt x="126009" y="84888"/>
                </a:lnTo>
                <a:lnTo>
                  <a:pt x="136499" y="87919"/>
                </a:lnTo>
                <a:lnTo>
                  <a:pt x="147726" y="90786"/>
                </a:lnTo>
                <a:lnTo>
                  <a:pt x="159444" y="93544"/>
                </a:lnTo>
                <a:lnTo>
                  <a:pt x="168949" y="96229"/>
                </a:lnTo>
                <a:lnTo>
                  <a:pt x="176980" y="98866"/>
                </a:lnTo>
                <a:lnTo>
                  <a:pt x="184026" y="101470"/>
                </a:lnTo>
                <a:lnTo>
                  <a:pt x="190418" y="103207"/>
                </a:lnTo>
                <a:lnTo>
                  <a:pt x="196372" y="104365"/>
                </a:lnTo>
                <a:lnTo>
                  <a:pt x="21336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43"/>
          <p:cNvSpPr/>
          <p:nvPr/>
        </p:nvSpPr>
        <p:spPr>
          <a:xfrm>
            <a:off x="4816440" y="3559320"/>
            <a:ext cx="182520" cy="10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82880" h="11993">
                <a:moveTo>
                  <a:pt x="0" y="0"/>
                </a:moveTo>
                <a:lnTo>
                  <a:pt x="22178" y="0"/>
                </a:lnTo>
                <a:lnTo>
                  <a:pt x="28332" y="847"/>
                </a:lnTo>
                <a:lnTo>
                  <a:pt x="35821" y="2258"/>
                </a:lnTo>
                <a:lnTo>
                  <a:pt x="44201" y="4045"/>
                </a:lnTo>
                <a:lnTo>
                  <a:pt x="52327" y="5237"/>
                </a:lnTo>
                <a:lnTo>
                  <a:pt x="60284" y="6031"/>
                </a:lnTo>
                <a:lnTo>
                  <a:pt x="68129" y="6561"/>
                </a:lnTo>
                <a:lnTo>
                  <a:pt x="77593" y="6914"/>
                </a:lnTo>
                <a:lnTo>
                  <a:pt x="110291" y="7411"/>
                </a:lnTo>
                <a:lnTo>
                  <a:pt x="131427" y="7527"/>
                </a:lnTo>
                <a:lnTo>
                  <a:pt x="140110" y="8405"/>
                </a:lnTo>
                <a:lnTo>
                  <a:pt x="147594" y="9836"/>
                </a:lnTo>
                <a:lnTo>
                  <a:pt x="154276" y="11637"/>
                </a:lnTo>
                <a:lnTo>
                  <a:pt x="160423" y="11992"/>
                </a:lnTo>
                <a:lnTo>
                  <a:pt x="166216" y="11381"/>
                </a:lnTo>
                <a:lnTo>
                  <a:pt x="182879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44"/>
          <p:cNvSpPr/>
          <p:nvPr/>
        </p:nvSpPr>
        <p:spPr>
          <a:xfrm>
            <a:off x="5083200" y="3467160"/>
            <a:ext cx="204840" cy="243000"/>
          </a:xfrm>
          <a:custGeom>
            <a:avLst/>
            <a:gdLst>
              <a:gd name="textAreaLeft" fmla="*/ 0 w 204840"/>
              <a:gd name="textAreaRight" fmla="*/ 205200 w 204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05055" h="243355">
                <a:moveTo>
                  <a:pt x="0" y="0"/>
                </a:moveTo>
                <a:lnTo>
                  <a:pt x="0" y="137118"/>
                </a:lnTo>
                <a:lnTo>
                  <a:pt x="0" y="129057"/>
                </a:lnTo>
                <a:lnTo>
                  <a:pt x="846" y="126678"/>
                </a:lnTo>
                <a:lnTo>
                  <a:pt x="2257" y="125092"/>
                </a:lnTo>
                <a:lnTo>
                  <a:pt x="4044" y="124034"/>
                </a:lnTo>
                <a:lnTo>
                  <a:pt x="6930" y="121636"/>
                </a:lnTo>
                <a:lnTo>
                  <a:pt x="10546" y="118344"/>
                </a:lnTo>
                <a:lnTo>
                  <a:pt x="14650" y="114456"/>
                </a:lnTo>
                <a:lnTo>
                  <a:pt x="19927" y="111017"/>
                </a:lnTo>
                <a:lnTo>
                  <a:pt x="25984" y="107878"/>
                </a:lnTo>
                <a:lnTo>
                  <a:pt x="38642" y="102133"/>
                </a:lnTo>
                <a:lnTo>
                  <a:pt x="49911" y="96756"/>
                </a:lnTo>
                <a:lnTo>
                  <a:pt x="56134" y="94138"/>
                </a:lnTo>
                <a:lnTo>
                  <a:pt x="62822" y="91545"/>
                </a:lnTo>
                <a:lnTo>
                  <a:pt x="69822" y="88970"/>
                </a:lnTo>
                <a:lnTo>
                  <a:pt x="77028" y="87253"/>
                </a:lnTo>
                <a:lnTo>
                  <a:pt x="84371" y="86109"/>
                </a:lnTo>
                <a:lnTo>
                  <a:pt x="91807" y="85346"/>
                </a:lnTo>
                <a:lnTo>
                  <a:pt x="100152" y="85684"/>
                </a:lnTo>
                <a:lnTo>
                  <a:pt x="109100" y="86756"/>
                </a:lnTo>
                <a:lnTo>
                  <a:pt x="118453" y="88317"/>
                </a:lnTo>
                <a:lnTo>
                  <a:pt x="127229" y="90205"/>
                </a:lnTo>
                <a:lnTo>
                  <a:pt x="135619" y="92309"/>
                </a:lnTo>
                <a:lnTo>
                  <a:pt x="143752" y="94559"/>
                </a:lnTo>
                <a:lnTo>
                  <a:pt x="150868" y="96906"/>
                </a:lnTo>
                <a:lnTo>
                  <a:pt x="157305" y="99317"/>
                </a:lnTo>
                <a:lnTo>
                  <a:pt x="163290" y="101772"/>
                </a:lnTo>
                <a:lnTo>
                  <a:pt x="169820" y="105947"/>
                </a:lnTo>
                <a:lnTo>
                  <a:pt x="176712" y="111272"/>
                </a:lnTo>
                <a:lnTo>
                  <a:pt x="183849" y="117361"/>
                </a:lnTo>
                <a:lnTo>
                  <a:pt x="189452" y="123114"/>
                </a:lnTo>
                <a:lnTo>
                  <a:pt x="194034" y="128643"/>
                </a:lnTo>
                <a:lnTo>
                  <a:pt x="197936" y="134022"/>
                </a:lnTo>
                <a:lnTo>
                  <a:pt x="200537" y="139301"/>
                </a:lnTo>
                <a:lnTo>
                  <a:pt x="202271" y="144514"/>
                </a:lnTo>
                <a:lnTo>
                  <a:pt x="203427" y="149683"/>
                </a:lnTo>
                <a:lnTo>
                  <a:pt x="204198" y="155668"/>
                </a:lnTo>
                <a:lnTo>
                  <a:pt x="204711" y="162199"/>
                </a:lnTo>
                <a:lnTo>
                  <a:pt x="205054" y="169092"/>
                </a:lnTo>
                <a:lnTo>
                  <a:pt x="204436" y="175382"/>
                </a:lnTo>
                <a:lnTo>
                  <a:pt x="203177" y="181268"/>
                </a:lnTo>
                <a:lnTo>
                  <a:pt x="201491" y="186885"/>
                </a:lnTo>
                <a:lnTo>
                  <a:pt x="198674" y="192323"/>
                </a:lnTo>
                <a:lnTo>
                  <a:pt x="195102" y="197642"/>
                </a:lnTo>
                <a:lnTo>
                  <a:pt x="191028" y="202881"/>
                </a:lnTo>
                <a:lnTo>
                  <a:pt x="185772" y="208068"/>
                </a:lnTo>
                <a:lnTo>
                  <a:pt x="179727" y="213218"/>
                </a:lnTo>
                <a:lnTo>
                  <a:pt x="173158" y="218345"/>
                </a:lnTo>
                <a:lnTo>
                  <a:pt x="167085" y="222610"/>
                </a:lnTo>
                <a:lnTo>
                  <a:pt x="161343" y="226300"/>
                </a:lnTo>
                <a:lnTo>
                  <a:pt x="155822" y="229607"/>
                </a:lnTo>
                <a:lnTo>
                  <a:pt x="149601" y="232658"/>
                </a:lnTo>
                <a:lnTo>
                  <a:pt x="142913" y="235539"/>
                </a:lnTo>
                <a:lnTo>
                  <a:pt x="135915" y="238306"/>
                </a:lnTo>
                <a:lnTo>
                  <a:pt x="128710" y="240150"/>
                </a:lnTo>
                <a:lnTo>
                  <a:pt x="121367" y="241380"/>
                </a:lnTo>
                <a:lnTo>
                  <a:pt x="113931" y="242200"/>
                </a:lnTo>
                <a:lnTo>
                  <a:pt x="106433" y="242747"/>
                </a:lnTo>
                <a:lnTo>
                  <a:pt x="98896" y="243111"/>
                </a:lnTo>
                <a:lnTo>
                  <a:pt x="91330" y="243354"/>
                </a:lnTo>
                <a:lnTo>
                  <a:pt x="83746" y="241822"/>
                </a:lnTo>
                <a:lnTo>
                  <a:pt x="76151" y="239108"/>
                </a:lnTo>
                <a:lnTo>
                  <a:pt x="61785" y="232423"/>
                </a:lnTo>
                <a:lnTo>
                  <a:pt x="49755" y="226630"/>
                </a:lnTo>
                <a:lnTo>
                  <a:pt x="45023" y="223900"/>
                </a:lnTo>
                <a:lnTo>
                  <a:pt x="41022" y="221233"/>
                </a:lnTo>
                <a:lnTo>
                  <a:pt x="30479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45"/>
          <p:cNvSpPr/>
          <p:nvPr/>
        </p:nvSpPr>
        <p:spPr>
          <a:xfrm>
            <a:off x="5121360" y="3451320"/>
            <a:ext cx="212760" cy="360"/>
          </a:xfrm>
          <a:custGeom>
            <a:avLst/>
            <a:gdLst>
              <a:gd name="textAreaLeft" fmla="*/ 0 w 212760"/>
              <a:gd name="textAreaRight" fmla="*/ 213120 w 2127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3360" h="1">
                <a:moveTo>
                  <a:pt x="0" y="0"/>
                </a:moveTo>
                <a:lnTo>
                  <a:pt x="213359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46"/>
          <p:cNvSpPr/>
          <p:nvPr/>
        </p:nvSpPr>
        <p:spPr>
          <a:xfrm>
            <a:off x="3840120" y="2073240"/>
            <a:ext cx="3459240" cy="46980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3459478" h="470841">
                <a:moveTo>
                  <a:pt x="0" y="426674"/>
                </a:moveTo>
                <a:lnTo>
                  <a:pt x="7306" y="419368"/>
                </a:lnTo>
                <a:lnTo>
                  <a:pt x="111017" y="419054"/>
                </a:lnTo>
                <a:lnTo>
                  <a:pt x="155037" y="419900"/>
                </a:lnTo>
                <a:lnTo>
                  <a:pt x="190848" y="425615"/>
                </a:lnTo>
                <a:lnTo>
                  <a:pt x="228646" y="428792"/>
                </a:lnTo>
                <a:lnTo>
                  <a:pt x="251474" y="432664"/>
                </a:lnTo>
                <a:lnTo>
                  <a:pt x="297181" y="436408"/>
                </a:lnTo>
                <a:lnTo>
                  <a:pt x="320040" y="440283"/>
                </a:lnTo>
                <a:lnTo>
                  <a:pt x="419031" y="448809"/>
                </a:lnTo>
                <a:lnTo>
                  <a:pt x="455430" y="451648"/>
                </a:lnTo>
                <a:lnTo>
                  <a:pt x="481793" y="455522"/>
                </a:lnTo>
                <a:lnTo>
                  <a:pt x="581690" y="457126"/>
                </a:lnTo>
                <a:lnTo>
                  <a:pt x="893021" y="457154"/>
                </a:lnTo>
                <a:lnTo>
                  <a:pt x="992799" y="449847"/>
                </a:lnTo>
                <a:lnTo>
                  <a:pt x="1049926" y="447317"/>
                </a:lnTo>
                <a:lnTo>
                  <a:pt x="1114634" y="442388"/>
                </a:lnTo>
                <a:lnTo>
                  <a:pt x="1217468" y="435895"/>
                </a:lnTo>
                <a:lnTo>
                  <a:pt x="1324815" y="434321"/>
                </a:lnTo>
                <a:lnTo>
                  <a:pt x="1430372" y="426988"/>
                </a:lnTo>
                <a:lnTo>
                  <a:pt x="1667643" y="426674"/>
                </a:lnTo>
                <a:lnTo>
                  <a:pt x="1769971" y="419368"/>
                </a:lnTo>
                <a:lnTo>
                  <a:pt x="1864824" y="421324"/>
                </a:lnTo>
                <a:lnTo>
                  <a:pt x="1907130" y="425617"/>
                </a:lnTo>
                <a:lnTo>
                  <a:pt x="1966575" y="422761"/>
                </a:lnTo>
                <a:lnTo>
                  <a:pt x="2067583" y="426521"/>
                </a:lnTo>
                <a:lnTo>
                  <a:pt x="2309902" y="426674"/>
                </a:lnTo>
                <a:lnTo>
                  <a:pt x="2408059" y="433823"/>
                </a:lnTo>
                <a:lnTo>
                  <a:pt x="2509525" y="439512"/>
                </a:lnTo>
                <a:lnTo>
                  <a:pt x="2623819" y="442698"/>
                </a:lnTo>
                <a:lnTo>
                  <a:pt x="2725420" y="449218"/>
                </a:lnTo>
                <a:lnTo>
                  <a:pt x="2827019" y="456671"/>
                </a:lnTo>
                <a:lnTo>
                  <a:pt x="3022913" y="464746"/>
                </a:lnTo>
                <a:lnTo>
                  <a:pt x="3105434" y="470840"/>
                </a:lnTo>
                <a:lnTo>
                  <a:pt x="3211607" y="464859"/>
                </a:lnTo>
                <a:lnTo>
                  <a:pt x="3276443" y="455370"/>
                </a:lnTo>
                <a:lnTo>
                  <a:pt x="3316274" y="441757"/>
                </a:lnTo>
                <a:lnTo>
                  <a:pt x="3346923" y="429193"/>
                </a:lnTo>
                <a:lnTo>
                  <a:pt x="3361877" y="421588"/>
                </a:lnTo>
                <a:lnTo>
                  <a:pt x="3377202" y="409175"/>
                </a:lnTo>
                <a:lnTo>
                  <a:pt x="3385658" y="400270"/>
                </a:lnTo>
                <a:lnTo>
                  <a:pt x="3396026" y="386583"/>
                </a:lnTo>
                <a:lnTo>
                  <a:pt x="3408598" y="375942"/>
                </a:lnTo>
                <a:lnTo>
                  <a:pt x="3418063" y="362442"/>
                </a:lnTo>
                <a:lnTo>
                  <a:pt x="3426229" y="347717"/>
                </a:lnTo>
                <a:lnTo>
                  <a:pt x="3436573" y="327571"/>
                </a:lnTo>
                <a:lnTo>
                  <a:pt x="3440833" y="317435"/>
                </a:lnTo>
                <a:lnTo>
                  <a:pt x="3444076" y="301362"/>
                </a:lnTo>
                <a:lnTo>
                  <a:pt x="3447837" y="288006"/>
                </a:lnTo>
                <a:lnTo>
                  <a:pt x="3450070" y="275862"/>
                </a:lnTo>
                <a:lnTo>
                  <a:pt x="3451911" y="263973"/>
                </a:lnTo>
                <a:lnTo>
                  <a:pt x="3455551" y="250222"/>
                </a:lnTo>
                <a:lnTo>
                  <a:pt x="3457734" y="237902"/>
                </a:lnTo>
                <a:lnTo>
                  <a:pt x="3458704" y="226782"/>
                </a:lnTo>
                <a:lnTo>
                  <a:pt x="3459135" y="216195"/>
                </a:lnTo>
                <a:lnTo>
                  <a:pt x="3459412" y="190364"/>
                </a:lnTo>
                <a:lnTo>
                  <a:pt x="3459477" y="143324"/>
                </a:lnTo>
                <a:lnTo>
                  <a:pt x="3457221" y="131125"/>
                </a:lnTo>
                <a:lnTo>
                  <a:pt x="3453395" y="120059"/>
                </a:lnTo>
                <a:lnTo>
                  <a:pt x="3448874" y="109496"/>
                </a:lnTo>
                <a:lnTo>
                  <a:pt x="3446298" y="99157"/>
                </a:lnTo>
                <a:lnTo>
                  <a:pt x="3444308" y="88918"/>
                </a:lnTo>
                <a:lnTo>
                  <a:pt x="3440600" y="78722"/>
                </a:lnTo>
                <a:lnTo>
                  <a:pt x="3436131" y="68546"/>
                </a:lnTo>
                <a:lnTo>
                  <a:pt x="3433754" y="63462"/>
                </a:lnTo>
                <a:lnTo>
                  <a:pt x="3430475" y="59226"/>
                </a:lnTo>
                <a:lnTo>
                  <a:pt x="3415305" y="46344"/>
                </a:lnTo>
                <a:lnTo>
                  <a:pt x="3408519" y="40892"/>
                </a:lnTo>
                <a:lnTo>
                  <a:pt x="3385463" y="27933"/>
                </a:lnTo>
                <a:lnTo>
                  <a:pt x="3348748" y="12657"/>
                </a:lnTo>
                <a:lnTo>
                  <a:pt x="3333500" y="9833"/>
                </a:lnTo>
                <a:lnTo>
                  <a:pt x="3308134" y="5986"/>
                </a:lnTo>
                <a:lnTo>
                  <a:pt x="3291461" y="2635"/>
                </a:lnTo>
                <a:lnTo>
                  <a:pt x="3191589" y="0"/>
                </a:lnTo>
                <a:lnTo>
                  <a:pt x="3090287" y="5193"/>
                </a:lnTo>
                <a:lnTo>
                  <a:pt x="2986839" y="7435"/>
                </a:lnTo>
                <a:lnTo>
                  <a:pt x="1938046" y="7574"/>
                </a:lnTo>
                <a:lnTo>
                  <a:pt x="1836423" y="13605"/>
                </a:lnTo>
                <a:lnTo>
                  <a:pt x="1740057" y="14984"/>
                </a:lnTo>
                <a:lnTo>
                  <a:pt x="1471819" y="15193"/>
                </a:lnTo>
                <a:lnTo>
                  <a:pt x="1368325" y="21755"/>
                </a:lnTo>
                <a:lnTo>
                  <a:pt x="1268876" y="22721"/>
                </a:lnTo>
                <a:lnTo>
                  <a:pt x="1173827" y="26851"/>
                </a:lnTo>
                <a:lnTo>
                  <a:pt x="1066820" y="31071"/>
                </a:lnTo>
                <a:lnTo>
                  <a:pt x="962378" y="37571"/>
                </a:lnTo>
                <a:lnTo>
                  <a:pt x="826598" y="45352"/>
                </a:lnTo>
                <a:lnTo>
                  <a:pt x="728904" y="52569"/>
                </a:lnTo>
                <a:lnTo>
                  <a:pt x="632976" y="53252"/>
                </a:lnTo>
                <a:lnTo>
                  <a:pt x="558563" y="55548"/>
                </a:lnTo>
                <a:lnTo>
                  <a:pt x="451699" y="66806"/>
                </a:lnTo>
                <a:lnTo>
                  <a:pt x="352164" y="76778"/>
                </a:lnTo>
                <a:lnTo>
                  <a:pt x="258340" y="91453"/>
                </a:lnTo>
                <a:lnTo>
                  <a:pt x="224847" y="99527"/>
                </a:lnTo>
                <a:lnTo>
                  <a:pt x="211692" y="103475"/>
                </a:lnTo>
                <a:lnTo>
                  <a:pt x="184809" y="108268"/>
                </a:lnTo>
                <a:lnTo>
                  <a:pt x="162941" y="117117"/>
                </a:lnTo>
                <a:lnTo>
                  <a:pt x="147433" y="128555"/>
                </a:lnTo>
                <a:lnTo>
                  <a:pt x="127868" y="141507"/>
                </a:lnTo>
                <a:lnTo>
                  <a:pt x="120895" y="146968"/>
                </a:lnTo>
                <a:lnTo>
                  <a:pt x="114974" y="154476"/>
                </a:lnTo>
                <a:lnTo>
                  <a:pt x="112209" y="158849"/>
                </a:lnTo>
                <a:lnTo>
                  <a:pt x="104621" y="165965"/>
                </a:lnTo>
                <a:lnTo>
                  <a:pt x="100228" y="169048"/>
                </a:lnTo>
                <a:lnTo>
                  <a:pt x="93088" y="176989"/>
                </a:lnTo>
                <a:lnTo>
                  <a:pt x="84308" y="190980"/>
                </a:lnTo>
                <a:lnTo>
                  <a:pt x="79804" y="200001"/>
                </a:lnTo>
                <a:lnTo>
                  <a:pt x="76420" y="210686"/>
                </a:lnTo>
                <a:lnTo>
                  <a:pt x="71279" y="224201"/>
                </a:lnTo>
                <a:lnTo>
                  <a:pt x="69380" y="238929"/>
                </a:lnTo>
                <a:lnTo>
                  <a:pt x="68935" y="248970"/>
                </a:lnTo>
                <a:lnTo>
                  <a:pt x="68685" y="264142"/>
                </a:lnTo>
                <a:lnTo>
                  <a:pt x="68589" y="294596"/>
                </a:lnTo>
                <a:lnTo>
                  <a:pt x="69432" y="298829"/>
                </a:lnTo>
                <a:lnTo>
                  <a:pt x="73819" y="309677"/>
                </a:lnTo>
                <a:lnTo>
                  <a:pt x="75141" y="318513"/>
                </a:lnTo>
                <a:lnTo>
                  <a:pt x="77188" y="323240"/>
                </a:lnTo>
                <a:lnTo>
                  <a:pt x="87312" y="337136"/>
                </a:lnTo>
                <a:lnTo>
                  <a:pt x="98746" y="349846"/>
                </a:lnTo>
                <a:lnTo>
                  <a:pt x="101391" y="352596"/>
                </a:lnTo>
                <a:lnTo>
                  <a:pt x="111102" y="357908"/>
                </a:lnTo>
                <a:lnTo>
                  <a:pt x="140125" y="369923"/>
                </a:lnTo>
                <a:lnTo>
                  <a:pt x="220980" y="38095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47"/>
          <p:cNvSpPr/>
          <p:nvPr/>
        </p:nvSpPr>
        <p:spPr>
          <a:xfrm>
            <a:off x="808200" y="4245120"/>
            <a:ext cx="188640" cy="342720"/>
          </a:xfrm>
          <a:custGeom>
            <a:avLst/>
            <a:gdLst>
              <a:gd name="textAreaLeft" fmla="*/ 0 w 188640"/>
              <a:gd name="textAreaRight" fmla="*/ 189000 w 1886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89881" h="342444">
                <a:moveTo>
                  <a:pt x="0" y="83363"/>
                </a:moveTo>
                <a:lnTo>
                  <a:pt x="0" y="79318"/>
                </a:lnTo>
                <a:lnTo>
                  <a:pt x="4516" y="72816"/>
                </a:lnTo>
                <a:lnTo>
                  <a:pt x="8091" y="68712"/>
                </a:lnTo>
                <a:lnTo>
                  <a:pt x="12062" y="61894"/>
                </a:lnTo>
                <a:lnTo>
                  <a:pt x="13122" y="58890"/>
                </a:lnTo>
                <a:lnTo>
                  <a:pt x="16368" y="55194"/>
                </a:lnTo>
                <a:lnTo>
                  <a:pt x="21072" y="51037"/>
                </a:lnTo>
                <a:lnTo>
                  <a:pt x="26748" y="46572"/>
                </a:lnTo>
                <a:lnTo>
                  <a:pt x="33072" y="41903"/>
                </a:lnTo>
                <a:lnTo>
                  <a:pt x="46872" y="32198"/>
                </a:lnTo>
                <a:lnTo>
                  <a:pt x="54955" y="28086"/>
                </a:lnTo>
                <a:lnTo>
                  <a:pt x="63730" y="24498"/>
                </a:lnTo>
                <a:lnTo>
                  <a:pt x="72966" y="21260"/>
                </a:lnTo>
                <a:lnTo>
                  <a:pt x="82511" y="18254"/>
                </a:lnTo>
                <a:lnTo>
                  <a:pt x="119905" y="7347"/>
                </a:lnTo>
                <a:lnTo>
                  <a:pt x="128197" y="4746"/>
                </a:lnTo>
                <a:lnTo>
                  <a:pt x="136265" y="3011"/>
                </a:lnTo>
                <a:lnTo>
                  <a:pt x="144183" y="1855"/>
                </a:lnTo>
                <a:lnTo>
                  <a:pt x="152002" y="1084"/>
                </a:lnTo>
                <a:lnTo>
                  <a:pt x="158908" y="571"/>
                </a:lnTo>
                <a:lnTo>
                  <a:pt x="165205" y="228"/>
                </a:lnTo>
                <a:lnTo>
                  <a:pt x="171097" y="0"/>
                </a:lnTo>
                <a:lnTo>
                  <a:pt x="175871" y="694"/>
                </a:lnTo>
                <a:lnTo>
                  <a:pt x="179901" y="2004"/>
                </a:lnTo>
                <a:lnTo>
                  <a:pt x="183434" y="3723"/>
                </a:lnTo>
                <a:lnTo>
                  <a:pt x="185790" y="6563"/>
                </a:lnTo>
                <a:lnTo>
                  <a:pt x="187359" y="10150"/>
                </a:lnTo>
                <a:lnTo>
                  <a:pt x="189104" y="18651"/>
                </a:lnTo>
                <a:lnTo>
                  <a:pt x="189880" y="28072"/>
                </a:lnTo>
                <a:lnTo>
                  <a:pt x="187546" y="34650"/>
                </a:lnTo>
                <a:lnTo>
                  <a:pt x="183451" y="42420"/>
                </a:lnTo>
                <a:lnTo>
                  <a:pt x="172974" y="59240"/>
                </a:lnTo>
                <a:lnTo>
                  <a:pt x="162673" y="75181"/>
                </a:lnTo>
                <a:lnTo>
                  <a:pt x="156709" y="83835"/>
                </a:lnTo>
                <a:lnTo>
                  <a:pt x="143308" y="102482"/>
                </a:lnTo>
                <a:lnTo>
                  <a:pt x="135332" y="112195"/>
                </a:lnTo>
                <a:lnTo>
                  <a:pt x="126628" y="122057"/>
                </a:lnTo>
                <a:lnTo>
                  <a:pt x="117439" y="132020"/>
                </a:lnTo>
                <a:lnTo>
                  <a:pt x="108773" y="142894"/>
                </a:lnTo>
                <a:lnTo>
                  <a:pt x="100455" y="154377"/>
                </a:lnTo>
                <a:lnTo>
                  <a:pt x="92370" y="166266"/>
                </a:lnTo>
                <a:lnTo>
                  <a:pt x="76613" y="188506"/>
                </a:lnTo>
                <a:lnTo>
                  <a:pt x="68856" y="199178"/>
                </a:lnTo>
                <a:lnTo>
                  <a:pt x="61990" y="209680"/>
                </a:lnTo>
                <a:lnTo>
                  <a:pt x="55720" y="220068"/>
                </a:lnTo>
                <a:lnTo>
                  <a:pt x="49847" y="230379"/>
                </a:lnTo>
                <a:lnTo>
                  <a:pt x="45085" y="239794"/>
                </a:lnTo>
                <a:lnTo>
                  <a:pt x="41063" y="248610"/>
                </a:lnTo>
                <a:lnTo>
                  <a:pt x="37536" y="257027"/>
                </a:lnTo>
                <a:lnTo>
                  <a:pt x="34337" y="265179"/>
                </a:lnTo>
                <a:lnTo>
                  <a:pt x="28525" y="281010"/>
                </a:lnTo>
                <a:lnTo>
                  <a:pt x="27484" y="288788"/>
                </a:lnTo>
                <a:lnTo>
                  <a:pt x="27636" y="296513"/>
                </a:lnTo>
                <a:lnTo>
                  <a:pt x="28584" y="304203"/>
                </a:lnTo>
                <a:lnTo>
                  <a:pt x="30909" y="310176"/>
                </a:lnTo>
                <a:lnTo>
                  <a:pt x="34153" y="315005"/>
                </a:lnTo>
                <a:lnTo>
                  <a:pt x="42272" y="323475"/>
                </a:lnTo>
                <a:lnTo>
                  <a:pt x="51526" y="332884"/>
                </a:lnTo>
                <a:lnTo>
                  <a:pt x="57211" y="336070"/>
                </a:lnTo>
                <a:lnTo>
                  <a:pt x="63540" y="338194"/>
                </a:lnTo>
                <a:lnTo>
                  <a:pt x="70300" y="339610"/>
                </a:lnTo>
                <a:lnTo>
                  <a:pt x="79040" y="340555"/>
                </a:lnTo>
                <a:lnTo>
                  <a:pt x="89100" y="341184"/>
                </a:lnTo>
                <a:lnTo>
                  <a:pt x="119482" y="342194"/>
                </a:lnTo>
                <a:lnTo>
                  <a:pt x="152400" y="34244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48"/>
          <p:cNvSpPr/>
          <p:nvPr/>
        </p:nvSpPr>
        <p:spPr>
          <a:xfrm>
            <a:off x="1028880" y="4427640"/>
            <a:ext cx="274320" cy="212760"/>
          </a:xfrm>
          <a:custGeom>
            <a:avLst/>
            <a:gdLst>
              <a:gd name="textAreaLeft" fmla="*/ 0 w 274320"/>
              <a:gd name="textAreaRight" fmla="*/ 274680 w 274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74321" h="213361">
                <a:moveTo>
                  <a:pt x="274320" y="0"/>
                </a:moveTo>
                <a:lnTo>
                  <a:pt x="260453" y="13867"/>
                </a:lnTo>
                <a:lnTo>
                  <a:pt x="258302" y="16865"/>
                </a:lnTo>
                <a:lnTo>
                  <a:pt x="251397" y="26969"/>
                </a:lnTo>
                <a:lnTo>
                  <a:pt x="247184" y="32373"/>
                </a:lnTo>
                <a:lnTo>
                  <a:pt x="242683" y="37668"/>
                </a:lnTo>
                <a:lnTo>
                  <a:pt x="237988" y="42892"/>
                </a:lnTo>
                <a:lnTo>
                  <a:pt x="233166" y="48915"/>
                </a:lnTo>
                <a:lnTo>
                  <a:pt x="228257" y="55470"/>
                </a:lnTo>
                <a:lnTo>
                  <a:pt x="223291" y="62380"/>
                </a:lnTo>
                <a:lnTo>
                  <a:pt x="216594" y="69526"/>
                </a:lnTo>
                <a:lnTo>
                  <a:pt x="208743" y="76831"/>
                </a:lnTo>
                <a:lnTo>
                  <a:pt x="200122" y="84241"/>
                </a:lnTo>
                <a:lnTo>
                  <a:pt x="191835" y="91720"/>
                </a:lnTo>
                <a:lnTo>
                  <a:pt x="175853" y="106804"/>
                </a:lnTo>
                <a:lnTo>
                  <a:pt x="167189" y="114383"/>
                </a:lnTo>
                <a:lnTo>
                  <a:pt x="158026" y="121975"/>
                </a:lnTo>
                <a:lnTo>
                  <a:pt x="148531" y="129576"/>
                </a:lnTo>
                <a:lnTo>
                  <a:pt x="139660" y="137184"/>
                </a:lnTo>
                <a:lnTo>
                  <a:pt x="131207" y="144796"/>
                </a:lnTo>
                <a:lnTo>
                  <a:pt x="123031" y="152411"/>
                </a:lnTo>
                <a:lnTo>
                  <a:pt x="114194" y="159180"/>
                </a:lnTo>
                <a:lnTo>
                  <a:pt x="104916" y="165386"/>
                </a:lnTo>
                <a:lnTo>
                  <a:pt x="86423" y="176799"/>
                </a:lnTo>
                <a:lnTo>
                  <a:pt x="69737" y="187515"/>
                </a:lnTo>
                <a:lnTo>
                  <a:pt x="61731" y="191896"/>
                </a:lnTo>
                <a:lnTo>
                  <a:pt x="53854" y="195664"/>
                </a:lnTo>
                <a:lnTo>
                  <a:pt x="46063" y="199022"/>
                </a:lnTo>
                <a:lnTo>
                  <a:pt x="32890" y="205012"/>
                </a:lnTo>
                <a:lnTo>
                  <a:pt x="27007" y="207794"/>
                </a:lnTo>
                <a:lnTo>
                  <a:pt x="21391" y="209649"/>
                </a:lnTo>
                <a:lnTo>
                  <a:pt x="15954" y="210886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49"/>
          <p:cNvSpPr/>
          <p:nvPr/>
        </p:nvSpPr>
        <p:spPr>
          <a:xfrm>
            <a:off x="1120680" y="4411800"/>
            <a:ext cx="243000" cy="214200"/>
          </a:xfrm>
          <a:custGeom>
            <a:avLst/>
            <a:gdLst>
              <a:gd name="textAreaLeft" fmla="*/ 0 w 243000"/>
              <a:gd name="textAreaRight" fmla="*/ 243360 w 243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43841" h="213360">
                <a:moveTo>
                  <a:pt x="0" y="0"/>
                </a:moveTo>
                <a:lnTo>
                  <a:pt x="0" y="10605"/>
                </a:lnTo>
                <a:lnTo>
                  <a:pt x="847" y="12996"/>
                </a:lnTo>
                <a:lnTo>
                  <a:pt x="4045" y="17911"/>
                </a:lnTo>
                <a:lnTo>
                  <a:pt x="6084" y="21254"/>
                </a:lnTo>
                <a:lnTo>
                  <a:pt x="8289" y="25176"/>
                </a:lnTo>
                <a:lnTo>
                  <a:pt x="10606" y="29484"/>
                </a:lnTo>
                <a:lnTo>
                  <a:pt x="13844" y="34895"/>
                </a:lnTo>
                <a:lnTo>
                  <a:pt x="21957" y="47682"/>
                </a:lnTo>
                <a:lnTo>
                  <a:pt x="50944" y="91611"/>
                </a:lnTo>
                <a:lnTo>
                  <a:pt x="56823" y="99174"/>
                </a:lnTo>
                <a:lnTo>
                  <a:pt x="63282" y="106756"/>
                </a:lnTo>
                <a:lnTo>
                  <a:pt x="70128" y="114351"/>
                </a:lnTo>
                <a:lnTo>
                  <a:pt x="78079" y="121953"/>
                </a:lnTo>
                <a:lnTo>
                  <a:pt x="86766" y="129562"/>
                </a:lnTo>
                <a:lnTo>
                  <a:pt x="95944" y="137175"/>
                </a:lnTo>
                <a:lnTo>
                  <a:pt x="115173" y="152406"/>
                </a:lnTo>
                <a:lnTo>
                  <a:pt x="125042" y="160023"/>
                </a:lnTo>
                <a:lnTo>
                  <a:pt x="135008" y="166796"/>
                </a:lnTo>
                <a:lnTo>
                  <a:pt x="145039" y="173003"/>
                </a:lnTo>
                <a:lnTo>
                  <a:pt x="155112" y="178836"/>
                </a:lnTo>
                <a:lnTo>
                  <a:pt x="166062" y="184417"/>
                </a:lnTo>
                <a:lnTo>
                  <a:pt x="177594" y="189831"/>
                </a:lnTo>
                <a:lnTo>
                  <a:pt x="189516" y="195134"/>
                </a:lnTo>
                <a:lnTo>
                  <a:pt x="199158" y="198669"/>
                </a:lnTo>
                <a:lnTo>
                  <a:pt x="207278" y="201026"/>
                </a:lnTo>
                <a:lnTo>
                  <a:pt x="214386" y="202597"/>
                </a:lnTo>
                <a:lnTo>
                  <a:pt x="220817" y="204491"/>
                </a:lnTo>
                <a:lnTo>
                  <a:pt x="226798" y="206601"/>
                </a:lnTo>
                <a:lnTo>
                  <a:pt x="243840" y="2133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50"/>
          <p:cNvSpPr/>
          <p:nvPr/>
        </p:nvSpPr>
        <p:spPr>
          <a:xfrm>
            <a:off x="1569960" y="4305240"/>
            <a:ext cx="22320" cy="282600"/>
          </a:xfrm>
          <a:custGeom>
            <a:avLst/>
            <a:gdLst>
              <a:gd name="textAreaLeft" fmla="*/ 0 w 22320"/>
              <a:gd name="textAreaRight" fmla="*/ 22680 w 223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2861" h="281941">
                <a:moveTo>
                  <a:pt x="0" y="0"/>
                </a:moveTo>
                <a:lnTo>
                  <a:pt x="0" y="31779"/>
                </a:lnTo>
                <a:lnTo>
                  <a:pt x="847" y="37272"/>
                </a:lnTo>
                <a:lnTo>
                  <a:pt x="2258" y="44322"/>
                </a:lnTo>
                <a:lnTo>
                  <a:pt x="4045" y="52408"/>
                </a:lnTo>
                <a:lnTo>
                  <a:pt x="5237" y="61185"/>
                </a:lnTo>
                <a:lnTo>
                  <a:pt x="6031" y="70424"/>
                </a:lnTo>
                <a:lnTo>
                  <a:pt x="6561" y="79969"/>
                </a:lnTo>
                <a:lnTo>
                  <a:pt x="7150" y="99606"/>
                </a:lnTo>
                <a:lnTo>
                  <a:pt x="7527" y="143853"/>
                </a:lnTo>
                <a:lnTo>
                  <a:pt x="8405" y="155168"/>
                </a:lnTo>
                <a:lnTo>
                  <a:pt x="9837" y="166099"/>
                </a:lnTo>
                <a:lnTo>
                  <a:pt x="11638" y="176773"/>
                </a:lnTo>
                <a:lnTo>
                  <a:pt x="12839" y="186428"/>
                </a:lnTo>
                <a:lnTo>
                  <a:pt x="13640" y="195406"/>
                </a:lnTo>
                <a:lnTo>
                  <a:pt x="14173" y="203930"/>
                </a:lnTo>
                <a:lnTo>
                  <a:pt x="14766" y="220176"/>
                </a:lnTo>
                <a:lnTo>
                  <a:pt x="15146" y="247256"/>
                </a:lnTo>
                <a:lnTo>
                  <a:pt x="16024" y="252890"/>
                </a:lnTo>
                <a:lnTo>
                  <a:pt x="17456" y="258340"/>
                </a:lnTo>
                <a:lnTo>
                  <a:pt x="19258" y="263667"/>
                </a:lnTo>
                <a:lnTo>
                  <a:pt x="20458" y="268064"/>
                </a:lnTo>
                <a:lnTo>
                  <a:pt x="21259" y="271843"/>
                </a:lnTo>
                <a:lnTo>
                  <a:pt x="228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51"/>
          <p:cNvSpPr/>
          <p:nvPr/>
        </p:nvSpPr>
        <p:spPr>
          <a:xfrm>
            <a:off x="1477800" y="4419720"/>
            <a:ext cx="160560" cy="6120"/>
          </a:xfrm>
          <a:custGeom>
            <a:avLst/>
            <a:gdLst>
              <a:gd name="textAreaLeft" fmla="*/ 0 w 160560"/>
              <a:gd name="textAreaRight" fmla="*/ 160920 w 160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60021" h="6562">
                <a:moveTo>
                  <a:pt x="0" y="0"/>
                </a:moveTo>
                <a:lnTo>
                  <a:pt x="22178" y="0"/>
                </a:lnTo>
                <a:lnTo>
                  <a:pt x="27486" y="846"/>
                </a:lnTo>
                <a:lnTo>
                  <a:pt x="33564" y="2258"/>
                </a:lnTo>
                <a:lnTo>
                  <a:pt x="40156" y="4045"/>
                </a:lnTo>
                <a:lnTo>
                  <a:pt x="47091" y="5237"/>
                </a:lnTo>
                <a:lnTo>
                  <a:pt x="54254" y="6031"/>
                </a:lnTo>
                <a:lnTo>
                  <a:pt x="61569" y="6561"/>
                </a:lnTo>
                <a:lnTo>
                  <a:pt x="69833" y="6067"/>
                </a:lnTo>
                <a:lnTo>
                  <a:pt x="78729" y="4891"/>
                </a:lnTo>
                <a:lnTo>
                  <a:pt x="88046" y="3261"/>
                </a:lnTo>
                <a:lnTo>
                  <a:pt x="96797" y="2174"/>
                </a:lnTo>
                <a:lnTo>
                  <a:pt x="105172" y="1449"/>
                </a:lnTo>
                <a:lnTo>
                  <a:pt x="120403" y="644"/>
                </a:lnTo>
                <a:lnTo>
                  <a:pt x="132817" y="286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InkAnnotation52"/>
          <p:cNvSpPr/>
          <p:nvPr/>
        </p:nvSpPr>
        <p:spPr>
          <a:xfrm>
            <a:off x="1706400" y="4245120"/>
            <a:ext cx="244800" cy="311040"/>
          </a:xfrm>
          <a:custGeom>
            <a:avLst/>
            <a:gdLst>
              <a:gd name="textAreaLeft" fmla="*/ 0 w 244800"/>
              <a:gd name="textAreaRight" fmla="*/ 245160 w 2448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43841" h="310878">
                <a:moveTo>
                  <a:pt x="0" y="29384"/>
                </a:moveTo>
                <a:lnTo>
                  <a:pt x="0" y="22823"/>
                </a:lnTo>
                <a:lnTo>
                  <a:pt x="4046" y="18032"/>
                </a:lnTo>
                <a:lnTo>
                  <a:pt x="10547" y="13614"/>
                </a:lnTo>
                <a:lnTo>
                  <a:pt x="14652" y="11251"/>
                </a:lnTo>
                <a:lnTo>
                  <a:pt x="19081" y="9676"/>
                </a:lnTo>
                <a:lnTo>
                  <a:pt x="23727" y="8625"/>
                </a:lnTo>
                <a:lnTo>
                  <a:pt x="28518" y="7925"/>
                </a:lnTo>
                <a:lnTo>
                  <a:pt x="34252" y="7458"/>
                </a:lnTo>
                <a:lnTo>
                  <a:pt x="40615" y="7147"/>
                </a:lnTo>
                <a:lnTo>
                  <a:pt x="47397" y="6939"/>
                </a:lnTo>
                <a:lnTo>
                  <a:pt x="53611" y="5954"/>
                </a:lnTo>
                <a:lnTo>
                  <a:pt x="59447" y="4451"/>
                </a:lnTo>
                <a:lnTo>
                  <a:pt x="65032" y="2602"/>
                </a:lnTo>
                <a:lnTo>
                  <a:pt x="71295" y="1370"/>
                </a:lnTo>
                <a:lnTo>
                  <a:pt x="78010" y="547"/>
                </a:lnTo>
                <a:lnTo>
                  <a:pt x="85027" y="0"/>
                </a:lnTo>
                <a:lnTo>
                  <a:pt x="92244" y="481"/>
                </a:lnTo>
                <a:lnTo>
                  <a:pt x="99597" y="1649"/>
                </a:lnTo>
                <a:lnTo>
                  <a:pt x="107038" y="3274"/>
                </a:lnTo>
                <a:lnTo>
                  <a:pt x="113692" y="4357"/>
                </a:lnTo>
                <a:lnTo>
                  <a:pt x="119821" y="5079"/>
                </a:lnTo>
                <a:lnTo>
                  <a:pt x="125601" y="5561"/>
                </a:lnTo>
                <a:lnTo>
                  <a:pt x="131994" y="6728"/>
                </a:lnTo>
                <a:lnTo>
                  <a:pt x="138796" y="8354"/>
                </a:lnTo>
                <a:lnTo>
                  <a:pt x="145871" y="10284"/>
                </a:lnTo>
                <a:lnTo>
                  <a:pt x="151434" y="12417"/>
                </a:lnTo>
                <a:lnTo>
                  <a:pt x="155989" y="14686"/>
                </a:lnTo>
                <a:lnTo>
                  <a:pt x="163309" y="19465"/>
                </a:lnTo>
                <a:lnTo>
                  <a:pt x="169384" y="24411"/>
                </a:lnTo>
                <a:lnTo>
                  <a:pt x="171343" y="27762"/>
                </a:lnTo>
                <a:lnTo>
                  <a:pt x="173519" y="36001"/>
                </a:lnTo>
                <a:lnTo>
                  <a:pt x="174486" y="45307"/>
                </a:lnTo>
                <a:lnTo>
                  <a:pt x="174744" y="50160"/>
                </a:lnTo>
                <a:lnTo>
                  <a:pt x="173223" y="55088"/>
                </a:lnTo>
                <a:lnTo>
                  <a:pt x="170515" y="60066"/>
                </a:lnTo>
                <a:lnTo>
                  <a:pt x="167017" y="65078"/>
                </a:lnTo>
                <a:lnTo>
                  <a:pt x="162991" y="70114"/>
                </a:lnTo>
                <a:lnTo>
                  <a:pt x="158614" y="75164"/>
                </a:lnTo>
                <a:lnTo>
                  <a:pt x="154003" y="80224"/>
                </a:lnTo>
                <a:lnTo>
                  <a:pt x="142106" y="92619"/>
                </a:lnTo>
                <a:lnTo>
                  <a:pt x="135377" y="99481"/>
                </a:lnTo>
                <a:lnTo>
                  <a:pt x="128352" y="107442"/>
                </a:lnTo>
                <a:lnTo>
                  <a:pt x="121128" y="116136"/>
                </a:lnTo>
                <a:lnTo>
                  <a:pt x="113772" y="125319"/>
                </a:lnTo>
                <a:lnTo>
                  <a:pt x="106328" y="133980"/>
                </a:lnTo>
                <a:lnTo>
                  <a:pt x="98825" y="142295"/>
                </a:lnTo>
                <a:lnTo>
                  <a:pt x="83716" y="158307"/>
                </a:lnTo>
                <a:lnTo>
                  <a:pt x="68534" y="173890"/>
                </a:lnTo>
                <a:lnTo>
                  <a:pt x="61776" y="181601"/>
                </a:lnTo>
                <a:lnTo>
                  <a:pt x="55577" y="189282"/>
                </a:lnTo>
                <a:lnTo>
                  <a:pt x="49752" y="196942"/>
                </a:lnTo>
                <a:lnTo>
                  <a:pt x="43328" y="204590"/>
                </a:lnTo>
                <a:lnTo>
                  <a:pt x="36505" y="212228"/>
                </a:lnTo>
                <a:lnTo>
                  <a:pt x="29417" y="219860"/>
                </a:lnTo>
                <a:lnTo>
                  <a:pt x="23845" y="227488"/>
                </a:lnTo>
                <a:lnTo>
                  <a:pt x="19283" y="235113"/>
                </a:lnTo>
                <a:lnTo>
                  <a:pt x="5879" y="261556"/>
                </a:lnTo>
                <a:lnTo>
                  <a:pt x="2613" y="270296"/>
                </a:lnTo>
                <a:lnTo>
                  <a:pt x="1742" y="273812"/>
                </a:lnTo>
                <a:lnTo>
                  <a:pt x="2008" y="277003"/>
                </a:lnTo>
                <a:lnTo>
                  <a:pt x="3032" y="279976"/>
                </a:lnTo>
                <a:lnTo>
                  <a:pt x="6428" y="285539"/>
                </a:lnTo>
                <a:lnTo>
                  <a:pt x="10759" y="290832"/>
                </a:lnTo>
                <a:lnTo>
                  <a:pt x="14793" y="293430"/>
                </a:lnTo>
                <a:lnTo>
                  <a:pt x="20022" y="296008"/>
                </a:lnTo>
                <a:lnTo>
                  <a:pt x="26048" y="298573"/>
                </a:lnTo>
                <a:lnTo>
                  <a:pt x="37259" y="303681"/>
                </a:lnTo>
                <a:lnTo>
                  <a:pt x="42620" y="306229"/>
                </a:lnTo>
                <a:lnTo>
                  <a:pt x="49580" y="307927"/>
                </a:lnTo>
                <a:lnTo>
                  <a:pt x="57607" y="309059"/>
                </a:lnTo>
                <a:lnTo>
                  <a:pt x="66345" y="309814"/>
                </a:lnTo>
                <a:lnTo>
                  <a:pt x="74710" y="310317"/>
                </a:lnTo>
                <a:lnTo>
                  <a:pt x="90778" y="310877"/>
                </a:lnTo>
                <a:lnTo>
                  <a:pt x="99465" y="310179"/>
                </a:lnTo>
                <a:lnTo>
                  <a:pt x="108643" y="308867"/>
                </a:lnTo>
                <a:lnTo>
                  <a:pt x="118149" y="307146"/>
                </a:lnTo>
                <a:lnTo>
                  <a:pt x="127873" y="305999"/>
                </a:lnTo>
                <a:lnTo>
                  <a:pt x="137742" y="305234"/>
                </a:lnTo>
                <a:lnTo>
                  <a:pt x="147708" y="304723"/>
                </a:lnTo>
                <a:lnTo>
                  <a:pt x="157739" y="303537"/>
                </a:lnTo>
                <a:lnTo>
                  <a:pt x="167813" y="301899"/>
                </a:lnTo>
                <a:lnTo>
                  <a:pt x="177915" y="299961"/>
                </a:lnTo>
                <a:lnTo>
                  <a:pt x="187190" y="298668"/>
                </a:lnTo>
                <a:lnTo>
                  <a:pt x="195913" y="297807"/>
                </a:lnTo>
                <a:lnTo>
                  <a:pt x="204269" y="297233"/>
                </a:lnTo>
                <a:lnTo>
                  <a:pt x="211533" y="296003"/>
                </a:lnTo>
                <a:lnTo>
                  <a:pt x="218068" y="294337"/>
                </a:lnTo>
                <a:lnTo>
                  <a:pt x="224119" y="292379"/>
                </a:lnTo>
                <a:lnTo>
                  <a:pt x="229000" y="291074"/>
                </a:lnTo>
                <a:lnTo>
                  <a:pt x="233100" y="290203"/>
                </a:lnTo>
                <a:lnTo>
                  <a:pt x="243840" y="28846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InkAnnotation53"/>
          <p:cNvSpPr/>
          <p:nvPr/>
        </p:nvSpPr>
        <p:spPr>
          <a:xfrm>
            <a:off x="1989000" y="4299120"/>
            <a:ext cx="266760" cy="263520"/>
          </a:xfrm>
          <a:custGeom>
            <a:avLst/>
            <a:gdLst>
              <a:gd name="textAreaLeft" fmla="*/ 0 w 266760"/>
              <a:gd name="textAreaRight" fmla="*/ 267120 w 266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66080" h="264420">
                <a:moveTo>
                  <a:pt x="45099" y="14153"/>
                </a:moveTo>
                <a:lnTo>
                  <a:pt x="49145" y="10109"/>
                </a:lnTo>
                <a:lnTo>
                  <a:pt x="52030" y="8916"/>
                </a:lnTo>
                <a:lnTo>
                  <a:pt x="59751" y="7592"/>
                </a:lnTo>
                <a:lnTo>
                  <a:pt x="66569" y="7004"/>
                </a:lnTo>
                <a:lnTo>
                  <a:pt x="69572" y="6848"/>
                </a:lnTo>
                <a:lnTo>
                  <a:pt x="77425" y="4415"/>
                </a:lnTo>
                <a:lnTo>
                  <a:pt x="81890" y="2581"/>
                </a:lnTo>
                <a:lnTo>
                  <a:pt x="87406" y="1358"/>
                </a:lnTo>
                <a:lnTo>
                  <a:pt x="93624" y="544"/>
                </a:lnTo>
                <a:lnTo>
                  <a:pt x="100309" y="0"/>
                </a:lnTo>
                <a:lnTo>
                  <a:pt x="107306" y="484"/>
                </a:lnTo>
                <a:lnTo>
                  <a:pt x="114510" y="1654"/>
                </a:lnTo>
                <a:lnTo>
                  <a:pt x="121853" y="3281"/>
                </a:lnTo>
                <a:lnTo>
                  <a:pt x="129289" y="4365"/>
                </a:lnTo>
                <a:lnTo>
                  <a:pt x="136785" y="5088"/>
                </a:lnTo>
                <a:lnTo>
                  <a:pt x="144324" y="5570"/>
                </a:lnTo>
                <a:lnTo>
                  <a:pt x="152735" y="6737"/>
                </a:lnTo>
                <a:lnTo>
                  <a:pt x="161730" y="8363"/>
                </a:lnTo>
                <a:lnTo>
                  <a:pt x="171113" y="10293"/>
                </a:lnTo>
                <a:lnTo>
                  <a:pt x="178215" y="12427"/>
                </a:lnTo>
                <a:lnTo>
                  <a:pt x="183797" y="14695"/>
                </a:lnTo>
                <a:lnTo>
                  <a:pt x="202883" y="24420"/>
                </a:lnTo>
                <a:lnTo>
                  <a:pt x="206169" y="26925"/>
                </a:lnTo>
                <a:lnTo>
                  <a:pt x="208359" y="29441"/>
                </a:lnTo>
                <a:lnTo>
                  <a:pt x="209819" y="31965"/>
                </a:lnTo>
                <a:lnTo>
                  <a:pt x="209946" y="34495"/>
                </a:lnTo>
                <a:lnTo>
                  <a:pt x="209183" y="37027"/>
                </a:lnTo>
                <a:lnTo>
                  <a:pt x="206079" y="42100"/>
                </a:lnTo>
                <a:lnTo>
                  <a:pt x="201877" y="47176"/>
                </a:lnTo>
                <a:lnTo>
                  <a:pt x="194929" y="54512"/>
                </a:lnTo>
                <a:lnTo>
                  <a:pt x="190706" y="58840"/>
                </a:lnTo>
                <a:lnTo>
                  <a:pt x="185351" y="63417"/>
                </a:lnTo>
                <a:lnTo>
                  <a:pt x="179240" y="68163"/>
                </a:lnTo>
                <a:lnTo>
                  <a:pt x="172626" y="73019"/>
                </a:lnTo>
                <a:lnTo>
                  <a:pt x="164831" y="77951"/>
                </a:lnTo>
                <a:lnTo>
                  <a:pt x="156247" y="82932"/>
                </a:lnTo>
                <a:lnTo>
                  <a:pt x="137678" y="92982"/>
                </a:lnTo>
                <a:lnTo>
                  <a:pt x="118136" y="103093"/>
                </a:lnTo>
                <a:lnTo>
                  <a:pt x="108184" y="109006"/>
                </a:lnTo>
                <a:lnTo>
                  <a:pt x="98163" y="115489"/>
                </a:lnTo>
                <a:lnTo>
                  <a:pt x="37909" y="156081"/>
                </a:lnTo>
                <a:lnTo>
                  <a:pt x="30992" y="161265"/>
                </a:lnTo>
                <a:lnTo>
                  <a:pt x="24688" y="166415"/>
                </a:lnTo>
                <a:lnTo>
                  <a:pt x="18792" y="171541"/>
                </a:lnTo>
                <a:lnTo>
                  <a:pt x="14014" y="176652"/>
                </a:lnTo>
                <a:lnTo>
                  <a:pt x="9983" y="181752"/>
                </a:lnTo>
                <a:lnTo>
                  <a:pt x="6448" y="186846"/>
                </a:lnTo>
                <a:lnTo>
                  <a:pt x="2521" y="194763"/>
                </a:lnTo>
                <a:lnTo>
                  <a:pt x="776" y="201951"/>
                </a:lnTo>
                <a:lnTo>
                  <a:pt x="310" y="206238"/>
                </a:lnTo>
                <a:lnTo>
                  <a:pt x="0" y="210790"/>
                </a:lnTo>
                <a:lnTo>
                  <a:pt x="640" y="215518"/>
                </a:lnTo>
                <a:lnTo>
                  <a:pt x="1913" y="220363"/>
                </a:lnTo>
                <a:lnTo>
                  <a:pt x="3608" y="225287"/>
                </a:lnTo>
                <a:lnTo>
                  <a:pt x="6432" y="229416"/>
                </a:lnTo>
                <a:lnTo>
                  <a:pt x="14085" y="236261"/>
                </a:lnTo>
                <a:lnTo>
                  <a:pt x="18496" y="239272"/>
                </a:lnTo>
                <a:lnTo>
                  <a:pt x="23131" y="242125"/>
                </a:lnTo>
                <a:lnTo>
                  <a:pt x="27914" y="244875"/>
                </a:lnTo>
                <a:lnTo>
                  <a:pt x="33642" y="247555"/>
                </a:lnTo>
                <a:lnTo>
                  <a:pt x="40001" y="250187"/>
                </a:lnTo>
                <a:lnTo>
                  <a:pt x="46781" y="252790"/>
                </a:lnTo>
                <a:lnTo>
                  <a:pt x="54687" y="254524"/>
                </a:lnTo>
                <a:lnTo>
                  <a:pt x="63344" y="255680"/>
                </a:lnTo>
                <a:lnTo>
                  <a:pt x="72503" y="256451"/>
                </a:lnTo>
                <a:lnTo>
                  <a:pt x="81148" y="257812"/>
                </a:lnTo>
                <a:lnTo>
                  <a:pt x="89452" y="259566"/>
                </a:lnTo>
                <a:lnTo>
                  <a:pt x="97528" y="261582"/>
                </a:lnTo>
                <a:lnTo>
                  <a:pt x="107145" y="262926"/>
                </a:lnTo>
                <a:lnTo>
                  <a:pt x="117790" y="263822"/>
                </a:lnTo>
                <a:lnTo>
                  <a:pt x="129119" y="264419"/>
                </a:lnTo>
                <a:lnTo>
                  <a:pt x="140060" y="263970"/>
                </a:lnTo>
                <a:lnTo>
                  <a:pt x="150739" y="262825"/>
                </a:lnTo>
                <a:lnTo>
                  <a:pt x="161246" y="261215"/>
                </a:lnTo>
                <a:lnTo>
                  <a:pt x="171637" y="260141"/>
                </a:lnTo>
                <a:lnTo>
                  <a:pt x="181951" y="259425"/>
                </a:lnTo>
                <a:lnTo>
                  <a:pt x="201595" y="258630"/>
                </a:lnTo>
                <a:lnTo>
                  <a:pt x="218793" y="258276"/>
                </a:lnTo>
                <a:lnTo>
                  <a:pt x="226935" y="257335"/>
                </a:lnTo>
                <a:lnTo>
                  <a:pt x="234903" y="255861"/>
                </a:lnTo>
                <a:lnTo>
                  <a:pt x="242755" y="254032"/>
                </a:lnTo>
                <a:lnTo>
                  <a:pt x="248836" y="251966"/>
                </a:lnTo>
                <a:lnTo>
                  <a:pt x="253737" y="249742"/>
                </a:lnTo>
                <a:lnTo>
                  <a:pt x="266079" y="24275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InkAnnotation54"/>
          <p:cNvSpPr/>
          <p:nvPr/>
        </p:nvSpPr>
        <p:spPr>
          <a:xfrm>
            <a:off x="1943280" y="4435560"/>
            <a:ext cx="266400" cy="6120"/>
          </a:xfrm>
          <a:custGeom>
            <a:avLst/>
            <a:gdLst>
              <a:gd name="textAreaLeft" fmla="*/ 0 w 266400"/>
              <a:gd name="textAreaRight" fmla="*/ 266760 w 2664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66701" h="7621">
                <a:moveTo>
                  <a:pt x="0" y="0"/>
                </a:moveTo>
                <a:lnTo>
                  <a:pt x="84981" y="0"/>
                </a:lnTo>
                <a:lnTo>
                  <a:pt x="97294" y="847"/>
                </a:lnTo>
                <a:lnTo>
                  <a:pt x="110582" y="2258"/>
                </a:lnTo>
                <a:lnTo>
                  <a:pt x="124522" y="4045"/>
                </a:lnTo>
                <a:lnTo>
                  <a:pt x="138048" y="5237"/>
                </a:lnTo>
                <a:lnTo>
                  <a:pt x="151299" y="6032"/>
                </a:lnTo>
                <a:lnTo>
                  <a:pt x="177310" y="6915"/>
                </a:lnTo>
                <a:lnTo>
                  <a:pt x="233145" y="7527"/>
                </a:lnTo>
                <a:lnTo>
                  <a:pt x="2667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InkAnnotation55"/>
          <p:cNvSpPr/>
          <p:nvPr/>
        </p:nvSpPr>
        <p:spPr>
          <a:xfrm>
            <a:off x="2301840" y="441180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1" h="7621">
                <a:moveTo>
                  <a:pt x="0" y="0"/>
                </a:moveTo>
                <a:lnTo>
                  <a:pt x="94933" y="0"/>
                </a:lnTo>
                <a:lnTo>
                  <a:pt x="100542" y="846"/>
                </a:lnTo>
                <a:lnTo>
                  <a:pt x="105975" y="2257"/>
                </a:lnTo>
                <a:lnTo>
                  <a:pt x="1219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InkAnnotation56"/>
          <p:cNvSpPr/>
          <p:nvPr/>
        </p:nvSpPr>
        <p:spPr>
          <a:xfrm>
            <a:off x="2308320" y="4465800"/>
            <a:ext cx="183960" cy="7920"/>
          </a:xfrm>
          <a:custGeom>
            <a:avLst/>
            <a:gdLst>
              <a:gd name="textAreaLeft" fmla="*/ 0 w 183960"/>
              <a:gd name="textAreaRight" fmla="*/ 184320 w 183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7620"/>
                </a:moveTo>
                <a:lnTo>
                  <a:pt x="127381" y="7620"/>
                </a:lnTo>
                <a:lnTo>
                  <a:pt x="135721" y="6774"/>
                </a:lnTo>
                <a:lnTo>
                  <a:pt x="143820" y="5363"/>
                </a:lnTo>
                <a:lnTo>
                  <a:pt x="151760" y="3575"/>
                </a:lnTo>
                <a:lnTo>
                  <a:pt x="158747" y="2383"/>
                </a:lnTo>
                <a:lnTo>
                  <a:pt x="165098" y="1589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InkAnnotation57"/>
          <p:cNvSpPr/>
          <p:nvPr/>
        </p:nvSpPr>
        <p:spPr>
          <a:xfrm>
            <a:off x="2514600" y="4251240"/>
            <a:ext cx="236520" cy="304920"/>
          </a:xfrm>
          <a:custGeom>
            <a:avLst/>
            <a:gdLst>
              <a:gd name="textAreaLeft" fmla="*/ 0 w 236520"/>
              <a:gd name="textAreaRight" fmla="*/ 236880 w 236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35761" h="304800">
                <a:moveTo>
                  <a:pt x="0" y="22859"/>
                </a:moveTo>
                <a:lnTo>
                  <a:pt x="6561" y="16298"/>
                </a:lnTo>
                <a:lnTo>
                  <a:pt x="11665" y="15710"/>
                </a:lnTo>
                <a:lnTo>
                  <a:pt x="15397" y="15553"/>
                </a:lnTo>
                <a:lnTo>
                  <a:pt x="24059" y="15379"/>
                </a:lnTo>
                <a:lnTo>
                  <a:pt x="91593" y="15241"/>
                </a:lnTo>
                <a:lnTo>
                  <a:pt x="100009" y="14394"/>
                </a:lnTo>
                <a:lnTo>
                  <a:pt x="109006" y="12983"/>
                </a:lnTo>
                <a:lnTo>
                  <a:pt x="118391" y="11195"/>
                </a:lnTo>
                <a:lnTo>
                  <a:pt x="127187" y="10002"/>
                </a:lnTo>
                <a:lnTo>
                  <a:pt x="135592" y="9208"/>
                </a:lnTo>
                <a:lnTo>
                  <a:pt x="143734" y="8679"/>
                </a:lnTo>
                <a:lnTo>
                  <a:pt x="157297" y="8090"/>
                </a:lnTo>
                <a:lnTo>
                  <a:pt x="163285" y="7933"/>
                </a:lnTo>
                <a:lnTo>
                  <a:pt x="169817" y="6982"/>
                </a:lnTo>
                <a:lnTo>
                  <a:pt x="176711" y="5500"/>
                </a:lnTo>
                <a:lnTo>
                  <a:pt x="183847" y="3667"/>
                </a:lnTo>
                <a:lnTo>
                  <a:pt x="190298" y="2444"/>
                </a:lnTo>
                <a:lnTo>
                  <a:pt x="196292" y="1629"/>
                </a:lnTo>
                <a:lnTo>
                  <a:pt x="201982" y="1086"/>
                </a:lnTo>
                <a:lnTo>
                  <a:pt x="206621" y="724"/>
                </a:lnTo>
                <a:lnTo>
                  <a:pt x="210561" y="482"/>
                </a:lnTo>
                <a:lnTo>
                  <a:pt x="217196" y="214"/>
                </a:lnTo>
                <a:lnTo>
                  <a:pt x="225691" y="63"/>
                </a:lnTo>
                <a:lnTo>
                  <a:pt x="235760" y="1"/>
                </a:lnTo>
                <a:lnTo>
                  <a:pt x="232038" y="0"/>
                </a:lnTo>
                <a:lnTo>
                  <a:pt x="230892" y="846"/>
                </a:lnTo>
                <a:lnTo>
                  <a:pt x="230128" y="2257"/>
                </a:lnTo>
                <a:lnTo>
                  <a:pt x="228433" y="6929"/>
                </a:lnTo>
                <a:lnTo>
                  <a:pt x="224857" y="14650"/>
                </a:lnTo>
                <a:lnTo>
                  <a:pt x="210714" y="43350"/>
                </a:lnTo>
                <a:lnTo>
                  <a:pt x="207363" y="49220"/>
                </a:lnTo>
                <a:lnTo>
                  <a:pt x="203435" y="55673"/>
                </a:lnTo>
                <a:lnTo>
                  <a:pt x="194556" y="69617"/>
                </a:lnTo>
                <a:lnTo>
                  <a:pt x="170045" y="106816"/>
                </a:lnTo>
                <a:lnTo>
                  <a:pt x="165857" y="114390"/>
                </a:lnTo>
                <a:lnTo>
                  <a:pt x="162218" y="121980"/>
                </a:lnTo>
                <a:lnTo>
                  <a:pt x="158945" y="129579"/>
                </a:lnTo>
                <a:lnTo>
                  <a:pt x="154223" y="138033"/>
                </a:lnTo>
                <a:lnTo>
                  <a:pt x="148535" y="147055"/>
                </a:lnTo>
                <a:lnTo>
                  <a:pt x="142204" y="156456"/>
                </a:lnTo>
                <a:lnTo>
                  <a:pt x="137136" y="165264"/>
                </a:lnTo>
                <a:lnTo>
                  <a:pt x="132910" y="173676"/>
                </a:lnTo>
                <a:lnTo>
                  <a:pt x="129247" y="181823"/>
                </a:lnTo>
                <a:lnTo>
                  <a:pt x="125958" y="189795"/>
                </a:lnTo>
                <a:lnTo>
                  <a:pt x="122919" y="197650"/>
                </a:lnTo>
                <a:lnTo>
                  <a:pt x="117284" y="213151"/>
                </a:lnTo>
                <a:lnTo>
                  <a:pt x="111957" y="228506"/>
                </a:lnTo>
                <a:lnTo>
                  <a:pt x="109351" y="235310"/>
                </a:lnTo>
                <a:lnTo>
                  <a:pt x="106768" y="241540"/>
                </a:lnTo>
                <a:lnTo>
                  <a:pt x="104199" y="247386"/>
                </a:lnTo>
                <a:lnTo>
                  <a:pt x="101344" y="256140"/>
                </a:lnTo>
                <a:lnTo>
                  <a:pt x="100075" y="263699"/>
                </a:lnTo>
                <a:lnTo>
                  <a:pt x="99511" y="272704"/>
                </a:lnTo>
                <a:lnTo>
                  <a:pt x="99260" y="280092"/>
                </a:lnTo>
                <a:lnTo>
                  <a:pt x="99072" y="295566"/>
                </a:lnTo>
                <a:lnTo>
                  <a:pt x="99060" y="30479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InkAnnotation58"/>
          <p:cNvSpPr/>
          <p:nvPr/>
        </p:nvSpPr>
        <p:spPr>
          <a:xfrm>
            <a:off x="2568600" y="4449600"/>
            <a:ext cx="220680" cy="360"/>
          </a:xfrm>
          <a:custGeom>
            <a:avLst/>
            <a:gdLst>
              <a:gd name="textAreaLeft" fmla="*/ 0 w 220680"/>
              <a:gd name="textAreaRight" fmla="*/ 221040 w 220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0981" h="1">
                <a:moveTo>
                  <a:pt x="0" y="0"/>
                </a:move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InkAnnotation59"/>
          <p:cNvSpPr/>
          <p:nvPr/>
        </p:nvSpPr>
        <p:spPr>
          <a:xfrm>
            <a:off x="2835360" y="4245120"/>
            <a:ext cx="150840" cy="147600"/>
          </a:xfrm>
          <a:custGeom>
            <a:avLst/>
            <a:gdLst>
              <a:gd name="textAreaLeft" fmla="*/ 0 w 150840"/>
              <a:gd name="textAreaRight" fmla="*/ 151200 w 150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51141" h="147614">
                <a:moveTo>
                  <a:pt x="98389" y="7159"/>
                </a:moveTo>
                <a:lnTo>
                  <a:pt x="106001" y="7159"/>
                </a:lnTo>
                <a:lnTo>
                  <a:pt x="101962" y="7159"/>
                </a:lnTo>
                <a:lnTo>
                  <a:pt x="99924" y="8006"/>
                </a:lnTo>
                <a:lnTo>
                  <a:pt x="95403" y="11204"/>
                </a:lnTo>
                <a:lnTo>
                  <a:pt x="92165" y="14090"/>
                </a:lnTo>
                <a:lnTo>
                  <a:pt x="84052" y="21811"/>
                </a:lnTo>
                <a:lnTo>
                  <a:pt x="20671" y="84880"/>
                </a:lnTo>
                <a:lnTo>
                  <a:pt x="15251" y="91147"/>
                </a:lnTo>
                <a:lnTo>
                  <a:pt x="10790" y="97017"/>
                </a:lnTo>
                <a:lnTo>
                  <a:pt x="6970" y="102625"/>
                </a:lnTo>
                <a:lnTo>
                  <a:pt x="4423" y="108056"/>
                </a:lnTo>
                <a:lnTo>
                  <a:pt x="2725" y="113371"/>
                </a:lnTo>
                <a:lnTo>
                  <a:pt x="1593" y="118607"/>
                </a:lnTo>
                <a:lnTo>
                  <a:pt x="838" y="122945"/>
                </a:lnTo>
                <a:lnTo>
                  <a:pt x="335" y="126683"/>
                </a:lnTo>
                <a:lnTo>
                  <a:pt x="0" y="130022"/>
                </a:lnTo>
                <a:lnTo>
                  <a:pt x="1470" y="133094"/>
                </a:lnTo>
                <a:lnTo>
                  <a:pt x="4143" y="135989"/>
                </a:lnTo>
                <a:lnTo>
                  <a:pt x="7619" y="138766"/>
                </a:lnTo>
                <a:lnTo>
                  <a:pt x="11629" y="141464"/>
                </a:lnTo>
                <a:lnTo>
                  <a:pt x="15995" y="144109"/>
                </a:lnTo>
                <a:lnTo>
                  <a:pt x="20600" y="146720"/>
                </a:lnTo>
                <a:lnTo>
                  <a:pt x="25363" y="147613"/>
                </a:lnTo>
                <a:lnTo>
                  <a:pt x="30232" y="147362"/>
                </a:lnTo>
                <a:lnTo>
                  <a:pt x="35171" y="146348"/>
                </a:lnTo>
                <a:lnTo>
                  <a:pt x="41004" y="145672"/>
                </a:lnTo>
                <a:lnTo>
                  <a:pt x="47432" y="145221"/>
                </a:lnTo>
                <a:lnTo>
                  <a:pt x="54258" y="144920"/>
                </a:lnTo>
                <a:lnTo>
                  <a:pt x="61348" y="143027"/>
                </a:lnTo>
                <a:lnTo>
                  <a:pt x="68615" y="140071"/>
                </a:lnTo>
                <a:lnTo>
                  <a:pt x="76000" y="136407"/>
                </a:lnTo>
                <a:lnTo>
                  <a:pt x="83463" y="133118"/>
                </a:lnTo>
                <a:lnTo>
                  <a:pt x="90979" y="130079"/>
                </a:lnTo>
                <a:lnTo>
                  <a:pt x="98529" y="127205"/>
                </a:lnTo>
                <a:lnTo>
                  <a:pt x="105255" y="122750"/>
                </a:lnTo>
                <a:lnTo>
                  <a:pt x="111434" y="117240"/>
                </a:lnTo>
                <a:lnTo>
                  <a:pt x="117245" y="111026"/>
                </a:lnTo>
                <a:lnTo>
                  <a:pt x="122813" y="104344"/>
                </a:lnTo>
                <a:lnTo>
                  <a:pt x="128219" y="97349"/>
                </a:lnTo>
                <a:lnTo>
                  <a:pt x="133516" y="90146"/>
                </a:lnTo>
                <a:lnTo>
                  <a:pt x="137893" y="83651"/>
                </a:lnTo>
                <a:lnTo>
                  <a:pt x="141659" y="77627"/>
                </a:lnTo>
                <a:lnTo>
                  <a:pt x="145015" y="71918"/>
                </a:lnTo>
                <a:lnTo>
                  <a:pt x="147254" y="65572"/>
                </a:lnTo>
                <a:lnTo>
                  <a:pt x="148745" y="58801"/>
                </a:lnTo>
                <a:lnTo>
                  <a:pt x="149740" y="51747"/>
                </a:lnTo>
                <a:lnTo>
                  <a:pt x="150403" y="45351"/>
                </a:lnTo>
                <a:lnTo>
                  <a:pt x="150845" y="39394"/>
                </a:lnTo>
                <a:lnTo>
                  <a:pt x="151140" y="33729"/>
                </a:lnTo>
                <a:lnTo>
                  <a:pt x="149643" y="29106"/>
                </a:lnTo>
                <a:lnTo>
                  <a:pt x="146952" y="25177"/>
                </a:lnTo>
                <a:lnTo>
                  <a:pt x="134511" y="12789"/>
                </a:lnTo>
                <a:lnTo>
                  <a:pt x="130937" y="10065"/>
                </a:lnTo>
                <a:lnTo>
                  <a:pt x="126861" y="7403"/>
                </a:lnTo>
                <a:lnTo>
                  <a:pt x="122451" y="4782"/>
                </a:lnTo>
                <a:lnTo>
                  <a:pt x="117816" y="3035"/>
                </a:lnTo>
                <a:lnTo>
                  <a:pt x="113034" y="1869"/>
                </a:lnTo>
                <a:lnTo>
                  <a:pt x="108153" y="1093"/>
                </a:lnTo>
                <a:lnTo>
                  <a:pt x="103205" y="575"/>
                </a:lnTo>
                <a:lnTo>
                  <a:pt x="98213" y="230"/>
                </a:lnTo>
                <a:lnTo>
                  <a:pt x="93192" y="0"/>
                </a:lnTo>
                <a:lnTo>
                  <a:pt x="88151" y="693"/>
                </a:lnTo>
                <a:lnTo>
                  <a:pt x="83097" y="2002"/>
                </a:lnTo>
                <a:lnTo>
                  <a:pt x="78035" y="3721"/>
                </a:lnTo>
                <a:lnTo>
                  <a:pt x="72966" y="5714"/>
                </a:lnTo>
                <a:lnTo>
                  <a:pt x="67894" y="7889"/>
                </a:lnTo>
                <a:lnTo>
                  <a:pt x="62819" y="10186"/>
                </a:lnTo>
                <a:lnTo>
                  <a:pt x="58589" y="12564"/>
                </a:lnTo>
                <a:lnTo>
                  <a:pt x="54922" y="14996"/>
                </a:lnTo>
                <a:lnTo>
                  <a:pt x="45049" y="2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InkAnnotation60"/>
          <p:cNvSpPr/>
          <p:nvPr/>
        </p:nvSpPr>
        <p:spPr>
          <a:xfrm>
            <a:off x="2820960" y="4373640"/>
            <a:ext cx="135000" cy="179280"/>
          </a:xfrm>
          <a:custGeom>
            <a:avLst/>
            <a:gdLst>
              <a:gd name="textAreaLeft" fmla="*/ 0 w 135000"/>
              <a:gd name="textAreaRight" fmla="*/ 135360 w 1350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34319" h="179245">
                <a:moveTo>
                  <a:pt x="89492" y="15239"/>
                </a:moveTo>
                <a:lnTo>
                  <a:pt x="71580" y="33151"/>
                </a:lnTo>
                <a:lnTo>
                  <a:pt x="68237" y="37341"/>
                </a:lnTo>
                <a:lnTo>
                  <a:pt x="64316" y="42674"/>
                </a:lnTo>
                <a:lnTo>
                  <a:pt x="60008" y="48769"/>
                </a:lnTo>
                <a:lnTo>
                  <a:pt x="55443" y="54526"/>
                </a:lnTo>
                <a:lnTo>
                  <a:pt x="50706" y="60057"/>
                </a:lnTo>
                <a:lnTo>
                  <a:pt x="45855" y="65437"/>
                </a:lnTo>
                <a:lnTo>
                  <a:pt x="35949" y="75932"/>
                </a:lnTo>
                <a:lnTo>
                  <a:pt x="30937" y="81101"/>
                </a:lnTo>
                <a:lnTo>
                  <a:pt x="25902" y="87087"/>
                </a:lnTo>
                <a:lnTo>
                  <a:pt x="20852" y="93618"/>
                </a:lnTo>
                <a:lnTo>
                  <a:pt x="15792" y="100512"/>
                </a:lnTo>
                <a:lnTo>
                  <a:pt x="11572" y="106801"/>
                </a:lnTo>
                <a:lnTo>
                  <a:pt x="7912" y="112687"/>
                </a:lnTo>
                <a:lnTo>
                  <a:pt x="4626" y="118305"/>
                </a:lnTo>
                <a:lnTo>
                  <a:pt x="2434" y="124590"/>
                </a:lnTo>
                <a:lnTo>
                  <a:pt x="974" y="131319"/>
                </a:lnTo>
                <a:lnTo>
                  <a:pt x="0" y="138347"/>
                </a:lnTo>
                <a:lnTo>
                  <a:pt x="197" y="144724"/>
                </a:lnTo>
                <a:lnTo>
                  <a:pt x="1175" y="150669"/>
                </a:lnTo>
                <a:lnTo>
                  <a:pt x="2675" y="156326"/>
                </a:lnTo>
                <a:lnTo>
                  <a:pt x="4520" y="160944"/>
                </a:lnTo>
                <a:lnTo>
                  <a:pt x="6598" y="164869"/>
                </a:lnTo>
                <a:lnTo>
                  <a:pt x="8829" y="168332"/>
                </a:lnTo>
                <a:lnTo>
                  <a:pt x="12857" y="170641"/>
                </a:lnTo>
                <a:lnTo>
                  <a:pt x="18082" y="172180"/>
                </a:lnTo>
                <a:lnTo>
                  <a:pt x="24106" y="173207"/>
                </a:lnTo>
                <a:lnTo>
                  <a:pt x="29814" y="174738"/>
                </a:lnTo>
                <a:lnTo>
                  <a:pt x="35314" y="176605"/>
                </a:lnTo>
                <a:lnTo>
                  <a:pt x="40673" y="178696"/>
                </a:lnTo>
                <a:lnTo>
                  <a:pt x="46786" y="179244"/>
                </a:lnTo>
                <a:lnTo>
                  <a:pt x="53402" y="178763"/>
                </a:lnTo>
                <a:lnTo>
                  <a:pt x="60352" y="177595"/>
                </a:lnTo>
                <a:lnTo>
                  <a:pt x="66678" y="175970"/>
                </a:lnTo>
                <a:lnTo>
                  <a:pt x="72590" y="174040"/>
                </a:lnTo>
                <a:lnTo>
                  <a:pt x="78224" y="171906"/>
                </a:lnTo>
                <a:lnTo>
                  <a:pt x="83674" y="168790"/>
                </a:lnTo>
                <a:lnTo>
                  <a:pt x="89000" y="165020"/>
                </a:lnTo>
                <a:lnTo>
                  <a:pt x="94244" y="160813"/>
                </a:lnTo>
                <a:lnTo>
                  <a:pt x="99433" y="155469"/>
                </a:lnTo>
                <a:lnTo>
                  <a:pt x="104586" y="149365"/>
                </a:lnTo>
                <a:lnTo>
                  <a:pt x="109715" y="142757"/>
                </a:lnTo>
                <a:lnTo>
                  <a:pt x="114827" y="135811"/>
                </a:lnTo>
                <a:lnTo>
                  <a:pt x="125023" y="121320"/>
                </a:lnTo>
                <a:lnTo>
                  <a:pt x="128420" y="113900"/>
                </a:lnTo>
                <a:lnTo>
                  <a:pt x="130684" y="106414"/>
                </a:lnTo>
                <a:lnTo>
                  <a:pt x="132193" y="98882"/>
                </a:lnTo>
                <a:lnTo>
                  <a:pt x="133199" y="91321"/>
                </a:lnTo>
                <a:lnTo>
                  <a:pt x="133870" y="83741"/>
                </a:lnTo>
                <a:lnTo>
                  <a:pt x="134318" y="76147"/>
                </a:lnTo>
                <a:lnTo>
                  <a:pt x="133769" y="68544"/>
                </a:lnTo>
                <a:lnTo>
                  <a:pt x="132557" y="60935"/>
                </a:lnTo>
                <a:lnTo>
                  <a:pt x="130902" y="53324"/>
                </a:lnTo>
                <a:lnTo>
                  <a:pt x="128105" y="46556"/>
                </a:lnTo>
                <a:lnTo>
                  <a:pt x="124548" y="40350"/>
                </a:lnTo>
                <a:lnTo>
                  <a:pt x="120483" y="34520"/>
                </a:lnTo>
                <a:lnTo>
                  <a:pt x="116926" y="28940"/>
                </a:lnTo>
                <a:lnTo>
                  <a:pt x="113708" y="23526"/>
                </a:lnTo>
                <a:lnTo>
                  <a:pt x="110716" y="18224"/>
                </a:lnTo>
                <a:lnTo>
                  <a:pt x="106181" y="14689"/>
                </a:lnTo>
                <a:lnTo>
                  <a:pt x="100618" y="12333"/>
                </a:lnTo>
                <a:lnTo>
                  <a:pt x="94370" y="10762"/>
                </a:lnTo>
                <a:lnTo>
                  <a:pt x="87664" y="8868"/>
                </a:lnTo>
                <a:lnTo>
                  <a:pt x="73440" y="4505"/>
                </a:lnTo>
                <a:lnTo>
                  <a:pt x="67784" y="3004"/>
                </a:lnTo>
                <a:lnTo>
                  <a:pt x="63167" y="2002"/>
                </a:lnTo>
                <a:lnTo>
                  <a:pt x="5139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InkAnnotation61"/>
          <p:cNvSpPr/>
          <p:nvPr/>
        </p:nvSpPr>
        <p:spPr>
          <a:xfrm>
            <a:off x="3619440" y="3344760"/>
            <a:ext cx="2003400" cy="47304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003925" h="472436">
                <a:moveTo>
                  <a:pt x="0" y="426718"/>
                </a:moveTo>
                <a:lnTo>
                  <a:pt x="48188" y="427564"/>
                </a:lnTo>
                <a:lnTo>
                  <a:pt x="84145" y="433278"/>
                </a:lnTo>
                <a:lnTo>
                  <a:pt x="127994" y="436456"/>
                </a:lnTo>
                <a:lnTo>
                  <a:pt x="154200" y="440328"/>
                </a:lnTo>
                <a:lnTo>
                  <a:pt x="207487" y="441815"/>
                </a:lnTo>
                <a:lnTo>
                  <a:pt x="236738" y="444173"/>
                </a:lnTo>
                <a:lnTo>
                  <a:pt x="287088" y="448866"/>
                </a:lnTo>
                <a:lnTo>
                  <a:pt x="347986" y="449515"/>
                </a:lnTo>
                <a:lnTo>
                  <a:pt x="402826" y="449570"/>
                </a:lnTo>
                <a:lnTo>
                  <a:pt x="458987" y="455608"/>
                </a:lnTo>
                <a:lnTo>
                  <a:pt x="520935" y="456988"/>
                </a:lnTo>
                <a:lnTo>
                  <a:pt x="656358" y="457195"/>
                </a:lnTo>
                <a:lnTo>
                  <a:pt x="722782" y="463229"/>
                </a:lnTo>
                <a:lnTo>
                  <a:pt x="774479" y="464504"/>
                </a:lnTo>
                <a:lnTo>
                  <a:pt x="1022465" y="464818"/>
                </a:lnTo>
                <a:lnTo>
                  <a:pt x="1091431" y="470849"/>
                </a:lnTo>
                <a:lnTo>
                  <a:pt x="1146925" y="472124"/>
                </a:lnTo>
                <a:lnTo>
                  <a:pt x="1314559" y="472435"/>
                </a:lnTo>
                <a:lnTo>
                  <a:pt x="1381325" y="466406"/>
                </a:lnTo>
                <a:lnTo>
                  <a:pt x="1436550" y="465132"/>
                </a:lnTo>
                <a:lnTo>
                  <a:pt x="1489072" y="464033"/>
                </a:lnTo>
                <a:lnTo>
                  <a:pt x="1542971" y="458799"/>
                </a:lnTo>
                <a:lnTo>
                  <a:pt x="1603231" y="452172"/>
                </a:lnTo>
                <a:lnTo>
                  <a:pt x="1662259" y="445874"/>
                </a:lnTo>
                <a:lnTo>
                  <a:pt x="1720342" y="434185"/>
                </a:lnTo>
                <a:lnTo>
                  <a:pt x="1790621" y="416548"/>
                </a:lnTo>
                <a:lnTo>
                  <a:pt x="1822944" y="404890"/>
                </a:lnTo>
                <a:lnTo>
                  <a:pt x="1858123" y="391017"/>
                </a:lnTo>
                <a:lnTo>
                  <a:pt x="1881798" y="378510"/>
                </a:lnTo>
                <a:lnTo>
                  <a:pt x="1904052" y="368219"/>
                </a:lnTo>
                <a:lnTo>
                  <a:pt x="1922594" y="354822"/>
                </a:lnTo>
                <a:lnTo>
                  <a:pt x="1942951" y="340128"/>
                </a:lnTo>
                <a:lnTo>
                  <a:pt x="1954605" y="330096"/>
                </a:lnTo>
                <a:lnTo>
                  <a:pt x="1965429" y="319992"/>
                </a:lnTo>
                <a:lnTo>
                  <a:pt x="1982130" y="303754"/>
                </a:lnTo>
                <a:lnTo>
                  <a:pt x="1990883" y="291036"/>
                </a:lnTo>
                <a:lnTo>
                  <a:pt x="1998839" y="276543"/>
                </a:lnTo>
                <a:lnTo>
                  <a:pt x="2001740" y="266558"/>
                </a:lnTo>
                <a:lnTo>
                  <a:pt x="2003029" y="256476"/>
                </a:lnTo>
                <a:lnTo>
                  <a:pt x="2003602" y="246350"/>
                </a:lnTo>
                <a:lnTo>
                  <a:pt x="2003857" y="236206"/>
                </a:lnTo>
                <a:lnTo>
                  <a:pt x="2003924" y="231130"/>
                </a:lnTo>
                <a:lnTo>
                  <a:pt x="2001743" y="220974"/>
                </a:lnTo>
                <a:lnTo>
                  <a:pt x="1998797" y="210816"/>
                </a:lnTo>
                <a:lnTo>
                  <a:pt x="1997487" y="200657"/>
                </a:lnTo>
                <a:lnTo>
                  <a:pt x="1995445" y="195577"/>
                </a:lnTo>
                <a:lnTo>
                  <a:pt x="1988660" y="185417"/>
                </a:lnTo>
                <a:lnTo>
                  <a:pt x="1982258" y="175258"/>
                </a:lnTo>
                <a:lnTo>
                  <a:pt x="1975744" y="165098"/>
                </a:lnTo>
                <a:lnTo>
                  <a:pt x="1967204" y="154938"/>
                </a:lnTo>
                <a:lnTo>
                  <a:pt x="1952876" y="143743"/>
                </a:lnTo>
                <a:lnTo>
                  <a:pt x="1933861" y="131019"/>
                </a:lnTo>
                <a:lnTo>
                  <a:pt x="1916185" y="116524"/>
                </a:lnTo>
                <a:lnTo>
                  <a:pt x="1900941" y="108796"/>
                </a:lnTo>
                <a:lnTo>
                  <a:pt x="1875575" y="97428"/>
                </a:lnTo>
                <a:lnTo>
                  <a:pt x="1851973" y="85592"/>
                </a:lnTo>
                <a:lnTo>
                  <a:pt x="1807518" y="71351"/>
                </a:lnTo>
                <a:lnTo>
                  <a:pt x="1752672" y="56745"/>
                </a:lnTo>
                <a:lnTo>
                  <a:pt x="1698354" y="47553"/>
                </a:lnTo>
                <a:lnTo>
                  <a:pt x="1644097" y="39510"/>
                </a:lnTo>
                <a:lnTo>
                  <a:pt x="1584385" y="32253"/>
                </a:lnTo>
                <a:lnTo>
                  <a:pt x="1526621" y="29865"/>
                </a:lnTo>
                <a:lnTo>
                  <a:pt x="1469302" y="23948"/>
                </a:lnTo>
                <a:lnTo>
                  <a:pt x="1411445" y="23001"/>
                </a:lnTo>
                <a:lnTo>
                  <a:pt x="1171262" y="22858"/>
                </a:lnTo>
                <a:lnTo>
                  <a:pt x="1110009" y="16297"/>
                </a:lnTo>
                <a:lnTo>
                  <a:pt x="1049022" y="15331"/>
                </a:lnTo>
                <a:lnTo>
                  <a:pt x="1009228" y="14409"/>
                </a:lnTo>
                <a:lnTo>
                  <a:pt x="954334" y="8325"/>
                </a:lnTo>
                <a:lnTo>
                  <a:pt x="894865" y="7680"/>
                </a:lnTo>
                <a:lnTo>
                  <a:pt x="868818" y="6789"/>
                </a:lnTo>
                <a:lnTo>
                  <a:pt x="810049" y="706"/>
                </a:lnTo>
                <a:lnTo>
                  <a:pt x="749281" y="60"/>
                </a:lnTo>
                <a:lnTo>
                  <a:pt x="674580" y="0"/>
                </a:lnTo>
                <a:lnTo>
                  <a:pt x="612218" y="6911"/>
                </a:lnTo>
                <a:lnTo>
                  <a:pt x="587516" y="8255"/>
                </a:lnTo>
                <a:lnTo>
                  <a:pt x="525811" y="21476"/>
                </a:lnTo>
                <a:lnTo>
                  <a:pt x="472442" y="35774"/>
                </a:lnTo>
                <a:lnTo>
                  <a:pt x="438385" y="48286"/>
                </a:lnTo>
                <a:lnTo>
                  <a:pt x="422086" y="55886"/>
                </a:lnTo>
                <a:lnTo>
                  <a:pt x="406532" y="67545"/>
                </a:lnTo>
                <a:lnTo>
                  <a:pt x="386953" y="80572"/>
                </a:lnTo>
                <a:lnTo>
                  <a:pt x="367244" y="93884"/>
                </a:lnTo>
                <a:lnTo>
                  <a:pt x="359928" y="101274"/>
                </a:lnTo>
                <a:lnTo>
                  <a:pt x="356792" y="105616"/>
                </a:lnTo>
                <a:lnTo>
                  <a:pt x="348792" y="112697"/>
                </a:lnTo>
                <a:lnTo>
                  <a:pt x="344288" y="115770"/>
                </a:lnTo>
                <a:lnTo>
                  <a:pt x="337026" y="123701"/>
                </a:lnTo>
                <a:lnTo>
                  <a:pt x="331822" y="132024"/>
                </a:lnTo>
                <a:lnTo>
                  <a:pt x="326225" y="146523"/>
                </a:lnTo>
                <a:lnTo>
                  <a:pt x="319615" y="160535"/>
                </a:lnTo>
                <a:lnTo>
                  <a:pt x="315618" y="170408"/>
                </a:lnTo>
                <a:lnTo>
                  <a:pt x="313368" y="184639"/>
                </a:lnTo>
                <a:lnTo>
                  <a:pt x="312608" y="197462"/>
                </a:lnTo>
                <a:lnTo>
                  <a:pt x="312457" y="212193"/>
                </a:lnTo>
                <a:lnTo>
                  <a:pt x="314694" y="221589"/>
                </a:lnTo>
                <a:lnTo>
                  <a:pt x="318457" y="234141"/>
                </a:lnTo>
                <a:lnTo>
                  <a:pt x="320182" y="241222"/>
                </a:lnTo>
                <a:lnTo>
                  <a:pt x="325915" y="253881"/>
                </a:lnTo>
                <a:lnTo>
                  <a:pt x="335437" y="268431"/>
                </a:lnTo>
                <a:lnTo>
                  <a:pt x="342947" y="280194"/>
                </a:lnTo>
                <a:lnTo>
                  <a:pt x="352792" y="291298"/>
                </a:lnTo>
                <a:lnTo>
                  <a:pt x="370136" y="309103"/>
                </a:lnTo>
                <a:lnTo>
                  <a:pt x="398772" y="337809"/>
                </a:lnTo>
                <a:lnTo>
                  <a:pt x="417510" y="350517"/>
                </a:lnTo>
                <a:lnTo>
                  <a:pt x="420580" y="353057"/>
                </a:lnTo>
                <a:lnTo>
                  <a:pt x="426249" y="355880"/>
                </a:lnTo>
                <a:lnTo>
                  <a:pt x="428946" y="356633"/>
                </a:lnTo>
                <a:lnTo>
                  <a:pt x="434201" y="359726"/>
                </a:lnTo>
                <a:lnTo>
                  <a:pt x="447741" y="370759"/>
                </a:lnTo>
                <a:lnTo>
                  <a:pt x="452432" y="372214"/>
                </a:lnTo>
                <a:lnTo>
                  <a:pt x="467388" y="373276"/>
                </a:lnTo>
                <a:lnTo>
                  <a:pt x="469918" y="374156"/>
                </a:lnTo>
                <a:lnTo>
                  <a:pt x="478558" y="379930"/>
                </a:lnTo>
                <a:lnTo>
                  <a:pt x="481650" y="380523"/>
                </a:lnTo>
                <a:lnTo>
                  <a:pt x="487680" y="3809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InkAnnotation62"/>
          <p:cNvSpPr/>
          <p:nvPr/>
        </p:nvSpPr>
        <p:spPr>
          <a:xfrm>
            <a:off x="2149560" y="3711600"/>
            <a:ext cx="2025720" cy="53352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26890" h="533401">
                <a:moveTo>
                  <a:pt x="1920241" y="0"/>
                </a:moveTo>
                <a:lnTo>
                  <a:pt x="1924286" y="4045"/>
                </a:lnTo>
                <a:lnTo>
                  <a:pt x="1926324" y="5237"/>
                </a:lnTo>
                <a:lnTo>
                  <a:pt x="1934108" y="7307"/>
                </a:lnTo>
                <a:lnTo>
                  <a:pt x="1939119" y="11573"/>
                </a:lnTo>
                <a:lnTo>
                  <a:pt x="1948397" y="24990"/>
                </a:lnTo>
                <a:lnTo>
                  <a:pt x="1950865" y="26820"/>
                </a:lnTo>
                <a:lnTo>
                  <a:pt x="1953357" y="28040"/>
                </a:lnTo>
                <a:lnTo>
                  <a:pt x="1958383" y="33911"/>
                </a:lnTo>
                <a:lnTo>
                  <a:pt x="1960909" y="37848"/>
                </a:lnTo>
                <a:lnTo>
                  <a:pt x="1963439" y="40472"/>
                </a:lnTo>
                <a:lnTo>
                  <a:pt x="1965974" y="42221"/>
                </a:lnTo>
                <a:lnTo>
                  <a:pt x="1983899" y="51343"/>
                </a:lnTo>
                <a:lnTo>
                  <a:pt x="2001311" y="66088"/>
                </a:lnTo>
                <a:lnTo>
                  <a:pt x="2006508" y="71141"/>
                </a:lnTo>
                <a:lnTo>
                  <a:pt x="2009079" y="72828"/>
                </a:lnTo>
                <a:lnTo>
                  <a:pt x="2017787" y="75756"/>
                </a:lnTo>
                <a:lnTo>
                  <a:pt x="2026889" y="83792"/>
                </a:lnTo>
                <a:lnTo>
                  <a:pt x="1953148" y="83820"/>
                </a:lnTo>
                <a:lnTo>
                  <a:pt x="1943050" y="81563"/>
                </a:lnTo>
                <a:lnTo>
                  <a:pt x="1932071" y="78584"/>
                </a:lnTo>
                <a:lnTo>
                  <a:pt x="1895545" y="75563"/>
                </a:lnTo>
                <a:lnTo>
                  <a:pt x="1878962" y="71026"/>
                </a:lnTo>
                <a:lnTo>
                  <a:pt x="1859185" y="68458"/>
                </a:lnTo>
                <a:lnTo>
                  <a:pt x="1836904" y="62692"/>
                </a:lnTo>
                <a:lnTo>
                  <a:pt x="1799952" y="58854"/>
                </a:lnTo>
                <a:lnTo>
                  <a:pt x="1788886" y="55791"/>
                </a:lnTo>
                <a:lnTo>
                  <a:pt x="1730224" y="46234"/>
                </a:lnTo>
                <a:lnTo>
                  <a:pt x="1704404" y="44941"/>
                </a:lnTo>
                <a:lnTo>
                  <a:pt x="1688273" y="40504"/>
                </a:lnTo>
                <a:lnTo>
                  <a:pt x="1624789" y="32111"/>
                </a:lnTo>
                <a:lnTo>
                  <a:pt x="1562114" y="30493"/>
                </a:lnTo>
                <a:lnTo>
                  <a:pt x="1551100" y="31333"/>
                </a:lnTo>
                <a:lnTo>
                  <a:pt x="1519980" y="37042"/>
                </a:lnTo>
                <a:lnTo>
                  <a:pt x="1498810" y="38738"/>
                </a:lnTo>
                <a:lnTo>
                  <a:pt x="1478322" y="44090"/>
                </a:lnTo>
                <a:lnTo>
                  <a:pt x="1417321" y="45708"/>
                </a:lnTo>
                <a:lnTo>
                  <a:pt x="1406314" y="46561"/>
                </a:lnTo>
                <a:lnTo>
                  <a:pt x="1375200" y="52280"/>
                </a:lnTo>
                <a:lnTo>
                  <a:pt x="1315598" y="53322"/>
                </a:lnTo>
                <a:lnTo>
                  <a:pt x="1295458" y="54182"/>
                </a:lnTo>
                <a:lnTo>
                  <a:pt x="1270796" y="59370"/>
                </a:lnTo>
                <a:lnTo>
                  <a:pt x="1209946" y="60919"/>
                </a:lnTo>
                <a:lnTo>
                  <a:pt x="1174112" y="61801"/>
                </a:lnTo>
                <a:lnTo>
                  <a:pt x="1148989" y="66990"/>
                </a:lnTo>
                <a:lnTo>
                  <a:pt x="1093140" y="68487"/>
                </a:lnTo>
                <a:lnTo>
                  <a:pt x="1078225" y="70797"/>
                </a:lnTo>
                <a:lnTo>
                  <a:pt x="1064258" y="73799"/>
                </a:lnTo>
                <a:lnTo>
                  <a:pt x="1006212" y="76060"/>
                </a:lnTo>
                <a:lnTo>
                  <a:pt x="967789" y="77028"/>
                </a:lnTo>
                <a:lnTo>
                  <a:pt x="922024" y="83112"/>
                </a:lnTo>
                <a:lnTo>
                  <a:pt x="899162" y="84457"/>
                </a:lnTo>
                <a:lnTo>
                  <a:pt x="835817" y="98986"/>
                </a:lnTo>
                <a:lnTo>
                  <a:pt x="803832" y="105500"/>
                </a:lnTo>
                <a:lnTo>
                  <a:pt x="777319" y="107294"/>
                </a:lnTo>
                <a:lnTo>
                  <a:pt x="752640" y="112665"/>
                </a:lnTo>
                <a:lnTo>
                  <a:pt x="739213" y="114420"/>
                </a:lnTo>
                <a:lnTo>
                  <a:pt x="716797" y="122446"/>
                </a:lnTo>
                <a:lnTo>
                  <a:pt x="711545" y="124810"/>
                </a:lnTo>
                <a:lnTo>
                  <a:pt x="698936" y="127438"/>
                </a:lnTo>
                <a:lnTo>
                  <a:pt x="685712" y="129453"/>
                </a:lnTo>
                <a:lnTo>
                  <a:pt x="647844" y="142666"/>
                </a:lnTo>
                <a:lnTo>
                  <a:pt x="637604" y="144687"/>
                </a:lnTo>
                <a:lnTo>
                  <a:pt x="601829" y="156848"/>
                </a:lnTo>
                <a:lnTo>
                  <a:pt x="579592" y="161651"/>
                </a:lnTo>
                <a:lnTo>
                  <a:pt x="537027" y="177895"/>
                </a:lnTo>
                <a:lnTo>
                  <a:pt x="505556" y="193049"/>
                </a:lnTo>
                <a:lnTo>
                  <a:pt x="474989" y="208281"/>
                </a:lnTo>
                <a:lnTo>
                  <a:pt x="464824" y="211103"/>
                </a:lnTo>
                <a:lnTo>
                  <a:pt x="459743" y="211855"/>
                </a:lnTo>
                <a:lnTo>
                  <a:pt x="454662" y="214050"/>
                </a:lnTo>
                <a:lnTo>
                  <a:pt x="439421" y="223536"/>
                </a:lnTo>
                <a:lnTo>
                  <a:pt x="403704" y="235086"/>
                </a:lnTo>
                <a:lnTo>
                  <a:pt x="386787" y="245856"/>
                </a:lnTo>
                <a:lnTo>
                  <a:pt x="341423" y="261847"/>
                </a:lnTo>
                <a:lnTo>
                  <a:pt x="335989" y="265158"/>
                </a:lnTo>
                <a:lnTo>
                  <a:pt x="322602" y="277062"/>
                </a:lnTo>
                <a:lnTo>
                  <a:pt x="292939" y="291792"/>
                </a:lnTo>
                <a:lnTo>
                  <a:pt x="215902" y="330200"/>
                </a:lnTo>
                <a:lnTo>
                  <a:pt x="211668" y="333586"/>
                </a:lnTo>
                <a:lnTo>
                  <a:pt x="200818" y="345597"/>
                </a:lnTo>
                <a:lnTo>
                  <a:pt x="182410" y="357669"/>
                </a:lnTo>
                <a:lnTo>
                  <a:pt x="169759" y="365620"/>
                </a:lnTo>
                <a:lnTo>
                  <a:pt x="158390" y="373338"/>
                </a:lnTo>
                <a:lnTo>
                  <a:pt x="146555" y="380988"/>
                </a:lnTo>
                <a:lnTo>
                  <a:pt x="130925" y="395202"/>
                </a:lnTo>
                <a:lnTo>
                  <a:pt x="106834" y="418960"/>
                </a:lnTo>
                <a:lnTo>
                  <a:pt x="58513" y="467266"/>
                </a:lnTo>
                <a:lnTo>
                  <a:pt x="56789" y="469838"/>
                </a:lnTo>
                <a:lnTo>
                  <a:pt x="53515" y="477501"/>
                </a:lnTo>
                <a:lnTo>
                  <a:pt x="49749" y="482592"/>
                </a:lnTo>
                <a:lnTo>
                  <a:pt x="47560" y="484287"/>
                </a:lnTo>
                <a:lnTo>
                  <a:pt x="45253" y="485419"/>
                </a:lnTo>
                <a:lnTo>
                  <a:pt x="42869" y="486172"/>
                </a:lnTo>
                <a:lnTo>
                  <a:pt x="37962" y="489267"/>
                </a:lnTo>
                <a:lnTo>
                  <a:pt x="35468" y="491278"/>
                </a:lnTo>
                <a:lnTo>
                  <a:pt x="33806" y="493466"/>
                </a:lnTo>
                <a:lnTo>
                  <a:pt x="32697" y="495771"/>
                </a:lnTo>
                <a:lnTo>
                  <a:pt x="31958" y="498154"/>
                </a:lnTo>
                <a:lnTo>
                  <a:pt x="30619" y="499742"/>
                </a:lnTo>
                <a:lnTo>
                  <a:pt x="28880" y="500802"/>
                </a:lnTo>
                <a:lnTo>
                  <a:pt x="26873" y="501508"/>
                </a:lnTo>
                <a:lnTo>
                  <a:pt x="25536" y="502825"/>
                </a:lnTo>
                <a:lnTo>
                  <a:pt x="24644" y="504550"/>
                </a:lnTo>
                <a:lnTo>
                  <a:pt x="24049" y="506547"/>
                </a:lnTo>
                <a:lnTo>
                  <a:pt x="21131" y="511023"/>
                </a:lnTo>
                <a:lnTo>
                  <a:pt x="5879" y="527512"/>
                </a:lnTo>
                <a:lnTo>
                  <a:pt x="0" y="533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InkAnnotation63"/>
          <p:cNvSpPr/>
          <p:nvPr/>
        </p:nvSpPr>
        <p:spPr>
          <a:xfrm>
            <a:off x="655560" y="4861080"/>
            <a:ext cx="297000" cy="206280"/>
          </a:xfrm>
          <a:custGeom>
            <a:avLst/>
            <a:gdLst>
              <a:gd name="textAreaLeft" fmla="*/ 0 w 297000"/>
              <a:gd name="textAreaRight" fmla="*/ 297360 w 2970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97181" h="205386">
                <a:moveTo>
                  <a:pt x="0" y="68579"/>
                </a:moveTo>
                <a:lnTo>
                  <a:pt x="0" y="61052"/>
                </a:lnTo>
                <a:lnTo>
                  <a:pt x="4045" y="56942"/>
                </a:lnTo>
                <a:lnTo>
                  <a:pt x="6084" y="55741"/>
                </a:lnTo>
                <a:lnTo>
                  <a:pt x="12998" y="53205"/>
                </a:lnTo>
                <a:lnTo>
                  <a:pt x="21255" y="47467"/>
                </a:lnTo>
                <a:lnTo>
                  <a:pt x="29485" y="42827"/>
                </a:lnTo>
                <a:lnTo>
                  <a:pt x="34896" y="40404"/>
                </a:lnTo>
                <a:lnTo>
                  <a:pt x="41044" y="37943"/>
                </a:lnTo>
                <a:lnTo>
                  <a:pt x="47683" y="35455"/>
                </a:lnTo>
                <a:lnTo>
                  <a:pt x="53802" y="32950"/>
                </a:lnTo>
                <a:lnTo>
                  <a:pt x="59575" y="30433"/>
                </a:lnTo>
                <a:lnTo>
                  <a:pt x="65116" y="27909"/>
                </a:lnTo>
                <a:lnTo>
                  <a:pt x="71351" y="25379"/>
                </a:lnTo>
                <a:lnTo>
                  <a:pt x="78047" y="22846"/>
                </a:lnTo>
                <a:lnTo>
                  <a:pt x="92261" y="17773"/>
                </a:lnTo>
                <a:lnTo>
                  <a:pt x="129648" y="5079"/>
                </a:lnTo>
                <a:lnTo>
                  <a:pt x="137232" y="3386"/>
                </a:lnTo>
                <a:lnTo>
                  <a:pt x="144828" y="2257"/>
                </a:lnTo>
                <a:lnTo>
                  <a:pt x="158348" y="1002"/>
                </a:lnTo>
                <a:lnTo>
                  <a:pt x="167179" y="446"/>
                </a:lnTo>
                <a:lnTo>
                  <a:pt x="176184" y="198"/>
                </a:lnTo>
                <a:lnTo>
                  <a:pt x="197953" y="0"/>
                </a:lnTo>
                <a:lnTo>
                  <a:pt x="194026" y="0"/>
                </a:lnTo>
                <a:lnTo>
                  <a:pt x="192004" y="846"/>
                </a:lnTo>
                <a:lnTo>
                  <a:pt x="187499" y="4045"/>
                </a:lnTo>
                <a:lnTo>
                  <a:pt x="184266" y="6930"/>
                </a:lnTo>
                <a:lnTo>
                  <a:pt x="176158" y="14651"/>
                </a:lnTo>
                <a:lnTo>
                  <a:pt x="171626" y="18234"/>
                </a:lnTo>
                <a:lnTo>
                  <a:pt x="166910" y="21469"/>
                </a:lnTo>
                <a:lnTo>
                  <a:pt x="162074" y="24472"/>
                </a:lnTo>
                <a:lnTo>
                  <a:pt x="136060" y="41460"/>
                </a:lnTo>
                <a:lnTo>
                  <a:pt x="121431" y="51164"/>
                </a:lnTo>
                <a:lnTo>
                  <a:pt x="113974" y="56969"/>
                </a:lnTo>
                <a:lnTo>
                  <a:pt x="106463" y="63379"/>
                </a:lnTo>
                <a:lnTo>
                  <a:pt x="98915" y="70192"/>
                </a:lnTo>
                <a:lnTo>
                  <a:pt x="91344" y="76428"/>
                </a:lnTo>
                <a:lnTo>
                  <a:pt x="83756" y="82279"/>
                </a:lnTo>
                <a:lnTo>
                  <a:pt x="76157" y="87872"/>
                </a:lnTo>
                <a:lnTo>
                  <a:pt x="69398" y="93295"/>
                </a:lnTo>
                <a:lnTo>
                  <a:pt x="63199" y="98603"/>
                </a:lnTo>
                <a:lnTo>
                  <a:pt x="57373" y="103835"/>
                </a:lnTo>
                <a:lnTo>
                  <a:pt x="52642" y="109863"/>
                </a:lnTo>
                <a:lnTo>
                  <a:pt x="48641" y="116422"/>
                </a:lnTo>
                <a:lnTo>
                  <a:pt x="36137" y="141153"/>
                </a:lnTo>
                <a:lnTo>
                  <a:pt x="34251" y="145748"/>
                </a:lnTo>
                <a:lnTo>
                  <a:pt x="32994" y="149659"/>
                </a:lnTo>
                <a:lnTo>
                  <a:pt x="32156" y="153112"/>
                </a:lnTo>
                <a:lnTo>
                  <a:pt x="31598" y="157108"/>
                </a:lnTo>
                <a:lnTo>
                  <a:pt x="31225" y="161465"/>
                </a:lnTo>
                <a:lnTo>
                  <a:pt x="30811" y="169975"/>
                </a:lnTo>
                <a:lnTo>
                  <a:pt x="30627" y="176580"/>
                </a:lnTo>
                <a:lnTo>
                  <a:pt x="30524" y="185058"/>
                </a:lnTo>
                <a:lnTo>
                  <a:pt x="32203" y="187719"/>
                </a:lnTo>
                <a:lnTo>
                  <a:pt x="38583" y="192932"/>
                </a:lnTo>
                <a:lnTo>
                  <a:pt x="44806" y="195814"/>
                </a:lnTo>
                <a:lnTo>
                  <a:pt x="51241" y="197942"/>
                </a:lnTo>
                <a:lnTo>
                  <a:pt x="59745" y="201709"/>
                </a:lnTo>
                <a:lnTo>
                  <a:pt x="65230" y="203053"/>
                </a:lnTo>
                <a:lnTo>
                  <a:pt x="71427" y="203948"/>
                </a:lnTo>
                <a:lnTo>
                  <a:pt x="78098" y="204545"/>
                </a:lnTo>
                <a:lnTo>
                  <a:pt x="85085" y="204943"/>
                </a:lnTo>
                <a:lnTo>
                  <a:pt x="99622" y="205385"/>
                </a:lnTo>
                <a:lnTo>
                  <a:pt x="107902" y="204656"/>
                </a:lnTo>
                <a:lnTo>
                  <a:pt x="116808" y="203324"/>
                </a:lnTo>
                <a:lnTo>
                  <a:pt x="126132" y="201589"/>
                </a:lnTo>
                <a:lnTo>
                  <a:pt x="135735" y="200433"/>
                </a:lnTo>
                <a:lnTo>
                  <a:pt x="145523" y="199661"/>
                </a:lnTo>
                <a:lnTo>
                  <a:pt x="155435" y="199147"/>
                </a:lnTo>
                <a:lnTo>
                  <a:pt x="165430" y="197958"/>
                </a:lnTo>
                <a:lnTo>
                  <a:pt x="175480" y="196318"/>
                </a:lnTo>
                <a:lnTo>
                  <a:pt x="185567" y="194379"/>
                </a:lnTo>
                <a:lnTo>
                  <a:pt x="194831" y="192238"/>
                </a:lnTo>
                <a:lnTo>
                  <a:pt x="203548" y="189965"/>
                </a:lnTo>
                <a:lnTo>
                  <a:pt x="211898" y="187604"/>
                </a:lnTo>
                <a:lnTo>
                  <a:pt x="220852" y="186029"/>
                </a:lnTo>
                <a:lnTo>
                  <a:pt x="230208" y="184979"/>
                </a:lnTo>
                <a:lnTo>
                  <a:pt x="239832" y="184279"/>
                </a:lnTo>
                <a:lnTo>
                  <a:pt x="248788" y="182966"/>
                </a:lnTo>
                <a:lnTo>
                  <a:pt x="257299" y="181244"/>
                </a:lnTo>
                <a:lnTo>
                  <a:pt x="265513" y="179249"/>
                </a:lnTo>
                <a:lnTo>
                  <a:pt x="272682" y="177072"/>
                </a:lnTo>
                <a:lnTo>
                  <a:pt x="279155" y="174774"/>
                </a:lnTo>
                <a:lnTo>
                  <a:pt x="29718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InkAnnotation64"/>
          <p:cNvSpPr/>
          <p:nvPr/>
        </p:nvSpPr>
        <p:spPr>
          <a:xfrm>
            <a:off x="906480" y="4923000"/>
            <a:ext cx="198360" cy="166680"/>
          </a:xfrm>
          <a:custGeom>
            <a:avLst/>
            <a:gdLst>
              <a:gd name="textAreaLeft" fmla="*/ 0 w 198360"/>
              <a:gd name="textAreaRight" fmla="*/ 198720 w 198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98121" h="167640">
                <a:moveTo>
                  <a:pt x="198120" y="0"/>
                </a:moveTo>
                <a:lnTo>
                  <a:pt x="198120" y="17912"/>
                </a:lnTo>
                <a:lnTo>
                  <a:pt x="197274" y="21255"/>
                </a:lnTo>
                <a:lnTo>
                  <a:pt x="195862" y="25176"/>
                </a:lnTo>
                <a:lnTo>
                  <a:pt x="194075" y="29484"/>
                </a:lnTo>
                <a:lnTo>
                  <a:pt x="191190" y="34050"/>
                </a:lnTo>
                <a:lnTo>
                  <a:pt x="187574" y="38786"/>
                </a:lnTo>
                <a:lnTo>
                  <a:pt x="183469" y="43637"/>
                </a:lnTo>
                <a:lnTo>
                  <a:pt x="179039" y="48565"/>
                </a:lnTo>
                <a:lnTo>
                  <a:pt x="169602" y="58555"/>
                </a:lnTo>
                <a:lnTo>
                  <a:pt x="150724" y="77745"/>
                </a:lnTo>
                <a:lnTo>
                  <a:pt x="142816" y="84003"/>
                </a:lnTo>
                <a:lnTo>
                  <a:pt x="134158" y="89869"/>
                </a:lnTo>
                <a:lnTo>
                  <a:pt x="116352" y="100901"/>
                </a:lnTo>
                <a:lnTo>
                  <a:pt x="84226" y="121781"/>
                </a:lnTo>
                <a:lnTo>
                  <a:pt x="76470" y="126908"/>
                </a:lnTo>
                <a:lnTo>
                  <a:pt x="69607" y="132018"/>
                </a:lnTo>
                <a:lnTo>
                  <a:pt x="63338" y="137119"/>
                </a:lnTo>
                <a:lnTo>
                  <a:pt x="57466" y="142212"/>
                </a:lnTo>
                <a:lnTo>
                  <a:pt x="51010" y="146455"/>
                </a:lnTo>
                <a:lnTo>
                  <a:pt x="44167" y="150130"/>
                </a:lnTo>
                <a:lnTo>
                  <a:pt x="37065" y="153426"/>
                </a:lnTo>
                <a:lnTo>
                  <a:pt x="30637" y="155624"/>
                </a:lnTo>
                <a:lnTo>
                  <a:pt x="24658" y="157089"/>
                </a:lnTo>
                <a:lnTo>
                  <a:pt x="18979" y="158066"/>
                </a:lnTo>
                <a:lnTo>
                  <a:pt x="15192" y="159564"/>
                </a:lnTo>
                <a:lnTo>
                  <a:pt x="12669" y="161409"/>
                </a:lnTo>
                <a:lnTo>
                  <a:pt x="10986" y="163486"/>
                </a:lnTo>
                <a:lnTo>
                  <a:pt x="9017" y="164870"/>
                </a:lnTo>
                <a:lnTo>
                  <a:pt x="6858" y="165793"/>
                </a:lnTo>
                <a:lnTo>
                  <a:pt x="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InkAnnotation65"/>
          <p:cNvSpPr/>
          <p:nvPr/>
        </p:nvSpPr>
        <p:spPr>
          <a:xfrm>
            <a:off x="944640" y="4930920"/>
            <a:ext cx="190440" cy="166680"/>
          </a:xfrm>
          <a:custGeom>
            <a:avLst/>
            <a:gdLst>
              <a:gd name="textAreaLeft" fmla="*/ 0 w 190440"/>
              <a:gd name="textAreaRight" fmla="*/ 190800 w 190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90501" h="167642">
                <a:moveTo>
                  <a:pt x="0" y="0"/>
                </a:moveTo>
                <a:lnTo>
                  <a:pt x="62582" y="62582"/>
                </a:lnTo>
                <a:lnTo>
                  <a:pt x="70508" y="69661"/>
                </a:lnTo>
                <a:lnTo>
                  <a:pt x="79179" y="76921"/>
                </a:lnTo>
                <a:lnTo>
                  <a:pt x="97844" y="91761"/>
                </a:lnTo>
                <a:lnTo>
                  <a:pt x="117428" y="106823"/>
                </a:lnTo>
                <a:lnTo>
                  <a:pt x="126546" y="114395"/>
                </a:lnTo>
                <a:lnTo>
                  <a:pt x="135164" y="121984"/>
                </a:lnTo>
                <a:lnTo>
                  <a:pt x="150667" y="136342"/>
                </a:lnTo>
                <a:lnTo>
                  <a:pt x="163201" y="148367"/>
                </a:lnTo>
                <a:lnTo>
                  <a:pt x="168914" y="153098"/>
                </a:lnTo>
                <a:lnTo>
                  <a:pt x="174416" y="157099"/>
                </a:lnTo>
                <a:lnTo>
                  <a:pt x="190500" y="1676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InkAnnotation66"/>
          <p:cNvSpPr/>
          <p:nvPr/>
        </p:nvSpPr>
        <p:spPr>
          <a:xfrm>
            <a:off x="1295280" y="487692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78" h="220981">
                <a:moveTo>
                  <a:pt x="30477" y="0"/>
                </a:moveTo>
                <a:lnTo>
                  <a:pt x="30477" y="4045"/>
                </a:lnTo>
                <a:lnTo>
                  <a:pt x="29630" y="6083"/>
                </a:lnTo>
                <a:lnTo>
                  <a:pt x="28219" y="8289"/>
                </a:lnTo>
                <a:lnTo>
                  <a:pt x="23916" y="13867"/>
                </a:lnTo>
                <a:lnTo>
                  <a:pt x="22717" y="16018"/>
                </a:lnTo>
                <a:lnTo>
                  <a:pt x="19126" y="22924"/>
                </a:lnTo>
                <a:lnTo>
                  <a:pt x="17830" y="26289"/>
                </a:lnTo>
                <a:lnTo>
                  <a:pt x="16965" y="29380"/>
                </a:lnTo>
                <a:lnTo>
                  <a:pt x="16389" y="32286"/>
                </a:lnTo>
                <a:lnTo>
                  <a:pt x="15159" y="35917"/>
                </a:lnTo>
                <a:lnTo>
                  <a:pt x="13491" y="40032"/>
                </a:lnTo>
                <a:lnTo>
                  <a:pt x="11533" y="44468"/>
                </a:lnTo>
                <a:lnTo>
                  <a:pt x="7100" y="53913"/>
                </a:lnTo>
                <a:lnTo>
                  <a:pt x="4732" y="58801"/>
                </a:lnTo>
                <a:lnTo>
                  <a:pt x="3154" y="64601"/>
                </a:lnTo>
                <a:lnTo>
                  <a:pt x="2102" y="71007"/>
                </a:lnTo>
                <a:lnTo>
                  <a:pt x="1400" y="77819"/>
                </a:lnTo>
                <a:lnTo>
                  <a:pt x="933" y="84052"/>
                </a:lnTo>
                <a:lnTo>
                  <a:pt x="621" y="89901"/>
                </a:lnTo>
                <a:lnTo>
                  <a:pt x="413" y="95494"/>
                </a:lnTo>
                <a:lnTo>
                  <a:pt x="120" y="115501"/>
                </a:lnTo>
                <a:lnTo>
                  <a:pt x="0" y="176350"/>
                </a:lnTo>
                <a:lnTo>
                  <a:pt x="846" y="182760"/>
                </a:lnTo>
                <a:lnTo>
                  <a:pt x="2256" y="188727"/>
                </a:lnTo>
                <a:lnTo>
                  <a:pt x="4043" y="194397"/>
                </a:lnTo>
                <a:lnTo>
                  <a:pt x="6081" y="199025"/>
                </a:lnTo>
                <a:lnTo>
                  <a:pt x="8286" y="202957"/>
                </a:lnTo>
                <a:lnTo>
                  <a:pt x="10603" y="206425"/>
                </a:lnTo>
                <a:lnTo>
                  <a:pt x="12148" y="209583"/>
                </a:lnTo>
                <a:lnTo>
                  <a:pt x="13178" y="212535"/>
                </a:lnTo>
                <a:lnTo>
                  <a:pt x="13864" y="215350"/>
                </a:lnTo>
                <a:lnTo>
                  <a:pt x="15169" y="217226"/>
                </a:lnTo>
                <a:lnTo>
                  <a:pt x="16885" y="218477"/>
                </a:lnTo>
                <a:lnTo>
                  <a:pt x="22857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InkAnnotation67"/>
          <p:cNvSpPr/>
          <p:nvPr/>
        </p:nvSpPr>
        <p:spPr>
          <a:xfrm>
            <a:off x="1235160" y="4975200"/>
            <a:ext cx="144360" cy="31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6561" y="6561"/>
                </a:lnTo>
                <a:lnTo>
                  <a:pt x="8607" y="6914"/>
                </a:lnTo>
                <a:lnTo>
                  <a:pt x="11665" y="7150"/>
                </a:lnTo>
                <a:lnTo>
                  <a:pt x="15396" y="7307"/>
                </a:lnTo>
                <a:lnTo>
                  <a:pt x="20424" y="8257"/>
                </a:lnTo>
                <a:lnTo>
                  <a:pt x="26316" y="9739"/>
                </a:lnTo>
                <a:lnTo>
                  <a:pt x="32784" y="11573"/>
                </a:lnTo>
                <a:lnTo>
                  <a:pt x="46744" y="15868"/>
                </a:lnTo>
                <a:lnTo>
                  <a:pt x="54023" y="18199"/>
                </a:lnTo>
                <a:lnTo>
                  <a:pt x="62262" y="19752"/>
                </a:lnTo>
                <a:lnTo>
                  <a:pt x="71141" y="20788"/>
                </a:lnTo>
                <a:lnTo>
                  <a:pt x="80448" y="21479"/>
                </a:lnTo>
                <a:lnTo>
                  <a:pt x="90039" y="22786"/>
                </a:lnTo>
                <a:lnTo>
                  <a:pt x="99819" y="24504"/>
                </a:lnTo>
                <a:lnTo>
                  <a:pt x="109726" y="26496"/>
                </a:lnTo>
                <a:lnTo>
                  <a:pt x="118024" y="27824"/>
                </a:lnTo>
                <a:lnTo>
                  <a:pt x="125249" y="28710"/>
                </a:lnTo>
                <a:lnTo>
                  <a:pt x="1447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InkAnnotation68"/>
          <p:cNvSpPr/>
          <p:nvPr/>
        </p:nvSpPr>
        <p:spPr>
          <a:xfrm>
            <a:off x="1463760" y="4792680"/>
            <a:ext cx="190440" cy="274680"/>
          </a:xfrm>
          <a:custGeom>
            <a:avLst/>
            <a:gdLst>
              <a:gd name="textAreaLeft" fmla="*/ 0 w 190440"/>
              <a:gd name="textAreaRight" fmla="*/ 190800 w 190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0501" h="274084">
                <a:moveTo>
                  <a:pt x="0" y="45616"/>
                </a:moveTo>
                <a:lnTo>
                  <a:pt x="0" y="41571"/>
                </a:lnTo>
                <a:lnTo>
                  <a:pt x="847" y="39532"/>
                </a:lnTo>
                <a:lnTo>
                  <a:pt x="6561" y="31748"/>
                </a:lnTo>
                <a:lnTo>
                  <a:pt x="11351" y="26737"/>
                </a:lnTo>
                <a:lnTo>
                  <a:pt x="14341" y="24563"/>
                </a:lnTo>
                <a:lnTo>
                  <a:pt x="18027" y="22267"/>
                </a:lnTo>
                <a:lnTo>
                  <a:pt x="22178" y="19890"/>
                </a:lnTo>
                <a:lnTo>
                  <a:pt x="31306" y="14991"/>
                </a:lnTo>
                <a:lnTo>
                  <a:pt x="36110" y="12499"/>
                </a:lnTo>
                <a:lnTo>
                  <a:pt x="41854" y="10838"/>
                </a:lnTo>
                <a:lnTo>
                  <a:pt x="48222" y="9731"/>
                </a:lnTo>
                <a:lnTo>
                  <a:pt x="55008" y="8992"/>
                </a:lnTo>
                <a:lnTo>
                  <a:pt x="61225" y="7653"/>
                </a:lnTo>
                <a:lnTo>
                  <a:pt x="67064" y="5914"/>
                </a:lnTo>
                <a:lnTo>
                  <a:pt x="72649" y="3908"/>
                </a:lnTo>
                <a:lnTo>
                  <a:pt x="78912" y="2570"/>
                </a:lnTo>
                <a:lnTo>
                  <a:pt x="85628" y="1679"/>
                </a:lnTo>
                <a:lnTo>
                  <a:pt x="92646" y="1084"/>
                </a:lnTo>
                <a:lnTo>
                  <a:pt x="99864" y="688"/>
                </a:lnTo>
                <a:lnTo>
                  <a:pt x="114657" y="247"/>
                </a:lnTo>
                <a:lnTo>
                  <a:pt x="133221" y="0"/>
                </a:lnTo>
                <a:lnTo>
                  <a:pt x="138767" y="812"/>
                </a:lnTo>
                <a:lnTo>
                  <a:pt x="144158" y="2200"/>
                </a:lnTo>
                <a:lnTo>
                  <a:pt x="149445" y="3972"/>
                </a:lnTo>
                <a:lnTo>
                  <a:pt x="153817" y="5153"/>
                </a:lnTo>
                <a:lnTo>
                  <a:pt x="157578" y="5940"/>
                </a:lnTo>
                <a:lnTo>
                  <a:pt x="160932" y="6465"/>
                </a:lnTo>
                <a:lnTo>
                  <a:pt x="164015" y="6816"/>
                </a:lnTo>
                <a:lnTo>
                  <a:pt x="169698" y="7204"/>
                </a:lnTo>
                <a:lnTo>
                  <a:pt x="171552" y="8154"/>
                </a:lnTo>
                <a:lnTo>
                  <a:pt x="172788" y="9634"/>
                </a:lnTo>
                <a:lnTo>
                  <a:pt x="173612" y="11469"/>
                </a:lnTo>
                <a:lnTo>
                  <a:pt x="174527" y="15763"/>
                </a:lnTo>
                <a:lnTo>
                  <a:pt x="174772" y="18094"/>
                </a:lnTo>
                <a:lnTo>
                  <a:pt x="174088" y="20494"/>
                </a:lnTo>
                <a:lnTo>
                  <a:pt x="171070" y="25420"/>
                </a:lnTo>
                <a:lnTo>
                  <a:pt x="166906" y="30430"/>
                </a:lnTo>
                <a:lnTo>
                  <a:pt x="161387" y="36327"/>
                </a:lnTo>
                <a:lnTo>
                  <a:pt x="139211" y="58765"/>
                </a:lnTo>
                <a:lnTo>
                  <a:pt x="133447" y="63695"/>
                </a:lnTo>
                <a:lnTo>
                  <a:pt x="127065" y="68675"/>
                </a:lnTo>
                <a:lnTo>
                  <a:pt x="120270" y="73689"/>
                </a:lnTo>
                <a:lnTo>
                  <a:pt x="114046" y="78724"/>
                </a:lnTo>
                <a:lnTo>
                  <a:pt x="108205" y="83775"/>
                </a:lnTo>
                <a:lnTo>
                  <a:pt x="102616" y="88835"/>
                </a:lnTo>
                <a:lnTo>
                  <a:pt x="96351" y="93902"/>
                </a:lnTo>
                <a:lnTo>
                  <a:pt x="89634" y="98973"/>
                </a:lnTo>
                <a:lnTo>
                  <a:pt x="82616" y="104047"/>
                </a:lnTo>
                <a:lnTo>
                  <a:pt x="75397" y="109970"/>
                </a:lnTo>
                <a:lnTo>
                  <a:pt x="68045" y="116459"/>
                </a:lnTo>
                <a:lnTo>
                  <a:pt x="60603" y="123324"/>
                </a:lnTo>
                <a:lnTo>
                  <a:pt x="54796" y="129595"/>
                </a:lnTo>
                <a:lnTo>
                  <a:pt x="50077" y="135469"/>
                </a:lnTo>
                <a:lnTo>
                  <a:pt x="46085" y="141078"/>
                </a:lnTo>
                <a:lnTo>
                  <a:pt x="41730" y="146510"/>
                </a:lnTo>
                <a:lnTo>
                  <a:pt x="37133" y="151825"/>
                </a:lnTo>
                <a:lnTo>
                  <a:pt x="32375" y="157062"/>
                </a:lnTo>
                <a:lnTo>
                  <a:pt x="22573" y="167396"/>
                </a:lnTo>
                <a:lnTo>
                  <a:pt x="17589" y="172523"/>
                </a:lnTo>
                <a:lnTo>
                  <a:pt x="14266" y="178480"/>
                </a:lnTo>
                <a:lnTo>
                  <a:pt x="12051" y="184992"/>
                </a:lnTo>
                <a:lnTo>
                  <a:pt x="10574" y="191873"/>
                </a:lnTo>
                <a:lnTo>
                  <a:pt x="9589" y="197307"/>
                </a:lnTo>
                <a:lnTo>
                  <a:pt x="8495" y="205603"/>
                </a:lnTo>
                <a:lnTo>
                  <a:pt x="9050" y="209847"/>
                </a:lnTo>
                <a:lnTo>
                  <a:pt x="10266" y="214370"/>
                </a:lnTo>
                <a:lnTo>
                  <a:pt x="11925" y="219078"/>
                </a:lnTo>
                <a:lnTo>
                  <a:pt x="13876" y="223911"/>
                </a:lnTo>
                <a:lnTo>
                  <a:pt x="16024" y="228826"/>
                </a:lnTo>
                <a:lnTo>
                  <a:pt x="18303" y="233796"/>
                </a:lnTo>
                <a:lnTo>
                  <a:pt x="21515" y="237956"/>
                </a:lnTo>
                <a:lnTo>
                  <a:pt x="25350" y="241576"/>
                </a:lnTo>
                <a:lnTo>
                  <a:pt x="29600" y="244836"/>
                </a:lnTo>
                <a:lnTo>
                  <a:pt x="33280" y="247855"/>
                </a:lnTo>
                <a:lnTo>
                  <a:pt x="36580" y="250715"/>
                </a:lnTo>
                <a:lnTo>
                  <a:pt x="39627" y="253469"/>
                </a:lnTo>
                <a:lnTo>
                  <a:pt x="44198" y="256151"/>
                </a:lnTo>
                <a:lnTo>
                  <a:pt x="49785" y="258786"/>
                </a:lnTo>
                <a:lnTo>
                  <a:pt x="56050" y="261389"/>
                </a:lnTo>
                <a:lnTo>
                  <a:pt x="62767" y="263971"/>
                </a:lnTo>
                <a:lnTo>
                  <a:pt x="77003" y="269098"/>
                </a:lnTo>
                <a:lnTo>
                  <a:pt x="84355" y="270804"/>
                </a:lnTo>
                <a:lnTo>
                  <a:pt x="91797" y="271941"/>
                </a:lnTo>
                <a:lnTo>
                  <a:pt x="99298" y="272699"/>
                </a:lnTo>
                <a:lnTo>
                  <a:pt x="107685" y="273204"/>
                </a:lnTo>
                <a:lnTo>
                  <a:pt x="126035" y="273766"/>
                </a:lnTo>
                <a:lnTo>
                  <a:pt x="151362" y="274083"/>
                </a:lnTo>
                <a:lnTo>
                  <a:pt x="158481" y="273280"/>
                </a:lnTo>
                <a:lnTo>
                  <a:pt x="164921" y="271899"/>
                </a:lnTo>
                <a:lnTo>
                  <a:pt x="170907" y="270131"/>
                </a:lnTo>
                <a:lnTo>
                  <a:pt x="175745" y="268953"/>
                </a:lnTo>
                <a:lnTo>
                  <a:pt x="179817" y="268167"/>
                </a:lnTo>
                <a:lnTo>
                  <a:pt x="190500" y="26659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InkAnnotation69"/>
          <p:cNvSpPr/>
          <p:nvPr/>
        </p:nvSpPr>
        <p:spPr>
          <a:xfrm>
            <a:off x="1760400" y="4724280"/>
            <a:ext cx="274680" cy="435240"/>
          </a:xfrm>
          <a:custGeom>
            <a:avLst/>
            <a:gdLst>
              <a:gd name="textAreaLeft" fmla="*/ 0 w 274680"/>
              <a:gd name="textAreaRight" fmla="*/ 275040 w 27468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73864" h="434331">
                <a:moveTo>
                  <a:pt x="98603" y="0"/>
                </a:moveTo>
                <a:lnTo>
                  <a:pt x="94558" y="4045"/>
                </a:lnTo>
                <a:lnTo>
                  <a:pt x="93366" y="6083"/>
                </a:lnTo>
                <a:lnTo>
                  <a:pt x="89197" y="17696"/>
                </a:lnTo>
                <a:lnTo>
                  <a:pt x="82834" y="31207"/>
                </a:lnTo>
                <a:lnTo>
                  <a:pt x="77201" y="41810"/>
                </a:lnTo>
                <a:lnTo>
                  <a:pt x="65357" y="61213"/>
                </a:lnTo>
                <a:lnTo>
                  <a:pt x="58991" y="72643"/>
                </a:lnTo>
                <a:lnTo>
                  <a:pt x="46603" y="96689"/>
                </a:lnTo>
                <a:lnTo>
                  <a:pt x="41923" y="105099"/>
                </a:lnTo>
                <a:lnTo>
                  <a:pt x="37110" y="113246"/>
                </a:lnTo>
                <a:lnTo>
                  <a:pt x="32208" y="121217"/>
                </a:lnTo>
                <a:lnTo>
                  <a:pt x="28093" y="129918"/>
                </a:lnTo>
                <a:lnTo>
                  <a:pt x="24503" y="139105"/>
                </a:lnTo>
                <a:lnTo>
                  <a:pt x="12658" y="174139"/>
                </a:lnTo>
                <a:lnTo>
                  <a:pt x="9980" y="182980"/>
                </a:lnTo>
                <a:lnTo>
                  <a:pt x="4746" y="201833"/>
                </a:lnTo>
                <a:lnTo>
                  <a:pt x="3012" y="211602"/>
                </a:lnTo>
                <a:lnTo>
                  <a:pt x="1856" y="221501"/>
                </a:lnTo>
                <a:lnTo>
                  <a:pt x="1085" y="231488"/>
                </a:lnTo>
                <a:lnTo>
                  <a:pt x="571" y="240685"/>
                </a:lnTo>
                <a:lnTo>
                  <a:pt x="0" y="257677"/>
                </a:lnTo>
                <a:lnTo>
                  <a:pt x="695" y="266612"/>
                </a:lnTo>
                <a:lnTo>
                  <a:pt x="2004" y="275955"/>
                </a:lnTo>
                <a:lnTo>
                  <a:pt x="3724" y="285569"/>
                </a:lnTo>
                <a:lnTo>
                  <a:pt x="5717" y="294519"/>
                </a:lnTo>
                <a:lnTo>
                  <a:pt x="7892" y="303026"/>
                </a:lnTo>
                <a:lnTo>
                  <a:pt x="10189" y="311238"/>
                </a:lnTo>
                <a:lnTo>
                  <a:pt x="13414" y="318405"/>
                </a:lnTo>
                <a:lnTo>
                  <a:pt x="21512" y="330884"/>
                </a:lnTo>
                <a:lnTo>
                  <a:pt x="35592" y="351476"/>
                </a:lnTo>
                <a:lnTo>
                  <a:pt x="41356" y="357930"/>
                </a:lnTo>
                <a:lnTo>
                  <a:pt x="47738" y="363927"/>
                </a:lnTo>
                <a:lnTo>
                  <a:pt x="54533" y="369618"/>
                </a:lnTo>
                <a:lnTo>
                  <a:pt x="61603" y="375105"/>
                </a:lnTo>
                <a:lnTo>
                  <a:pt x="68856" y="380457"/>
                </a:lnTo>
                <a:lnTo>
                  <a:pt x="76232" y="385718"/>
                </a:lnTo>
                <a:lnTo>
                  <a:pt x="83689" y="390072"/>
                </a:lnTo>
                <a:lnTo>
                  <a:pt x="91200" y="393821"/>
                </a:lnTo>
                <a:lnTo>
                  <a:pt x="98748" y="397167"/>
                </a:lnTo>
                <a:lnTo>
                  <a:pt x="106320" y="400245"/>
                </a:lnTo>
                <a:lnTo>
                  <a:pt x="113907" y="403143"/>
                </a:lnTo>
                <a:lnTo>
                  <a:pt x="129112" y="408622"/>
                </a:lnTo>
                <a:lnTo>
                  <a:pt x="167187" y="421598"/>
                </a:lnTo>
                <a:lnTo>
                  <a:pt x="173959" y="423305"/>
                </a:lnTo>
                <a:lnTo>
                  <a:pt x="180167" y="424444"/>
                </a:lnTo>
                <a:lnTo>
                  <a:pt x="185999" y="425202"/>
                </a:lnTo>
                <a:lnTo>
                  <a:pt x="192427" y="426555"/>
                </a:lnTo>
                <a:lnTo>
                  <a:pt x="199253" y="428303"/>
                </a:lnTo>
                <a:lnTo>
                  <a:pt x="206343" y="430316"/>
                </a:lnTo>
                <a:lnTo>
                  <a:pt x="212763" y="431657"/>
                </a:lnTo>
                <a:lnTo>
                  <a:pt x="218736" y="432551"/>
                </a:lnTo>
                <a:lnTo>
                  <a:pt x="224412" y="433147"/>
                </a:lnTo>
                <a:lnTo>
                  <a:pt x="229889" y="433545"/>
                </a:lnTo>
                <a:lnTo>
                  <a:pt x="235234" y="433810"/>
                </a:lnTo>
                <a:lnTo>
                  <a:pt x="248589" y="434183"/>
                </a:lnTo>
                <a:lnTo>
                  <a:pt x="268642" y="434330"/>
                </a:lnTo>
                <a:lnTo>
                  <a:pt x="270383" y="433487"/>
                </a:lnTo>
                <a:lnTo>
                  <a:pt x="271543" y="432078"/>
                </a:lnTo>
                <a:lnTo>
                  <a:pt x="273863" y="426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InkAnnotation70"/>
          <p:cNvSpPr/>
          <p:nvPr/>
        </p:nvSpPr>
        <p:spPr>
          <a:xfrm>
            <a:off x="1882800" y="4770360"/>
            <a:ext cx="271440" cy="243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72642" h="243829">
                <a:moveTo>
                  <a:pt x="30480" y="60949"/>
                </a:moveTo>
                <a:lnTo>
                  <a:pt x="30480" y="49597"/>
                </a:lnTo>
                <a:lnTo>
                  <a:pt x="31327" y="47454"/>
                </a:lnTo>
                <a:lnTo>
                  <a:pt x="36564" y="40393"/>
                </a:lnTo>
                <a:lnTo>
                  <a:pt x="41086" y="35443"/>
                </a:lnTo>
                <a:lnTo>
                  <a:pt x="48176" y="30422"/>
                </a:lnTo>
                <a:lnTo>
                  <a:pt x="52438" y="27897"/>
                </a:lnTo>
                <a:lnTo>
                  <a:pt x="56972" y="25368"/>
                </a:lnTo>
                <a:lnTo>
                  <a:pt x="66525" y="20299"/>
                </a:lnTo>
                <a:lnTo>
                  <a:pt x="72290" y="17762"/>
                </a:lnTo>
                <a:lnTo>
                  <a:pt x="78674" y="15224"/>
                </a:lnTo>
                <a:lnTo>
                  <a:pt x="85469" y="12686"/>
                </a:lnTo>
                <a:lnTo>
                  <a:pt x="91693" y="10146"/>
                </a:lnTo>
                <a:lnTo>
                  <a:pt x="97535" y="7607"/>
                </a:lnTo>
                <a:lnTo>
                  <a:pt x="103124" y="5067"/>
                </a:lnTo>
                <a:lnTo>
                  <a:pt x="110236" y="3375"/>
                </a:lnTo>
                <a:lnTo>
                  <a:pt x="118364" y="2245"/>
                </a:lnTo>
                <a:lnTo>
                  <a:pt x="127169" y="1493"/>
                </a:lnTo>
                <a:lnTo>
                  <a:pt x="135580" y="992"/>
                </a:lnTo>
                <a:lnTo>
                  <a:pt x="151698" y="434"/>
                </a:lnTo>
                <a:lnTo>
                  <a:pt x="196439" y="47"/>
                </a:lnTo>
                <a:lnTo>
                  <a:pt x="228268" y="0"/>
                </a:lnTo>
                <a:lnTo>
                  <a:pt x="235152" y="843"/>
                </a:lnTo>
                <a:lnTo>
                  <a:pt x="241435" y="2251"/>
                </a:lnTo>
                <a:lnTo>
                  <a:pt x="247316" y="4037"/>
                </a:lnTo>
                <a:lnTo>
                  <a:pt x="252084" y="5228"/>
                </a:lnTo>
                <a:lnTo>
                  <a:pt x="259640" y="6550"/>
                </a:lnTo>
                <a:lnTo>
                  <a:pt x="265820" y="7138"/>
                </a:lnTo>
                <a:lnTo>
                  <a:pt x="268653" y="7295"/>
                </a:lnTo>
                <a:lnTo>
                  <a:pt x="270542" y="8246"/>
                </a:lnTo>
                <a:lnTo>
                  <a:pt x="271802" y="9727"/>
                </a:lnTo>
                <a:lnTo>
                  <a:pt x="272641" y="11561"/>
                </a:lnTo>
                <a:lnTo>
                  <a:pt x="272354" y="13630"/>
                </a:lnTo>
                <a:lnTo>
                  <a:pt x="269777" y="18187"/>
                </a:lnTo>
                <a:lnTo>
                  <a:pt x="263552" y="23035"/>
                </a:lnTo>
                <a:lnTo>
                  <a:pt x="259521" y="25512"/>
                </a:lnTo>
                <a:lnTo>
                  <a:pt x="241713" y="37090"/>
                </a:lnTo>
                <a:lnTo>
                  <a:pt x="234802" y="40809"/>
                </a:lnTo>
                <a:lnTo>
                  <a:pt x="227655" y="44136"/>
                </a:lnTo>
                <a:lnTo>
                  <a:pt x="220350" y="47200"/>
                </a:lnTo>
                <a:lnTo>
                  <a:pt x="212093" y="50936"/>
                </a:lnTo>
                <a:lnTo>
                  <a:pt x="193888" y="59603"/>
                </a:lnTo>
                <a:lnTo>
                  <a:pt x="185139" y="63438"/>
                </a:lnTo>
                <a:lnTo>
                  <a:pt x="176766" y="66841"/>
                </a:lnTo>
                <a:lnTo>
                  <a:pt x="168644" y="69957"/>
                </a:lnTo>
                <a:lnTo>
                  <a:pt x="161536" y="72034"/>
                </a:lnTo>
                <a:lnTo>
                  <a:pt x="155104" y="73419"/>
                </a:lnTo>
                <a:lnTo>
                  <a:pt x="149123" y="74342"/>
                </a:lnTo>
                <a:lnTo>
                  <a:pt x="143442" y="76651"/>
                </a:lnTo>
                <a:lnTo>
                  <a:pt x="137961" y="79883"/>
                </a:lnTo>
                <a:lnTo>
                  <a:pt x="132615" y="83732"/>
                </a:lnTo>
                <a:lnTo>
                  <a:pt x="124415" y="88007"/>
                </a:lnTo>
                <a:lnTo>
                  <a:pt x="121044" y="89148"/>
                </a:lnTo>
                <a:lnTo>
                  <a:pt x="118796" y="91601"/>
                </a:lnTo>
                <a:lnTo>
                  <a:pt x="117297" y="94930"/>
                </a:lnTo>
                <a:lnTo>
                  <a:pt x="115632" y="102298"/>
                </a:lnTo>
                <a:lnTo>
                  <a:pt x="114892" y="108395"/>
                </a:lnTo>
                <a:lnTo>
                  <a:pt x="116388" y="111206"/>
                </a:lnTo>
                <a:lnTo>
                  <a:pt x="122566" y="116587"/>
                </a:lnTo>
                <a:lnTo>
                  <a:pt x="130956" y="124059"/>
                </a:lnTo>
                <a:lnTo>
                  <a:pt x="135564" y="128422"/>
                </a:lnTo>
                <a:lnTo>
                  <a:pt x="141176" y="132177"/>
                </a:lnTo>
                <a:lnTo>
                  <a:pt x="147457" y="135528"/>
                </a:lnTo>
                <a:lnTo>
                  <a:pt x="154185" y="138608"/>
                </a:lnTo>
                <a:lnTo>
                  <a:pt x="160363" y="142354"/>
                </a:lnTo>
                <a:lnTo>
                  <a:pt x="166176" y="146546"/>
                </a:lnTo>
                <a:lnTo>
                  <a:pt x="171744" y="151034"/>
                </a:lnTo>
                <a:lnTo>
                  <a:pt x="177996" y="154872"/>
                </a:lnTo>
                <a:lnTo>
                  <a:pt x="184704" y="158277"/>
                </a:lnTo>
                <a:lnTo>
                  <a:pt x="191716" y="161394"/>
                </a:lnTo>
                <a:lnTo>
                  <a:pt x="198084" y="165165"/>
                </a:lnTo>
                <a:lnTo>
                  <a:pt x="204023" y="169373"/>
                </a:lnTo>
                <a:lnTo>
                  <a:pt x="209675" y="173872"/>
                </a:lnTo>
                <a:lnTo>
                  <a:pt x="215137" y="177717"/>
                </a:lnTo>
                <a:lnTo>
                  <a:pt x="220471" y="181127"/>
                </a:lnTo>
                <a:lnTo>
                  <a:pt x="225721" y="184248"/>
                </a:lnTo>
                <a:lnTo>
                  <a:pt x="230067" y="188021"/>
                </a:lnTo>
                <a:lnTo>
                  <a:pt x="233812" y="192230"/>
                </a:lnTo>
                <a:lnTo>
                  <a:pt x="237155" y="196730"/>
                </a:lnTo>
                <a:lnTo>
                  <a:pt x="238536" y="199729"/>
                </a:lnTo>
                <a:lnTo>
                  <a:pt x="238611" y="201729"/>
                </a:lnTo>
                <a:lnTo>
                  <a:pt x="236436" y="204798"/>
                </a:lnTo>
                <a:lnTo>
                  <a:pt x="232647" y="208984"/>
                </a:lnTo>
                <a:lnTo>
                  <a:pt x="225883" y="213666"/>
                </a:lnTo>
                <a:lnTo>
                  <a:pt x="221709" y="216100"/>
                </a:lnTo>
                <a:lnTo>
                  <a:pt x="216386" y="218569"/>
                </a:lnTo>
                <a:lnTo>
                  <a:pt x="210297" y="221062"/>
                </a:lnTo>
                <a:lnTo>
                  <a:pt x="203699" y="223571"/>
                </a:lnTo>
                <a:lnTo>
                  <a:pt x="189593" y="228616"/>
                </a:lnTo>
                <a:lnTo>
                  <a:pt x="182275" y="231147"/>
                </a:lnTo>
                <a:lnTo>
                  <a:pt x="174010" y="233681"/>
                </a:lnTo>
                <a:lnTo>
                  <a:pt x="155796" y="238754"/>
                </a:lnTo>
                <a:lnTo>
                  <a:pt x="146197" y="240445"/>
                </a:lnTo>
                <a:lnTo>
                  <a:pt x="136411" y="241573"/>
                </a:lnTo>
                <a:lnTo>
                  <a:pt x="126501" y="242325"/>
                </a:lnTo>
                <a:lnTo>
                  <a:pt x="116508" y="242826"/>
                </a:lnTo>
                <a:lnTo>
                  <a:pt x="96372" y="243383"/>
                </a:lnTo>
                <a:lnTo>
                  <a:pt x="42108" y="243789"/>
                </a:lnTo>
                <a:lnTo>
                  <a:pt x="0" y="2438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71"/>
          <p:cNvSpPr/>
          <p:nvPr/>
        </p:nvSpPr>
        <p:spPr>
          <a:xfrm>
            <a:off x="2065320" y="4952880"/>
            <a:ext cx="274680" cy="114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74321" h="114301">
                <a:moveTo>
                  <a:pt x="274320" y="0"/>
                </a:moveTo>
                <a:lnTo>
                  <a:pt x="267759" y="0"/>
                </a:lnTo>
                <a:lnTo>
                  <a:pt x="264913" y="2258"/>
                </a:lnTo>
                <a:lnTo>
                  <a:pt x="262969" y="4045"/>
                </a:lnTo>
                <a:lnTo>
                  <a:pt x="259979" y="6083"/>
                </a:lnTo>
                <a:lnTo>
                  <a:pt x="256293" y="8289"/>
                </a:lnTo>
                <a:lnTo>
                  <a:pt x="252142" y="10606"/>
                </a:lnTo>
                <a:lnTo>
                  <a:pt x="246835" y="12997"/>
                </a:lnTo>
                <a:lnTo>
                  <a:pt x="240757" y="15438"/>
                </a:lnTo>
                <a:lnTo>
                  <a:pt x="234164" y="17912"/>
                </a:lnTo>
                <a:lnTo>
                  <a:pt x="227230" y="21255"/>
                </a:lnTo>
                <a:lnTo>
                  <a:pt x="220066" y="25176"/>
                </a:lnTo>
                <a:lnTo>
                  <a:pt x="212751" y="29484"/>
                </a:lnTo>
                <a:lnTo>
                  <a:pt x="204487" y="34049"/>
                </a:lnTo>
                <a:lnTo>
                  <a:pt x="186275" y="43637"/>
                </a:lnTo>
                <a:lnTo>
                  <a:pt x="177523" y="48564"/>
                </a:lnTo>
                <a:lnTo>
                  <a:pt x="169149" y="53543"/>
                </a:lnTo>
                <a:lnTo>
                  <a:pt x="161026" y="58555"/>
                </a:lnTo>
                <a:lnTo>
                  <a:pt x="152224" y="63590"/>
                </a:lnTo>
                <a:lnTo>
                  <a:pt x="133413" y="73700"/>
                </a:lnTo>
                <a:lnTo>
                  <a:pt x="103783" y="88912"/>
                </a:lnTo>
                <a:lnTo>
                  <a:pt x="93742" y="93141"/>
                </a:lnTo>
                <a:lnTo>
                  <a:pt x="83661" y="96807"/>
                </a:lnTo>
                <a:lnTo>
                  <a:pt x="47194" y="108775"/>
                </a:lnTo>
                <a:lnTo>
                  <a:pt x="39083" y="110617"/>
                </a:lnTo>
                <a:lnTo>
                  <a:pt x="31135" y="111844"/>
                </a:lnTo>
                <a:lnTo>
                  <a:pt x="23297" y="112663"/>
                </a:lnTo>
                <a:lnTo>
                  <a:pt x="17225" y="113208"/>
                </a:lnTo>
                <a:lnTo>
                  <a:pt x="12330" y="113572"/>
                </a:lnTo>
                <a:lnTo>
                  <a:pt x="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72"/>
          <p:cNvSpPr/>
          <p:nvPr/>
        </p:nvSpPr>
        <p:spPr>
          <a:xfrm>
            <a:off x="2149560" y="4923000"/>
            <a:ext cx="182520" cy="128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881" h="129540">
                <a:moveTo>
                  <a:pt x="0" y="0"/>
                </a:moveTo>
                <a:lnTo>
                  <a:pt x="6561" y="0"/>
                </a:lnTo>
                <a:lnTo>
                  <a:pt x="11352" y="4045"/>
                </a:lnTo>
                <a:lnTo>
                  <a:pt x="13494" y="5237"/>
                </a:lnTo>
                <a:lnTo>
                  <a:pt x="18133" y="6561"/>
                </a:lnTo>
                <a:lnTo>
                  <a:pt x="23017" y="9407"/>
                </a:lnTo>
                <a:lnTo>
                  <a:pt x="25505" y="11351"/>
                </a:lnTo>
                <a:lnTo>
                  <a:pt x="28010" y="14341"/>
                </a:lnTo>
                <a:lnTo>
                  <a:pt x="30527" y="18027"/>
                </a:lnTo>
                <a:lnTo>
                  <a:pt x="33051" y="22178"/>
                </a:lnTo>
                <a:lnTo>
                  <a:pt x="35581" y="25792"/>
                </a:lnTo>
                <a:lnTo>
                  <a:pt x="38114" y="29048"/>
                </a:lnTo>
                <a:lnTo>
                  <a:pt x="40649" y="32066"/>
                </a:lnTo>
                <a:lnTo>
                  <a:pt x="44033" y="35770"/>
                </a:lnTo>
                <a:lnTo>
                  <a:pt x="52308" y="44402"/>
                </a:lnTo>
                <a:lnTo>
                  <a:pt x="96560" y="88931"/>
                </a:lnTo>
                <a:lnTo>
                  <a:pt x="102473" y="93154"/>
                </a:lnTo>
                <a:lnTo>
                  <a:pt x="108956" y="96816"/>
                </a:lnTo>
                <a:lnTo>
                  <a:pt x="115817" y="100104"/>
                </a:lnTo>
                <a:lnTo>
                  <a:pt x="122931" y="103989"/>
                </a:lnTo>
                <a:lnTo>
                  <a:pt x="130214" y="108273"/>
                </a:lnTo>
                <a:lnTo>
                  <a:pt x="137610" y="112821"/>
                </a:lnTo>
                <a:lnTo>
                  <a:pt x="145080" y="116701"/>
                </a:lnTo>
                <a:lnTo>
                  <a:pt x="152600" y="120134"/>
                </a:lnTo>
                <a:lnTo>
                  <a:pt x="160153" y="123269"/>
                </a:lnTo>
                <a:lnTo>
                  <a:pt x="166036" y="125359"/>
                </a:lnTo>
                <a:lnTo>
                  <a:pt x="170804" y="126753"/>
                </a:lnTo>
                <a:lnTo>
                  <a:pt x="182880" y="1295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InkAnnotation73"/>
          <p:cNvSpPr/>
          <p:nvPr/>
        </p:nvSpPr>
        <p:spPr>
          <a:xfrm>
            <a:off x="2408400" y="4830840"/>
            <a:ext cx="212400" cy="15840"/>
          </a:xfrm>
          <a:custGeom>
            <a:avLst/>
            <a:gdLst>
              <a:gd name="textAreaLeft" fmla="*/ 0 w 212400"/>
              <a:gd name="textAreaRight" fmla="*/ 212760 w 212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14">
                <a:moveTo>
                  <a:pt x="0" y="7620"/>
                </a:moveTo>
                <a:lnTo>
                  <a:pt x="8091" y="7620"/>
                </a:lnTo>
                <a:lnTo>
                  <a:pt x="11321" y="8466"/>
                </a:lnTo>
                <a:lnTo>
                  <a:pt x="14320" y="9877"/>
                </a:lnTo>
                <a:lnTo>
                  <a:pt x="17167" y="11665"/>
                </a:lnTo>
                <a:lnTo>
                  <a:pt x="21605" y="12857"/>
                </a:lnTo>
                <a:lnTo>
                  <a:pt x="27103" y="13651"/>
                </a:lnTo>
                <a:lnTo>
                  <a:pt x="33309" y="14181"/>
                </a:lnTo>
                <a:lnTo>
                  <a:pt x="39139" y="14534"/>
                </a:lnTo>
                <a:lnTo>
                  <a:pt x="50133" y="14926"/>
                </a:lnTo>
                <a:lnTo>
                  <a:pt x="98388" y="15213"/>
                </a:lnTo>
                <a:lnTo>
                  <a:pt x="107079" y="14375"/>
                </a:lnTo>
                <a:lnTo>
                  <a:pt x="116259" y="12970"/>
                </a:lnTo>
                <a:lnTo>
                  <a:pt x="125766" y="11187"/>
                </a:lnTo>
                <a:lnTo>
                  <a:pt x="134644" y="9997"/>
                </a:lnTo>
                <a:lnTo>
                  <a:pt x="143103" y="9205"/>
                </a:lnTo>
                <a:lnTo>
                  <a:pt x="151282" y="8676"/>
                </a:lnTo>
                <a:lnTo>
                  <a:pt x="159274" y="8325"/>
                </a:lnTo>
                <a:lnTo>
                  <a:pt x="174929" y="7933"/>
                </a:lnTo>
                <a:lnTo>
                  <a:pt x="193977" y="7713"/>
                </a:lnTo>
                <a:lnTo>
                  <a:pt x="198745" y="6835"/>
                </a:lnTo>
                <a:lnTo>
                  <a:pt x="202769" y="5403"/>
                </a:ln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74"/>
          <p:cNvSpPr/>
          <p:nvPr/>
        </p:nvSpPr>
        <p:spPr>
          <a:xfrm>
            <a:off x="2629080" y="4740120"/>
            <a:ext cx="190440" cy="271440"/>
          </a:xfrm>
          <a:custGeom>
            <a:avLst/>
            <a:gdLst>
              <a:gd name="textAreaLeft" fmla="*/ 0 w 190440"/>
              <a:gd name="textAreaRight" fmla="*/ 190800 w 190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90004" h="272681">
                <a:moveTo>
                  <a:pt x="45709" y="0"/>
                </a:moveTo>
                <a:lnTo>
                  <a:pt x="45709" y="10606"/>
                </a:lnTo>
                <a:lnTo>
                  <a:pt x="44862" y="12998"/>
                </a:lnTo>
                <a:lnTo>
                  <a:pt x="41664" y="17912"/>
                </a:lnTo>
                <a:lnTo>
                  <a:pt x="39678" y="25177"/>
                </a:lnTo>
                <a:lnTo>
                  <a:pt x="39148" y="29485"/>
                </a:lnTo>
                <a:lnTo>
                  <a:pt x="37949" y="34050"/>
                </a:lnTo>
                <a:lnTo>
                  <a:pt x="36302" y="38787"/>
                </a:lnTo>
                <a:lnTo>
                  <a:pt x="34358" y="43638"/>
                </a:lnTo>
                <a:lnTo>
                  <a:pt x="32215" y="48565"/>
                </a:lnTo>
                <a:lnTo>
                  <a:pt x="27576" y="58556"/>
                </a:lnTo>
                <a:lnTo>
                  <a:pt x="20204" y="73701"/>
                </a:lnTo>
                <a:lnTo>
                  <a:pt x="17440" y="81581"/>
                </a:lnTo>
                <a:lnTo>
                  <a:pt x="15365" y="88752"/>
                </a:lnTo>
                <a:lnTo>
                  <a:pt x="13627" y="93035"/>
                </a:lnTo>
                <a:lnTo>
                  <a:pt x="9437" y="101462"/>
                </a:lnTo>
                <a:lnTo>
                  <a:pt x="4753" y="108030"/>
                </a:lnTo>
                <a:lnTo>
                  <a:pt x="2106" y="113771"/>
                </a:lnTo>
                <a:lnTo>
                  <a:pt x="0" y="121879"/>
                </a:lnTo>
                <a:lnTo>
                  <a:pt x="4037" y="121908"/>
                </a:lnTo>
                <a:lnTo>
                  <a:pt x="6075" y="121066"/>
                </a:lnTo>
                <a:lnTo>
                  <a:pt x="13834" y="115834"/>
                </a:lnTo>
                <a:lnTo>
                  <a:pt x="17686" y="113630"/>
                </a:lnTo>
                <a:lnTo>
                  <a:pt x="26481" y="108923"/>
                </a:lnTo>
                <a:lnTo>
                  <a:pt x="36034" y="104008"/>
                </a:lnTo>
                <a:lnTo>
                  <a:pt x="41799" y="102359"/>
                </a:lnTo>
                <a:lnTo>
                  <a:pt x="48183" y="101259"/>
                </a:lnTo>
                <a:lnTo>
                  <a:pt x="54978" y="100526"/>
                </a:lnTo>
                <a:lnTo>
                  <a:pt x="62048" y="100038"/>
                </a:lnTo>
                <a:lnTo>
                  <a:pt x="69302" y="99712"/>
                </a:lnTo>
                <a:lnTo>
                  <a:pt x="89389" y="99254"/>
                </a:lnTo>
                <a:lnTo>
                  <a:pt x="95149" y="99189"/>
                </a:lnTo>
                <a:lnTo>
                  <a:pt x="101529" y="99993"/>
                </a:lnTo>
                <a:lnTo>
                  <a:pt x="108322" y="101376"/>
                </a:lnTo>
                <a:lnTo>
                  <a:pt x="115391" y="103144"/>
                </a:lnTo>
                <a:lnTo>
                  <a:pt x="121797" y="106016"/>
                </a:lnTo>
                <a:lnTo>
                  <a:pt x="127761" y="109624"/>
                </a:lnTo>
                <a:lnTo>
                  <a:pt x="133430" y="113723"/>
                </a:lnTo>
                <a:lnTo>
                  <a:pt x="138904" y="117302"/>
                </a:lnTo>
                <a:lnTo>
                  <a:pt x="144245" y="120535"/>
                </a:lnTo>
                <a:lnTo>
                  <a:pt x="149500" y="123537"/>
                </a:lnTo>
                <a:lnTo>
                  <a:pt x="154697" y="128078"/>
                </a:lnTo>
                <a:lnTo>
                  <a:pt x="159854" y="133646"/>
                </a:lnTo>
                <a:lnTo>
                  <a:pt x="164986" y="139897"/>
                </a:lnTo>
                <a:lnTo>
                  <a:pt x="169253" y="145759"/>
                </a:lnTo>
                <a:lnTo>
                  <a:pt x="172946" y="151359"/>
                </a:lnTo>
                <a:lnTo>
                  <a:pt x="176253" y="156786"/>
                </a:lnTo>
                <a:lnTo>
                  <a:pt x="179305" y="162945"/>
                </a:lnTo>
                <a:lnTo>
                  <a:pt x="182187" y="169590"/>
                </a:lnTo>
                <a:lnTo>
                  <a:pt x="184954" y="176560"/>
                </a:lnTo>
                <a:lnTo>
                  <a:pt x="186799" y="183747"/>
                </a:lnTo>
                <a:lnTo>
                  <a:pt x="188029" y="191078"/>
                </a:lnTo>
                <a:lnTo>
                  <a:pt x="188849" y="198506"/>
                </a:lnTo>
                <a:lnTo>
                  <a:pt x="189396" y="205150"/>
                </a:lnTo>
                <a:lnTo>
                  <a:pt x="189760" y="211274"/>
                </a:lnTo>
                <a:lnTo>
                  <a:pt x="190003" y="217050"/>
                </a:lnTo>
                <a:lnTo>
                  <a:pt x="189318" y="222593"/>
                </a:lnTo>
                <a:lnTo>
                  <a:pt x="188016" y="227983"/>
                </a:lnTo>
                <a:lnTo>
                  <a:pt x="186300" y="233269"/>
                </a:lnTo>
                <a:lnTo>
                  <a:pt x="183463" y="238486"/>
                </a:lnTo>
                <a:lnTo>
                  <a:pt x="179879" y="243657"/>
                </a:lnTo>
                <a:lnTo>
                  <a:pt x="175795" y="248798"/>
                </a:lnTo>
                <a:lnTo>
                  <a:pt x="171380" y="253073"/>
                </a:lnTo>
                <a:lnTo>
                  <a:pt x="166743" y="256768"/>
                </a:lnTo>
                <a:lnTo>
                  <a:pt x="161959" y="260079"/>
                </a:lnTo>
                <a:lnTo>
                  <a:pt x="157076" y="263133"/>
                </a:lnTo>
                <a:lnTo>
                  <a:pt x="152127" y="266016"/>
                </a:lnTo>
                <a:lnTo>
                  <a:pt x="147134" y="268784"/>
                </a:lnTo>
                <a:lnTo>
                  <a:pt x="141266" y="270630"/>
                </a:lnTo>
                <a:lnTo>
                  <a:pt x="134814" y="271860"/>
                </a:lnTo>
                <a:lnTo>
                  <a:pt x="127972" y="272680"/>
                </a:lnTo>
                <a:lnTo>
                  <a:pt x="120871" y="272380"/>
                </a:lnTo>
                <a:lnTo>
                  <a:pt x="113597" y="271334"/>
                </a:lnTo>
                <a:lnTo>
                  <a:pt x="106208" y="269789"/>
                </a:lnTo>
                <a:lnTo>
                  <a:pt x="79627" y="263570"/>
                </a:lnTo>
                <a:lnTo>
                  <a:pt x="70861" y="260381"/>
                </a:lnTo>
                <a:lnTo>
                  <a:pt x="62477" y="256560"/>
                </a:lnTo>
                <a:lnTo>
                  <a:pt x="54348" y="252321"/>
                </a:lnTo>
                <a:lnTo>
                  <a:pt x="47235" y="249494"/>
                </a:lnTo>
                <a:lnTo>
                  <a:pt x="40799" y="247609"/>
                </a:lnTo>
                <a:lnTo>
                  <a:pt x="34816" y="246353"/>
                </a:lnTo>
                <a:lnTo>
                  <a:pt x="29980" y="244669"/>
                </a:lnTo>
                <a:lnTo>
                  <a:pt x="25910" y="242700"/>
                </a:lnTo>
                <a:lnTo>
                  <a:pt x="15229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75"/>
          <p:cNvSpPr/>
          <p:nvPr/>
        </p:nvSpPr>
        <p:spPr>
          <a:xfrm>
            <a:off x="2689200" y="4740120"/>
            <a:ext cx="122400" cy="14400"/>
          </a:xfrm>
          <a:custGeom>
            <a:avLst/>
            <a:gdLst>
              <a:gd name="textAreaLeft" fmla="*/ 0 w 122400"/>
              <a:gd name="textAreaRight" fmla="*/ 122760 w 122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21921" h="15242">
                <a:moveTo>
                  <a:pt x="0" y="0"/>
                </a:moveTo>
                <a:lnTo>
                  <a:pt x="14651" y="0"/>
                </a:lnTo>
                <a:lnTo>
                  <a:pt x="19928" y="847"/>
                </a:lnTo>
                <a:lnTo>
                  <a:pt x="25985" y="2258"/>
                </a:lnTo>
                <a:lnTo>
                  <a:pt x="32564" y="4045"/>
                </a:lnTo>
                <a:lnTo>
                  <a:pt x="40336" y="5237"/>
                </a:lnTo>
                <a:lnTo>
                  <a:pt x="48904" y="6032"/>
                </a:lnTo>
                <a:lnTo>
                  <a:pt x="58003" y="6562"/>
                </a:lnTo>
                <a:lnTo>
                  <a:pt x="67455" y="7761"/>
                </a:lnTo>
                <a:lnTo>
                  <a:pt x="77144" y="9408"/>
                </a:lnTo>
                <a:lnTo>
                  <a:pt x="86989" y="11352"/>
                </a:lnTo>
                <a:lnTo>
                  <a:pt x="95246" y="12648"/>
                </a:lnTo>
                <a:lnTo>
                  <a:pt x="102444" y="13512"/>
                </a:lnTo>
                <a:lnTo>
                  <a:pt x="121920" y="152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76"/>
          <p:cNvSpPr/>
          <p:nvPr/>
        </p:nvSpPr>
        <p:spPr>
          <a:xfrm>
            <a:off x="2865600" y="4694400"/>
            <a:ext cx="196560" cy="403200"/>
          </a:xfrm>
          <a:custGeom>
            <a:avLst/>
            <a:gdLst>
              <a:gd name="textAreaLeft" fmla="*/ 0 w 196560"/>
              <a:gd name="textAreaRight" fmla="*/ 196920 w 1965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6588" h="403366">
                <a:moveTo>
                  <a:pt x="114300" y="0"/>
                </a:moveTo>
                <a:lnTo>
                  <a:pt x="118345" y="4045"/>
                </a:lnTo>
                <a:lnTo>
                  <a:pt x="119537" y="6930"/>
                </a:lnTo>
                <a:lnTo>
                  <a:pt x="122061" y="18234"/>
                </a:lnTo>
                <a:lnTo>
                  <a:pt x="126948" y="28169"/>
                </a:lnTo>
                <a:lnTo>
                  <a:pt x="128388" y="36791"/>
                </a:lnTo>
                <a:lnTo>
                  <a:pt x="131286" y="46267"/>
                </a:lnTo>
                <a:lnTo>
                  <a:pt x="135396" y="56969"/>
                </a:lnTo>
                <a:lnTo>
                  <a:pt x="140045" y="70193"/>
                </a:lnTo>
                <a:lnTo>
                  <a:pt x="144934" y="82279"/>
                </a:lnTo>
                <a:lnTo>
                  <a:pt x="147422" y="87873"/>
                </a:lnTo>
                <a:lnTo>
                  <a:pt x="149928" y="94988"/>
                </a:lnTo>
                <a:lnTo>
                  <a:pt x="152446" y="103119"/>
                </a:lnTo>
                <a:lnTo>
                  <a:pt x="154970" y="111926"/>
                </a:lnTo>
                <a:lnTo>
                  <a:pt x="158347" y="120337"/>
                </a:lnTo>
                <a:lnTo>
                  <a:pt x="162292" y="128485"/>
                </a:lnTo>
                <a:lnTo>
                  <a:pt x="166614" y="136457"/>
                </a:lnTo>
                <a:lnTo>
                  <a:pt x="170343" y="145157"/>
                </a:lnTo>
                <a:lnTo>
                  <a:pt x="173675" y="154345"/>
                </a:lnTo>
                <a:lnTo>
                  <a:pt x="176744" y="163856"/>
                </a:lnTo>
                <a:lnTo>
                  <a:pt x="179635" y="173584"/>
                </a:lnTo>
                <a:lnTo>
                  <a:pt x="185107" y="193424"/>
                </a:lnTo>
                <a:lnTo>
                  <a:pt x="187751" y="204303"/>
                </a:lnTo>
                <a:lnTo>
                  <a:pt x="192947" y="227679"/>
                </a:lnTo>
                <a:lnTo>
                  <a:pt x="194671" y="238992"/>
                </a:lnTo>
                <a:lnTo>
                  <a:pt x="195821" y="249921"/>
                </a:lnTo>
                <a:lnTo>
                  <a:pt x="196587" y="260594"/>
                </a:lnTo>
                <a:lnTo>
                  <a:pt x="196252" y="270249"/>
                </a:lnTo>
                <a:lnTo>
                  <a:pt x="195181" y="279226"/>
                </a:lnTo>
                <a:lnTo>
                  <a:pt x="193621" y="287750"/>
                </a:lnTo>
                <a:lnTo>
                  <a:pt x="191734" y="296820"/>
                </a:lnTo>
                <a:lnTo>
                  <a:pt x="187380" y="315929"/>
                </a:lnTo>
                <a:lnTo>
                  <a:pt x="184186" y="324073"/>
                </a:lnTo>
                <a:lnTo>
                  <a:pt x="180364" y="331195"/>
                </a:lnTo>
                <a:lnTo>
                  <a:pt x="162063" y="358838"/>
                </a:lnTo>
                <a:lnTo>
                  <a:pt x="156302" y="365379"/>
                </a:lnTo>
                <a:lnTo>
                  <a:pt x="149921" y="371432"/>
                </a:lnTo>
                <a:lnTo>
                  <a:pt x="143128" y="377161"/>
                </a:lnTo>
                <a:lnTo>
                  <a:pt x="136905" y="381828"/>
                </a:lnTo>
                <a:lnTo>
                  <a:pt x="131064" y="385785"/>
                </a:lnTo>
                <a:lnTo>
                  <a:pt x="125476" y="389270"/>
                </a:lnTo>
                <a:lnTo>
                  <a:pt x="119211" y="392440"/>
                </a:lnTo>
                <a:lnTo>
                  <a:pt x="112494" y="395400"/>
                </a:lnTo>
                <a:lnTo>
                  <a:pt x="105476" y="398220"/>
                </a:lnTo>
                <a:lnTo>
                  <a:pt x="98257" y="400099"/>
                </a:lnTo>
                <a:lnTo>
                  <a:pt x="90905" y="401353"/>
                </a:lnTo>
                <a:lnTo>
                  <a:pt x="83463" y="402188"/>
                </a:lnTo>
                <a:lnTo>
                  <a:pt x="75962" y="402746"/>
                </a:lnTo>
                <a:lnTo>
                  <a:pt x="68421" y="403117"/>
                </a:lnTo>
                <a:lnTo>
                  <a:pt x="60854" y="403365"/>
                </a:lnTo>
                <a:lnTo>
                  <a:pt x="53270" y="402683"/>
                </a:lnTo>
                <a:lnTo>
                  <a:pt x="45673" y="401382"/>
                </a:lnTo>
                <a:lnTo>
                  <a:pt x="38069" y="399668"/>
                </a:lnTo>
                <a:lnTo>
                  <a:pt x="32153" y="397679"/>
                </a:lnTo>
                <a:lnTo>
                  <a:pt x="27362" y="395505"/>
                </a:lnTo>
                <a:lnTo>
                  <a:pt x="23321" y="393210"/>
                </a:lnTo>
                <a:lnTo>
                  <a:pt x="18934" y="391680"/>
                </a:lnTo>
                <a:lnTo>
                  <a:pt x="14316" y="390660"/>
                </a:lnTo>
                <a:lnTo>
                  <a:pt x="9544" y="389979"/>
                </a:lnTo>
                <a:lnTo>
                  <a:pt x="6363" y="388679"/>
                </a:lnTo>
                <a:lnTo>
                  <a:pt x="4242" y="386966"/>
                </a:lnTo>
                <a:lnTo>
                  <a:pt x="0" y="3810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77"/>
          <p:cNvSpPr/>
          <p:nvPr/>
        </p:nvSpPr>
        <p:spPr>
          <a:xfrm>
            <a:off x="3192480" y="484668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4045" y="7620"/>
                </a:lnTo>
                <a:lnTo>
                  <a:pt x="6930" y="6773"/>
                </a:lnTo>
                <a:lnTo>
                  <a:pt x="10546" y="5363"/>
                </a:lnTo>
                <a:lnTo>
                  <a:pt x="14651" y="3575"/>
                </a:lnTo>
                <a:lnTo>
                  <a:pt x="18234" y="2383"/>
                </a:lnTo>
                <a:lnTo>
                  <a:pt x="21469" y="1589"/>
                </a:lnTo>
                <a:lnTo>
                  <a:pt x="24473" y="1059"/>
                </a:lnTo>
                <a:lnTo>
                  <a:pt x="29862" y="706"/>
                </a:lnTo>
                <a:lnTo>
                  <a:pt x="36841" y="471"/>
                </a:lnTo>
                <a:lnTo>
                  <a:pt x="68331" y="93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78"/>
          <p:cNvSpPr/>
          <p:nvPr/>
        </p:nvSpPr>
        <p:spPr>
          <a:xfrm>
            <a:off x="3216240" y="4906800"/>
            <a:ext cx="204840" cy="24120"/>
          </a:xfrm>
          <a:custGeom>
            <a:avLst/>
            <a:gdLst>
              <a:gd name="textAreaLeft" fmla="*/ 0 w 204840"/>
              <a:gd name="textAreaRight" fmla="*/ 205200 w 2048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05741" h="22857">
                <a:moveTo>
                  <a:pt x="0" y="0"/>
                </a:moveTo>
                <a:lnTo>
                  <a:pt x="0" y="6560"/>
                </a:lnTo>
                <a:lnTo>
                  <a:pt x="846" y="6913"/>
                </a:lnTo>
                <a:lnTo>
                  <a:pt x="4045" y="7306"/>
                </a:lnTo>
                <a:lnTo>
                  <a:pt x="5237" y="8257"/>
                </a:lnTo>
                <a:lnTo>
                  <a:pt x="6031" y="9738"/>
                </a:lnTo>
                <a:lnTo>
                  <a:pt x="6561" y="11572"/>
                </a:lnTo>
                <a:lnTo>
                  <a:pt x="8608" y="13641"/>
                </a:lnTo>
                <a:lnTo>
                  <a:pt x="11665" y="15867"/>
                </a:lnTo>
                <a:lnTo>
                  <a:pt x="15397" y="18198"/>
                </a:lnTo>
                <a:lnTo>
                  <a:pt x="20424" y="19752"/>
                </a:lnTo>
                <a:lnTo>
                  <a:pt x="26316" y="20788"/>
                </a:lnTo>
                <a:lnTo>
                  <a:pt x="32784" y="21478"/>
                </a:lnTo>
                <a:lnTo>
                  <a:pt x="38789" y="21939"/>
                </a:lnTo>
                <a:lnTo>
                  <a:pt x="44487" y="22246"/>
                </a:lnTo>
                <a:lnTo>
                  <a:pt x="49977" y="22450"/>
                </a:lnTo>
                <a:lnTo>
                  <a:pt x="73887" y="22738"/>
                </a:lnTo>
                <a:lnTo>
                  <a:pt x="151280" y="22856"/>
                </a:lnTo>
                <a:lnTo>
                  <a:pt x="159273" y="22011"/>
                </a:lnTo>
                <a:lnTo>
                  <a:pt x="167142" y="20600"/>
                </a:lnTo>
                <a:lnTo>
                  <a:pt x="174928" y="18814"/>
                </a:lnTo>
                <a:lnTo>
                  <a:pt x="181812" y="17622"/>
                </a:lnTo>
                <a:lnTo>
                  <a:pt x="188094" y="16828"/>
                </a:lnTo>
                <a:lnTo>
                  <a:pt x="2057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79"/>
          <p:cNvSpPr/>
          <p:nvPr/>
        </p:nvSpPr>
        <p:spPr>
          <a:xfrm>
            <a:off x="3413160" y="4716360"/>
            <a:ext cx="358920" cy="297000"/>
          </a:xfrm>
          <a:custGeom>
            <a:avLst/>
            <a:gdLst>
              <a:gd name="textAreaLeft" fmla="*/ 0 w 358920"/>
              <a:gd name="textAreaRight" fmla="*/ 359280 w 358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57644" h="297084">
                <a:moveTo>
                  <a:pt x="0" y="15143"/>
                </a:moveTo>
                <a:lnTo>
                  <a:pt x="15397" y="15143"/>
                </a:lnTo>
                <a:lnTo>
                  <a:pt x="26316" y="17401"/>
                </a:lnTo>
                <a:lnTo>
                  <a:pt x="32784" y="19188"/>
                </a:lnTo>
                <a:lnTo>
                  <a:pt x="39636" y="20380"/>
                </a:lnTo>
                <a:lnTo>
                  <a:pt x="46744" y="21175"/>
                </a:lnTo>
                <a:lnTo>
                  <a:pt x="54023" y="21705"/>
                </a:lnTo>
                <a:lnTo>
                  <a:pt x="62262" y="22058"/>
                </a:lnTo>
                <a:lnTo>
                  <a:pt x="80447" y="22449"/>
                </a:lnTo>
                <a:lnTo>
                  <a:pt x="238450" y="22763"/>
                </a:lnTo>
                <a:lnTo>
                  <a:pt x="247867" y="21916"/>
                </a:lnTo>
                <a:lnTo>
                  <a:pt x="256685" y="20505"/>
                </a:lnTo>
                <a:lnTo>
                  <a:pt x="265104" y="18718"/>
                </a:lnTo>
                <a:lnTo>
                  <a:pt x="273256" y="16680"/>
                </a:lnTo>
                <a:lnTo>
                  <a:pt x="281230" y="14475"/>
                </a:lnTo>
                <a:lnTo>
                  <a:pt x="289087" y="12157"/>
                </a:lnTo>
                <a:lnTo>
                  <a:pt x="296865" y="10613"/>
                </a:lnTo>
                <a:lnTo>
                  <a:pt x="304590" y="9583"/>
                </a:lnTo>
                <a:lnTo>
                  <a:pt x="312280" y="8896"/>
                </a:lnTo>
                <a:lnTo>
                  <a:pt x="319100" y="8439"/>
                </a:lnTo>
                <a:lnTo>
                  <a:pt x="331194" y="7931"/>
                </a:lnTo>
                <a:lnTo>
                  <a:pt x="335943" y="6948"/>
                </a:lnTo>
                <a:lnTo>
                  <a:pt x="346671" y="2367"/>
                </a:lnTo>
                <a:lnTo>
                  <a:pt x="357643" y="0"/>
                </a:lnTo>
                <a:lnTo>
                  <a:pt x="353948" y="3977"/>
                </a:lnTo>
                <a:lnTo>
                  <a:pt x="343445" y="10518"/>
                </a:lnTo>
                <a:lnTo>
                  <a:pt x="334393" y="15346"/>
                </a:lnTo>
                <a:lnTo>
                  <a:pt x="329609" y="17818"/>
                </a:lnTo>
                <a:lnTo>
                  <a:pt x="324726" y="22007"/>
                </a:lnTo>
                <a:lnTo>
                  <a:pt x="319778" y="27339"/>
                </a:lnTo>
                <a:lnTo>
                  <a:pt x="314785" y="33434"/>
                </a:lnTo>
                <a:lnTo>
                  <a:pt x="308917" y="39190"/>
                </a:lnTo>
                <a:lnTo>
                  <a:pt x="302464" y="44721"/>
                </a:lnTo>
                <a:lnTo>
                  <a:pt x="295623" y="50102"/>
                </a:lnTo>
                <a:lnTo>
                  <a:pt x="288523" y="56229"/>
                </a:lnTo>
                <a:lnTo>
                  <a:pt x="281249" y="62854"/>
                </a:lnTo>
                <a:lnTo>
                  <a:pt x="273859" y="69811"/>
                </a:lnTo>
                <a:lnTo>
                  <a:pt x="266393" y="77835"/>
                </a:lnTo>
                <a:lnTo>
                  <a:pt x="258875" y="86571"/>
                </a:lnTo>
                <a:lnTo>
                  <a:pt x="251323" y="95781"/>
                </a:lnTo>
                <a:lnTo>
                  <a:pt x="243749" y="104462"/>
                </a:lnTo>
                <a:lnTo>
                  <a:pt x="236159" y="112790"/>
                </a:lnTo>
                <a:lnTo>
                  <a:pt x="228560" y="120881"/>
                </a:lnTo>
                <a:lnTo>
                  <a:pt x="221799" y="129662"/>
                </a:lnTo>
                <a:lnTo>
                  <a:pt x="215600" y="138902"/>
                </a:lnTo>
                <a:lnTo>
                  <a:pt x="204196" y="157354"/>
                </a:lnTo>
                <a:lnTo>
                  <a:pt x="193482" y="174022"/>
                </a:lnTo>
                <a:lnTo>
                  <a:pt x="189101" y="182022"/>
                </a:lnTo>
                <a:lnTo>
                  <a:pt x="185334" y="189895"/>
                </a:lnTo>
                <a:lnTo>
                  <a:pt x="181976" y="197684"/>
                </a:lnTo>
                <a:lnTo>
                  <a:pt x="178891" y="206264"/>
                </a:lnTo>
                <a:lnTo>
                  <a:pt x="175988" y="215371"/>
                </a:lnTo>
                <a:lnTo>
                  <a:pt x="173205" y="224828"/>
                </a:lnTo>
                <a:lnTo>
                  <a:pt x="169657" y="232827"/>
                </a:lnTo>
                <a:lnTo>
                  <a:pt x="165598" y="239852"/>
                </a:lnTo>
                <a:lnTo>
                  <a:pt x="161199" y="246229"/>
                </a:lnTo>
                <a:lnTo>
                  <a:pt x="158266" y="252174"/>
                </a:lnTo>
                <a:lnTo>
                  <a:pt x="156310" y="257830"/>
                </a:lnTo>
                <a:lnTo>
                  <a:pt x="155007" y="263294"/>
                </a:lnTo>
                <a:lnTo>
                  <a:pt x="153292" y="268631"/>
                </a:lnTo>
                <a:lnTo>
                  <a:pt x="151301" y="273882"/>
                </a:lnTo>
                <a:lnTo>
                  <a:pt x="149127" y="279075"/>
                </a:lnTo>
                <a:lnTo>
                  <a:pt x="146712" y="287105"/>
                </a:lnTo>
                <a:lnTo>
                  <a:pt x="144781" y="29708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80"/>
          <p:cNvSpPr/>
          <p:nvPr/>
        </p:nvSpPr>
        <p:spPr>
          <a:xfrm>
            <a:off x="3543480" y="4846680"/>
            <a:ext cx="228600" cy="30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8601" h="30481">
                <a:moveTo>
                  <a:pt x="0" y="0"/>
                </a:moveTo>
                <a:lnTo>
                  <a:pt x="14651" y="0"/>
                </a:lnTo>
                <a:lnTo>
                  <a:pt x="19927" y="847"/>
                </a:lnTo>
                <a:lnTo>
                  <a:pt x="25985" y="2258"/>
                </a:lnTo>
                <a:lnTo>
                  <a:pt x="32563" y="4045"/>
                </a:lnTo>
                <a:lnTo>
                  <a:pt x="40336" y="5237"/>
                </a:lnTo>
                <a:lnTo>
                  <a:pt x="48904" y="6031"/>
                </a:lnTo>
                <a:lnTo>
                  <a:pt x="58003" y="6561"/>
                </a:lnTo>
                <a:lnTo>
                  <a:pt x="67455" y="7760"/>
                </a:lnTo>
                <a:lnTo>
                  <a:pt x="77143" y="9407"/>
                </a:lnTo>
                <a:lnTo>
                  <a:pt x="86989" y="11351"/>
                </a:lnTo>
                <a:lnTo>
                  <a:pt x="106960" y="15770"/>
                </a:lnTo>
                <a:lnTo>
                  <a:pt x="117026" y="18133"/>
                </a:lnTo>
                <a:lnTo>
                  <a:pt x="126278" y="20555"/>
                </a:lnTo>
                <a:lnTo>
                  <a:pt x="134985" y="23017"/>
                </a:lnTo>
                <a:lnTo>
                  <a:pt x="143330" y="25505"/>
                </a:lnTo>
                <a:lnTo>
                  <a:pt x="151433" y="27163"/>
                </a:lnTo>
                <a:lnTo>
                  <a:pt x="159376" y="28269"/>
                </a:lnTo>
                <a:lnTo>
                  <a:pt x="167210" y="29006"/>
                </a:lnTo>
                <a:lnTo>
                  <a:pt x="174127" y="29497"/>
                </a:lnTo>
                <a:lnTo>
                  <a:pt x="180432" y="29824"/>
                </a:lnTo>
                <a:lnTo>
                  <a:pt x="186328" y="30043"/>
                </a:lnTo>
                <a:lnTo>
                  <a:pt x="206761" y="30350"/>
                </a:lnTo>
                <a:lnTo>
                  <a:pt x="2286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81"/>
          <p:cNvSpPr/>
          <p:nvPr/>
        </p:nvSpPr>
        <p:spPr>
          <a:xfrm>
            <a:off x="3819600" y="4678200"/>
            <a:ext cx="181080" cy="158760"/>
          </a:xfrm>
          <a:custGeom>
            <a:avLst/>
            <a:gdLst>
              <a:gd name="textAreaLeft" fmla="*/ 0 w 181080"/>
              <a:gd name="textAreaRight" fmla="*/ 181440 w 1810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80153" h="159213">
                <a:moveTo>
                  <a:pt x="150290" y="7612"/>
                </a:moveTo>
                <a:lnTo>
                  <a:pt x="150290" y="19"/>
                </a:lnTo>
                <a:lnTo>
                  <a:pt x="146245" y="0"/>
                </a:lnTo>
                <a:lnTo>
                  <a:pt x="142513" y="844"/>
                </a:lnTo>
                <a:lnTo>
                  <a:pt x="137486" y="2253"/>
                </a:lnTo>
                <a:lnTo>
                  <a:pt x="131594" y="4040"/>
                </a:lnTo>
                <a:lnTo>
                  <a:pt x="125126" y="6924"/>
                </a:lnTo>
                <a:lnTo>
                  <a:pt x="118274" y="10540"/>
                </a:lnTo>
                <a:lnTo>
                  <a:pt x="111166" y="14644"/>
                </a:lnTo>
                <a:lnTo>
                  <a:pt x="103888" y="19073"/>
                </a:lnTo>
                <a:lnTo>
                  <a:pt x="89027" y="28510"/>
                </a:lnTo>
                <a:lnTo>
                  <a:pt x="80661" y="33397"/>
                </a:lnTo>
                <a:lnTo>
                  <a:pt x="71698" y="38349"/>
                </a:lnTo>
                <a:lnTo>
                  <a:pt x="62335" y="43343"/>
                </a:lnTo>
                <a:lnTo>
                  <a:pt x="53553" y="49213"/>
                </a:lnTo>
                <a:lnTo>
                  <a:pt x="45159" y="55666"/>
                </a:lnTo>
                <a:lnTo>
                  <a:pt x="37023" y="62508"/>
                </a:lnTo>
                <a:lnTo>
                  <a:pt x="29905" y="68763"/>
                </a:lnTo>
                <a:lnTo>
                  <a:pt x="17481" y="80228"/>
                </a:lnTo>
                <a:lnTo>
                  <a:pt x="12644" y="85656"/>
                </a:lnTo>
                <a:lnTo>
                  <a:pt x="8573" y="90968"/>
                </a:lnTo>
                <a:lnTo>
                  <a:pt x="5012" y="96203"/>
                </a:lnTo>
                <a:lnTo>
                  <a:pt x="2638" y="101386"/>
                </a:lnTo>
                <a:lnTo>
                  <a:pt x="1055" y="106535"/>
                </a:lnTo>
                <a:lnTo>
                  <a:pt x="0" y="111661"/>
                </a:lnTo>
                <a:lnTo>
                  <a:pt x="144" y="116771"/>
                </a:lnTo>
                <a:lnTo>
                  <a:pt x="1086" y="121872"/>
                </a:lnTo>
                <a:lnTo>
                  <a:pt x="2560" y="126965"/>
                </a:lnTo>
                <a:lnTo>
                  <a:pt x="5237" y="131207"/>
                </a:lnTo>
                <a:lnTo>
                  <a:pt x="8715" y="134883"/>
                </a:lnTo>
                <a:lnTo>
                  <a:pt x="12726" y="138179"/>
                </a:lnTo>
                <a:lnTo>
                  <a:pt x="17095" y="142070"/>
                </a:lnTo>
                <a:lnTo>
                  <a:pt x="26463" y="150909"/>
                </a:lnTo>
                <a:lnTo>
                  <a:pt x="32179" y="153943"/>
                </a:lnTo>
                <a:lnTo>
                  <a:pt x="38529" y="155966"/>
                </a:lnTo>
                <a:lnTo>
                  <a:pt x="45303" y="157315"/>
                </a:lnTo>
                <a:lnTo>
                  <a:pt x="53206" y="158214"/>
                </a:lnTo>
                <a:lnTo>
                  <a:pt x="61861" y="158813"/>
                </a:lnTo>
                <a:lnTo>
                  <a:pt x="71017" y="159212"/>
                </a:lnTo>
                <a:lnTo>
                  <a:pt x="79661" y="157786"/>
                </a:lnTo>
                <a:lnTo>
                  <a:pt x="87964" y="155141"/>
                </a:lnTo>
                <a:lnTo>
                  <a:pt x="96040" y="151685"/>
                </a:lnTo>
                <a:lnTo>
                  <a:pt x="103963" y="147687"/>
                </a:lnTo>
                <a:lnTo>
                  <a:pt x="111785" y="143329"/>
                </a:lnTo>
                <a:lnTo>
                  <a:pt x="119541" y="138730"/>
                </a:lnTo>
                <a:lnTo>
                  <a:pt x="127250" y="133124"/>
                </a:lnTo>
                <a:lnTo>
                  <a:pt x="134931" y="126847"/>
                </a:lnTo>
                <a:lnTo>
                  <a:pt x="142591" y="120122"/>
                </a:lnTo>
                <a:lnTo>
                  <a:pt x="155617" y="108134"/>
                </a:lnTo>
                <a:lnTo>
                  <a:pt x="161461" y="102567"/>
                </a:lnTo>
                <a:lnTo>
                  <a:pt x="166204" y="97162"/>
                </a:lnTo>
                <a:lnTo>
                  <a:pt x="170213" y="91865"/>
                </a:lnTo>
                <a:lnTo>
                  <a:pt x="173732" y="86641"/>
                </a:lnTo>
                <a:lnTo>
                  <a:pt x="176078" y="80618"/>
                </a:lnTo>
                <a:lnTo>
                  <a:pt x="177642" y="74062"/>
                </a:lnTo>
                <a:lnTo>
                  <a:pt x="178685" y="67153"/>
                </a:lnTo>
                <a:lnTo>
                  <a:pt x="179380" y="61699"/>
                </a:lnTo>
                <a:lnTo>
                  <a:pt x="179843" y="57216"/>
                </a:lnTo>
                <a:lnTo>
                  <a:pt x="180152" y="53382"/>
                </a:lnTo>
                <a:lnTo>
                  <a:pt x="179512" y="49132"/>
                </a:lnTo>
                <a:lnTo>
                  <a:pt x="178238" y="44605"/>
                </a:lnTo>
                <a:lnTo>
                  <a:pt x="176542" y="39894"/>
                </a:lnTo>
                <a:lnTo>
                  <a:pt x="174565" y="36754"/>
                </a:lnTo>
                <a:lnTo>
                  <a:pt x="172400" y="34660"/>
                </a:lnTo>
                <a:lnTo>
                  <a:pt x="170110" y="33264"/>
                </a:lnTo>
                <a:lnTo>
                  <a:pt x="166043" y="31487"/>
                </a:lnTo>
                <a:lnTo>
                  <a:pt x="160793" y="29455"/>
                </a:lnTo>
                <a:lnTo>
                  <a:pt x="154752" y="27254"/>
                </a:lnTo>
                <a:lnTo>
                  <a:pt x="149031" y="25787"/>
                </a:lnTo>
                <a:lnTo>
                  <a:pt x="143525" y="24808"/>
                </a:lnTo>
                <a:lnTo>
                  <a:pt x="138160" y="24156"/>
                </a:lnTo>
                <a:lnTo>
                  <a:pt x="131196" y="24568"/>
                </a:lnTo>
                <a:lnTo>
                  <a:pt x="123168" y="25689"/>
                </a:lnTo>
                <a:lnTo>
                  <a:pt x="114429" y="27283"/>
                </a:lnTo>
                <a:lnTo>
                  <a:pt x="106063" y="29193"/>
                </a:lnTo>
                <a:lnTo>
                  <a:pt x="97945" y="31312"/>
                </a:lnTo>
                <a:lnTo>
                  <a:pt x="89994" y="33572"/>
                </a:lnTo>
                <a:lnTo>
                  <a:pt x="82999" y="35926"/>
                </a:lnTo>
                <a:lnTo>
                  <a:pt x="76643" y="38341"/>
                </a:lnTo>
                <a:lnTo>
                  <a:pt x="58851" y="4571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82"/>
          <p:cNvSpPr/>
          <p:nvPr/>
        </p:nvSpPr>
        <p:spPr>
          <a:xfrm>
            <a:off x="3817800" y="4808520"/>
            <a:ext cx="177840" cy="181080"/>
          </a:xfrm>
          <a:custGeom>
            <a:avLst/>
            <a:gdLst>
              <a:gd name="textAreaLeft" fmla="*/ 0 w 177840"/>
              <a:gd name="textAreaRight" fmla="*/ 178200 w 177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7844" h="181213">
                <a:moveTo>
                  <a:pt x="129267" y="7592"/>
                </a:moveTo>
                <a:lnTo>
                  <a:pt x="129267" y="1032"/>
                </a:lnTo>
                <a:lnTo>
                  <a:pt x="128420" y="678"/>
                </a:lnTo>
                <a:lnTo>
                  <a:pt x="123183" y="182"/>
                </a:lnTo>
                <a:lnTo>
                  <a:pt x="118662" y="65"/>
                </a:lnTo>
                <a:lnTo>
                  <a:pt x="111355" y="0"/>
                </a:lnTo>
                <a:lnTo>
                  <a:pt x="108012" y="837"/>
                </a:lnTo>
                <a:lnTo>
                  <a:pt x="104091" y="2243"/>
                </a:lnTo>
                <a:lnTo>
                  <a:pt x="99783" y="4026"/>
                </a:lnTo>
                <a:lnTo>
                  <a:pt x="94371" y="6061"/>
                </a:lnTo>
                <a:lnTo>
                  <a:pt x="81585" y="10581"/>
                </a:lnTo>
                <a:lnTo>
                  <a:pt x="75465" y="13818"/>
                </a:lnTo>
                <a:lnTo>
                  <a:pt x="69693" y="17670"/>
                </a:lnTo>
                <a:lnTo>
                  <a:pt x="64151" y="21930"/>
                </a:lnTo>
                <a:lnTo>
                  <a:pt x="57917" y="26464"/>
                </a:lnTo>
                <a:lnTo>
                  <a:pt x="44215" y="36018"/>
                </a:lnTo>
                <a:lnTo>
                  <a:pt x="37853" y="40936"/>
                </a:lnTo>
                <a:lnTo>
                  <a:pt x="31917" y="45908"/>
                </a:lnTo>
                <a:lnTo>
                  <a:pt x="26268" y="50916"/>
                </a:lnTo>
                <a:lnTo>
                  <a:pt x="20808" y="56795"/>
                </a:lnTo>
                <a:lnTo>
                  <a:pt x="15475" y="63254"/>
                </a:lnTo>
                <a:lnTo>
                  <a:pt x="10225" y="70100"/>
                </a:lnTo>
                <a:lnTo>
                  <a:pt x="6726" y="76357"/>
                </a:lnTo>
                <a:lnTo>
                  <a:pt x="4393" y="82223"/>
                </a:lnTo>
                <a:lnTo>
                  <a:pt x="2838" y="87826"/>
                </a:lnTo>
                <a:lnTo>
                  <a:pt x="1801" y="94101"/>
                </a:lnTo>
                <a:lnTo>
                  <a:pt x="1109" y="100825"/>
                </a:lnTo>
                <a:lnTo>
                  <a:pt x="649" y="107847"/>
                </a:lnTo>
                <a:lnTo>
                  <a:pt x="137" y="120166"/>
                </a:lnTo>
                <a:lnTo>
                  <a:pt x="0" y="125821"/>
                </a:lnTo>
                <a:lnTo>
                  <a:pt x="756" y="131285"/>
                </a:lnTo>
                <a:lnTo>
                  <a:pt x="2106" y="136621"/>
                </a:lnTo>
                <a:lnTo>
                  <a:pt x="3853" y="141871"/>
                </a:lnTo>
                <a:lnTo>
                  <a:pt x="7558" y="147064"/>
                </a:lnTo>
                <a:lnTo>
                  <a:pt x="12568" y="152221"/>
                </a:lnTo>
                <a:lnTo>
                  <a:pt x="18448" y="157351"/>
                </a:lnTo>
                <a:lnTo>
                  <a:pt x="24060" y="161618"/>
                </a:lnTo>
                <a:lnTo>
                  <a:pt x="29496" y="165310"/>
                </a:lnTo>
                <a:lnTo>
                  <a:pt x="34813" y="168617"/>
                </a:lnTo>
                <a:lnTo>
                  <a:pt x="40897" y="171669"/>
                </a:lnTo>
                <a:lnTo>
                  <a:pt x="47494" y="174550"/>
                </a:lnTo>
                <a:lnTo>
                  <a:pt x="54432" y="177318"/>
                </a:lnTo>
                <a:lnTo>
                  <a:pt x="60751" y="179163"/>
                </a:lnTo>
                <a:lnTo>
                  <a:pt x="66656" y="180393"/>
                </a:lnTo>
                <a:lnTo>
                  <a:pt x="72286" y="181212"/>
                </a:lnTo>
                <a:lnTo>
                  <a:pt x="78580" y="180066"/>
                </a:lnTo>
                <a:lnTo>
                  <a:pt x="85316" y="177608"/>
                </a:lnTo>
                <a:lnTo>
                  <a:pt x="92346" y="174276"/>
                </a:lnTo>
                <a:lnTo>
                  <a:pt x="99573" y="170362"/>
                </a:lnTo>
                <a:lnTo>
                  <a:pt x="106931" y="166059"/>
                </a:lnTo>
                <a:lnTo>
                  <a:pt x="114376" y="161496"/>
                </a:lnTo>
                <a:lnTo>
                  <a:pt x="121034" y="156762"/>
                </a:lnTo>
                <a:lnTo>
                  <a:pt x="127165" y="151912"/>
                </a:lnTo>
                <a:lnTo>
                  <a:pt x="132946" y="146985"/>
                </a:lnTo>
                <a:lnTo>
                  <a:pt x="139339" y="141161"/>
                </a:lnTo>
                <a:lnTo>
                  <a:pt x="153217" y="127916"/>
                </a:lnTo>
                <a:lnTo>
                  <a:pt x="158780" y="120828"/>
                </a:lnTo>
                <a:lnTo>
                  <a:pt x="163336" y="113563"/>
                </a:lnTo>
                <a:lnTo>
                  <a:pt x="176730" y="87697"/>
                </a:lnTo>
                <a:lnTo>
                  <a:pt x="177843" y="81316"/>
                </a:lnTo>
                <a:lnTo>
                  <a:pt x="177738" y="74521"/>
                </a:lnTo>
                <a:lnTo>
                  <a:pt x="176821" y="67452"/>
                </a:lnTo>
                <a:lnTo>
                  <a:pt x="175363" y="61045"/>
                </a:lnTo>
                <a:lnTo>
                  <a:pt x="173544" y="55081"/>
                </a:lnTo>
                <a:lnTo>
                  <a:pt x="171486" y="49411"/>
                </a:lnTo>
                <a:lnTo>
                  <a:pt x="168419" y="44785"/>
                </a:lnTo>
                <a:lnTo>
                  <a:pt x="164682" y="40854"/>
                </a:lnTo>
                <a:lnTo>
                  <a:pt x="160497" y="37387"/>
                </a:lnTo>
                <a:lnTo>
                  <a:pt x="155167" y="33382"/>
                </a:lnTo>
                <a:lnTo>
                  <a:pt x="142471" y="24417"/>
                </a:lnTo>
                <a:lnTo>
                  <a:pt x="137223" y="21349"/>
                </a:lnTo>
                <a:lnTo>
                  <a:pt x="132878" y="19303"/>
                </a:lnTo>
                <a:lnTo>
                  <a:pt x="121648" y="1521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83"/>
          <p:cNvSpPr/>
          <p:nvPr/>
        </p:nvSpPr>
        <p:spPr>
          <a:xfrm>
            <a:off x="647640" y="5211720"/>
            <a:ext cx="236520" cy="24120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36221" h="239954">
                <a:moveTo>
                  <a:pt x="0" y="37748"/>
                </a:moveTo>
                <a:lnTo>
                  <a:pt x="0" y="33703"/>
                </a:lnTo>
                <a:lnTo>
                  <a:pt x="847" y="32511"/>
                </a:lnTo>
                <a:lnTo>
                  <a:pt x="2258" y="31717"/>
                </a:lnTo>
                <a:lnTo>
                  <a:pt x="4045" y="31187"/>
                </a:lnTo>
                <a:lnTo>
                  <a:pt x="8289" y="28340"/>
                </a:lnTo>
                <a:lnTo>
                  <a:pt x="15438" y="21978"/>
                </a:lnTo>
                <a:lnTo>
                  <a:pt x="21255" y="17192"/>
                </a:lnTo>
                <a:lnTo>
                  <a:pt x="25177" y="14730"/>
                </a:lnTo>
                <a:lnTo>
                  <a:pt x="29484" y="12243"/>
                </a:lnTo>
                <a:lnTo>
                  <a:pt x="34896" y="10585"/>
                </a:lnTo>
                <a:lnTo>
                  <a:pt x="41044" y="9479"/>
                </a:lnTo>
                <a:lnTo>
                  <a:pt x="47683" y="8742"/>
                </a:lnTo>
                <a:lnTo>
                  <a:pt x="55495" y="7404"/>
                </a:lnTo>
                <a:lnTo>
                  <a:pt x="64090" y="5666"/>
                </a:lnTo>
                <a:lnTo>
                  <a:pt x="73207" y="3660"/>
                </a:lnTo>
                <a:lnTo>
                  <a:pt x="81825" y="2323"/>
                </a:lnTo>
                <a:lnTo>
                  <a:pt x="90110" y="1431"/>
                </a:lnTo>
                <a:lnTo>
                  <a:pt x="98173" y="837"/>
                </a:lnTo>
                <a:lnTo>
                  <a:pt x="106936" y="441"/>
                </a:lnTo>
                <a:lnTo>
                  <a:pt x="125703" y="0"/>
                </a:lnTo>
                <a:lnTo>
                  <a:pt x="134602" y="729"/>
                </a:lnTo>
                <a:lnTo>
                  <a:pt x="143075" y="2062"/>
                </a:lnTo>
                <a:lnTo>
                  <a:pt x="151263" y="3797"/>
                </a:lnTo>
                <a:lnTo>
                  <a:pt x="158415" y="4954"/>
                </a:lnTo>
                <a:lnTo>
                  <a:pt x="164877" y="5725"/>
                </a:lnTo>
                <a:lnTo>
                  <a:pt x="170878" y="6239"/>
                </a:lnTo>
                <a:lnTo>
                  <a:pt x="177419" y="8276"/>
                </a:lnTo>
                <a:lnTo>
                  <a:pt x="184319" y="11326"/>
                </a:lnTo>
                <a:lnTo>
                  <a:pt x="191459" y="15054"/>
                </a:lnTo>
                <a:lnTo>
                  <a:pt x="197066" y="18385"/>
                </a:lnTo>
                <a:lnTo>
                  <a:pt x="201651" y="21452"/>
                </a:lnTo>
                <a:lnTo>
                  <a:pt x="205554" y="24344"/>
                </a:lnTo>
                <a:lnTo>
                  <a:pt x="208156" y="27119"/>
                </a:lnTo>
                <a:lnTo>
                  <a:pt x="209891" y="29815"/>
                </a:lnTo>
                <a:lnTo>
                  <a:pt x="211047" y="32459"/>
                </a:lnTo>
                <a:lnTo>
                  <a:pt x="210972" y="35915"/>
                </a:lnTo>
                <a:lnTo>
                  <a:pt x="210074" y="39913"/>
                </a:lnTo>
                <a:lnTo>
                  <a:pt x="208630" y="44271"/>
                </a:lnTo>
                <a:lnTo>
                  <a:pt x="204767" y="51371"/>
                </a:lnTo>
                <a:lnTo>
                  <a:pt x="199381" y="58196"/>
                </a:lnTo>
                <a:lnTo>
                  <a:pt x="195574" y="62387"/>
                </a:lnTo>
                <a:lnTo>
                  <a:pt x="191343" y="66874"/>
                </a:lnTo>
                <a:lnTo>
                  <a:pt x="185982" y="71558"/>
                </a:lnTo>
                <a:lnTo>
                  <a:pt x="179868" y="76375"/>
                </a:lnTo>
                <a:lnTo>
                  <a:pt x="173252" y="81279"/>
                </a:lnTo>
                <a:lnTo>
                  <a:pt x="159128" y="91244"/>
                </a:lnTo>
                <a:lnTo>
                  <a:pt x="151805" y="96272"/>
                </a:lnTo>
                <a:lnTo>
                  <a:pt x="143537" y="101317"/>
                </a:lnTo>
                <a:lnTo>
                  <a:pt x="134638" y="106374"/>
                </a:lnTo>
                <a:lnTo>
                  <a:pt x="125319" y="111438"/>
                </a:lnTo>
                <a:lnTo>
                  <a:pt x="116566" y="116508"/>
                </a:lnTo>
                <a:lnTo>
                  <a:pt x="100067" y="126656"/>
                </a:lnTo>
                <a:lnTo>
                  <a:pt x="92958" y="131734"/>
                </a:lnTo>
                <a:lnTo>
                  <a:pt x="86525" y="136812"/>
                </a:lnTo>
                <a:lnTo>
                  <a:pt x="80544" y="141890"/>
                </a:lnTo>
                <a:lnTo>
                  <a:pt x="74016" y="147816"/>
                </a:lnTo>
                <a:lnTo>
                  <a:pt x="54386" y="166598"/>
                </a:lnTo>
                <a:lnTo>
                  <a:pt x="45903" y="174883"/>
                </a:lnTo>
                <a:lnTo>
                  <a:pt x="43302" y="179125"/>
                </a:lnTo>
                <a:lnTo>
                  <a:pt x="41568" y="183646"/>
                </a:lnTo>
                <a:lnTo>
                  <a:pt x="40412" y="188353"/>
                </a:lnTo>
                <a:lnTo>
                  <a:pt x="39641" y="193185"/>
                </a:lnTo>
                <a:lnTo>
                  <a:pt x="39128" y="198099"/>
                </a:lnTo>
                <a:lnTo>
                  <a:pt x="38785" y="203068"/>
                </a:lnTo>
                <a:lnTo>
                  <a:pt x="39403" y="207228"/>
                </a:lnTo>
                <a:lnTo>
                  <a:pt x="42348" y="214108"/>
                </a:lnTo>
                <a:lnTo>
                  <a:pt x="46012" y="217128"/>
                </a:lnTo>
                <a:lnTo>
                  <a:pt x="50995" y="219988"/>
                </a:lnTo>
                <a:lnTo>
                  <a:pt x="67885" y="228058"/>
                </a:lnTo>
                <a:lnTo>
                  <a:pt x="73197" y="230661"/>
                </a:lnTo>
                <a:lnTo>
                  <a:pt x="80125" y="232397"/>
                </a:lnTo>
                <a:lnTo>
                  <a:pt x="88130" y="233554"/>
                </a:lnTo>
                <a:lnTo>
                  <a:pt x="96853" y="234325"/>
                </a:lnTo>
                <a:lnTo>
                  <a:pt x="105209" y="235686"/>
                </a:lnTo>
                <a:lnTo>
                  <a:pt x="113319" y="237440"/>
                </a:lnTo>
                <a:lnTo>
                  <a:pt x="121266" y="239456"/>
                </a:lnTo>
                <a:lnTo>
                  <a:pt x="129951" y="239953"/>
                </a:lnTo>
                <a:lnTo>
                  <a:pt x="139127" y="239438"/>
                </a:lnTo>
                <a:lnTo>
                  <a:pt x="148631" y="238248"/>
                </a:lnTo>
                <a:lnTo>
                  <a:pt x="157508" y="236607"/>
                </a:lnTo>
                <a:lnTo>
                  <a:pt x="165965" y="234668"/>
                </a:lnTo>
                <a:lnTo>
                  <a:pt x="174143" y="232528"/>
                </a:lnTo>
                <a:lnTo>
                  <a:pt x="183829" y="231101"/>
                </a:lnTo>
                <a:lnTo>
                  <a:pt x="194519" y="230150"/>
                </a:lnTo>
                <a:lnTo>
                  <a:pt x="205879" y="229516"/>
                </a:lnTo>
                <a:lnTo>
                  <a:pt x="214300" y="228246"/>
                </a:lnTo>
                <a:lnTo>
                  <a:pt x="220760" y="226553"/>
                </a:lnTo>
                <a:lnTo>
                  <a:pt x="236220" y="2206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84"/>
          <p:cNvSpPr/>
          <p:nvPr/>
        </p:nvSpPr>
        <p:spPr>
          <a:xfrm>
            <a:off x="853920" y="5349960"/>
            <a:ext cx="182880" cy="174600"/>
          </a:xfrm>
          <a:custGeom>
            <a:avLst/>
            <a:gdLst>
              <a:gd name="textAreaLeft" fmla="*/ 0 w 182880"/>
              <a:gd name="textAreaRight" fmla="*/ 183240 w 1828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82881" h="175261">
                <a:moveTo>
                  <a:pt x="182880" y="0"/>
                </a:moveTo>
                <a:lnTo>
                  <a:pt x="176319" y="6561"/>
                </a:lnTo>
                <a:lnTo>
                  <a:pt x="175731" y="9407"/>
                </a:lnTo>
                <a:lnTo>
                  <a:pt x="175574" y="11351"/>
                </a:lnTo>
                <a:lnTo>
                  <a:pt x="174623" y="13494"/>
                </a:lnTo>
                <a:lnTo>
                  <a:pt x="171308" y="18132"/>
                </a:lnTo>
                <a:lnTo>
                  <a:pt x="167012" y="23017"/>
                </a:lnTo>
                <a:lnTo>
                  <a:pt x="164682" y="25504"/>
                </a:lnTo>
                <a:lnTo>
                  <a:pt x="153311" y="37096"/>
                </a:lnTo>
                <a:lnTo>
                  <a:pt x="148774" y="42510"/>
                </a:lnTo>
                <a:lnTo>
                  <a:pt x="144056" y="48661"/>
                </a:lnTo>
                <a:lnTo>
                  <a:pt x="139217" y="55300"/>
                </a:lnTo>
                <a:lnTo>
                  <a:pt x="133452" y="61420"/>
                </a:lnTo>
                <a:lnTo>
                  <a:pt x="127068" y="67193"/>
                </a:lnTo>
                <a:lnTo>
                  <a:pt x="120272" y="72736"/>
                </a:lnTo>
                <a:lnTo>
                  <a:pt x="114048" y="78123"/>
                </a:lnTo>
                <a:lnTo>
                  <a:pt x="108205" y="83409"/>
                </a:lnTo>
                <a:lnTo>
                  <a:pt x="102617" y="88626"/>
                </a:lnTo>
                <a:lnTo>
                  <a:pt x="82616" y="108104"/>
                </a:lnTo>
                <a:lnTo>
                  <a:pt x="75397" y="114402"/>
                </a:lnTo>
                <a:lnTo>
                  <a:pt x="68045" y="120295"/>
                </a:lnTo>
                <a:lnTo>
                  <a:pt x="60603" y="125917"/>
                </a:lnTo>
                <a:lnTo>
                  <a:pt x="53949" y="131358"/>
                </a:lnTo>
                <a:lnTo>
                  <a:pt x="47819" y="136679"/>
                </a:lnTo>
                <a:lnTo>
                  <a:pt x="42040" y="141919"/>
                </a:lnTo>
                <a:lnTo>
                  <a:pt x="31102" y="152257"/>
                </a:lnTo>
                <a:lnTo>
                  <a:pt x="14328" y="168646"/>
                </a:lnTo>
                <a:lnTo>
                  <a:pt x="11245" y="170851"/>
                </a:lnTo>
                <a:lnTo>
                  <a:pt x="5562" y="173300"/>
                </a:lnTo>
                <a:lnTo>
                  <a:pt x="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85"/>
          <p:cNvSpPr/>
          <p:nvPr/>
        </p:nvSpPr>
        <p:spPr>
          <a:xfrm>
            <a:off x="898560" y="531180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021" h="16002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2258" y="11665"/>
                </a:lnTo>
                <a:lnTo>
                  <a:pt x="10606" y="28739"/>
                </a:lnTo>
                <a:lnTo>
                  <a:pt x="17912" y="43417"/>
                </a:lnTo>
                <a:lnTo>
                  <a:pt x="21255" y="49264"/>
                </a:lnTo>
                <a:lnTo>
                  <a:pt x="25177" y="55703"/>
                </a:lnTo>
                <a:lnTo>
                  <a:pt x="29484" y="62535"/>
                </a:lnTo>
                <a:lnTo>
                  <a:pt x="34896" y="68784"/>
                </a:lnTo>
                <a:lnTo>
                  <a:pt x="41044" y="74642"/>
                </a:lnTo>
                <a:lnTo>
                  <a:pt x="47683" y="80241"/>
                </a:lnTo>
                <a:lnTo>
                  <a:pt x="53802" y="86514"/>
                </a:lnTo>
                <a:lnTo>
                  <a:pt x="59575" y="93236"/>
                </a:lnTo>
                <a:lnTo>
                  <a:pt x="65116" y="100258"/>
                </a:lnTo>
                <a:lnTo>
                  <a:pt x="71351" y="106632"/>
                </a:lnTo>
                <a:lnTo>
                  <a:pt x="78048" y="112574"/>
                </a:lnTo>
                <a:lnTo>
                  <a:pt x="85052" y="118229"/>
                </a:lnTo>
                <a:lnTo>
                  <a:pt x="92261" y="123693"/>
                </a:lnTo>
                <a:lnTo>
                  <a:pt x="107045" y="134279"/>
                </a:lnTo>
                <a:lnTo>
                  <a:pt x="115390" y="139473"/>
                </a:lnTo>
                <a:lnTo>
                  <a:pt x="124340" y="144628"/>
                </a:lnTo>
                <a:lnTo>
                  <a:pt x="133694" y="149759"/>
                </a:lnTo>
                <a:lnTo>
                  <a:pt x="140776" y="153179"/>
                </a:lnTo>
                <a:lnTo>
                  <a:pt x="146344" y="155459"/>
                </a:lnTo>
                <a:lnTo>
                  <a:pt x="16002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86"/>
          <p:cNvSpPr/>
          <p:nvPr/>
        </p:nvSpPr>
        <p:spPr>
          <a:xfrm>
            <a:off x="1257480" y="5280120"/>
            <a:ext cx="21960" cy="214200"/>
          </a:xfrm>
          <a:custGeom>
            <a:avLst/>
            <a:gdLst>
              <a:gd name="textAreaLeft" fmla="*/ 0 w 21960"/>
              <a:gd name="textAreaRight" fmla="*/ 22320 w 21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2831" h="213361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6031" y="8289"/>
                </a:lnTo>
                <a:lnTo>
                  <a:pt x="6561" y="10606"/>
                </a:lnTo>
                <a:lnTo>
                  <a:pt x="7760" y="12997"/>
                </a:lnTo>
                <a:lnTo>
                  <a:pt x="9407" y="15438"/>
                </a:lnTo>
                <a:lnTo>
                  <a:pt x="11352" y="17912"/>
                </a:lnTo>
                <a:lnTo>
                  <a:pt x="12648" y="21254"/>
                </a:lnTo>
                <a:lnTo>
                  <a:pt x="13512" y="25176"/>
                </a:lnTo>
                <a:lnTo>
                  <a:pt x="14088" y="29484"/>
                </a:lnTo>
                <a:lnTo>
                  <a:pt x="15319" y="33202"/>
                </a:lnTo>
                <a:lnTo>
                  <a:pt x="16986" y="36529"/>
                </a:lnTo>
                <a:lnTo>
                  <a:pt x="18944" y="39592"/>
                </a:lnTo>
                <a:lnTo>
                  <a:pt x="20249" y="44175"/>
                </a:lnTo>
                <a:lnTo>
                  <a:pt x="21120" y="49770"/>
                </a:lnTo>
                <a:lnTo>
                  <a:pt x="21700" y="56040"/>
                </a:lnTo>
                <a:lnTo>
                  <a:pt x="22087" y="61914"/>
                </a:lnTo>
                <a:lnTo>
                  <a:pt x="22344" y="67522"/>
                </a:lnTo>
                <a:lnTo>
                  <a:pt x="22631" y="78269"/>
                </a:lnTo>
                <a:lnTo>
                  <a:pt x="22830" y="108123"/>
                </a:lnTo>
                <a:lnTo>
                  <a:pt x="21993" y="115262"/>
                </a:lnTo>
                <a:lnTo>
                  <a:pt x="20589" y="122562"/>
                </a:lnTo>
                <a:lnTo>
                  <a:pt x="18806" y="129968"/>
                </a:lnTo>
                <a:lnTo>
                  <a:pt x="17617" y="136599"/>
                </a:lnTo>
                <a:lnTo>
                  <a:pt x="16825" y="142713"/>
                </a:lnTo>
                <a:lnTo>
                  <a:pt x="16296" y="148482"/>
                </a:lnTo>
                <a:lnTo>
                  <a:pt x="15098" y="154868"/>
                </a:lnTo>
                <a:lnTo>
                  <a:pt x="13452" y="161666"/>
                </a:lnTo>
                <a:lnTo>
                  <a:pt x="11508" y="168737"/>
                </a:lnTo>
                <a:lnTo>
                  <a:pt x="10212" y="175145"/>
                </a:lnTo>
                <a:lnTo>
                  <a:pt x="9348" y="181110"/>
                </a:lnTo>
                <a:lnTo>
                  <a:pt x="8772" y="186780"/>
                </a:lnTo>
                <a:lnTo>
                  <a:pt x="7541" y="191407"/>
                </a:lnTo>
                <a:lnTo>
                  <a:pt x="5874" y="195338"/>
                </a:lnTo>
                <a:lnTo>
                  <a:pt x="3916" y="198805"/>
                </a:lnTo>
                <a:lnTo>
                  <a:pt x="2611" y="201963"/>
                </a:lnTo>
                <a:lnTo>
                  <a:pt x="1740" y="204916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87"/>
          <p:cNvSpPr/>
          <p:nvPr/>
        </p:nvSpPr>
        <p:spPr>
          <a:xfrm>
            <a:off x="1249200" y="5372280"/>
            <a:ext cx="114480" cy="37800"/>
          </a:xfrm>
          <a:custGeom>
            <a:avLst/>
            <a:gdLst>
              <a:gd name="textAreaLeft" fmla="*/ 0 w 114480"/>
              <a:gd name="textAreaRight" fmla="*/ 114840 w 114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14301" h="38101">
                <a:moveTo>
                  <a:pt x="0" y="0"/>
                </a:moveTo>
                <a:lnTo>
                  <a:pt x="4046" y="0"/>
                </a:lnTo>
                <a:lnTo>
                  <a:pt x="6930" y="846"/>
                </a:lnTo>
                <a:lnTo>
                  <a:pt x="10547" y="2258"/>
                </a:lnTo>
                <a:lnTo>
                  <a:pt x="14652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3406" y="7760"/>
                </a:lnTo>
                <a:lnTo>
                  <a:pt x="38357" y="9407"/>
                </a:lnTo>
                <a:lnTo>
                  <a:pt x="43351" y="11351"/>
                </a:lnTo>
                <a:lnTo>
                  <a:pt x="55674" y="15770"/>
                </a:lnTo>
                <a:lnTo>
                  <a:pt x="62516" y="18133"/>
                </a:lnTo>
                <a:lnTo>
                  <a:pt x="68771" y="20555"/>
                </a:lnTo>
                <a:lnTo>
                  <a:pt x="74634" y="23017"/>
                </a:lnTo>
                <a:lnTo>
                  <a:pt x="80236" y="25505"/>
                </a:lnTo>
                <a:lnTo>
                  <a:pt x="86511" y="28010"/>
                </a:lnTo>
                <a:lnTo>
                  <a:pt x="11430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88"/>
          <p:cNvSpPr/>
          <p:nvPr/>
        </p:nvSpPr>
        <p:spPr>
          <a:xfrm>
            <a:off x="1409760" y="5219640"/>
            <a:ext cx="136440" cy="266760"/>
          </a:xfrm>
          <a:custGeom>
            <a:avLst/>
            <a:gdLst>
              <a:gd name="textAreaLeft" fmla="*/ 0 w 136440"/>
              <a:gd name="textAreaRight" fmla="*/ 136800 w 1364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36594" h="266701">
                <a:moveTo>
                  <a:pt x="75633" y="0"/>
                </a:moveTo>
                <a:lnTo>
                  <a:pt x="75633" y="8090"/>
                </a:lnTo>
                <a:lnTo>
                  <a:pt x="73940" y="11320"/>
                </a:lnTo>
                <a:lnTo>
                  <a:pt x="71118" y="14320"/>
                </a:lnTo>
                <a:lnTo>
                  <a:pt x="67543" y="17166"/>
                </a:lnTo>
                <a:lnTo>
                  <a:pt x="64313" y="20758"/>
                </a:lnTo>
                <a:lnTo>
                  <a:pt x="61313" y="24845"/>
                </a:lnTo>
                <a:lnTo>
                  <a:pt x="58466" y="29263"/>
                </a:lnTo>
                <a:lnTo>
                  <a:pt x="55722" y="33902"/>
                </a:lnTo>
                <a:lnTo>
                  <a:pt x="53046" y="38688"/>
                </a:lnTo>
                <a:lnTo>
                  <a:pt x="50415" y="43572"/>
                </a:lnTo>
                <a:lnTo>
                  <a:pt x="47814" y="49368"/>
                </a:lnTo>
                <a:lnTo>
                  <a:pt x="45234" y="55772"/>
                </a:lnTo>
                <a:lnTo>
                  <a:pt x="42667" y="62581"/>
                </a:lnTo>
                <a:lnTo>
                  <a:pt x="39262" y="69661"/>
                </a:lnTo>
                <a:lnTo>
                  <a:pt x="35299" y="76920"/>
                </a:lnTo>
                <a:lnTo>
                  <a:pt x="30964" y="84300"/>
                </a:lnTo>
                <a:lnTo>
                  <a:pt x="21631" y="99273"/>
                </a:lnTo>
                <a:lnTo>
                  <a:pt x="16772" y="106822"/>
                </a:lnTo>
                <a:lnTo>
                  <a:pt x="12685" y="114395"/>
                </a:lnTo>
                <a:lnTo>
                  <a:pt x="9115" y="121983"/>
                </a:lnTo>
                <a:lnTo>
                  <a:pt x="5887" y="129582"/>
                </a:lnTo>
                <a:lnTo>
                  <a:pt x="3736" y="137187"/>
                </a:lnTo>
                <a:lnTo>
                  <a:pt x="2302" y="144798"/>
                </a:lnTo>
                <a:lnTo>
                  <a:pt x="1346" y="152412"/>
                </a:lnTo>
                <a:lnTo>
                  <a:pt x="708" y="159181"/>
                </a:lnTo>
                <a:lnTo>
                  <a:pt x="283" y="165387"/>
                </a:lnTo>
                <a:lnTo>
                  <a:pt x="0" y="171218"/>
                </a:lnTo>
                <a:lnTo>
                  <a:pt x="658" y="176799"/>
                </a:lnTo>
                <a:lnTo>
                  <a:pt x="1943" y="182212"/>
                </a:lnTo>
                <a:lnTo>
                  <a:pt x="3646" y="187515"/>
                </a:lnTo>
                <a:lnTo>
                  <a:pt x="5629" y="192743"/>
                </a:lnTo>
                <a:lnTo>
                  <a:pt x="7797" y="197922"/>
                </a:lnTo>
                <a:lnTo>
                  <a:pt x="10089" y="203067"/>
                </a:lnTo>
                <a:lnTo>
                  <a:pt x="14157" y="207345"/>
                </a:lnTo>
                <a:lnTo>
                  <a:pt x="19409" y="211044"/>
                </a:lnTo>
                <a:lnTo>
                  <a:pt x="25450" y="214355"/>
                </a:lnTo>
                <a:lnTo>
                  <a:pt x="32018" y="216564"/>
                </a:lnTo>
                <a:lnTo>
                  <a:pt x="38936" y="218036"/>
                </a:lnTo>
                <a:lnTo>
                  <a:pt x="46089" y="219017"/>
                </a:lnTo>
                <a:lnTo>
                  <a:pt x="52550" y="219671"/>
                </a:lnTo>
                <a:lnTo>
                  <a:pt x="58551" y="220107"/>
                </a:lnTo>
                <a:lnTo>
                  <a:pt x="64245" y="220398"/>
                </a:lnTo>
                <a:lnTo>
                  <a:pt x="70581" y="219745"/>
                </a:lnTo>
                <a:lnTo>
                  <a:pt x="77345" y="218463"/>
                </a:lnTo>
                <a:lnTo>
                  <a:pt x="84394" y="216762"/>
                </a:lnTo>
                <a:lnTo>
                  <a:pt x="90787" y="213935"/>
                </a:lnTo>
                <a:lnTo>
                  <a:pt x="96742" y="210356"/>
                </a:lnTo>
                <a:lnTo>
                  <a:pt x="102406" y="206277"/>
                </a:lnTo>
                <a:lnTo>
                  <a:pt x="107875" y="201018"/>
                </a:lnTo>
                <a:lnTo>
                  <a:pt x="113215" y="194972"/>
                </a:lnTo>
                <a:lnTo>
                  <a:pt x="118468" y="188401"/>
                </a:lnTo>
                <a:lnTo>
                  <a:pt x="122816" y="182327"/>
                </a:lnTo>
                <a:lnTo>
                  <a:pt x="126561" y="176585"/>
                </a:lnTo>
                <a:lnTo>
                  <a:pt x="129905" y="171063"/>
                </a:lnTo>
                <a:lnTo>
                  <a:pt x="132135" y="165689"/>
                </a:lnTo>
                <a:lnTo>
                  <a:pt x="133621" y="160412"/>
                </a:lnTo>
                <a:lnTo>
                  <a:pt x="134611" y="155201"/>
                </a:lnTo>
                <a:lnTo>
                  <a:pt x="135712" y="147154"/>
                </a:lnTo>
                <a:lnTo>
                  <a:pt x="136202" y="140755"/>
                </a:lnTo>
                <a:lnTo>
                  <a:pt x="136419" y="135089"/>
                </a:lnTo>
                <a:lnTo>
                  <a:pt x="135631" y="133239"/>
                </a:lnTo>
                <a:lnTo>
                  <a:pt x="134258" y="132006"/>
                </a:lnTo>
                <a:lnTo>
                  <a:pt x="132496" y="131184"/>
                </a:lnTo>
                <a:lnTo>
                  <a:pt x="129629" y="130636"/>
                </a:lnTo>
                <a:lnTo>
                  <a:pt x="126024" y="130271"/>
                </a:lnTo>
                <a:lnTo>
                  <a:pt x="118349" y="129864"/>
                </a:lnTo>
                <a:lnTo>
                  <a:pt x="112116" y="129684"/>
                </a:lnTo>
                <a:lnTo>
                  <a:pt x="109268" y="130483"/>
                </a:lnTo>
                <a:lnTo>
                  <a:pt x="106523" y="131862"/>
                </a:lnTo>
                <a:lnTo>
                  <a:pt x="103847" y="133628"/>
                </a:lnTo>
                <a:lnTo>
                  <a:pt x="100369" y="136498"/>
                </a:lnTo>
                <a:lnTo>
                  <a:pt x="96357" y="140105"/>
                </a:lnTo>
                <a:lnTo>
                  <a:pt x="91989" y="144203"/>
                </a:lnTo>
                <a:lnTo>
                  <a:pt x="88230" y="148629"/>
                </a:lnTo>
                <a:lnTo>
                  <a:pt x="84878" y="153272"/>
                </a:lnTo>
                <a:lnTo>
                  <a:pt x="81796" y="158062"/>
                </a:lnTo>
                <a:lnTo>
                  <a:pt x="79742" y="162947"/>
                </a:lnTo>
                <a:lnTo>
                  <a:pt x="78372" y="167898"/>
                </a:lnTo>
                <a:lnTo>
                  <a:pt x="77459" y="172892"/>
                </a:lnTo>
                <a:lnTo>
                  <a:pt x="76851" y="178761"/>
                </a:lnTo>
                <a:lnTo>
                  <a:pt x="76445" y="185214"/>
                </a:lnTo>
                <a:lnTo>
                  <a:pt x="76174" y="192056"/>
                </a:lnTo>
                <a:lnTo>
                  <a:pt x="76841" y="198310"/>
                </a:lnTo>
                <a:lnTo>
                  <a:pt x="78131" y="204174"/>
                </a:lnTo>
                <a:lnTo>
                  <a:pt x="79839" y="209776"/>
                </a:lnTo>
                <a:lnTo>
                  <a:pt x="82670" y="216050"/>
                </a:lnTo>
                <a:lnTo>
                  <a:pt x="86251" y="222773"/>
                </a:lnTo>
                <a:lnTo>
                  <a:pt x="90332" y="229795"/>
                </a:lnTo>
                <a:lnTo>
                  <a:pt x="94745" y="235323"/>
                </a:lnTo>
                <a:lnTo>
                  <a:pt x="99381" y="239855"/>
                </a:lnTo>
                <a:lnTo>
                  <a:pt x="104165" y="243723"/>
                </a:lnTo>
                <a:lnTo>
                  <a:pt x="109048" y="247996"/>
                </a:lnTo>
                <a:lnTo>
                  <a:pt x="113996" y="252537"/>
                </a:lnTo>
                <a:lnTo>
                  <a:pt x="118989" y="257258"/>
                </a:lnTo>
                <a:lnTo>
                  <a:pt x="123163" y="260405"/>
                </a:lnTo>
                <a:lnTo>
                  <a:pt x="126793" y="262503"/>
                </a:lnTo>
                <a:lnTo>
                  <a:pt x="136593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89"/>
          <p:cNvSpPr/>
          <p:nvPr/>
        </p:nvSpPr>
        <p:spPr>
          <a:xfrm>
            <a:off x="1569960" y="5349960"/>
            <a:ext cx="190440" cy="120600"/>
          </a:xfrm>
          <a:custGeom>
            <a:avLst/>
            <a:gdLst>
              <a:gd name="textAreaLeft" fmla="*/ 0 w 190440"/>
              <a:gd name="textAreaRight" fmla="*/ 190800 w 190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0501" h="121921">
                <a:moveTo>
                  <a:pt x="190500" y="0"/>
                </a:moveTo>
                <a:lnTo>
                  <a:pt x="186455" y="0"/>
                </a:lnTo>
                <a:lnTo>
                  <a:pt x="184417" y="846"/>
                </a:lnTo>
                <a:lnTo>
                  <a:pt x="179894" y="4045"/>
                </a:lnTo>
                <a:lnTo>
                  <a:pt x="177503" y="6083"/>
                </a:lnTo>
                <a:lnTo>
                  <a:pt x="175062" y="8289"/>
                </a:lnTo>
                <a:lnTo>
                  <a:pt x="172588" y="10606"/>
                </a:lnTo>
                <a:lnTo>
                  <a:pt x="168399" y="13843"/>
                </a:lnTo>
                <a:lnTo>
                  <a:pt x="163066" y="17696"/>
                </a:lnTo>
                <a:lnTo>
                  <a:pt x="143425" y="31207"/>
                </a:lnTo>
                <a:lnTo>
                  <a:pt x="68557" y="81292"/>
                </a:lnTo>
                <a:lnTo>
                  <a:pt x="60944" y="85521"/>
                </a:lnTo>
                <a:lnTo>
                  <a:pt x="53330" y="89188"/>
                </a:lnTo>
                <a:lnTo>
                  <a:pt x="45713" y="92479"/>
                </a:lnTo>
                <a:lnTo>
                  <a:pt x="32735" y="98393"/>
                </a:lnTo>
                <a:lnTo>
                  <a:pt x="26904" y="101155"/>
                </a:lnTo>
                <a:lnTo>
                  <a:pt x="21323" y="104690"/>
                </a:lnTo>
                <a:lnTo>
                  <a:pt x="15908" y="108740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90"/>
          <p:cNvSpPr/>
          <p:nvPr/>
        </p:nvSpPr>
        <p:spPr>
          <a:xfrm>
            <a:off x="1616040" y="5326200"/>
            <a:ext cx="152280" cy="129960"/>
          </a:xfrm>
          <a:custGeom>
            <a:avLst/>
            <a:gdLst>
              <a:gd name="textAreaLeft" fmla="*/ 0 w 152280"/>
              <a:gd name="textAreaRight" fmla="*/ 152640 w 1522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52401" h="129541">
                <a:moveTo>
                  <a:pt x="0" y="0"/>
                </a:moveTo>
                <a:lnTo>
                  <a:pt x="4045" y="0"/>
                </a:lnTo>
                <a:lnTo>
                  <a:pt x="6084" y="846"/>
                </a:lnTo>
                <a:lnTo>
                  <a:pt x="10606" y="4045"/>
                </a:lnTo>
                <a:lnTo>
                  <a:pt x="13844" y="6930"/>
                </a:lnTo>
                <a:lnTo>
                  <a:pt x="21957" y="14651"/>
                </a:lnTo>
                <a:lnTo>
                  <a:pt x="36045" y="28518"/>
                </a:lnTo>
                <a:lnTo>
                  <a:pt x="42657" y="34252"/>
                </a:lnTo>
                <a:lnTo>
                  <a:pt x="50451" y="40614"/>
                </a:lnTo>
                <a:lnTo>
                  <a:pt x="59034" y="47397"/>
                </a:lnTo>
                <a:lnTo>
                  <a:pt x="67296" y="54457"/>
                </a:lnTo>
                <a:lnTo>
                  <a:pt x="75344" y="61705"/>
                </a:lnTo>
                <a:lnTo>
                  <a:pt x="83249" y="69077"/>
                </a:lnTo>
                <a:lnTo>
                  <a:pt x="91906" y="76531"/>
                </a:lnTo>
                <a:lnTo>
                  <a:pt x="101064" y="84041"/>
                </a:lnTo>
                <a:lnTo>
                  <a:pt x="110556" y="91587"/>
                </a:lnTo>
                <a:lnTo>
                  <a:pt x="118577" y="98312"/>
                </a:lnTo>
                <a:lnTo>
                  <a:pt x="125618" y="104488"/>
                </a:lnTo>
                <a:lnTo>
                  <a:pt x="137111" y="115020"/>
                </a:lnTo>
                <a:lnTo>
                  <a:pt x="15240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91"/>
          <p:cNvSpPr/>
          <p:nvPr/>
        </p:nvSpPr>
        <p:spPr>
          <a:xfrm>
            <a:off x="1806480" y="5372280"/>
            <a:ext cx="128520" cy="7920"/>
          </a:xfrm>
          <a:custGeom>
            <a:avLst/>
            <a:gdLst>
              <a:gd name="textAreaLeft" fmla="*/ 0 w 128520"/>
              <a:gd name="textAreaRight" fmla="*/ 128880 w 128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9541" h="7621">
                <a:moveTo>
                  <a:pt x="0" y="7620"/>
                </a:moveTo>
                <a:lnTo>
                  <a:pt x="4046" y="7620"/>
                </a:lnTo>
                <a:lnTo>
                  <a:pt x="6084" y="6774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8"/>
                </a:lnTo>
                <a:lnTo>
                  <a:pt x="21958" y="1059"/>
                </a:lnTo>
                <a:lnTo>
                  <a:pt x="27338" y="706"/>
                </a:lnTo>
                <a:lnTo>
                  <a:pt x="33466" y="471"/>
                </a:lnTo>
                <a:lnTo>
                  <a:pt x="54225" y="14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92"/>
          <p:cNvSpPr/>
          <p:nvPr/>
        </p:nvSpPr>
        <p:spPr>
          <a:xfrm>
            <a:off x="2003400" y="5280120"/>
            <a:ext cx="84240" cy="190440"/>
          </a:xfrm>
          <a:custGeom>
            <a:avLst/>
            <a:gdLst>
              <a:gd name="textAreaLeft" fmla="*/ 0 w 84240"/>
              <a:gd name="textAreaRight" fmla="*/ 84600 w 84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3821" h="190501">
                <a:moveTo>
                  <a:pt x="83820" y="0"/>
                </a:moveTo>
                <a:lnTo>
                  <a:pt x="83820" y="4045"/>
                </a:lnTo>
                <a:lnTo>
                  <a:pt x="82973" y="6083"/>
                </a:lnTo>
                <a:lnTo>
                  <a:pt x="81562" y="8289"/>
                </a:lnTo>
                <a:lnTo>
                  <a:pt x="79775" y="10606"/>
                </a:lnTo>
                <a:lnTo>
                  <a:pt x="78583" y="13844"/>
                </a:lnTo>
                <a:lnTo>
                  <a:pt x="77789" y="17696"/>
                </a:lnTo>
                <a:lnTo>
                  <a:pt x="77259" y="21957"/>
                </a:lnTo>
                <a:lnTo>
                  <a:pt x="76906" y="26491"/>
                </a:lnTo>
                <a:lnTo>
                  <a:pt x="76671" y="31207"/>
                </a:lnTo>
                <a:lnTo>
                  <a:pt x="76514" y="36045"/>
                </a:lnTo>
                <a:lnTo>
                  <a:pt x="74716" y="41810"/>
                </a:lnTo>
                <a:lnTo>
                  <a:pt x="71824" y="48193"/>
                </a:lnTo>
                <a:lnTo>
                  <a:pt x="61921" y="67055"/>
                </a:lnTo>
                <a:lnTo>
                  <a:pt x="59061" y="72643"/>
                </a:lnTo>
                <a:lnTo>
                  <a:pt x="55461" y="78062"/>
                </a:lnTo>
                <a:lnTo>
                  <a:pt x="51367" y="83368"/>
                </a:lnTo>
                <a:lnTo>
                  <a:pt x="46945" y="88599"/>
                </a:lnTo>
                <a:lnTo>
                  <a:pt x="43150" y="94626"/>
                </a:lnTo>
                <a:lnTo>
                  <a:pt x="39773" y="101184"/>
                </a:lnTo>
                <a:lnTo>
                  <a:pt x="36676" y="108096"/>
                </a:lnTo>
                <a:lnTo>
                  <a:pt x="33764" y="115244"/>
                </a:lnTo>
                <a:lnTo>
                  <a:pt x="30976" y="122549"/>
                </a:lnTo>
                <a:lnTo>
                  <a:pt x="28271" y="129959"/>
                </a:lnTo>
                <a:lnTo>
                  <a:pt x="24774" y="136593"/>
                </a:lnTo>
                <a:lnTo>
                  <a:pt x="20749" y="142709"/>
                </a:lnTo>
                <a:lnTo>
                  <a:pt x="16373" y="148479"/>
                </a:lnTo>
                <a:lnTo>
                  <a:pt x="12609" y="154019"/>
                </a:lnTo>
                <a:lnTo>
                  <a:pt x="9253" y="159407"/>
                </a:lnTo>
                <a:lnTo>
                  <a:pt x="6168" y="164691"/>
                </a:lnTo>
                <a:lnTo>
                  <a:pt x="4112" y="169061"/>
                </a:lnTo>
                <a:lnTo>
                  <a:pt x="2742" y="172821"/>
                </a:lnTo>
                <a:lnTo>
                  <a:pt x="1828" y="176173"/>
                </a:lnTo>
                <a:lnTo>
                  <a:pt x="1219" y="179256"/>
                </a:lnTo>
                <a:lnTo>
                  <a:pt x="812" y="182157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93"/>
          <p:cNvSpPr/>
          <p:nvPr/>
        </p:nvSpPr>
        <p:spPr>
          <a:xfrm>
            <a:off x="2127240" y="5249880"/>
            <a:ext cx="158760" cy="222120"/>
          </a:xfrm>
          <a:custGeom>
            <a:avLst/>
            <a:gdLst>
              <a:gd name="textAreaLeft" fmla="*/ 0 w 158760"/>
              <a:gd name="textAreaRight" fmla="*/ 159120 w 158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58018" h="222128">
                <a:moveTo>
                  <a:pt x="89583" y="0"/>
                </a:moveTo>
                <a:lnTo>
                  <a:pt x="85538" y="4045"/>
                </a:lnTo>
                <a:lnTo>
                  <a:pt x="81294" y="10546"/>
                </a:lnTo>
                <a:lnTo>
                  <a:pt x="78977" y="14651"/>
                </a:lnTo>
                <a:lnTo>
                  <a:pt x="75739" y="19080"/>
                </a:lnTo>
                <a:lnTo>
                  <a:pt x="71887" y="23726"/>
                </a:lnTo>
                <a:lnTo>
                  <a:pt x="67626" y="28518"/>
                </a:lnTo>
                <a:lnTo>
                  <a:pt x="63091" y="34252"/>
                </a:lnTo>
                <a:lnTo>
                  <a:pt x="58375" y="40614"/>
                </a:lnTo>
                <a:lnTo>
                  <a:pt x="48620" y="54457"/>
                </a:lnTo>
                <a:lnTo>
                  <a:pt x="38639" y="69077"/>
                </a:lnTo>
                <a:lnTo>
                  <a:pt x="34454" y="77377"/>
                </a:lnTo>
                <a:lnTo>
                  <a:pt x="30817" y="86299"/>
                </a:lnTo>
                <a:lnTo>
                  <a:pt x="27545" y="95632"/>
                </a:lnTo>
                <a:lnTo>
                  <a:pt x="23671" y="104395"/>
                </a:lnTo>
                <a:lnTo>
                  <a:pt x="19395" y="112776"/>
                </a:lnTo>
                <a:lnTo>
                  <a:pt x="14851" y="120904"/>
                </a:lnTo>
                <a:lnTo>
                  <a:pt x="10975" y="129710"/>
                </a:lnTo>
                <a:lnTo>
                  <a:pt x="7544" y="138966"/>
                </a:lnTo>
                <a:lnTo>
                  <a:pt x="4410" y="148524"/>
                </a:lnTo>
                <a:lnTo>
                  <a:pt x="2321" y="156590"/>
                </a:lnTo>
                <a:lnTo>
                  <a:pt x="928" y="163660"/>
                </a:lnTo>
                <a:lnTo>
                  <a:pt x="0" y="170066"/>
                </a:lnTo>
                <a:lnTo>
                  <a:pt x="227" y="176877"/>
                </a:lnTo>
                <a:lnTo>
                  <a:pt x="1226" y="183958"/>
                </a:lnTo>
                <a:lnTo>
                  <a:pt x="2738" y="191219"/>
                </a:lnTo>
                <a:lnTo>
                  <a:pt x="5440" y="196906"/>
                </a:lnTo>
                <a:lnTo>
                  <a:pt x="8934" y="201544"/>
                </a:lnTo>
                <a:lnTo>
                  <a:pt x="12957" y="205482"/>
                </a:lnTo>
                <a:lnTo>
                  <a:pt x="16486" y="209802"/>
                </a:lnTo>
                <a:lnTo>
                  <a:pt x="19685" y="214374"/>
                </a:lnTo>
                <a:lnTo>
                  <a:pt x="22664" y="219116"/>
                </a:lnTo>
                <a:lnTo>
                  <a:pt x="27190" y="221430"/>
                </a:lnTo>
                <a:lnTo>
                  <a:pt x="32748" y="222127"/>
                </a:lnTo>
                <a:lnTo>
                  <a:pt x="38993" y="221745"/>
                </a:lnTo>
                <a:lnTo>
                  <a:pt x="50447" y="221320"/>
                </a:lnTo>
                <a:lnTo>
                  <a:pt x="55873" y="221207"/>
                </a:lnTo>
                <a:lnTo>
                  <a:pt x="62029" y="219438"/>
                </a:lnTo>
                <a:lnTo>
                  <a:pt x="68674" y="216565"/>
                </a:lnTo>
                <a:lnTo>
                  <a:pt x="75644" y="212956"/>
                </a:lnTo>
                <a:lnTo>
                  <a:pt x="81983" y="208011"/>
                </a:lnTo>
                <a:lnTo>
                  <a:pt x="87903" y="202174"/>
                </a:lnTo>
                <a:lnTo>
                  <a:pt x="93543" y="195743"/>
                </a:lnTo>
                <a:lnTo>
                  <a:pt x="99843" y="188916"/>
                </a:lnTo>
                <a:lnTo>
                  <a:pt x="113617" y="174556"/>
                </a:lnTo>
                <a:lnTo>
                  <a:pt x="119999" y="167170"/>
                </a:lnTo>
                <a:lnTo>
                  <a:pt x="125947" y="159707"/>
                </a:lnTo>
                <a:lnTo>
                  <a:pt x="131606" y="152191"/>
                </a:lnTo>
                <a:lnTo>
                  <a:pt x="136225" y="143794"/>
                </a:lnTo>
                <a:lnTo>
                  <a:pt x="140151" y="134810"/>
                </a:lnTo>
                <a:lnTo>
                  <a:pt x="146771" y="116641"/>
                </a:lnTo>
                <a:lnTo>
                  <a:pt x="152535" y="100100"/>
                </a:lnTo>
                <a:lnTo>
                  <a:pt x="154411" y="92133"/>
                </a:lnTo>
                <a:lnTo>
                  <a:pt x="155662" y="84283"/>
                </a:lnTo>
                <a:lnTo>
                  <a:pt x="156496" y="76508"/>
                </a:lnTo>
                <a:lnTo>
                  <a:pt x="157051" y="69632"/>
                </a:lnTo>
                <a:lnTo>
                  <a:pt x="157422" y="63355"/>
                </a:lnTo>
                <a:lnTo>
                  <a:pt x="157834" y="52711"/>
                </a:lnTo>
                <a:lnTo>
                  <a:pt x="158017" y="45158"/>
                </a:lnTo>
                <a:lnTo>
                  <a:pt x="157219" y="41959"/>
                </a:lnTo>
                <a:lnTo>
                  <a:pt x="154075" y="36146"/>
                </a:lnTo>
                <a:lnTo>
                  <a:pt x="152051" y="34257"/>
                </a:lnTo>
                <a:lnTo>
                  <a:pt x="149855" y="32998"/>
                </a:lnTo>
                <a:lnTo>
                  <a:pt x="144293" y="30977"/>
                </a:lnTo>
                <a:lnTo>
                  <a:pt x="142143" y="30812"/>
                </a:lnTo>
                <a:lnTo>
                  <a:pt x="139016" y="30701"/>
                </a:lnTo>
                <a:lnTo>
                  <a:pt x="135239" y="30627"/>
                </a:lnTo>
                <a:lnTo>
                  <a:pt x="131873" y="31425"/>
                </a:lnTo>
                <a:lnTo>
                  <a:pt x="128783" y="32803"/>
                </a:lnTo>
                <a:lnTo>
                  <a:pt x="125876" y="34569"/>
                </a:lnTo>
                <a:lnTo>
                  <a:pt x="123092" y="36593"/>
                </a:lnTo>
                <a:lnTo>
                  <a:pt x="120389" y="38788"/>
                </a:lnTo>
                <a:lnTo>
                  <a:pt x="117740" y="41099"/>
                </a:lnTo>
                <a:lnTo>
                  <a:pt x="115128" y="43485"/>
                </a:lnTo>
                <a:lnTo>
                  <a:pt x="104823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94"/>
          <p:cNvSpPr/>
          <p:nvPr/>
        </p:nvSpPr>
        <p:spPr>
          <a:xfrm>
            <a:off x="2468520" y="5380200"/>
            <a:ext cx="122400" cy="14040"/>
          </a:xfrm>
          <a:custGeom>
            <a:avLst/>
            <a:gdLst>
              <a:gd name="textAreaLeft" fmla="*/ 0 w 122400"/>
              <a:gd name="textAreaRight" fmla="*/ 122760 w 122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1921" h="15240">
                <a:moveTo>
                  <a:pt x="0" y="15239"/>
                </a:moveTo>
                <a:lnTo>
                  <a:pt x="20428" y="15239"/>
                </a:lnTo>
                <a:lnTo>
                  <a:pt x="23779" y="14393"/>
                </a:lnTo>
                <a:lnTo>
                  <a:pt x="28552" y="12982"/>
                </a:lnTo>
                <a:lnTo>
                  <a:pt x="34275" y="11195"/>
                </a:lnTo>
                <a:lnTo>
                  <a:pt x="40630" y="10003"/>
                </a:lnTo>
                <a:lnTo>
                  <a:pt x="47406" y="9208"/>
                </a:lnTo>
                <a:lnTo>
                  <a:pt x="54464" y="8679"/>
                </a:lnTo>
                <a:lnTo>
                  <a:pt x="62556" y="8326"/>
                </a:lnTo>
                <a:lnTo>
                  <a:pt x="87586" y="7829"/>
                </a:lnTo>
                <a:lnTo>
                  <a:pt x="97629" y="7713"/>
                </a:lnTo>
                <a:lnTo>
                  <a:pt x="102340" y="6835"/>
                </a:lnTo>
                <a:lnTo>
                  <a:pt x="107173" y="5404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95"/>
          <p:cNvSpPr/>
          <p:nvPr/>
        </p:nvSpPr>
        <p:spPr>
          <a:xfrm>
            <a:off x="2422440" y="5410080"/>
            <a:ext cx="214560" cy="38160"/>
          </a:xfrm>
          <a:custGeom>
            <a:avLst/>
            <a:gdLst>
              <a:gd name="textAreaLeft" fmla="*/ 0 w 214560"/>
              <a:gd name="textAreaRight" fmla="*/ 214920 w 214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3361" h="38101">
                <a:moveTo>
                  <a:pt x="0" y="38100"/>
                </a:moveTo>
                <a:lnTo>
                  <a:pt x="59034" y="38100"/>
                </a:lnTo>
                <a:lnTo>
                  <a:pt x="68143" y="37253"/>
                </a:lnTo>
                <a:lnTo>
                  <a:pt x="77602" y="35842"/>
                </a:lnTo>
                <a:lnTo>
                  <a:pt x="87295" y="34055"/>
                </a:lnTo>
                <a:lnTo>
                  <a:pt x="107096" y="29811"/>
                </a:lnTo>
                <a:lnTo>
                  <a:pt x="117117" y="27494"/>
                </a:lnTo>
                <a:lnTo>
                  <a:pt x="126338" y="25102"/>
                </a:lnTo>
                <a:lnTo>
                  <a:pt x="135026" y="22662"/>
                </a:lnTo>
                <a:lnTo>
                  <a:pt x="143357" y="20188"/>
                </a:lnTo>
                <a:lnTo>
                  <a:pt x="152298" y="18538"/>
                </a:lnTo>
                <a:lnTo>
                  <a:pt x="161645" y="17439"/>
                </a:lnTo>
                <a:lnTo>
                  <a:pt x="171264" y="16706"/>
                </a:lnTo>
                <a:lnTo>
                  <a:pt x="179369" y="15371"/>
                </a:lnTo>
                <a:lnTo>
                  <a:pt x="186466" y="13634"/>
                </a:lnTo>
                <a:lnTo>
                  <a:pt x="192891" y="11629"/>
                </a:lnTo>
                <a:lnTo>
                  <a:pt x="198021" y="10292"/>
                </a:lnTo>
                <a:lnTo>
                  <a:pt x="202287" y="9402"/>
                </a:lnTo>
                <a:lnTo>
                  <a:pt x="205978" y="8808"/>
                </a:lnTo>
                <a:lnTo>
                  <a:pt x="208439" y="7565"/>
                </a:lnTo>
                <a:lnTo>
                  <a:pt x="210079" y="5890"/>
                </a:ln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96"/>
          <p:cNvSpPr/>
          <p:nvPr/>
        </p:nvSpPr>
        <p:spPr>
          <a:xfrm>
            <a:off x="2674800" y="5219640"/>
            <a:ext cx="243000" cy="266760"/>
          </a:xfrm>
          <a:custGeom>
            <a:avLst/>
            <a:gdLst>
              <a:gd name="textAreaLeft" fmla="*/ 0 w 243000"/>
              <a:gd name="textAreaRight" fmla="*/ 243360 w 243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43687" h="266699">
                <a:moveTo>
                  <a:pt x="0" y="30478"/>
                </a:moveTo>
                <a:lnTo>
                  <a:pt x="0" y="26433"/>
                </a:lnTo>
                <a:lnTo>
                  <a:pt x="847" y="25241"/>
                </a:lnTo>
                <a:lnTo>
                  <a:pt x="2258" y="24447"/>
                </a:lnTo>
                <a:lnTo>
                  <a:pt x="4045" y="23917"/>
                </a:lnTo>
                <a:lnTo>
                  <a:pt x="10547" y="23329"/>
                </a:lnTo>
                <a:lnTo>
                  <a:pt x="14651" y="23172"/>
                </a:lnTo>
                <a:lnTo>
                  <a:pt x="19081" y="22221"/>
                </a:lnTo>
                <a:lnTo>
                  <a:pt x="23727" y="20739"/>
                </a:lnTo>
                <a:lnTo>
                  <a:pt x="28518" y="18906"/>
                </a:lnTo>
                <a:lnTo>
                  <a:pt x="35099" y="17683"/>
                </a:lnTo>
                <a:lnTo>
                  <a:pt x="42873" y="16868"/>
                </a:lnTo>
                <a:lnTo>
                  <a:pt x="51442" y="16325"/>
                </a:lnTo>
                <a:lnTo>
                  <a:pt x="60541" y="15116"/>
                </a:lnTo>
                <a:lnTo>
                  <a:pt x="69994" y="13463"/>
                </a:lnTo>
                <a:lnTo>
                  <a:pt x="79683" y="11515"/>
                </a:lnTo>
                <a:lnTo>
                  <a:pt x="89529" y="10216"/>
                </a:lnTo>
                <a:lnTo>
                  <a:pt x="99479" y="9350"/>
                </a:lnTo>
                <a:lnTo>
                  <a:pt x="109499" y="8772"/>
                </a:lnTo>
                <a:lnTo>
                  <a:pt x="129664" y="8131"/>
                </a:lnTo>
                <a:lnTo>
                  <a:pt x="139783" y="7960"/>
                </a:lnTo>
                <a:lnTo>
                  <a:pt x="149915" y="7000"/>
                </a:lnTo>
                <a:lnTo>
                  <a:pt x="160057" y="5512"/>
                </a:lnTo>
                <a:lnTo>
                  <a:pt x="170205" y="3674"/>
                </a:lnTo>
                <a:lnTo>
                  <a:pt x="178663" y="2449"/>
                </a:lnTo>
                <a:lnTo>
                  <a:pt x="185996" y="1632"/>
                </a:lnTo>
                <a:lnTo>
                  <a:pt x="192577" y="1087"/>
                </a:lnTo>
                <a:lnTo>
                  <a:pt x="199505" y="724"/>
                </a:lnTo>
                <a:lnTo>
                  <a:pt x="213976" y="321"/>
                </a:lnTo>
                <a:lnTo>
                  <a:pt x="239895" y="17"/>
                </a:lnTo>
                <a:lnTo>
                  <a:pt x="243321" y="0"/>
                </a:lnTo>
                <a:lnTo>
                  <a:pt x="243609" y="2257"/>
                </a:lnTo>
                <a:lnTo>
                  <a:pt x="243686" y="4044"/>
                </a:lnTo>
                <a:lnTo>
                  <a:pt x="242891" y="6081"/>
                </a:lnTo>
                <a:lnTo>
                  <a:pt x="239749" y="10604"/>
                </a:lnTo>
                <a:lnTo>
                  <a:pt x="233273" y="17694"/>
                </a:lnTo>
                <a:lnTo>
                  <a:pt x="220107" y="31205"/>
                </a:lnTo>
                <a:lnTo>
                  <a:pt x="181324" y="70126"/>
                </a:lnTo>
                <a:lnTo>
                  <a:pt x="175069" y="77230"/>
                </a:lnTo>
                <a:lnTo>
                  <a:pt x="169206" y="84506"/>
                </a:lnTo>
                <a:lnTo>
                  <a:pt x="143584" y="118479"/>
                </a:lnTo>
                <a:lnTo>
                  <a:pt x="131267" y="135629"/>
                </a:lnTo>
                <a:lnTo>
                  <a:pt x="109561" y="167336"/>
                </a:lnTo>
                <a:lnTo>
                  <a:pt x="94082" y="190408"/>
                </a:lnTo>
                <a:lnTo>
                  <a:pt x="89814" y="198058"/>
                </a:lnTo>
                <a:lnTo>
                  <a:pt x="86123" y="205698"/>
                </a:lnTo>
                <a:lnTo>
                  <a:pt x="79764" y="220114"/>
                </a:lnTo>
                <a:lnTo>
                  <a:pt x="74115" y="232164"/>
                </a:lnTo>
                <a:lnTo>
                  <a:pt x="72270" y="237749"/>
                </a:lnTo>
                <a:lnTo>
                  <a:pt x="71040" y="243165"/>
                </a:lnTo>
                <a:lnTo>
                  <a:pt x="70220" y="248469"/>
                </a:lnTo>
                <a:lnTo>
                  <a:pt x="68826" y="252005"/>
                </a:lnTo>
                <a:lnTo>
                  <a:pt x="67052" y="254363"/>
                </a:lnTo>
                <a:lnTo>
                  <a:pt x="65021" y="255934"/>
                </a:lnTo>
                <a:lnTo>
                  <a:pt x="63668" y="257829"/>
                </a:lnTo>
                <a:lnTo>
                  <a:pt x="61495" y="264695"/>
                </a:lnTo>
                <a:lnTo>
                  <a:pt x="60960" y="2666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97"/>
          <p:cNvSpPr/>
          <p:nvPr/>
        </p:nvSpPr>
        <p:spPr>
          <a:xfrm>
            <a:off x="2720880" y="533412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4045" y="0"/>
                </a:lnTo>
                <a:lnTo>
                  <a:pt x="6931" y="846"/>
                </a:lnTo>
                <a:lnTo>
                  <a:pt x="10547" y="2258"/>
                </a:lnTo>
                <a:lnTo>
                  <a:pt x="14651" y="4045"/>
                </a:lnTo>
                <a:lnTo>
                  <a:pt x="19928" y="5237"/>
                </a:lnTo>
                <a:lnTo>
                  <a:pt x="25985" y="6031"/>
                </a:lnTo>
                <a:lnTo>
                  <a:pt x="32564" y="6561"/>
                </a:lnTo>
                <a:lnTo>
                  <a:pt x="39489" y="7760"/>
                </a:lnTo>
                <a:lnTo>
                  <a:pt x="46646" y="9407"/>
                </a:lnTo>
                <a:lnTo>
                  <a:pt x="53958" y="11351"/>
                </a:lnTo>
                <a:lnTo>
                  <a:pt x="63065" y="12647"/>
                </a:lnTo>
                <a:lnTo>
                  <a:pt x="73370" y="13512"/>
                </a:lnTo>
                <a:lnTo>
                  <a:pt x="84474" y="14088"/>
                </a:lnTo>
                <a:lnTo>
                  <a:pt x="105842" y="14728"/>
                </a:lnTo>
                <a:lnTo>
                  <a:pt x="15240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InkAnnotation98"/>
          <p:cNvSpPr/>
          <p:nvPr/>
        </p:nvSpPr>
        <p:spPr>
          <a:xfrm>
            <a:off x="2949480" y="5189400"/>
            <a:ext cx="150840" cy="147600"/>
          </a:xfrm>
          <a:custGeom>
            <a:avLst/>
            <a:gdLst>
              <a:gd name="textAreaLeft" fmla="*/ 0 w 150840"/>
              <a:gd name="textAreaRight" fmla="*/ 151200 w 150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51227" h="147766">
                <a:moveTo>
                  <a:pt x="113714" y="7306"/>
                </a:moveTo>
                <a:lnTo>
                  <a:pt x="113714" y="0"/>
                </a:lnTo>
                <a:lnTo>
                  <a:pt x="109669" y="3824"/>
                </a:lnTo>
                <a:lnTo>
                  <a:pt x="106784" y="4985"/>
                </a:lnTo>
                <a:lnTo>
                  <a:pt x="103168" y="5759"/>
                </a:lnTo>
                <a:lnTo>
                  <a:pt x="99063" y="6274"/>
                </a:lnTo>
                <a:lnTo>
                  <a:pt x="94634" y="8312"/>
                </a:lnTo>
                <a:lnTo>
                  <a:pt x="89988" y="11363"/>
                </a:lnTo>
                <a:lnTo>
                  <a:pt x="85197" y="15091"/>
                </a:lnTo>
                <a:lnTo>
                  <a:pt x="80309" y="19269"/>
                </a:lnTo>
                <a:lnTo>
                  <a:pt x="75358" y="23748"/>
                </a:lnTo>
                <a:lnTo>
                  <a:pt x="70363" y="28427"/>
                </a:lnTo>
                <a:lnTo>
                  <a:pt x="64494" y="33240"/>
                </a:lnTo>
                <a:lnTo>
                  <a:pt x="58040" y="38142"/>
                </a:lnTo>
                <a:lnTo>
                  <a:pt x="51199" y="43103"/>
                </a:lnTo>
                <a:lnTo>
                  <a:pt x="44944" y="48104"/>
                </a:lnTo>
                <a:lnTo>
                  <a:pt x="39081" y="53132"/>
                </a:lnTo>
                <a:lnTo>
                  <a:pt x="33478" y="58176"/>
                </a:lnTo>
                <a:lnTo>
                  <a:pt x="22738" y="68298"/>
                </a:lnTo>
                <a:lnTo>
                  <a:pt x="17504" y="73367"/>
                </a:lnTo>
                <a:lnTo>
                  <a:pt x="13167" y="78440"/>
                </a:lnTo>
                <a:lnTo>
                  <a:pt x="9429" y="83515"/>
                </a:lnTo>
                <a:lnTo>
                  <a:pt x="6091" y="88592"/>
                </a:lnTo>
                <a:lnTo>
                  <a:pt x="3866" y="93670"/>
                </a:lnTo>
                <a:lnTo>
                  <a:pt x="2382" y="98749"/>
                </a:lnTo>
                <a:lnTo>
                  <a:pt x="1392" y="103828"/>
                </a:lnTo>
                <a:lnTo>
                  <a:pt x="733" y="108907"/>
                </a:lnTo>
                <a:lnTo>
                  <a:pt x="293" y="113987"/>
                </a:lnTo>
                <a:lnTo>
                  <a:pt x="0" y="119067"/>
                </a:lnTo>
                <a:lnTo>
                  <a:pt x="1498" y="123300"/>
                </a:lnTo>
                <a:lnTo>
                  <a:pt x="4190" y="126969"/>
                </a:lnTo>
                <a:lnTo>
                  <a:pt x="7678" y="130261"/>
                </a:lnTo>
                <a:lnTo>
                  <a:pt x="11697" y="133303"/>
                </a:lnTo>
                <a:lnTo>
                  <a:pt x="16069" y="136177"/>
                </a:lnTo>
                <a:lnTo>
                  <a:pt x="20678" y="138940"/>
                </a:lnTo>
                <a:lnTo>
                  <a:pt x="26290" y="141629"/>
                </a:lnTo>
                <a:lnTo>
                  <a:pt x="32571" y="144268"/>
                </a:lnTo>
                <a:lnTo>
                  <a:pt x="39299" y="146874"/>
                </a:lnTo>
                <a:lnTo>
                  <a:pt x="45477" y="147765"/>
                </a:lnTo>
                <a:lnTo>
                  <a:pt x="51290" y="147512"/>
                </a:lnTo>
                <a:lnTo>
                  <a:pt x="56858" y="146496"/>
                </a:lnTo>
                <a:lnTo>
                  <a:pt x="63110" y="144973"/>
                </a:lnTo>
                <a:lnTo>
                  <a:pt x="69818" y="143110"/>
                </a:lnTo>
                <a:lnTo>
                  <a:pt x="76831" y="141022"/>
                </a:lnTo>
                <a:lnTo>
                  <a:pt x="84045" y="137937"/>
                </a:lnTo>
                <a:lnTo>
                  <a:pt x="91395" y="134187"/>
                </a:lnTo>
                <a:lnTo>
                  <a:pt x="98835" y="129993"/>
                </a:lnTo>
                <a:lnTo>
                  <a:pt x="105488" y="125504"/>
                </a:lnTo>
                <a:lnTo>
                  <a:pt x="111617" y="120818"/>
                </a:lnTo>
                <a:lnTo>
                  <a:pt x="117396" y="116001"/>
                </a:lnTo>
                <a:lnTo>
                  <a:pt x="122942" y="111096"/>
                </a:lnTo>
                <a:lnTo>
                  <a:pt x="133620" y="101131"/>
                </a:lnTo>
                <a:lnTo>
                  <a:pt x="137992" y="95255"/>
                </a:lnTo>
                <a:lnTo>
                  <a:pt x="141752" y="88799"/>
                </a:lnTo>
                <a:lnTo>
                  <a:pt x="145106" y="81954"/>
                </a:lnTo>
                <a:lnTo>
                  <a:pt x="147343" y="75698"/>
                </a:lnTo>
                <a:lnTo>
                  <a:pt x="148833" y="69834"/>
                </a:lnTo>
                <a:lnTo>
                  <a:pt x="149827" y="64231"/>
                </a:lnTo>
                <a:lnTo>
                  <a:pt x="150490" y="58803"/>
                </a:lnTo>
                <a:lnTo>
                  <a:pt x="150931" y="53491"/>
                </a:lnTo>
                <a:lnTo>
                  <a:pt x="151226" y="48256"/>
                </a:lnTo>
                <a:lnTo>
                  <a:pt x="150575" y="43919"/>
                </a:lnTo>
                <a:lnTo>
                  <a:pt x="149295" y="40181"/>
                </a:lnTo>
                <a:lnTo>
                  <a:pt x="147595" y="36843"/>
                </a:lnTo>
                <a:lnTo>
                  <a:pt x="145614" y="33770"/>
                </a:lnTo>
                <a:lnTo>
                  <a:pt x="143448" y="30876"/>
                </a:lnTo>
                <a:lnTo>
                  <a:pt x="141156" y="28099"/>
                </a:lnTo>
                <a:lnTo>
                  <a:pt x="137936" y="26248"/>
                </a:lnTo>
                <a:lnTo>
                  <a:pt x="134095" y="25014"/>
                </a:lnTo>
                <a:lnTo>
                  <a:pt x="129842" y="24192"/>
                </a:lnTo>
                <a:lnTo>
                  <a:pt x="126159" y="23643"/>
                </a:lnTo>
                <a:lnTo>
                  <a:pt x="122858" y="23277"/>
                </a:lnTo>
                <a:lnTo>
                  <a:pt x="119810" y="23033"/>
                </a:lnTo>
                <a:lnTo>
                  <a:pt x="116931" y="22871"/>
                </a:lnTo>
                <a:lnTo>
                  <a:pt x="111475" y="22690"/>
                </a:lnTo>
                <a:lnTo>
                  <a:pt x="107988" y="23489"/>
                </a:lnTo>
                <a:lnTo>
                  <a:pt x="103970" y="24868"/>
                </a:lnTo>
                <a:lnTo>
                  <a:pt x="90854" y="3016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99"/>
          <p:cNvSpPr/>
          <p:nvPr/>
        </p:nvSpPr>
        <p:spPr>
          <a:xfrm>
            <a:off x="2925720" y="5311800"/>
            <a:ext cx="122400" cy="189000"/>
          </a:xfrm>
          <a:custGeom>
            <a:avLst/>
            <a:gdLst>
              <a:gd name="textAreaLeft" fmla="*/ 0 w 122400"/>
              <a:gd name="textAreaRight" fmla="*/ 122760 w 1224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1648" h="190224">
                <a:moveTo>
                  <a:pt x="121647" y="15240"/>
                </a:moveTo>
                <a:lnTo>
                  <a:pt x="117602" y="15240"/>
                </a:lnTo>
                <a:lnTo>
                  <a:pt x="115564" y="16086"/>
                </a:lnTo>
                <a:lnTo>
                  <a:pt x="113359" y="17498"/>
                </a:lnTo>
                <a:lnTo>
                  <a:pt x="111041" y="19285"/>
                </a:lnTo>
                <a:lnTo>
                  <a:pt x="107803" y="21323"/>
                </a:lnTo>
                <a:lnTo>
                  <a:pt x="103951" y="23529"/>
                </a:lnTo>
                <a:lnTo>
                  <a:pt x="99690" y="25846"/>
                </a:lnTo>
                <a:lnTo>
                  <a:pt x="94309" y="28237"/>
                </a:lnTo>
                <a:lnTo>
                  <a:pt x="88181" y="30678"/>
                </a:lnTo>
                <a:lnTo>
                  <a:pt x="81557" y="33152"/>
                </a:lnTo>
                <a:lnTo>
                  <a:pt x="75447" y="36494"/>
                </a:lnTo>
                <a:lnTo>
                  <a:pt x="69680" y="40416"/>
                </a:lnTo>
                <a:lnTo>
                  <a:pt x="64142" y="44724"/>
                </a:lnTo>
                <a:lnTo>
                  <a:pt x="57910" y="50135"/>
                </a:lnTo>
                <a:lnTo>
                  <a:pt x="51217" y="56284"/>
                </a:lnTo>
                <a:lnTo>
                  <a:pt x="31917" y="74814"/>
                </a:lnTo>
                <a:lnTo>
                  <a:pt x="26267" y="80356"/>
                </a:lnTo>
                <a:lnTo>
                  <a:pt x="20807" y="86591"/>
                </a:lnTo>
                <a:lnTo>
                  <a:pt x="15473" y="93287"/>
                </a:lnTo>
                <a:lnTo>
                  <a:pt x="10225" y="100291"/>
                </a:lnTo>
                <a:lnTo>
                  <a:pt x="6726" y="107500"/>
                </a:lnTo>
                <a:lnTo>
                  <a:pt x="4393" y="114847"/>
                </a:lnTo>
                <a:lnTo>
                  <a:pt x="2838" y="122285"/>
                </a:lnTo>
                <a:lnTo>
                  <a:pt x="1801" y="129783"/>
                </a:lnTo>
                <a:lnTo>
                  <a:pt x="1110" y="137321"/>
                </a:lnTo>
                <a:lnTo>
                  <a:pt x="649" y="144887"/>
                </a:lnTo>
                <a:lnTo>
                  <a:pt x="137" y="157810"/>
                </a:lnTo>
                <a:lnTo>
                  <a:pt x="0" y="163626"/>
                </a:lnTo>
                <a:lnTo>
                  <a:pt x="756" y="169198"/>
                </a:lnTo>
                <a:lnTo>
                  <a:pt x="2106" y="174604"/>
                </a:lnTo>
                <a:lnTo>
                  <a:pt x="3853" y="179902"/>
                </a:lnTo>
                <a:lnTo>
                  <a:pt x="7558" y="183435"/>
                </a:lnTo>
                <a:lnTo>
                  <a:pt x="12568" y="185790"/>
                </a:lnTo>
                <a:lnTo>
                  <a:pt x="18448" y="187359"/>
                </a:lnTo>
                <a:lnTo>
                  <a:pt x="24061" y="188406"/>
                </a:lnTo>
                <a:lnTo>
                  <a:pt x="29496" y="189104"/>
                </a:lnTo>
                <a:lnTo>
                  <a:pt x="34813" y="189569"/>
                </a:lnTo>
                <a:lnTo>
                  <a:pt x="40051" y="189879"/>
                </a:lnTo>
                <a:lnTo>
                  <a:pt x="50387" y="190223"/>
                </a:lnTo>
                <a:lnTo>
                  <a:pt x="55514" y="187776"/>
                </a:lnTo>
                <a:lnTo>
                  <a:pt x="60625" y="183603"/>
                </a:lnTo>
                <a:lnTo>
                  <a:pt x="75909" y="167853"/>
                </a:lnTo>
                <a:lnTo>
                  <a:pt x="80995" y="162702"/>
                </a:lnTo>
                <a:lnTo>
                  <a:pt x="85232" y="155881"/>
                </a:lnTo>
                <a:lnTo>
                  <a:pt x="88904" y="147948"/>
                </a:lnTo>
                <a:lnTo>
                  <a:pt x="95241" y="130947"/>
                </a:lnTo>
                <a:lnTo>
                  <a:pt x="100880" y="114926"/>
                </a:lnTo>
                <a:lnTo>
                  <a:pt x="102722" y="106250"/>
                </a:lnTo>
                <a:lnTo>
                  <a:pt x="103951" y="97080"/>
                </a:lnTo>
                <a:lnTo>
                  <a:pt x="104770" y="87580"/>
                </a:lnTo>
                <a:lnTo>
                  <a:pt x="105316" y="78706"/>
                </a:lnTo>
                <a:lnTo>
                  <a:pt x="105922" y="62074"/>
                </a:lnTo>
                <a:lnTo>
                  <a:pt x="105237" y="54082"/>
                </a:lnTo>
                <a:lnTo>
                  <a:pt x="103934" y="46215"/>
                </a:lnTo>
                <a:lnTo>
                  <a:pt x="102218" y="38430"/>
                </a:lnTo>
                <a:lnTo>
                  <a:pt x="100228" y="31547"/>
                </a:lnTo>
                <a:lnTo>
                  <a:pt x="98054" y="25265"/>
                </a:lnTo>
                <a:lnTo>
                  <a:pt x="95759" y="19383"/>
                </a:lnTo>
                <a:lnTo>
                  <a:pt x="93381" y="15462"/>
                </a:lnTo>
                <a:lnTo>
                  <a:pt x="90950" y="12848"/>
                </a:lnTo>
                <a:lnTo>
                  <a:pt x="88483" y="11105"/>
                </a:lnTo>
                <a:lnTo>
                  <a:pt x="86837" y="9097"/>
                </a:lnTo>
                <a:lnTo>
                  <a:pt x="85741" y="6911"/>
                </a:lnTo>
                <a:lnTo>
                  <a:pt x="83547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InkAnnotation100"/>
          <p:cNvSpPr/>
          <p:nvPr/>
        </p:nvSpPr>
        <p:spPr>
          <a:xfrm>
            <a:off x="960480" y="5541840"/>
            <a:ext cx="210960" cy="255600"/>
          </a:xfrm>
          <a:custGeom>
            <a:avLst/>
            <a:gdLst>
              <a:gd name="textAreaLeft" fmla="*/ 0 w 210960"/>
              <a:gd name="textAreaRight" fmla="*/ 211320 w 2109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9911" h="255624">
                <a:moveTo>
                  <a:pt x="113379" y="74485"/>
                </a:moveTo>
                <a:lnTo>
                  <a:pt x="101807" y="74485"/>
                </a:lnTo>
                <a:lnTo>
                  <a:pt x="99737" y="75331"/>
                </a:lnTo>
                <a:lnTo>
                  <a:pt x="95181" y="78529"/>
                </a:lnTo>
                <a:lnTo>
                  <a:pt x="85818" y="85031"/>
                </a:lnTo>
                <a:lnTo>
                  <a:pt x="79765" y="89136"/>
                </a:lnTo>
                <a:lnTo>
                  <a:pt x="74036" y="93565"/>
                </a:lnTo>
                <a:lnTo>
                  <a:pt x="68524" y="98212"/>
                </a:lnTo>
                <a:lnTo>
                  <a:pt x="63156" y="103002"/>
                </a:lnTo>
                <a:lnTo>
                  <a:pt x="50418" y="115099"/>
                </a:lnTo>
                <a:lnTo>
                  <a:pt x="43465" y="121881"/>
                </a:lnTo>
                <a:lnTo>
                  <a:pt x="37136" y="128942"/>
                </a:lnTo>
                <a:lnTo>
                  <a:pt x="31224" y="136189"/>
                </a:lnTo>
                <a:lnTo>
                  <a:pt x="25589" y="143561"/>
                </a:lnTo>
                <a:lnTo>
                  <a:pt x="20139" y="151016"/>
                </a:lnTo>
                <a:lnTo>
                  <a:pt x="9568" y="166071"/>
                </a:lnTo>
                <a:lnTo>
                  <a:pt x="6072" y="173643"/>
                </a:lnTo>
                <a:lnTo>
                  <a:pt x="3741" y="181230"/>
                </a:lnTo>
                <a:lnTo>
                  <a:pt x="2187" y="188828"/>
                </a:lnTo>
                <a:lnTo>
                  <a:pt x="1151" y="195587"/>
                </a:lnTo>
                <a:lnTo>
                  <a:pt x="460" y="201786"/>
                </a:lnTo>
                <a:lnTo>
                  <a:pt x="0" y="207612"/>
                </a:lnTo>
                <a:lnTo>
                  <a:pt x="1386" y="214036"/>
                </a:lnTo>
                <a:lnTo>
                  <a:pt x="4004" y="220859"/>
                </a:lnTo>
                <a:lnTo>
                  <a:pt x="7442" y="227948"/>
                </a:lnTo>
                <a:lnTo>
                  <a:pt x="11428" y="233520"/>
                </a:lnTo>
                <a:lnTo>
                  <a:pt x="15778" y="238081"/>
                </a:lnTo>
                <a:lnTo>
                  <a:pt x="20372" y="241969"/>
                </a:lnTo>
                <a:lnTo>
                  <a:pt x="26821" y="245407"/>
                </a:lnTo>
                <a:lnTo>
                  <a:pt x="34507" y="248547"/>
                </a:lnTo>
                <a:lnTo>
                  <a:pt x="43018" y="251486"/>
                </a:lnTo>
                <a:lnTo>
                  <a:pt x="52078" y="253445"/>
                </a:lnTo>
                <a:lnTo>
                  <a:pt x="61505" y="254752"/>
                </a:lnTo>
                <a:lnTo>
                  <a:pt x="71176" y="255623"/>
                </a:lnTo>
                <a:lnTo>
                  <a:pt x="81011" y="254510"/>
                </a:lnTo>
                <a:lnTo>
                  <a:pt x="90954" y="252075"/>
                </a:lnTo>
                <a:lnTo>
                  <a:pt x="100969" y="248758"/>
                </a:lnTo>
                <a:lnTo>
                  <a:pt x="111032" y="244007"/>
                </a:lnTo>
                <a:lnTo>
                  <a:pt x="121128" y="238300"/>
                </a:lnTo>
                <a:lnTo>
                  <a:pt x="131245" y="231954"/>
                </a:lnTo>
                <a:lnTo>
                  <a:pt x="141376" y="224338"/>
                </a:lnTo>
                <a:lnTo>
                  <a:pt x="151517" y="215873"/>
                </a:lnTo>
                <a:lnTo>
                  <a:pt x="161665" y="206843"/>
                </a:lnTo>
                <a:lnTo>
                  <a:pt x="170969" y="196590"/>
                </a:lnTo>
                <a:lnTo>
                  <a:pt x="179713" y="185522"/>
                </a:lnTo>
                <a:lnTo>
                  <a:pt x="188081" y="173909"/>
                </a:lnTo>
                <a:lnTo>
                  <a:pt x="194507" y="162781"/>
                </a:lnTo>
                <a:lnTo>
                  <a:pt x="199638" y="151976"/>
                </a:lnTo>
                <a:lnTo>
                  <a:pt x="203905" y="141385"/>
                </a:lnTo>
                <a:lnTo>
                  <a:pt x="206750" y="130938"/>
                </a:lnTo>
                <a:lnTo>
                  <a:pt x="208646" y="120587"/>
                </a:lnTo>
                <a:lnTo>
                  <a:pt x="209910" y="110299"/>
                </a:lnTo>
                <a:lnTo>
                  <a:pt x="209907" y="100055"/>
                </a:lnTo>
                <a:lnTo>
                  <a:pt x="209057" y="89838"/>
                </a:lnTo>
                <a:lnTo>
                  <a:pt x="207645" y="79640"/>
                </a:lnTo>
                <a:lnTo>
                  <a:pt x="205856" y="69455"/>
                </a:lnTo>
                <a:lnTo>
                  <a:pt x="203817" y="59278"/>
                </a:lnTo>
                <a:lnTo>
                  <a:pt x="201611" y="49107"/>
                </a:lnTo>
                <a:lnTo>
                  <a:pt x="197600" y="40632"/>
                </a:lnTo>
                <a:lnTo>
                  <a:pt x="192387" y="33291"/>
                </a:lnTo>
                <a:lnTo>
                  <a:pt x="186371" y="26702"/>
                </a:lnTo>
                <a:lnTo>
                  <a:pt x="180667" y="21463"/>
                </a:lnTo>
                <a:lnTo>
                  <a:pt x="175171" y="17124"/>
                </a:lnTo>
                <a:lnTo>
                  <a:pt x="169814" y="13383"/>
                </a:lnTo>
                <a:lnTo>
                  <a:pt x="163702" y="10043"/>
                </a:lnTo>
                <a:lnTo>
                  <a:pt x="157088" y="6971"/>
                </a:lnTo>
                <a:lnTo>
                  <a:pt x="150138" y="4075"/>
                </a:lnTo>
                <a:lnTo>
                  <a:pt x="142965" y="2145"/>
                </a:lnTo>
                <a:lnTo>
                  <a:pt x="135643" y="858"/>
                </a:lnTo>
                <a:lnTo>
                  <a:pt x="128222" y="0"/>
                </a:lnTo>
                <a:lnTo>
                  <a:pt x="120734" y="275"/>
                </a:lnTo>
                <a:lnTo>
                  <a:pt x="113202" y="1304"/>
                </a:lnTo>
                <a:lnTo>
                  <a:pt x="105641" y="2838"/>
                </a:lnTo>
                <a:lnTo>
                  <a:pt x="98061" y="5553"/>
                </a:lnTo>
                <a:lnTo>
                  <a:pt x="90467" y="9057"/>
                </a:lnTo>
                <a:lnTo>
                  <a:pt x="82864" y="13087"/>
                </a:lnTo>
                <a:lnTo>
                  <a:pt x="76103" y="18313"/>
                </a:lnTo>
                <a:lnTo>
                  <a:pt x="69901" y="24336"/>
                </a:lnTo>
                <a:lnTo>
                  <a:pt x="64074" y="30892"/>
                </a:lnTo>
                <a:lnTo>
                  <a:pt x="58496" y="37803"/>
                </a:lnTo>
                <a:lnTo>
                  <a:pt x="53084" y="44951"/>
                </a:lnTo>
                <a:lnTo>
                  <a:pt x="47782" y="52255"/>
                </a:lnTo>
                <a:lnTo>
                  <a:pt x="44248" y="58818"/>
                </a:lnTo>
                <a:lnTo>
                  <a:pt x="41892" y="64887"/>
                </a:lnTo>
                <a:lnTo>
                  <a:pt x="37179" y="8210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InkAnnotation101"/>
          <p:cNvSpPr/>
          <p:nvPr/>
        </p:nvSpPr>
        <p:spPr>
          <a:xfrm>
            <a:off x="955800" y="5775480"/>
            <a:ext cx="215640" cy="158760"/>
          </a:xfrm>
          <a:custGeom>
            <a:avLst/>
            <a:gdLst>
              <a:gd name="textAreaLeft" fmla="*/ 0 w 215640"/>
              <a:gd name="textAreaRight" fmla="*/ 216000 w 215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27" h="158381">
                <a:moveTo>
                  <a:pt x="142378" y="0"/>
                </a:moveTo>
                <a:lnTo>
                  <a:pt x="142378" y="4045"/>
                </a:lnTo>
                <a:lnTo>
                  <a:pt x="141531" y="5237"/>
                </a:lnTo>
                <a:lnTo>
                  <a:pt x="140120" y="6032"/>
                </a:lnTo>
                <a:lnTo>
                  <a:pt x="135448" y="7760"/>
                </a:lnTo>
                <a:lnTo>
                  <a:pt x="131831" y="9407"/>
                </a:lnTo>
                <a:lnTo>
                  <a:pt x="127727" y="11351"/>
                </a:lnTo>
                <a:lnTo>
                  <a:pt x="123297" y="14341"/>
                </a:lnTo>
                <a:lnTo>
                  <a:pt x="118651" y="18027"/>
                </a:lnTo>
                <a:lnTo>
                  <a:pt x="113860" y="22178"/>
                </a:lnTo>
                <a:lnTo>
                  <a:pt x="107279" y="25792"/>
                </a:lnTo>
                <a:lnTo>
                  <a:pt x="99506" y="29048"/>
                </a:lnTo>
                <a:lnTo>
                  <a:pt x="90936" y="32066"/>
                </a:lnTo>
                <a:lnTo>
                  <a:pt x="82684" y="36617"/>
                </a:lnTo>
                <a:lnTo>
                  <a:pt x="74642" y="42191"/>
                </a:lnTo>
                <a:lnTo>
                  <a:pt x="66741" y="48448"/>
                </a:lnTo>
                <a:lnTo>
                  <a:pt x="58933" y="54312"/>
                </a:lnTo>
                <a:lnTo>
                  <a:pt x="43485" y="65343"/>
                </a:lnTo>
                <a:lnTo>
                  <a:pt x="35809" y="71502"/>
                </a:lnTo>
                <a:lnTo>
                  <a:pt x="28152" y="78148"/>
                </a:lnTo>
                <a:lnTo>
                  <a:pt x="20507" y="85118"/>
                </a:lnTo>
                <a:lnTo>
                  <a:pt x="14564" y="91459"/>
                </a:lnTo>
                <a:lnTo>
                  <a:pt x="9755" y="97380"/>
                </a:lnTo>
                <a:lnTo>
                  <a:pt x="5703" y="103020"/>
                </a:lnTo>
                <a:lnTo>
                  <a:pt x="3001" y="108473"/>
                </a:lnTo>
                <a:lnTo>
                  <a:pt x="1200" y="113802"/>
                </a:lnTo>
                <a:lnTo>
                  <a:pt x="0" y="119048"/>
                </a:lnTo>
                <a:lnTo>
                  <a:pt x="46" y="124239"/>
                </a:lnTo>
                <a:lnTo>
                  <a:pt x="923" y="129393"/>
                </a:lnTo>
                <a:lnTo>
                  <a:pt x="2355" y="134522"/>
                </a:lnTo>
                <a:lnTo>
                  <a:pt x="5849" y="138788"/>
                </a:lnTo>
                <a:lnTo>
                  <a:pt x="10719" y="142479"/>
                </a:lnTo>
                <a:lnTo>
                  <a:pt x="16505" y="145786"/>
                </a:lnTo>
                <a:lnTo>
                  <a:pt x="22903" y="148837"/>
                </a:lnTo>
                <a:lnTo>
                  <a:pt x="29708" y="151718"/>
                </a:lnTo>
                <a:lnTo>
                  <a:pt x="36785" y="154485"/>
                </a:lnTo>
                <a:lnTo>
                  <a:pt x="45736" y="156331"/>
                </a:lnTo>
                <a:lnTo>
                  <a:pt x="55937" y="157560"/>
                </a:lnTo>
                <a:lnTo>
                  <a:pt x="66971" y="158380"/>
                </a:lnTo>
                <a:lnTo>
                  <a:pt x="77713" y="157234"/>
                </a:lnTo>
                <a:lnTo>
                  <a:pt x="88261" y="154776"/>
                </a:lnTo>
                <a:lnTo>
                  <a:pt x="98680" y="151444"/>
                </a:lnTo>
                <a:lnTo>
                  <a:pt x="109860" y="147529"/>
                </a:lnTo>
                <a:lnTo>
                  <a:pt x="133570" y="138665"/>
                </a:lnTo>
                <a:lnTo>
                  <a:pt x="144973" y="133083"/>
                </a:lnTo>
                <a:lnTo>
                  <a:pt x="155961" y="126822"/>
                </a:lnTo>
                <a:lnTo>
                  <a:pt x="166673" y="120108"/>
                </a:lnTo>
                <a:lnTo>
                  <a:pt x="176355" y="113092"/>
                </a:lnTo>
                <a:lnTo>
                  <a:pt x="185349" y="105874"/>
                </a:lnTo>
                <a:lnTo>
                  <a:pt x="193886" y="98524"/>
                </a:lnTo>
                <a:lnTo>
                  <a:pt x="200423" y="91929"/>
                </a:lnTo>
                <a:lnTo>
                  <a:pt x="205628" y="85839"/>
                </a:lnTo>
                <a:lnTo>
                  <a:pt x="209945" y="80086"/>
                </a:lnTo>
                <a:lnTo>
                  <a:pt x="212823" y="73711"/>
                </a:lnTo>
                <a:lnTo>
                  <a:pt x="214741" y="66921"/>
                </a:lnTo>
                <a:lnTo>
                  <a:pt x="216020" y="59854"/>
                </a:lnTo>
                <a:lnTo>
                  <a:pt x="216026" y="53449"/>
                </a:lnTo>
                <a:lnTo>
                  <a:pt x="215183" y="47486"/>
                </a:lnTo>
                <a:lnTo>
                  <a:pt x="213775" y="41817"/>
                </a:lnTo>
                <a:lnTo>
                  <a:pt x="211990" y="36345"/>
                </a:lnTo>
                <a:lnTo>
                  <a:pt x="209952" y="31003"/>
                </a:lnTo>
                <a:lnTo>
                  <a:pt x="207748" y="25749"/>
                </a:lnTo>
                <a:lnTo>
                  <a:pt x="204584" y="21399"/>
                </a:lnTo>
                <a:lnTo>
                  <a:pt x="200783" y="17653"/>
                </a:lnTo>
                <a:lnTo>
                  <a:pt x="196554" y="14309"/>
                </a:lnTo>
                <a:lnTo>
                  <a:pt x="192042" y="12079"/>
                </a:lnTo>
                <a:lnTo>
                  <a:pt x="187341" y="10593"/>
                </a:lnTo>
                <a:lnTo>
                  <a:pt x="182513" y="9602"/>
                </a:lnTo>
                <a:lnTo>
                  <a:pt x="177602" y="8942"/>
                </a:lnTo>
                <a:lnTo>
                  <a:pt x="172634" y="8501"/>
                </a:lnTo>
                <a:lnTo>
                  <a:pt x="167629" y="8207"/>
                </a:lnTo>
                <a:lnTo>
                  <a:pt x="163445" y="8858"/>
                </a:lnTo>
                <a:lnTo>
                  <a:pt x="159809" y="10139"/>
                </a:lnTo>
                <a:lnTo>
                  <a:pt x="153512" y="12973"/>
                </a:lnTo>
                <a:lnTo>
                  <a:pt x="147891" y="14232"/>
                </a:lnTo>
                <a:lnTo>
                  <a:pt x="144360" y="16262"/>
                </a:lnTo>
                <a:lnTo>
                  <a:pt x="140313" y="19308"/>
                </a:lnTo>
                <a:lnTo>
                  <a:pt x="127138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InkAnnotation102"/>
          <p:cNvSpPr/>
          <p:nvPr/>
        </p:nvSpPr>
        <p:spPr>
          <a:xfrm>
            <a:off x="1143000" y="5791320"/>
            <a:ext cx="206280" cy="136440"/>
          </a:xfrm>
          <a:custGeom>
            <a:avLst/>
            <a:gdLst>
              <a:gd name="textAreaLeft" fmla="*/ 0 w 206280"/>
              <a:gd name="textAreaRight" fmla="*/ 206640 w 206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5741" h="137160">
                <a:moveTo>
                  <a:pt x="205740" y="0"/>
                </a:moveTo>
                <a:lnTo>
                  <a:pt x="201695" y="0"/>
                </a:lnTo>
                <a:lnTo>
                  <a:pt x="198810" y="1693"/>
                </a:lnTo>
                <a:lnTo>
                  <a:pt x="195193" y="4515"/>
                </a:lnTo>
                <a:lnTo>
                  <a:pt x="185312" y="13121"/>
                </a:lnTo>
                <a:lnTo>
                  <a:pt x="179446" y="18813"/>
                </a:lnTo>
                <a:lnTo>
                  <a:pt x="157837" y="40311"/>
                </a:lnTo>
                <a:lnTo>
                  <a:pt x="150098" y="46347"/>
                </a:lnTo>
                <a:lnTo>
                  <a:pt x="141552" y="52065"/>
                </a:lnTo>
                <a:lnTo>
                  <a:pt x="132468" y="57569"/>
                </a:lnTo>
                <a:lnTo>
                  <a:pt x="123872" y="63779"/>
                </a:lnTo>
                <a:lnTo>
                  <a:pt x="115601" y="70460"/>
                </a:lnTo>
                <a:lnTo>
                  <a:pt x="107548" y="77453"/>
                </a:lnTo>
                <a:lnTo>
                  <a:pt x="99638" y="83808"/>
                </a:lnTo>
                <a:lnTo>
                  <a:pt x="91826" y="89738"/>
                </a:lnTo>
                <a:lnTo>
                  <a:pt x="76372" y="100843"/>
                </a:lnTo>
                <a:lnTo>
                  <a:pt x="61036" y="111423"/>
                </a:lnTo>
                <a:lnTo>
                  <a:pt x="54238" y="115769"/>
                </a:lnTo>
                <a:lnTo>
                  <a:pt x="48012" y="119512"/>
                </a:lnTo>
                <a:lnTo>
                  <a:pt x="42168" y="122855"/>
                </a:lnTo>
                <a:lnTo>
                  <a:pt x="36579" y="125083"/>
                </a:lnTo>
                <a:lnTo>
                  <a:pt x="31159" y="126569"/>
                </a:lnTo>
                <a:lnTo>
                  <a:pt x="25853" y="127558"/>
                </a:lnTo>
                <a:lnTo>
                  <a:pt x="21468" y="129065"/>
                </a:lnTo>
                <a:lnTo>
                  <a:pt x="17699" y="130917"/>
                </a:lnTo>
                <a:lnTo>
                  <a:pt x="14339" y="132997"/>
                </a:lnTo>
                <a:lnTo>
                  <a:pt x="8349" y="135310"/>
                </a:lnTo>
                <a:lnTo>
                  <a:pt x="0" y="1371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InkAnnotation103"/>
          <p:cNvSpPr/>
          <p:nvPr/>
        </p:nvSpPr>
        <p:spPr>
          <a:xfrm>
            <a:off x="1197000" y="5769000"/>
            <a:ext cx="182520" cy="1969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2881" h="198120">
                <a:moveTo>
                  <a:pt x="0" y="0"/>
                </a:moveTo>
                <a:lnTo>
                  <a:pt x="4045" y="0"/>
                </a:lnTo>
                <a:lnTo>
                  <a:pt x="5237" y="1693"/>
                </a:lnTo>
                <a:lnTo>
                  <a:pt x="6031" y="4515"/>
                </a:lnTo>
                <a:lnTo>
                  <a:pt x="6561" y="8090"/>
                </a:lnTo>
                <a:lnTo>
                  <a:pt x="8607" y="11320"/>
                </a:lnTo>
                <a:lnTo>
                  <a:pt x="11665" y="14320"/>
                </a:lnTo>
                <a:lnTo>
                  <a:pt x="15396" y="17167"/>
                </a:lnTo>
                <a:lnTo>
                  <a:pt x="19578" y="21604"/>
                </a:lnTo>
                <a:lnTo>
                  <a:pt x="24059" y="27102"/>
                </a:lnTo>
                <a:lnTo>
                  <a:pt x="28739" y="33308"/>
                </a:lnTo>
                <a:lnTo>
                  <a:pt x="38455" y="46977"/>
                </a:lnTo>
                <a:lnTo>
                  <a:pt x="58490" y="76447"/>
                </a:lnTo>
                <a:lnTo>
                  <a:pt x="64394" y="83985"/>
                </a:lnTo>
                <a:lnTo>
                  <a:pt x="70869" y="91549"/>
                </a:lnTo>
                <a:lnTo>
                  <a:pt x="77726" y="99133"/>
                </a:lnTo>
                <a:lnTo>
                  <a:pt x="92118" y="114332"/>
                </a:lnTo>
                <a:lnTo>
                  <a:pt x="99512" y="121941"/>
                </a:lnTo>
                <a:lnTo>
                  <a:pt x="106135" y="129554"/>
                </a:lnTo>
                <a:lnTo>
                  <a:pt x="112243" y="137169"/>
                </a:lnTo>
                <a:lnTo>
                  <a:pt x="118009" y="144785"/>
                </a:lnTo>
                <a:lnTo>
                  <a:pt x="124392" y="151557"/>
                </a:lnTo>
                <a:lnTo>
                  <a:pt x="131188" y="157764"/>
                </a:lnTo>
                <a:lnTo>
                  <a:pt x="138259" y="163595"/>
                </a:lnTo>
                <a:lnTo>
                  <a:pt x="144666" y="169176"/>
                </a:lnTo>
                <a:lnTo>
                  <a:pt x="150631" y="174591"/>
                </a:lnTo>
                <a:lnTo>
                  <a:pt x="156301" y="179894"/>
                </a:lnTo>
                <a:lnTo>
                  <a:pt x="160927" y="183429"/>
                </a:lnTo>
                <a:lnTo>
                  <a:pt x="164858" y="185785"/>
                </a:lnTo>
                <a:lnTo>
                  <a:pt x="168326" y="187357"/>
                </a:lnTo>
                <a:lnTo>
                  <a:pt x="171483" y="189250"/>
                </a:lnTo>
                <a:lnTo>
                  <a:pt x="174436" y="191361"/>
                </a:lnTo>
                <a:lnTo>
                  <a:pt x="182880" y="19811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InkAnnotation104"/>
          <p:cNvSpPr/>
          <p:nvPr/>
        </p:nvSpPr>
        <p:spPr>
          <a:xfrm>
            <a:off x="1417680" y="5829480"/>
            <a:ext cx="190440" cy="21960"/>
          </a:xfrm>
          <a:custGeom>
            <a:avLst/>
            <a:gdLst>
              <a:gd name="textAreaLeft" fmla="*/ 0 w 190440"/>
              <a:gd name="textAreaRight" fmla="*/ 190800 w 1904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90501" h="22767">
                <a:moveTo>
                  <a:pt x="0" y="15239"/>
                </a:moveTo>
                <a:lnTo>
                  <a:pt x="10606" y="15239"/>
                </a:lnTo>
                <a:lnTo>
                  <a:pt x="13844" y="16085"/>
                </a:lnTo>
                <a:lnTo>
                  <a:pt x="17696" y="17497"/>
                </a:lnTo>
                <a:lnTo>
                  <a:pt x="21957" y="19284"/>
                </a:lnTo>
                <a:lnTo>
                  <a:pt x="26492" y="20476"/>
                </a:lnTo>
                <a:lnTo>
                  <a:pt x="31208" y="21271"/>
                </a:lnTo>
                <a:lnTo>
                  <a:pt x="36045" y="21800"/>
                </a:lnTo>
                <a:lnTo>
                  <a:pt x="41810" y="22153"/>
                </a:lnTo>
                <a:lnTo>
                  <a:pt x="54989" y="22546"/>
                </a:lnTo>
                <a:lnTo>
                  <a:pt x="76689" y="22766"/>
                </a:lnTo>
                <a:lnTo>
                  <a:pt x="84992" y="21950"/>
                </a:lnTo>
                <a:lnTo>
                  <a:pt x="93915" y="20560"/>
                </a:lnTo>
                <a:lnTo>
                  <a:pt x="103250" y="18786"/>
                </a:lnTo>
                <a:lnTo>
                  <a:pt x="112860" y="17604"/>
                </a:lnTo>
                <a:lnTo>
                  <a:pt x="122654" y="16816"/>
                </a:lnTo>
                <a:lnTo>
                  <a:pt x="132569" y="16290"/>
                </a:lnTo>
                <a:lnTo>
                  <a:pt x="142566" y="15094"/>
                </a:lnTo>
                <a:lnTo>
                  <a:pt x="152617" y="13448"/>
                </a:lnTo>
                <a:lnTo>
                  <a:pt x="162705" y="11506"/>
                </a:lnTo>
                <a:lnTo>
                  <a:pt x="170277" y="9364"/>
                </a:lnTo>
                <a:lnTo>
                  <a:pt x="176171" y="7089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InkAnnotation105"/>
          <p:cNvSpPr/>
          <p:nvPr/>
        </p:nvSpPr>
        <p:spPr>
          <a:xfrm>
            <a:off x="1622520" y="5715000"/>
            <a:ext cx="83880" cy="212760"/>
          </a:xfrm>
          <a:custGeom>
            <a:avLst/>
            <a:gdLst>
              <a:gd name="textAreaLeft" fmla="*/ 0 w 83880"/>
              <a:gd name="textAreaRight" fmla="*/ 84240 w 83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3821" h="213360">
                <a:moveTo>
                  <a:pt x="83820" y="0"/>
                </a:moveTo>
                <a:lnTo>
                  <a:pt x="83820" y="4044"/>
                </a:lnTo>
                <a:lnTo>
                  <a:pt x="82973" y="6083"/>
                </a:lnTo>
                <a:lnTo>
                  <a:pt x="81562" y="8288"/>
                </a:lnTo>
                <a:lnTo>
                  <a:pt x="77259" y="13867"/>
                </a:lnTo>
                <a:lnTo>
                  <a:pt x="76060" y="16018"/>
                </a:lnTo>
                <a:lnTo>
                  <a:pt x="70326" y="27135"/>
                </a:lnTo>
                <a:lnTo>
                  <a:pt x="58315" y="51028"/>
                </a:lnTo>
                <a:lnTo>
                  <a:pt x="54964" y="56878"/>
                </a:lnTo>
                <a:lnTo>
                  <a:pt x="51036" y="63319"/>
                </a:lnTo>
                <a:lnTo>
                  <a:pt x="46724" y="70152"/>
                </a:lnTo>
                <a:lnTo>
                  <a:pt x="43002" y="77248"/>
                </a:lnTo>
                <a:lnTo>
                  <a:pt x="39675" y="84518"/>
                </a:lnTo>
                <a:lnTo>
                  <a:pt x="36610" y="91906"/>
                </a:lnTo>
                <a:lnTo>
                  <a:pt x="33720" y="99370"/>
                </a:lnTo>
                <a:lnTo>
                  <a:pt x="28251" y="114438"/>
                </a:lnTo>
                <a:lnTo>
                  <a:pt x="20413" y="137201"/>
                </a:lnTo>
                <a:lnTo>
                  <a:pt x="17842" y="145653"/>
                </a:lnTo>
                <a:lnTo>
                  <a:pt x="12728" y="164076"/>
                </a:lnTo>
                <a:lnTo>
                  <a:pt x="10178" y="172038"/>
                </a:lnTo>
                <a:lnTo>
                  <a:pt x="7632" y="179038"/>
                </a:lnTo>
                <a:lnTo>
                  <a:pt x="5088" y="185398"/>
                </a:lnTo>
                <a:lnTo>
                  <a:pt x="3392" y="191332"/>
                </a:lnTo>
                <a:lnTo>
                  <a:pt x="2261" y="196981"/>
                </a:lnTo>
                <a:lnTo>
                  <a:pt x="0" y="2133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InkAnnotation106"/>
          <p:cNvSpPr/>
          <p:nvPr/>
        </p:nvSpPr>
        <p:spPr>
          <a:xfrm>
            <a:off x="1684440" y="5676840"/>
            <a:ext cx="210960" cy="235080"/>
          </a:xfrm>
          <a:custGeom>
            <a:avLst/>
            <a:gdLst>
              <a:gd name="textAreaLeft" fmla="*/ 0 w 210960"/>
              <a:gd name="textAreaRight" fmla="*/ 211320 w 210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1067" h="235639">
                <a:moveTo>
                  <a:pt x="121312" y="0"/>
                </a:moveTo>
                <a:lnTo>
                  <a:pt x="121312" y="10606"/>
                </a:lnTo>
                <a:lnTo>
                  <a:pt x="119055" y="17695"/>
                </a:lnTo>
                <a:lnTo>
                  <a:pt x="117267" y="21957"/>
                </a:lnTo>
                <a:lnTo>
                  <a:pt x="115229" y="26491"/>
                </a:lnTo>
                <a:lnTo>
                  <a:pt x="110706" y="36045"/>
                </a:lnTo>
                <a:lnTo>
                  <a:pt x="103400" y="50943"/>
                </a:lnTo>
                <a:lnTo>
                  <a:pt x="100057" y="55975"/>
                </a:lnTo>
                <a:lnTo>
                  <a:pt x="96136" y="61023"/>
                </a:lnTo>
                <a:lnTo>
                  <a:pt x="91828" y="66082"/>
                </a:lnTo>
                <a:lnTo>
                  <a:pt x="86416" y="71994"/>
                </a:lnTo>
                <a:lnTo>
                  <a:pt x="73630" y="85337"/>
                </a:lnTo>
                <a:lnTo>
                  <a:pt x="67510" y="92452"/>
                </a:lnTo>
                <a:lnTo>
                  <a:pt x="61738" y="99734"/>
                </a:lnTo>
                <a:lnTo>
                  <a:pt x="56196" y="107129"/>
                </a:lnTo>
                <a:lnTo>
                  <a:pt x="49961" y="114599"/>
                </a:lnTo>
                <a:lnTo>
                  <a:pt x="43265" y="122120"/>
                </a:lnTo>
                <a:lnTo>
                  <a:pt x="29898" y="136402"/>
                </a:lnTo>
                <a:lnTo>
                  <a:pt x="18313" y="148394"/>
                </a:lnTo>
                <a:lnTo>
                  <a:pt x="13699" y="154809"/>
                </a:lnTo>
                <a:lnTo>
                  <a:pt x="9777" y="161625"/>
                </a:lnTo>
                <a:lnTo>
                  <a:pt x="6315" y="168710"/>
                </a:lnTo>
                <a:lnTo>
                  <a:pt x="4008" y="175127"/>
                </a:lnTo>
                <a:lnTo>
                  <a:pt x="2469" y="181097"/>
                </a:lnTo>
                <a:lnTo>
                  <a:pt x="1444" y="186772"/>
                </a:lnTo>
                <a:lnTo>
                  <a:pt x="760" y="192248"/>
                </a:lnTo>
                <a:lnTo>
                  <a:pt x="304" y="197591"/>
                </a:lnTo>
                <a:lnTo>
                  <a:pt x="0" y="202848"/>
                </a:lnTo>
                <a:lnTo>
                  <a:pt x="644" y="208045"/>
                </a:lnTo>
                <a:lnTo>
                  <a:pt x="1920" y="213203"/>
                </a:lnTo>
                <a:lnTo>
                  <a:pt x="3618" y="218335"/>
                </a:lnTo>
                <a:lnTo>
                  <a:pt x="6443" y="222603"/>
                </a:lnTo>
                <a:lnTo>
                  <a:pt x="10019" y="226295"/>
                </a:lnTo>
                <a:lnTo>
                  <a:pt x="14097" y="229603"/>
                </a:lnTo>
                <a:lnTo>
                  <a:pt x="19355" y="231809"/>
                </a:lnTo>
                <a:lnTo>
                  <a:pt x="25401" y="233278"/>
                </a:lnTo>
                <a:lnTo>
                  <a:pt x="31972" y="234259"/>
                </a:lnTo>
                <a:lnTo>
                  <a:pt x="38892" y="234912"/>
                </a:lnTo>
                <a:lnTo>
                  <a:pt x="46045" y="235348"/>
                </a:lnTo>
                <a:lnTo>
                  <a:pt x="53354" y="235638"/>
                </a:lnTo>
                <a:lnTo>
                  <a:pt x="62460" y="234985"/>
                </a:lnTo>
                <a:lnTo>
                  <a:pt x="72765" y="233703"/>
                </a:lnTo>
                <a:lnTo>
                  <a:pt x="83867" y="232002"/>
                </a:lnTo>
                <a:lnTo>
                  <a:pt x="93809" y="228328"/>
                </a:lnTo>
                <a:lnTo>
                  <a:pt x="102977" y="223338"/>
                </a:lnTo>
                <a:lnTo>
                  <a:pt x="111628" y="217472"/>
                </a:lnTo>
                <a:lnTo>
                  <a:pt x="130273" y="204181"/>
                </a:lnTo>
                <a:lnTo>
                  <a:pt x="139986" y="197080"/>
                </a:lnTo>
                <a:lnTo>
                  <a:pt x="149001" y="188960"/>
                </a:lnTo>
                <a:lnTo>
                  <a:pt x="157552" y="180159"/>
                </a:lnTo>
                <a:lnTo>
                  <a:pt x="165792" y="170906"/>
                </a:lnTo>
                <a:lnTo>
                  <a:pt x="172979" y="162197"/>
                </a:lnTo>
                <a:lnTo>
                  <a:pt x="179463" y="153851"/>
                </a:lnTo>
                <a:lnTo>
                  <a:pt x="185480" y="145747"/>
                </a:lnTo>
                <a:lnTo>
                  <a:pt x="190337" y="136958"/>
                </a:lnTo>
                <a:lnTo>
                  <a:pt x="194422" y="127711"/>
                </a:lnTo>
                <a:lnTo>
                  <a:pt x="201219" y="109253"/>
                </a:lnTo>
                <a:lnTo>
                  <a:pt x="207062" y="92583"/>
                </a:lnTo>
                <a:lnTo>
                  <a:pt x="208959" y="85429"/>
                </a:lnTo>
                <a:lnTo>
                  <a:pt x="210223" y="78965"/>
                </a:lnTo>
                <a:lnTo>
                  <a:pt x="211066" y="72963"/>
                </a:lnTo>
                <a:lnTo>
                  <a:pt x="210782" y="67268"/>
                </a:lnTo>
                <a:lnTo>
                  <a:pt x="209745" y="61779"/>
                </a:lnTo>
                <a:lnTo>
                  <a:pt x="208207" y="56426"/>
                </a:lnTo>
                <a:lnTo>
                  <a:pt x="207182" y="51164"/>
                </a:lnTo>
                <a:lnTo>
                  <a:pt x="206499" y="45963"/>
                </a:lnTo>
                <a:lnTo>
                  <a:pt x="206043" y="40802"/>
                </a:lnTo>
                <a:lnTo>
                  <a:pt x="204893" y="36514"/>
                </a:lnTo>
                <a:lnTo>
                  <a:pt x="201357" y="29493"/>
                </a:lnTo>
                <a:lnTo>
                  <a:pt x="198382" y="26435"/>
                </a:lnTo>
                <a:lnTo>
                  <a:pt x="194706" y="23550"/>
                </a:lnTo>
                <a:lnTo>
                  <a:pt x="190561" y="20780"/>
                </a:lnTo>
                <a:lnTo>
                  <a:pt x="186952" y="18933"/>
                </a:lnTo>
                <a:lnTo>
                  <a:pt x="180683" y="16881"/>
                </a:lnTo>
                <a:lnTo>
                  <a:pt x="176979" y="18027"/>
                </a:lnTo>
                <a:lnTo>
                  <a:pt x="172817" y="20484"/>
                </a:lnTo>
                <a:lnTo>
                  <a:pt x="168349" y="23816"/>
                </a:lnTo>
                <a:lnTo>
                  <a:pt x="164523" y="26037"/>
                </a:lnTo>
                <a:lnTo>
                  <a:pt x="158015" y="28506"/>
                </a:lnTo>
                <a:lnTo>
                  <a:pt x="152300" y="31860"/>
                </a:lnTo>
                <a:lnTo>
                  <a:pt x="144172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InkAnnotation107"/>
          <p:cNvSpPr/>
          <p:nvPr/>
        </p:nvSpPr>
        <p:spPr>
          <a:xfrm>
            <a:off x="1981080" y="5791320"/>
            <a:ext cx="174600" cy="29880"/>
          </a:xfrm>
          <a:custGeom>
            <a:avLst/>
            <a:gdLst>
              <a:gd name="textAreaLeft" fmla="*/ 0 w 174600"/>
              <a:gd name="textAreaRight" fmla="*/ 174960 w 174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75261" h="30481">
                <a:moveTo>
                  <a:pt x="0" y="0"/>
                </a:moveTo>
                <a:lnTo>
                  <a:pt x="46651" y="0"/>
                </a:lnTo>
                <a:lnTo>
                  <a:pt x="53961" y="846"/>
                </a:lnTo>
                <a:lnTo>
                  <a:pt x="61374" y="2257"/>
                </a:lnTo>
                <a:lnTo>
                  <a:pt x="68856" y="4044"/>
                </a:lnTo>
                <a:lnTo>
                  <a:pt x="76384" y="5237"/>
                </a:lnTo>
                <a:lnTo>
                  <a:pt x="83943" y="6031"/>
                </a:lnTo>
                <a:lnTo>
                  <a:pt x="91522" y="6560"/>
                </a:lnTo>
                <a:lnTo>
                  <a:pt x="99115" y="7760"/>
                </a:lnTo>
                <a:lnTo>
                  <a:pt x="106717" y="9407"/>
                </a:lnTo>
                <a:lnTo>
                  <a:pt x="114324" y="11351"/>
                </a:lnTo>
                <a:lnTo>
                  <a:pt x="121937" y="12647"/>
                </a:lnTo>
                <a:lnTo>
                  <a:pt x="129551" y="13511"/>
                </a:lnTo>
                <a:lnTo>
                  <a:pt x="137167" y="14088"/>
                </a:lnTo>
                <a:lnTo>
                  <a:pt x="143939" y="15318"/>
                </a:lnTo>
                <a:lnTo>
                  <a:pt x="150146" y="16985"/>
                </a:lnTo>
                <a:lnTo>
                  <a:pt x="155977" y="18943"/>
                </a:lnTo>
                <a:lnTo>
                  <a:pt x="160712" y="21095"/>
                </a:lnTo>
                <a:lnTo>
                  <a:pt x="164715" y="23377"/>
                </a:lnTo>
                <a:lnTo>
                  <a:pt x="17526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InkAnnotation108"/>
          <p:cNvSpPr/>
          <p:nvPr/>
        </p:nvSpPr>
        <p:spPr>
          <a:xfrm>
            <a:off x="1989000" y="5867280"/>
            <a:ext cx="136800" cy="22320"/>
          </a:xfrm>
          <a:custGeom>
            <a:avLst/>
            <a:gdLst>
              <a:gd name="textAreaLeft" fmla="*/ 0 w 136800"/>
              <a:gd name="textAreaRight" fmla="*/ 137160 w 136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0">
                <a:moveTo>
                  <a:pt x="0" y="0"/>
                </a:moveTo>
                <a:lnTo>
                  <a:pt x="0" y="6560"/>
                </a:lnTo>
                <a:lnTo>
                  <a:pt x="847" y="6914"/>
                </a:lnTo>
                <a:lnTo>
                  <a:pt x="4045" y="7305"/>
                </a:lnTo>
                <a:lnTo>
                  <a:pt x="6084" y="8257"/>
                </a:lnTo>
                <a:lnTo>
                  <a:pt x="8289" y="9738"/>
                </a:lnTo>
                <a:lnTo>
                  <a:pt x="10606" y="11572"/>
                </a:lnTo>
                <a:lnTo>
                  <a:pt x="14691" y="12794"/>
                </a:lnTo>
                <a:lnTo>
                  <a:pt x="19954" y="13609"/>
                </a:lnTo>
                <a:lnTo>
                  <a:pt x="26003" y="14152"/>
                </a:lnTo>
                <a:lnTo>
                  <a:pt x="31729" y="15361"/>
                </a:lnTo>
                <a:lnTo>
                  <a:pt x="37239" y="17014"/>
                </a:lnTo>
                <a:lnTo>
                  <a:pt x="42606" y="18962"/>
                </a:lnTo>
                <a:lnTo>
                  <a:pt x="48724" y="20262"/>
                </a:lnTo>
                <a:lnTo>
                  <a:pt x="55343" y="21127"/>
                </a:lnTo>
                <a:lnTo>
                  <a:pt x="62295" y="21705"/>
                </a:lnTo>
                <a:lnTo>
                  <a:pt x="70317" y="22090"/>
                </a:lnTo>
                <a:lnTo>
                  <a:pt x="88261" y="22518"/>
                </a:lnTo>
                <a:lnTo>
                  <a:pt x="137160" y="228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InkAnnotation109"/>
          <p:cNvSpPr/>
          <p:nvPr/>
        </p:nvSpPr>
        <p:spPr>
          <a:xfrm>
            <a:off x="2247840" y="5722920"/>
            <a:ext cx="190440" cy="204840"/>
          </a:xfrm>
          <a:custGeom>
            <a:avLst/>
            <a:gdLst>
              <a:gd name="textAreaLeft" fmla="*/ 0 w 190440"/>
              <a:gd name="textAreaRight" fmla="*/ 190800 w 190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0458" h="205427">
                <a:moveTo>
                  <a:pt x="0" y="7306"/>
                </a:moveTo>
                <a:lnTo>
                  <a:pt x="175842" y="7306"/>
                </a:lnTo>
                <a:lnTo>
                  <a:pt x="179035" y="6459"/>
                </a:lnTo>
                <a:lnTo>
                  <a:pt x="184840" y="3261"/>
                </a:lnTo>
                <a:lnTo>
                  <a:pt x="190003" y="0"/>
                </a:lnTo>
                <a:lnTo>
                  <a:pt x="190279" y="2084"/>
                </a:lnTo>
                <a:lnTo>
                  <a:pt x="190457" y="6275"/>
                </a:lnTo>
                <a:lnTo>
                  <a:pt x="186442" y="11045"/>
                </a:lnTo>
                <a:lnTo>
                  <a:pt x="182715" y="14032"/>
                </a:lnTo>
                <a:lnTo>
                  <a:pt x="177690" y="17717"/>
                </a:lnTo>
                <a:lnTo>
                  <a:pt x="171800" y="21867"/>
                </a:lnTo>
                <a:lnTo>
                  <a:pt x="166180" y="26326"/>
                </a:lnTo>
                <a:lnTo>
                  <a:pt x="160740" y="30993"/>
                </a:lnTo>
                <a:lnTo>
                  <a:pt x="155420" y="35797"/>
                </a:lnTo>
                <a:lnTo>
                  <a:pt x="144993" y="45651"/>
                </a:lnTo>
                <a:lnTo>
                  <a:pt x="120457" y="69820"/>
                </a:lnTo>
                <a:lnTo>
                  <a:pt x="113325" y="76075"/>
                </a:lnTo>
                <a:lnTo>
                  <a:pt x="106030" y="81938"/>
                </a:lnTo>
                <a:lnTo>
                  <a:pt x="98627" y="87541"/>
                </a:lnTo>
                <a:lnTo>
                  <a:pt x="91151" y="93816"/>
                </a:lnTo>
                <a:lnTo>
                  <a:pt x="83627" y="100539"/>
                </a:lnTo>
                <a:lnTo>
                  <a:pt x="76072" y="107562"/>
                </a:lnTo>
                <a:lnTo>
                  <a:pt x="69341" y="114783"/>
                </a:lnTo>
                <a:lnTo>
                  <a:pt x="63161" y="122138"/>
                </a:lnTo>
                <a:lnTo>
                  <a:pt x="57347" y="129580"/>
                </a:lnTo>
                <a:lnTo>
                  <a:pt x="52625" y="136235"/>
                </a:lnTo>
                <a:lnTo>
                  <a:pt x="48630" y="142365"/>
                </a:lnTo>
                <a:lnTo>
                  <a:pt x="45120" y="148146"/>
                </a:lnTo>
                <a:lnTo>
                  <a:pt x="41087" y="153692"/>
                </a:lnTo>
                <a:lnTo>
                  <a:pt x="36705" y="159084"/>
                </a:lnTo>
                <a:lnTo>
                  <a:pt x="32090" y="164371"/>
                </a:lnTo>
                <a:lnTo>
                  <a:pt x="28166" y="169590"/>
                </a:lnTo>
                <a:lnTo>
                  <a:pt x="24704" y="174762"/>
                </a:lnTo>
                <a:lnTo>
                  <a:pt x="21550" y="179903"/>
                </a:lnTo>
                <a:lnTo>
                  <a:pt x="18600" y="184178"/>
                </a:lnTo>
                <a:lnTo>
                  <a:pt x="15786" y="187873"/>
                </a:lnTo>
                <a:lnTo>
                  <a:pt x="13064" y="191184"/>
                </a:lnTo>
                <a:lnTo>
                  <a:pt x="10040" y="197121"/>
                </a:lnTo>
                <a:lnTo>
                  <a:pt x="7620" y="20542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InkAnnotation110"/>
          <p:cNvSpPr/>
          <p:nvPr/>
        </p:nvSpPr>
        <p:spPr>
          <a:xfrm>
            <a:off x="2239920" y="5807160"/>
            <a:ext cx="144360" cy="52200"/>
          </a:xfrm>
          <a:custGeom>
            <a:avLst/>
            <a:gdLst>
              <a:gd name="textAreaLeft" fmla="*/ 0 w 144360"/>
              <a:gd name="textAreaRight" fmla="*/ 144720 w 144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4781" h="53340">
                <a:moveTo>
                  <a:pt x="0" y="0"/>
                </a:moveTo>
                <a:lnTo>
                  <a:pt x="0" y="4044"/>
                </a:lnTo>
                <a:lnTo>
                  <a:pt x="1693" y="5236"/>
                </a:lnTo>
                <a:lnTo>
                  <a:pt x="4516" y="6031"/>
                </a:lnTo>
                <a:lnTo>
                  <a:pt x="8091" y="6560"/>
                </a:lnTo>
                <a:lnTo>
                  <a:pt x="11320" y="7760"/>
                </a:lnTo>
                <a:lnTo>
                  <a:pt x="14320" y="9407"/>
                </a:lnTo>
                <a:lnTo>
                  <a:pt x="17167" y="11351"/>
                </a:lnTo>
                <a:lnTo>
                  <a:pt x="21605" y="13494"/>
                </a:lnTo>
                <a:lnTo>
                  <a:pt x="27103" y="15769"/>
                </a:lnTo>
                <a:lnTo>
                  <a:pt x="33309" y="18132"/>
                </a:lnTo>
                <a:lnTo>
                  <a:pt x="46977" y="23017"/>
                </a:lnTo>
                <a:lnTo>
                  <a:pt x="54178" y="25504"/>
                </a:lnTo>
                <a:lnTo>
                  <a:pt x="62365" y="28009"/>
                </a:lnTo>
                <a:lnTo>
                  <a:pt x="89222" y="35580"/>
                </a:lnTo>
                <a:lnTo>
                  <a:pt x="105694" y="40648"/>
                </a:lnTo>
                <a:lnTo>
                  <a:pt x="144780" y="533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InkAnnotation111"/>
          <p:cNvSpPr/>
          <p:nvPr/>
        </p:nvSpPr>
        <p:spPr>
          <a:xfrm>
            <a:off x="2395440" y="5730840"/>
            <a:ext cx="179640" cy="120600"/>
          </a:xfrm>
          <a:custGeom>
            <a:avLst/>
            <a:gdLst>
              <a:gd name="textAreaLeft" fmla="*/ 0 w 179640"/>
              <a:gd name="textAreaRight" fmla="*/ 179640 w 179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80148" h="120632">
                <a:moveTo>
                  <a:pt x="173141" y="0"/>
                </a:moveTo>
                <a:lnTo>
                  <a:pt x="169096" y="0"/>
                </a:lnTo>
                <a:lnTo>
                  <a:pt x="167058" y="846"/>
                </a:lnTo>
                <a:lnTo>
                  <a:pt x="162535" y="4044"/>
                </a:lnTo>
                <a:lnTo>
                  <a:pt x="160144" y="5236"/>
                </a:lnTo>
                <a:lnTo>
                  <a:pt x="155229" y="6560"/>
                </a:lnTo>
                <a:lnTo>
                  <a:pt x="151040" y="7760"/>
                </a:lnTo>
                <a:lnTo>
                  <a:pt x="139612" y="11351"/>
                </a:lnTo>
                <a:lnTo>
                  <a:pt x="133008" y="14340"/>
                </a:lnTo>
                <a:lnTo>
                  <a:pt x="126066" y="18027"/>
                </a:lnTo>
                <a:lnTo>
                  <a:pt x="118898" y="22178"/>
                </a:lnTo>
                <a:lnTo>
                  <a:pt x="101902" y="31305"/>
                </a:lnTo>
                <a:lnTo>
                  <a:pt x="92628" y="36110"/>
                </a:lnTo>
                <a:lnTo>
                  <a:pt x="83059" y="40160"/>
                </a:lnTo>
                <a:lnTo>
                  <a:pt x="73293" y="43707"/>
                </a:lnTo>
                <a:lnTo>
                  <a:pt x="63396" y="46918"/>
                </a:lnTo>
                <a:lnTo>
                  <a:pt x="54258" y="50752"/>
                </a:lnTo>
                <a:lnTo>
                  <a:pt x="45625" y="55001"/>
                </a:lnTo>
                <a:lnTo>
                  <a:pt x="37331" y="59527"/>
                </a:lnTo>
                <a:lnTo>
                  <a:pt x="30108" y="64237"/>
                </a:lnTo>
                <a:lnTo>
                  <a:pt x="23599" y="69072"/>
                </a:lnTo>
                <a:lnTo>
                  <a:pt x="17567" y="73987"/>
                </a:lnTo>
                <a:lnTo>
                  <a:pt x="12698" y="78111"/>
                </a:lnTo>
                <a:lnTo>
                  <a:pt x="8606" y="81707"/>
                </a:lnTo>
                <a:lnTo>
                  <a:pt x="5031" y="84951"/>
                </a:lnTo>
                <a:lnTo>
                  <a:pt x="2648" y="87961"/>
                </a:lnTo>
                <a:lnTo>
                  <a:pt x="1059" y="90814"/>
                </a:lnTo>
                <a:lnTo>
                  <a:pt x="0" y="93562"/>
                </a:lnTo>
                <a:lnTo>
                  <a:pt x="140" y="97088"/>
                </a:lnTo>
                <a:lnTo>
                  <a:pt x="1081" y="101131"/>
                </a:lnTo>
                <a:lnTo>
                  <a:pt x="2554" y="105521"/>
                </a:lnTo>
                <a:lnTo>
                  <a:pt x="4383" y="108447"/>
                </a:lnTo>
                <a:lnTo>
                  <a:pt x="6449" y="110398"/>
                </a:lnTo>
                <a:lnTo>
                  <a:pt x="8673" y="111698"/>
                </a:lnTo>
                <a:lnTo>
                  <a:pt x="12696" y="113412"/>
                </a:lnTo>
                <a:lnTo>
                  <a:pt x="17918" y="115401"/>
                </a:lnTo>
                <a:lnTo>
                  <a:pt x="23939" y="117574"/>
                </a:lnTo>
                <a:lnTo>
                  <a:pt x="30493" y="119022"/>
                </a:lnTo>
                <a:lnTo>
                  <a:pt x="37403" y="119988"/>
                </a:lnTo>
                <a:lnTo>
                  <a:pt x="44549" y="120631"/>
                </a:lnTo>
                <a:lnTo>
                  <a:pt x="51853" y="120214"/>
                </a:lnTo>
                <a:lnTo>
                  <a:pt x="59262" y="119089"/>
                </a:lnTo>
                <a:lnTo>
                  <a:pt x="97495" y="111200"/>
                </a:lnTo>
                <a:lnTo>
                  <a:pt x="106624" y="108000"/>
                </a:lnTo>
                <a:lnTo>
                  <a:pt x="114403" y="104173"/>
                </a:lnTo>
                <a:lnTo>
                  <a:pt x="128409" y="95406"/>
                </a:lnTo>
                <a:lnTo>
                  <a:pt x="143100" y="85864"/>
                </a:lnTo>
                <a:lnTo>
                  <a:pt x="149727" y="80949"/>
                </a:lnTo>
                <a:lnTo>
                  <a:pt x="155838" y="75979"/>
                </a:lnTo>
                <a:lnTo>
                  <a:pt x="161606" y="70973"/>
                </a:lnTo>
                <a:lnTo>
                  <a:pt x="166298" y="65942"/>
                </a:lnTo>
                <a:lnTo>
                  <a:pt x="170272" y="60894"/>
                </a:lnTo>
                <a:lnTo>
                  <a:pt x="173768" y="55836"/>
                </a:lnTo>
                <a:lnTo>
                  <a:pt x="176099" y="50770"/>
                </a:lnTo>
                <a:lnTo>
                  <a:pt x="177653" y="45700"/>
                </a:lnTo>
                <a:lnTo>
                  <a:pt x="180147" y="33487"/>
                </a:lnTo>
                <a:lnTo>
                  <a:pt x="179505" y="30790"/>
                </a:lnTo>
                <a:lnTo>
                  <a:pt x="178231" y="27300"/>
                </a:lnTo>
                <a:lnTo>
                  <a:pt x="174147" y="17622"/>
                </a:lnTo>
                <a:lnTo>
                  <a:pt x="172965" y="16828"/>
                </a:lnTo>
                <a:lnTo>
                  <a:pt x="171330" y="16298"/>
                </a:lnTo>
                <a:lnTo>
                  <a:pt x="165521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InkAnnotation112"/>
          <p:cNvSpPr/>
          <p:nvPr/>
        </p:nvSpPr>
        <p:spPr>
          <a:xfrm>
            <a:off x="2378160" y="5851440"/>
            <a:ext cx="106200" cy="133560"/>
          </a:xfrm>
          <a:custGeom>
            <a:avLst/>
            <a:gdLst>
              <a:gd name="textAreaLeft" fmla="*/ 0 w 106200"/>
              <a:gd name="textAreaRight" fmla="*/ 106560 w 10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6501" h="132900">
                <a:moveTo>
                  <a:pt x="106500" y="0"/>
                </a:moveTo>
                <a:lnTo>
                  <a:pt x="102455" y="0"/>
                </a:lnTo>
                <a:lnTo>
                  <a:pt x="101263" y="846"/>
                </a:lnTo>
                <a:lnTo>
                  <a:pt x="100469" y="2257"/>
                </a:lnTo>
                <a:lnTo>
                  <a:pt x="99939" y="4045"/>
                </a:lnTo>
                <a:lnTo>
                  <a:pt x="97893" y="6083"/>
                </a:lnTo>
                <a:lnTo>
                  <a:pt x="94835" y="8288"/>
                </a:lnTo>
                <a:lnTo>
                  <a:pt x="91104" y="10606"/>
                </a:lnTo>
                <a:lnTo>
                  <a:pt x="73716" y="21957"/>
                </a:lnTo>
                <a:lnTo>
                  <a:pt x="67711" y="26491"/>
                </a:lnTo>
                <a:lnTo>
                  <a:pt x="62014" y="31207"/>
                </a:lnTo>
                <a:lnTo>
                  <a:pt x="56523" y="36045"/>
                </a:lnTo>
                <a:lnTo>
                  <a:pt x="50322" y="40116"/>
                </a:lnTo>
                <a:lnTo>
                  <a:pt x="43648" y="43678"/>
                </a:lnTo>
                <a:lnTo>
                  <a:pt x="36659" y="46899"/>
                </a:lnTo>
                <a:lnTo>
                  <a:pt x="30306" y="51585"/>
                </a:lnTo>
                <a:lnTo>
                  <a:pt x="24377" y="57250"/>
                </a:lnTo>
                <a:lnTo>
                  <a:pt x="18731" y="63567"/>
                </a:lnTo>
                <a:lnTo>
                  <a:pt x="14121" y="69472"/>
                </a:lnTo>
                <a:lnTo>
                  <a:pt x="10201" y="75100"/>
                </a:lnTo>
                <a:lnTo>
                  <a:pt x="6740" y="80547"/>
                </a:lnTo>
                <a:lnTo>
                  <a:pt x="4434" y="85872"/>
                </a:lnTo>
                <a:lnTo>
                  <a:pt x="2896" y="91115"/>
                </a:lnTo>
                <a:lnTo>
                  <a:pt x="1871" y="96303"/>
                </a:lnTo>
                <a:lnTo>
                  <a:pt x="1187" y="100609"/>
                </a:lnTo>
                <a:lnTo>
                  <a:pt x="732" y="104326"/>
                </a:lnTo>
                <a:lnTo>
                  <a:pt x="428" y="107651"/>
                </a:lnTo>
                <a:lnTo>
                  <a:pt x="225" y="110714"/>
                </a:lnTo>
                <a:lnTo>
                  <a:pt x="90" y="113602"/>
                </a:lnTo>
                <a:lnTo>
                  <a:pt x="0" y="116376"/>
                </a:lnTo>
                <a:lnTo>
                  <a:pt x="787" y="119070"/>
                </a:lnTo>
                <a:lnTo>
                  <a:pt x="2158" y="121713"/>
                </a:lnTo>
                <a:lnTo>
                  <a:pt x="3919" y="124322"/>
                </a:lnTo>
                <a:lnTo>
                  <a:pt x="6786" y="126908"/>
                </a:lnTo>
                <a:lnTo>
                  <a:pt x="10390" y="129479"/>
                </a:lnTo>
                <a:lnTo>
                  <a:pt x="14487" y="132040"/>
                </a:lnTo>
                <a:lnTo>
                  <a:pt x="18912" y="132899"/>
                </a:lnTo>
                <a:lnTo>
                  <a:pt x="23554" y="132626"/>
                </a:lnTo>
                <a:lnTo>
                  <a:pt x="28343" y="131598"/>
                </a:lnTo>
                <a:lnTo>
                  <a:pt x="33229" y="130065"/>
                </a:lnTo>
                <a:lnTo>
                  <a:pt x="38179" y="128197"/>
                </a:lnTo>
                <a:lnTo>
                  <a:pt x="43173" y="126105"/>
                </a:lnTo>
                <a:lnTo>
                  <a:pt x="47349" y="123016"/>
                </a:lnTo>
                <a:lnTo>
                  <a:pt x="50979" y="119264"/>
                </a:lnTo>
                <a:lnTo>
                  <a:pt x="54246" y="115070"/>
                </a:lnTo>
                <a:lnTo>
                  <a:pt x="58117" y="110580"/>
                </a:lnTo>
                <a:lnTo>
                  <a:pt x="62392" y="105893"/>
                </a:lnTo>
                <a:lnTo>
                  <a:pt x="66934" y="101075"/>
                </a:lnTo>
                <a:lnTo>
                  <a:pt x="71656" y="95324"/>
                </a:lnTo>
                <a:lnTo>
                  <a:pt x="76498" y="88949"/>
                </a:lnTo>
                <a:lnTo>
                  <a:pt x="81419" y="82160"/>
                </a:lnTo>
                <a:lnTo>
                  <a:pt x="84699" y="75093"/>
                </a:lnTo>
                <a:lnTo>
                  <a:pt x="86886" y="67842"/>
                </a:lnTo>
                <a:lnTo>
                  <a:pt x="88344" y="60468"/>
                </a:lnTo>
                <a:lnTo>
                  <a:pt x="89316" y="53859"/>
                </a:lnTo>
                <a:lnTo>
                  <a:pt x="89964" y="47759"/>
                </a:lnTo>
                <a:lnTo>
                  <a:pt x="90396" y="41999"/>
                </a:lnTo>
                <a:lnTo>
                  <a:pt x="90684" y="36466"/>
                </a:lnTo>
                <a:lnTo>
                  <a:pt x="91004" y="25803"/>
                </a:lnTo>
                <a:lnTo>
                  <a:pt x="91227" y="8342"/>
                </a:lnTo>
                <a:lnTo>
                  <a:pt x="91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InkAnnotation113"/>
          <p:cNvSpPr/>
          <p:nvPr/>
        </p:nvSpPr>
        <p:spPr>
          <a:xfrm>
            <a:off x="2590920" y="4626000"/>
            <a:ext cx="1844640" cy="14922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1844042" h="1493481">
                <a:moveTo>
                  <a:pt x="0" y="1402080"/>
                </a:moveTo>
                <a:lnTo>
                  <a:pt x="11352" y="1402080"/>
                </a:lnTo>
                <a:lnTo>
                  <a:pt x="31306" y="1408111"/>
                </a:lnTo>
                <a:lnTo>
                  <a:pt x="36111" y="1408640"/>
                </a:lnTo>
                <a:lnTo>
                  <a:pt x="48222" y="1413744"/>
                </a:lnTo>
                <a:lnTo>
                  <a:pt x="62919" y="1420811"/>
                </a:lnTo>
                <a:lnTo>
                  <a:pt x="113858" y="1438935"/>
                </a:lnTo>
                <a:lnTo>
                  <a:pt x="163821" y="1452979"/>
                </a:lnTo>
                <a:lnTo>
                  <a:pt x="206866" y="1465515"/>
                </a:lnTo>
                <a:lnTo>
                  <a:pt x="251794" y="1474967"/>
                </a:lnTo>
                <a:lnTo>
                  <a:pt x="312486" y="1485747"/>
                </a:lnTo>
                <a:lnTo>
                  <a:pt x="358160" y="1491216"/>
                </a:lnTo>
                <a:lnTo>
                  <a:pt x="403866" y="1492837"/>
                </a:lnTo>
                <a:lnTo>
                  <a:pt x="525192" y="1493480"/>
                </a:lnTo>
                <a:lnTo>
                  <a:pt x="580733" y="1489462"/>
                </a:lnTo>
                <a:lnTo>
                  <a:pt x="619066" y="1482968"/>
                </a:lnTo>
                <a:lnTo>
                  <a:pt x="658681" y="1474437"/>
                </a:lnTo>
                <a:lnTo>
                  <a:pt x="763613" y="1450168"/>
                </a:lnTo>
                <a:lnTo>
                  <a:pt x="808437" y="1435587"/>
                </a:lnTo>
                <a:lnTo>
                  <a:pt x="853759" y="1418665"/>
                </a:lnTo>
                <a:lnTo>
                  <a:pt x="899302" y="1402678"/>
                </a:lnTo>
                <a:lnTo>
                  <a:pt x="944943" y="1384847"/>
                </a:lnTo>
                <a:lnTo>
                  <a:pt x="1013479" y="1355769"/>
                </a:lnTo>
                <a:lnTo>
                  <a:pt x="1059188" y="1334930"/>
                </a:lnTo>
                <a:lnTo>
                  <a:pt x="1177527" y="1274599"/>
                </a:lnTo>
                <a:lnTo>
                  <a:pt x="1222975" y="1247208"/>
                </a:lnTo>
                <a:lnTo>
                  <a:pt x="1266598" y="1218948"/>
                </a:lnTo>
                <a:lnTo>
                  <a:pt x="1311386" y="1192277"/>
                </a:lnTo>
                <a:lnTo>
                  <a:pt x="1354434" y="1161796"/>
                </a:lnTo>
                <a:lnTo>
                  <a:pt x="1395298" y="1129340"/>
                </a:lnTo>
                <a:lnTo>
                  <a:pt x="1433215" y="1097983"/>
                </a:lnTo>
                <a:lnTo>
                  <a:pt x="1469822" y="1064854"/>
                </a:lnTo>
                <a:lnTo>
                  <a:pt x="1505848" y="1030375"/>
                </a:lnTo>
                <a:lnTo>
                  <a:pt x="1541615" y="995295"/>
                </a:lnTo>
                <a:lnTo>
                  <a:pt x="1575010" y="959949"/>
                </a:lnTo>
                <a:lnTo>
                  <a:pt x="1605938" y="924484"/>
                </a:lnTo>
                <a:lnTo>
                  <a:pt x="1633795" y="888965"/>
                </a:lnTo>
                <a:lnTo>
                  <a:pt x="1660287" y="851167"/>
                </a:lnTo>
                <a:lnTo>
                  <a:pt x="1684479" y="812636"/>
                </a:lnTo>
                <a:lnTo>
                  <a:pt x="1703698" y="775756"/>
                </a:lnTo>
                <a:lnTo>
                  <a:pt x="1720706" y="739609"/>
                </a:lnTo>
                <a:lnTo>
                  <a:pt x="1735885" y="702942"/>
                </a:lnTo>
                <a:lnTo>
                  <a:pt x="1748276" y="664067"/>
                </a:lnTo>
                <a:lnTo>
                  <a:pt x="1754912" y="626470"/>
                </a:lnTo>
                <a:lnTo>
                  <a:pt x="1758707" y="590004"/>
                </a:lnTo>
                <a:lnTo>
                  <a:pt x="1763217" y="554042"/>
                </a:lnTo>
                <a:lnTo>
                  <a:pt x="1763528" y="518303"/>
                </a:lnTo>
                <a:lnTo>
                  <a:pt x="1760844" y="482663"/>
                </a:lnTo>
                <a:lnTo>
                  <a:pt x="1756828" y="447068"/>
                </a:lnTo>
                <a:lnTo>
                  <a:pt x="1749965" y="413750"/>
                </a:lnTo>
                <a:lnTo>
                  <a:pt x="1736580" y="364174"/>
                </a:lnTo>
                <a:lnTo>
                  <a:pt x="1726006" y="331189"/>
                </a:lnTo>
                <a:lnTo>
                  <a:pt x="1706621" y="287972"/>
                </a:lnTo>
                <a:lnTo>
                  <a:pt x="1689776" y="245063"/>
                </a:lnTo>
                <a:lnTo>
                  <a:pt x="1668914" y="197107"/>
                </a:lnTo>
                <a:lnTo>
                  <a:pt x="1648487" y="151165"/>
                </a:lnTo>
                <a:lnTo>
                  <a:pt x="1625322" y="107521"/>
                </a:lnTo>
                <a:lnTo>
                  <a:pt x="1613347" y="76366"/>
                </a:lnTo>
                <a:lnTo>
                  <a:pt x="1612352" y="69537"/>
                </a:lnTo>
                <a:lnTo>
                  <a:pt x="1613503" y="57435"/>
                </a:lnTo>
                <a:lnTo>
                  <a:pt x="1618912" y="41101"/>
                </a:lnTo>
                <a:lnTo>
                  <a:pt x="1627990" y="30684"/>
                </a:lnTo>
                <a:lnTo>
                  <a:pt x="1645123" y="17558"/>
                </a:lnTo>
                <a:lnTo>
                  <a:pt x="1657420" y="11190"/>
                </a:lnTo>
                <a:lnTo>
                  <a:pt x="1682536" y="3691"/>
                </a:lnTo>
                <a:lnTo>
                  <a:pt x="1740083" y="324"/>
                </a:lnTo>
                <a:lnTo>
                  <a:pt x="1808264" y="13"/>
                </a:lnTo>
                <a:lnTo>
                  <a:pt x="1819956" y="2264"/>
                </a:lnTo>
                <a:lnTo>
                  <a:pt x="1833168" y="6562"/>
                </a:lnTo>
                <a:lnTo>
                  <a:pt x="1835099" y="6068"/>
                </a:lnTo>
                <a:lnTo>
                  <a:pt x="184404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InkAnnotation114"/>
          <p:cNvSpPr/>
          <p:nvPr/>
        </p:nvSpPr>
        <p:spPr>
          <a:xfrm>
            <a:off x="4365720" y="4518000"/>
            <a:ext cx="180720" cy="135000"/>
          </a:xfrm>
          <a:custGeom>
            <a:avLst/>
            <a:gdLst>
              <a:gd name="textAreaLeft" fmla="*/ 0 w 180720"/>
              <a:gd name="textAreaRight" fmla="*/ 181080 w 180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0796" h="133694">
                <a:moveTo>
                  <a:pt x="0" y="0"/>
                </a:moveTo>
                <a:lnTo>
                  <a:pt x="28739" y="0"/>
                </a:lnTo>
                <a:lnTo>
                  <a:pt x="34399" y="846"/>
                </a:lnTo>
                <a:lnTo>
                  <a:pt x="40713" y="2257"/>
                </a:lnTo>
                <a:lnTo>
                  <a:pt x="81781" y="12997"/>
                </a:lnTo>
                <a:lnTo>
                  <a:pt x="98154" y="17912"/>
                </a:lnTo>
                <a:lnTo>
                  <a:pt x="137041" y="30497"/>
                </a:lnTo>
                <a:lnTo>
                  <a:pt x="144701" y="33032"/>
                </a:lnTo>
                <a:lnTo>
                  <a:pt x="151500" y="34721"/>
                </a:lnTo>
                <a:lnTo>
                  <a:pt x="157727" y="35847"/>
                </a:lnTo>
                <a:lnTo>
                  <a:pt x="163572" y="36598"/>
                </a:lnTo>
                <a:lnTo>
                  <a:pt x="168314" y="37946"/>
                </a:lnTo>
                <a:lnTo>
                  <a:pt x="172323" y="39690"/>
                </a:lnTo>
                <a:lnTo>
                  <a:pt x="175842" y="41700"/>
                </a:lnTo>
                <a:lnTo>
                  <a:pt x="178188" y="43887"/>
                </a:lnTo>
                <a:lnTo>
                  <a:pt x="179752" y="46191"/>
                </a:lnTo>
                <a:lnTo>
                  <a:pt x="180795" y="48574"/>
                </a:lnTo>
                <a:lnTo>
                  <a:pt x="180643" y="51010"/>
                </a:lnTo>
                <a:lnTo>
                  <a:pt x="179696" y="53480"/>
                </a:lnTo>
                <a:lnTo>
                  <a:pt x="178218" y="55973"/>
                </a:lnTo>
                <a:lnTo>
                  <a:pt x="175539" y="58482"/>
                </a:lnTo>
                <a:lnTo>
                  <a:pt x="172058" y="61001"/>
                </a:lnTo>
                <a:lnTo>
                  <a:pt x="162831" y="66905"/>
                </a:lnTo>
                <a:lnTo>
                  <a:pt x="150262" y="75174"/>
                </a:lnTo>
                <a:lnTo>
                  <a:pt x="143355" y="78902"/>
                </a:lnTo>
                <a:lnTo>
                  <a:pt x="136210" y="82235"/>
                </a:lnTo>
                <a:lnTo>
                  <a:pt x="128907" y="85303"/>
                </a:lnTo>
                <a:lnTo>
                  <a:pt x="120652" y="89042"/>
                </a:lnTo>
                <a:lnTo>
                  <a:pt x="102447" y="97712"/>
                </a:lnTo>
                <a:lnTo>
                  <a:pt x="93698" y="101548"/>
                </a:lnTo>
                <a:lnTo>
                  <a:pt x="85325" y="104952"/>
                </a:lnTo>
                <a:lnTo>
                  <a:pt x="77204" y="108068"/>
                </a:lnTo>
                <a:lnTo>
                  <a:pt x="70096" y="110992"/>
                </a:lnTo>
                <a:lnTo>
                  <a:pt x="63664" y="113787"/>
                </a:lnTo>
                <a:lnTo>
                  <a:pt x="57683" y="116499"/>
                </a:lnTo>
                <a:lnTo>
                  <a:pt x="52001" y="118306"/>
                </a:lnTo>
                <a:lnTo>
                  <a:pt x="46521" y="119510"/>
                </a:lnTo>
                <a:lnTo>
                  <a:pt x="41174" y="120313"/>
                </a:lnTo>
                <a:lnTo>
                  <a:pt x="36763" y="121696"/>
                </a:lnTo>
                <a:lnTo>
                  <a:pt x="32975" y="123464"/>
                </a:lnTo>
                <a:lnTo>
                  <a:pt x="24858" y="128340"/>
                </a:lnTo>
                <a:lnTo>
                  <a:pt x="24192" y="129587"/>
                </a:lnTo>
                <a:lnTo>
                  <a:pt x="23255" y="133693"/>
                </a:lnTo>
                <a:lnTo>
                  <a:pt x="23123" y="133155"/>
                </a:lnTo>
                <a:lnTo>
                  <a:pt x="22912" y="130254"/>
                </a:lnTo>
                <a:lnTo>
                  <a:pt x="25141" y="127599"/>
                </a:lnTo>
                <a:lnTo>
                  <a:pt x="28954" y="123597"/>
                </a:lnTo>
                <a:lnTo>
                  <a:pt x="33470" y="118996"/>
                </a:lnTo>
                <a:lnTo>
                  <a:pt x="35014" y="115737"/>
                </a:lnTo>
                <a:lnTo>
                  <a:pt x="36042" y="111872"/>
                </a:lnTo>
                <a:lnTo>
                  <a:pt x="36729" y="107601"/>
                </a:lnTo>
                <a:lnTo>
                  <a:pt x="38032" y="103907"/>
                </a:lnTo>
                <a:lnTo>
                  <a:pt x="39748" y="100598"/>
                </a:lnTo>
                <a:lnTo>
                  <a:pt x="41739" y="97545"/>
                </a:lnTo>
                <a:lnTo>
                  <a:pt x="43066" y="92970"/>
                </a:lnTo>
                <a:lnTo>
                  <a:pt x="43951" y="87380"/>
                </a:lnTo>
                <a:lnTo>
                  <a:pt x="44541" y="81113"/>
                </a:lnTo>
                <a:lnTo>
                  <a:pt x="44087" y="75242"/>
                </a:lnTo>
                <a:lnTo>
                  <a:pt x="42938" y="69635"/>
                </a:lnTo>
                <a:lnTo>
                  <a:pt x="41326" y="64203"/>
                </a:lnTo>
                <a:lnTo>
                  <a:pt x="40250" y="58889"/>
                </a:lnTo>
                <a:lnTo>
                  <a:pt x="39534" y="53652"/>
                </a:lnTo>
                <a:lnTo>
                  <a:pt x="39056" y="48468"/>
                </a:lnTo>
                <a:lnTo>
                  <a:pt x="38737" y="44166"/>
                </a:lnTo>
                <a:lnTo>
                  <a:pt x="38525" y="40450"/>
                </a:lnTo>
                <a:lnTo>
                  <a:pt x="38383" y="37127"/>
                </a:lnTo>
                <a:lnTo>
                  <a:pt x="37442" y="34064"/>
                </a:lnTo>
                <a:lnTo>
                  <a:pt x="35968" y="31176"/>
                </a:lnTo>
                <a:lnTo>
                  <a:pt x="34139" y="28404"/>
                </a:lnTo>
                <a:lnTo>
                  <a:pt x="32919" y="25710"/>
                </a:lnTo>
                <a:lnTo>
                  <a:pt x="32106" y="23066"/>
                </a:lnTo>
                <a:lnTo>
                  <a:pt x="31564" y="20457"/>
                </a:lnTo>
                <a:lnTo>
                  <a:pt x="30355" y="17871"/>
                </a:lnTo>
                <a:lnTo>
                  <a:pt x="28704" y="15301"/>
                </a:lnTo>
                <a:lnTo>
                  <a:pt x="228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InkAnnotation115"/>
          <p:cNvSpPr/>
          <p:nvPr/>
        </p:nvSpPr>
        <p:spPr>
          <a:xfrm>
            <a:off x="1477800" y="5989680"/>
            <a:ext cx="54000" cy="160200"/>
          </a:xfrm>
          <a:custGeom>
            <a:avLst/>
            <a:gdLst>
              <a:gd name="textAreaLeft" fmla="*/ 0 w 54000"/>
              <a:gd name="textAreaRight" fmla="*/ 54360 w 540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3341" h="160021">
                <a:moveTo>
                  <a:pt x="53340" y="0"/>
                </a:moveTo>
                <a:lnTo>
                  <a:pt x="53340" y="15397"/>
                </a:lnTo>
                <a:lnTo>
                  <a:pt x="52493" y="18731"/>
                </a:lnTo>
                <a:lnTo>
                  <a:pt x="51082" y="21801"/>
                </a:lnTo>
                <a:lnTo>
                  <a:pt x="49295" y="24694"/>
                </a:lnTo>
                <a:lnTo>
                  <a:pt x="47257" y="28315"/>
                </a:lnTo>
                <a:lnTo>
                  <a:pt x="42734" y="36856"/>
                </a:lnTo>
                <a:lnTo>
                  <a:pt x="35428" y="51183"/>
                </a:lnTo>
                <a:lnTo>
                  <a:pt x="32932" y="56982"/>
                </a:lnTo>
                <a:lnTo>
                  <a:pt x="30422" y="63388"/>
                </a:lnTo>
                <a:lnTo>
                  <a:pt x="27901" y="70199"/>
                </a:lnTo>
                <a:lnTo>
                  <a:pt x="25374" y="76432"/>
                </a:lnTo>
                <a:lnTo>
                  <a:pt x="22843" y="82281"/>
                </a:lnTo>
                <a:lnTo>
                  <a:pt x="20309" y="87875"/>
                </a:lnTo>
                <a:lnTo>
                  <a:pt x="17772" y="94143"/>
                </a:lnTo>
                <a:lnTo>
                  <a:pt x="12697" y="107881"/>
                </a:lnTo>
                <a:lnTo>
                  <a:pt x="10158" y="114254"/>
                </a:lnTo>
                <a:lnTo>
                  <a:pt x="7619" y="120196"/>
                </a:lnTo>
                <a:lnTo>
                  <a:pt x="5079" y="125851"/>
                </a:lnTo>
                <a:lnTo>
                  <a:pt x="3386" y="130467"/>
                </a:lnTo>
                <a:lnTo>
                  <a:pt x="2258" y="134391"/>
                </a:lnTo>
                <a:lnTo>
                  <a:pt x="1505" y="137854"/>
                </a:lnTo>
                <a:lnTo>
                  <a:pt x="1004" y="141009"/>
                </a:lnTo>
                <a:lnTo>
                  <a:pt x="669" y="143960"/>
                </a:lnTo>
                <a:lnTo>
                  <a:pt x="446" y="146773"/>
                </a:lnTo>
                <a:lnTo>
                  <a:pt x="298" y="149496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InkAnnotation116"/>
          <p:cNvSpPr/>
          <p:nvPr/>
        </p:nvSpPr>
        <p:spPr>
          <a:xfrm>
            <a:off x="1463760" y="604980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2"/>
                </a:lnTo>
                <a:lnTo>
                  <a:pt x="6084" y="6914"/>
                </a:lnTo>
                <a:lnTo>
                  <a:pt x="10606" y="7306"/>
                </a:lnTo>
                <a:lnTo>
                  <a:pt x="13844" y="8258"/>
                </a:lnTo>
                <a:lnTo>
                  <a:pt x="17696" y="9738"/>
                </a:lnTo>
                <a:lnTo>
                  <a:pt x="21957" y="11572"/>
                </a:lnTo>
                <a:lnTo>
                  <a:pt x="27338" y="12795"/>
                </a:lnTo>
                <a:lnTo>
                  <a:pt x="33465" y="13610"/>
                </a:lnTo>
                <a:lnTo>
                  <a:pt x="40090" y="14153"/>
                </a:lnTo>
                <a:lnTo>
                  <a:pt x="47894" y="15363"/>
                </a:lnTo>
                <a:lnTo>
                  <a:pt x="56483" y="17015"/>
                </a:lnTo>
                <a:lnTo>
                  <a:pt x="65595" y="18963"/>
                </a:lnTo>
                <a:lnTo>
                  <a:pt x="74210" y="21109"/>
                </a:lnTo>
                <a:lnTo>
                  <a:pt x="82493" y="23386"/>
                </a:lnTo>
                <a:lnTo>
                  <a:pt x="90556" y="25751"/>
                </a:lnTo>
                <a:lnTo>
                  <a:pt x="99317" y="27327"/>
                </a:lnTo>
                <a:lnTo>
                  <a:pt x="108545" y="28378"/>
                </a:lnTo>
                <a:lnTo>
                  <a:pt x="125289" y="29546"/>
                </a:lnTo>
                <a:lnTo>
                  <a:pt x="1447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InkAnnotation117"/>
          <p:cNvSpPr/>
          <p:nvPr/>
        </p:nvSpPr>
        <p:spPr>
          <a:xfrm>
            <a:off x="1577880" y="5985000"/>
            <a:ext cx="82800" cy="217440"/>
          </a:xfrm>
          <a:custGeom>
            <a:avLst/>
            <a:gdLst>
              <a:gd name="textAreaLeft" fmla="*/ 0 w 82800"/>
              <a:gd name="textAreaRight" fmla="*/ 83160 w 828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83367" h="217751">
                <a:moveTo>
                  <a:pt x="83366" y="4390"/>
                </a:moveTo>
                <a:lnTo>
                  <a:pt x="76060" y="4390"/>
                </a:lnTo>
                <a:lnTo>
                  <a:pt x="75808" y="0"/>
                </a:lnTo>
                <a:lnTo>
                  <a:pt x="75758" y="5530"/>
                </a:lnTo>
                <a:lnTo>
                  <a:pt x="75754" y="7691"/>
                </a:lnTo>
                <a:lnTo>
                  <a:pt x="74905" y="10824"/>
                </a:lnTo>
                <a:lnTo>
                  <a:pt x="73492" y="14606"/>
                </a:lnTo>
                <a:lnTo>
                  <a:pt x="71703" y="18821"/>
                </a:lnTo>
                <a:lnTo>
                  <a:pt x="67458" y="28020"/>
                </a:lnTo>
                <a:lnTo>
                  <a:pt x="65141" y="32843"/>
                </a:lnTo>
                <a:lnTo>
                  <a:pt x="62749" y="38599"/>
                </a:lnTo>
                <a:lnTo>
                  <a:pt x="60308" y="44976"/>
                </a:lnTo>
                <a:lnTo>
                  <a:pt x="57834" y="51767"/>
                </a:lnTo>
                <a:lnTo>
                  <a:pt x="55338" y="59682"/>
                </a:lnTo>
                <a:lnTo>
                  <a:pt x="45249" y="94460"/>
                </a:lnTo>
                <a:lnTo>
                  <a:pt x="42715" y="102537"/>
                </a:lnTo>
                <a:lnTo>
                  <a:pt x="39332" y="111308"/>
                </a:lnTo>
                <a:lnTo>
                  <a:pt x="35383" y="120542"/>
                </a:lnTo>
                <a:lnTo>
                  <a:pt x="27327" y="138140"/>
                </a:lnTo>
                <a:lnTo>
                  <a:pt x="20924" y="151605"/>
                </a:lnTo>
                <a:lnTo>
                  <a:pt x="18031" y="158414"/>
                </a:lnTo>
                <a:lnTo>
                  <a:pt x="15256" y="165492"/>
                </a:lnTo>
                <a:lnTo>
                  <a:pt x="12560" y="172752"/>
                </a:lnTo>
                <a:lnTo>
                  <a:pt x="9915" y="179285"/>
                </a:lnTo>
                <a:lnTo>
                  <a:pt x="7305" y="185333"/>
                </a:lnTo>
                <a:lnTo>
                  <a:pt x="4719" y="191059"/>
                </a:lnTo>
                <a:lnTo>
                  <a:pt x="2995" y="196569"/>
                </a:lnTo>
                <a:lnTo>
                  <a:pt x="1845" y="201937"/>
                </a:lnTo>
                <a:lnTo>
                  <a:pt x="0" y="214627"/>
                </a:lnTo>
                <a:lnTo>
                  <a:pt x="695" y="215667"/>
                </a:lnTo>
                <a:lnTo>
                  <a:pt x="2006" y="216362"/>
                </a:lnTo>
                <a:lnTo>
                  <a:pt x="7166" y="21775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InkAnnotation118"/>
          <p:cNvSpPr/>
          <p:nvPr/>
        </p:nvSpPr>
        <p:spPr>
          <a:xfrm>
            <a:off x="1677960" y="6019920"/>
            <a:ext cx="104760" cy="152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5132" h="151912">
                <a:moveTo>
                  <a:pt x="82271" y="0"/>
                </a:moveTo>
                <a:lnTo>
                  <a:pt x="82271" y="4044"/>
                </a:lnTo>
                <a:lnTo>
                  <a:pt x="81424" y="6083"/>
                </a:lnTo>
                <a:lnTo>
                  <a:pt x="76188" y="13843"/>
                </a:lnTo>
                <a:lnTo>
                  <a:pt x="73982" y="17695"/>
                </a:lnTo>
                <a:lnTo>
                  <a:pt x="69274" y="26491"/>
                </a:lnTo>
                <a:lnTo>
                  <a:pt x="64359" y="36045"/>
                </a:lnTo>
                <a:lnTo>
                  <a:pt x="60170" y="40963"/>
                </a:lnTo>
                <a:lnTo>
                  <a:pt x="54837" y="45935"/>
                </a:lnTo>
                <a:lnTo>
                  <a:pt x="48742" y="50943"/>
                </a:lnTo>
                <a:lnTo>
                  <a:pt x="42985" y="56822"/>
                </a:lnTo>
                <a:lnTo>
                  <a:pt x="37454" y="63281"/>
                </a:lnTo>
                <a:lnTo>
                  <a:pt x="32073" y="70128"/>
                </a:lnTo>
                <a:lnTo>
                  <a:pt x="27639" y="77231"/>
                </a:lnTo>
                <a:lnTo>
                  <a:pt x="23836" y="84507"/>
                </a:lnTo>
                <a:lnTo>
                  <a:pt x="17354" y="98518"/>
                </a:lnTo>
                <a:lnTo>
                  <a:pt x="6293" y="121311"/>
                </a:lnTo>
                <a:lnTo>
                  <a:pt x="3679" y="126594"/>
                </a:lnTo>
                <a:lnTo>
                  <a:pt x="1936" y="130962"/>
                </a:lnTo>
                <a:lnTo>
                  <a:pt x="775" y="134722"/>
                </a:lnTo>
                <a:lnTo>
                  <a:pt x="0" y="138074"/>
                </a:lnTo>
                <a:lnTo>
                  <a:pt x="331" y="141156"/>
                </a:lnTo>
                <a:lnTo>
                  <a:pt x="1397" y="144057"/>
                </a:lnTo>
                <a:lnTo>
                  <a:pt x="5148" y="150752"/>
                </a:lnTo>
                <a:lnTo>
                  <a:pt x="6302" y="151301"/>
                </a:lnTo>
                <a:lnTo>
                  <a:pt x="7919" y="151667"/>
                </a:lnTo>
                <a:lnTo>
                  <a:pt x="9843" y="151911"/>
                </a:lnTo>
                <a:lnTo>
                  <a:pt x="12819" y="151228"/>
                </a:lnTo>
                <a:lnTo>
                  <a:pt x="16496" y="149925"/>
                </a:lnTo>
                <a:lnTo>
                  <a:pt x="20641" y="148210"/>
                </a:lnTo>
                <a:lnTo>
                  <a:pt x="25098" y="144526"/>
                </a:lnTo>
                <a:lnTo>
                  <a:pt x="29762" y="139531"/>
                </a:lnTo>
                <a:lnTo>
                  <a:pt x="34565" y="133660"/>
                </a:lnTo>
                <a:lnTo>
                  <a:pt x="39461" y="128053"/>
                </a:lnTo>
                <a:lnTo>
                  <a:pt x="44417" y="122623"/>
                </a:lnTo>
                <a:lnTo>
                  <a:pt x="49415" y="117308"/>
                </a:lnTo>
                <a:lnTo>
                  <a:pt x="54441" y="111225"/>
                </a:lnTo>
                <a:lnTo>
                  <a:pt x="59484" y="104630"/>
                </a:lnTo>
                <a:lnTo>
                  <a:pt x="64540" y="97693"/>
                </a:lnTo>
                <a:lnTo>
                  <a:pt x="68757" y="90528"/>
                </a:lnTo>
                <a:lnTo>
                  <a:pt x="72415" y="83212"/>
                </a:lnTo>
                <a:lnTo>
                  <a:pt x="78738" y="69156"/>
                </a:lnTo>
                <a:lnTo>
                  <a:pt x="87057" y="51723"/>
                </a:lnTo>
                <a:lnTo>
                  <a:pt x="92301" y="41050"/>
                </a:lnTo>
                <a:lnTo>
                  <a:pt x="94884" y="36680"/>
                </a:lnTo>
                <a:lnTo>
                  <a:pt x="97453" y="32920"/>
                </a:lnTo>
                <a:lnTo>
                  <a:pt x="103615" y="24847"/>
                </a:lnTo>
                <a:lnTo>
                  <a:pt x="104457" y="21485"/>
                </a:lnTo>
                <a:lnTo>
                  <a:pt x="104682" y="19403"/>
                </a:lnTo>
                <a:lnTo>
                  <a:pt x="104832" y="18862"/>
                </a:lnTo>
                <a:lnTo>
                  <a:pt x="105131" y="228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InkAnnotation119"/>
          <p:cNvSpPr/>
          <p:nvPr/>
        </p:nvSpPr>
        <p:spPr>
          <a:xfrm>
            <a:off x="2079720" y="6004080"/>
            <a:ext cx="108000" cy="160200"/>
          </a:xfrm>
          <a:custGeom>
            <a:avLst/>
            <a:gdLst>
              <a:gd name="textAreaLeft" fmla="*/ 0 w 108000"/>
              <a:gd name="textAreaRight" fmla="*/ 108360 w 1080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6681" h="160021">
                <a:moveTo>
                  <a:pt x="106680" y="0"/>
                </a:moveTo>
                <a:lnTo>
                  <a:pt x="102635" y="0"/>
                </a:lnTo>
                <a:lnTo>
                  <a:pt x="101443" y="846"/>
                </a:lnTo>
                <a:lnTo>
                  <a:pt x="100649" y="2257"/>
                </a:lnTo>
                <a:lnTo>
                  <a:pt x="98920" y="6930"/>
                </a:lnTo>
                <a:lnTo>
                  <a:pt x="97273" y="10546"/>
                </a:lnTo>
                <a:lnTo>
                  <a:pt x="90911" y="23727"/>
                </a:lnTo>
                <a:lnTo>
                  <a:pt x="88547" y="28518"/>
                </a:lnTo>
                <a:lnTo>
                  <a:pt x="85278" y="34252"/>
                </a:lnTo>
                <a:lnTo>
                  <a:pt x="81406" y="40615"/>
                </a:lnTo>
                <a:lnTo>
                  <a:pt x="72587" y="54458"/>
                </a:lnTo>
                <a:lnTo>
                  <a:pt x="48119" y="91587"/>
                </a:lnTo>
                <a:lnTo>
                  <a:pt x="43086" y="98312"/>
                </a:lnTo>
                <a:lnTo>
                  <a:pt x="38037" y="104488"/>
                </a:lnTo>
                <a:lnTo>
                  <a:pt x="32978" y="110298"/>
                </a:lnTo>
                <a:lnTo>
                  <a:pt x="27912" y="116712"/>
                </a:lnTo>
                <a:lnTo>
                  <a:pt x="22842" y="123529"/>
                </a:lnTo>
                <a:lnTo>
                  <a:pt x="17768" y="130612"/>
                </a:lnTo>
                <a:lnTo>
                  <a:pt x="14385" y="136182"/>
                </a:lnTo>
                <a:lnTo>
                  <a:pt x="12130" y="140742"/>
                </a:lnTo>
                <a:lnTo>
                  <a:pt x="10627" y="144628"/>
                </a:lnTo>
                <a:lnTo>
                  <a:pt x="8778" y="148065"/>
                </a:lnTo>
                <a:lnTo>
                  <a:pt x="6698" y="151203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InkAnnotation120"/>
          <p:cNvSpPr/>
          <p:nvPr/>
        </p:nvSpPr>
        <p:spPr>
          <a:xfrm>
            <a:off x="2087640" y="6066000"/>
            <a:ext cx="122040" cy="60120"/>
          </a:xfrm>
          <a:custGeom>
            <a:avLst/>
            <a:gdLst>
              <a:gd name="textAreaLeft" fmla="*/ 0 w 122040"/>
              <a:gd name="textAreaRight" fmla="*/ 122400 w 1220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1921" h="60961">
                <a:moveTo>
                  <a:pt x="0" y="0"/>
                </a:moveTo>
                <a:lnTo>
                  <a:pt x="4045" y="4045"/>
                </a:lnTo>
                <a:lnTo>
                  <a:pt x="6930" y="6083"/>
                </a:lnTo>
                <a:lnTo>
                  <a:pt x="10547" y="8288"/>
                </a:lnTo>
                <a:lnTo>
                  <a:pt x="14651" y="10606"/>
                </a:lnTo>
                <a:lnTo>
                  <a:pt x="23727" y="15438"/>
                </a:lnTo>
                <a:lnTo>
                  <a:pt x="28518" y="17911"/>
                </a:lnTo>
                <a:lnTo>
                  <a:pt x="34252" y="21254"/>
                </a:lnTo>
                <a:lnTo>
                  <a:pt x="47396" y="29484"/>
                </a:lnTo>
                <a:lnTo>
                  <a:pt x="55304" y="33202"/>
                </a:lnTo>
                <a:lnTo>
                  <a:pt x="63963" y="36528"/>
                </a:lnTo>
                <a:lnTo>
                  <a:pt x="73122" y="39592"/>
                </a:lnTo>
                <a:lnTo>
                  <a:pt x="81768" y="43327"/>
                </a:lnTo>
                <a:lnTo>
                  <a:pt x="90072" y="47512"/>
                </a:lnTo>
                <a:lnTo>
                  <a:pt x="98148" y="51995"/>
                </a:lnTo>
                <a:lnTo>
                  <a:pt x="104379" y="54982"/>
                </a:lnTo>
                <a:lnTo>
                  <a:pt x="109379" y="56975"/>
                </a:lnTo>
                <a:lnTo>
                  <a:pt x="121920" y="609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InkAnnotation121"/>
          <p:cNvSpPr/>
          <p:nvPr/>
        </p:nvSpPr>
        <p:spPr>
          <a:xfrm>
            <a:off x="2232000" y="6027840"/>
            <a:ext cx="76320" cy="166680"/>
          </a:xfrm>
          <a:custGeom>
            <a:avLst/>
            <a:gdLst>
              <a:gd name="textAreaLeft" fmla="*/ 0 w 76320"/>
              <a:gd name="textAreaRight" fmla="*/ 76320 w 76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201" h="167640">
                <a:moveTo>
                  <a:pt x="76200" y="0"/>
                </a:moveTo>
                <a:lnTo>
                  <a:pt x="76200" y="4045"/>
                </a:lnTo>
                <a:lnTo>
                  <a:pt x="75353" y="6083"/>
                </a:lnTo>
                <a:lnTo>
                  <a:pt x="73942" y="8288"/>
                </a:lnTo>
                <a:lnTo>
                  <a:pt x="72155" y="10606"/>
                </a:lnTo>
                <a:lnTo>
                  <a:pt x="70963" y="13843"/>
                </a:lnTo>
                <a:lnTo>
                  <a:pt x="70169" y="17696"/>
                </a:lnTo>
                <a:lnTo>
                  <a:pt x="69639" y="21957"/>
                </a:lnTo>
                <a:lnTo>
                  <a:pt x="67593" y="26491"/>
                </a:lnTo>
                <a:lnTo>
                  <a:pt x="64535" y="31207"/>
                </a:lnTo>
                <a:lnTo>
                  <a:pt x="60803" y="36045"/>
                </a:lnTo>
                <a:lnTo>
                  <a:pt x="57469" y="41810"/>
                </a:lnTo>
                <a:lnTo>
                  <a:pt x="54399" y="48193"/>
                </a:lnTo>
                <a:lnTo>
                  <a:pt x="51506" y="54988"/>
                </a:lnTo>
                <a:lnTo>
                  <a:pt x="47884" y="62059"/>
                </a:lnTo>
                <a:lnTo>
                  <a:pt x="43776" y="69313"/>
                </a:lnTo>
                <a:lnTo>
                  <a:pt x="39344" y="76688"/>
                </a:lnTo>
                <a:lnTo>
                  <a:pt x="35543" y="84145"/>
                </a:lnTo>
                <a:lnTo>
                  <a:pt x="32162" y="91656"/>
                </a:lnTo>
                <a:lnTo>
                  <a:pt x="29061" y="99204"/>
                </a:lnTo>
                <a:lnTo>
                  <a:pt x="26148" y="105929"/>
                </a:lnTo>
                <a:lnTo>
                  <a:pt x="20652" y="117917"/>
                </a:lnTo>
                <a:lnTo>
                  <a:pt x="17155" y="123484"/>
                </a:lnTo>
                <a:lnTo>
                  <a:pt x="13130" y="128889"/>
                </a:lnTo>
                <a:lnTo>
                  <a:pt x="8753" y="134186"/>
                </a:lnTo>
                <a:lnTo>
                  <a:pt x="5836" y="139411"/>
                </a:lnTo>
                <a:lnTo>
                  <a:pt x="3891" y="144587"/>
                </a:lnTo>
                <a:lnTo>
                  <a:pt x="2594" y="149731"/>
                </a:lnTo>
                <a:lnTo>
                  <a:pt x="1729" y="154007"/>
                </a:lnTo>
                <a:lnTo>
                  <a:pt x="1153" y="157704"/>
                </a:lnTo>
                <a:lnTo>
                  <a:pt x="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InkAnnotation122"/>
          <p:cNvSpPr/>
          <p:nvPr/>
        </p:nvSpPr>
        <p:spPr>
          <a:xfrm>
            <a:off x="2303640" y="606600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3499" h="121464">
                <a:moveTo>
                  <a:pt x="97102" y="30480"/>
                </a:moveTo>
                <a:lnTo>
                  <a:pt x="93057" y="34524"/>
                </a:lnTo>
                <a:lnTo>
                  <a:pt x="90172" y="36563"/>
                </a:lnTo>
                <a:lnTo>
                  <a:pt x="86556" y="38768"/>
                </a:lnTo>
                <a:lnTo>
                  <a:pt x="82451" y="41086"/>
                </a:lnTo>
                <a:lnTo>
                  <a:pt x="77175" y="44323"/>
                </a:lnTo>
                <a:lnTo>
                  <a:pt x="64539" y="52437"/>
                </a:lnTo>
                <a:lnTo>
                  <a:pt x="58460" y="56125"/>
                </a:lnTo>
                <a:lnTo>
                  <a:pt x="52714" y="59429"/>
                </a:lnTo>
                <a:lnTo>
                  <a:pt x="47190" y="62480"/>
                </a:lnTo>
                <a:lnTo>
                  <a:pt x="41814" y="66206"/>
                </a:lnTo>
                <a:lnTo>
                  <a:pt x="36537" y="70384"/>
                </a:lnTo>
                <a:lnTo>
                  <a:pt x="31325" y="74862"/>
                </a:lnTo>
                <a:lnTo>
                  <a:pt x="26158" y="79542"/>
                </a:lnTo>
                <a:lnTo>
                  <a:pt x="15900" y="89256"/>
                </a:lnTo>
                <a:lnTo>
                  <a:pt x="4651" y="100199"/>
                </a:lnTo>
                <a:lnTo>
                  <a:pt x="2448" y="103207"/>
                </a:lnTo>
                <a:lnTo>
                  <a:pt x="979" y="106057"/>
                </a:lnTo>
                <a:lnTo>
                  <a:pt x="0" y="108804"/>
                </a:lnTo>
                <a:lnTo>
                  <a:pt x="1041" y="111482"/>
                </a:lnTo>
                <a:lnTo>
                  <a:pt x="3428" y="114115"/>
                </a:lnTo>
                <a:lnTo>
                  <a:pt x="6713" y="116717"/>
                </a:lnTo>
                <a:lnTo>
                  <a:pt x="9749" y="118451"/>
                </a:lnTo>
                <a:lnTo>
                  <a:pt x="12620" y="119607"/>
                </a:lnTo>
                <a:lnTo>
                  <a:pt x="15381" y="120378"/>
                </a:lnTo>
                <a:lnTo>
                  <a:pt x="18915" y="120891"/>
                </a:lnTo>
                <a:lnTo>
                  <a:pt x="22964" y="121234"/>
                </a:lnTo>
                <a:lnTo>
                  <a:pt x="27357" y="121463"/>
                </a:lnTo>
                <a:lnTo>
                  <a:pt x="31132" y="120768"/>
                </a:lnTo>
                <a:lnTo>
                  <a:pt x="34495" y="119459"/>
                </a:lnTo>
                <a:lnTo>
                  <a:pt x="37585" y="117739"/>
                </a:lnTo>
                <a:lnTo>
                  <a:pt x="42184" y="115746"/>
                </a:lnTo>
                <a:lnTo>
                  <a:pt x="47790" y="113570"/>
                </a:lnTo>
                <a:lnTo>
                  <a:pt x="54067" y="111273"/>
                </a:lnTo>
                <a:lnTo>
                  <a:pt x="59099" y="107202"/>
                </a:lnTo>
                <a:lnTo>
                  <a:pt x="63300" y="101948"/>
                </a:lnTo>
                <a:lnTo>
                  <a:pt x="66947" y="95905"/>
                </a:lnTo>
                <a:lnTo>
                  <a:pt x="71072" y="90184"/>
                </a:lnTo>
                <a:lnTo>
                  <a:pt x="75516" y="84676"/>
                </a:lnTo>
                <a:lnTo>
                  <a:pt x="80171" y="79310"/>
                </a:lnTo>
                <a:lnTo>
                  <a:pt x="84121" y="74040"/>
                </a:lnTo>
                <a:lnTo>
                  <a:pt x="87602" y="68833"/>
                </a:lnTo>
                <a:lnTo>
                  <a:pt x="90769" y="63669"/>
                </a:lnTo>
                <a:lnTo>
                  <a:pt x="92880" y="58532"/>
                </a:lnTo>
                <a:lnTo>
                  <a:pt x="94287" y="53415"/>
                </a:lnTo>
                <a:lnTo>
                  <a:pt x="95225" y="48310"/>
                </a:lnTo>
                <a:lnTo>
                  <a:pt x="96698" y="43213"/>
                </a:lnTo>
                <a:lnTo>
                  <a:pt x="98526" y="38122"/>
                </a:lnTo>
                <a:lnTo>
                  <a:pt x="100591" y="33034"/>
                </a:lnTo>
                <a:lnTo>
                  <a:pt x="101969" y="28796"/>
                </a:lnTo>
                <a:lnTo>
                  <a:pt x="102887" y="25124"/>
                </a:lnTo>
                <a:lnTo>
                  <a:pt x="103498" y="21829"/>
                </a:lnTo>
                <a:lnTo>
                  <a:pt x="103060" y="18786"/>
                </a:lnTo>
                <a:lnTo>
                  <a:pt x="101920" y="15911"/>
                </a:lnTo>
                <a:lnTo>
                  <a:pt x="100315" y="13147"/>
                </a:lnTo>
                <a:lnTo>
                  <a:pt x="99244" y="10458"/>
                </a:lnTo>
                <a:lnTo>
                  <a:pt x="98530" y="7819"/>
                </a:lnTo>
                <a:lnTo>
                  <a:pt x="9710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InkAnnotation123"/>
          <p:cNvSpPr/>
          <p:nvPr/>
        </p:nvSpPr>
        <p:spPr>
          <a:xfrm>
            <a:off x="4818240" y="4367160"/>
            <a:ext cx="161640" cy="149400"/>
          </a:xfrm>
          <a:custGeom>
            <a:avLst/>
            <a:gdLst>
              <a:gd name="textAreaLeft" fmla="*/ 0 w 161640"/>
              <a:gd name="textAreaRight" fmla="*/ 162000 w 1616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61740" h="149982">
                <a:moveTo>
                  <a:pt x="149442" y="44911"/>
                </a:moveTo>
                <a:lnTo>
                  <a:pt x="149442" y="37384"/>
                </a:lnTo>
                <a:lnTo>
                  <a:pt x="145397" y="33273"/>
                </a:lnTo>
                <a:lnTo>
                  <a:pt x="142881" y="30738"/>
                </a:lnTo>
                <a:lnTo>
                  <a:pt x="140034" y="30145"/>
                </a:lnTo>
                <a:lnTo>
                  <a:pt x="138090" y="29987"/>
                </a:lnTo>
                <a:lnTo>
                  <a:pt x="135101" y="30728"/>
                </a:lnTo>
                <a:lnTo>
                  <a:pt x="131415" y="32069"/>
                </a:lnTo>
                <a:lnTo>
                  <a:pt x="127264" y="33810"/>
                </a:lnTo>
                <a:lnTo>
                  <a:pt x="122803" y="35817"/>
                </a:lnTo>
                <a:lnTo>
                  <a:pt x="113331" y="40305"/>
                </a:lnTo>
                <a:lnTo>
                  <a:pt x="107589" y="42687"/>
                </a:lnTo>
                <a:lnTo>
                  <a:pt x="101220" y="45121"/>
                </a:lnTo>
                <a:lnTo>
                  <a:pt x="94434" y="47591"/>
                </a:lnTo>
                <a:lnTo>
                  <a:pt x="86524" y="50931"/>
                </a:lnTo>
                <a:lnTo>
                  <a:pt x="77863" y="54851"/>
                </a:lnTo>
                <a:lnTo>
                  <a:pt x="68703" y="59157"/>
                </a:lnTo>
                <a:lnTo>
                  <a:pt x="60056" y="63722"/>
                </a:lnTo>
                <a:lnTo>
                  <a:pt x="51751" y="68458"/>
                </a:lnTo>
                <a:lnTo>
                  <a:pt x="43675" y="73309"/>
                </a:lnTo>
                <a:lnTo>
                  <a:pt x="36597" y="78236"/>
                </a:lnTo>
                <a:lnTo>
                  <a:pt x="30186" y="83214"/>
                </a:lnTo>
                <a:lnTo>
                  <a:pt x="24218" y="88226"/>
                </a:lnTo>
                <a:lnTo>
                  <a:pt x="18546" y="93261"/>
                </a:lnTo>
                <a:lnTo>
                  <a:pt x="7729" y="103371"/>
                </a:lnTo>
                <a:lnTo>
                  <a:pt x="4166" y="107591"/>
                </a:lnTo>
                <a:lnTo>
                  <a:pt x="1791" y="111251"/>
                </a:lnTo>
                <a:lnTo>
                  <a:pt x="208" y="114538"/>
                </a:lnTo>
                <a:lnTo>
                  <a:pt x="0" y="118422"/>
                </a:lnTo>
                <a:lnTo>
                  <a:pt x="707" y="122705"/>
                </a:lnTo>
                <a:lnTo>
                  <a:pt x="2026" y="127254"/>
                </a:lnTo>
                <a:lnTo>
                  <a:pt x="4598" y="131132"/>
                </a:lnTo>
                <a:lnTo>
                  <a:pt x="8006" y="134566"/>
                </a:lnTo>
                <a:lnTo>
                  <a:pt x="11972" y="137700"/>
                </a:lnTo>
                <a:lnTo>
                  <a:pt x="16308" y="140637"/>
                </a:lnTo>
                <a:lnTo>
                  <a:pt x="20893" y="143442"/>
                </a:lnTo>
                <a:lnTo>
                  <a:pt x="25643" y="146158"/>
                </a:lnTo>
                <a:lnTo>
                  <a:pt x="32196" y="147969"/>
                </a:lnTo>
                <a:lnTo>
                  <a:pt x="39952" y="149176"/>
                </a:lnTo>
                <a:lnTo>
                  <a:pt x="48508" y="149981"/>
                </a:lnTo>
                <a:lnTo>
                  <a:pt x="56753" y="149671"/>
                </a:lnTo>
                <a:lnTo>
                  <a:pt x="64789" y="148617"/>
                </a:lnTo>
                <a:lnTo>
                  <a:pt x="72687" y="147069"/>
                </a:lnTo>
                <a:lnTo>
                  <a:pt x="80492" y="145189"/>
                </a:lnTo>
                <a:lnTo>
                  <a:pt x="88235" y="143090"/>
                </a:lnTo>
                <a:lnTo>
                  <a:pt x="95937" y="140843"/>
                </a:lnTo>
                <a:lnTo>
                  <a:pt x="103612" y="137653"/>
                </a:lnTo>
                <a:lnTo>
                  <a:pt x="111269" y="133832"/>
                </a:lnTo>
                <a:lnTo>
                  <a:pt x="118913" y="129591"/>
                </a:lnTo>
                <a:lnTo>
                  <a:pt x="125703" y="124224"/>
                </a:lnTo>
                <a:lnTo>
                  <a:pt x="131923" y="118106"/>
                </a:lnTo>
                <a:lnTo>
                  <a:pt x="137762" y="111488"/>
                </a:lnTo>
                <a:lnTo>
                  <a:pt x="148767" y="99618"/>
                </a:lnTo>
                <a:lnTo>
                  <a:pt x="154071" y="94082"/>
                </a:lnTo>
                <a:lnTo>
                  <a:pt x="157609" y="87852"/>
                </a:lnTo>
                <a:lnTo>
                  <a:pt x="159966" y="81158"/>
                </a:lnTo>
                <a:lnTo>
                  <a:pt x="161538" y="74156"/>
                </a:lnTo>
                <a:lnTo>
                  <a:pt x="161739" y="66948"/>
                </a:lnTo>
                <a:lnTo>
                  <a:pt x="161027" y="59602"/>
                </a:lnTo>
                <a:lnTo>
                  <a:pt x="159705" y="52165"/>
                </a:lnTo>
                <a:lnTo>
                  <a:pt x="157977" y="45514"/>
                </a:lnTo>
                <a:lnTo>
                  <a:pt x="155979" y="39386"/>
                </a:lnTo>
                <a:lnTo>
                  <a:pt x="153800" y="33608"/>
                </a:lnTo>
                <a:lnTo>
                  <a:pt x="150654" y="28908"/>
                </a:lnTo>
                <a:lnTo>
                  <a:pt x="146863" y="24929"/>
                </a:lnTo>
                <a:lnTo>
                  <a:pt x="142643" y="21430"/>
                </a:lnTo>
                <a:lnTo>
                  <a:pt x="138135" y="17404"/>
                </a:lnTo>
                <a:lnTo>
                  <a:pt x="128612" y="8414"/>
                </a:lnTo>
                <a:lnTo>
                  <a:pt x="123703" y="5340"/>
                </a:lnTo>
                <a:lnTo>
                  <a:pt x="118736" y="3290"/>
                </a:lnTo>
                <a:lnTo>
                  <a:pt x="113731" y="1924"/>
                </a:lnTo>
                <a:lnTo>
                  <a:pt x="108701" y="1012"/>
                </a:lnTo>
                <a:lnTo>
                  <a:pt x="103655" y="405"/>
                </a:lnTo>
                <a:lnTo>
                  <a:pt x="98597" y="0"/>
                </a:lnTo>
                <a:lnTo>
                  <a:pt x="92686" y="577"/>
                </a:lnTo>
                <a:lnTo>
                  <a:pt x="86205" y="1809"/>
                </a:lnTo>
                <a:lnTo>
                  <a:pt x="79344" y="3476"/>
                </a:lnTo>
                <a:lnTo>
                  <a:pt x="73923" y="5434"/>
                </a:lnTo>
                <a:lnTo>
                  <a:pt x="69463" y="7586"/>
                </a:lnTo>
                <a:lnTo>
                  <a:pt x="65643" y="9868"/>
                </a:lnTo>
                <a:lnTo>
                  <a:pt x="62249" y="11389"/>
                </a:lnTo>
                <a:lnTo>
                  <a:pt x="59140" y="12403"/>
                </a:lnTo>
                <a:lnTo>
                  <a:pt x="50382" y="1443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InkAnnotation124"/>
          <p:cNvSpPr/>
          <p:nvPr/>
        </p:nvSpPr>
        <p:spPr>
          <a:xfrm>
            <a:off x="4788000" y="4511520"/>
            <a:ext cx="183960" cy="135000"/>
          </a:xfrm>
          <a:custGeom>
            <a:avLst/>
            <a:gdLst>
              <a:gd name="textAreaLeft" fmla="*/ 0 w 183960"/>
              <a:gd name="textAreaRight" fmla="*/ 184320 w 1839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4624" h="135524">
                <a:moveTo>
                  <a:pt x="142699" y="22860"/>
                </a:moveTo>
                <a:lnTo>
                  <a:pt x="142699" y="16299"/>
                </a:lnTo>
                <a:lnTo>
                  <a:pt x="140441" y="13452"/>
                </a:lnTo>
                <a:lnTo>
                  <a:pt x="136137" y="8772"/>
                </a:lnTo>
                <a:lnTo>
                  <a:pt x="131033" y="8132"/>
                </a:lnTo>
                <a:lnTo>
                  <a:pt x="123968" y="7847"/>
                </a:lnTo>
                <a:lnTo>
                  <a:pt x="118004" y="7721"/>
                </a:lnTo>
                <a:lnTo>
                  <a:pt x="113536" y="8534"/>
                </a:lnTo>
                <a:lnTo>
                  <a:pt x="108016" y="9922"/>
                </a:lnTo>
                <a:lnTo>
                  <a:pt x="101797" y="11695"/>
                </a:lnTo>
                <a:lnTo>
                  <a:pt x="88113" y="15922"/>
                </a:lnTo>
                <a:lnTo>
                  <a:pt x="58632" y="25534"/>
                </a:lnTo>
                <a:lnTo>
                  <a:pt x="51095" y="28876"/>
                </a:lnTo>
                <a:lnTo>
                  <a:pt x="43529" y="32797"/>
                </a:lnTo>
                <a:lnTo>
                  <a:pt x="35945" y="37105"/>
                </a:lnTo>
                <a:lnTo>
                  <a:pt x="29197" y="41670"/>
                </a:lnTo>
                <a:lnTo>
                  <a:pt x="23004" y="46406"/>
                </a:lnTo>
                <a:lnTo>
                  <a:pt x="17182" y="51257"/>
                </a:lnTo>
                <a:lnTo>
                  <a:pt x="12454" y="56185"/>
                </a:lnTo>
                <a:lnTo>
                  <a:pt x="8456" y="61163"/>
                </a:lnTo>
                <a:lnTo>
                  <a:pt x="4943" y="66175"/>
                </a:lnTo>
                <a:lnTo>
                  <a:pt x="2601" y="71211"/>
                </a:lnTo>
                <a:lnTo>
                  <a:pt x="1041" y="76260"/>
                </a:lnTo>
                <a:lnTo>
                  <a:pt x="0" y="81320"/>
                </a:lnTo>
                <a:lnTo>
                  <a:pt x="152" y="86386"/>
                </a:lnTo>
                <a:lnTo>
                  <a:pt x="1101" y="91458"/>
                </a:lnTo>
                <a:lnTo>
                  <a:pt x="2580" y="96532"/>
                </a:lnTo>
                <a:lnTo>
                  <a:pt x="5260" y="101608"/>
                </a:lnTo>
                <a:lnTo>
                  <a:pt x="8739" y="106685"/>
                </a:lnTo>
                <a:lnTo>
                  <a:pt x="12752" y="111763"/>
                </a:lnTo>
                <a:lnTo>
                  <a:pt x="18814" y="115996"/>
                </a:lnTo>
                <a:lnTo>
                  <a:pt x="26242" y="119663"/>
                </a:lnTo>
                <a:lnTo>
                  <a:pt x="34581" y="122956"/>
                </a:lnTo>
                <a:lnTo>
                  <a:pt x="50620" y="128872"/>
                </a:lnTo>
                <a:lnTo>
                  <a:pt x="58453" y="131634"/>
                </a:lnTo>
                <a:lnTo>
                  <a:pt x="67061" y="133476"/>
                </a:lnTo>
                <a:lnTo>
                  <a:pt x="76187" y="134704"/>
                </a:lnTo>
                <a:lnTo>
                  <a:pt x="85657" y="135523"/>
                </a:lnTo>
                <a:lnTo>
                  <a:pt x="95358" y="135222"/>
                </a:lnTo>
                <a:lnTo>
                  <a:pt x="105211" y="134174"/>
                </a:lnTo>
                <a:lnTo>
                  <a:pt x="115167" y="132630"/>
                </a:lnTo>
                <a:lnTo>
                  <a:pt x="124344" y="130753"/>
                </a:lnTo>
                <a:lnTo>
                  <a:pt x="133002" y="128655"/>
                </a:lnTo>
                <a:lnTo>
                  <a:pt x="141315" y="126410"/>
                </a:lnTo>
                <a:lnTo>
                  <a:pt x="147702" y="123220"/>
                </a:lnTo>
                <a:lnTo>
                  <a:pt x="152808" y="119400"/>
                </a:lnTo>
                <a:lnTo>
                  <a:pt x="157058" y="115160"/>
                </a:lnTo>
                <a:lnTo>
                  <a:pt x="161584" y="109793"/>
                </a:lnTo>
                <a:lnTo>
                  <a:pt x="166296" y="103676"/>
                </a:lnTo>
                <a:lnTo>
                  <a:pt x="171130" y="97057"/>
                </a:lnTo>
                <a:lnTo>
                  <a:pt x="174353" y="90951"/>
                </a:lnTo>
                <a:lnTo>
                  <a:pt x="176502" y="85187"/>
                </a:lnTo>
                <a:lnTo>
                  <a:pt x="177934" y="79652"/>
                </a:lnTo>
                <a:lnTo>
                  <a:pt x="179735" y="73421"/>
                </a:lnTo>
                <a:lnTo>
                  <a:pt x="183995" y="59725"/>
                </a:lnTo>
                <a:lnTo>
                  <a:pt x="184623" y="53363"/>
                </a:lnTo>
                <a:lnTo>
                  <a:pt x="184194" y="47429"/>
                </a:lnTo>
                <a:lnTo>
                  <a:pt x="183063" y="41779"/>
                </a:lnTo>
                <a:lnTo>
                  <a:pt x="182307" y="36320"/>
                </a:lnTo>
                <a:lnTo>
                  <a:pt x="181805" y="30986"/>
                </a:lnTo>
                <a:lnTo>
                  <a:pt x="181469" y="25737"/>
                </a:lnTo>
                <a:lnTo>
                  <a:pt x="180399" y="21391"/>
                </a:lnTo>
                <a:lnTo>
                  <a:pt x="178839" y="17648"/>
                </a:lnTo>
                <a:lnTo>
                  <a:pt x="176952" y="14305"/>
                </a:lnTo>
                <a:lnTo>
                  <a:pt x="174847" y="11230"/>
                </a:lnTo>
                <a:lnTo>
                  <a:pt x="172597" y="8333"/>
                </a:lnTo>
                <a:lnTo>
                  <a:pt x="16555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InkAnnotation125"/>
          <p:cNvSpPr/>
          <p:nvPr/>
        </p:nvSpPr>
        <p:spPr>
          <a:xfrm>
            <a:off x="4975200" y="450360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3361" h="144781">
                <a:moveTo>
                  <a:pt x="213360" y="0"/>
                </a:moveTo>
                <a:lnTo>
                  <a:pt x="202754" y="10606"/>
                </a:lnTo>
                <a:lnTo>
                  <a:pt x="198670" y="12997"/>
                </a:lnTo>
                <a:lnTo>
                  <a:pt x="193407" y="15438"/>
                </a:lnTo>
                <a:lnTo>
                  <a:pt x="187358" y="17912"/>
                </a:lnTo>
                <a:lnTo>
                  <a:pt x="181632" y="21255"/>
                </a:lnTo>
                <a:lnTo>
                  <a:pt x="176121" y="25176"/>
                </a:lnTo>
                <a:lnTo>
                  <a:pt x="170754" y="29484"/>
                </a:lnTo>
                <a:lnTo>
                  <a:pt x="164636" y="34050"/>
                </a:lnTo>
                <a:lnTo>
                  <a:pt x="151065" y="43637"/>
                </a:lnTo>
                <a:lnTo>
                  <a:pt x="143044" y="48565"/>
                </a:lnTo>
                <a:lnTo>
                  <a:pt x="134309" y="53543"/>
                </a:lnTo>
                <a:lnTo>
                  <a:pt x="125099" y="58555"/>
                </a:lnTo>
                <a:lnTo>
                  <a:pt x="116419" y="64437"/>
                </a:lnTo>
                <a:lnTo>
                  <a:pt x="108093" y="70898"/>
                </a:lnTo>
                <a:lnTo>
                  <a:pt x="100002" y="77745"/>
                </a:lnTo>
                <a:lnTo>
                  <a:pt x="92068" y="84003"/>
                </a:lnTo>
                <a:lnTo>
                  <a:pt x="84239" y="89869"/>
                </a:lnTo>
                <a:lnTo>
                  <a:pt x="68766" y="100902"/>
                </a:lnTo>
                <a:lnTo>
                  <a:pt x="53423" y="111449"/>
                </a:lnTo>
                <a:lnTo>
                  <a:pt x="46622" y="115786"/>
                </a:lnTo>
                <a:lnTo>
                  <a:pt x="40394" y="119524"/>
                </a:lnTo>
                <a:lnTo>
                  <a:pt x="34549" y="122863"/>
                </a:lnTo>
                <a:lnTo>
                  <a:pt x="23539" y="128830"/>
                </a:lnTo>
                <a:lnTo>
                  <a:pt x="18233" y="131606"/>
                </a:lnTo>
                <a:lnTo>
                  <a:pt x="13849" y="134304"/>
                </a:lnTo>
                <a:lnTo>
                  <a:pt x="10079" y="136950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InkAnnotation126"/>
          <p:cNvSpPr/>
          <p:nvPr/>
        </p:nvSpPr>
        <p:spPr>
          <a:xfrm>
            <a:off x="5029200" y="4495680"/>
            <a:ext cx="190440" cy="92160"/>
          </a:xfrm>
          <a:custGeom>
            <a:avLst/>
            <a:gdLst>
              <a:gd name="textAreaLeft" fmla="*/ 0 w 190440"/>
              <a:gd name="textAreaRight" fmla="*/ 190800 w 190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90501" h="91441">
                <a:moveTo>
                  <a:pt x="0" y="0"/>
                </a:moveTo>
                <a:lnTo>
                  <a:pt x="4045" y="0"/>
                </a:lnTo>
                <a:lnTo>
                  <a:pt x="6083" y="846"/>
                </a:lnTo>
                <a:lnTo>
                  <a:pt x="8289" y="2258"/>
                </a:lnTo>
                <a:lnTo>
                  <a:pt x="10606" y="4045"/>
                </a:lnTo>
                <a:lnTo>
                  <a:pt x="13844" y="6930"/>
                </a:lnTo>
                <a:lnTo>
                  <a:pt x="21958" y="14651"/>
                </a:lnTo>
                <a:lnTo>
                  <a:pt x="26491" y="18234"/>
                </a:lnTo>
                <a:lnTo>
                  <a:pt x="31207" y="21469"/>
                </a:lnTo>
                <a:lnTo>
                  <a:pt x="36045" y="24473"/>
                </a:lnTo>
                <a:lnTo>
                  <a:pt x="62059" y="41460"/>
                </a:lnTo>
                <a:lnTo>
                  <a:pt x="76689" y="51164"/>
                </a:lnTo>
                <a:lnTo>
                  <a:pt x="84993" y="55276"/>
                </a:lnTo>
                <a:lnTo>
                  <a:pt x="93915" y="58864"/>
                </a:lnTo>
                <a:lnTo>
                  <a:pt x="103250" y="62102"/>
                </a:lnTo>
                <a:lnTo>
                  <a:pt x="112861" y="65108"/>
                </a:lnTo>
                <a:lnTo>
                  <a:pt x="132569" y="70706"/>
                </a:lnTo>
                <a:lnTo>
                  <a:pt x="140873" y="73384"/>
                </a:lnTo>
                <a:lnTo>
                  <a:pt x="148102" y="76016"/>
                </a:lnTo>
                <a:lnTo>
                  <a:pt x="154615" y="78617"/>
                </a:lnTo>
                <a:lnTo>
                  <a:pt x="168625" y="83765"/>
                </a:lnTo>
                <a:lnTo>
                  <a:pt x="190500" y="91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InkAnnotation127"/>
          <p:cNvSpPr/>
          <p:nvPr/>
        </p:nvSpPr>
        <p:spPr>
          <a:xfrm>
            <a:off x="5372280" y="4487760"/>
            <a:ext cx="228600" cy="3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8601" h="37970">
                <a:moveTo>
                  <a:pt x="0" y="0"/>
                </a:moveTo>
                <a:lnTo>
                  <a:pt x="11352" y="11352"/>
                </a:lnTo>
                <a:lnTo>
                  <a:pt x="15187" y="13495"/>
                </a:lnTo>
                <a:lnTo>
                  <a:pt x="20285" y="15770"/>
                </a:lnTo>
                <a:lnTo>
                  <a:pt x="26224" y="18133"/>
                </a:lnTo>
                <a:lnTo>
                  <a:pt x="31876" y="20556"/>
                </a:lnTo>
                <a:lnTo>
                  <a:pt x="42671" y="25505"/>
                </a:lnTo>
                <a:lnTo>
                  <a:pt x="49614" y="28010"/>
                </a:lnTo>
                <a:lnTo>
                  <a:pt x="57630" y="30527"/>
                </a:lnTo>
                <a:lnTo>
                  <a:pt x="66360" y="33051"/>
                </a:lnTo>
                <a:lnTo>
                  <a:pt x="75567" y="34735"/>
                </a:lnTo>
                <a:lnTo>
                  <a:pt x="85091" y="35857"/>
                </a:lnTo>
                <a:lnTo>
                  <a:pt x="94828" y="36604"/>
                </a:lnTo>
                <a:lnTo>
                  <a:pt x="104705" y="37103"/>
                </a:lnTo>
                <a:lnTo>
                  <a:pt x="124711" y="37658"/>
                </a:lnTo>
                <a:lnTo>
                  <a:pt x="150970" y="37969"/>
                </a:lnTo>
                <a:lnTo>
                  <a:pt x="159066" y="37167"/>
                </a:lnTo>
                <a:lnTo>
                  <a:pt x="167005" y="35785"/>
                </a:lnTo>
                <a:lnTo>
                  <a:pt x="174837" y="34016"/>
                </a:lnTo>
                <a:lnTo>
                  <a:pt x="181751" y="32838"/>
                </a:lnTo>
                <a:lnTo>
                  <a:pt x="188054" y="32052"/>
                </a:lnTo>
                <a:lnTo>
                  <a:pt x="193949" y="31528"/>
                </a:lnTo>
                <a:lnTo>
                  <a:pt x="198726" y="31179"/>
                </a:lnTo>
                <a:lnTo>
                  <a:pt x="206292" y="30791"/>
                </a:lnTo>
                <a:lnTo>
                  <a:pt x="214735" y="30619"/>
                </a:lnTo>
                <a:lnTo>
                  <a:pt x="228600" y="3048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InkAnnotation128"/>
          <p:cNvSpPr/>
          <p:nvPr/>
        </p:nvSpPr>
        <p:spPr>
          <a:xfrm>
            <a:off x="5342040" y="4556160"/>
            <a:ext cx="220680" cy="46080"/>
          </a:xfrm>
          <a:custGeom>
            <a:avLst/>
            <a:gdLst>
              <a:gd name="textAreaLeft" fmla="*/ 0 w 220680"/>
              <a:gd name="textAreaRight" fmla="*/ 221040 w 220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0981" h="45721">
                <a:moveTo>
                  <a:pt x="0" y="45720"/>
                </a:moveTo>
                <a:lnTo>
                  <a:pt x="28518" y="45720"/>
                </a:lnTo>
                <a:lnTo>
                  <a:pt x="34252" y="44873"/>
                </a:lnTo>
                <a:lnTo>
                  <a:pt x="40615" y="43462"/>
                </a:lnTo>
                <a:lnTo>
                  <a:pt x="47397" y="41675"/>
                </a:lnTo>
                <a:lnTo>
                  <a:pt x="55304" y="38790"/>
                </a:lnTo>
                <a:lnTo>
                  <a:pt x="63963" y="35174"/>
                </a:lnTo>
                <a:lnTo>
                  <a:pt x="73122" y="31069"/>
                </a:lnTo>
                <a:lnTo>
                  <a:pt x="82614" y="27486"/>
                </a:lnTo>
                <a:lnTo>
                  <a:pt x="92330" y="24251"/>
                </a:lnTo>
                <a:lnTo>
                  <a:pt x="102193" y="21247"/>
                </a:lnTo>
                <a:lnTo>
                  <a:pt x="111308" y="19245"/>
                </a:lnTo>
                <a:lnTo>
                  <a:pt x="119926" y="17910"/>
                </a:lnTo>
                <a:lnTo>
                  <a:pt x="128210" y="17020"/>
                </a:lnTo>
                <a:lnTo>
                  <a:pt x="137121" y="15580"/>
                </a:lnTo>
                <a:lnTo>
                  <a:pt x="146447" y="13773"/>
                </a:lnTo>
                <a:lnTo>
                  <a:pt x="156052" y="11722"/>
                </a:lnTo>
                <a:lnTo>
                  <a:pt x="164148" y="9508"/>
                </a:lnTo>
                <a:lnTo>
                  <a:pt x="171238" y="7185"/>
                </a:lnTo>
                <a:lnTo>
                  <a:pt x="177659" y="4790"/>
                </a:lnTo>
                <a:lnTo>
                  <a:pt x="183633" y="3194"/>
                </a:lnTo>
                <a:lnTo>
                  <a:pt x="189308" y="2129"/>
                </a:lnTo>
                <a:lnTo>
                  <a:pt x="194786" y="1420"/>
                </a:lnTo>
                <a:lnTo>
                  <a:pt x="200131" y="946"/>
                </a:lnTo>
                <a:lnTo>
                  <a:pt x="205387" y="630"/>
                </a:ln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InkAnnotation129"/>
          <p:cNvSpPr/>
          <p:nvPr/>
        </p:nvSpPr>
        <p:spPr>
          <a:xfrm>
            <a:off x="5634000" y="4253040"/>
            <a:ext cx="149400" cy="149040"/>
          </a:xfrm>
          <a:custGeom>
            <a:avLst/>
            <a:gdLst>
              <a:gd name="textAreaLeft" fmla="*/ 0 w 149400"/>
              <a:gd name="textAreaRight" fmla="*/ 149760 w 149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50290" h="148774">
                <a:moveTo>
                  <a:pt x="150289" y="21184"/>
                </a:moveTo>
                <a:lnTo>
                  <a:pt x="133122" y="21184"/>
                </a:lnTo>
                <a:lnTo>
                  <a:pt x="127838" y="22031"/>
                </a:lnTo>
                <a:lnTo>
                  <a:pt x="120928" y="23442"/>
                </a:lnTo>
                <a:lnTo>
                  <a:pt x="112935" y="25229"/>
                </a:lnTo>
                <a:lnTo>
                  <a:pt x="105066" y="28114"/>
                </a:lnTo>
                <a:lnTo>
                  <a:pt x="97281" y="31730"/>
                </a:lnTo>
                <a:lnTo>
                  <a:pt x="89550" y="35835"/>
                </a:lnTo>
                <a:lnTo>
                  <a:pt x="81009" y="39418"/>
                </a:lnTo>
                <a:lnTo>
                  <a:pt x="71929" y="42653"/>
                </a:lnTo>
                <a:lnTo>
                  <a:pt x="62489" y="45657"/>
                </a:lnTo>
                <a:lnTo>
                  <a:pt x="53656" y="49353"/>
                </a:lnTo>
                <a:lnTo>
                  <a:pt x="45226" y="53510"/>
                </a:lnTo>
                <a:lnTo>
                  <a:pt x="37068" y="57975"/>
                </a:lnTo>
                <a:lnTo>
                  <a:pt x="29934" y="62644"/>
                </a:lnTo>
                <a:lnTo>
                  <a:pt x="23486" y="67451"/>
                </a:lnTo>
                <a:lnTo>
                  <a:pt x="17494" y="72349"/>
                </a:lnTo>
                <a:lnTo>
                  <a:pt x="12652" y="77307"/>
                </a:lnTo>
                <a:lnTo>
                  <a:pt x="8577" y="82306"/>
                </a:lnTo>
                <a:lnTo>
                  <a:pt x="5015" y="87332"/>
                </a:lnTo>
                <a:lnTo>
                  <a:pt x="2639" y="92376"/>
                </a:lnTo>
                <a:lnTo>
                  <a:pt x="1056" y="97432"/>
                </a:lnTo>
                <a:lnTo>
                  <a:pt x="0" y="102496"/>
                </a:lnTo>
                <a:lnTo>
                  <a:pt x="143" y="107565"/>
                </a:lnTo>
                <a:lnTo>
                  <a:pt x="1085" y="112638"/>
                </a:lnTo>
                <a:lnTo>
                  <a:pt x="2560" y="117713"/>
                </a:lnTo>
                <a:lnTo>
                  <a:pt x="5236" y="122790"/>
                </a:lnTo>
                <a:lnTo>
                  <a:pt x="8714" y="127868"/>
                </a:lnTo>
                <a:lnTo>
                  <a:pt x="12725" y="132947"/>
                </a:lnTo>
                <a:lnTo>
                  <a:pt x="17940" y="137179"/>
                </a:lnTo>
                <a:lnTo>
                  <a:pt x="23957" y="140847"/>
                </a:lnTo>
                <a:lnTo>
                  <a:pt x="30507" y="144140"/>
                </a:lnTo>
                <a:lnTo>
                  <a:pt x="38261" y="146335"/>
                </a:lnTo>
                <a:lnTo>
                  <a:pt x="46817" y="147798"/>
                </a:lnTo>
                <a:lnTo>
                  <a:pt x="55908" y="148773"/>
                </a:lnTo>
                <a:lnTo>
                  <a:pt x="64508" y="148577"/>
                </a:lnTo>
                <a:lnTo>
                  <a:pt x="72782" y="147599"/>
                </a:lnTo>
                <a:lnTo>
                  <a:pt x="80837" y="146100"/>
                </a:lnTo>
                <a:lnTo>
                  <a:pt x="88748" y="144255"/>
                </a:lnTo>
                <a:lnTo>
                  <a:pt x="96562" y="142178"/>
                </a:lnTo>
                <a:lnTo>
                  <a:pt x="104311" y="139947"/>
                </a:lnTo>
                <a:lnTo>
                  <a:pt x="111170" y="136766"/>
                </a:lnTo>
                <a:lnTo>
                  <a:pt x="117437" y="132952"/>
                </a:lnTo>
                <a:lnTo>
                  <a:pt x="123307" y="128716"/>
                </a:lnTo>
                <a:lnTo>
                  <a:pt x="128069" y="123351"/>
                </a:lnTo>
                <a:lnTo>
                  <a:pt x="132088" y="117236"/>
                </a:lnTo>
                <a:lnTo>
                  <a:pt x="135615" y="110619"/>
                </a:lnTo>
                <a:lnTo>
                  <a:pt x="138813" y="103667"/>
                </a:lnTo>
                <a:lnTo>
                  <a:pt x="141792" y="96493"/>
                </a:lnTo>
                <a:lnTo>
                  <a:pt x="144624" y="89169"/>
                </a:lnTo>
                <a:lnTo>
                  <a:pt x="146512" y="81748"/>
                </a:lnTo>
                <a:lnTo>
                  <a:pt x="147772" y="74260"/>
                </a:lnTo>
                <a:lnTo>
                  <a:pt x="148611" y="66728"/>
                </a:lnTo>
                <a:lnTo>
                  <a:pt x="149170" y="59167"/>
                </a:lnTo>
                <a:lnTo>
                  <a:pt x="149543" y="51586"/>
                </a:lnTo>
                <a:lnTo>
                  <a:pt x="149792" y="43992"/>
                </a:lnTo>
                <a:lnTo>
                  <a:pt x="149111" y="37236"/>
                </a:lnTo>
                <a:lnTo>
                  <a:pt x="147810" y="31038"/>
                </a:lnTo>
                <a:lnTo>
                  <a:pt x="146097" y="25214"/>
                </a:lnTo>
                <a:lnTo>
                  <a:pt x="144108" y="20484"/>
                </a:lnTo>
                <a:lnTo>
                  <a:pt x="141934" y="16484"/>
                </a:lnTo>
                <a:lnTo>
                  <a:pt x="139640" y="12971"/>
                </a:lnTo>
                <a:lnTo>
                  <a:pt x="136416" y="9782"/>
                </a:lnTo>
                <a:lnTo>
                  <a:pt x="132573" y="6809"/>
                </a:lnTo>
                <a:lnTo>
                  <a:pt x="128319" y="3981"/>
                </a:lnTo>
                <a:lnTo>
                  <a:pt x="124635" y="2095"/>
                </a:lnTo>
                <a:lnTo>
                  <a:pt x="121333" y="838"/>
                </a:lnTo>
                <a:lnTo>
                  <a:pt x="118286" y="0"/>
                </a:lnTo>
                <a:lnTo>
                  <a:pt x="115407" y="288"/>
                </a:lnTo>
                <a:lnTo>
                  <a:pt x="112641" y="1327"/>
                </a:lnTo>
                <a:lnTo>
                  <a:pt x="104569" y="594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InkAnnotation130"/>
          <p:cNvSpPr/>
          <p:nvPr/>
        </p:nvSpPr>
        <p:spPr>
          <a:xfrm>
            <a:off x="5632560" y="4373640"/>
            <a:ext cx="164880" cy="174600"/>
          </a:xfrm>
          <a:custGeom>
            <a:avLst/>
            <a:gdLst>
              <a:gd name="textAreaLeft" fmla="*/ 0 w 164880"/>
              <a:gd name="textAreaRight" fmla="*/ 165240 w 16488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163977" h="173623">
                <a:moveTo>
                  <a:pt x="119933" y="22860"/>
                </a:moveTo>
                <a:lnTo>
                  <a:pt x="115888" y="26905"/>
                </a:lnTo>
                <a:lnTo>
                  <a:pt x="113003" y="28944"/>
                </a:lnTo>
                <a:lnTo>
                  <a:pt x="109387" y="31149"/>
                </a:lnTo>
                <a:lnTo>
                  <a:pt x="105282" y="33466"/>
                </a:lnTo>
                <a:lnTo>
                  <a:pt x="100853" y="36704"/>
                </a:lnTo>
                <a:lnTo>
                  <a:pt x="96207" y="40556"/>
                </a:lnTo>
                <a:lnTo>
                  <a:pt x="91415" y="44817"/>
                </a:lnTo>
                <a:lnTo>
                  <a:pt x="85682" y="49352"/>
                </a:lnTo>
                <a:lnTo>
                  <a:pt x="79318" y="54068"/>
                </a:lnTo>
                <a:lnTo>
                  <a:pt x="65475" y="63824"/>
                </a:lnTo>
                <a:lnTo>
                  <a:pt x="50856" y="73804"/>
                </a:lnTo>
                <a:lnTo>
                  <a:pt x="44249" y="78836"/>
                </a:lnTo>
                <a:lnTo>
                  <a:pt x="38150" y="83884"/>
                </a:lnTo>
                <a:lnTo>
                  <a:pt x="32391" y="88943"/>
                </a:lnTo>
                <a:lnTo>
                  <a:pt x="26858" y="94008"/>
                </a:lnTo>
                <a:lnTo>
                  <a:pt x="16196" y="104153"/>
                </a:lnTo>
                <a:lnTo>
                  <a:pt x="11828" y="109229"/>
                </a:lnTo>
                <a:lnTo>
                  <a:pt x="8070" y="114306"/>
                </a:lnTo>
                <a:lnTo>
                  <a:pt x="4718" y="119384"/>
                </a:lnTo>
                <a:lnTo>
                  <a:pt x="2482" y="124462"/>
                </a:lnTo>
                <a:lnTo>
                  <a:pt x="993" y="129542"/>
                </a:lnTo>
                <a:lnTo>
                  <a:pt x="0" y="134621"/>
                </a:lnTo>
                <a:lnTo>
                  <a:pt x="184" y="139701"/>
                </a:lnTo>
                <a:lnTo>
                  <a:pt x="1154" y="144780"/>
                </a:lnTo>
                <a:lnTo>
                  <a:pt x="2647" y="149860"/>
                </a:lnTo>
                <a:lnTo>
                  <a:pt x="5335" y="154093"/>
                </a:lnTo>
                <a:lnTo>
                  <a:pt x="8822" y="157762"/>
                </a:lnTo>
                <a:lnTo>
                  <a:pt x="12839" y="161055"/>
                </a:lnTo>
                <a:lnTo>
                  <a:pt x="17210" y="164096"/>
                </a:lnTo>
                <a:lnTo>
                  <a:pt x="21818" y="166971"/>
                </a:lnTo>
                <a:lnTo>
                  <a:pt x="26583" y="169734"/>
                </a:lnTo>
                <a:lnTo>
                  <a:pt x="33146" y="171576"/>
                </a:lnTo>
                <a:lnTo>
                  <a:pt x="40909" y="172804"/>
                </a:lnTo>
                <a:lnTo>
                  <a:pt x="49470" y="173622"/>
                </a:lnTo>
                <a:lnTo>
                  <a:pt x="57718" y="173322"/>
                </a:lnTo>
                <a:lnTo>
                  <a:pt x="65756" y="172274"/>
                </a:lnTo>
                <a:lnTo>
                  <a:pt x="73656" y="170729"/>
                </a:lnTo>
                <a:lnTo>
                  <a:pt x="81461" y="168006"/>
                </a:lnTo>
                <a:lnTo>
                  <a:pt x="89205" y="164498"/>
                </a:lnTo>
                <a:lnTo>
                  <a:pt x="96907" y="160465"/>
                </a:lnTo>
                <a:lnTo>
                  <a:pt x="104583" y="156083"/>
                </a:lnTo>
                <a:lnTo>
                  <a:pt x="112239" y="151469"/>
                </a:lnTo>
                <a:lnTo>
                  <a:pt x="119884" y="146699"/>
                </a:lnTo>
                <a:lnTo>
                  <a:pt x="126674" y="140980"/>
                </a:lnTo>
                <a:lnTo>
                  <a:pt x="132894" y="134626"/>
                </a:lnTo>
                <a:lnTo>
                  <a:pt x="138733" y="127851"/>
                </a:lnTo>
                <a:lnTo>
                  <a:pt x="143473" y="119947"/>
                </a:lnTo>
                <a:lnTo>
                  <a:pt x="147480" y="111292"/>
                </a:lnTo>
                <a:lnTo>
                  <a:pt x="154189" y="93490"/>
                </a:lnTo>
                <a:lnTo>
                  <a:pt x="159994" y="77111"/>
                </a:lnTo>
                <a:lnTo>
                  <a:pt x="161880" y="70034"/>
                </a:lnTo>
                <a:lnTo>
                  <a:pt x="163138" y="63623"/>
                </a:lnTo>
                <a:lnTo>
                  <a:pt x="163976" y="57655"/>
                </a:lnTo>
                <a:lnTo>
                  <a:pt x="163689" y="51983"/>
                </a:lnTo>
                <a:lnTo>
                  <a:pt x="162650" y="46509"/>
                </a:lnTo>
                <a:lnTo>
                  <a:pt x="161111" y="41166"/>
                </a:lnTo>
                <a:lnTo>
                  <a:pt x="159238" y="35911"/>
                </a:lnTo>
                <a:lnTo>
                  <a:pt x="157144" y="30714"/>
                </a:lnTo>
                <a:lnTo>
                  <a:pt x="154900" y="25556"/>
                </a:lnTo>
                <a:lnTo>
                  <a:pt x="152558" y="21270"/>
                </a:lnTo>
                <a:lnTo>
                  <a:pt x="150149" y="17567"/>
                </a:lnTo>
                <a:lnTo>
                  <a:pt x="147698" y="14251"/>
                </a:lnTo>
                <a:lnTo>
                  <a:pt x="145216" y="11194"/>
                </a:lnTo>
                <a:lnTo>
                  <a:pt x="142715" y="8310"/>
                </a:lnTo>
                <a:lnTo>
                  <a:pt x="135173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InkAnnotation131"/>
          <p:cNvSpPr/>
          <p:nvPr/>
        </p:nvSpPr>
        <p:spPr>
          <a:xfrm>
            <a:off x="5827680" y="4245120"/>
            <a:ext cx="154080" cy="150840"/>
          </a:xfrm>
          <a:custGeom>
            <a:avLst/>
            <a:gdLst>
              <a:gd name="textAreaLeft" fmla="*/ 0 w 154080"/>
              <a:gd name="textAreaRight" fmla="*/ 154440 w 1540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4469" h="151815">
                <a:moveTo>
                  <a:pt x="131783" y="7593"/>
                </a:moveTo>
                <a:lnTo>
                  <a:pt x="131783" y="66"/>
                </a:lnTo>
                <a:lnTo>
                  <a:pt x="127737" y="0"/>
                </a:lnTo>
                <a:lnTo>
                  <a:pt x="125699" y="838"/>
                </a:lnTo>
                <a:lnTo>
                  <a:pt x="121177" y="4026"/>
                </a:lnTo>
                <a:lnTo>
                  <a:pt x="117939" y="6908"/>
                </a:lnTo>
                <a:lnTo>
                  <a:pt x="109825" y="14627"/>
                </a:lnTo>
                <a:lnTo>
                  <a:pt x="105291" y="18208"/>
                </a:lnTo>
                <a:lnTo>
                  <a:pt x="100575" y="21443"/>
                </a:lnTo>
                <a:lnTo>
                  <a:pt x="95737" y="24447"/>
                </a:lnTo>
                <a:lnTo>
                  <a:pt x="89972" y="28989"/>
                </a:lnTo>
                <a:lnTo>
                  <a:pt x="83589" y="34557"/>
                </a:lnTo>
                <a:lnTo>
                  <a:pt x="76794" y="40809"/>
                </a:lnTo>
                <a:lnTo>
                  <a:pt x="69723" y="46670"/>
                </a:lnTo>
                <a:lnTo>
                  <a:pt x="62470" y="52271"/>
                </a:lnTo>
                <a:lnTo>
                  <a:pt x="55093" y="57698"/>
                </a:lnTo>
                <a:lnTo>
                  <a:pt x="40125" y="68244"/>
                </a:lnTo>
                <a:lnTo>
                  <a:pt x="32578" y="73427"/>
                </a:lnTo>
                <a:lnTo>
                  <a:pt x="25853" y="78576"/>
                </a:lnTo>
                <a:lnTo>
                  <a:pt x="19676" y="83702"/>
                </a:lnTo>
                <a:lnTo>
                  <a:pt x="13865" y="88812"/>
                </a:lnTo>
                <a:lnTo>
                  <a:pt x="9144" y="94759"/>
                </a:lnTo>
                <a:lnTo>
                  <a:pt x="5150" y="101263"/>
                </a:lnTo>
                <a:lnTo>
                  <a:pt x="1641" y="108140"/>
                </a:lnTo>
                <a:lnTo>
                  <a:pt x="148" y="113571"/>
                </a:lnTo>
                <a:lnTo>
                  <a:pt x="0" y="118038"/>
                </a:lnTo>
                <a:lnTo>
                  <a:pt x="747" y="121863"/>
                </a:lnTo>
                <a:lnTo>
                  <a:pt x="2092" y="126107"/>
                </a:lnTo>
                <a:lnTo>
                  <a:pt x="3836" y="130629"/>
                </a:lnTo>
                <a:lnTo>
                  <a:pt x="5844" y="135337"/>
                </a:lnTo>
                <a:lnTo>
                  <a:pt x="9724" y="139322"/>
                </a:lnTo>
                <a:lnTo>
                  <a:pt x="14850" y="142826"/>
                </a:lnTo>
                <a:lnTo>
                  <a:pt x="20808" y="146008"/>
                </a:lnTo>
                <a:lnTo>
                  <a:pt x="26473" y="148130"/>
                </a:lnTo>
                <a:lnTo>
                  <a:pt x="31943" y="149544"/>
                </a:lnTo>
                <a:lnTo>
                  <a:pt x="37282" y="150487"/>
                </a:lnTo>
                <a:lnTo>
                  <a:pt x="43383" y="151116"/>
                </a:lnTo>
                <a:lnTo>
                  <a:pt x="49989" y="151534"/>
                </a:lnTo>
                <a:lnTo>
                  <a:pt x="56933" y="151814"/>
                </a:lnTo>
                <a:lnTo>
                  <a:pt x="64104" y="151153"/>
                </a:lnTo>
                <a:lnTo>
                  <a:pt x="71423" y="149867"/>
                </a:lnTo>
                <a:lnTo>
                  <a:pt x="78842" y="148162"/>
                </a:lnTo>
                <a:lnTo>
                  <a:pt x="86330" y="145332"/>
                </a:lnTo>
                <a:lnTo>
                  <a:pt x="93860" y="141753"/>
                </a:lnTo>
                <a:lnTo>
                  <a:pt x="101421" y="137673"/>
                </a:lnTo>
                <a:lnTo>
                  <a:pt x="108155" y="133260"/>
                </a:lnTo>
                <a:lnTo>
                  <a:pt x="114338" y="128624"/>
                </a:lnTo>
                <a:lnTo>
                  <a:pt x="120153" y="123840"/>
                </a:lnTo>
                <a:lnTo>
                  <a:pt x="125722" y="118111"/>
                </a:lnTo>
                <a:lnTo>
                  <a:pt x="131129" y="111752"/>
                </a:lnTo>
                <a:lnTo>
                  <a:pt x="136427" y="104972"/>
                </a:lnTo>
                <a:lnTo>
                  <a:pt x="140806" y="97913"/>
                </a:lnTo>
                <a:lnTo>
                  <a:pt x="144571" y="90666"/>
                </a:lnTo>
                <a:lnTo>
                  <a:pt x="147928" y="83295"/>
                </a:lnTo>
                <a:lnTo>
                  <a:pt x="150166" y="76688"/>
                </a:lnTo>
                <a:lnTo>
                  <a:pt x="151658" y="70590"/>
                </a:lnTo>
                <a:lnTo>
                  <a:pt x="152653" y="64830"/>
                </a:lnTo>
                <a:lnTo>
                  <a:pt x="153316" y="59298"/>
                </a:lnTo>
                <a:lnTo>
                  <a:pt x="153759" y="53917"/>
                </a:lnTo>
                <a:lnTo>
                  <a:pt x="154053" y="48636"/>
                </a:lnTo>
                <a:lnTo>
                  <a:pt x="154380" y="38252"/>
                </a:lnTo>
                <a:lnTo>
                  <a:pt x="154468" y="33112"/>
                </a:lnTo>
                <a:lnTo>
                  <a:pt x="153679" y="29686"/>
                </a:lnTo>
                <a:lnTo>
                  <a:pt x="152308" y="27401"/>
                </a:lnTo>
                <a:lnTo>
                  <a:pt x="148524" y="24017"/>
                </a:lnTo>
                <a:lnTo>
                  <a:pt x="144021" y="19690"/>
                </a:lnTo>
                <a:lnTo>
                  <a:pt x="141635" y="18198"/>
                </a:lnTo>
                <a:lnTo>
                  <a:pt x="139197" y="17203"/>
                </a:lnTo>
                <a:lnTo>
                  <a:pt x="131783" y="1521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InkAnnotation132"/>
          <p:cNvSpPr/>
          <p:nvPr/>
        </p:nvSpPr>
        <p:spPr>
          <a:xfrm>
            <a:off x="5838840" y="4365720"/>
            <a:ext cx="150840" cy="1587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8760"/>
              <a:gd name="textAreaBottom" fmla="*/ 158760 h 158760"/>
            </a:gdLst>
            <a:ahLst/>
            <a:rect l="textAreaLeft" t="textAreaTop" r="textAreaRight" b="textAreaBottom"/>
            <a:pathLst>
              <a:path w="150291" h="158070">
                <a:moveTo>
                  <a:pt x="150290" y="22860"/>
                </a:moveTo>
                <a:lnTo>
                  <a:pt x="146245" y="22860"/>
                </a:lnTo>
                <a:lnTo>
                  <a:pt x="144207" y="23707"/>
                </a:lnTo>
                <a:lnTo>
                  <a:pt x="139685" y="26905"/>
                </a:lnTo>
                <a:lnTo>
                  <a:pt x="136447" y="28097"/>
                </a:lnTo>
                <a:lnTo>
                  <a:pt x="132594" y="28891"/>
                </a:lnTo>
                <a:lnTo>
                  <a:pt x="128333" y="29421"/>
                </a:lnTo>
                <a:lnTo>
                  <a:pt x="122952" y="31467"/>
                </a:lnTo>
                <a:lnTo>
                  <a:pt x="116825" y="34525"/>
                </a:lnTo>
                <a:lnTo>
                  <a:pt x="110200" y="38257"/>
                </a:lnTo>
                <a:lnTo>
                  <a:pt x="103243" y="42438"/>
                </a:lnTo>
                <a:lnTo>
                  <a:pt x="88741" y="51599"/>
                </a:lnTo>
                <a:lnTo>
                  <a:pt x="80471" y="56413"/>
                </a:lnTo>
                <a:lnTo>
                  <a:pt x="71570" y="61315"/>
                </a:lnTo>
                <a:lnTo>
                  <a:pt x="62250" y="66277"/>
                </a:lnTo>
                <a:lnTo>
                  <a:pt x="53497" y="71278"/>
                </a:lnTo>
                <a:lnTo>
                  <a:pt x="45121" y="76306"/>
                </a:lnTo>
                <a:lnTo>
                  <a:pt x="36998" y="81350"/>
                </a:lnTo>
                <a:lnTo>
                  <a:pt x="29889" y="86407"/>
                </a:lnTo>
                <a:lnTo>
                  <a:pt x="23456" y="91472"/>
                </a:lnTo>
                <a:lnTo>
                  <a:pt x="17474" y="96541"/>
                </a:lnTo>
                <a:lnTo>
                  <a:pt x="12639" y="101614"/>
                </a:lnTo>
                <a:lnTo>
                  <a:pt x="8569" y="106689"/>
                </a:lnTo>
                <a:lnTo>
                  <a:pt x="5009" y="111766"/>
                </a:lnTo>
                <a:lnTo>
                  <a:pt x="2636" y="116844"/>
                </a:lnTo>
                <a:lnTo>
                  <a:pt x="1055" y="121923"/>
                </a:lnTo>
                <a:lnTo>
                  <a:pt x="0" y="127002"/>
                </a:lnTo>
                <a:lnTo>
                  <a:pt x="990" y="132081"/>
                </a:lnTo>
                <a:lnTo>
                  <a:pt x="3343" y="137161"/>
                </a:lnTo>
                <a:lnTo>
                  <a:pt x="6606" y="142241"/>
                </a:lnTo>
                <a:lnTo>
                  <a:pt x="10474" y="146474"/>
                </a:lnTo>
                <a:lnTo>
                  <a:pt x="14746" y="150143"/>
                </a:lnTo>
                <a:lnTo>
                  <a:pt x="19288" y="153435"/>
                </a:lnTo>
                <a:lnTo>
                  <a:pt x="24008" y="155630"/>
                </a:lnTo>
                <a:lnTo>
                  <a:pt x="28849" y="157094"/>
                </a:lnTo>
                <a:lnTo>
                  <a:pt x="33769" y="158069"/>
                </a:lnTo>
                <a:lnTo>
                  <a:pt x="39589" y="157873"/>
                </a:lnTo>
                <a:lnTo>
                  <a:pt x="46010" y="156895"/>
                </a:lnTo>
                <a:lnTo>
                  <a:pt x="52830" y="155397"/>
                </a:lnTo>
                <a:lnTo>
                  <a:pt x="59917" y="153551"/>
                </a:lnTo>
                <a:lnTo>
                  <a:pt x="67181" y="151474"/>
                </a:lnTo>
                <a:lnTo>
                  <a:pt x="74564" y="149243"/>
                </a:lnTo>
                <a:lnTo>
                  <a:pt x="82027" y="146062"/>
                </a:lnTo>
                <a:lnTo>
                  <a:pt x="89541" y="142248"/>
                </a:lnTo>
                <a:lnTo>
                  <a:pt x="97091" y="138012"/>
                </a:lnTo>
                <a:lnTo>
                  <a:pt x="103817" y="132648"/>
                </a:lnTo>
                <a:lnTo>
                  <a:pt x="109995" y="126532"/>
                </a:lnTo>
                <a:lnTo>
                  <a:pt x="115807" y="119915"/>
                </a:lnTo>
                <a:lnTo>
                  <a:pt x="121375" y="112116"/>
                </a:lnTo>
                <a:lnTo>
                  <a:pt x="126780" y="103531"/>
                </a:lnTo>
                <a:lnTo>
                  <a:pt x="132077" y="94421"/>
                </a:lnTo>
                <a:lnTo>
                  <a:pt x="135608" y="85807"/>
                </a:lnTo>
                <a:lnTo>
                  <a:pt x="137962" y="77525"/>
                </a:lnTo>
                <a:lnTo>
                  <a:pt x="139531" y="69463"/>
                </a:lnTo>
                <a:lnTo>
                  <a:pt x="140578" y="61549"/>
                </a:lnTo>
                <a:lnTo>
                  <a:pt x="141275" y="53733"/>
                </a:lnTo>
                <a:lnTo>
                  <a:pt x="142050" y="39968"/>
                </a:lnTo>
                <a:lnTo>
                  <a:pt x="142394" y="31028"/>
                </a:lnTo>
                <a:lnTo>
                  <a:pt x="141640" y="26612"/>
                </a:lnTo>
                <a:lnTo>
                  <a:pt x="140290" y="21974"/>
                </a:lnTo>
                <a:lnTo>
                  <a:pt x="138544" y="17189"/>
                </a:lnTo>
                <a:lnTo>
                  <a:pt x="136532" y="13999"/>
                </a:lnTo>
                <a:lnTo>
                  <a:pt x="134345" y="11873"/>
                </a:lnTo>
                <a:lnTo>
                  <a:pt x="132040" y="10455"/>
                </a:lnTo>
                <a:lnTo>
                  <a:pt x="128811" y="8664"/>
                </a:lnTo>
                <a:lnTo>
                  <a:pt x="120705" y="4415"/>
                </a:lnTo>
                <a:lnTo>
                  <a:pt x="117021" y="2943"/>
                </a:lnTo>
                <a:lnTo>
                  <a:pt x="113717" y="1962"/>
                </a:lnTo>
                <a:lnTo>
                  <a:pt x="10457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InkAnnotation133"/>
          <p:cNvSpPr/>
          <p:nvPr/>
        </p:nvSpPr>
        <p:spPr>
          <a:xfrm>
            <a:off x="4678200" y="4686480"/>
            <a:ext cx="443160" cy="21960"/>
          </a:xfrm>
          <a:custGeom>
            <a:avLst/>
            <a:gdLst>
              <a:gd name="textAreaLeft" fmla="*/ 0 w 443160"/>
              <a:gd name="textAreaRight" fmla="*/ 443520 w 443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41962" h="22833">
                <a:moveTo>
                  <a:pt x="0" y="15212"/>
                </a:moveTo>
                <a:lnTo>
                  <a:pt x="0" y="11167"/>
                </a:lnTo>
                <a:lnTo>
                  <a:pt x="846" y="9975"/>
                </a:lnTo>
                <a:lnTo>
                  <a:pt x="2258" y="9181"/>
                </a:lnTo>
                <a:lnTo>
                  <a:pt x="4045" y="8651"/>
                </a:lnTo>
                <a:lnTo>
                  <a:pt x="8289" y="8062"/>
                </a:lnTo>
                <a:lnTo>
                  <a:pt x="21957" y="7685"/>
                </a:lnTo>
                <a:lnTo>
                  <a:pt x="28185" y="6807"/>
                </a:lnTo>
                <a:lnTo>
                  <a:pt x="35723" y="5376"/>
                </a:lnTo>
                <a:lnTo>
                  <a:pt x="44136" y="3574"/>
                </a:lnTo>
                <a:lnTo>
                  <a:pt x="53130" y="2374"/>
                </a:lnTo>
                <a:lnTo>
                  <a:pt x="62513" y="1573"/>
                </a:lnTo>
                <a:lnTo>
                  <a:pt x="72156" y="1039"/>
                </a:lnTo>
                <a:lnTo>
                  <a:pt x="94159" y="446"/>
                </a:lnTo>
                <a:lnTo>
                  <a:pt x="191105" y="0"/>
                </a:lnTo>
                <a:lnTo>
                  <a:pt x="206144" y="837"/>
                </a:lnTo>
                <a:lnTo>
                  <a:pt x="221249" y="2242"/>
                </a:lnTo>
                <a:lnTo>
                  <a:pt x="236399" y="4025"/>
                </a:lnTo>
                <a:lnTo>
                  <a:pt x="252426" y="5214"/>
                </a:lnTo>
                <a:lnTo>
                  <a:pt x="269038" y="6007"/>
                </a:lnTo>
                <a:lnTo>
                  <a:pt x="286038" y="6535"/>
                </a:lnTo>
                <a:lnTo>
                  <a:pt x="302453" y="7734"/>
                </a:lnTo>
                <a:lnTo>
                  <a:pt x="318475" y="9380"/>
                </a:lnTo>
                <a:lnTo>
                  <a:pt x="398731" y="19680"/>
                </a:lnTo>
                <a:lnTo>
                  <a:pt x="410601" y="20731"/>
                </a:lnTo>
                <a:lnTo>
                  <a:pt x="441961" y="2283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InkAnnotation134"/>
          <p:cNvSpPr/>
          <p:nvPr/>
        </p:nvSpPr>
        <p:spPr>
          <a:xfrm>
            <a:off x="5524560" y="4656240"/>
            <a:ext cx="555480" cy="21960"/>
          </a:xfrm>
          <a:custGeom>
            <a:avLst/>
            <a:gdLst>
              <a:gd name="textAreaLeft" fmla="*/ 0 w 555480"/>
              <a:gd name="textAreaRight" fmla="*/ 555840 w 555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56261" h="22861">
                <a:moveTo>
                  <a:pt x="0" y="22860"/>
                </a:moveTo>
                <a:lnTo>
                  <a:pt x="8091" y="22860"/>
                </a:lnTo>
                <a:lnTo>
                  <a:pt x="13860" y="22013"/>
                </a:lnTo>
                <a:lnTo>
                  <a:pt x="21094" y="20602"/>
                </a:lnTo>
                <a:lnTo>
                  <a:pt x="29303" y="18815"/>
                </a:lnTo>
                <a:lnTo>
                  <a:pt x="35622" y="17623"/>
                </a:lnTo>
                <a:lnTo>
                  <a:pt x="40681" y="16829"/>
                </a:lnTo>
                <a:lnTo>
                  <a:pt x="44900" y="16299"/>
                </a:lnTo>
                <a:lnTo>
                  <a:pt x="60878" y="15711"/>
                </a:lnTo>
                <a:lnTo>
                  <a:pt x="109675" y="15333"/>
                </a:lnTo>
                <a:lnTo>
                  <a:pt x="123070" y="14455"/>
                </a:lnTo>
                <a:lnTo>
                  <a:pt x="136233" y="13024"/>
                </a:lnTo>
                <a:lnTo>
                  <a:pt x="149242" y="11223"/>
                </a:lnTo>
                <a:lnTo>
                  <a:pt x="162148" y="10022"/>
                </a:lnTo>
                <a:lnTo>
                  <a:pt x="174985" y="9221"/>
                </a:lnTo>
                <a:lnTo>
                  <a:pt x="187777" y="8687"/>
                </a:lnTo>
                <a:lnTo>
                  <a:pt x="200538" y="7485"/>
                </a:lnTo>
                <a:lnTo>
                  <a:pt x="213279" y="5837"/>
                </a:lnTo>
                <a:lnTo>
                  <a:pt x="226006" y="3891"/>
                </a:lnTo>
                <a:lnTo>
                  <a:pt x="239570" y="2594"/>
                </a:lnTo>
                <a:lnTo>
                  <a:pt x="253694" y="1729"/>
                </a:lnTo>
                <a:lnTo>
                  <a:pt x="282933" y="769"/>
                </a:lnTo>
                <a:lnTo>
                  <a:pt x="358271" y="101"/>
                </a:lnTo>
                <a:lnTo>
                  <a:pt x="556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InkAnnotation135"/>
          <p:cNvSpPr/>
          <p:nvPr/>
        </p:nvSpPr>
        <p:spPr>
          <a:xfrm>
            <a:off x="4749840" y="4741920"/>
            <a:ext cx="171360" cy="85680"/>
          </a:xfrm>
          <a:custGeom>
            <a:avLst/>
            <a:gdLst>
              <a:gd name="textAreaLeft" fmla="*/ 0 w 171360"/>
              <a:gd name="textAreaRight" fmla="*/ 171360 w 1713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71266" h="86165">
                <a:moveTo>
                  <a:pt x="81845" y="13705"/>
                </a:moveTo>
                <a:lnTo>
                  <a:pt x="77800" y="17750"/>
                </a:lnTo>
                <a:lnTo>
                  <a:pt x="74915" y="18942"/>
                </a:lnTo>
                <a:lnTo>
                  <a:pt x="71299" y="19736"/>
                </a:lnTo>
                <a:lnTo>
                  <a:pt x="67194" y="20266"/>
                </a:lnTo>
                <a:lnTo>
                  <a:pt x="61918" y="21465"/>
                </a:lnTo>
                <a:lnTo>
                  <a:pt x="55860" y="23112"/>
                </a:lnTo>
                <a:lnTo>
                  <a:pt x="49282" y="25057"/>
                </a:lnTo>
                <a:lnTo>
                  <a:pt x="43203" y="27199"/>
                </a:lnTo>
                <a:lnTo>
                  <a:pt x="37457" y="29475"/>
                </a:lnTo>
                <a:lnTo>
                  <a:pt x="31933" y="31838"/>
                </a:lnTo>
                <a:lnTo>
                  <a:pt x="26557" y="35107"/>
                </a:lnTo>
                <a:lnTo>
                  <a:pt x="21280" y="38980"/>
                </a:lnTo>
                <a:lnTo>
                  <a:pt x="16068" y="43255"/>
                </a:lnTo>
                <a:lnTo>
                  <a:pt x="11747" y="46951"/>
                </a:lnTo>
                <a:lnTo>
                  <a:pt x="8020" y="50263"/>
                </a:lnTo>
                <a:lnTo>
                  <a:pt x="4688" y="53317"/>
                </a:lnTo>
                <a:lnTo>
                  <a:pt x="2467" y="56200"/>
                </a:lnTo>
                <a:lnTo>
                  <a:pt x="986" y="58968"/>
                </a:lnTo>
                <a:lnTo>
                  <a:pt x="0" y="61661"/>
                </a:lnTo>
                <a:lnTo>
                  <a:pt x="188" y="65149"/>
                </a:lnTo>
                <a:lnTo>
                  <a:pt x="1160" y="69168"/>
                </a:lnTo>
                <a:lnTo>
                  <a:pt x="2656" y="73540"/>
                </a:lnTo>
                <a:lnTo>
                  <a:pt x="6192" y="76455"/>
                </a:lnTo>
                <a:lnTo>
                  <a:pt x="11090" y="78399"/>
                </a:lnTo>
                <a:lnTo>
                  <a:pt x="16895" y="79694"/>
                </a:lnTo>
                <a:lnTo>
                  <a:pt x="23305" y="81405"/>
                </a:lnTo>
                <a:lnTo>
                  <a:pt x="37201" y="85563"/>
                </a:lnTo>
                <a:lnTo>
                  <a:pt x="45308" y="86164"/>
                </a:lnTo>
                <a:lnTo>
                  <a:pt x="54100" y="85718"/>
                </a:lnTo>
                <a:lnTo>
                  <a:pt x="63349" y="84573"/>
                </a:lnTo>
                <a:lnTo>
                  <a:pt x="72054" y="83811"/>
                </a:lnTo>
                <a:lnTo>
                  <a:pt x="80398" y="83303"/>
                </a:lnTo>
                <a:lnTo>
                  <a:pt x="88500" y="82963"/>
                </a:lnTo>
                <a:lnTo>
                  <a:pt x="97288" y="81044"/>
                </a:lnTo>
                <a:lnTo>
                  <a:pt x="106534" y="78071"/>
                </a:lnTo>
                <a:lnTo>
                  <a:pt x="116084" y="74396"/>
                </a:lnTo>
                <a:lnTo>
                  <a:pt x="124145" y="71099"/>
                </a:lnTo>
                <a:lnTo>
                  <a:pt x="131211" y="68055"/>
                </a:lnTo>
                <a:lnTo>
                  <a:pt x="137616" y="65178"/>
                </a:lnTo>
                <a:lnTo>
                  <a:pt x="143579" y="61567"/>
                </a:lnTo>
                <a:lnTo>
                  <a:pt x="149247" y="57466"/>
                </a:lnTo>
                <a:lnTo>
                  <a:pt x="154720" y="53039"/>
                </a:lnTo>
                <a:lnTo>
                  <a:pt x="159215" y="49241"/>
                </a:lnTo>
                <a:lnTo>
                  <a:pt x="163059" y="45862"/>
                </a:lnTo>
                <a:lnTo>
                  <a:pt x="166467" y="42763"/>
                </a:lnTo>
                <a:lnTo>
                  <a:pt x="168739" y="39004"/>
                </a:lnTo>
                <a:lnTo>
                  <a:pt x="170255" y="34804"/>
                </a:lnTo>
                <a:lnTo>
                  <a:pt x="171265" y="30311"/>
                </a:lnTo>
                <a:lnTo>
                  <a:pt x="171091" y="26469"/>
                </a:lnTo>
                <a:lnTo>
                  <a:pt x="170129" y="23061"/>
                </a:lnTo>
                <a:lnTo>
                  <a:pt x="168641" y="19942"/>
                </a:lnTo>
                <a:lnTo>
                  <a:pt x="165956" y="17016"/>
                </a:lnTo>
                <a:lnTo>
                  <a:pt x="162472" y="14219"/>
                </a:lnTo>
                <a:lnTo>
                  <a:pt x="158456" y="11508"/>
                </a:lnTo>
                <a:lnTo>
                  <a:pt x="153239" y="8854"/>
                </a:lnTo>
                <a:lnTo>
                  <a:pt x="147221" y="6238"/>
                </a:lnTo>
                <a:lnTo>
                  <a:pt x="140669" y="3647"/>
                </a:lnTo>
                <a:lnTo>
                  <a:pt x="133761" y="1920"/>
                </a:lnTo>
                <a:lnTo>
                  <a:pt x="126616" y="768"/>
                </a:lnTo>
                <a:lnTo>
                  <a:pt x="119312" y="0"/>
                </a:lnTo>
                <a:lnTo>
                  <a:pt x="111903" y="1182"/>
                </a:lnTo>
                <a:lnTo>
                  <a:pt x="104424" y="3663"/>
                </a:lnTo>
                <a:lnTo>
                  <a:pt x="96897" y="7010"/>
                </a:lnTo>
                <a:lnTo>
                  <a:pt x="89339" y="10088"/>
                </a:lnTo>
                <a:lnTo>
                  <a:pt x="81762" y="12988"/>
                </a:lnTo>
                <a:lnTo>
                  <a:pt x="74170" y="15767"/>
                </a:lnTo>
                <a:lnTo>
                  <a:pt x="66568" y="19313"/>
                </a:lnTo>
                <a:lnTo>
                  <a:pt x="58961" y="23370"/>
                </a:lnTo>
                <a:lnTo>
                  <a:pt x="51349" y="27768"/>
                </a:lnTo>
                <a:lnTo>
                  <a:pt x="44581" y="32394"/>
                </a:lnTo>
                <a:lnTo>
                  <a:pt x="38376" y="37171"/>
                </a:lnTo>
                <a:lnTo>
                  <a:pt x="32545" y="42049"/>
                </a:lnTo>
                <a:lnTo>
                  <a:pt x="27813" y="46994"/>
                </a:lnTo>
                <a:lnTo>
                  <a:pt x="23809" y="51985"/>
                </a:lnTo>
                <a:lnTo>
                  <a:pt x="20295" y="57005"/>
                </a:lnTo>
                <a:lnTo>
                  <a:pt x="17105" y="61198"/>
                </a:lnTo>
                <a:lnTo>
                  <a:pt x="14132" y="64841"/>
                </a:lnTo>
                <a:lnTo>
                  <a:pt x="5645" y="7466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InkAnnotation136"/>
          <p:cNvSpPr/>
          <p:nvPr/>
        </p:nvSpPr>
        <p:spPr>
          <a:xfrm>
            <a:off x="4756320" y="4840200"/>
            <a:ext cx="150480" cy="95400"/>
          </a:xfrm>
          <a:custGeom>
            <a:avLst/>
            <a:gdLst>
              <a:gd name="textAreaLeft" fmla="*/ 0 w 150480"/>
              <a:gd name="textAreaRight" fmla="*/ 150840 w 1504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49521" h="96365">
                <a:moveTo>
                  <a:pt x="74261" y="14173"/>
                </a:moveTo>
                <a:lnTo>
                  <a:pt x="74261" y="6646"/>
                </a:lnTo>
                <a:lnTo>
                  <a:pt x="72003" y="4337"/>
                </a:lnTo>
                <a:lnTo>
                  <a:pt x="67700" y="0"/>
                </a:lnTo>
                <a:lnTo>
                  <a:pt x="66501" y="491"/>
                </a:lnTo>
                <a:lnTo>
                  <a:pt x="62910" y="3294"/>
                </a:lnTo>
                <a:lnTo>
                  <a:pt x="60767" y="4380"/>
                </a:lnTo>
                <a:lnTo>
                  <a:pt x="56129" y="5587"/>
                </a:lnTo>
                <a:lnTo>
                  <a:pt x="52859" y="7602"/>
                </a:lnTo>
                <a:lnTo>
                  <a:pt x="48986" y="10639"/>
                </a:lnTo>
                <a:lnTo>
                  <a:pt x="44711" y="14357"/>
                </a:lnTo>
                <a:lnTo>
                  <a:pt x="40168" y="17683"/>
                </a:lnTo>
                <a:lnTo>
                  <a:pt x="35445" y="20746"/>
                </a:lnTo>
                <a:lnTo>
                  <a:pt x="30605" y="23635"/>
                </a:lnTo>
                <a:lnTo>
                  <a:pt x="25683" y="27255"/>
                </a:lnTo>
                <a:lnTo>
                  <a:pt x="20710" y="31360"/>
                </a:lnTo>
                <a:lnTo>
                  <a:pt x="11513" y="39592"/>
                </a:lnTo>
                <a:lnTo>
                  <a:pt x="4605" y="46072"/>
                </a:lnTo>
                <a:lnTo>
                  <a:pt x="2423" y="49832"/>
                </a:lnTo>
                <a:lnTo>
                  <a:pt x="969" y="54033"/>
                </a:lnTo>
                <a:lnTo>
                  <a:pt x="0" y="58526"/>
                </a:lnTo>
                <a:lnTo>
                  <a:pt x="200" y="63215"/>
                </a:lnTo>
                <a:lnTo>
                  <a:pt x="1180" y="68034"/>
                </a:lnTo>
                <a:lnTo>
                  <a:pt x="2681" y="72940"/>
                </a:lnTo>
                <a:lnTo>
                  <a:pt x="5374" y="77058"/>
                </a:lnTo>
                <a:lnTo>
                  <a:pt x="8864" y="80649"/>
                </a:lnTo>
                <a:lnTo>
                  <a:pt x="12883" y="83891"/>
                </a:lnTo>
                <a:lnTo>
                  <a:pt x="17255" y="86898"/>
                </a:lnTo>
                <a:lnTo>
                  <a:pt x="21864" y="89750"/>
                </a:lnTo>
                <a:lnTo>
                  <a:pt x="26630" y="92497"/>
                </a:lnTo>
                <a:lnTo>
                  <a:pt x="33194" y="94329"/>
                </a:lnTo>
                <a:lnTo>
                  <a:pt x="40956" y="95550"/>
                </a:lnTo>
                <a:lnTo>
                  <a:pt x="49518" y="96364"/>
                </a:lnTo>
                <a:lnTo>
                  <a:pt x="58612" y="96061"/>
                </a:lnTo>
                <a:lnTo>
                  <a:pt x="68062" y="95011"/>
                </a:lnTo>
                <a:lnTo>
                  <a:pt x="77749" y="93465"/>
                </a:lnTo>
                <a:lnTo>
                  <a:pt x="86746" y="92434"/>
                </a:lnTo>
                <a:lnTo>
                  <a:pt x="95284" y="91747"/>
                </a:lnTo>
                <a:lnTo>
                  <a:pt x="103517" y="91289"/>
                </a:lnTo>
                <a:lnTo>
                  <a:pt x="110698" y="89290"/>
                </a:lnTo>
                <a:lnTo>
                  <a:pt x="117179" y="86264"/>
                </a:lnTo>
                <a:lnTo>
                  <a:pt x="123193" y="82553"/>
                </a:lnTo>
                <a:lnTo>
                  <a:pt x="128896" y="79233"/>
                </a:lnTo>
                <a:lnTo>
                  <a:pt x="139748" y="73287"/>
                </a:lnTo>
                <a:lnTo>
                  <a:pt x="143319" y="69668"/>
                </a:lnTo>
                <a:lnTo>
                  <a:pt x="145699" y="65563"/>
                </a:lnTo>
                <a:lnTo>
                  <a:pt x="147287" y="61133"/>
                </a:lnTo>
                <a:lnTo>
                  <a:pt x="148345" y="57333"/>
                </a:lnTo>
                <a:lnTo>
                  <a:pt x="149050" y="53953"/>
                </a:lnTo>
                <a:lnTo>
                  <a:pt x="149520" y="50853"/>
                </a:lnTo>
                <a:lnTo>
                  <a:pt x="148987" y="47093"/>
                </a:lnTo>
                <a:lnTo>
                  <a:pt x="147785" y="42893"/>
                </a:lnTo>
                <a:lnTo>
                  <a:pt x="146137" y="38400"/>
                </a:lnTo>
                <a:lnTo>
                  <a:pt x="144192" y="34557"/>
                </a:lnTo>
                <a:lnTo>
                  <a:pt x="142048" y="31149"/>
                </a:lnTo>
                <a:lnTo>
                  <a:pt x="139773" y="28030"/>
                </a:lnTo>
                <a:lnTo>
                  <a:pt x="136562" y="25951"/>
                </a:lnTo>
                <a:lnTo>
                  <a:pt x="132729" y="24565"/>
                </a:lnTo>
                <a:lnTo>
                  <a:pt x="128479" y="23641"/>
                </a:lnTo>
                <a:lnTo>
                  <a:pt x="124800" y="22178"/>
                </a:lnTo>
                <a:lnTo>
                  <a:pt x="121501" y="20357"/>
                </a:lnTo>
                <a:lnTo>
                  <a:pt x="118454" y="18295"/>
                </a:lnTo>
                <a:lnTo>
                  <a:pt x="115576" y="17768"/>
                </a:lnTo>
                <a:lnTo>
                  <a:pt x="112812" y="18263"/>
                </a:lnTo>
                <a:lnTo>
                  <a:pt x="106335" y="21096"/>
                </a:lnTo>
                <a:lnTo>
                  <a:pt x="103191" y="21483"/>
                </a:lnTo>
                <a:lnTo>
                  <a:pt x="97122" y="2179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InkAnnotation137"/>
          <p:cNvSpPr/>
          <p:nvPr/>
        </p:nvSpPr>
        <p:spPr>
          <a:xfrm>
            <a:off x="5695920" y="4686480"/>
            <a:ext cx="163440" cy="134640"/>
          </a:xfrm>
          <a:custGeom>
            <a:avLst/>
            <a:gdLst>
              <a:gd name="textAreaLeft" fmla="*/ 0 w 163440"/>
              <a:gd name="textAreaRight" fmla="*/ 163800 w 163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62430" h="135516">
                <a:moveTo>
                  <a:pt x="86855" y="0"/>
                </a:moveTo>
                <a:lnTo>
                  <a:pt x="76249" y="0"/>
                </a:lnTo>
                <a:lnTo>
                  <a:pt x="73858" y="846"/>
                </a:lnTo>
                <a:lnTo>
                  <a:pt x="68943" y="4045"/>
                </a:lnTo>
                <a:lnTo>
                  <a:pt x="65600" y="6083"/>
                </a:lnTo>
                <a:lnTo>
                  <a:pt x="61679" y="8289"/>
                </a:lnTo>
                <a:lnTo>
                  <a:pt x="57371" y="10606"/>
                </a:lnTo>
                <a:lnTo>
                  <a:pt x="51959" y="12997"/>
                </a:lnTo>
                <a:lnTo>
                  <a:pt x="45811" y="15438"/>
                </a:lnTo>
                <a:lnTo>
                  <a:pt x="39172" y="17912"/>
                </a:lnTo>
                <a:lnTo>
                  <a:pt x="33053" y="21255"/>
                </a:lnTo>
                <a:lnTo>
                  <a:pt x="27281" y="25176"/>
                </a:lnTo>
                <a:lnTo>
                  <a:pt x="21739" y="29484"/>
                </a:lnTo>
                <a:lnTo>
                  <a:pt x="17198" y="34049"/>
                </a:lnTo>
                <a:lnTo>
                  <a:pt x="13323" y="38786"/>
                </a:lnTo>
                <a:lnTo>
                  <a:pt x="9894" y="43637"/>
                </a:lnTo>
                <a:lnTo>
                  <a:pt x="6761" y="48565"/>
                </a:lnTo>
                <a:lnTo>
                  <a:pt x="3825" y="53543"/>
                </a:lnTo>
                <a:lnTo>
                  <a:pt x="1023" y="58555"/>
                </a:lnTo>
                <a:lnTo>
                  <a:pt x="0" y="64437"/>
                </a:lnTo>
                <a:lnTo>
                  <a:pt x="165" y="70898"/>
                </a:lnTo>
                <a:lnTo>
                  <a:pt x="1121" y="77745"/>
                </a:lnTo>
                <a:lnTo>
                  <a:pt x="2607" y="84004"/>
                </a:lnTo>
                <a:lnTo>
                  <a:pt x="4442" y="89869"/>
                </a:lnTo>
                <a:lnTo>
                  <a:pt x="6514" y="95473"/>
                </a:lnTo>
                <a:lnTo>
                  <a:pt x="10434" y="100902"/>
                </a:lnTo>
                <a:lnTo>
                  <a:pt x="15588" y="106214"/>
                </a:lnTo>
                <a:lnTo>
                  <a:pt x="21564" y="111449"/>
                </a:lnTo>
                <a:lnTo>
                  <a:pt x="28934" y="115786"/>
                </a:lnTo>
                <a:lnTo>
                  <a:pt x="37234" y="119524"/>
                </a:lnTo>
                <a:lnTo>
                  <a:pt x="54641" y="125935"/>
                </a:lnTo>
                <a:lnTo>
                  <a:pt x="70845" y="131607"/>
                </a:lnTo>
                <a:lnTo>
                  <a:pt x="79569" y="133458"/>
                </a:lnTo>
                <a:lnTo>
                  <a:pt x="88771" y="134692"/>
                </a:lnTo>
                <a:lnTo>
                  <a:pt x="98292" y="135515"/>
                </a:lnTo>
                <a:lnTo>
                  <a:pt x="107180" y="135217"/>
                </a:lnTo>
                <a:lnTo>
                  <a:pt x="115645" y="134171"/>
                </a:lnTo>
                <a:lnTo>
                  <a:pt x="123828" y="132627"/>
                </a:lnTo>
                <a:lnTo>
                  <a:pt x="130977" y="130752"/>
                </a:lnTo>
                <a:lnTo>
                  <a:pt x="137436" y="128655"/>
                </a:lnTo>
                <a:lnTo>
                  <a:pt x="143436" y="126409"/>
                </a:lnTo>
                <a:lnTo>
                  <a:pt x="148283" y="123220"/>
                </a:lnTo>
                <a:lnTo>
                  <a:pt x="152360" y="119400"/>
                </a:lnTo>
                <a:lnTo>
                  <a:pt x="155925" y="115160"/>
                </a:lnTo>
                <a:lnTo>
                  <a:pt x="158301" y="110640"/>
                </a:lnTo>
                <a:lnTo>
                  <a:pt x="159887" y="105933"/>
                </a:lnTo>
                <a:lnTo>
                  <a:pt x="160943" y="101102"/>
                </a:lnTo>
                <a:lnTo>
                  <a:pt x="161647" y="95341"/>
                </a:lnTo>
                <a:lnTo>
                  <a:pt x="162116" y="88961"/>
                </a:lnTo>
                <a:lnTo>
                  <a:pt x="162429" y="82167"/>
                </a:lnTo>
                <a:lnTo>
                  <a:pt x="161791" y="75945"/>
                </a:lnTo>
                <a:lnTo>
                  <a:pt x="160520" y="70103"/>
                </a:lnTo>
                <a:lnTo>
                  <a:pt x="158825" y="64515"/>
                </a:lnTo>
                <a:lnTo>
                  <a:pt x="156002" y="59097"/>
                </a:lnTo>
                <a:lnTo>
                  <a:pt x="152426" y="53792"/>
                </a:lnTo>
                <a:lnTo>
                  <a:pt x="148349" y="48561"/>
                </a:lnTo>
                <a:lnTo>
                  <a:pt x="143938" y="44228"/>
                </a:lnTo>
                <a:lnTo>
                  <a:pt x="139304" y="40491"/>
                </a:lnTo>
                <a:lnTo>
                  <a:pt x="134521" y="37154"/>
                </a:lnTo>
                <a:lnTo>
                  <a:pt x="129639" y="34929"/>
                </a:lnTo>
                <a:lnTo>
                  <a:pt x="124691" y="33446"/>
                </a:lnTo>
                <a:lnTo>
                  <a:pt x="119699" y="32457"/>
                </a:lnTo>
                <a:lnTo>
                  <a:pt x="115524" y="31798"/>
                </a:lnTo>
                <a:lnTo>
                  <a:pt x="111895" y="31359"/>
                </a:lnTo>
                <a:lnTo>
                  <a:pt x="108628" y="31066"/>
                </a:lnTo>
                <a:lnTo>
                  <a:pt x="105604" y="30870"/>
                </a:lnTo>
                <a:lnTo>
                  <a:pt x="94475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InkAnnotation138"/>
          <p:cNvSpPr/>
          <p:nvPr/>
        </p:nvSpPr>
        <p:spPr>
          <a:xfrm>
            <a:off x="5659560" y="4792680"/>
            <a:ext cx="153720" cy="114120"/>
          </a:xfrm>
          <a:custGeom>
            <a:avLst/>
            <a:gdLst>
              <a:gd name="textAreaLeft" fmla="*/ 0 w 153720"/>
              <a:gd name="textAreaRight" fmla="*/ 154080 w 153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3913" h="113437">
                <a:moveTo>
                  <a:pt x="124024" y="7306"/>
                </a:moveTo>
                <a:lnTo>
                  <a:pt x="124024" y="745"/>
                </a:lnTo>
                <a:lnTo>
                  <a:pt x="123177" y="392"/>
                </a:lnTo>
                <a:lnTo>
                  <a:pt x="119979" y="0"/>
                </a:lnTo>
                <a:lnTo>
                  <a:pt x="117941" y="742"/>
                </a:lnTo>
                <a:lnTo>
                  <a:pt x="113418" y="3824"/>
                </a:lnTo>
                <a:lnTo>
                  <a:pt x="110181" y="4985"/>
                </a:lnTo>
                <a:lnTo>
                  <a:pt x="106328" y="5759"/>
                </a:lnTo>
                <a:lnTo>
                  <a:pt x="102067" y="6274"/>
                </a:lnTo>
                <a:lnTo>
                  <a:pt x="96686" y="7465"/>
                </a:lnTo>
                <a:lnTo>
                  <a:pt x="90559" y="9105"/>
                </a:lnTo>
                <a:lnTo>
                  <a:pt x="83933" y="11045"/>
                </a:lnTo>
                <a:lnTo>
                  <a:pt x="76977" y="14032"/>
                </a:lnTo>
                <a:lnTo>
                  <a:pt x="69799" y="17717"/>
                </a:lnTo>
                <a:lnTo>
                  <a:pt x="62474" y="21866"/>
                </a:lnTo>
                <a:lnTo>
                  <a:pt x="54205" y="25480"/>
                </a:lnTo>
                <a:lnTo>
                  <a:pt x="45305" y="28735"/>
                </a:lnTo>
                <a:lnTo>
                  <a:pt x="35984" y="31752"/>
                </a:lnTo>
                <a:lnTo>
                  <a:pt x="28078" y="35457"/>
                </a:lnTo>
                <a:lnTo>
                  <a:pt x="21114" y="39620"/>
                </a:lnTo>
                <a:lnTo>
                  <a:pt x="14777" y="44088"/>
                </a:lnTo>
                <a:lnTo>
                  <a:pt x="9706" y="48761"/>
                </a:lnTo>
                <a:lnTo>
                  <a:pt x="5479" y="53569"/>
                </a:lnTo>
                <a:lnTo>
                  <a:pt x="1814" y="58468"/>
                </a:lnTo>
                <a:lnTo>
                  <a:pt x="218" y="63427"/>
                </a:lnTo>
                <a:lnTo>
                  <a:pt x="0" y="68427"/>
                </a:lnTo>
                <a:lnTo>
                  <a:pt x="701" y="73453"/>
                </a:lnTo>
                <a:lnTo>
                  <a:pt x="2015" y="77651"/>
                </a:lnTo>
                <a:lnTo>
                  <a:pt x="3738" y="81296"/>
                </a:lnTo>
                <a:lnTo>
                  <a:pt x="5733" y="84573"/>
                </a:lnTo>
                <a:lnTo>
                  <a:pt x="10451" y="88450"/>
                </a:lnTo>
                <a:lnTo>
                  <a:pt x="16981" y="92729"/>
                </a:lnTo>
                <a:lnTo>
                  <a:pt x="24723" y="97275"/>
                </a:lnTo>
                <a:lnTo>
                  <a:pt x="32423" y="101152"/>
                </a:lnTo>
                <a:lnTo>
                  <a:pt x="40097" y="104583"/>
                </a:lnTo>
                <a:lnTo>
                  <a:pt x="47752" y="107717"/>
                </a:lnTo>
                <a:lnTo>
                  <a:pt x="56244" y="109807"/>
                </a:lnTo>
                <a:lnTo>
                  <a:pt x="65290" y="111200"/>
                </a:lnTo>
                <a:lnTo>
                  <a:pt x="74708" y="112129"/>
                </a:lnTo>
                <a:lnTo>
                  <a:pt x="83527" y="112748"/>
                </a:lnTo>
                <a:lnTo>
                  <a:pt x="91946" y="113160"/>
                </a:lnTo>
                <a:lnTo>
                  <a:pt x="100099" y="113436"/>
                </a:lnTo>
                <a:lnTo>
                  <a:pt x="107227" y="112773"/>
                </a:lnTo>
                <a:lnTo>
                  <a:pt x="113673" y="111484"/>
                </a:lnTo>
                <a:lnTo>
                  <a:pt x="119663" y="109778"/>
                </a:lnTo>
                <a:lnTo>
                  <a:pt x="125350" y="107794"/>
                </a:lnTo>
                <a:lnTo>
                  <a:pt x="130835" y="105625"/>
                </a:lnTo>
                <a:lnTo>
                  <a:pt x="136184" y="103332"/>
                </a:lnTo>
                <a:lnTo>
                  <a:pt x="140597" y="100110"/>
                </a:lnTo>
                <a:lnTo>
                  <a:pt x="144386" y="96268"/>
                </a:lnTo>
                <a:lnTo>
                  <a:pt x="147759" y="92014"/>
                </a:lnTo>
                <a:lnTo>
                  <a:pt x="150008" y="87485"/>
                </a:lnTo>
                <a:lnTo>
                  <a:pt x="151507" y="82772"/>
                </a:lnTo>
                <a:lnTo>
                  <a:pt x="152506" y="77937"/>
                </a:lnTo>
                <a:lnTo>
                  <a:pt x="153172" y="73020"/>
                </a:lnTo>
                <a:lnTo>
                  <a:pt x="153616" y="68048"/>
                </a:lnTo>
                <a:lnTo>
                  <a:pt x="153912" y="63041"/>
                </a:lnTo>
                <a:lnTo>
                  <a:pt x="153263" y="58856"/>
                </a:lnTo>
                <a:lnTo>
                  <a:pt x="151983" y="55219"/>
                </a:lnTo>
                <a:lnTo>
                  <a:pt x="150284" y="51948"/>
                </a:lnTo>
                <a:lnTo>
                  <a:pt x="148304" y="48921"/>
                </a:lnTo>
                <a:lnTo>
                  <a:pt x="146137" y="46056"/>
                </a:lnTo>
                <a:lnTo>
                  <a:pt x="139264" y="3778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InkAnnotation139"/>
          <p:cNvSpPr/>
          <p:nvPr/>
        </p:nvSpPr>
        <p:spPr>
          <a:xfrm>
            <a:off x="4800600" y="5121360"/>
            <a:ext cx="250920" cy="136440"/>
          </a:xfrm>
          <a:custGeom>
            <a:avLst/>
            <a:gdLst>
              <a:gd name="textAreaLeft" fmla="*/ 0 w 250920"/>
              <a:gd name="textAreaRight" fmla="*/ 251280 w 250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51461" h="137161">
                <a:moveTo>
                  <a:pt x="251460" y="0"/>
                </a:moveTo>
                <a:lnTo>
                  <a:pt x="251460" y="4045"/>
                </a:lnTo>
                <a:lnTo>
                  <a:pt x="250613" y="5237"/>
                </a:lnTo>
                <a:lnTo>
                  <a:pt x="249202" y="6031"/>
                </a:lnTo>
                <a:lnTo>
                  <a:pt x="245376" y="6914"/>
                </a:lnTo>
                <a:lnTo>
                  <a:pt x="240854" y="7306"/>
                </a:lnTo>
                <a:lnTo>
                  <a:pt x="237616" y="9104"/>
                </a:lnTo>
                <a:lnTo>
                  <a:pt x="233764" y="11996"/>
                </a:lnTo>
                <a:lnTo>
                  <a:pt x="229503" y="15617"/>
                </a:lnTo>
                <a:lnTo>
                  <a:pt x="224122" y="19725"/>
                </a:lnTo>
                <a:lnTo>
                  <a:pt x="217994" y="24156"/>
                </a:lnTo>
                <a:lnTo>
                  <a:pt x="211369" y="28804"/>
                </a:lnTo>
                <a:lnTo>
                  <a:pt x="203567" y="33596"/>
                </a:lnTo>
                <a:lnTo>
                  <a:pt x="194978" y="38484"/>
                </a:lnTo>
                <a:lnTo>
                  <a:pt x="176403" y="48431"/>
                </a:lnTo>
                <a:lnTo>
                  <a:pt x="156859" y="58496"/>
                </a:lnTo>
                <a:lnTo>
                  <a:pt x="146906" y="64397"/>
                </a:lnTo>
                <a:lnTo>
                  <a:pt x="136884" y="70871"/>
                </a:lnTo>
                <a:lnTo>
                  <a:pt x="100511" y="95467"/>
                </a:lnTo>
                <a:lnTo>
                  <a:pt x="91561" y="100051"/>
                </a:lnTo>
                <a:lnTo>
                  <a:pt x="82207" y="103955"/>
                </a:lnTo>
                <a:lnTo>
                  <a:pt x="72584" y="107403"/>
                </a:lnTo>
                <a:lnTo>
                  <a:pt x="63629" y="111395"/>
                </a:lnTo>
                <a:lnTo>
                  <a:pt x="55120" y="115750"/>
                </a:lnTo>
                <a:lnTo>
                  <a:pt x="46906" y="120347"/>
                </a:lnTo>
                <a:lnTo>
                  <a:pt x="39738" y="123411"/>
                </a:lnTo>
                <a:lnTo>
                  <a:pt x="33265" y="125454"/>
                </a:lnTo>
                <a:lnTo>
                  <a:pt x="27257" y="126816"/>
                </a:lnTo>
                <a:lnTo>
                  <a:pt x="22405" y="128571"/>
                </a:lnTo>
                <a:lnTo>
                  <a:pt x="14755" y="132778"/>
                </a:lnTo>
                <a:lnTo>
                  <a:pt x="8534" y="135212"/>
                </a:lnTo>
                <a:lnTo>
                  <a:pt x="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InkAnnotation140"/>
          <p:cNvSpPr/>
          <p:nvPr/>
        </p:nvSpPr>
        <p:spPr>
          <a:xfrm>
            <a:off x="4876920" y="5105520"/>
            <a:ext cx="220680" cy="136440"/>
          </a:xfrm>
          <a:custGeom>
            <a:avLst/>
            <a:gdLst>
              <a:gd name="textAreaLeft" fmla="*/ 0 w 220680"/>
              <a:gd name="textAreaRight" fmla="*/ 221040 w 220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20981" h="137160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8" y="8289"/>
                </a:lnTo>
                <a:lnTo>
                  <a:pt x="4045" y="10606"/>
                </a:lnTo>
                <a:lnTo>
                  <a:pt x="5237" y="12997"/>
                </a:lnTo>
                <a:lnTo>
                  <a:pt x="6032" y="15438"/>
                </a:lnTo>
                <a:lnTo>
                  <a:pt x="6561" y="17912"/>
                </a:lnTo>
                <a:lnTo>
                  <a:pt x="8608" y="21255"/>
                </a:lnTo>
                <a:lnTo>
                  <a:pt x="11665" y="25176"/>
                </a:lnTo>
                <a:lnTo>
                  <a:pt x="15397" y="29484"/>
                </a:lnTo>
                <a:lnTo>
                  <a:pt x="20424" y="34896"/>
                </a:lnTo>
                <a:lnTo>
                  <a:pt x="39636" y="54648"/>
                </a:lnTo>
                <a:lnTo>
                  <a:pt x="54023" y="69161"/>
                </a:lnTo>
                <a:lnTo>
                  <a:pt x="61416" y="75740"/>
                </a:lnTo>
                <a:lnTo>
                  <a:pt x="68884" y="81820"/>
                </a:lnTo>
                <a:lnTo>
                  <a:pt x="76402" y="87567"/>
                </a:lnTo>
                <a:lnTo>
                  <a:pt x="84802" y="93091"/>
                </a:lnTo>
                <a:lnTo>
                  <a:pt x="93788" y="98467"/>
                </a:lnTo>
                <a:lnTo>
                  <a:pt x="103165" y="103744"/>
                </a:lnTo>
                <a:lnTo>
                  <a:pt x="113650" y="108956"/>
                </a:lnTo>
                <a:lnTo>
                  <a:pt x="124874" y="114123"/>
                </a:lnTo>
                <a:lnTo>
                  <a:pt x="136589" y="119262"/>
                </a:lnTo>
                <a:lnTo>
                  <a:pt x="147786" y="122688"/>
                </a:lnTo>
                <a:lnTo>
                  <a:pt x="158638" y="124971"/>
                </a:lnTo>
                <a:lnTo>
                  <a:pt x="169258" y="126494"/>
                </a:lnTo>
                <a:lnTo>
                  <a:pt x="178879" y="128356"/>
                </a:lnTo>
                <a:lnTo>
                  <a:pt x="187833" y="130444"/>
                </a:lnTo>
                <a:lnTo>
                  <a:pt x="196342" y="132683"/>
                </a:lnTo>
                <a:lnTo>
                  <a:pt x="202861" y="134175"/>
                </a:lnTo>
                <a:lnTo>
                  <a:pt x="208055" y="135170"/>
                </a:lnTo>
                <a:lnTo>
                  <a:pt x="220980" y="1371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InkAnnotation141"/>
          <p:cNvSpPr/>
          <p:nvPr/>
        </p:nvSpPr>
        <p:spPr>
          <a:xfrm>
            <a:off x="5151600" y="5151600"/>
            <a:ext cx="212400" cy="360"/>
          </a:xfrm>
          <a:custGeom>
            <a:avLst/>
            <a:gdLst>
              <a:gd name="textAreaLeft" fmla="*/ 0 w 212400"/>
              <a:gd name="textAreaRight" fmla="*/ 212760 w 212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3361" h="1">
                <a:moveTo>
                  <a:pt x="0" y="0"/>
                </a:move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InkAnnotation142"/>
          <p:cNvSpPr/>
          <p:nvPr/>
        </p:nvSpPr>
        <p:spPr>
          <a:xfrm>
            <a:off x="5211720" y="5197320"/>
            <a:ext cx="182520" cy="11160"/>
          </a:xfrm>
          <a:custGeom>
            <a:avLst/>
            <a:gdLst>
              <a:gd name="textAreaLeft" fmla="*/ 0 w 182520"/>
              <a:gd name="textAreaRight" fmla="*/ 182880 w 182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82881" h="11949">
                <a:moveTo>
                  <a:pt x="0" y="0"/>
                </a:moveTo>
                <a:lnTo>
                  <a:pt x="4045" y="4045"/>
                </a:lnTo>
                <a:lnTo>
                  <a:pt x="6931" y="5237"/>
                </a:lnTo>
                <a:lnTo>
                  <a:pt x="10546" y="6031"/>
                </a:lnTo>
                <a:lnTo>
                  <a:pt x="14651" y="6561"/>
                </a:lnTo>
                <a:lnTo>
                  <a:pt x="19927" y="6914"/>
                </a:lnTo>
                <a:lnTo>
                  <a:pt x="25985" y="7149"/>
                </a:lnTo>
                <a:lnTo>
                  <a:pt x="32563" y="7306"/>
                </a:lnTo>
                <a:lnTo>
                  <a:pt x="39489" y="8257"/>
                </a:lnTo>
                <a:lnTo>
                  <a:pt x="46646" y="9738"/>
                </a:lnTo>
                <a:lnTo>
                  <a:pt x="53957" y="11572"/>
                </a:lnTo>
                <a:lnTo>
                  <a:pt x="63065" y="11948"/>
                </a:lnTo>
                <a:lnTo>
                  <a:pt x="73369" y="11352"/>
                </a:lnTo>
                <a:lnTo>
                  <a:pt x="84473" y="10108"/>
                </a:lnTo>
                <a:lnTo>
                  <a:pt x="94415" y="9279"/>
                </a:lnTo>
                <a:lnTo>
                  <a:pt x="103583" y="8726"/>
                </a:lnTo>
                <a:lnTo>
                  <a:pt x="112236" y="8357"/>
                </a:lnTo>
                <a:lnTo>
                  <a:pt x="130880" y="7948"/>
                </a:lnTo>
                <a:lnTo>
                  <a:pt x="158309" y="7684"/>
                </a:lnTo>
                <a:lnTo>
                  <a:pt x="163113" y="6816"/>
                </a:lnTo>
                <a:lnTo>
                  <a:pt x="168009" y="5391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InkAnnotation143"/>
          <p:cNvSpPr/>
          <p:nvPr/>
        </p:nvSpPr>
        <p:spPr>
          <a:xfrm>
            <a:off x="5532480" y="5006880"/>
            <a:ext cx="14400" cy="228600"/>
          </a:xfrm>
          <a:custGeom>
            <a:avLst/>
            <a:gdLst>
              <a:gd name="textAreaLeft" fmla="*/ 0 w 14400"/>
              <a:gd name="textAreaRight" fmla="*/ 14760 w 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32" h="228601">
                <a:moveTo>
                  <a:pt x="7612" y="0"/>
                </a:moveTo>
                <a:lnTo>
                  <a:pt x="7612" y="10606"/>
                </a:lnTo>
                <a:lnTo>
                  <a:pt x="6765" y="12150"/>
                </a:lnTo>
                <a:lnTo>
                  <a:pt x="5354" y="13180"/>
                </a:lnTo>
                <a:lnTo>
                  <a:pt x="3566" y="13867"/>
                </a:lnTo>
                <a:lnTo>
                  <a:pt x="2375" y="16018"/>
                </a:lnTo>
                <a:lnTo>
                  <a:pt x="1580" y="19145"/>
                </a:lnTo>
                <a:lnTo>
                  <a:pt x="1050" y="22924"/>
                </a:lnTo>
                <a:lnTo>
                  <a:pt x="698" y="27135"/>
                </a:lnTo>
                <a:lnTo>
                  <a:pt x="462" y="31637"/>
                </a:lnTo>
                <a:lnTo>
                  <a:pt x="305" y="36331"/>
                </a:lnTo>
                <a:lnTo>
                  <a:pt x="53" y="62116"/>
                </a:lnTo>
                <a:lnTo>
                  <a:pt x="0" y="103257"/>
                </a:lnTo>
                <a:lnTo>
                  <a:pt x="844" y="112018"/>
                </a:lnTo>
                <a:lnTo>
                  <a:pt x="2253" y="120399"/>
                </a:lnTo>
                <a:lnTo>
                  <a:pt x="4039" y="128526"/>
                </a:lnTo>
                <a:lnTo>
                  <a:pt x="5230" y="137331"/>
                </a:lnTo>
                <a:lnTo>
                  <a:pt x="6024" y="146587"/>
                </a:lnTo>
                <a:lnTo>
                  <a:pt x="6906" y="164210"/>
                </a:lnTo>
                <a:lnTo>
                  <a:pt x="7298" y="177686"/>
                </a:lnTo>
                <a:lnTo>
                  <a:pt x="8249" y="184497"/>
                </a:lnTo>
                <a:lnTo>
                  <a:pt x="9730" y="191578"/>
                </a:lnTo>
                <a:lnTo>
                  <a:pt x="11563" y="198839"/>
                </a:lnTo>
                <a:lnTo>
                  <a:pt x="12786" y="204526"/>
                </a:lnTo>
                <a:lnTo>
                  <a:pt x="13601" y="209164"/>
                </a:lnTo>
                <a:lnTo>
                  <a:pt x="14144" y="213103"/>
                </a:lnTo>
                <a:lnTo>
                  <a:pt x="14506" y="216575"/>
                </a:lnTo>
                <a:lnTo>
                  <a:pt x="14748" y="219736"/>
                </a:lnTo>
                <a:lnTo>
                  <a:pt x="15231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InkAnnotation144"/>
          <p:cNvSpPr/>
          <p:nvPr/>
        </p:nvSpPr>
        <p:spPr>
          <a:xfrm>
            <a:off x="5661000" y="4968720"/>
            <a:ext cx="38160" cy="235080"/>
          </a:xfrm>
          <a:custGeom>
            <a:avLst/>
            <a:gdLst>
              <a:gd name="textAreaLeft" fmla="*/ 0 w 38160"/>
              <a:gd name="textAreaRight" fmla="*/ 38520 w 381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8101" h="236221">
                <a:moveTo>
                  <a:pt x="38100" y="0"/>
                </a:moveTo>
                <a:lnTo>
                  <a:pt x="38100" y="10606"/>
                </a:lnTo>
                <a:lnTo>
                  <a:pt x="37253" y="13843"/>
                </a:lnTo>
                <a:lnTo>
                  <a:pt x="35842" y="17696"/>
                </a:lnTo>
                <a:lnTo>
                  <a:pt x="34055" y="21957"/>
                </a:lnTo>
                <a:lnTo>
                  <a:pt x="32863" y="26491"/>
                </a:lnTo>
                <a:lnTo>
                  <a:pt x="32069" y="31207"/>
                </a:lnTo>
                <a:lnTo>
                  <a:pt x="31539" y="36045"/>
                </a:lnTo>
                <a:lnTo>
                  <a:pt x="30339" y="41810"/>
                </a:lnTo>
                <a:lnTo>
                  <a:pt x="28693" y="48193"/>
                </a:lnTo>
                <a:lnTo>
                  <a:pt x="26749" y="54988"/>
                </a:lnTo>
                <a:lnTo>
                  <a:pt x="25452" y="62059"/>
                </a:lnTo>
                <a:lnTo>
                  <a:pt x="24588" y="69313"/>
                </a:lnTo>
                <a:lnTo>
                  <a:pt x="24012" y="76689"/>
                </a:lnTo>
                <a:lnTo>
                  <a:pt x="22781" y="84992"/>
                </a:lnTo>
                <a:lnTo>
                  <a:pt x="21114" y="93915"/>
                </a:lnTo>
                <a:lnTo>
                  <a:pt x="19156" y="103250"/>
                </a:lnTo>
                <a:lnTo>
                  <a:pt x="17851" y="112013"/>
                </a:lnTo>
                <a:lnTo>
                  <a:pt x="16980" y="120396"/>
                </a:lnTo>
                <a:lnTo>
                  <a:pt x="16400" y="128523"/>
                </a:lnTo>
                <a:lnTo>
                  <a:pt x="15167" y="137329"/>
                </a:lnTo>
                <a:lnTo>
                  <a:pt x="13497" y="146586"/>
                </a:lnTo>
                <a:lnTo>
                  <a:pt x="11538" y="156144"/>
                </a:lnTo>
                <a:lnTo>
                  <a:pt x="9386" y="165056"/>
                </a:lnTo>
                <a:lnTo>
                  <a:pt x="7104" y="173537"/>
                </a:lnTo>
                <a:lnTo>
                  <a:pt x="4736" y="181732"/>
                </a:lnTo>
                <a:lnTo>
                  <a:pt x="3157" y="189734"/>
                </a:lnTo>
                <a:lnTo>
                  <a:pt x="2105" y="197609"/>
                </a:lnTo>
                <a:lnTo>
                  <a:pt x="1403" y="205400"/>
                </a:lnTo>
                <a:lnTo>
                  <a:pt x="935" y="212286"/>
                </a:lnTo>
                <a:lnTo>
                  <a:pt x="623" y="218571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InkAnnotation145"/>
          <p:cNvSpPr/>
          <p:nvPr/>
        </p:nvSpPr>
        <p:spPr>
          <a:xfrm>
            <a:off x="6645240" y="3406680"/>
            <a:ext cx="360" cy="114480"/>
          </a:xfrm>
          <a:custGeom>
            <a:avLst/>
            <a:gdLst>
              <a:gd name="textAreaLeft" fmla="*/ 0 w 360"/>
              <a:gd name="textAreaRight" fmla="*/ 720 w 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" h="114301">
                <a:moveTo>
                  <a:pt x="0" y="0"/>
                </a:moveTo>
                <a:lnTo>
                  <a:pt x="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InkAnnotation146"/>
          <p:cNvSpPr/>
          <p:nvPr/>
        </p:nvSpPr>
        <p:spPr>
          <a:xfrm>
            <a:off x="6713640" y="333684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0" y="0"/>
                </a:moveTo>
                <a:lnTo>
                  <a:pt x="7307" y="0"/>
                </a:lnTo>
                <a:lnTo>
                  <a:pt x="7411" y="847"/>
                </a:lnTo>
                <a:lnTo>
                  <a:pt x="7481" y="2258"/>
                </a:lnTo>
                <a:lnTo>
                  <a:pt x="762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InkAnnotation147"/>
          <p:cNvSpPr/>
          <p:nvPr/>
        </p:nvSpPr>
        <p:spPr>
          <a:xfrm>
            <a:off x="6767640" y="3238560"/>
            <a:ext cx="158760" cy="257040"/>
          </a:xfrm>
          <a:custGeom>
            <a:avLst/>
            <a:gdLst>
              <a:gd name="textAreaLeft" fmla="*/ 0 w 158760"/>
              <a:gd name="textAreaRight" fmla="*/ 159120 w 158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59223" h="257540">
                <a:moveTo>
                  <a:pt x="113502" y="0"/>
                </a:moveTo>
                <a:lnTo>
                  <a:pt x="113502" y="14651"/>
                </a:lnTo>
                <a:lnTo>
                  <a:pt x="112655" y="19081"/>
                </a:lnTo>
                <a:lnTo>
                  <a:pt x="111245" y="23727"/>
                </a:lnTo>
                <a:lnTo>
                  <a:pt x="109457" y="28518"/>
                </a:lnTo>
                <a:lnTo>
                  <a:pt x="108265" y="33405"/>
                </a:lnTo>
                <a:lnTo>
                  <a:pt x="107470" y="38357"/>
                </a:lnTo>
                <a:lnTo>
                  <a:pt x="106941" y="43351"/>
                </a:lnTo>
                <a:lnTo>
                  <a:pt x="105741" y="49221"/>
                </a:lnTo>
                <a:lnTo>
                  <a:pt x="104095" y="55674"/>
                </a:lnTo>
                <a:lnTo>
                  <a:pt x="102151" y="62516"/>
                </a:lnTo>
                <a:lnTo>
                  <a:pt x="100855" y="70464"/>
                </a:lnTo>
                <a:lnTo>
                  <a:pt x="99990" y="79149"/>
                </a:lnTo>
                <a:lnTo>
                  <a:pt x="99414" y="88326"/>
                </a:lnTo>
                <a:lnTo>
                  <a:pt x="98774" y="105296"/>
                </a:lnTo>
                <a:lnTo>
                  <a:pt x="98413" y="129130"/>
                </a:lnTo>
                <a:lnTo>
                  <a:pt x="98271" y="185372"/>
                </a:lnTo>
                <a:lnTo>
                  <a:pt x="99962" y="191314"/>
                </a:lnTo>
                <a:lnTo>
                  <a:pt x="102781" y="196970"/>
                </a:lnTo>
                <a:lnTo>
                  <a:pt x="106355" y="202433"/>
                </a:lnTo>
                <a:lnTo>
                  <a:pt x="108738" y="207769"/>
                </a:lnTo>
                <a:lnTo>
                  <a:pt x="110325" y="213019"/>
                </a:lnTo>
                <a:lnTo>
                  <a:pt x="111384" y="218213"/>
                </a:lnTo>
                <a:lnTo>
                  <a:pt x="112938" y="223369"/>
                </a:lnTo>
                <a:lnTo>
                  <a:pt x="114818" y="228499"/>
                </a:lnTo>
                <a:lnTo>
                  <a:pt x="119877" y="240810"/>
                </a:lnTo>
                <a:lnTo>
                  <a:pt x="121139" y="241820"/>
                </a:lnTo>
                <a:lnTo>
                  <a:pt x="122826" y="242493"/>
                </a:lnTo>
                <a:lnTo>
                  <a:pt x="124798" y="242942"/>
                </a:lnTo>
                <a:lnTo>
                  <a:pt x="125266" y="243241"/>
                </a:lnTo>
                <a:lnTo>
                  <a:pt x="124731" y="243441"/>
                </a:lnTo>
                <a:lnTo>
                  <a:pt x="123528" y="243574"/>
                </a:lnTo>
                <a:lnTo>
                  <a:pt x="122726" y="242816"/>
                </a:lnTo>
                <a:lnTo>
                  <a:pt x="122191" y="241464"/>
                </a:lnTo>
                <a:lnTo>
                  <a:pt x="121835" y="239716"/>
                </a:lnTo>
                <a:lnTo>
                  <a:pt x="119181" y="235516"/>
                </a:lnTo>
                <a:lnTo>
                  <a:pt x="114333" y="229981"/>
                </a:lnTo>
                <a:lnTo>
                  <a:pt x="106533" y="221876"/>
                </a:lnTo>
                <a:lnTo>
                  <a:pt x="92622" y="207793"/>
                </a:lnTo>
                <a:lnTo>
                  <a:pt x="87730" y="203722"/>
                </a:lnTo>
                <a:lnTo>
                  <a:pt x="82773" y="200161"/>
                </a:lnTo>
                <a:lnTo>
                  <a:pt x="77777" y="196941"/>
                </a:lnTo>
                <a:lnTo>
                  <a:pt x="72752" y="193947"/>
                </a:lnTo>
                <a:lnTo>
                  <a:pt x="67709" y="191105"/>
                </a:lnTo>
                <a:lnTo>
                  <a:pt x="57589" y="185689"/>
                </a:lnTo>
                <a:lnTo>
                  <a:pt x="47449" y="180460"/>
                </a:lnTo>
                <a:lnTo>
                  <a:pt x="42373" y="178726"/>
                </a:lnTo>
                <a:lnTo>
                  <a:pt x="37296" y="177571"/>
                </a:lnTo>
                <a:lnTo>
                  <a:pt x="32218" y="176800"/>
                </a:lnTo>
                <a:lnTo>
                  <a:pt x="27985" y="177134"/>
                </a:lnTo>
                <a:lnTo>
                  <a:pt x="24318" y="178203"/>
                </a:lnTo>
                <a:lnTo>
                  <a:pt x="12853" y="183752"/>
                </a:lnTo>
                <a:lnTo>
                  <a:pt x="8302" y="186001"/>
                </a:lnTo>
                <a:lnTo>
                  <a:pt x="5270" y="188348"/>
                </a:lnTo>
                <a:lnTo>
                  <a:pt x="3247" y="190759"/>
                </a:lnTo>
                <a:lnTo>
                  <a:pt x="1899" y="193212"/>
                </a:lnTo>
                <a:lnTo>
                  <a:pt x="400" y="198197"/>
                </a:lnTo>
                <a:lnTo>
                  <a:pt x="0" y="200711"/>
                </a:lnTo>
                <a:lnTo>
                  <a:pt x="1428" y="204081"/>
                </a:lnTo>
                <a:lnTo>
                  <a:pt x="4073" y="208020"/>
                </a:lnTo>
                <a:lnTo>
                  <a:pt x="7530" y="212340"/>
                </a:lnTo>
                <a:lnTo>
                  <a:pt x="11527" y="216914"/>
                </a:lnTo>
                <a:lnTo>
                  <a:pt x="15885" y="221656"/>
                </a:lnTo>
                <a:lnTo>
                  <a:pt x="20483" y="226511"/>
                </a:lnTo>
                <a:lnTo>
                  <a:pt x="25244" y="230594"/>
                </a:lnTo>
                <a:lnTo>
                  <a:pt x="30110" y="234162"/>
                </a:lnTo>
                <a:lnTo>
                  <a:pt x="35047" y="237388"/>
                </a:lnTo>
                <a:lnTo>
                  <a:pt x="40878" y="240385"/>
                </a:lnTo>
                <a:lnTo>
                  <a:pt x="47307" y="243231"/>
                </a:lnTo>
                <a:lnTo>
                  <a:pt x="54132" y="245974"/>
                </a:lnTo>
                <a:lnTo>
                  <a:pt x="68489" y="251280"/>
                </a:lnTo>
                <a:lnTo>
                  <a:pt x="75873" y="253879"/>
                </a:lnTo>
                <a:lnTo>
                  <a:pt x="83336" y="255613"/>
                </a:lnTo>
                <a:lnTo>
                  <a:pt x="90851" y="256768"/>
                </a:lnTo>
                <a:lnTo>
                  <a:pt x="98402" y="257539"/>
                </a:lnTo>
                <a:lnTo>
                  <a:pt x="105975" y="257206"/>
                </a:lnTo>
                <a:lnTo>
                  <a:pt x="113564" y="256137"/>
                </a:lnTo>
                <a:lnTo>
                  <a:pt x="121163" y="254578"/>
                </a:lnTo>
                <a:lnTo>
                  <a:pt x="127076" y="253539"/>
                </a:lnTo>
                <a:lnTo>
                  <a:pt x="131865" y="252846"/>
                </a:lnTo>
                <a:lnTo>
                  <a:pt x="135904" y="252384"/>
                </a:lnTo>
                <a:lnTo>
                  <a:pt x="140290" y="251229"/>
                </a:lnTo>
                <a:lnTo>
                  <a:pt x="144908" y="249613"/>
                </a:lnTo>
                <a:lnTo>
                  <a:pt x="159222" y="2438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InkAnnotation148"/>
          <p:cNvSpPr/>
          <p:nvPr/>
        </p:nvSpPr>
        <p:spPr>
          <a:xfrm>
            <a:off x="6988320" y="3330720"/>
            <a:ext cx="29880" cy="190440"/>
          </a:xfrm>
          <a:custGeom>
            <a:avLst/>
            <a:gdLst>
              <a:gd name="textAreaLeft" fmla="*/ 0 w 29880"/>
              <a:gd name="textAreaRight" fmla="*/ 30240 w 29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0481" h="190501">
                <a:moveTo>
                  <a:pt x="0" y="0"/>
                </a:moveTo>
                <a:lnTo>
                  <a:pt x="0" y="11351"/>
                </a:lnTo>
                <a:lnTo>
                  <a:pt x="846" y="13494"/>
                </a:lnTo>
                <a:lnTo>
                  <a:pt x="2259" y="15769"/>
                </a:lnTo>
                <a:lnTo>
                  <a:pt x="4045" y="18133"/>
                </a:lnTo>
                <a:lnTo>
                  <a:pt x="5237" y="21402"/>
                </a:lnTo>
                <a:lnTo>
                  <a:pt x="6031" y="25275"/>
                </a:lnTo>
                <a:lnTo>
                  <a:pt x="6562" y="29550"/>
                </a:lnTo>
                <a:lnTo>
                  <a:pt x="7761" y="34093"/>
                </a:lnTo>
                <a:lnTo>
                  <a:pt x="9407" y="38815"/>
                </a:lnTo>
                <a:lnTo>
                  <a:pt x="11351" y="43657"/>
                </a:lnTo>
                <a:lnTo>
                  <a:pt x="12648" y="49425"/>
                </a:lnTo>
                <a:lnTo>
                  <a:pt x="13512" y="55810"/>
                </a:lnTo>
                <a:lnTo>
                  <a:pt x="14087" y="62606"/>
                </a:lnTo>
                <a:lnTo>
                  <a:pt x="15319" y="69678"/>
                </a:lnTo>
                <a:lnTo>
                  <a:pt x="16985" y="76932"/>
                </a:lnTo>
                <a:lnTo>
                  <a:pt x="18944" y="84308"/>
                </a:lnTo>
                <a:lnTo>
                  <a:pt x="20249" y="91765"/>
                </a:lnTo>
                <a:lnTo>
                  <a:pt x="21120" y="99277"/>
                </a:lnTo>
                <a:lnTo>
                  <a:pt x="21700" y="106825"/>
                </a:lnTo>
                <a:lnTo>
                  <a:pt x="22086" y="114396"/>
                </a:lnTo>
                <a:lnTo>
                  <a:pt x="22516" y="129583"/>
                </a:lnTo>
                <a:lnTo>
                  <a:pt x="22830" y="164658"/>
                </a:lnTo>
                <a:lnTo>
                  <a:pt x="23686" y="169039"/>
                </a:lnTo>
                <a:lnTo>
                  <a:pt x="25104" y="172805"/>
                </a:lnTo>
                <a:lnTo>
                  <a:pt x="26896" y="176164"/>
                </a:lnTo>
                <a:lnTo>
                  <a:pt x="28090" y="179249"/>
                </a:lnTo>
                <a:lnTo>
                  <a:pt x="28887" y="182153"/>
                </a:lnTo>
                <a:lnTo>
                  <a:pt x="30480" y="1905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InkAnnotation149"/>
          <p:cNvSpPr/>
          <p:nvPr/>
        </p:nvSpPr>
        <p:spPr>
          <a:xfrm>
            <a:off x="6942240" y="3436920"/>
            <a:ext cx="166680" cy="36360"/>
          </a:xfrm>
          <a:custGeom>
            <a:avLst/>
            <a:gdLst>
              <a:gd name="textAreaLeft" fmla="*/ 0 w 166680"/>
              <a:gd name="textAreaRight" fmla="*/ 167040 w 1666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7641" h="36627">
                <a:moveTo>
                  <a:pt x="0" y="0"/>
                </a:moveTo>
                <a:lnTo>
                  <a:pt x="0" y="7528"/>
                </a:lnTo>
                <a:lnTo>
                  <a:pt x="4045" y="11638"/>
                </a:lnTo>
                <a:lnTo>
                  <a:pt x="6083" y="12839"/>
                </a:lnTo>
                <a:lnTo>
                  <a:pt x="8288" y="13639"/>
                </a:lnTo>
                <a:lnTo>
                  <a:pt x="10606" y="14173"/>
                </a:lnTo>
                <a:lnTo>
                  <a:pt x="13843" y="15375"/>
                </a:lnTo>
                <a:lnTo>
                  <a:pt x="17696" y="17024"/>
                </a:lnTo>
                <a:lnTo>
                  <a:pt x="21956" y="18969"/>
                </a:lnTo>
                <a:lnTo>
                  <a:pt x="27338" y="21113"/>
                </a:lnTo>
                <a:lnTo>
                  <a:pt x="40090" y="25752"/>
                </a:lnTo>
                <a:lnTo>
                  <a:pt x="47894" y="28175"/>
                </a:lnTo>
                <a:lnTo>
                  <a:pt x="65595" y="33124"/>
                </a:lnTo>
                <a:lnTo>
                  <a:pt x="74211" y="34783"/>
                </a:lnTo>
                <a:lnTo>
                  <a:pt x="82494" y="35889"/>
                </a:lnTo>
                <a:lnTo>
                  <a:pt x="90555" y="36626"/>
                </a:lnTo>
                <a:lnTo>
                  <a:pt x="98470" y="36271"/>
                </a:lnTo>
                <a:lnTo>
                  <a:pt x="106288" y="35187"/>
                </a:lnTo>
                <a:lnTo>
                  <a:pt x="114038" y="33619"/>
                </a:lnTo>
                <a:lnTo>
                  <a:pt x="131682" y="29617"/>
                </a:lnTo>
                <a:lnTo>
                  <a:pt x="141128" y="27365"/>
                </a:lnTo>
                <a:lnTo>
                  <a:pt x="148272" y="25864"/>
                </a:lnTo>
                <a:lnTo>
                  <a:pt x="153881" y="24863"/>
                </a:lnTo>
                <a:lnTo>
                  <a:pt x="16764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InkAnnotation150"/>
          <p:cNvSpPr/>
          <p:nvPr/>
        </p:nvSpPr>
        <p:spPr>
          <a:xfrm>
            <a:off x="7147080" y="3268800"/>
            <a:ext cx="183960" cy="274680"/>
          </a:xfrm>
          <a:custGeom>
            <a:avLst/>
            <a:gdLst>
              <a:gd name="textAreaLeft" fmla="*/ 0 w 183960"/>
              <a:gd name="textAreaRight" fmla="*/ 184320 w 183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82882" h="274228">
                <a:moveTo>
                  <a:pt x="0" y="7527"/>
                </a:moveTo>
                <a:lnTo>
                  <a:pt x="0" y="0"/>
                </a:lnTo>
                <a:lnTo>
                  <a:pt x="0" y="15306"/>
                </a:lnTo>
                <a:lnTo>
                  <a:pt x="846" y="20333"/>
                </a:lnTo>
                <a:lnTo>
                  <a:pt x="2259" y="26224"/>
                </a:lnTo>
                <a:lnTo>
                  <a:pt x="4045" y="32692"/>
                </a:lnTo>
                <a:lnTo>
                  <a:pt x="5237" y="38697"/>
                </a:lnTo>
                <a:lnTo>
                  <a:pt x="6031" y="44394"/>
                </a:lnTo>
                <a:lnTo>
                  <a:pt x="6561" y="49884"/>
                </a:lnTo>
                <a:lnTo>
                  <a:pt x="6914" y="56932"/>
                </a:lnTo>
                <a:lnTo>
                  <a:pt x="7306" y="73793"/>
                </a:lnTo>
                <a:lnTo>
                  <a:pt x="7527" y="102327"/>
                </a:lnTo>
                <a:lnTo>
                  <a:pt x="8404" y="111367"/>
                </a:lnTo>
                <a:lnTo>
                  <a:pt x="9836" y="119934"/>
                </a:lnTo>
                <a:lnTo>
                  <a:pt x="11638" y="128185"/>
                </a:lnTo>
                <a:lnTo>
                  <a:pt x="12839" y="137072"/>
                </a:lnTo>
                <a:lnTo>
                  <a:pt x="13639" y="146384"/>
                </a:lnTo>
                <a:lnTo>
                  <a:pt x="14173" y="155978"/>
                </a:lnTo>
                <a:lnTo>
                  <a:pt x="14766" y="173412"/>
                </a:lnTo>
                <a:lnTo>
                  <a:pt x="14924" y="181617"/>
                </a:lnTo>
                <a:lnTo>
                  <a:pt x="14183" y="188781"/>
                </a:lnTo>
                <a:lnTo>
                  <a:pt x="12841" y="195249"/>
                </a:lnTo>
                <a:lnTo>
                  <a:pt x="11101" y="201255"/>
                </a:lnTo>
                <a:lnTo>
                  <a:pt x="9941" y="206106"/>
                </a:lnTo>
                <a:lnTo>
                  <a:pt x="8651" y="213754"/>
                </a:lnTo>
                <a:lnTo>
                  <a:pt x="8078" y="219974"/>
                </a:lnTo>
                <a:lnTo>
                  <a:pt x="7647" y="228008"/>
                </a:lnTo>
                <a:lnTo>
                  <a:pt x="7622" y="217857"/>
                </a:lnTo>
                <a:lnTo>
                  <a:pt x="9878" y="210792"/>
                </a:lnTo>
                <a:lnTo>
                  <a:pt x="11667" y="206537"/>
                </a:lnTo>
                <a:lnTo>
                  <a:pt x="13704" y="202007"/>
                </a:lnTo>
                <a:lnTo>
                  <a:pt x="18226" y="192458"/>
                </a:lnTo>
                <a:lnTo>
                  <a:pt x="40652" y="147214"/>
                </a:lnTo>
                <a:lnTo>
                  <a:pt x="45725" y="139319"/>
                </a:lnTo>
                <a:lnTo>
                  <a:pt x="48264" y="136028"/>
                </a:lnTo>
                <a:lnTo>
                  <a:pt x="50803" y="133835"/>
                </a:lnTo>
                <a:lnTo>
                  <a:pt x="53342" y="132372"/>
                </a:lnTo>
                <a:lnTo>
                  <a:pt x="55882" y="131397"/>
                </a:lnTo>
                <a:lnTo>
                  <a:pt x="59268" y="130747"/>
                </a:lnTo>
                <a:lnTo>
                  <a:pt x="63218" y="130314"/>
                </a:lnTo>
                <a:lnTo>
                  <a:pt x="67546" y="130025"/>
                </a:lnTo>
                <a:lnTo>
                  <a:pt x="71277" y="131526"/>
                </a:lnTo>
                <a:lnTo>
                  <a:pt x="74612" y="134220"/>
                </a:lnTo>
                <a:lnTo>
                  <a:pt x="77682" y="137709"/>
                </a:lnTo>
                <a:lnTo>
                  <a:pt x="81421" y="140881"/>
                </a:lnTo>
                <a:lnTo>
                  <a:pt x="85607" y="143843"/>
                </a:lnTo>
                <a:lnTo>
                  <a:pt x="90091" y="146665"/>
                </a:lnTo>
                <a:lnTo>
                  <a:pt x="93927" y="150239"/>
                </a:lnTo>
                <a:lnTo>
                  <a:pt x="97332" y="154315"/>
                </a:lnTo>
                <a:lnTo>
                  <a:pt x="100448" y="158726"/>
                </a:lnTo>
                <a:lnTo>
                  <a:pt x="105066" y="163359"/>
                </a:lnTo>
                <a:lnTo>
                  <a:pt x="110685" y="168142"/>
                </a:lnTo>
                <a:lnTo>
                  <a:pt x="116969" y="173023"/>
                </a:lnTo>
                <a:lnTo>
                  <a:pt x="122006" y="177972"/>
                </a:lnTo>
                <a:lnTo>
                  <a:pt x="126211" y="182963"/>
                </a:lnTo>
                <a:lnTo>
                  <a:pt x="129860" y="187985"/>
                </a:lnTo>
                <a:lnTo>
                  <a:pt x="133988" y="193025"/>
                </a:lnTo>
                <a:lnTo>
                  <a:pt x="138432" y="198079"/>
                </a:lnTo>
                <a:lnTo>
                  <a:pt x="143088" y="203142"/>
                </a:lnTo>
                <a:lnTo>
                  <a:pt x="147040" y="209057"/>
                </a:lnTo>
                <a:lnTo>
                  <a:pt x="150520" y="215540"/>
                </a:lnTo>
                <a:lnTo>
                  <a:pt x="156645" y="228671"/>
                </a:lnTo>
                <a:lnTo>
                  <a:pt x="162189" y="240151"/>
                </a:lnTo>
                <a:lnTo>
                  <a:pt x="167476" y="248640"/>
                </a:lnTo>
                <a:lnTo>
                  <a:pt x="171801" y="255235"/>
                </a:lnTo>
                <a:lnTo>
                  <a:pt x="173723" y="260988"/>
                </a:lnTo>
                <a:lnTo>
                  <a:pt x="175082" y="262861"/>
                </a:lnTo>
                <a:lnTo>
                  <a:pt x="176835" y="264109"/>
                </a:lnTo>
                <a:lnTo>
                  <a:pt x="178851" y="264942"/>
                </a:lnTo>
                <a:lnTo>
                  <a:pt x="180193" y="266344"/>
                </a:lnTo>
                <a:lnTo>
                  <a:pt x="181090" y="268125"/>
                </a:lnTo>
                <a:lnTo>
                  <a:pt x="182881" y="27422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InkAnnotation151"/>
          <p:cNvSpPr/>
          <p:nvPr/>
        </p:nvSpPr>
        <p:spPr>
          <a:xfrm>
            <a:off x="7399440" y="3398760"/>
            <a:ext cx="144360" cy="1440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783" h="15140">
                <a:moveTo>
                  <a:pt x="0" y="0"/>
                </a:moveTo>
                <a:lnTo>
                  <a:pt x="17913" y="0"/>
                </a:lnTo>
                <a:lnTo>
                  <a:pt x="22103" y="847"/>
                </a:lnTo>
                <a:lnTo>
                  <a:pt x="27434" y="2258"/>
                </a:lnTo>
                <a:lnTo>
                  <a:pt x="33530" y="4046"/>
                </a:lnTo>
                <a:lnTo>
                  <a:pt x="39286" y="5237"/>
                </a:lnTo>
                <a:lnTo>
                  <a:pt x="44818" y="6031"/>
                </a:lnTo>
                <a:lnTo>
                  <a:pt x="50199" y="6561"/>
                </a:lnTo>
                <a:lnTo>
                  <a:pt x="56326" y="7760"/>
                </a:lnTo>
                <a:lnTo>
                  <a:pt x="62952" y="9407"/>
                </a:lnTo>
                <a:lnTo>
                  <a:pt x="69907" y="11351"/>
                </a:lnTo>
                <a:lnTo>
                  <a:pt x="77086" y="12648"/>
                </a:lnTo>
                <a:lnTo>
                  <a:pt x="84411" y="13512"/>
                </a:lnTo>
                <a:lnTo>
                  <a:pt x="91834" y="14088"/>
                </a:lnTo>
                <a:lnTo>
                  <a:pt x="98476" y="14472"/>
                </a:lnTo>
                <a:lnTo>
                  <a:pt x="110373" y="14899"/>
                </a:lnTo>
                <a:lnTo>
                  <a:pt x="126590" y="15139"/>
                </a:lnTo>
                <a:lnTo>
                  <a:pt x="130961" y="14326"/>
                </a:lnTo>
                <a:lnTo>
                  <a:pt x="134720" y="12937"/>
                </a:lnTo>
                <a:lnTo>
                  <a:pt x="144782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InkAnnotation152"/>
          <p:cNvSpPr/>
          <p:nvPr/>
        </p:nvSpPr>
        <p:spPr>
          <a:xfrm>
            <a:off x="7437600" y="3451320"/>
            <a:ext cx="166680" cy="38160"/>
          </a:xfrm>
          <a:custGeom>
            <a:avLst/>
            <a:gdLst>
              <a:gd name="textAreaLeft" fmla="*/ 0 w 166680"/>
              <a:gd name="textAreaRight" fmla="*/ 167040 w 166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7549" h="38062">
                <a:moveTo>
                  <a:pt x="7527" y="0"/>
                </a:moveTo>
                <a:lnTo>
                  <a:pt x="3482" y="0"/>
                </a:lnTo>
                <a:lnTo>
                  <a:pt x="2290" y="847"/>
                </a:lnTo>
                <a:lnTo>
                  <a:pt x="1496" y="2258"/>
                </a:lnTo>
                <a:lnTo>
                  <a:pt x="966" y="4045"/>
                </a:lnTo>
                <a:lnTo>
                  <a:pt x="614" y="6084"/>
                </a:lnTo>
                <a:lnTo>
                  <a:pt x="378" y="8289"/>
                </a:lnTo>
                <a:lnTo>
                  <a:pt x="0" y="13867"/>
                </a:lnTo>
                <a:lnTo>
                  <a:pt x="816" y="15171"/>
                </a:lnTo>
                <a:lnTo>
                  <a:pt x="2207" y="16888"/>
                </a:lnTo>
                <a:lnTo>
                  <a:pt x="3981" y="18879"/>
                </a:lnTo>
                <a:lnTo>
                  <a:pt x="8209" y="23348"/>
                </a:lnTo>
                <a:lnTo>
                  <a:pt x="10522" y="25725"/>
                </a:lnTo>
                <a:lnTo>
                  <a:pt x="13757" y="28157"/>
                </a:lnTo>
                <a:lnTo>
                  <a:pt x="17606" y="30625"/>
                </a:lnTo>
                <a:lnTo>
                  <a:pt x="21867" y="33116"/>
                </a:lnTo>
                <a:lnTo>
                  <a:pt x="25554" y="34778"/>
                </a:lnTo>
                <a:lnTo>
                  <a:pt x="28858" y="35885"/>
                </a:lnTo>
                <a:lnTo>
                  <a:pt x="31908" y="36624"/>
                </a:lnTo>
                <a:lnTo>
                  <a:pt x="35635" y="37116"/>
                </a:lnTo>
                <a:lnTo>
                  <a:pt x="39812" y="37444"/>
                </a:lnTo>
                <a:lnTo>
                  <a:pt x="44291" y="37663"/>
                </a:lnTo>
                <a:lnTo>
                  <a:pt x="56040" y="37906"/>
                </a:lnTo>
                <a:lnTo>
                  <a:pt x="84279" y="38061"/>
                </a:lnTo>
                <a:lnTo>
                  <a:pt x="91715" y="37228"/>
                </a:lnTo>
                <a:lnTo>
                  <a:pt x="99213" y="35825"/>
                </a:lnTo>
                <a:lnTo>
                  <a:pt x="106751" y="34044"/>
                </a:lnTo>
                <a:lnTo>
                  <a:pt x="114316" y="32009"/>
                </a:lnTo>
                <a:lnTo>
                  <a:pt x="129496" y="27490"/>
                </a:lnTo>
                <a:lnTo>
                  <a:pt x="136254" y="25947"/>
                </a:lnTo>
                <a:lnTo>
                  <a:pt x="142451" y="24918"/>
                </a:lnTo>
                <a:lnTo>
                  <a:pt x="148277" y="24232"/>
                </a:lnTo>
                <a:lnTo>
                  <a:pt x="153007" y="22928"/>
                </a:lnTo>
                <a:lnTo>
                  <a:pt x="157006" y="21213"/>
                </a:lnTo>
                <a:lnTo>
                  <a:pt x="167548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InkAnnotation153"/>
          <p:cNvSpPr/>
          <p:nvPr/>
        </p:nvSpPr>
        <p:spPr>
          <a:xfrm>
            <a:off x="7696080" y="3246480"/>
            <a:ext cx="38160" cy="297000"/>
          </a:xfrm>
          <a:custGeom>
            <a:avLst/>
            <a:gdLst>
              <a:gd name="textAreaLeft" fmla="*/ 0 w 38160"/>
              <a:gd name="textAreaRight" fmla="*/ 38520 w 38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8063" h="297181">
                <a:moveTo>
                  <a:pt x="30441" y="0"/>
                </a:moveTo>
                <a:lnTo>
                  <a:pt x="30441" y="6561"/>
                </a:lnTo>
                <a:lnTo>
                  <a:pt x="29595" y="8607"/>
                </a:lnTo>
                <a:lnTo>
                  <a:pt x="26396" y="15397"/>
                </a:lnTo>
                <a:lnTo>
                  <a:pt x="25204" y="20424"/>
                </a:lnTo>
                <a:lnTo>
                  <a:pt x="24410" y="26317"/>
                </a:lnTo>
                <a:lnTo>
                  <a:pt x="23879" y="32785"/>
                </a:lnTo>
                <a:lnTo>
                  <a:pt x="22681" y="38790"/>
                </a:lnTo>
                <a:lnTo>
                  <a:pt x="21035" y="44487"/>
                </a:lnTo>
                <a:lnTo>
                  <a:pt x="14672" y="62852"/>
                </a:lnTo>
                <a:lnTo>
                  <a:pt x="12308" y="69842"/>
                </a:lnTo>
                <a:lnTo>
                  <a:pt x="9887" y="77888"/>
                </a:lnTo>
                <a:lnTo>
                  <a:pt x="4936" y="95859"/>
                </a:lnTo>
                <a:lnTo>
                  <a:pt x="3278" y="104546"/>
                </a:lnTo>
                <a:lnTo>
                  <a:pt x="2172" y="112877"/>
                </a:lnTo>
                <a:lnTo>
                  <a:pt x="1436" y="120972"/>
                </a:lnTo>
                <a:lnTo>
                  <a:pt x="944" y="129755"/>
                </a:lnTo>
                <a:lnTo>
                  <a:pt x="397" y="148544"/>
                </a:lnTo>
                <a:lnTo>
                  <a:pt x="19" y="192250"/>
                </a:lnTo>
                <a:lnTo>
                  <a:pt x="0" y="201827"/>
                </a:lnTo>
                <a:lnTo>
                  <a:pt x="834" y="210751"/>
                </a:lnTo>
                <a:lnTo>
                  <a:pt x="2236" y="219241"/>
                </a:lnTo>
                <a:lnTo>
                  <a:pt x="4018" y="227441"/>
                </a:lnTo>
                <a:lnTo>
                  <a:pt x="6052" y="234600"/>
                </a:lnTo>
                <a:lnTo>
                  <a:pt x="8255" y="241067"/>
                </a:lnTo>
                <a:lnTo>
                  <a:pt x="10571" y="247071"/>
                </a:lnTo>
                <a:lnTo>
                  <a:pt x="12961" y="252768"/>
                </a:lnTo>
                <a:lnTo>
                  <a:pt x="15400" y="258258"/>
                </a:lnTo>
                <a:lnTo>
                  <a:pt x="20370" y="268875"/>
                </a:lnTo>
                <a:lnTo>
                  <a:pt x="25400" y="279238"/>
                </a:lnTo>
                <a:lnTo>
                  <a:pt x="27081" y="283525"/>
                </a:lnTo>
                <a:lnTo>
                  <a:pt x="28200" y="287230"/>
                </a:lnTo>
                <a:lnTo>
                  <a:pt x="28948" y="290547"/>
                </a:lnTo>
                <a:lnTo>
                  <a:pt x="30292" y="292758"/>
                </a:lnTo>
                <a:lnTo>
                  <a:pt x="32036" y="294232"/>
                </a:lnTo>
                <a:lnTo>
                  <a:pt x="38062" y="2971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InkAnnotation154"/>
          <p:cNvSpPr/>
          <p:nvPr/>
        </p:nvSpPr>
        <p:spPr>
          <a:xfrm>
            <a:off x="7781760" y="3216240"/>
            <a:ext cx="44640" cy="289080"/>
          </a:xfrm>
          <a:custGeom>
            <a:avLst/>
            <a:gdLst>
              <a:gd name="textAreaLeft" fmla="*/ 0 w 44640"/>
              <a:gd name="textAreaRight" fmla="*/ 45000 w 44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4532" h="289561">
                <a:moveTo>
                  <a:pt x="44531" y="0"/>
                </a:moveTo>
                <a:lnTo>
                  <a:pt x="44531" y="13867"/>
                </a:lnTo>
                <a:lnTo>
                  <a:pt x="43685" y="16018"/>
                </a:lnTo>
                <a:lnTo>
                  <a:pt x="42272" y="19145"/>
                </a:lnTo>
                <a:lnTo>
                  <a:pt x="40486" y="22924"/>
                </a:lnTo>
                <a:lnTo>
                  <a:pt x="38448" y="27982"/>
                </a:lnTo>
                <a:lnTo>
                  <a:pt x="33926" y="40377"/>
                </a:lnTo>
                <a:lnTo>
                  <a:pt x="32380" y="47238"/>
                </a:lnTo>
                <a:lnTo>
                  <a:pt x="31351" y="54352"/>
                </a:lnTo>
                <a:lnTo>
                  <a:pt x="30664" y="61635"/>
                </a:lnTo>
                <a:lnTo>
                  <a:pt x="29360" y="68183"/>
                </a:lnTo>
                <a:lnTo>
                  <a:pt x="27643" y="74242"/>
                </a:lnTo>
                <a:lnTo>
                  <a:pt x="25652" y="79975"/>
                </a:lnTo>
                <a:lnTo>
                  <a:pt x="23478" y="87183"/>
                </a:lnTo>
                <a:lnTo>
                  <a:pt x="16374" y="112663"/>
                </a:lnTo>
                <a:lnTo>
                  <a:pt x="11415" y="128812"/>
                </a:lnTo>
                <a:lnTo>
                  <a:pt x="9753" y="136675"/>
                </a:lnTo>
                <a:lnTo>
                  <a:pt x="8646" y="144457"/>
                </a:lnTo>
                <a:lnTo>
                  <a:pt x="7909" y="152184"/>
                </a:lnTo>
                <a:lnTo>
                  <a:pt x="6569" y="159876"/>
                </a:lnTo>
                <a:lnTo>
                  <a:pt x="4830" y="167544"/>
                </a:lnTo>
                <a:lnTo>
                  <a:pt x="2823" y="175196"/>
                </a:lnTo>
                <a:lnTo>
                  <a:pt x="1486" y="182837"/>
                </a:lnTo>
                <a:lnTo>
                  <a:pt x="594" y="190472"/>
                </a:lnTo>
                <a:lnTo>
                  <a:pt x="0" y="198101"/>
                </a:lnTo>
                <a:lnTo>
                  <a:pt x="450" y="205728"/>
                </a:lnTo>
                <a:lnTo>
                  <a:pt x="1598" y="213352"/>
                </a:lnTo>
                <a:lnTo>
                  <a:pt x="3209" y="220975"/>
                </a:lnTo>
                <a:lnTo>
                  <a:pt x="4282" y="228596"/>
                </a:lnTo>
                <a:lnTo>
                  <a:pt x="4999" y="236218"/>
                </a:lnTo>
                <a:lnTo>
                  <a:pt x="5477" y="243838"/>
                </a:lnTo>
                <a:lnTo>
                  <a:pt x="6007" y="259079"/>
                </a:lnTo>
                <a:lnTo>
                  <a:pt x="6148" y="266700"/>
                </a:lnTo>
                <a:lnTo>
                  <a:pt x="7090" y="272627"/>
                </a:lnTo>
                <a:lnTo>
                  <a:pt x="8563" y="277424"/>
                </a:lnTo>
                <a:lnTo>
                  <a:pt x="14051" y="2895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InkAnnotation155"/>
          <p:cNvSpPr/>
          <p:nvPr/>
        </p:nvSpPr>
        <p:spPr>
          <a:xfrm>
            <a:off x="7886880" y="3429000"/>
            <a:ext cx="7920" cy="54000"/>
          </a:xfrm>
          <a:custGeom>
            <a:avLst/>
            <a:gdLst>
              <a:gd name="textAreaLeft" fmla="*/ 0 w 7920"/>
              <a:gd name="textAreaRight" fmla="*/ 8280 w 7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620" h="53341">
                <a:moveTo>
                  <a:pt x="0" y="0"/>
                </a:moveTo>
                <a:lnTo>
                  <a:pt x="0" y="17912"/>
                </a:lnTo>
                <a:lnTo>
                  <a:pt x="846" y="21255"/>
                </a:lnTo>
                <a:lnTo>
                  <a:pt x="2259" y="25177"/>
                </a:lnTo>
                <a:lnTo>
                  <a:pt x="4045" y="29485"/>
                </a:lnTo>
                <a:lnTo>
                  <a:pt x="5236" y="-32333"/>
                </a:lnTo>
                <a:lnTo>
                  <a:pt x="6031" y="-29007"/>
                </a:lnTo>
                <a:lnTo>
                  <a:pt x="6561" y="-25943"/>
                </a:lnTo>
                <a:lnTo>
                  <a:pt x="6914" y="-23054"/>
                </a:lnTo>
                <a:lnTo>
                  <a:pt x="7148" y="-20281"/>
                </a:lnTo>
                <a:lnTo>
                  <a:pt x="7619" y="-12196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4673"/>
          <p:cNvSpPr/>
          <p:nvPr/>
        </p:nvSpPr>
        <p:spPr>
          <a:xfrm>
            <a:off x="7954920" y="332280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InkAnnotation157"/>
          <p:cNvSpPr/>
          <p:nvPr/>
        </p:nvSpPr>
        <p:spPr>
          <a:xfrm>
            <a:off x="7954920" y="3376440"/>
            <a:ext cx="122400" cy="90720"/>
          </a:xfrm>
          <a:custGeom>
            <a:avLst/>
            <a:gdLst>
              <a:gd name="textAreaLeft" fmla="*/ 0 w 122400"/>
              <a:gd name="textAreaRight" fmla="*/ 122760 w 122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21912" h="90941">
                <a:moveTo>
                  <a:pt x="15231" y="7162"/>
                </a:moveTo>
                <a:lnTo>
                  <a:pt x="15231" y="25074"/>
                </a:lnTo>
                <a:lnTo>
                  <a:pt x="14385" y="28417"/>
                </a:lnTo>
                <a:lnTo>
                  <a:pt x="12973" y="32339"/>
                </a:lnTo>
                <a:lnTo>
                  <a:pt x="11186" y="36647"/>
                </a:lnTo>
                <a:lnTo>
                  <a:pt x="9995" y="41212"/>
                </a:lnTo>
                <a:lnTo>
                  <a:pt x="9200" y="45949"/>
                </a:lnTo>
                <a:lnTo>
                  <a:pt x="8670" y="50800"/>
                </a:lnTo>
                <a:lnTo>
                  <a:pt x="8317" y="55728"/>
                </a:lnTo>
                <a:lnTo>
                  <a:pt x="8082" y="60706"/>
                </a:lnTo>
                <a:lnTo>
                  <a:pt x="7925" y="65718"/>
                </a:lnTo>
                <a:lnTo>
                  <a:pt x="6974" y="69906"/>
                </a:lnTo>
                <a:lnTo>
                  <a:pt x="5493" y="73545"/>
                </a:lnTo>
                <a:lnTo>
                  <a:pt x="3659" y="76817"/>
                </a:lnTo>
                <a:lnTo>
                  <a:pt x="2437" y="79845"/>
                </a:lnTo>
                <a:lnTo>
                  <a:pt x="1622" y="82711"/>
                </a:lnTo>
                <a:lnTo>
                  <a:pt x="4" y="90918"/>
                </a:lnTo>
                <a:lnTo>
                  <a:pt x="0" y="90940"/>
                </a:lnTo>
                <a:lnTo>
                  <a:pt x="4038" y="82879"/>
                </a:lnTo>
                <a:lnTo>
                  <a:pt x="5230" y="79654"/>
                </a:lnTo>
                <a:lnTo>
                  <a:pt x="6024" y="76657"/>
                </a:lnTo>
                <a:lnTo>
                  <a:pt x="6553" y="73812"/>
                </a:lnTo>
                <a:lnTo>
                  <a:pt x="7753" y="70222"/>
                </a:lnTo>
                <a:lnTo>
                  <a:pt x="9399" y="66135"/>
                </a:lnTo>
                <a:lnTo>
                  <a:pt x="11343" y="61718"/>
                </a:lnTo>
                <a:lnTo>
                  <a:pt x="15762" y="52293"/>
                </a:lnTo>
                <a:lnTo>
                  <a:pt x="25496" y="32446"/>
                </a:lnTo>
                <a:lnTo>
                  <a:pt x="28848" y="28251"/>
                </a:lnTo>
                <a:lnTo>
                  <a:pt x="32775" y="24609"/>
                </a:lnTo>
                <a:lnTo>
                  <a:pt x="37087" y="21333"/>
                </a:lnTo>
                <a:lnTo>
                  <a:pt x="40808" y="18303"/>
                </a:lnTo>
                <a:lnTo>
                  <a:pt x="44137" y="15436"/>
                </a:lnTo>
                <a:lnTo>
                  <a:pt x="47202" y="12678"/>
                </a:lnTo>
                <a:lnTo>
                  <a:pt x="49245" y="9993"/>
                </a:lnTo>
                <a:lnTo>
                  <a:pt x="50607" y="7356"/>
                </a:lnTo>
                <a:lnTo>
                  <a:pt x="51515" y="4752"/>
                </a:lnTo>
                <a:lnTo>
                  <a:pt x="52966" y="3015"/>
                </a:lnTo>
                <a:lnTo>
                  <a:pt x="54782" y="1857"/>
                </a:lnTo>
                <a:lnTo>
                  <a:pt x="59733" y="0"/>
                </a:lnTo>
                <a:lnTo>
                  <a:pt x="60140" y="694"/>
                </a:lnTo>
                <a:lnTo>
                  <a:pt x="60410" y="2003"/>
                </a:lnTo>
                <a:lnTo>
                  <a:pt x="60590" y="3723"/>
                </a:lnTo>
                <a:lnTo>
                  <a:pt x="61557" y="5716"/>
                </a:lnTo>
                <a:lnTo>
                  <a:pt x="63049" y="7891"/>
                </a:lnTo>
                <a:lnTo>
                  <a:pt x="64890" y="10188"/>
                </a:lnTo>
                <a:lnTo>
                  <a:pt x="66117" y="12566"/>
                </a:lnTo>
                <a:lnTo>
                  <a:pt x="66935" y="14998"/>
                </a:lnTo>
                <a:lnTo>
                  <a:pt x="67480" y="17466"/>
                </a:lnTo>
                <a:lnTo>
                  <a:pt x="67844" y="20805"/>
                </a:lnTo>
                <a:lnTo>
                  <a:pt x="68086" y="24724"/>
                </a:lnTo>
                <a:lnTo>
                  <a:pt x="68248" y="29030"/>
                </a:lnTo>
                <a:lnTo>
                  <a:pt x="69203" y="32748"/>
                </a:lnTo>
                <a:lnTo>
                  <a:pt x="70685" y="36072"/>
                </a:lnTo>
                <a:lnTo>
                  <a:pt x="72521" y="39136"/>
                </a:lnTo>
                <a:lnTo>
                  <a:pt x="74591" y="42025"/>
                </a:lnTo>
                <a:lnTo>
                  <a:pt x="76818" y="44797"/>
                </a:lnTo>
                <a:lnTo>
                  <a:pt x="79149" y="47492"/>
                </a:lnTo>
                <a:lnTo>
                  <a:pt x="81550" y="50135"/>
                </a:lnTo>
                <a:lnTo>
                  <a:pt x="86475" y="55330"/>
                </a:lnTo>
                <a:lnTo>
                  <a:pt x="101603" y="70654"/>
                </a:lnTo>
                <a:lnTo>
                  <a:pt x="104138" y="72350"/>
                </a:lnTo>
                <a:lnTo>
                  <a:pt x="106675" y="73481"/>
                </a:lnTo>
                <a:lnTo>
                  <a:pt x="109214" y="74235"/>
                </a:lnTo>
                <a:lnTo>
                  <a:pt x="111753" y="74737"/>
                </a:lnTo>
                <a:lnTo>
                  <a:pt x="114293" y="75072"/>
                </a:lnTo>
                <a:lnTo>
                  <a:pt x="121911" y="7574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InkAnnotation158"/>
          <p:cNvSpPr/>
          <p:nvPr/>
        </p:nvSpPr>
        <p:spPr>
          <a:xfrm>
            <a:off x="8096400" y="334476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56431" h="106165">
                <a:moveTo>
                  <a:pt x="64990" y="7267"/>
                </a:moveTo>
                <a:lnTo>
                  <a:pt x="69035" y="11312"/>
                </a:lnTo>
                <a:lnTo>
                  <a:pt x="70227" y="13351"/>
                </a:lnTo>
                <a:lnTo>
                  <a:pt x="71021" y="15556"/>
                </a:lnTo>
                <a:lnTo>
                  <a:pt x="71551" y="17873"/>
                </a:lnTo>
                <a:lnTo>
                  <a:pt x="71904" y="20264"/>
                </a:lnTo>
                <a:lnTo>
                  <a:pt x="72140" y="22705"/>
                </a:lnTo>
                <a:lnTo>
                  <a:pt x="72582" y="29693"/>
                </a:lnTo>
                <a:lnTo>
                  <a:pt x="74856" y="32192"/>
                </a:lnTo>
                <a:lnTo>
                  <a:pt x="79169" y="36650"/>
                </a:lnTo>
                <a:lnTo>
                  <a:pt x="73577" y="31090"/>
                </a:lnTo>
                <a:lnTo>
                  <a:pt x="73039" y="28297"/>
                </a:lnTo>
                <a:lnTo>
                  <a:pt x="72897" y="26367"/>
                </a:lnTo>
                <a:lnTo>
                  <a:pt x="72801" y="24234"/>
                </a:lnTo>
                <a:lnTo>
                  <a:pt x="72695" y="19605"/>
                </a:lnTo>
                <a:lnTo>
                  <a:pt x="71820" y="17186"/>
                </a:lnTo>
                <a:lnTo>
                  <a:pt x="70390" y="14727"/>
                </a:lnTo>
                <a:lnTo>
                  <a:pt x="68590" y="12240"/>
                </a:lnTo>
                <a:lnTo>
                  <a:pt x="66544" y="10583"/>
                </a:lnTo>
                <a:lnTo>
                  <a:pt x="64332" y="9477"/>
                </a:lnTo>
                <a:lnTo>
                  <a:pt x="62012" y="8741"/>
                </a:lnTo>
                <a:lnTo>
                  <a:pt x="57175" y="5664"/>
                </a:lnTo>
                <a:lnTo>
                  <a:pt x="54700" y="3658"/>
                </a:lnTo>
                <a:lnTo>
                  <a:pt x="52203" y="2321"/>
                </a:lnTo>
                <a:lnTo>
                  <a:pt x="49692" y="1430"/>
                </a:lnTo>
                <a:lnTo>
                  <a:pt x="47171" y="836"/>
                </a:lnTo>
                <a:lnTo>
                  <a:pt x="44644" y="439"/>
                </a:lnTo>
                <a:lnTo>
                  <a:pt x="42113" y="176"/>
                </a:lnTo>
                <a:lnTo>
                  <a:pt x="39579" y="0"/>
                </a:lnTo>
                <a:lnTo>
                  <a:pt x="37042" y="729"/>
                </a:lnTo>
                <a:lnTo>
                  <a:pt x="34506" y="2062"/>
                </a:lnTo>
                <a:lnTo>
                  <a:pt x="31967" y="3797"/>
                </a:lnTo>
                <a:lnTo>
                  <a:pt x="28581" y="6647"/>
                </a:lnTo>
                <a:lnTo>
                  <a:pt x="24632" y="10240"/>
                </a:lnTo>
                <a:lnTo>
                  <a:pt x="13239" y="21130"/>
                </a:lnTo>
                <a:lnTo>
                  <a:pt x="10169" y="24129"/>
                </a:lnTo>
                <a:lnTo>
                  <a:pt x="8123" y="27822"/>
                </a:lnTo>
                <a:lnTo>
                  <a:pt x="6758" y="31977"/>
                </a:lnTo>
                <a:lnTo>
                  <a:pt x="5850" y="36440"/>
                </a:lnTo>
                <a:lnTo>
                  <a:pt x="4396" y="41109"/>
                </a:lnTo>
                <a:lnTo>
                  <a:pt x="2581" y="45915"/>
                </a:lnTo>
                <a:lnTo>
                  <a:pt x="525" y="50813"/>
                </a:lnTo>
                <a:lnTo>
                  <a:pt x="0" y="55771"/>
                </a:lnTo>
                <a:lnTo>
                  <a:pt x="497" y="60770"/>
                </a:lnTo>
                <a:lnTo>
                  <a:pt x="1674" y="65796"/>
                </a:lnTo>
                <a:lnTo>
                  <a:pt x="3307" y="69993"/>
                </a:lnTo>
                <a:lnTo>
                  <a:pt x="5241" y="73637"/>
                </a:lnTo>
                <a:lnTo>
                  <a:pt x="7377" y="76914"/>
                </a:lnTo>
                <a:lnTo>
                  <a:pt x="9648" y="80792"/>
                </a:lnTo>
                <a:lnTo>
                  <a:pt x="12009" y="85070"/>
                </a:lnTo>
                <a:lnTo>
                  <a:pt x="14429" y="89616"/>
                </a:lnTo>
                <a:lnTo>
                  <a:pt x="18582" y="93493"/>
                </a:lnTo>
                <a:lnTo>
                  <a:pt x="23892" y="96924"/>
                </a:lnTo>
                <a:lnTo>
                  <a:pt x="29972" y="100059"/>
                </a:lnTo>
                <a:lnTo>
                  <a:pt x="35718" y="102148"/>
                </a:lnTo>
                <a:lnTo>
                  <a:pt x="41242" y="103541"/>
                </a:lnTo>
                <a:lnTo>
                  <a:pt x="46618" y="104470"/>
                </a:lnTo>
                <a:lnTo>
                  <a:pt x="52742" y="105089"/>
                </a:lnTo>
                <a:lnTo>
                  <a:pt x="59364" y="105502"/>
                </a:lnTo>
                <a:lnTo>
                  <a:pt x="66319" y="105777"/>
                </a:lnTo>
                <a:lnTo>
                  <a:pt x="92289" y="106164"/>
                </a:lnTo>
                <a:lnTo>
                  <a:pt x="100969" y="105372"/>
                </a:lnTo>
                <a:lnTo>
                  <a:pt x="109296" y="103997"/>
                </a:lnTo>
                <a:lnTo>
                  <a:pt x="117388" y="102234"/>
                </a:lnTo>
                <a:lnTo>
                  <a:pt x="124474" y="100211"/>
                </a:lnTo>
                <a:lnTo>
                  <a:pt x="130894" y="98017"/>
                </a:lnTo>
                <a:lnTo>
                  <a:pt x="136866" y="95707"/>
                </a:lnTo>
                <a:lnTo>
                  <a:pt x="141694" y="94167"/>
                </a:lnTo>
                <a:lnTo>
                  <a:pt x="145759" y="93140"/>
                </a:lnTo>
                <a:lnTo>
                  <a:pt x="156430" y="9108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InkAnnotation159"/>
          <p:cNvSpPr/>
          <p:nvPr/>
        </p:nvSpPr>
        <p:spPr>
          <a:xfrm>
            <a:off x="8245440" y="3192480"/>
            <a:ext cx="196920" cy="252360"/>
          </a:xfrm>
          <a:custGeom>
            <a:avLst/>
            <a:gdLst>
              <a:gd name="textAreaLeft" fmla="*/ 0 w 196920"/>
              <a:gd name="textAreaRight" fmla="*/ 197280 w 196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98120" h="251461">
                <a:moveTo>
                  <a:pt x="0" y="0"/>
                </a:moveTo>
                <a:lnTo>
                  <a:pt x="0" y="14651"/>
                </a:lnTo>
                <a:lnTo>
                  <a:pt x="847" y="19081"/>
                </a:lnTo>
                <a:lnTo>
                  <a:pt x="2258" y="23727"/>
                </a:lnTo>
                <a:lnTo>
                  <a:pt x="4046" y="28518"/>
                </a:lnTo>
                <a:lnTo>
                  <a:pt x="5237" y="35099"/>
                </a:lnTo>
                <a:lnTo>
                  <a:pt x="6032" y="42872"/>
                </a:lnTo>
                <a:lnTo>
                  <a:pt x="6562" y="51441"/>
                </a:lnTo>
                <a:lnTo>
                  <a:pt x="7760" y="59694"/>
                </a:lnTo>
                <a:lnTo>
                  <a:pt x="9407" y="67736"/>
                </a:lnTo>
                <a:lnTo>
                  <a:pt x="11351" y="75638"/>
                </a:lnTo>
                <a:lnTo>
                  <a:pt x="12647" y="84292"/>
                </a:lnTo>
                <a:lnTo>
                  <a:pt x="13512" y="93448"/>
                </a:lnTo>
                <a:lnTo>
                  <a:pt x="14088" y="102939"/>
                </a:lnTo>
                <a:lnTo>
                  <a:pt x="15319" y="112653"/>
                </a:lnTo>
                <a:lnTo>
                  <a:pt x="16985" y="122515"/>
                </a:lnTo>
                <a:lnTo>
                  <a:pt x="18944" y="132477"/>
                </a:lnTo>
                <a:lnTo>
                  <a:pt x="20249" y="141658"/>
                </a:lnTo>
                <a:lnTo>
                  <a:pt x="21120" y="150318"/>
                </a:lnTo>
                <a:lnTo>
                  <a:pt x="21700" y="158632"/>
                </a:lnTo>
                <a:lnTo>
                  <a:pt x="22344" y="172386"/>
                </a:lnTo>
                <a:lnTo>
                  <a:pt x="22630" y="184143"/>
                </a:lnTo>
                <a:lnTo>
                  <a:pt x="22859" y="234578"/>
                </a:lnTo>
                <a:lnTo>
                  <a:pt x="23706" y="234279"/>
                </a:lnTo>
                <a:lnTo>
                  <a:pt x="26904" y="231688"/>
                </a:lnTo>
                <a:lnTo>
                  <a:pt x="28097" y="229812"/>
                </a:lnTo>
                <a:lnTo>
                  <a:pt x="30620" y="222280"/>
                </a:lnTo>
                <a:lnTo>
                  <a:pt x="32266" y="218460"/>
                </a:lnTo>
                <a:lnTo>
                  <a:pt x="34210" y="214220"/>
                </a:lnTo>
                <a:lnTo>
                  <a:pt x="35507" y="209700"/>
                </a:lnTo>
                <a:lnTo>
                  <a:pt x="36371" y="204994"/>
                </a:lnTo>
                <a:lnTo>
                  <a:pt x="36948" y="200162"/>
                </a:lnTo>
                <a:lnTo>
                  <a:pt x="39026" y="195248"/>
                </a:lnTo>
                <a:lnTo>
                  <a:pt x="42103" y="190279"/>
                </a:lnTo>
                <a:lnTo>
                  <a:pt x="45849" y="185273"/>
                </a:lnTo>
                <a:lnTo>
                  <a:pt x="49193" y="181088"/>
                </a:lnTo>
                <a:lnTo>
                  <a:pt x="55165" y="174182"/>
                </a:lnTo>
                <a:lnTo>
                  <a:pt x="60642" y="168290"/>
                </a:lnTo>
                <a:lnTo>
                  <a:pt x="68115" y="160504"/>
                </a:lnTo>
                <a:lnTo>
                  <a:pt x="72487" y="160164"/>
                </a:lnTo>
                <a:lnTo>
                  <a:pt x="74571" y="161809"/>
                </a:lnTo>
                <a:lnTo>
                  <a:pt x="79145" y="168153"/>
                </a:lnTo>
                <a:lnTo>
                  <a:pt x="82396" y="171369"/>
                </a:lnTo>
                <a:lnTo>
                  <a:pt x="86256" y="174359"/>
                </a:lnTo>
                <a:lnTo>
                  <a:pt x="90524" y="177200"/>
                </a:lnTo>
                <a:lnTo>
                  <a:pt x="94216" y="180786"/>
                </a:lnTo>
                <a:lnTo>
                  <a:pt x="97524" y="184871"/>
                </a:lnTo>
                <a:lnTo>
                  <a:pt x="100575" y="189288"/>
                </a:lnTo>
                <a:lnTo>
                  <a:pt x="104304" y="193925"/>
                </a:lnTo>
                <a:lnTo>
                  <a:pt x="108482" y="198710"/>
                </a:lnTo>
                <a:lnTo>
                  <a:pt x="112961" y="203594"/>
                </a:lnTo>
                <a:lnTo>
                  <a:pt x="117640" y="207696"/>
                </a:lnTo>
                <a:lnTo>
                  <a:pt x="122453" y="211277"/>
                </a:lnTo>
                <a:lnTo>
                  <a:pt x="127355" y="214512"/>
                </a:lnTo>
                <a:lnTo>
                  <a:pt x="132317" y="218361"/>
                </a:lnTo>
                <a:lnTo>
                  <a:pt x="137317" y="222620"/>
                </a:lnTo>
                <a:lnTo>
                  <a:pt x="142345" y="227154"/>
                </a:lnTo>
                <a:lnTo>
                  <a:pt x="148235" y="231022"/>
                </a:lnTo>
                <a:lnTo>
                  <a:pt x="154703" y="234448"/>
                </a:lnTo>
                <a:lnTo>
                  <a:pt x="161555" y="237579"/>
                </a:lnTo>
                <a:lnTo>
                  <a:pt x="166970" y="239666"/>
                </a:lnTo>
                <a:lnTo>
                  <a:pt x="171425" y="241057"/>
                </a:lnTo>
                <a:lnTo>
                  <a:pt x="175243" y="241985"/>
                </a:lnTo>
                <a:lnTo>
                  <a:pt x="179482" y="243450"/>
                </a:lnTo>
                <a:lnTo>
                  <a:pt x="184001" y="245273"/>
                </a:lnTo>
                <a:lnTo>
                  <a:pt x="198119" y="2514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InkAnnotation160"/>
          <p:cNvSpPr/>
          <p:nvPr/>
        </p:nvSpPr>
        <p:spPr>
          <a:xfrm>
            <a:off x="8427960" y="3344760"/>
            <a:ext cx="144720" cy="106560"/>
          </a:xfrm>
          <a:custGeom>
            <a:avLst/>
            <a:gdLst>
              <a:gd name="textAreaLeft" fmla="*/ 0 w 144720"/>
              <a:gd name="textAreaRight" fmla="*/ 145080 w 1447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4231" h="106644">
                <a:moveTo>
                  <a:pt x="90890" y="0"/>
                </a:moveTo>
                <a:lnTo>
                  <a:pt x="79318" y="0"/>
                </a:lnTo>
                <a:lnTo>
                  <a:pt x="77249" y="847"/>
                </a:lnTo>
                <a:lnTo>
                  <a:pt x="75023" y="2258"/>
                </a:lnTo>
                <a:lnTo>
                  <a:pt x="72693" y="4045"/>
                </a:lnTo>
                <a:lnTo>
                  <a:pt x="70291" y="5237"/>
                </a:lnTo>
                <a:lnTo>
                  <a:pt x="67844" y="6031"/>
                </a:lnTo>
                <a:lnTo>
                  <a:pt x="65366" y="6561"/>
                </a:lnTo>
                <a:lnTo>
                  <a:pt x="62021" y="6914"/>
                </a:lnTo>
                <a:lnTo>
                  <a:pt x="58098" y="7149"/>
                </a:lnTo>
                <a:lnTo>
                  <a:pt x="49222" y="7411"/>
                </a:lnTo>
                <a:lnTo>
                  <a:pt x="28760" y="7592"/>
                </a:lnTo>
                <a:lnTo>
                  <a:pt x="24916" y="8448"/>
                </a:lnTo>
                <a:lnTo>
                  <a:pt x="20662" y="9866"/>
                </a:lnTo>
                <a:lnTo>
                  <a:pt x="16131" y="11657"/>
                </a:lnTo>
                <a:lnTo>
                  <a:pt x="12264" y="12851"/>
                </a:lnTo>
                <a:lnTo>
                  <a:pt x="8839" y="13648"/>
                </a:lnTo>
                <a:lnTo>
                  <a:pt x="1305" y="14925"/>
                </a:lnTo>
                <a:lnTo>
                  <a:pt x="686" y="15877"/>
                </a:lnTo>
                <a:lnTo>
                  <a:pt x="0" y="19192"/>
                </a:lnTo>
                <a:lnTo>
                  <a:pt x="663" y="20415"/>
                </a:lnTo>
                <a:lnTo>
                  <a:pt x="1953" y="21230"/>
                </a:lnTo>
                <a:lnTo>
                  <a:pt x="3658" y="21773"/>
                </a:lnTo>
                <a:lnTo>
                  <a:pt x="7811" y="24635"/>
                </a:lnTo>
                <a:lnTo>
                  <a:pt x="10104" y="26584"/>
                </a:lnTo>
                <a:lnTo>
                  <a:pt x="12480" y="28729"/>
                </a:lnTo>
                <a:lnTo>
                  <a:pt x="17377" y="33370"/>
                </a:lnTo>
                <a:lnTo>
                  <a:pt x="20715" y="34947"/>
                </a:lnTo>
                <a:lnTo>
                  <a:pt x="24633" y="35998"/>
                </a:lnTo>
                <a:lnTo>
                  <a:pt x="28939" y="36699"/>
                </a:lnTo>
                <a:lnTo>
                  <a:pt x="33502" y="38013"/>
                </a:lnTo>
                <a:lnTo>
                  <a:pt x="38239" y="39735"/>
                </a:lnTo>
                <a:lnTo>
                  <a:pt x="49916" y="44538"/>
                </a:lnTo>
                <a:lnTo>
                  <a:pt x="53770" y="47452"/>
                </a:lnTo>
                <a:lnTo>
                  <a:pt x="59099" y="52177"/>
                </a:lnTo>
                <a:lnTo>
                  <a:pt x="58689" y="54258"/>
                </a:lnTo>
                <a:lnTo>
                  <a:pt x="57569" y="57339"/>
                </a:lnTo>
                <a:lnTo>
                  <a:pt x="55976" y="61086"/>
                </a:lnTo>
                <a:lnTo>
                  <a:pt x="54067" y="63584"/>
                </a:lnTo>
                <a:lnTo>
                  <a:pt x="51948" y="65249"/>
                </a:lnTo>
                <a:lnTo>
                  <a:pt x="49689" y="66360"/>
                </a:lnTo>
                <a:lnTo>
                  <a:pt x="47336" y="67946"/>
                </a:lnTo>
                <a:lnTo>
                  <a:pt x="44921" y="69851"/>
                </a:lnTo>
                <a:lnTo>
                  <a:pt x="42463" y="71967"/>
                </a:lnTo>
                <a:lnTo>
                  <a:pt x="39979" y="74225"/>
                </a:lnTo>
                <a:lnTo>
                  <a:pt x="34961" y="78991"/>
                </a:lnTo>
                <a:lnTo>
                  <a:pt x="33284" y="81448"/>
                </a:lnTo>
                <a:lnTo>
                  <a:pt x="32166" y="83932"/>
                </a:lnTo>
                <a:lnTo>
                  <a:pt x="30372" y="89957"/>
                </a:lnTo>
                <a:lnTo>
                  <a:pt x="31072" y="91298"/>
                </a:lnTo>
                <a:lnTo>
                  <a:pt x="32384" y="93039"/>
                </a:lnTo>
                <a:lnTo>
                  <a:pt x="34106" y="95046"/>
                </a:lnTo>
                <a:lnTo>
                  <a:pt x="36101" y="97230"/>
                </a:lnTo>
                <a:lnTo>
                  <a:pt x="40575" y="101916"/>
                </a:lnTo>
                <a:lnTo>
                  <a:pt x="44646" y="103504"/>
                </a:lnTo>
                <a:lnTo>
                  <a:pt x="49901" y="104563"/>
                </a:lnTo>
                <a:lnTo>
                  <a:pt x="55945" y="105268"/>
                </a:lnTo>
                <a:lnTo>
                  <a:pt x="61666" y="105739"/>
                </a:lnTo>
                <a:lnTo>
                  <a:pt x="67174" y="106053"/>
                </a:lnTo>
                <a:lnTo>
                  <a:pt x="72540" y="106262"/>
                </a:lnTo>
                <a:lnTo>
                  <a:pt x="92226" y="106556"/>
                </a:lnTo>
                <a:lnTo>
                  <a:pt x="114146" y="106643"/>
                </a:lnTo>
                <a:lnTo>
                  <a:pt x="120787" y="105809"/>
                </a:lnTo>
                <a:lnTo>
                  <a:pt x="126909" y="104406"/>
                </a:lnTo>
                <a:lnTo>
                  <a:pt x="144230" y="990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InkAnnotation161"/>
          <p:cNvSpPr/>
          <p:nvPr/>
        </p:nvSpPr>
        <p:spPr>
          <a:xfrm>
            <a:off x="8564400" y="3336840"/>
            <a:ext cx="117720" cy="160560"/>
          </a:xfrm>
          <a:custGeom>
            <a:avLst/>
            <a:gdLst>
              <a:gd name="textAreaLeft" fmla="*/ 0 w 117720"/>
              <a:gd name="textAreaRight" fmla="*/ 118080 w 117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17670" h="160018">
                <a:moveTo>
                  <a:pt x="99061" y="0"/>
                </a:moveTo>
                <a:lnTo>
                  <a:pt x="95015" y="0"/>
                </a:lnTo>
                <a:lnTo>
                  <a:pt x="93824" y="847"/>
                </a:lnTo>
                <a:lnTo>
                  <a:pt x="93029" y="2258"/>
                </a:lnTo>
                <a:lnTo>
                  <a:pt x="92499" y="4045"/>
                </a:lnTo>
                <a:lnTo>
                  <a:pt x="91299" y="5237"/>
                </a:lnTo>
                <a:lnTo>
                  <a:pt x="89653" y="6031"/>
                </a:lnTo>
                <a:lnTo>
                  <a:pt x="87709" y="6561"/>
                </a:lnTo>
                <a:lnTo>
                  <a:pt x="85566" y="7761"/>
                </a:lnTo>
                <a:lnTo>
                  <a:pt x="83291" y="9407"/>
                </a:lnTo>
                <a:lnTo>
                  <a:pt x="80927" y="11351"/>
                </a:lnTo>
                <a:lnTo>
                  <a:pt x="78505" y="13494"/>
                </a:lnTo>
                <a:lnTo>
                  <a:pt x="73556" y="18133"/>
                </a:lnTo>
                <a:lnTo>
                  <a:pt x="71051" y="19709"/>
                </a:lnTo>
                <a:lnTo>
                  <a:pt x="68533" y="20759"/>
                </a:lnTo>
                <a:lnTo>
                  <a:pt x="66009" y="21460"/>
                </a:lnTo>
                <a:lnTo>
                  <a:pt x="64327" y="22773"/>
                </a:lnTo>
                <a:lnTo>
                  <a:pt x="63203" y="24495"/>
                </a:lnTo>
                <a:lnTo>
                  <a:pt x="62456" y="26490"/>
                </a:lnTo>
                <a:lnTo>
                  <a:pt x="59366" y="30965"/>
                </a:lnTo>
                <a:lnTo>
                  <a:pt x="57357" y="33343"/>
                </a:lnTo>
                <a:lnTo>
                  <a:pt x="56019" y="35776"/>
                </a:lnTo>
                <a:lnTo>
                  <a:pt x="54531" y="40736"/>
                </a:lnTo>
                <a:lnTo>
                  <a:pt x="54133" y="43244"/>
                </a:lnTo>
                <a:lnTo>
                  <a:pt x="53869" y="45763"/>
                </a:lnTo>
                <a:lnTo>
                  <a:pt x="53445" y="51843"/>
                </a:lnTo>
                <a:lnTo>
                  <a:pt x="53387" y="54933"/>
                </a:lnTo>
                <a:lnTo>
                  <a:pt x="53343" y="64653"/>
                </a:lnTo>
                <a:lnTo>
                  <a:pt x="54188" y="66809"/>
                </a:lnTo>
                <a:lnTo>
                  <a:pt x="57387" y="71462"/>
                </a:lnTo>
                <a:lnTo>
                  <a:pt x="59425" y="73041"/>
                </a:lnTo>
                <a:lnTo>
                  <a:pt x="61629" y="74094"/>
                </a:lnTo>
                <a:lnTo>
                  <a:pt x="63947" y="74796"/>
                </a:lnTo>
                <a:lnTo>
                  <a:pt x="66337" y="76111"/>
                </a:lnTo>
                <a:lnTo>
                  <a:pt x="68779" y="77834"/>
                </a:lnTo>
                <a:lnTo>
                  <a:pt x="71253" y="79829"/>
                </a:lnTo>
                <a:lnTo>
                  <a:pt x="74595" y="82006"/>
                </a:lnTo>
                <a:lnTo>
                  <a:pt x="78518" y="84304"/>
                </a:lnTo>
                <a:lnTo>
                  <a:pt x="82825" y="86683"/>
                </a:lnTo>
                <a:lnTo>
                  <a:pt x="86543" y="89115"/>
                </a:lnTo>
                <a:lnTo>
                  <a:pt x="89869" y="91584"/>
                </a:lnTo>
                <a:lnTo>
                  <a:pt x="92933" y="94076"/>
                </a:lnTo>
                <a:lnTo>
                  <a:pt x="95822" y="97430"/>
                </a:lnTo>
                <a:lnTo>
                  <a:pt x="98596" y="101360"/>
                </a:lnTo>
                <a:lnTo>
                  <a:pt x="101289" y="105674"/>
                </a:lnTo>
                <a:lnTo>
                  <a:pt x="103934" y="109396"/>
                </a:lnTo>
                <a:lnTo>
                  <a:pt x="106543" y="112724"/>
                </a:lnTo>
                <a:lnTo>
                  <a:pt x="109129" y="115789"/>
                </a:lnTo>
                <a:lnTo>
                  <a:pt x="111698" y="118680"/>
                </a:lnTo>
                <a:lnTo>
                  <a:pt x="116813" y="124149"/>
                </a:lnTo>
                <a:lnTo>
                  <a:pt x="117669" y="127639"/>
                </a:lnTo>
                <a:lnTo>
                  <a:pt x="117392" y="131660"/>
                </a:lnTo>
                <a:lnTo>
                  <a:pt x="116362" y="136033"/>
                </a:lnTo>
                <a:lnTo>
                  <a:pt x="114827" y="139796"/>
                </a:lnTo>
                <a:lnTo>
                  <a:pt x="112958" y="143150"/>
                </a:lnTo>
                <a:lnTo>
                  <a:pt x="110866" y="146234"/>
                </a:lnTo>
                <a:lnTo>
                  <a:pt x="108623" y="149136"/>
                </a:lnTo>
                <a:lnTo>
                  <a:pt x="106282" y="151917"/>
                </a:lnTo>
                <a:lnTo>
                  <a:pt x="103875" y="154618"/>
                </a:lnTo>
                <a:lnTo>
                  <a:pt x="99731" y="156419"/>
                </a:lnTo>
                <a:lnTo>
                  <a:pt x="94427" y="157619"/>
                </a:lnTo>
                <a:lnTo>
                  <a:pt x="88351" y="158420"/>
                </a:lnTo>
                <a:lnTo>
                  <a:pt x="82607" y="158953"/>
                </a:lnTo>
                <a:lnTo>
                  <a:pt x="77086" y="159308"/>
                </a:lnTo>
                <a:lnTo>
                  <a:pt x="71710" y="159546"/>
                </a:lnTo>
                <a:lnTo>
                  <a:pt x="61222" y="159809"/>
                </a:lnTo>
                <a:lnTo>
                  <a:pt x="13465" y="160017"/>
                </a:lnTo>
                <a:lnTo>
                  <a:pt x="10670" y="159171"/>
                </a:lnTo>
                <a:lnTo>
                  <a:pt x="7960" y="157761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InkAnnotation162"/>
          <p:cNvSpPr/>
          <p:nvPr/>
        </p:nvSpPr>
        <p:spPr>
          <a:xfrm>
            <a:off x="6157800" y="3398760"/>
            <a:ext cx="432000" cy="189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431157" h="188956">
                <a:moveTo>
                  <a:pt x="44217" y="38100"/>
                </a:moveTo>
                <a:lnTo>
                  <a:pt x="40171" y="42146"/>
                </a:lnTo>
                <a:lnTo>
                  <a:pt x="38980" y="44184"/>
                </a:lnTo>
                <a:lnTo>
                  <a:pt x="36456" y="51944"/>
                </a:lnTo>
                <a:lnTo>
                  <a:pt x="34811" y="55796"/>
                </a:lnTo>
                <a:lnTo>
                  <a:pt x="30723" y="64591"/>
                </a:lnTo>
                <a:lnTo>
                  <a:pt x="18712" y="89044"/>
                </a:lnTo>
                <a:lnTo>
                  <a:pt x="16207" y="94923"/>
                </a:lnTo>
                <a:lnTo>
                  <a:pt x="13691" y="101382"/>
                </a:lnTo>
                <a:lnTo>
                  <a:pt x="11166" y="108228"/>
                </a:lnTo>
                <a:lnTo>
                  <a:pt x="8637" y="114485"/>
                </a:lnTo>
                <a:lnTo>
                  <a:pt x="6103" y="120350"/>
                </a:lnTo>
                <a:lnTo>
                  <a:pt x="3568" y="125954"/>
                </a:lnTo>
                <a:lnTo>
                  <a:pt x="1878" y="131383"/>
                </a:lnTo>
                <a:lnTo>
                  <a:pt x="751" y="136695"/>
                </a:lnTo>
                <a:lnTo>
                  <a:pt x="0" y="141930"/>
                </a:lnTo>
                <a:lnTo>
                  <a:pt x="345" y="147114"/>
                </a:lnTo>
                <a:lnTo>
                  <a:pt x="1422" y="152262"/>
                </a:lnTo>
                <a:lnTo>
                  <a:pt x="2988" y="157389"/>
                </a:lnTo>
                <a:lnTo>
                  <a:pt x="4877" y="161653"/>
                </a:lnTo>
                <a:lnTo>
                  <a:pt x="6984" y="165342"/>
                </a:lnTo>
                <a:lnTo>
                  <a:pt x="9235" y="168648"/>
                </a:lnTo>
                <a:lnTo>
                  <a:pt x="12429" y="171699"/>
                </a:lnTo>
                <a:lnTo>
                  <a:pt x="20494" y="177346"/>
                </a:lnTo>
                <a:lnTo>
                  <a:pt x="29722" y="182678"/>
                </a:lnTo>
                <a:lnTo>
                  <a:pt x="34554" y="185286"/>
                </a:lnTo>
                <a:lnTo>
                  <a:pt x="46696" y="188183"/>
                </a:lnTo>
                <a:lnTo>
                  <a:pt x="53490" y="188955"/>
                </a:lnTo>
                <a:lnTo>
                  <a:pt x="60559" y="187777"/>
                </a:lnTo>
                <a:lnTo>
                  <a:pt x="67812" y="185298"/>
                </a:lnTo>
                <a:lnTo>
                  <a:pt x="81797" y="178875"/>
                </a:lnTo>
                <a:lnTo>
                  <a:pt x="104572" y="167852"/>
                </a:lnTo>
                <a:lnTo>
                  <a:pt x="109854" y="165242"/>
                </a:lnTo>
                <a:lnTo>
                  <a:pt x="115068" y="160961"/>
                </a:lnTo>
                <a:lnTo>
                  <a:pt x="120238" y="155567"/>
                </a:lnTo>
                <a:lnTo>
                  <a:pt x="125377" y="149432"/>
                </a:lnTo>
                <a:lnTo>
                  <a:pt x="129650" y="142801"/>
                </a:lnTo>
                <a:lnTo>
                  <a:pt x="133346" y="135841"/>
                </a:lnTo>
                <a:lnTo>
                  <a:pt x="136657" y="128661"/>
                </a:lnTo>
                <a:lnTo>
                  <a:pt x="138863" y="122181"/>
                </a:lnTo>
                <a:lnTo>
                  <a:pt x="140335" y="116167"/>
                </a:lnTo>
                <a:lnTo>
                  <a:pt x="141316" y="110465"/>
                </a:lnTo>
                <a:lnTo>
                  <a:pt x="142816" y="104970"/>
                </a:lnTo>
                <a:lnTo>
                  <a:pt x="144663" y="99613"/>
                </a:lnTo>
                <a:lnTo>
                  <a:pt x="146741" y="94349"/>
                </a:lnTo>
                <a:lnTo>
                  <a:pt x="148126" y="89146"/>
                </a:lnTo>
                <a:lnTo>
                  <a:pt x="149050" y="83984"/>
                </a:lnTo>
                <a:lnTo>
                  <a:pt x="149666" y="78849"/>
                </a:lnTo>
                <a:lnTo>
                  <a:pt x="150076" y="74580"/>
                </a:lnTo>
                <a:lnTo>
                  <a:pt x="150350" y="70886"/>
                </a:lnTo>
                <a:lnTo>
                  <a:pt x="150888" y="61132"/>
                </a:lnTo>
                <a:lnTo>
                  <a:pt x="150894" y="69102"/>
                </a:lnTo>
                <a:lnTo>
                  <a:pt x="151741" y="73161"/>
                </a:lnTo>
                <a:lnTo>
                  <a:pt x="153154" y="77561"/>
                </a:lnTo>
                <a:lnTo>
                  <a:pt x="154941" y="82187"/>
                </a:lnTo>
                <a:lnTo>
                  <a:pt x="156980" y="86965"/>
                </a:lnTo>
                <a:lnTo>
                  <a:pt x="161503" y="96789"/>
                </a:lnTo>
                <a:lnTo>
                  <a:pt x="166434" y="101780"/>
                </a:lnTo>
                <a:lnTo>
                  <a:pt x="173109" y="106800"/>
                </a:lnTo>
                <a:lnTo>
                  <a:pt x="204109" y="127024"/>
                </a:lnTo>
                <a:lnTo>
                  <a:pt x="212619" y="132096"/>
                </a:lnTo>
                <a:lnTo>
                  <a:pt x="221678" y="137170"/>
                </a:lnTo>
                <a:lnTo>
                  <a:pt x="231104" y="142247"/>
                </a:lnTo>
                <a:lnTo>
                  <a:pt x="241622" y="146478"/>
                </a:lnTo>
                <a:lnTo>
                  <a:pt x="252867" y="150146"/>
                </a:lnTo>
                <a:lnTo>
                  <a:pt x="264597" y="153437"/>
                </a:lnTo>
                <a:lnTo>
                  <a:pt x="276650" y="156478"/>
                </a:lnTo>
                <a:lnTo>
                  <a:pt x="334982" y="170048"/>
                </a:lnTo>
                <a:lnTo>
                  <a:pt x="344741" y="170939"/>
                </a:lnTo>
                <a:lnTo>
                  <a:pt x="353786" y="170686"/>
                </a:lnTo>
                <a:lnTo>
                  <a:pt x="362357" y="169671"/>
                </a:lnTo>
                <a:lnTo>
                  <a:pt x="370611" y="168994"/>
                </a:lnTo>
                <a:lnTo>
                  <a:pt x="378652" y="168543"/>
                </a:lnTo>
                <a:lnTo>
                  <a:pt x="386554" y="168242"/>
                </a:lnTo>
                <a:lnTo>
                  <a:pt x="393515" y="166348"/>
                </a:lnTo>
                <a:lnTo>
                  <a:pt x="399849" y="163392"/>
                </a:lnTo>
                <a:lnTo>
                  <a:pt x="405765" y="159728"/>
                </a:lnTo>
                <a:lnTo>
                  <a:pt x="410555" y="155592"/>
                </a:lnTo>
                <a:lnTo>
                  <a:pt x="414596" y="151142"/>
                </a:lnTo>
                <a:lnTo>
                  <a:pt x="418136" y="146481"/>
                </a:lnTo>
                <a:lnTo>
                  <a:pt x="421344" y="141681"/>
                </a:lnTo>
                <a:lnTo>
                  <a:pt x="424328" y="136787"/>
                </a:lnTo>
                <a:lnTo>
                  <a:pt x="427164" y="131832"/>
                </a:lnTo>
                <a:lnTo>
                  <a:pt x="429055" y="125988"/>
                </a:lnTo>
                <a:lnTo>
                  <a:pt x="430316" y="119552"/>
                </a:lnTo>
                <a:lnTo>
                  <a:pt x="431156" y="112721"/>
                </a:lnTo>
                <a:lnTo>
                  <a:pt x="430870" y="105627"/>
                </a:lnTo>
                <a:lnTo>
                  <a:pt x="429833" y="98359"/>
                </a:lnTo>
                <a:lnTo>
                  <a:pt x="428294" y="90972"/>
                </a:lnTo>
                <a:lnTo>
                  <a:pt x="426422" y="83509"/>
                </a:lnTo>
                <a:lnTo>
                  <a:pt x="424326" y="75992"/>
                </a:lnTo>
                <a:lnTo>
                  <a:pt x="422083" y="68442"/>
                </a:lnTo>
                <a:lnTo>
                  <a:pt x="418894" y="60868"/>
                </a:lnTo>
                <a:lnTo>
                  <a:pt x="415075" y="53279"/>
                </a:lnTo>
                <a:lnTo>
                  <a:pt x="410836" y="45679"/>
                </a:lnTo>
                <a:lnTo>
                  <a:pt x="406317" y="39766"/>
                </a:lnTo>
                <a:lnTo>
                  <a:pt x="401610" y="34977"/>
                </a:lnTo>
                <a:lnTo>
                  <a:pt x="396779" y="30938"/>
                </a:lnTo>
                <a:lnTo>
                  <a:pt x="392712" y="26552"/>
                </a:lnTo>
                <a:lnTo>
                  <a:pt x="389154" y="21935"/>
                </a:lnTo>
                <a:lnTo>
                  <a:pt x="385935" y="17163"/>
                </a:lnTo>
                <a:lnTo>
                  <a:pt x="382095" y="13136"/>
                </a:lnTo>
                <a:lnTo>
                  <a:pt x="377843" y="9604"/>
                </a:lnTo>
                <a:lnTo>
                  <a:pt x="373314" y="6402"/>
                </a:lnTo>
                <a:lnTo>
                  <a:pt x="363767" y="2846"/>
                </a:lnTo>
                <a:lnTo>
                  <a:pt x="349017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InkAnnotation163"/>
          <p:cNvSpPr/>
          <p:nvPr/>
        </p:nvSpPr>
        <p:spPr>
          <a:xfrm>
            <a:off x="4705200" y="4915080"/>
            <a:ext cx="1184400" cy="45720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84198" h="457006">
                <a:moveTo>
                  <a:pt x="10889" y="296985"/>
                </a:moveTo>
                <a:lnTo>
                  <a:pt x="14934" y="296985"/>
                </a:lnTo>
                <a:lnTo>
                  <a:pt x="16972" y="298678"/>
                </a:lnTo>
                <a:lnTo>
                  <a:pt x="23886" y="307459"/>
                </a:lnTo>
                <a:lnTo>
                  <a:pt x="26327" y="309047"/>
                </a:lnTo>
                <a:lnTo>
                  <a:pt x="66384" y="325945"/>
                </a:lnTo>
                <a:lnTo>
                  <a:pt x="93560" y="337833"/>
                </a:lnTo>
                <a:lnTo>
                  <a:pt x="123908" y="347941"/>
                </a:lnTo>
                <a:lnTo>
                  <a:pt x="158488" y="360437"/>
                </a:lnTo>
                <a:lnTo>
                  <a:pt x="190559" y="369878"/>
                </a:lnTo>
                <a:lnTo>
                  <a:pt x="222357" y="378884"/>
                </a:lnTo>
                <a:lnTo>
                  <a:pt x="258213" y="391054"/>
                </a:lnTo>
                <a:lnTo>
                  <a:pt x="294803" y="400399"/>
                </a:lnTo>
                <a:lnTo>
                  <a:pt x="329162" y="408530"/>
                </a:lnTo>
                <a:lnTo>
                  <a:pt x="356390" y="413729"/>
                </a:lnTo>
                <a:lnTo>
                  <a:pt x="385425" y="421121"/>
                </a:lnTo>
                <a:lnTo>
                  <a:pt x="414416" y="428356"/>
                </a:lnTo>
                <a:lnTo>
                  <a:pt x="441412" y="431572"/>
                </a:lnTo>
                <a:lnTo>
                  <a:pt x="469780" y="435259"/>
                </a:lnTo>
                <a:lnTo>
                  <a:pt x="498474" y="439720"/>
                </a:lnTo>
                <a:lnTo>
                  <a:pt x="525337" y="444525"/>
                </a:lnTo>
                <a:lnTo>
                  <a:pt x="551388" y="447225"/>
                </a:lnTo>
                <a:lnTo>
                  <a:pt x="577924" y="448425"/>
                </a:lnTo>
                <a:lnTo>
                  <a:pt x="621424" y="449100"/>
                </a:lnTo>
                <a:lnTo>
                  <a:pt x="692767" y="449347"/>
                </a:lnTo>
                <a:lnTo>
                  <a:pt x="721192" y="447110"/>
                </a:lnTo>
                <a:lnTo>
                  <a:pt x="750760" y="443294"/>
                </a:lnTo>
                <a:lnTo>
                  <a:pt x="780833" y="438776"/>
                </a:lnTo>
                <a:lnTo>
                  <a:pt x="808875" y="433946"/>
                </a:lnTo>
                <a:lnTo>
                  <a:pt x="835450" y="428130"/>
                </a:lnTo>
                <a:lnTo>
                  <a:pt x="861372" y="419900"/>
                </a:lnTo>
                <a:lnTo>
                  <a:pt x="889261" y="412857"/>
                </a:lnTo>
                <a:lnTo>
                  <a:pt x="916896" y="406057"/>
                </a:lnTo>
                <a:lnTo>
                  <a:pt x="951495" y="392709"/>
                </a:lnTo>
                <a:lnTo>
                  <a:pt x="972778" y="382991"/>
                </a:lnTo>
                <a:lnTo>
                  <a:pt x="1003800" y="368000"/>
                </a:lnTo>
                <a:lnTo>
                  <a:pt x="1026505" y="357898"/>
                </a:lnTo>
                <a:lnTo>
                  <a:pt x="1049014" y="346918"/>
                </a:lnTo>
                <a:lnTo>
                  <a:pt x="1067485" y="333571"/>
                </a:lnTo>
                <a:lnTo>
                  <a:pt x="1075966" y="326455"/>
                </a:lnTo>
                <a:lnTo>
                  <a:pt x="1084161" y="319172"/>
                </a:lnTo>
                <a:lnTo>
                  <a:pt x="1100039" y="305152"/>
                </a:lnTo>
                <a:lnTo>
                  <a:pt x="1115562" y="293277"/>
                </a:lnTo>
                <a:lnTo>
                  <a:pt x="1128671" y="280097"/>
                </a:lnTo>
                <a:lnTo>
                  <a:pt x="1134537" y="273026"/>
                </a:lnTo>
                <a:lnTo>
                  <a:pt x="1140141" y="265772"/>
                </a:lnTo>
                <a:lnTo>
                  <a:pt x="1145571" y="258397"/>
                </a:lnTo>
                <a:lnTo>
                  <a:pt x="1156119" y="244275"/>
                </a:lnTo>
                <a:lnTo>
                  <a:pt x="1166451" y="232354"/>
                </a:lnTo>
                <a:lnTo>
                  <a:pt x="1174430" y="219153"/>
                </a:lnTo>
                <a:lnTo>
                  <a:pt x="1179951" y="205666"/>
                </a:lnTo>
                <a:lnTo>
                  <a:pt x="1182406" y="194028"/>
                </a:lnTo>
                <a:lnTo>
                  <a:pt x="1183496" y="180953"/>
                </a:lnTo>
                <a:lnTo>
                  <a:pt x="1183981" y="167522"/>
                </a:lnTo>
                <a:lnTo>
                  <a:pt x="1184197" y="155908"/>
                </a:lnTo>
                <a:lnTo>
                  <a:pt x="1182560" y="150440"/>
                </a:lnTo>
                <a:lnTo>
                  <a:pt x="1176227" y="139850"/>
                </a:lnTo>
                <a:lnTo>
                  <a:pt x="1167769" y="129498"/>
                </a:lnTo>
                <a:lnTo>
                  <a:pt x="1157517" y="119253"/>
                </a:lnTo>
                <a:lnTo>
                  <a:pt x="1138313" y="103965"/>
                </a:lnTo>
                <a:lnTo>
                  <a:pt x="1126928" y="93794"/>
                </a:lnTo>
                <a:lnTo>
                  <a:pt x="1111709" y="85887"/>
                </a:lnTo>
                <a:lnTo>
                  <a:pt x="1086358" y="74418"/>
                </a:lnTo>
                <a:lnTo>
                  <a:pt x="1068842" y="65986"/>
                </a:lnTo>
                <a:lnTo>
                  <a:pt x="1036027" y="56480"/>
                </a:lnTo>
                <a:lnTo>
                  <a:pt x="1003632" y="47454"/>
                </a:lnTo>
                <a:lnTo>
                  <a:pt x="967599" y="35278"/>
                </a:lnTo>
                <a:lnTo>
                  <a:pt x="942683" y="28835"/>
                </a:lnTo>
                <a:lnTo>
                  <a:pt x="915239" y="25407"/>
                </a:lnTo>
                <a:lnTo>
                  <a:pt x="886956" y="23037"/>
                </a:lnTo>
                <a:lnTo>
                  <a:pt x="860274" y="19162"/>
                </a:lnTo>
                <a:lnTo>
                  <a:pt x="768488" y="4800"/>
                </a:lnTo>
                <a:lnTo>
                  <a:pt x="736219" y="2025"/>
                </a:lnTo>
                <a:lnTo>
                  <a:pt x="704098" y="791"/>
                </a:lnTo>
                <a:lnTo>
                  <a:pt x="637443" y="0"/>
                </a:lnTo>
                <a:lnTo>
                  <a:pt x="605164" y="738"/>
                </a:lnTo>
                <a:lnTo>
                  <a:pt x="571062" y="3888"/>
                </a:lnTo>
                <a:lnTo>
                  <a:pt x="538408" y="8111"/>
                </a:lnTo>
                <a:lnTo>
                  <a:pt x="372948" y="32837"/>
                </a:lnTo>
                <a:lnTo>
                  <a:pt x="342549" y="40168"/>
                </a:lnTo>
                <a:lnTo>
                  <a:pt x="299376" y="53816"/>
                </a:lnTo>
                <a:lnTo>
                  <a:pt x="270339" y="63603"/>
                </a:lnTo>
                <a:lnTo>
                  <a:pt x="243322" y="73598"/>
                </a:lnTo>
                <a:lnTo>
                  <a:pt x="217204" y="85942"/>
                </a:lnTo>
                <a:lnTo>
                  <a:pt x="191484" y="99895"/>
                </a:lnTo>
                <a:lnTo>
                  <a:pt x="165943" y="114563"/>
                </a:lnTo>
                <a:lnTo>
                  <a:pt x="154898" y="122030"/>
                </a:lnTo>
                <a:lnTo>
                  <a:pt x="144995" y="129548"/>
                </a:lnTo>
                <a:lnTo>
                  <a:pt x="125525" y="143829"/>
                </a:lnTo>
                <a:lnTo>
                  <a:pt x="102760" y="155820"/>
                </a:lnTo>
                <a:lnTo>
                  <a:pt x="92457" y="163081"/>
                </a:lnTo>
                <a:lnTo>
                  <a:pt x="83047" y="171309"/>
                </a:lnTo>
                <a:lnTo>
                  <a:pt x="49696" y="204803"/>
                </a:lnTo>
                <a:lnTo>
                  <a:pt x="42687" y="212670"/>
                </a:lnTo>
                <a:lnTo>
                  <a:pt x="36321" y="220455"/>
                </a:lnTo>
                <a:lnTo>
                  <a:pt x="30383" y="228185"/>
                </a:lnTo>
                <a:lnTo>
                  <a:pt x="25579" y="235879"/>
                </a:lnTo>
                <a:lnTo>
                  <a:pt x="21529" y="243547"/>
                </a:lnTo>
                <a:lnTo>
                  <a:pt x="17982" y="251200"/>
                </a:lnTo>
                <a:lnTo>
                  <a:pt x="14771" y="258842"/>
                </a:lnTo>
                <a:lnTo>
                  <a:pt x="11784" y="266476"/>
                </a:lnTo>
                <a:lnTo>
                  <a:pt x="6206" y="281732"/>
                </a:lnTo>
                <a:lnTo>
                  <a:pt x="906" y="296979"/>
                </a:lnTo>
                <a:lnTo>
                  <a:pt x="0" y="304601"/>
                </a:lnTo>
                <a:lnTo>
                  <a:pt x="243" y="312223"/>
                </a:lnTo>
                <a:lnTo>
                  <a:pt x="1252" y="319843"/>
                </a:lnTo>
                <a:lnTo>
                  <a:pt x="1925" y="327464"/>
                </a:lnTo>
                <a:lnTo>
                  <a:pt x="2373" y="335084"/>
                </a:lnTo>
                <a:lnTo>
                  <a:pt x="2672" y="342705"/>
                </a:lnTo>
                <a:lnTo>
                  <a:pt x="4564" y="349478"/>
                </a:lnTo>
                <a:lnTo>
                  <a:pt x="11183" y="361520"/>
                </a:lnTo>
                <a:lnTo>
                  <a:pt x="24428" y="381864"/>
                </a:lnTo>
                <a:lnTo>
                  <a:pt x="38638" y="394258"/>
                </a:lnTo>
                <a:lnTo>
                  <a:pt x="55395" y="406257"/>
                </a:lnTo>
                <a:lnTo>
                  <a:pt x="71309" y="420057"/>
                </a:lnTo>
                <a:lnTo>
                  <a:pt x="91365" y="432399"/>
                </a:lnTo>
                <a:lnTo>
                  <a:pt x="111850" y="441836"/>
                </a:lnTo>
                <a:lnTo>
                  <a:pt x="163289" y="457005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InkAnnotation164"/>
          <p:cNvSpPr/>
          <p:nvPr/>
        </p:nvSpPr>
        <p:spPr>
          <a:xfrm>
            <a:off x="5013360" y="3703680"/>
            <a:ext cx="239760" cy="122040"/>
          </a:xfrm>
          <a:custGeom>
            <a:avLst/>
            <a:gdLst>
              <a:gd name="textAreaLeft" fmla="*/ 0 w 239760"/>
              <a:gd name="textAreaRight" fmla="*/ 240120 w 239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39723" h="121881">
                <a:moveTo>
                  <a:pt x="0" y="121880"/>
                </a:moveTo>
                <a:lnTo>
                  <a:pt x="0" y="115319"/>
                </a:lnTo>
                <a:lnTo>
                  <a:pt x="2257" y="112473"/>
                </a:lnTo>
                <a:lnTo>
                  <a:pt x="4045" y="110529"/>
                </a:lnTo>
                <a:lnTo>
                  <a:pt x="6083" y="107539"/>
                </a:lnTo>
                <a:lnTo>
                  <a:pt x="8288" y="103853"/>
                </a:lnTo>
                <a:lnTo>
                  <a:pt x="10606" y="99702"/>
                </a:lnTo>
                <a:lnTo>
                  <a:pt x="12151" y="96088"/>
                </a:lnTo>
                <a:lnTo>
                  <a:pt x="13180" y="92832"/>
                </a:lnTo>
                <a:lnTo>
                  <a:pt x="13867" y="89815"/>
                </a:lnTo>
                <a:lnTo>
                  <a:pt x="15171" y="86110"/>
                </a:lnTo>
                <a:lnTo>
                  <a:pt x="16887" y="81947"/>
                </a:lnTo>
                <a:lnTo>
                  <a:pt x="18879" y="77478"/>
                </a:lnTo>
                <a:lnTo>
                  <a:pt x="23348" y="67997"/>
                </a:lnTo>
                <a:lnTo>
                  <a:pt x="25725" y="63098"/>
                </a:lnTo>
                <a:lnTo>
                  <a:pt x="27311" y="58139"/>
                </a:lnTo>
                <a:lnTo>
                  <a:pt x="28367" y="53139"/>
                </a:lnTo>
                <a:lnTo>
                  <a:pt x="29071" y="48113"/>
                </a:lnTo>
                <a:lnTo>
                  <a:pt x="30388" y="43916"/>
                </a:lnTo>
                <a:lnTo>
                  <a:pt x="32111" y="40270"/>
                </a:lnTo>
                <a:lnTo>
                  <a:pt x="34107" y="36993"/>
                </a:lnTo>
                <a:lnTo>
                  <a:pt x="35439" y="33963"/>
                </a:lnTo>
                <a:lnTo>
                  <a:pt x="36326" y="31095"/>
                </a:lnTo>
                <a:lnTo>
                  <a:pt x="36917" y="28337"/>
                </a:lnTo>
                <a:lnTo>
                  <a:pt x="37311" y="25651"/>
                </a:lnTo>
                <a:lnTo>
                  <a:pt x="37574" y="23014"/>
                </a:lnTo>
                <a:lnTo>
                  <a:pt x="37749" y="20410"/>
                </a:lnTo>
                <a:lnTo>
                  <a:pt x="37866" y="17826"/>
                </a:lnTo>
                <a:lnTo>
                  <a:pt x="37996" y="12698"/>
                </a:lnTo>
                <a:lnTo>
                  <a:pt x="38099" y="93"/>
                </a:lnTo>
                <a:lnTo>
                  <a:pt x="42145" y="0"/>
                </a:lnTo>
                <a:lnTo>
                  <a:pt x="43336" y="833"/>
                </a:lnTo>
                <a:lnTo>
                  <a:pt x="44131" y="2236"/>
                </a:lnTo>
                <a:lnTo>
                  <a:pt x="44660" y="4017"/>
                </a:lnTo>
                <a:lnTo>
                  <a:pt x="45860" y="6052"/>
                </a:lnTo>
                <a:lnTo>
                  <a:pt x="47507" y="8255"/>
                </a:lnTo>
                <a:lnTo>
                  <a:pt x="49451" y="10570"/>
                </a:lnTo>
                <a:lnTo>
                  <a:pt x="51594" y="12960"/>
                </a:lnTo>
                <a:lnTo>
                  <a:pt x="56233" y="17873"/>
                </a:lnTo>
                <a:lnTo>
                  <a:pt x="63605" y="25400"/>
                </a:lnTo>
                <a:lnTo>
                  <a:pt x="67803" y="27926"/>
                </a:lnTo>
                <a:lnTo>
                  <a:pt x="73142" y="30458"/>
                </a:lnTo>
                <a:lnTo>
                  <a:pt x="79242" y="32992"/>
                </a:lnTo>
                <a:lnTo>
                  <a:pt x="85848" y="36374"/>
                </a:lnTo>
                <a:lnTo>
                  <a:pt x="92792" y="40323"/>
                </a:lnTo>
                <a:lnTo>
                  <a:pt x="99961" y="44649"/>
                </a:lnTo>
                <a:lnTo>
                  <a:pt x="107281" y="48379"/>
                </a:lnTo>
                <a:lnTo>
                  <a:pt x="114701" y="51713"/>
                </a:lnTo>
                <a:lnTo>
                  <a:pt x="122187" y="54782"/>
                </a:lnTo>
                <a:lnTo>
                  <a:pt x="129718" y="56828"/>
                </a:lnTo>
                <a:lnTo>
                  <a:pt x="137279" y="58192"/>
                </a:lnTo>
                <a:lnTo>
                  <a:pt x="144860" y="59101"/>
                </a:lnTo>
                <a:lnTo>
                  <a:pt x="151606" y="60554"/>
                </a:lnTo>
                <a:lnTo>
                  <a:pt x="157798" y="62370"/>
                </a:lnTo>
                <a:lnTo>
                  <a:pt x="183946" y="71367"/>
                </a:lnTo>
                <a:lnTo>
                  <a:pt x="190364" y="72965"/>
                </a:lnTo>
                <a:lnTo>
                  <a:pt x="196336" y="74030"/>
                </a:lnTo>
                <a:lnTo>
                  <a:pt x="202012" y="74740"/>
                </a:lnTo>
                <a:lnTo>
                  <a:pt x="207488" y="74367"/>
                </a:lnTo>
                <a:lnTo>
                  <a:pt x="212831" y="73271"/>
                </a:lnTo>
                <a:lnTo>
                  <a:pt x="225486" y="69474"/>
                </a:lnTo>
                <a:lnTo>
                  <a:pt x="231723" y="68817"/>
                </a:lnTo>
                <a:lnTo>
                  <a:pt x="239722" y="68595"/>
                </a:lnTo>
                <a:lnTo>
                  <a:pt x="236849" y="68547"/>
                </a:lnTo>
                <a:lnTo>
                  <a:pt x="234242" y="66285"/>
                </a:lnTo>
                <a:lnTo>
                  <a:pt x="232362" y="64497"/>
                </a:lnTo>
                <a:lnTo>
                  <a:pt x="230262" y="63305"/>
                </a:lnTo>
                <a:lnTo>
                  <a:pt x="225669" y="61980"/>
                </a:lnTo>
                <a:lnTo>
                  <a:pt x="218549" y="61391"/>
                </a:lnTo>
                <a:lnTo>
                  <a:pt x="214279" y="61234"/>
                </a:lnTo>
                <a:lnTo>
                  <a:pt x="196135" y="61013"/>
                </a:lnTo>
                <a:lnTo>
                  <a:pt x="178717" y="60948"/>
                </a:lnTo>
                <a:lnTo>
                  <a:pt x="173332" y="61785"/>
                </a:lnTo>
                <a:lnTo>
                  <a:pt x="168047" y="63190"/>
                </a:lnTo>
                <a:lnTo>
                  <a:pt x="162833" y="64974"/>
                </a:lnTo>
                <a:lnTo>
                  <a:pt x="157662" y="67009"/>
                </a:lnTo>
                <a:lnTo>
                  <a:pt x="152522" y="69213"/>
                </a:lnTo>
                <a:lnTo>
                  <a:pt x="147401" y="71529"/>
                </a:lnTo>
                <a:lnTo>
                  <a:pt x="142294" y="73072"/>
                </a:lnTo>
                <a:lnTo>
                  <a:pt x="137196" y="74102"/>
                </a:lnTo>
                <a:lnTo>
                  <a:pt x="132104" y="74788"/>
                </a:lnTo>
                <a:lnTo>
                  <a:pt x="127016" y="76092"/>
                </a:lnTo>
                <a:lnTo>
                  <a:pt x="121931" y="77808"/>
                </a:lnTo>
                <a:lnTo>
                  <a:pt x="116847" y="79799"/>
                </a:lnTo>
                <a:lnTo>
                  <a:pt x="104425" y="84268"/>
                </a:lnTo>
                <a:lnTo>
                  <a:pt x="97557" y="86645"/>
                </a:lnTo>
                <a:lnTo>
                  <a:pt x="91285" y="88231"/>
                </a:lnTo>
                <a:lnTo>
                  <a:pt x="85410" y="89287"/>
                </a:lnTo>
                <a:lnTo>
                  <a:pt x="79800" y="89992"/>
                </a:lnTo>
                <a:lnTo>
                  <a:pt x="75213" y="91308"/>
                </a:lnTo>
                <a:lnTo>
                  <a:pt x="67859" y="95028"/>
                </a:lnTo>
                <a:lnTo>
                  <a:pt x="64713" y="97205"/>
                </a:lnTo>
                <a:lnTo>
                  <a:pt x="61769" y="99503"/>
                </a:lnTo>
                <a:lnTo>
                  <a:pt x="53340" y="1066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InkAnnotation165"/>
          <p:cNvSpPr/>
          <p:nvPr/>
        </p:nvSpPr>
        <p:spPr>
          <a:xfrm>
            <a:off x="5859360" y="4202280"/>
            <a:ext cx="615960" cy="865080"/>
          </a:xfrm>
          <a:custGeom>
            <a:avLst/>
            <a:gdLst>
              <a:gd name="textAreaLeft" fmla="*/ 0 w 615960"/>
              <a:gd name="textAreaRight" fmla="*/ 616320 w 6159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615553" h="864702">
                <a:moveTo>
                  <a:pt x="0" y="864701"/>
                </a:moveTo>
                <a:lnTo>
                  <a:pt x="140192" y="864701"/>
                </a:lnTo>
                <a:lnTo>
                  <a:pt x="188307" y="858670"/>
                </a:lnTo>
                <a:lnTo>
                  <a:pt x="196658" y="858140"/>
                </a:lnTo>
                <a:lnTo>
                  <a:pt x="235241" y="845970"/>
                </a:lnTo>
                <a:lnTo>
                  <a:pt x="269609" y="836385"/>
                </a:lnTo>
                <a:lnTo>
                  <a:pt x="311991" y="820663"/>
                </a:lnTo>
                <a:lnTo>
                  <a:pt x="352975" y="805108"/>
                </a:lnTo>
                <a:lnTo>
                  <a:pt x="393683" y="779646"/>
                </a:lnTo>
                <a:lnTo>
                  <a:pt x="434337" y="750157"/>
                </a:lnTo>
                <a:lnTo>
                  <a:pt x="470934" y="719872"/>
                </a:lnTo>
                <a:lnTo>
                  <a:pt x="502623" y="687738"/>
                </a:lnTo>
                <a:lnTo>
                  <a:pt x="525691" y="656104"/>
                </a:lnTo>
                <a:lnTo>
                  <a:pt x="547766" y="628199"/>
                </a:lnTo>
                <a:lnTo>
                  <a:pt x="565409" y="593025"/>
                </a:lnTo>
                <a:lnTo>
                  <a:pt x="591687" y="525191"/>
                </a:lnTo>
                <a:lnTo>
                  <a:pt x="602975" y="486493"/>
                </a:lnTo>
                <a:lnTo>
                  <a:pt x="606656" y="458695"/>
                </a:lnTo>
                <a:lnTo>
                  <a:pt x="609138" y="429407"/>
                </a:lnTo>
                <a:lnTo>
                  <a:pt x="613064" y="399457"/>
                </a:lnTo>
                <a:lnTo>
                  <a:pt x="615372" y="369212"/>
                </a:lnTo>
                <a:lnTo>
                  <a:pt x="615552" y="338837"/>
                </a:lnTo>
                <a:lnTo>
                  <a:pt x="611740" y="292329"/>
                </a:lnTo>
                <a:lnTo>
                  <a:pt x="610551" y="258665"/>
                </a:lnTo>
                <a:lnTo>
                  <a:pt x="607764" y="226204"/>
                </a:lnTo>
                <a:lnTo>
                  <a:pt x="602858" y="194844"/>
                </a:lnTo>
                <a:lnTo>
                  <a:pt x="595032" y="163973"/>
                </a:lnTo>
                <a:lnTo>
                  <a:pt x="581106" y="113988"/>
                </a:lnTo>
                <a:lnTo>
                  <a:pt x="571254" y="83728"/>
                </a:lnTo>
                <a:lnTo>
                  <a:pt x="560384" y="55321"/>
                </a:lnTo>
                <a:lnTo>
                  <a:pt x="547086" y="25763"/>
                </a:lnTo>
                <a:lnTo>
                  <a:pt x="532835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InkAnnotation166"/>
          <p:cNvSpPr/>
          <p:nvPr/>
        </p:nvSpPr>
        <p:spPr>
          <a:xfrm>
            <a:off x="5097600" y="3794040"/>
            <a:ext cx="1071360" cy="15876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71653" h="158694">
                <a:moveTo>
                  <a:pt x="1071652" y="158693"/>
                </a:moveTo>
                <a:lnTo>
                  <a:pt x="1053992" y="146319"/>
                </a:lnTo>
                <a:lnTo>
                  <a:pt x="1020014" y="126421"/>
                </a:lnTo>
                <a:lnTo>
                  <a:pt x="984451" y="109801"/>
                </a:lnTo>
                <a:lnTo>
                  <a:pt x="947103" y="94152"/>
                </a:lnTo>
                <a:lnTo>
                  <a:pt x="905181" y="82837"/>
                </a:lnTo>
                <a:lnTo>
                  <a:pt x="864632" y="70076"/>
                </a:lnTo>
                <a:lnTo>
                  <a:pt x="825806" y="63661"/>
                </a:lnTo>
                <a:lnTo>
                  <a:pt x="783445" y="57715"/>
                </a:lnTo>
                <a:lnTo>
                  <a:pt x="742766" y="50591"/>
                </a:lnTo>
                <a:lnTo>
                  <a:pt x="699856" y="47164"/>
                </a:lnTo>
                <a:lnTo>
                  <a:pt x="659014" y="46148"/>
                </a:lnTo>
                <a:lnTo>
                  <a:pt x="543590" y="45731"/>
                </a:lnTo>
                <a:lnTo>
                  <a:pt x="505469" y="49769"/>
                </a:lnTo>
                <a:lnTo>
                  <a:pt x="471408" y="56327"/>
                </a:lnTo>
                <a:lnTo>
                  <a:pt x="435822" y="59588"/>
                </a:lnTo>
                <a:lnTo>
                  <a:pt x="402512" y="60554"/>
                </a:lnTo>
                <a:lnTo>
                  <a:pt x="350677" y="66938"/>
                </a:lnTo>
                <a:lnTo>
                  <a:pt x="309911" y="68256"/>
                </a:lnTo>
                <a:lnTo>
                  <a:pt x="259084" y="74569"/>
                </a:lnTo>
                <a:lnTo>
                  <a:pt x="218440" y="75878"/>
                </a:lnTo>
                <a:lnTo>
                  <a:pt x="168086" y="69611"/>
                </a:lnTo>
                <a:lnTo>
                  <a:pt x="132011" y="62700"/>
                </a:lnTo>
                <a:lnTo>
                  <a:pt x="89274" y="48190"/>
                </a:lnTo>
                <a:lnTo>
                  <a:pt x="57100" y="35551"/>
                </a:lnTo>
                <a:lnTo>
                  <a:pt x="24695" y="15240"/>
                </a:lnTo>
                <a:lnTo>
                  <a:pt x="10401" y="338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InkAnnotation167"/>
          <p:cNvSpPr/>
          <p:nvPr/>
        </p:nvSpPr>
        <p:spPr>
          <a:xfrm>
            <a:off x="6210360" y="3726000"/>
            <a:ext cx="206280" cy="236520"/>
          </a:xfrm>
          <a:custGeom>
            <a:avLst/>
            <a:gdLst>
              <a:gd name="textAreaLeft" fmla="*/ 0 w 206280"/>
              <a:gd name="textAreaRight" fmla="*/ 206640 w 206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05568" h="235984">
                <a:moveTo>
                  <a:pt x="114126" y="0"/>
                </a:moveTo>
                <a:lnTo>
                  <a:pt x="114126" y="10606"/>
                </a:lnTo>
                <a:lnTo>
                  <a:pt x="111868" y="17696"/>
                </a:lnTo>
                <a:lnTo>
                  <a:pt x="110081" y="21957"/>
                </a:lnTo>
                <a:lnTo>
                  <a:pt x="107196" y="27338"/>
                </a:lnTo>
                <a:lnTo>
                  <a:pt x="103579" y="33466"/>
                </a:lnTo>
                <a:lnTo>
                  <a:pt x="95046" y="47047"/>
                </a:lnTo>
                <a:lnTo>
                  <a:pt x="70775" y="83994"/>
                </a:lnTo>
                <a:lnTo>
                  <a:pt x="64905" y="91556"/>
                </a:lnTo>
                <a:lnTo>
                  <a:pt x="58452" y="99138"/>
                </a:lnTo>
                <a:lnTo>
                  <a:pt x="51610" y="106732"/>
                </a:lnTo>
                <a:lnTo>
                  <a:pt x="45356" y="114334"/>
                </a:lnTo>
                <a:lnTo>
                  <a:pt x="39492" y="121943"/>
                </a:lnTo>
                <a:lnTo>
                  <a:pt x="33890" y="129556"/>
                </a:lnTo>
                <a:lnTo>
                  <a:pt x="23150" y="144787"/>
                </a:lnTo>
                <a:lnTo>
                  <a:pt x="17916" y="152405"/>
                </a:lnTo>
                <a:lnTo>
                  <a:pt x="13579" y="159177"/>
                </a:lnTo>
                <a:lnTo>
                  <a:pt x="9842" y="165384"/>
                </a:lnTo>
                <a:lnTo>
                  <a:pt x="6503" y="171217"/>
                </a:lnTo>
                <a:lnTo>
                  <a:pt x="4278" y="176798"/>
                </a:lnTo>
                <a:lnTo>
                  <a:pt x="2794" y="182212"/>
                </a:lnTo>
                <a:lnTo>
                  <a:pt x="1805" y="187514"/>
                </a:lnTo>
                <a:lnTo>
                  <a:pt x="1145" y="192743"/>
                </a:lnTo>
                <a:lnTo>
                  <a:pt x="705" y="197922"/>
                </a:lnTo>
                <a:lnTo>
                  <a:pt x="217" y="207345"/>
                </a:lnTo>
                <a:lnTo>
                  <a:pt x="0" y="214356"/>
                </a:lnTo>
                <a:lnTo>
                  <a:pt x="1636" y="218258"/>
                </a:lnTo>
                <a:lnTo>
                  <a:pt x="4419" y="222551"/>
                </a:lnTo>
                <a:lnTo>
                  <a:pt x="7968" y="227108"/>
                </a:lnTo>
                <a:lnTo>
                  <a:pt x="12028" y="230145"/>
                </a:lnTo>
                <a:lnTo>
                  <a:pt x="16427" y="232170"/>
                </a:lnTo>
                <a:lnTo>
                  <a:pt x="21053" y="233520"/>
                </a:lnTo>
                <a:lnTo>
                  <a:pt x="26678" y="234420"/>
                </a:lnTo>
                <a:lnTo>
                  <a:pt x="32967" y="235020"/>
                </a:lnTo>
                <a:lnTo>
                  <a:pt x="39700" y="235420"/>
                </a:lnTo>
                <a:lnTo>
                  <a:pt x="56212" y="235865"/>
                </a:lnTo>
                <a:lnTo>
                  <a:pt x="65357" y="235983"/>
                </a:lnTo>
                <a:lnTo>
                  <a:pt x="75687" y="235215"/>
                </a:lnTo>
                <a:lnTo>
                  <a:pt x="86806" y="233857"/>
                </a:lnTo>
                <a:lnTo>
                  <a:pt x="98453" y="232104"/>
                </a:lnTo>
                <a:lnTo>
                  <a:pt x="109604" y="230090"/>
                </a:lnTo>
                <a:lnTo>
                  <a:pt x="120425" y="227900"/>
                </a:lnTo>
                <a:lnTo>
                  <a:pt x="166171" y="218302"/>
                </a:lnTo>
                <a:lnTo>
                  <a:pt x="175916" y="216654"/>
                </a:lnTo>
                <a:lnTo>
                  <a:pt x="184107" y="215557"/>
                </a:lnTo>
                <a:lnTo>
                  <a:pt x="205567" y="2133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InkAnnotation168"/>
          <p:cNvSpPr/>
          <p:nvPr/>
        </p:nvSpPr>
        <p:spPr>
          <a:xfrm>
            <a:off x="6454800" y="3855960"/>
            <a:ext cx="387360" cy="76320"/>
          </a:xfrm>
          <a:custGeom>
            <a:avLst/>
            <a:gdLst>
              <a:gd name="textAreaLeft" fmla="*/ 0 w 387360"/>
              <a:gd name="textAreaRight" fmla="*/ 387720 w 387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388108" h="76201">
                <a:moveTo>
                  <a:pt x="113787" y="0"/>
                </a:moveTo>
                <a:lnTo>
                  <a:pt x="62818" y="0"/>
                </a:lnTo>
                <a:lnTo>
                  <a:pt x="52752" y="2258"/>
                </a:lnTo>
                <a:lnTo>
                  <a:pt x="47697" y="4045"/>
                </a:lnTo>
                <a:lnTo>
                  <a:pt x="41787" y="5237"/>
                </a:lnTo>
                <a:lnTo>
                  <a:pt x="35307" y="6031"/>
                </a:lnTo>
                <a:lnTo>
                  <a:pt x="28447" y="6561"/>
                </a:lnTo>
                <a:lnTo>
                  <a:pt x="23027" y="7760"/>
                </a:lnTo>
                <a:lnTo>
                  <a:pt x="18567" y="9407"/>
                </a:lnTo>
                <a:lnTo>
                  <a:pt x="14747" y="11352"/>
                </a:lnTo>
                <a:lnTo>
                  <a:pt x="8245" y="13512"/>
                </a:lnTo>
                <a:lnTo>
                  <a:pt x="0" y="15139"/>
                </a:lnTo>
                <a:lnTo>
                  <a:pt x="1972" y="17453"/>
                </a:lnTo>
                <a:lnTo>
                  <a:pt x="3684" y="19255"/>
                </a:lnTo>
                <a:lnTo>
                  <a:pt x="5672" y="20457"/>
                </a:lnTo>
                <a:lnTo>
                  <a:pt x="10138" y="21792"/>
                </a:lnTo>
                <a:lnTo>
                  <a:pt x="21458" y="22544"/>
                </a:lnTo>
                <a:lnTo>
                  <a:pt x="31491" y="22767"/>
                </a:lnTo>
                <a:lnTo>
                  <a:pt x="55340" y="22858"/>
                </a:lnTo>
                <a:lnTo>
                  <a:pt x="57043" y="23706"/>
                </a:lnTo>
                <a:lnTo>
                  <a:pt x="58177" y="25117"/>
                </a:lnTo>
                <a:lnTo>
                  <a:pt x="58935" y="26905"/>
                </a:lnTo>
                <a:lnTo>
                  <a:pt x="58592" y="28096"/>
                </a:lnTo>
                <a:lnTo>
                  <a:pt x="57517" y="28891"/>
                </a:lnTo>
                <a:lnTo>
                  <a:pt x="55953" y="29421"/>
                </a:lnTo>
                <a:lnTo>
                  <a:pt x="54912" y="30621"/>
                </a:lnTo>
                <a:lnTo>
                  <a:pt x="54217" y="32267"/>
                </a:lnTo>
                <a:lnTo>
                  <a:pt x="53754" y="34212"/>
                </a:lnTo>
                <a:lnTo>
                  <a:pt x="52599" y="36354"/>
                </a:lnTo>
                <a:lnTo>
                  <a:pt x="50981" y="38630"/>
                </a:lnTo>
                <a:lnTo>
                  <a:pt x="49056" y="40993"/>
                </a:lnTo>
                <a:lnTo>
                  <a:pt x="46927" y="43416"/>
                </a:lnTo>
                <a:lnTo>
                  <a:pt x="44660" y="45878"/>
                </a:lnTo>
                <a:lnTo>
                  <a:pt x="42302" y="48365"/>
                </a:lnTo>
                <a:lnTo>
                  <a:pt x="40731" y="50870"/>
                </a:lnTo>
                <a:lnTo>
                  <a:pt x="39683" y="53387"/>
                </a:lnTo>
                <a:lnTo>
                  <a:pt x="38984" y="55911"/>
                </a:lnTo>
                <a:lnTo>
                  <a:pt x="38519" y="58441"/>
                </a:lnTo>
                <a:lnTo>
                  <a:pt x="38208" y="60973"/>
                </a:lnTo>
                <a:lnTo>
                  <a:pt x="37710" y="67077"/>
                </a:lnTo>
                <a:lnTo>
                  <a:pt x="38516" y="68425"/>
                </a:lnTo>
                <a:lnTo>
                  <a:pt x="39900" y="70170"/>
                </a:lnTo>
                <a:lnTo>
                  <a:pt x="41669" y="72180"/>
                </a:lnTo>
                <a:lnTo>
                  <a:pt x="43695" y="73520"/>
                </a:lnTo>
                <a:lnTo>
                  <a:pt x="48204" y="75009"/>
                </a:lnTo>
                <a:lnTo>
                  <a:pt x="59548" y="75847"/>
                </a:lnTo>
                <a:lnTo>
                  <a:pt x="71053" y="73785"/>
                </a:lnTo>
                <a:lnTo>
                  <a:pt x="77678" y="72050"/>
                </a:lnTo>
                <a:lnTo>
                  <a:pt x="84635" y="70047"/>
                </a:lnTo>
                <a:lnTo>
                  <a:pt x="99137" y="65564"/>
                </a:lnTo>
                <a:lnTo>
                  <a:pt x="105713" y="63182"/>
                </a:lnTo>
                <a:lnTo>
                  <a:pt x="111791" y="60748"/>
                </a:lnTo>
                <a:lnTo>
                  <a:pt x="117537" y="58279"/>
                </a:lnTo>
                <a:lnTo>
                  <a:pt x="123907" y="55786"/>
                </a:lnTo>
                <a:lnTo>
                  <a:pt x="137758" y="50759"/>
                </a:lnTo>
                <a:lnTo>
                  <a:pt x="144161" y="48232"/>
                </a:lnTo>
                <a:lnTo>
                  <a:pt x="150123" y="45702"/>
                </a:lnTo>
                <a:lnTo>
                  <a:pt x="161263" y="40632"/>
                </a:lnTo>
                <a:lnTo>
                  <a:pt x="171859" y="35556"/>
                </a:lnTo>
                <a:lnTo>
                  <a:pt x="176208" y="33018"/>
                </a:lnTo>
                <a:lnTo>
                  <a:pt x="179954" y="30479"/>
                </a:lnTo>
                <a:lnTo>
                  <a:pt x="188006" y="24365"/>
                </a:lnTo>
                <a:lnTo>
                  <a:pt x="191364" y="23529"/>
                </a:lnTo>
                <a:lnTo>
                  <a:pt x="196374" y="22992"/>
                </a:lnTo>
                <a:lnTo>
                  <a:pt x="196785" y="23795"/>
                </a:lnTo>
                <a:lnTo>
                  <a:pt x="197059" y="25177"/>
                </a:lnTo>
                <a:lnTo>
                  <a:pt x="197242" y="26945"/>
                </a:lnTo>
                <a:lnTo>
                  <a:pt x="198210" y="28970"/>
                </a:lnTo>
                <a:lnTo>
                  <a:pt x="199703" y="31166"/>
                </a:lnTo>
                <a:lnTo>
                  <a:pt x="201545" y="33477"/>
                </a:lnTo>
                <a:lnTo>
                  <a:pt x="202772" y="35865"/>
                </a:lnTo>
                <a:lnTo>
                  <a:pt x="203590" y="38304"/>
                </a:lnTo>
                <a:lnTo>
                  <a:pt x="204135" y="40776"/>
                </a:lnTo>
                <a:lnTo>
                  <a:pt x="204499" y="43271"/>
                </a:lnTo>
                <a:lnTo>
                  <a:pt x="204741" y="45781"/>
                </a:lnTo>
                <a:lnTo>
                  <a:pt x="204903" y="48301"/>
                </a:lnTo>
                <a:lnTo>
                  <a:pt x="205011" y="50827"/>
                </a:lnTo>
                <a:lnTo>
                  <a:pt x="205131" y="55892"/>
                </a:lnTo>
                <a:lnTo>
                  <a:pt x="206009" y="58428"/>
                </a:lnTo>
                <a:lnTo>
                  <a:pt x="207442" y="60966"/>
                </a:lnTo>
                <a:lnTo>
                  <a:pt x="209243" y="63504"/>
                </a:lnTo>
                <a:lnTo>
                  <a:pt x="210445" y="66043"/>
                </a:lnTo>
                <a:lnTo>
                  <a:pt x="211246" y="68582"/>
                </a:lnTo>
                <a:lnTo>
                  <a:pt x="211780" y="71121"/>
                </a:lnTo>
                <a:lnTo>
                  <a:pt x="212982" y="72814"/>
                </a:lnTo>
                <a:lnTo>
                  <a:pt x="214631" y="73943"/>
                </a:lnTo>
                <a:lnTo>
                  <a:pt x="218720" y="75197"/>
                </a:lnTo>
                <a:lnTo>
                  <a:pt x="230731" y="76068"/>
                </a:lnTo>
                <a:lnTo>
                  <a:pt x="238012" y="73884"/>
                </a:lnTo>
                <a:lnTo>
                  <a:pt x="242323" y="72116"/>
                </a:lnTo>
                <a:lnTo>
                  <a:pt x="246044" y="70091"/>
                </a:lnTo>
                <a:lnTo>
                  <a:pt x="249372" y="67894"/>
                </a:lnTo>
                <a:lnTo>
                  <a:pt x="252438" y="65583"/>
                </a:lnTo>
                <a:lnTo>
                  <a:pt x="256174" y="63195"/>
                </a:lnTo>
                <a:lnTo>
                  <a:pt x="260358" y="60757"/>
                </a:lnTo>
                <a:lnTo>
                  <a:pt x="264842" y="58285"/>
                </a:lnTo>
                <a:lnTo>
                  <a:pt x="268676" y="56636"/>
                </a:lnTo>
                <a:lnTo>
                  <a:pt x="275196" y="54805"/>
                </a:lnTo>
                <a:lnTo>
                  <a:pt x="278966" y="52624"/>
                </a:lnTo>
                <a:lnTo>
                  <a:pt x="283173" y="49476"/>
                </a:lnTo>
                <a:lnTo>
                  <a:pt x="294001" y="40347"/>
                </a:lnTo>
                <a:lnTo>
                  <a:pt x="295737" y="38752"/>
                </a:lnTo>
                <a:lnTo>
                  <a:pt x="303903" y="30852"/>
                </a:lnTo>
                <a:lnTo>
                  <a:pt x="306375" y="32903"/>
                </a:lnTo>
                <a:lnTo>
                  <a:pt x="310814" y="37074"/>
                </a:lnTo>
                <a:lnTo>
                  <a:pt x="329790" y="55985"/>
                </a:lnTo>
                <a:lnTo>
                  <a:pt x="333143" y="58491"/>
                </a:lnTo>
                <a:lnTo>
                  <a:pt x="337071" y="61007"/>
                </a:lnTo>
                <a:lnTo>
                  <a:pt x="341383" y="63531"/>
                </a:lnTo>
                <a:lnTo>
                  <a:pt x="345104" y="65215"/>
                </a:lnTo>
                <a:lnTo>
                  <a:pt x="351497" y="67084"/>
                </a:lnTo>
                <a:lnTo>
                  <a:pt x="356080" y="68430"/>
                </a:lnTo>
                <a:lnTo>
                  <a:pt x="367946" y="72182"/>
                </a:lnTo>
                <a:lnTo>
                  <a:pt x="377171" y="74414"/>
                </a:lnTo>
                <a:lnTo>
                  <a:pt x="388107" y="762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InkAnnotation169"/>
          <p:cNvSpPr/>
          <p:nvPr/>
        </p:nvSpPr>
        <p:spPr>
          <a:xfrm>
            <a:off x="6797520" y="3825720"/>
            <a:ext cx="182880" cy="262080"/>
          </a:xfrm>
          <a:custGeom>
            <a:avLst/>
            <a:gdLst>
              <a:gd name="textAreaLeft" fmla="*/ 0 w 182880"/>
              <a:gd name="textAreaRight" fmla="*/ 183240 w 1828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82736" h="261960">
                <a:moveTo>
                  <a:pt x="137160" y="45302"/>
                </a:moveTo>
                <a:lnTo>
                  <a:pt x="137160" y="41257"/>
                </a:lnTo>
                <a:lnTo>
                  <a:pt x="138006" y="40066"/>
                </a:lnTo>
                <a:lnTo>
                  <a:pt x="139419" y="39271"/>
                </a:lnTo>
                <a:lnTo>
                  <a:pt x="141205" y="38741"/>
                </a:lnTo>
                <a:lnTo>
                  <a:pt x="142397" y="37542"/>
                </a:lnTo>
                <a:lnTo>
                  <a:pt x="143191" y="35895"/>
                </a:lnTo>
                <a:lnTo>
                  <a:pt x="143722" y="33951"/>
                </a:lnTo>
                <a:lnTo>
                  <a:pt x="146567" y="29533"/>
                </a:lnTo>
                <a:lnTo>
                  <a:pt x="148511" y="27169"/>
                </a:lnTo>
                <a:lnTo>
                  <a:pt x="149808" y="24747"/>
                </a:lnTo>
                <a:lnTo>
                  <a:pt x="151889" y="17033"/>
                </a:lnTo>
                <a:lnTo>
                  <a:pt x="152172" y="14958"/>
                </a:lnTo>
                <a:lnTo>
                  <a:pt x="152299" y="11214"/>
                </a:lnTo>
                <a:lnTo>
                  <a:pt x="151485" y="9030"/>
                </a:lnTo>
                <a:lnTo>
                  <a:pt x="148325" y="4346"/>
                </a:lnTo>
                <a:lnTo>
                  <a:pt x="145450" y="2758"/>
                </a:lnTo>
                <a:lnTo>
                  <a:pt x="141840" y="1699"/>
                </a:lnTo>
                <a:lnTo>
                  <a:pt x="137740" y="994"/>
                </a:lnTo>
                <a:lnTo>
                  <a:pt x="132466" y="523"/>
                </a:lnTo>
                <a:lnTo>
                  <a:pt x="126411" y="209"/>
                </a:lnTo>
                <a:lnTo>
                  <a:pt x="119835" y="0"/>
                </a:lnTo>
                <a:lnTo>
                  <a:pt x="112910" y="708"/>
                </a:lnTo>
                <a:lnTo>
                  <a:pt x="105753" y="2026"/>
                </a:lnTo>
                <a:lnTo>
                  <a:pt x="98442" y="3751"/>
                </a:lnTo>
                <a:lnTo>
                  <a:pt x="91028" y="5748"/>
                </a:lnTo>
                <a:lnTo>
                  <a:pt x="76018" y="10225"/>
                </a:lnTo>
                <a:lnTo>
                  <a:pt x="69305" y="13451"/>
                </a:lnTo>
                <a:lnTo>
                  <a:pt x="63136" y="17294"/>
                </a:lnTo>
                <a:lnTo>
                  <a:pt x="57332" y="21551"/>
                </a:lnTo>
                <a:lnTo>
                  <a:pt x="51768" y="25234"/>
                </a:lnTo>
                <a:lnTo>
                  <a:pt x="46366" y="28537"/>
                </a:lnTo>
                <a:lnTo>
                  <a:pt x="41071" y="31586"/>
                </a:lnTo>
                <a:lnTo>
                  <a:pt x="37540" y="34465"/>
                </a:lnTo>
                <a:lnTo>
                  <a:pt x="35186" y="37230"/>
                </a:lnTo>
                <a:lnTo>
                  <a:pt x="33617" y="39921"/>
                </a:lnTo>
                <a:lnTo>
                  <a:pt x="31875" y="45168"/>
                </a:lnTo>
                <a:lnTo>
                  <a:pt x="31410" y="47753"/>
                </a:lnTo>
                <a:lnTo>
                  <a:pt x="32794" y="50322"/>
                </a:lnTo>
                <a:lnTo>
                  <a:pt x="35409" y="52882"/>
                </a:lnTo>
                <a:lnTo>
                  <a:pt x="38847" y="55436"/>
                </a:lnTo>
                <a:lnTo>
                  <a:pt x="42831" y="57984"/>
                </a:lnTo>
                <a:lnTo>
                  <a:pt x="47181" y="60530"/>
                </a:lnTo>
                <a:lnTo>
                  <a:pt x="51774" y="63074"/>
                </a:lnTo>
                <a:lnTo>
                  <a:pt x="57376" y="64770"/>
                </a:lnTo>
                <a:lnTo>
                  <a:pt x="63651" y="65901"/>
                </a:lnTo>
                <a:lnTo>
                  <a:pt x="70374" y="66655"/>
                </a:lnTo>
                <a:lnTo>
                  <a:pt x="77395" y="67157"/>
                </a:lnTo>
                <a:lnTo>
                  <a:pt x="84617" y="67492"/>
                </a:lnTo>
                <a:lnTo>
                  <a:pt x="91971" y="67716"/>
                </a:lnTo>
                <a:lnTo>
                  <a:pt x="100261" y="67018"/>
                </a:lnTo>
                <a:lnTo>
                  <a:pt x="109174" y="65706"/>
                </a:lnTo>
                <a:lnTo>
                  <a:pt x="118503" y="63984"/>
                </a:lnTo>
                <a:lnTo>
                  <a:pt x="126415" y="61990"/>
                </a:lnTo>
                <a:lnTo>
                  <a:pt x="133383" y="59814"/>
                </a:lnTo>
                <a:lnTo>
                  <a:pt x="139722" y="57517"/>
                </a:lnTo>
                <a:lnTo>
                  <a:pt x="145642" y="55138"/>
                </a:lnTo>
                <a:lnTo>
                  <a:pt x="151281" y="52706"/>
                </a:lnTo>
                <a:lnTo>
                  <a:pt x="156735" y="50238"/>
                </a:lnTo>
                <a:lnTo>
                  <a:pt x="161216" y="48593"/>
                </a:lnTo>
                <a:lnTo>
                  <a:pt x="165051" y="47496"/>
                </a:lnTo>
                <a:lnTo>
                  <a:pt x="168454" y="46765"/>
                </a:lnTo>
                <a:lnTo>
                  <a:pt x="171569" y="45431"/>
                </a:lnTo>
                <a:lnTo>
                  <a:pt x="174493" y="43694"/>
                </a:lnTo>
                <a:lnTo>
                  <a:pt x="182735" y="37786"/>
                </a:lnTo>
                <a:lnTo>
                  <a:pt x="178792" y="41758"/>
                </a:lnTo>
                <a:lnTo>
                  <a:pt x="177614" y="43786"/>
                </a:lnTo>
                <a:lnTo>
                  <a:pt x="176306" y="48297"/>
                </a:lnTo>
                <a:lnTo>
                  <a:pt x="171209" y="55383"/>
                </a:lnTo>
                <a:lnTo>
                  <a:pt x="167480" y="59642"/>
                </a:lnTo>
                <a:lnTo>
                  <a:pt x="164146" y="64176"/>
                </a:lnTo>
                <a:lnTo>
                  <a:pt x="161078" y="68891"/>
                </a:lnTo>
                <a:lnTo>
                  <a:pt x="158185" y="73728"/>
                </a:lnTo>
                <a:lnTo>
                  <a:pt x="156257" y="78646"/>
                </a:lnTo>
                <a:lnTo>
                  <a:pt x="154971" y="83618"/>
                </a:lnTo>
                <a:lnTo>
                  <a:pt x="154115" y="88626"/>
                </a:lnTo>
                <a:lnTo>
                  <a:pt x="152696" y="94505"/>
                </a:lnTo>
                <a:lnTo>
                  <a:pt x="150904" y="100964"/>
                </a:lnTo>
                <a:lnTo>
                  <a:pt x="148862" y="107810"/>
                </a:lnTo>
                <a:lnTo>
                  <a:pt x="148348" y="114067"/>
                </a:lnTo>
                <a:lnTo>
                  <a:pt x="148852" y="119933"/>
                </a:lnTo>
                <a:lnTo>
                  <a:pt x="150034" y="125536"/>
                </a:lnTo>
                <a:lnTo>
                  <a:pt x="150824" y="130964"/>
                </a:lnTo>
                <a:lnTo>
                  <a:pt x="151349" y="136277"/>
                </a:lnTo>
                <a:lnTo>
                  <a:pt x="151699" y="141512"/>
                </a:lnTo>
                <a:lnTo>
                  <a:pt x="151934" y="147542"/>
                </a:lnTo>
                <a:lnTo>
                  <a:pt x="152261" y="168165"/>
                </a:lnTo>
                <a:lnTo>
                  <a:pt x="152339" y="182881"/>
                </a:lnTo>
                <a:lnTo>
                  <a:pt x="151513" y="189515"/>
                </a:lnTo>
                <a:lnTo>
                  <a:pt x="150115" y="195631"/>
                </a:lnTo>
                <a:lnTo>
                  <a:pt x="148336" y="201401"/>
                </a:lnTo>
                <a:lnTo>
                  <a:pt x="147151" y="206942"/>
                </a:lnTo>
                <a:lnTo>
                  <a:pt x="146362" y="212328"/>
                </a:lnTo>
                <a:lnTo>
                  <a:pt x="145834" y="217613"/>
                </a:lnTo>
                <a:lnTo>
                  <a:pt x="144636" y="222829"/>
                </a:lnTo>
                <a:lnTo>
                  <a:pt x="142991" y="228000"/>
                </a:lnTo>
                <a:lnTo>
                  <a:pt x="141047" y="233141"/>
                </a:lnTo>
                <a:lnTo>
                  <a:pt x="136630" y="241110"/>
                </a:lnTo>
                <a:lnTo>
                  <a:pt x="131844" y="247475"/>
                </a:lnTo>
                <a:lnTo>
                  <a:pt x="126896" y="253126"/>
                </a:lnTo>
                <a:lnTo>
                  <a:pt x="123543" y="255818"/>
                </a:lnTo>
                <a:lnTo>
                  <a:pt x="119616" y="258459"/>
                </a:lnTo>
                <a:lnTo>
                  <a:pt x="115304" y="261067"/>
                </a:lnTo>
                <a:lnTo>
                  <a:pt x="110736" y="261959"/>
                </a:lnTo>
                <a:lnTo>
                  <a:pt x="105998" y="261706"/>
                </a:lnTo>
                <a:lnTo>
                  <a:pt x="101144" y="260692"/>
                </a:lnTo>
                <a:lnTo>
                  <a:pt x="95370" y="260015"/>
                </a:lnTo>
                <a:lnTo>
                  <a:pt x="88981" y="259565"/>
                </a:lnTo>
                <a:lnTo>
                  <a:pt x="82180" y="259264"/>
                </a:lnTo>
                <a:lnTo>
                  <a:pt x="75107" y="257370"/>
                </a:lnTo>
                <a:lnTo>
                  <a:pt x="67852" y="254414"/>
                </a:lnTo>
                <a:lnTo>
                  <a:pt x="42002" y="241548"/>
                </a:lnTo>
                <a:lnTo>
                  <a:pt x="36468" y="237093"/>
                </a:lnTo>
                <a:lnTo>
                  <a:pt x="31086" y="231582"/>
                </a:lnTo>
                <a:lnTo>
                  <a:pt x="25804" y="225369"/>
                </a:lnTo>
                <a:lnTo>
                  <a:pt x="20590" y="219533"/>
                </a:lnTo>
                <a:lnTo>
                  <a:pt x="10280" y="208534"/>
                </a:lnTo>
                <a:lnTo>
                  <a:pt x="6853" y="203230"/>
                </a:lnTo>
                <a:lnTo>
                  <a:pt x="4570" y="198001"/>
                </a:lnTo>
                <a:lnTo>
                  <a:pt x="0" y="18246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InkAnnotation170"/>
          <p:cNvSpPr/>
          <p:nvPr/>
        </p:nvSpPr>
        <p:spPr>
          <a:xfrm>
            <a:off x="7064280" y="3763800"/>
            <a:ext cx="22320" cy="190800"/>
          </a:xfrm>
          <a:custGeom>
            <a:avLst/>
            <a:gdLst>
              <a:gd name="textAreaLeft" fmla="*/ 0 w 22320"/>
              <a:gd name="textAreaRight" fmla="*/ 22320 w 2232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2738" h="190501">
                <a:moveTo>
                  <a:pt x="22737" y="0"/>
                </a:moveTo>
                <a:lnTo>
                  <a:pt x="22737" y="6561"/>
                </a:lnTo>
                <a:lnTo>
                  <a:pt x="21891" y="7760"/>
                </a:lnTo>
                <a:lnTo>
                  <a:pt x="20479" y="9407"/>
                </a:lnTo>
                <a:lnTo>
                  <a:pt x="18692" y="11352"/>
                </a:lnTo>
                <a:lnTo>
                  <a:pt x="17500" y="14341"/>
                </a:lnTo>
                <a:lnTo>
                  <a:pt x="16706" y="18027"/>
                </a:lnTo>
                <a:lnTo>
                  <a:pt x="16175" y="22178"/>
                </a:lnTo>
                <a:lnTo>
                  <a:pt x="14977" y="26639"/>
                </a:lnTo>
                <a:lnTo>
                  <a:pt x="13331" y="31306"/>
                </a:lnTo>
                <a:lnTo>
                  <a:pt x="11387" y="36111"/>
                </a:lnTo>
                <a:lnTo>
                  <a:pt x="6968" y="48222"/>
                </a:lnTo>
                <a:lnTo>
                  <a:pt x="4604" y="55008"/>
                </a:lnTo>
                <a:lnTo>
                  <a:pt x="3028" y="62072"/>
                </a:lnTo>
                <a:lnTo>
                  <a:pt x="1979" y="69321"/>
                </a:lnTo>
                <a:lnTo>
                  <a:pt x="1278" y="76694"/>
                </a:lnTo>
                <a:lnTo>
                  <a:pt x="811" y="84150"/>
                </a:lnTo>
                <a:lnTo>
                  <a:pt x="292" y="99206"/>
                </a:lnTo>
                <a:lnTo>
                  <a:pt x="0" y="121963"/>
                </a:lnTo>
                <a:lnTo>
                  <a:pt x="805" y="129569"/>
                </a:lnTo>
                <a:lnTo>
                  <a:pt x="2189" y="137180"/>
                </a:lnTo>
                <a:lnTo>
                  <a:pt x="3958" y="144793"/>
                </a:lnTo>
                <a:lnTo>
                  <a:pt x="5138" y="151562"/>
                </a:lnTo>
                <a:lnTo>
                  <a:pt x="5924" y="157768"/>
                </a:lnTo>
                <a:lnTo>
                  <a:pt x="6449" y="163599"/>
                </a:lnTo>
                <a:lnTo>
                  <a:pt x="6798" y="168333"/>
                </a:lnTo>
                <a:lnTo>
                  <a:pt x="7187" y="175850"/>
                </a:lnTo>
                <a:lnTo>
                  <a:pt x="7360" y="182014"/>
                </a:lnTo>
                <a:lnTo>
                  <a:pt x="7497" y="1905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InkAnnotation171"/>
          <p:cNvSpPr/>
          <p:nvPr/>
        </p:nvSpPr>
        <p:spPr>
          <a:xfrm>
            <a:off x="6988320" y="382572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129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3" y="4045"/>
                </a:lnTo>
                <a:lnTo>
                  <a:pt x="8609" y="6084"/>
                </a:lnTo>
                <a:lnTo>
                  <a:pt x="11665" y="8289"/>
                </a:lnTo>
                <a:lnTo>
                  <a:pt x="15397" y="10606"/>
                </a:lnTo>
                <a:lnTo>
                  <a:pt x="20425" y="12997"/>
                </a:lnTo>
                <a:lnTo>
                  <a:pt x="26317" y="15438"/>
                </a:lnTo>
                <a:lnTo>
                  <a:pt x="32784" y="17912"/>
                </a:lnTo>
                <a:lnTo>
                  <a:pt x="39636" y="19561"/>
                </a:lnTo>
                <a:lnTo>
                  <a:pt x="46745" y="20661"/>
                </a:lnTo>
                <a:lnTo>
                  <a:pt x="54023" y="21394"/>
                </a:lnTo>
                <a:lnTo>
                  <a:pt x="61415" y="22729"/>
                </a:lnTo>
                <a:lnTo>
                  <a:pt x="68884" y="24466"/>
                </a:lnTo>
                <a:lnTo>
                  <a:pt x="76402" y="26471"/>
                </a:lnTo>
                <a:lnTo>
                  <a:pt x="83955" y="27807"/>
                </a:lnTo>
                <a:lnTo>
                  <a:pt x="91530" y="28698"/>
                </a:lnTo>
                <a:lnTo>
                  <a:pt x="99120" y="29292"/>
                </a:lnTo>
                <a:lnTo>
                  <a:pt x="105874" y="29688"/>
                </a:lnTo>
                <a:lnTo>
                  <a:pt x="117894" y="30128"/>
                </a:lnTo>
                <a:lnTo>
                  <a:pt x="123469" y="29399"/>
                </a:lnTo>
                <a:lnTo>
                  <a:pt x="128880" y="28066"/>
                </a:lnTo>
                <a:lnTo>
                  <a:pt x="14478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InkAnnotation172"/>
          <p:cNvSpPr/>
          <p:nvPr/>
        </p:nvSpPr>
        <p:spPr>
          <a:xfrm>
            <a:off x="7170840" y="3684600"/>
            <a:ext cx="220680" cy="217440"/>
          </a:xfrm>
          <a:custGeom>
            <a:avLst/>
            <a:gdLst>
              <a:gd name="textAreaLeft" fmla="*/ 0 w 220680"/>
              <a:gd name="textAreaRight" fmla="*/ 221040 w 220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20981" h="217067">
                <a:moveTo>
                  <a:pt x="0" y="133246"/>
                </a:moveTo>
                <a:lnTo>
                  <a:pt x="0" y="125156"/>
                </a:lnTo>
                <a:lnTo>
                  <a:pt x="847" y="121079"/>
                </a:lnTo>
                <a:lnTo>
                  <a:pt x="2258" y="116668"/>
                </a:lnTo>
                <a:lnTo>
                  <a:pt x="4046" y="112034"/>
                </a:lnTo>
                <a:lnTo>
                  <a:pt x="5237" y="108098"/>
                </a:lnTo>
                <a:lnTo>
                  <a:pt x="6562" y="101467"/>
                </a:lnTo>
                <a:lnTo>
                  <a:pt x="6914" y="95974"/>
                </a:lnTo>
                <a:lnTo>
                  <a:pt x="7307" y="80838"/>
                </a:lnTo>
                <a:lnTo>
                  <a:pt x="7620" y="0"/>
                </a:lnTo>
                <a:lnTo>
                  <a:pt x="7620" y="43559"/>
                </a:lnTo>
                <a:lnTo>
                  <a:pt x="8467" y="51441"/>
                </a:lnTo>
                <a:lnTo>
                  <a:pt x="9879" y="60083"/>
                </a:lnTo>
                <a:lnTo>
                  <a:pt x="11666" y="69230"/>
                </a:lnTo>
                <a:lnTo>
                  <a:pt x="12857" y="77869"/>
                </a:lnTo>
                <a:lnTo>
                  <a:pt x="13652" y="86168"/>
                </a:lnTo>
                <a:lnTo>
                  <a:pt x="14182" y="94241"/>
                </a:lnTo>
                <a:lnTo>
                  <a:pt x="15381" y="103009"/>
                </a:lnTo>
                <a:lnTo>
                  <a:pt x="17027" y="112242"/>
                </a:lnTo>
                <a:lnTo>
                  <a:pt x="18971" y="121783"/>
                </a:lnTo>
                <a:lnTo>
                  <a:pt x="20268" y="131530"/>
                </a:lnTo>
                <a:lnTo>
                  <a:pt x="21132" y="141416"/>
                </a:lnTo>
                <a:lnTo>
                  <a:pt x="21708" y="151393"/>
                </a:lnTo>
                <a:lnTo>
                  <a:pt x="22939" y="159737"/>
                </a:lnTo>
                <a:lnTo>
                  <a:pt x="24605" y="166993"/>
                </a:lnTo>
                <a:lnTo>
                  <a:pt x="26564" y="173524"/>
                </a:lnTo>
                <a:lnTo>
                  <a:pt x="27869" y="179571"/>
                </a:lnTo>
                <a:lnTo>
                  <a:pt x="28740" y="185296"/>
                </a:lnTo>
                <a:lnTo>
                  <a:pt x="29320" y="190806"/>
                </a:lnTo>
                <a:lnTo>
                  <a:pt x="29706" y="195326"/>
                </a:lnTo>
                <a:lnTo>
                  <a:pt x="29964" y="199186"/>
                </a:lnTo>
                <a:lnTo>
                  <a:pt x="30251" y="205733"/>
                </a:lnTo>
                <a:lnTo>
                  <a:pt x="30472" y="216574"/>
                </a:lnTo>
                <a:lnTo>
                  <a:pt x="30478" y="208830"/>
                </a:lnTo>
                <a:lnTo>
                  <a:pt x="31325" y="204802"/>
                </a:lnTo>
                <a:lnTo>
                  <a:pt x="32737" y="200423"/>
                </a:lnTo>
                <a:lnTo>
                  <a:pt x="34525" y="195811"/>
                </a:lnTo>
                <a:lnTo>
                  <a:pt x="35716" y="191043"/>
                </a:lnTo>
                <a:lnTo>
                  <a:pt x="36511" y="186171"/>
                </a:lnTo>
                <a:lnTo>
                  <a:pt x="37041" y="181229"/>
                </a:lnTo>
                <a:lnTo>
                  <a:pt x="38241" y="175395"/>
                </a:lnTo>
                <a:lnTo>
                  <a:pt x="39887" y="168965"/>
                </a:lnTo>
                <a:lnTo>
                  <a:pt x="41831" y="162139"/>
                </a:lnTo>
                <a:lnTo>
                  <a:pt x="46250" y="147780"/>
                </a:lnTo>
                <a:lnTo>
                  <a:pt x="48613" y="140396"/>
                </a:lnTo>
                <a:lnTo>
                  <a:pt x="50189" y="134626"/>
                </a:lnTo>
                <a:lnTo>
                  <a:pt x="51239" y="129932"/>
                </a:lnTo>
                <a:lnTo>
                  <a:pt x="51939" y="125957"/>
                </a:lnTo>
                <a:lnTo>
                  <a:pt x="54975" y="119282"/>
                </a:lnTo>
                <a:lnTo>
                  <a:pt x="59778" y="112143"/>
                </a:lnTo>
                <a:lnTo>
                  <a:pt x="61866" y="112404"/>
                </a:lnTo>
                <a:lnTo>
                  <a:pt x="68700" y="114952"/>
                </a:lnTo>
                <a:lnTo>
                  <a:pt x="75125" y="118906"/>
                </a:lnTo>
                <a:lnTo>
                  <a:pt x="81649" y="124333"/>
                </a:lnTo>
                <a:lnTo>
                  <a:pt x="85759" y="128151"/>
                </a:lnTo>
                <a:lnTo>
                  <a:pt x="99635" y="141614"/>
                </a:lnTo>
                <a:lnTo>
                  <a:pt x="134653" y="176470"/>
                </a:lnTo>
                <a:lnTo>
                  <a:pt x="139723" y="180689"/>
                </a:lnTo>
                <a:lnTo>
                  <a:pt x="144795" y="184348"/>
                </a:lnTo>
                <a:lnTo>
                  <a:pt x="169148" y="200349"/>
                </a:lnTo>
                <a:lnTo>
                  <a:pt x="175419" y="204228"/>
                </a:lnTo>
                <a:lnTo>
                  <a:pt x="181293" y="207661"/>
                </a:lnTo>
                <a:lnTo>
                  <a:pt x="186902" y="210796"/>
                </a:lnTo>
                <a:lnTo>
                  <a:pt x="192334" y="212886"/>
                </a:lnTo>
                <a:lnTo>
                  <a:pt x="197650" y="214279"/>
                </a:lnTo>
                <a:lnTo>
                  <a:pt x="202887" y="215209"/>
                </a:lnTo>
                <a:lnTo>
                  <a:pt x="207225" y="215827"/>
                </a:lnTo>
                <a:lnTo>
                  <a:pt x="210963" y="216241"/>
                </a:lnTo>
                <a:lnTo>
                  <a:pt x="220980" y="217066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InkAnnotation173"/>
          <p:cNvSpPr/>
          <p:nvPr/>
        </p:nvSpPr>
        <p:spPr>
          <a:xfrm>
            <a:off x="7421400" y="3787920"/>
            <a:ext cx="130320" cy="29880"/>
          </a:xfrm>
          <a:custGeom>
            <a:avLst/>
            <a:gdLst>
              <a:gd name="textAreaLeft" fmla="*/ 0 w 130320"/>
              <a:gd name="textAreaRight" fmla="*/ 130680 w 1303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29541" h="3048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2" y="4045"/>
                </a:lnTo>
                <a:lnTo>
                  <a:pt x="7760" y="5237"/>
                </a:lnTo>
                <a:lnTo>
                  <a:pt x="9407" y="6031"/>
                </a:lnTo>
                <a:lnTo>
                  <a:pt x="11351" y="6561"/>
                </a:lnTo>
                <a:lnTo>
                  <a:pt x="14341" y="7761"/>
                </a:lnTo>
                <a:lnTo>
                  <a:pt x="18027" y="9407"/>
                </a:lnTo>
                <a:lnTo>
                  <a:pt x="22178" y="11351"/>
                </a:lnTo>
                <a:lnTo>
                  <a:pt x="26638" y="12648"/>
                </a:lnTo>
                <a:lnTo>
                  <a:pt x="31306" y="13512"/>
                </a:lnTo>
                <a:lnTo>
                  <a:pt x="36111" y="14088"/>
                </a:lnTo>
                <a:lnTo>
                  <a:pt x="41854" y="15319"/>
                </a:lnTo>
                <a:lnTo>
                  <a:pt x="48223" y="16986"/>
                </a:lnTo>
                <a:lnTo>
                  <a:pt x="55009" y="18944"/>
                </a:lnTo>
                <a:lnTo>
                  <a:pt x="62072" y="20249"/>
                </a:lnTo>
                <a:lnTo>
                  <a:pt x="69322" y="21120"/>
                </a:lnTo>
                <a:lnTo>
                  <a:pt x="76694" y="21700"/>
                </a:lnTo>
                <a:lnTo>
                  <a:pt x="84149" y="22933"/>
                </a:lnTo>
                <a:lnTo>
                  <a:pt x="91660" y="24603"/>
                </a:lnTo>
                <a:lnTo>
                  <a:pt x="99207" y="26562"/>
                </a:lnTo>
                <a:lnTo>
                  <a:pt x="105085" y="27868"/>
                </a:lnTo>
                <a:lnTo>
                  <a:pt x="109849" y="28738"/>
                </a:lnTo>
                <a:lnTo>
                  <a:pt x="113873" y="29319"/>
                </a:lnTo>
                <a:lnTo>
                  <a:pt x="117402" y="29706"/>
                </a:lnTo>
                <a:lnTo>
                  <a:pt x="120601" y="29964"/>
                </a:lnTo>
                <a:lnTo>
                  <a:pt x="129540" y="304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InkAnnotation174"/>
          <p:cNvSpPr/>
          <p:nvPr/>
        </p:nvSpPr>
        <p:spPr>
          <a:xfrm>
            <a:off x="7467480" y="3855960"/>
            <a:ext cx="136800" cy="22320"/>
          </a:xfrm>
          <a:custGeom>
            <a:avLst/>
            <a:gdLst>
              <a:gd name="textAreaLeft" fmla="*/ 0 w 136800"/>
              <a:gd name="textAreaRight" fmla="*/ 137160 w 136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9" y="6031"/>
                </a:lnTo>
                <a:lnTo>
                  <a:pt x="4045" y="6561"/>
                </a:lnTo>
                <a:lnTo>
                  <a:pt x="6083" y="7760"/>
                </a:lnTo>
                <a:lnTo>
                  <a:pt x="8289" y="9407"/>
                </a:lnTo>
                <a:lnTo>
                  <a:pt x="10606" y="11351"/>
                </a:lnTo>
                <a:lnTo>
                  <a:pt x="13844" y="12648"/>
                </a:lnTo>
                <a:lnTo>
                  <a:pt x="17696" y="13512"/>
                </a:lnTo>
                <a:lnTo>
                  <a:pt x="21957" y="14088"/>
                </a:lnTo>
                <a:lnTo>
                  <a:pt x="27338" y="14472"/>
                </a:lnTo>
                <a:lnTo>
                  <a:pt x="33466" y="14728"/>
                </a:lnTo>
                <a:lnTo>
                  <a:pt x="40091" y="14899"/>
                </a:lnTo>
                <a:lnTo>
                  <a:pt x="47894" y="15859"/>
                </a:lnTo>
                <a:lnTo>
                  <a:pt x="56483" y="17346"/>
                </a:lnTo>
                <a:lnTo>
                  <a:pt x="65595" y="19184"/>
                </a:lnTo>
                <a:lnTo>
                  <a:pt x="74210" y="20409"/>
                </a:lnTo>
                <a:lnTo>
                  <a:pt x="82493" y="21226"/>
                </a:lnTo>
                <a:lnTo>
                  <a:pt x="90556" y="21771"/>
                </a:lnTo>
                <a:lnTo>
                  <a:pt x="104029" y="22376"/>
                </a:lnTo>
                <a:lnTo>
                  <a:pt x="121135" y="22717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InkAnnotation175"/>
          <p:cNvSpPr/>
          <p:nvPr/>
        </p:nvSpPr>
        <p:spPr>
          <a:xfrm>
            <a:off x="7704000" y="3697200"/>
            <a:ext cx="189000" cy="173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88795" h="174080">
                <a:moveTo>
                  <a:pt x="0" y="29299"/>
                </a:moveTo>
                <a:lnTo>
                  <a:pt x="6561" y="22738"/>
                </a:lnTo>
                <a:lnTo>
                  <a:pt x="9406" y="22150"/>
                </a:lnTo>
                <a:lnTo>
                  <a:pt x="11350" y="21993"/>
                </a:lnTo>
                <a:lnTo>
                  <a:pt x="14341" y="21042"/>
                </a:lnTo>
                <a:lnTo>
                  <a:pt x="18026" y="19561"/>
                </a:lnTo>
                <a:lnTo>
                  <a:pt x="22177" y="17727"/>
                </a:lnTo>
                <a:lnTo>
                  <a:pt x="27486" y="15658"/>
                </a:lnTo>
                <a:lnTo>
                  <a:pt x="40155" y="11101"/>
                </a:lnTo>
                <a:lnTo>
                  <a:pt x="47090" y="9547"/>
                </a:lnTo>
                <a:lnTo>
                  <a:pt x="54254" y="8511"/>
                </a:lnTo>
                <a:lnTo>
                  <a:pt x="61570" y="7820"/>
                </a:lnTo>
                <a:lnTo>
                  <a:pt x="69833" y="6513"/>
                </a:lnTo>
                <a:lnTo>
                  <a:pt x="78727" y="4795"/>
                </a:lnTo>
                <a:lnTo>
                  <a:pt x="88045" y="2803"/>
                </a:lnTo>
                <a:lnTo>
                  <a:pt x="96796" y="1475"/>
                </a:lnTo>
                <a:lnTo>
                  <a:pt x="105172" y="590"/>
                </a:lnTo>
                <a:lnTo>
                  <a:pt x="113294" y="0"/>
                </a:lnTo>
                <a:lnTo>
                  <a:pt x="122096" y="453"/>
                </a:lnTo>
                <a:lnTo>
                  <a:pt x="131351" y="1601"/>
                </a:lnTo>
                <a:lnTo>
                  <a:pt x="140907" y="3214"/>
                </a:lnTo>
                <a:lnTo>
                  <a:pt x="148971" y="4289"/>
                </a:lnTo>
                <a:lnTo>
                  <a:pt x="156042" y="5006"/>
                </a:lnTo>
                <a:lnTo>
                  <a:pt x="167565" y="5802"/>
                </a:lnTo>
                <a:lnTo>
                  <a:pt x="175509" y="6156"/>
                </a:lnTo>
                <a:lnTo>
                  <a:pt x="178813" y="7097"/>
                </a:lnTo>
                <a:lnTo>
                  <a:pt x="181862" y="8571"/>
                </a:lnTo>
                <a:lnTo>
                  <a:pt x="184741" y="10400"/>
                </a:lnTo>
                <a:lnTo>
                  <a:pt x="186661" y="12467"/>
                </a:lnTo>
                <a:lnTo>
                  <a:pt x="187941" y="14691"/>
                </a:lnTo>
                <a:lnTo>
                  <a:pt x="188794" y="17020"/>
                </a:lnTo>
                <a:lnTo>
                  <a:pt x="187670" y="18573"/>
                </a:lnTo>
                <a:lnTo>
                  <a:pt x="185227" y="19608"/>
                </a:lnTo>
                <a:lnTo>
                  <a:pt x="181904" y="20299"/>
                </a:lnTo>
                <a:lnTo>
                  <a:pt x="177997" y="21606"/>
                </a:lnTo>
                <a:lnTo>
                  <a:pt x="173698" y="23323"/>
                </a:lnTo>
                <a:lnTo>
                  <a:pt x="169139" y="25315"/>
                </a:lnTo>
                <a:lnTo>
                  <a:pt x="163559" y="28337"/>
                </a:lnTo>
                <a:lnTo>
                  <a:pt x="157299" y="32044"/>
                </a:lnTo>
                <a:lnTo>
                  <a:pt x="150586" y="36209"/>
                </a:lnTo>
                <a:lnTo>
                  <a:pt x="143571" y="39832"/>
                </a:lnTo>
                <a:lnTo>
                  <a:pt x="136353" y="43095"/>
                </a:lnTo>
                <a:lnTo>
                  <a:pt x="129003" y="46116"/>
                </a:lnTo>
                <a:lnTo>
                  <a:pt x="121562" y="50670"/>
                </a:lnTo>
                <a:lnTo>
                  <a:pt x="114061" y="56247"/>
                </a:lnTo>
                <a:lnTo>
                  <a:pt x="106521" y="62504"/>
                </a:lnTo>
                <a:lnTo>
                  <a:pt x="98954" y="67522"/>
                </a:lnTo>
                <a:lnTo>
                  <a:pt x="91369" y="71715"/>
                </a:lnTo>
                <a:lnTo>
                  <a:pt x="83773" y="75356"/>
                </a:lnTo>
                <a:lnTo>
                  <a:pt x="77862" y="79477"/>
                </a:lnTo>
                <a:lnTo>
                  <a:pt x="73074" y="83918"/>
                </a:lnTo>
                <a:lnTo>
                  <a:pt x="69037" y="88571"/>
                </a:lnTo>
                <a:lnTo>
                  <a:pt x="62291" y="96000"/>
                </a:lnTo>
                <a:lnTo>
                  <a:pt x="59308" y="99166"/>
                </a:lnTo>
                <a:lnTo>
                  <a:pt x="56472" y="102970"/>
                </a:lnTo>
                <a:lnTo>
                  <a:pt x="53734" y="107200"/>
                </a:lnTo>
                <a:lnTo>
                  <a:pt x="51063" y="111713"/>
                </a:lnTo>
                <a:lnTo>
                  <a:pt x="50129" y="116415"/>
                </a:lnTo>
                <a:lnTo>
                  <a:pt x="50352" y="121243"/>
                </a:lnTo>
                <a:lnTo>
                  <a:pt x="51348" y="126155"/>
                </a:lnTo>
                <a:lnTo>
                  <a:pt x="52859" y="130276"/>
                </a:lnTo>
                <a:lnTo>
                  <a:pt x="54713" y="133871"/>
                </a:lnTo>
                <a:lnTo>
                  <a:pt x="56794" y="137114"/>
                </a:lnTo>
                <a:lnTo>
                  <a:pt x="60724" y="140969"/>
                </a:lnTo>
                <a:lnTo>
                  <a:pt x="65882" y="145232"/>
                </a:lnTo>
                <a:lnTo>
                  <a:pt x="71862" y="149768"/>
                </a:lnTo>
                <a:lnTo>
                  <a:pt x="78388" y="153638"/>
                </a:lnTo>
                <a:lnTo>
                  <a:pt x="85278" y="157065"/>
                </a:lnTo>
                <a:lnTo>
                  <a:pt x="92412" y="160197"/>
                </a:lnTo>
                <a:lnTo>
                  <a:pt x="100555" y="162284"/>
                </a:lnTo>
                <a:lnTo>
                  <a:pt x="109370" y="163676"/>
                </a:lnTo>
                <a:lnTo>
                  <a:pt x="118633" y="164603"/>
                </a:lnTo>
                <a:lnTo>
                  <a:pt x="128195" y="166069"/>
                </a:lnTo>
                <a:lnTo>
                  <a:pt x="137957" y="167892"/>
                </a:lnTo>
                <a:lnTo>
                  <a:pt x="147851" y="169955"/>
                </a:lnTo>
                <a:lnTo>
                  <a:pt x="156141" y="171329"/>
                </a:lnTo>
                <a:lnTo>
                  <a:pt x="163360" y="172246"/>
                </a:lnTo>
                <a:lnTo>
                  <a:pt x="182880" y="174079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InkAnnotation176"/>
          <p:cNvSpPr/>
          <p:nvPr/>
        </p:nvSpPr>
        <p:spPr>
          <a:xfrm>
            <a:off x="7912080" y="3649680"/>
            <a:ext cx="142920" cy="84240"/>
          </a:xfrm>
          <a:custGeom>
            <a:avLst/>
            <a:gdLst>
              <a:gd name="textAreaLeft" fmla="*/ 0 w 142920"/>
              <a:gd name="textAreaRight" fmla="*/ 143280 w 1429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42699" h="83344">
                <a:moveTo>
                  <a:pt x="142698" y="15211"/>
                </a:moveTo>
                <a:lnTo>
                  <a:pt x="142698" y="3639"/>
                </a:lnTo>
                <a:lnTo>
                  <a:pt x="141852" y="2417"/>
                </a:lnTo>
                <a:lnTo>
                  <a:pt x="140439" y="1601"/>
                </a:lnTo>
                <a:lnTo>
                  <a:pt x="136615" y="696"/>
                </a:lnTo>
                <a:lnTo>
                  <a:pt x="134410" y="454"/>
                </a:lnTo>
                <a:lnTo>
                  <a:pt x="132092" y="293"/>
                </a:lnTo>
                <a:lnTo>
                  <a:pt x="128854" y="186"/>
                </a:lnTo>
                <a:lnTo>
                  <a:pt x="115360" y="35"/>
                </a:lnTo>
                <a:lnTo>
                  <a:pt x="102608" y="0"/>
                </a:lnTo>
                <a:lnTo>
                  <a:pt x="95651" y="837"/>
                </a:lnTo>
                <a:lnTo>
                  <a:pt x="88474" y="2242"/>
                </a:lnTo>
                <a:lnTo>
                  <a:pt x="81148" y="4025"/>
                </a:lnTo>
                <a:lnTo>
                  <a:pt x="73725" y="6060"/>
                </a:lnTo>
                <a:lnTo>
                  <a:pt x="58703" y="10580"/>
                </a:lnTo>
                <a:lnTo>
                  <a:pt x="51142" y="13817"/>
                </a:lnTo>
                <a:lnTo>
                  <a:pt x="43560" y="17668"/>
                </a:lnTo>
                <a:lnTo>
                  <a:pt x="29211" y="25616"/>
                </a:lnTo>
                <a:lnTo>
                  <a:pt x="17188" y="31971"/>
                </a:lnTo>
                <a:lnTo>
                  <a:pt x="12458" y="35698"/>
                </a:lnTo>
                <a:lnTo>
                  <a:pt x="8460" y="39876"/>
                </a:lnTo>
                <a:lnTo>
                  <a:pt x="4945" y="44354"/>
                </a:lnTo>
                <a:lnTo>
                  <a:pt x="2603" y="48187"/>
                </a:lnTo>
                <a:lnTo>
                  <a:pt x="1042" y="51588"/>
                </a:lnTo>
                <a:lnTo>
                  <a:pt x="0" y="54702"/>
                </a:lnTo>
                <a:lnTo>
                  <a:pt x="153" y="57625"/>
                </a:lnTo>
                <a:lnTo>
                  <a:pt x="1102" y="60420"/>
                </a:lnTo>
                <a:lnTo>
                  <a:pt x="2581" y="63131"/>
                </a:lnTo>
                <a:lnTo>
                  <a:pt x="5260" y="65784"/>
                </a:lnTo>
                <a:lnTo>
                  <a:pt x="8739" y="68400"/>
                </a:lnTo>
                <a:lnTo>
                  <a:pt x="12753" y="70990"/>
                </a:lnTo>
                <a:lnTo>
                  <a:pt x="17967" y="73564"/>
                </a:lnTo>
                <a:lnTo>
                  <a:pt x="23984" y="76126"/>
                </a:lnTo>
                <a:lnTo>
                  <a:pt x="30536" y="78682"/>
                </a:lnTo>
                <a:lnTo>
                  <a:pt x="37443" y="80385"/>
                </a:lnTo>
                <a:lnTo>
                  <a:pt x="44588" y="81521"/>
                </a:lnTo>
                <a:lnTo>
                  <a:pt x="51892" y="82277"/>
                </a:lnTo>
                <a:lnTo>
                  <a:pt x="58454" y="82782"/>
                </a:lnTo>
                <a:lnTo>
                  <a:pt x="64522" y="83118"/>
                </a:lnTo>
                <a:lnTo>
                  <a:pt x="70261" y="83343"/>
                </a:lnTo>
                <a:lnTo>
                  <a:pt x="75780" y="82645"/>
                </a:lnTo>
                <a:lnTo>
                  <a:pt x="81153" y="81334"/>
                </a:lnTo>
                <a:lnTo>
                  <a:pt x="86428" y="79613"/>
                </a:lnTo>
                <a:lnTo>
                  <a:pt x="91638" y="77619"/>
                </a:lnTo>
                <a:lnTo>
                  <a:pt x="96804" y="75443"/>
                </a:lnTo>
                <a:lnTo>
                  <a:pt x="101943" y="73146"/>
                </a:lnTo>
                <a:lnTo>
                  <a:pt x="106214" y="70768"/>
                </a:lnTo>
                <a:lnTo>
                  <a:pt x="109909" y="68335"/>
                </a:lnTo>
                <a:lnTo>
                  <a:pt x="113219" y="65867"/>
                </a:lnTo>
                <a:lnTo>
                  <a:pt x="116272" y="62529"/>
                </a:lnTo>
                <a:lnTo>
                  <a:pt x="119154" y="58610"/>
                </a:lnTo>
                <a:lnTo>
                  <a:pt x="121922" y="54304"/>
                </a:lnTo>
                <a:lnTo>
                  <a:pt x="123768" y="49739"/>
                </a:lnTo>
                <a:lnTo>
                  <a:pt x="124998" y="45003"/>
                </a:lnTo>
                <a:lnTo>
                  <a:pt x="125817" y="40153"/>
                </a:lnTo>
                <a:lnTo>
                  <a:pt x="126364" y="36072"/>
                </a:lnTo>
                <a:lnTo>
                  <a:pt x="126729" y="32505"/>
                </a:lnTo>
                <a:lnTo>
                  <a:pt x="126972" y="29280"/>
                </a:lnTo>
                <a:lnTo>
                  <a:pt x="127135" y="26284"/>
                </a:lnTo>
                <a:lnTo>
                  <a:pt x="127314" y="20697"/>
                </a:lnTo>
                <a:lnTo>
                  <a:pt x="126516" y="18869"/>
                </a:lnTo>
                <a:lnTo>
                  <a:pt x="125136" y="17649"/>
                </a:lnTo>
                <a:lnTo>
                  <a:pt x="123370" y="16837"/>
                </a:lnTo>
                <a:lnTo>
                  <a:pt x="119150" y="15934"/>
                </a:lnTo>
                <a:lnTo>
                  <a:pt x="112218" y="15211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InkAnnotation177"/>
          <p:cNvSpPr/>
          <p:nvPr/>
        </p:nvSpPr>
        <p:spPr>
          <a:xfrm>
            <a:off x="7905600" y="3718080"/>
            <a:ext cx="149400" cy="152280"/>
          </a:xfrm>
          <a:custGeom>
            <a:avLst/>
            <a:gdLst>
              <a:gd name="textAreaLeft" fmla="*/ 0 w 149400"/>
              <a:gd name="textAreaRight" fmla="*/ 149400 w 149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7737" h="152020">
                <a:moveTo>
                  <a:pt x="71615" y="76200"/>
                </a:moveTo>
                <a:lnTo>
                  <a:pt x="83187" y="76200"/>
                </a:lnTo>
                <a:lnTo>
                  <a:pt x="84410" y="77047"/>
                </a:lnTo>
                <a:lnTo>
                  <a:pt x="85224" y="78458"/>
                </a:lnTo>
                <a:lnTo>
                  <a:pt x="86759" y="83506"/>
                </a:lnTo>
                <a:lnTo>
                  <a:pt x="86827" y="79682"/>
                </a:lnTo>
                <a:lnTo>
                  <a:pt x="85990" y="78522"/>
                </a:lnTo>
                <a:lnTo>
                  <a:pt x="84584" y="77747"/>
                </a:lnTo>
                <a:lnTo>
                  <a:pt x="80766" y="76888"/>
                </a:lnTo>
                <a:lnTo>
                  <a:pt x="76247" y="76506"/>
                </a:lnTo>
                <a:lnTo>
                  <a:pt x="73856" y="76404"/>
                </a:lnTo>
                <a:lnTo>
                  <a:pt x="68942" y="76291"/>
                </a:lnTo>
                <a:lnTo>
                  <a:pt x="65599" y="77108"/>
                </a:lnTo>
                <a:lnTo>
                  <a:pt x="61678" y="78499"/>
                </a:lnTo>
                <a:lnTo>
                  <a:pt x="57370" y="80272"/>
                </a:lnTo>
                <a:lnTo>
                  <a:pt x="51958" y="82302"/>
                </a:lnTo>
                <a:lnTo>
                  <a:pt x="39172" y="86814"/>
                </a:lnTo>
                <a:lnTo>
                  <a:pt x="33053" y="89203"/>
                </a:lnTo>
                <a:lnTo>
                  <a:pt x="27281" y="91642"/>
                </a:lnTo>
                <a:lnTo>
                  <a:pt x="21739" y="94115"/>
                </a:lnTo>
                <a:lnTo>
                  <a:pt x="17198" y="97457"/>
                </a:lnTo>
                <a:lnTo>
                  <a:pt x="13323" y="101378"/>
                </a:lnTo>
                <a:lnTo>
                  <a:pt x="9894" y="105685"/>
                </a:lnTo>
                <a:lnTo>
                  <a:pt x="6762" y="109404"/>
                </a:lnTo>
                <a:lnTo>
                  <a:pt x="3825" y="112729"/>
                </a:lnTo>
                <a:lnTo>
                  <a:pt x="1023" y="115793"/>
                </a:lnTo>
                <a:lnTo>
                  <a:pt x="0" y="118682"/>
                </a:lnTo>
                <a:lnTo>
                  <a:pt x="165" y="121454"/>
                </a:lnTo>
                <a:lnTo>
                  <a:pt x="1122" y="124150"/>
                </a:lnTo>
                <a:lnTo>
                  <a:pt x="1760" y="127640"/>
                </a:lnTo>
                <a:lnTo>
                  <a:pt x="2185" y="131660"/>
                </a:lnTo>
                <a:lnTo>
                  <a:pt x="2469" y="136034"/>
                </a:lnTo>
                <a:lnTo>
                  <a:pt x="4350" y="138949"/>
                </a:lnTo>
                <a:lnTo>
                  <a:pt x="7299" y="140893"/>
                </a:lnTo>
                <a:lnTo>
                  <a:pt x="10958" y="142189"/>
                </a:lnTo>
                <a:lnTo>
                  <a:pt x="15090" y="143899"/>
                </a:lnTo>
                <a:lnTo>
                  <a:pt x="19538" y="145886"/>
                </a:lnTo>
                <a:lnTo>
                  <a:pt x="24198" y="148057"/>
                </a:lnTo>
                <a:lnTo>
                  <a:pt x="29844" y="149505"/>
                </a:lnTo>
                <a:lnTo>
                  <a:pt x="36147" y="150470"/>
                </a:lnTo>
                <a:lnTo>
                  <a:pt x="42889" y="151113"/>
                </a:lnTo>
                <a:lnTo>
                  <a:pt x="49924" y="151543"/>
                </a:lnTo>
                <a:lnTo>
                  <a:pt x="64515" y="152019"/>
                </a:lnTo>
                <a:lnTo>
                  <a:pt x="71962" y="151300"/>
                </a:lnTo>
                <a:lnTo>
                  <a:pt x="79466" y="149973"/>
                </a:lnTo>
                <a:lnTo>
                  <a:pt x="87009" y="148242"/>
                </a:lnTo>
                <a:lnTo>
                  <a:pt x="93731" y="145395"/>
                </a:lnTo>
                <a:lnTo>
                  <a:pt x="99906" y="141803"/>
                </a:lnTo>
                <a:lnTo>
                  <a:pt x="105715" y="137716"/>
                </a:lnTo>
                <a:lnTo>
                  <a:pt x="111283" y="133298"/>
                </a:lnTo>
                <a:lnTo>
                  <a:pt x="116686" y="128658"/>
                </a:lnTo>
                <a:lnTo>
                  <a:pt x="121982" y="123872"/>
                </a:lnTo>
                <a:lnTo>
                  <a:pt x="127207" y="118141"/>
                </a:lnTo>
                <a:lnTo>
                  <a:pt x="132383" y="111781"/>
                </a:lnTo>
                <a:lnTo>
                  <a:pt x="137527" y="105001"/>
                </a:lnTo>
                <a:lnTo>
                  <a:pt x="140955" y="97941"/>
                </a:lnTo>
                <a:lnTo>
                  <a:pt x="143243" y="90694"/>
                </a:lnTo>
                <a:lnTo>
                  <a:pt x="144767" y="83323"/>
                </a:lnTo>
                <a:lnTo>
                  <a:pt x="145783" y="76715"/>
                </a:lnTo>
                <a:lnTo>
                  <a:pt x="146459" y="70616"/>
                </a:lnTo>
                <a:lnTo>
                  <a:pt x="146912" y="64858"/>
                </a:lnTo>
                <a:lnTo>
                  <a:pt x="147212" y="59325"/>
                </a:lnTo>
                <a:lnTo>
                  <a:pt x="147547" y="48663"/>
                </a:lnTo>
                <a:lnTo>
                  <a:pt x="147736" y="33140"/>
                </a:lnTo>
                <a:lnTo>
                  <a:pt x="146069" y="28866"/>
                </a:lnTo>
                <a:lnTo>
                  <a:pt x="143264" y="25171"/>
                </a:lnTo>
                <a:lnTo>
                  <a:pt x="136479" y="18807"/>
                </a:lnTo>
                <a:lnTo>
                  <a:pt x="130641" y="13156"/>
                </a:lnTo>
                <a:lnTo>
                  <a:pt x="127053" y="10464"/>
                </a:lnTo>
                <a:lnTo>
                  <a:pt x="122966" y="7823"/>
                </a:lnTo>
                <a:lnTo>
                  <a:pt x="118549" y="5215"/>
                </a:lnTo>
                <a:lnTo>
                  <a:pt x="114757" y="3477"/>
                </a:lnTo>
                <a:lnTo>
                  <a:pt x="111384" y="2318"/>
                </a:lnTo>
                <a:lnTo>
                  <a:pt x="108287" y="1545"/>
                </a:lnTo>
                <a:lnTo>
                  <a:pt x="104530" y="1030"/>
                </a:lnTo>
                <a:lnTo>
                  <a:pt x="100331" y="687"/>
                </a:lnTo>
                <a:lnTo>
                  <a:pt x="86855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InkAnnotation178"/>
          <p:cNvSpPr/>
          <p:nvPr/>
        </p:nvSpPr>
        <p:spPr>
          <a:xfrm>
            <a:off x="8175600" y="3755880"/>
            <a:ext cx="15840" cy="100080"/>
          </a:xfrm>
          <a:custGeom>
            <a:avLst/>
            <a:gdLst>
              <a:gd name="textAreaLeft" fmla="*/ 0 w 15840"/>
              <a:gd name="textAreaRight" fmla="*/ 16200 w 15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4926" h="99061">
                <a:moveTo>
                  <a:pt x="0" y="0"/>
                </a:moveTo>
                <a:lnTo>
                  <a:pt x="7592" y="0"/>
                </a:lnTo>
                <a:lnTo>
                  <a:pt x="7612" y="4045"/>
                </a:lnTo>
                <a:lnTo>
                  <a:pt x="8461" y="6084"/>
                </a:lnTo>
                <a:lnTo>
                  <a:pt x="9874" y="8289"/>
                </a:lnTo>
                <a:lnTo>
                  <a:pt x="11663" y="10606"/>
                </a:lnTo>
                <a:lnTo>
                  <a:pt x="12855" y="13844"/>
                </a:lnTo>
                <a:lnTo>
                  <a:pt x="13650" y="17696"/>
                </a:lnTo>
                <a:lnTo>
                  <a:pt x="14180" y="21958"/>
                </a:lnTo>
                <a:lnTo>
                  <a:pt x="14533" y="25645"/>
                </a:lnTo>
                <a:lnTo>
                  <a:pt x="14768" y="28950"/>
                </a:lnTo>
                <a:lnTo>
                  <a:pt x="14925" y="32000"/>
                </a:lnTo>
                <a:lnTo>
                  <a:pt x="14184" y="36574"/>
                </a:lnTo>
                <a:lnTo>
                  <a:pt x="12842" y="42162"/>
                </a:lnTo>
                <a:lnTo>
                  <a:pt x="11101" y="48428"/>
                </a:lnTo>
                <a:lnTo>
                  <a:pt x="9941" y="54299"/>
                </a:lnTo>
                <a:lnTo>
                  <a:pt x="9167" y="59906"/>
                </a:lnTo>
                <a:lnTo>
                  <a:pt x="8651" y="65337"/>
                </a:lnTo>
                <a:lnTo>
                  <a:pt x="8307" y="69805"/>
                </a:lnTo>
                <a:lnTo>
                  <a:pt x="8078" y="73630"/>
                </a:lnTo>
                <a:lnTo>
                  <a:pt x="7925" y="77027"/>
                </a:lnTo>
                <a:lnTo>
                  <a:pt x="6977" y="80138"/>
                </a:lnTo>
                <a:lnTo>
                  <a:pt x="5497" y="83059"/>
                </a:lnTo>
                <a:lnTo>
                  <a:pt x="3665" y="85853"/>
                </a:lnTo>
                <a:lnTo>
                  <a:pt x="2444" y="88562"/>
                </a:lnTo>
                <a:lnTo>
                  <a:pt x="1628" y="91214"/>
                </a:lnTo>
                <a:lnTo>
                  <a:pt x="0" y="990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InkAnnotation179"/>
          <p:cNvSpPr/>
          <p:nvPr/>
        </p:nvSpPr>
        <p:spPr>
          <a:xfrm>
            <a:off x="8267760" y="36957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InkAnnotation180"/>
          <p:cNvSpPr/>
          <p:nvPr/>
        </p:nvSpPr>
        <p:spPr>
          <a:xfrm>
            <a:off x="8237520" y="3727440"/>
            <a:ext cx="136440" cy="112680"/>
          </a:xfrm>
          <a:custGeom>
            <a:avLst/>
            <a:gdLst>
              <a:gd name="textAreaLeft" fmla="*/ 0 w 136440"/>
              <a:gd name="textAreaRight" fmla="*/ 136800 w 136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37124" h="112614">
                <a:moveTo>
                  <a:pt x="30443" y="52107"/>
                </a:moveTo>
                <a:lnTo>
                  <a:pt x="22825" y="52107"/>
                </a:lnTo>
                <a:lnTo>
                  <a:pt x="22824" y="62713"/>
                </a:lnTo>
                <a:lnTo>
                  <a:pt x="21978" y="65104"/>
                </a:lnTo>
                <a:lnTo>
                  <a:pt x="20565" y="67545"/>
                </a:lnTo>
                <a:lnTo>
                  <a:pt x="18779" y="70019"/>
                </a:lnTo>
                <a:lnTo>
                  <a:pt x="17587" y="73362"/>
                </a:lnTo>
                <a:lnTo>
                  <a:pt x="16793" y="77283"/>
                </a:lnTo>
                <a:lnTo>
                  <a:pt x="16262" y="81591"/>
                </a:lnTo>
                <a:lnTo>
                  <a:pt x="15063" y="85310"/>
                </a:lnTo>
                <a:lnTo>
                  <a:pt x="13417" y="88636"/>
                </a:lnTo>
                <a:lnTo>
                  <a:pt x="11473" y="91700"/>
                </a:lnTo>
                <a:lnTo>
                  <a:pt x="9330" y="94589"/>
                </a:lnTo>
                <a:lnTo>
                  <a:pt x="7055" y="97362"/>
                </a:lnTo>
                <a:lnTo>
                  <a:pt x="4691" y="100057"/>
                </a:lnTo>
                <a:lnTo>
                  <a:pt x="3115" y="102700"/>
                </a:lnTo>
                <a:lnTo>
                  <a:pt x="2065" y="105309"/>
                </a:lnTo>
                <a:lnTo>
                  <a:pt x="87" y="112613"/>
                </a:lnTo>
                <a:lnTo>
                  <a:pt x="19" y="110608"/>
                </a:lnTo>
                <a:lnTo>
                  <a:pt x="0" y="108887"/>
                </a:lnTo>
                <a:lnTo>
                  <a:pt x="835" y="106894"/>
                </a:lnTo>
                <a:lnTo>
                  <a:pt x="2237" y="104718"/>
                </a:lnTo>
                <a:lnTo>
                  <a:pt x="4019" y="102421"/>
                </a:lnTo>
                <a:lnTo>
                  <a:pt x="6055" y="99197"/>
                </a:lnTo>
                <a:lnTo>
                  <a:pt x="8258" y="95353"/>
                </a:lnTo>
                <a:lnTo>
                  <a:pt x="10574" y="91098"/>
                </a:lnTo>
                <a:lnTo>
                  <a:pt x="13811" y="86568"/>
                </a:lnTo>
                <a:lnTo>
                  <a:pt x="17662" y="81854"/>
                </a:lnTo>
                <a:lnTo>
                  <a:pt x="21923" y="77018"/>
                </a:lnTo>
                <a:lnTo>
                  <a:pt x="25610" y="71255"/>
                </a:lnTo>
                <a:lnTo>
                  <a:pt x="28914" y="64872"/>
                </a:lnTo>
                <a:lnTo>
                  <a:pt x="34843" y="51854"/>
                </a:lnTo>
                <a:lnTo>
                  <a:pt x="42942" y="35005"/>
                </a:lnTo>
                <a:lnTo>
                  <a:pt x="48135" y="24468"/>
                </a:lnTo>
                <a:lnTo>
                  <a:pt x="50704" y="20135"/>
                </a:lnTo>
                <a:lnTo>
                  <a:pt x="53263" y="16398"/>
                </a:lnTo>
                <a:lnTo>
                  <a:pt x="59410" y="8365"/>
                </a:lnTo>
                <a:lnTo>
                  <a:pt x="60250" y="5008"/>
                </a:lnTo>
                <a:lnTo>
                  <a:pt x="60790" y="0"/>
                </a:lnTo>
                <a:lnTo>
                  <a:pt x="61681" y="436"/>
                </a:lnTo>
                <a:lnTo>
                  <a:pt x="64929" y="3178"/>
                </a:lnTo>
                <a:lnTo>
                  <a:pt x="67473" y="5436"/>
                </a:lnTo>
                <a:lnTo>
                  <a:pt x="67829" y="6600"/>
                </a:lnTo>
                <a:lnTo>
                  <a:pt x="68067" y="8222"/>
                </a:lnTo>
                <a:lnTo>
                  <a:pt x="68227" y="10151"/>
                </a:lnTo>
                <a:lnTo>
                  <a:pt x="69179" y="13130"/>
                </a:lnTo>
                <a:lnTo>
                  <a:pt x="70661" y="16809"/>
                </a:lnTo>
                <a:lnTo>
                  <a:pt x="72495" y="20955"/>
                </a:lnTo>
                <a:lnTo>
                  <a:pt x="73717" y="25412"/>
                </a:lnTo>
                <a:lnTo>
                  <a:pt x="74533" y="30077"/>
                </a:lnTo>
                <a:lnTo>
                  <a:pt x="75076" y="34880"/>
                </a:lnTo>
                <a:lnTo>
                  <a:pt x="76285" y="39776"/>
                </a:lnTo>
                <a:lnTo>
                  <a:pt x="77938" y="44733"/>
                </a:lnTo>
                <a:lnTo>
                  <a:pt x="79886" y="49731"/>
                </a:lnTo>
                <a:lnTo>
                  <a:pt x="82032" y="53910"/>
                </a:lnTo>
                <a:lnTo>
                  <a:pt x="84309" y="57542"/>
                </a:lnTo>
                <a:lnTo>
                  <a:pt x="86674" y="60810"/>
                </a:lnTo>
                <a:lnTo>
                  <a:pt x="89098" y="64683"/>
                </a:lnTo>
                <a:lnTo>
                  <a:pt x="91559" y="68957"/>
                </a:lnTo>
                <a:lnTo>
                  <a:pt x="94047" y="73501"/>
                </a:lnTo>
                <a:lnTo>
                  <a:pt x="96553" y="77376"/>
                </a:lnTo>
                <a:lnTo>
                  <a:pt x="99070" y="80806"/>
                </a:lnTo>
                <a:lnTo>
                  <a:pt x="101594" y="83940"/>
                </a:lnTo>
                <a:lnTo>
                  <a:pt x="104123" y="86875"/>
                </a:lnTo>
                <a:lnTo>
                  <a:pt x="106657" y="89680"/>
                </a:lnTo>
                <a:lnTo>
                  <a:pt x="109192" y="92395"/>
                </a:lnTo>
                <a:lnTo>
                  <a:pt x="112576" y="94206"/>
                </a:lnTo>
                <a:lnTo>
                  <a:pt x="116526" y="95413"/>
                </a:lnTo>
                <a:lnTo>
                  <a:pt x="126939" y="97350"/>
                </a:lnTo>
                <a:lnTo>
                  <a:pt x="130622" y="97615"/>
                </a:lnTo>
                <a:lnTo>
                  <a:pt x="137123" y="9782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InkAnnotation181"/>
          <p:cNvSpPr/>
          <p:nvPr/>
        </p:nvSpPr>
        <p:spPr>
          <a:xfrm>
            <a:off x="8405640" y="3705120"/>
            <a:ext cx="98640" cy="108000"/>
          </a:xfrm>
          <a:custGeom>
            <a:avLst/>
            <a:gdLst>
              <a:gd name="textAreaLeft" fmla="*/ 0 w 98640"/>
              <a:gd name="textAreaRight" fmla="*/ 99000 w 98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8522" h="108789">
                <a:moveTo>
                  <a:pt x="45181" y="21669"/>
                </a:moveTo>
                <a:lnTo>
                  <a:pt x="51742" y="21669"/>
                </a:lnTo>
                <a:lnTo>
                  <a:pt x="52095" y="22516"/>
                </a:lnTo>
                <a:lnTo>
                  <a:pt x="52488" y="25714"/>
                </a:lnTo>
                <a:lnTo>
                  <a:pt x="53438" y="26906"/>
                </a:lnTo>
                <a:lnTo>
                  <a:pt x="54919" y="27700"/>
                </a:lnTo>
                <a:lnTo>
                  <a:pt x="56753" y="28230"/>
                </a:lnTo>
                <a:lnTo>
                  <a:pt x="57976" y="29430"/>
                </a:lnTo>
                <a:lnTo>
                  <a:pt x="58791" y="31076"/>
                </a:lnTo>
                <a:lnTo>
                  <a:pt x="60409" y="36864"/>
                </a:lnTo>
                <a:lnTo>
                  <a:pt x="60413" y="36879"/>
                </a:lnTo>
                <a:lnTo>
                  <a:pt x="60421" y="18996"/>
                </a:lnTo>
                <a:lnTo>
                  <a:pt x="59574" y="16501"/>
                </a:lnTo>
                <a:lnTo>
                  <a:pt x="58163" y="13990"/>
                </a:lnTo>
                <a:lnTo>
                  <a:pt x="53860" y="7922"/>
                </a:lnTo>
                <a:lnTo>
                  <a:pt x="51014" y="4835"/>
                </a:lnTo>
                <a:lnTo>
                  <a:pt x="49070" y="2826"/>
                </a:lnTo>
                <a:lnTo>
                  <a:pt x="46927" y="1488"/>
                </a:lnTo>
                <a:lnTo>
                  <a:pt x="44652" y="595"/>
                </a:lnTo>
                <a:lnTo>
                  <a:pt x="42288" y="0"/>
                </a:lnTo>
                <a:lnTo>
                  <a:pt x="39866" y="449"/>
                </a:lnTo>
                <a:lnTo>
                  <a:pt x="37403" y="1596"/>
                </a:lnTo>
                <a:lnTo>
                  <a:pt x="34917" y="3207"/>
                </a:lnTo>
                <a:lnTo>
                  <a:pt x="32412" y="4281"/>
                </a:lnTo>
                <a:lnTo>
                  <a:pt x="29895" y="4997"/>
                </a:lnTo>
                <a:lnTo>
                  <a:pt x="27370" y="5475"/>
                </a:lnTo>
                <a:lnTo>
                  <a:pt x="23993" y="7486"/>
                </a:lnTo>
                <a:lnTo>
                  <a:pt x="20050" y="10520"/>
                </a:lnTo>
                <a:lnTo>
                  <a:pt x="15727" y="14236"/>
                </a:lnTo>
                <a:lnTo>
                  <a:pt x="11999" y="17561"/>
                </a:lnTo>
                <a:lnTo>
                  <a:pt x="5598" y="23512"/>
                </a:lnTo>
                <a:lnTo>
                  <a:pt x="3553" y="27131"/>
                </a:lnTo>
                <a:lnTo>
                  <a:pt x="2189" y="31237"/>
                </a:lnTo>
                <a:lnTo>
                  <a:pt x="1279" y="35668"/>
                </a:lnTo>
                <a:lnTo>
                  <a:pt x="674" y="40315"/>
                </a:lnTo>
                <a:lnTo>
                  <a:pt x="269" y="45106"/>
                </a:lnTo>
                <a:lnTo>
                  <a:pt x="0" y="49994"/>
                </a:lnTo>
                <a:lnTo>
                  <a:pt x="667" y="54946"/>
                </a:lnTo>
                <a:lnTo>
                  <a:pt x="1958" y="59940"/>
                </a:lnTo>
                <a:lnTo>
                  <a:pt x="3665" y="64963"/>
                </a:lnTo>
                <a:lnTo>
                  <a:pt x="5650" y="70005"/>
                </a:lnTo>
                <a:lnTo>
                  <a:pt x="7822" y="75060"/>
                </a:lnTo>
                <a:lnTo>
                  <a:pt x="10115" y="80123"/>
                </a:lnTo>
                <a:lnTo>
                  <a:pt x="14183" y="84345"/>
                </a:lnTo>
                <a:lnTo>
                  <a:pt x="19436" y="88006"/>
                </a:lnTo>
                <a:lnTo>
                  <a:pt x="31198" y="94332"/>
                </a:lnTo>
                <a:lnTo>
                  <a:pt x="42071" y="99966"/>
                </a:lnTo>
                <a:lnTo>
                  <a:pt x="49035" y="102654"/>
                </a:lnTo>
                <a:lnTo>
                  <a:pt x="57063" y="105293"/>
                </a:lnTo>
                <a:lnTo>
                  <a:pt x="65802" y="107898"/>
                </a:lnTo>
                <a:lnTo>
                  <a:pt x="73321" y="108788"/>
                </a:lnTo>
                <a:lnTo>
                  <a:pt x="80028" y="108535"/>
                </a:lnTo>
                <a:lnTo>
                  <a:pt x="98521" y="105489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InkAnnotation182"/>
          <p:cNvSpPr/>
          <p:nvPr/>
        </p:nvSpPr>
        <p:spPr>
          <a:xfrm>
            <a:off x="8550360" y="3573360"/>
            <a:ext cx="212760" cy="252360"/>
          </a:xfrm>
          <a:custGeom>
            <a:avLst/>
            <a:gdLst>
              <a:gd name="textAreaLeft" fmla="*/ 0 w 212760"/>
              <a:gd name="textAreaRight" fmla="*/ 213120 w 212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3360" h="251461">
                <a:moveTo>
                  <a:pt x="0" y="0"/>
                </a:moveTo>
                <a:lnTo>
                  <a:pt x="0" y="32563"/>
                </a:lnTo>
                <a:lnTo>
                  <a:pt x="846" y="38642"/>
                </a:lnTo>
                <a:lnTo>
                  <a:pt x="2258" y="44388"/>
                </a:lnTo>
                <a:lnTo>
                  <a:pt x="10605" y="69822"/>
                </a:lnTo>
                <a:lnTo>
                  <a:pt x="12997" y="77875"/>
                </a:lnTo>
                <a:lnTo>
                  <a:pt x="17912" y="95853"/>
                </a:lnTo>
                <a:lnTo>
                  <a:pt x="19562" y="104542"/>
                </a:lnTo>
                <a:lnTo>
                  <a:pt x="20661" y="112875"/>
                </a:lnTo>
                <a:lnTo>
                  <a:pt x="21394" y="120970"/>
                </a:lnTo>
                <a:lnTo>
                  <a:pt x="23575" y="128060"/>
                </a:lnTo>
                <a:lnTo>
                  <a:pt x="26724" y="134480"/>
                </a:lnTo>
                <a:lnTo>
                  <a:pt x="30516" y="140453"/>
                </a:lnTo>
                <a:lnTo>
                  <a:pt x="33891" y="146975"/>
                </a:lnTo>
                <a:lnTo>
                  <a:pt x="36988" y="153863"/>
                </a:lnTo>
                <a:lnTo>
                  <a:pt x="39897" y="160996"/>
                </a:lnTo>
                <a:lnTo>
                  <a:pt x="41838" y="167444"/>
                </a:lnTo>
                <a:lnTo>
                  <a:pt x="43132" y="173436"/>
                </a:lnTo>
                <a:lnTo>
                  <a:pt x="43995" y="179124"/>
                </a:lnTo>
                <a:lnTo>
                  <a:pt x="44569" y="183763"/>
                </a:lnTo>
                <a:lnTo>
                  <a:pt x="45209" y="191174"/>
                </a:lnTo>
                <a:lnTo>
                  <a:pt x="46225" y="194336"/>
                </a:lnTo>
                <a:lnTo>
                  <a:pt x="50855" y="201984"/>
                </a:lnTo>
                <a:lnTo>
                  <a:pt x="52236" y="204071"/>
                </a:lnTo>
                <a:lnTo>
                  <a:pt x="53450" y="204627"/>
                </a:lnTo>
                <a:lnTo>
                  <a:pt x="59803" y="205594"/>
                </a:lnTo>
                <a:lnTo>
                  <a:pt x="60189" y="204796"/>
                </a:lnTo>
                <a:lnTo>
                  <a:pt x="60731" y="199628"/>
                </a:lnTo>
                <a:lnTo>
                  <a:pt x="60892" y="192734"/>
                </a:lnTo>
                <a:lnTo>
                  <a:pt x="60951" y="176255"/>
                </a:lnTo>
                <a:lnTo>
                  <a:pt x="61801" y="172537"/>
                </a:lnTo>
                <a:lnTo>
                  <a:pt x="65002" y="166147"/>
                </a:lnTo>
                <a:lnTo>
                  <a:pt x="69247" y="160485"/>
                </a:lnTo>
                <a:lnTo>
                  <a:pt x="74826" y="153997"/>
                </a:lnTo>
                <a:lnTo>
                  <a:pt x="79838" y="148828"/>
                </a:lnTo>
                <a:lnTo>
                  <a:pt x="82012" y="148325"/>
                </a:lnTo>
                <a:lnTo>
                  <a:pt x="84308" y="148837"/>
                </a:lnTo>
                <a:lnTo>
                  <a:pt x="112235" y="162798"/>
                </a:lnTo>
                <a:lnTo>
                  <a:pt x="117156" y="166105"/>
                </a:lnTo>
                <a:lnTo>
                  <a:pt x="122130" y="170003"/>
                </a:lnTo>
                <a:lnTo>
                  <a:pt x="127139" y="174295"/>
                </a:lnTo>
                <a:lnTo>
                  <a:pt x="131327" y="178851"/>
                </a:lnTo>
                <a:lnTo>
                  <a:pt x="134964" y="183581"/>
                </a:lnTo>
                <a:lnTo>
                  <a:pt x="138236" y="188427"/>
                </a:lnTo>
                <a:lnTo>
                  <a:pt x="142111" y="193351"/>
                </a:lnTo>
                <a:lnTo>
                  <a:pt x="146386" y="198327"/>
                </a:lnTo>
                <a:lnTo>
                  <a:pt x="150930" y="203338"/>
                </a:lnTo>
                <a:lnTo>
                  <a:pt x="155654" y="207526"/>
                </a:lnTo>
                <a:lnTo>
                  <a:pt x="160496" y="211163"/>
                </a:lnTo>
                <a:lnTo>
                  <a:pt x="165418" y="214436"/>
                </a:lnTo>
                <a:lnTo>
                  <a:pt x="170390" y="218311"/>
                </a:lnTo>
                <a:lnTo>
                  <a:pt x="175401" y="222587"/>
                </a:lnTo>
                <a:lnTo>
                  <a:pt x="184635" y="231008"/>
                </a:lnTo>
                <a:lnTo>
                  <a:pt x="191563" y="237572"/>
                </a:lnTo>
                <a:lnTo>
                  <a:pt x="200221" y="246028"/>
                </a:lnTo>
                <a:lnTo>
                  <a:pt x="202908" y="247839"/>
                </a:lnTo>
                <a:lnTo>
                  <a:pt x="205546" y="249046"/>
                </a:lnTo>
                <a:lnTo>
                  <a:pt x="213359" y="2514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InkAnnotation183"/>
          <p:cNvSpPr/>
          <p:nvPr/>
        </p:nvSpPr>
        <p:spPr>
          <a:xfrm>
            <a:off x="8755200" y="3703680"/>
            <a:ext cx="99720" cy="114120"/>
          </a:xfrm>
          <a:custGeom>
            <a:avLst/>
            <a:gdLst>
              <a:gd name="textAreaLeft" fmla="*/ 0 w 99720"/>
              <a:gd name="textAreaRight" fmla="*/ 100080 w 99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99023" h="114301">
                <a:moveTo>
                  <a:pt x="60922" y="0"/>
                </a:moveTo>
                <a:lnTo>
                  <a:pt x="54360" y="0"/>
                </a:lnTo>
                <a:lnTo>
                  <a:pt x="51515" y="2258"/>
                </a:lnTo>
                <a:lnTo>
                  <a:pt x="49571" y="4045"/>
                </a:lnTo>
                <a:lnTo>
                  <a:pt x="46581" y="6083"/>
                </a:lnTo>
                <a:lnTo>
                  <a:pt x="42895" y="8289"/>
                </a:lnTo>
                <a:lnTo>
                  <a:pt x="38743" y="10606"/>
                </a:lnTo>
                <a:lnTo>
                  <a:pt x="35130" y="12151"/>
                </a:lnTo>
                <a:lnTo>
                  <a:pt x="31874" y="13181"/>
                </a:lnTo>
                <a:lnTo>
                  <a:pt x="28856" y="13867"/>
                </a:lnTo>
                <a:lnTo>
                  <a:pt x="25998" y="14325"/>
                </a:lnTo>
                <a:lnTo>
                  <a:pt x="23245" y="14630"/>
                </a:lnTo>
                <a:lnTo>
                  <a:pt x="20564" y="14834"/>
                </a:lnTo>
                <a:lnTo>
                  <a:pt x="17929" y="15816"/>
                </a:lnTo>
                <a:lnTo>
                  <a:pt x="15327" y="17318"/>
                </a:lnTo>
                <a:lnTo>
                  <a:pt x="12744" y="19165"/>
                </a:lnTo>
                <a:lnTo>
                  <a:pt x="10177" y="20397"/>
                </a:lnTo>
                <a:lnTo>
                  <a:pt x="7618" y="21218"/>
                </a:lnTo>
                <a:lnTo>
                  <a:pt x="1474" y="22536"/>
                </a:lnTo>
                <a:lnTo>
                  <a:pt x="970" y="23491"/>
                </a:lnTo>
                <a:lnTo>
                  <a:pt x="409" y="26810"/>
                </a:lnTo>
                <a:lnTo>
                  <a:pt x="0" y="30158"/>
                </a:lnTo>
                <a:lnTo>
                  <a:pt x="2237" y="32595"/>
                </a:lnTo>
                <a:lnTo>
                  <a:pt x="4018" y="34430"/>
                </a:lnTo>
                <a:lnTo>
                  <a:pt x="6053" y="35654"/>
                </a:lnTo>
                <a:lnTo>
                  <a:pt x="8255" y="36469"/>
                </a:lnTo>
                <a:lnTo>
                  <a:pt x="10572" y="37013"/>
                </a:lnTo>
                <a:lnTo>
                  <a:pt x="12961" y="38222"/>
                </a:lnTo>
                <a:lnTo>
                  <a:pt x="15400" y="39874"/>
                </a:lnTo>
                <a:lnTo>
                  <a:pt x="17873" y="41823"/>
                </a:lnTo>
                <a:lnTo>
                  <a:pt x="20371" y="43122"/>
                </a:lnTo>
                <a:lnTo>
                  <a:pt x="22880" y="43988"/>
                </a:lnTo>
                <a:lnTo>
                  <a:pt x="28947" y="45378"/>
                </a:lnTo>
                <a:lnTo>
                  <a:pt x="29445" y="46339"/>
                </a:lnTo>
                <a:lnTo>
                  <a:pt x="29998" y="49664"/>
                </a:lnTo>
                <a:lnTo>
                  <a:pt x="30403" y="53018"/>
                </a:lnTo>
                <a:lnTo>
                  <a:pt x="28166" y="55455"/>
                </a:lnTo>
                <a:lnTo>
                  <a:pt x="12530" y="71244"/>
                </a:lnTo>
                <a:lnTo>
                  <a:pt x="5002" y="78777"/>
                </a:lnTo>
                <a:lnTo>
                  <a:pt x="3322" y="81304"/>
                </a:lnTo>
                <a:lnTo>
                  <a:pt x="2202" y="83836"/>
                </a:lnTo>
                <a:lnTo>
                  <a:pt x="1456" y="86371"/>
                </a:lnTo>
                <a:lnTo>
                  <a:pt x="1805" y="88061"/>
                </a:lnTo>
                <a:lnTo>
                  <a:pt x="2884" y="89187"/>
                </a:lnTo>
                <a:lnTo>
                  <a:pt x="4449" y="89938"/>
                </a:lnTo>
                <a:lnTo>
                  <a:pt x="6339" y="91286"/>
                </a:lnTo>
                <a:lnTo>
                  <a:pt x="8447" y="93030"/>
                </a:lnTo>
                <a:lnTo>
                  <a:pt x="10698" y="95041"/>
                </a:lnTo>
                <a:lnTo>
                  <a:pt x="13892" y="97227"/>
                </a:lnTo>
                <a:lnTo>
                  <a:pt x="17715" y="99532"/>
                </a:lnTo>
                <a:lnTo>
                  <a:pt x="21957" y="101915"/>
                </a:lnTo>
                <a:lnTo>
                  <a:pt x="31187" y="106820"/>
                </a:lnTo>
                <a:lnTo>
                  <a:pt x="36018" y="109313"/>
                </a:lnTo>
                <a:lnTo>
                  <a:pt x="41779" y="110976"/>
                </a:lnTo>
                <a:lnTo>
                  <a:pt x="48160" y="112084"/>
                </a:lnTo>
                <a:lnTo>
                  <a:pt x="54955" y="112823"/>
                </a:lnTo>
                <a:lnTo>
                  <a:pt x="61176" y="113315"/>
                </a:lnTo>
                <a:lnTo>
                  <a:pt x="67019" y="113644"/>
                </a:lnTo>
                <a:lnTo>
                  <a:pt x="78025" y="114009"/>
                </a:lnTo>
                <a:lnTo>
                  <a:pt x="99022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InkAnnotation184"/>
          <p:cNvSpPr/>
          <p:nvPr/>
        </p:nvSpPr>
        <p:spPr>
          <a:xfrm>
            <a:off x="8847000" y="3703680"/>
            <a:ext cx="142920" cy="122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43879" h="121921">
                <a:moveTo>
                  <a:pt x="106680" y="0"/>
                </a:moveTo>
                <a:lnTo>
                  <a:pt x="100118" y="0"/>
                </a:lnTo>
                <a:lnTo>
                  <a:pt x="98072" y="847"/>
                </a:lnTo>
                <a:lnTo>
                  <a:pt x="95016" y="2258"/>
                </a:lnTo>
                <a:lnTo>
                  <a:pt x="91284" y="4045"/>
                </a:lnTo>
                <a:lnTo>
                  <a:pt x="87103" y="5237"/>
                </a:lnTo>
                <a:lnTo>
                  <a:pt x="82622" y="6031"/>
                </a:lnTo>
                <a:lnTo>
                  <a:pt x="77941" y="6561"/>
                </a:lnTo>
                <a:lnTo>
                  <a:pt x="73128" y="7760"/>
                </a:lnTo>
                <a:lnTo>
                  <a:pt x="68226" y="9407"/>
                </a:lnTo>
                <a:lnTo>
                  <a:pt x="63263" y="11352"/>
                </a:lnTo>
                <a:lnTo>
                  <a:pt x="58263" y="13495"/>
                </a:lnTo>
                <a:lnTo>
                  <a:pt x="48190" y="18133"/>
                </a:lnTo>
                <a:lnTo>
                  <a:pt x="43980" y="19709"/>
                </a:lnTo>
                <a:lnTo>
                  <a:pt x="40327" y="20759"/>
                </a:lnTo>
                <a:lnTo>
                  <a:pt x="37044" y="21460"/>
                </a:lnTo>
                <a:lnTo>
                  <a:pt x="34010" y="22773"/>
                </a:lnTo>
                <a:lnTo>
                  <a:pt x="31140" y="24496"/>
                </a:lnTo>
                <a:lnTo>
                  <a:pt x="28379" y="26490"/>
                </a:lnTo>
                <a:lnTo>
                  <a:pt x="25693" y="27820"/>
                </a:lnTo>
                <a:lnTo>
                  <a:pt x="23056" y="28707"/>
                </a:lnTo>
                <a:lnTo>
                  <a:pt x="20450" y="29298"/>
                </a:lnTo>
                <a:lnTo>
                  <a:pt x="18713" y="30539"/>
                </a:lnTo>
                <a:lnTo>
                  <a:pt x="17556" y="32213"/>
                </a:lnTo>
                <a:lnTo>
                  <a:pt x="16784" y="34175"/>
                </a:lnTo>
                <a:lnTo>
                  <a:pt x="17116" y="35484"/>
                </a:lnTo>
                <a:lnTo>
                  <a:pt x="18184" y="36356"/>
                </a:lnTo>
                <a:lnTo>
                  <a:pt x="22475" y="38172"/>
                </a:lnTo>
                <a:lnTo>
                  <a:pt x="34411" y="43954"/>
                </a:lnTo>
                <a:lnTo>
                  <a:pt x="43799" y="48604"/>
                </a:lnTo>
                <a:lnTo>
                  <a:pt x="49519" y="51030"/>
                </a:lnTo>
                <a:lnTo>
                  <a:pt x="55873" y="53493"/>
                </a:lnTo>
                <a:lnTo>
                  <a:pt x="69706" y="58488"/>
                </a:lnTo>
                <a:lnTo>
                  <a:pt x="84320" y="63531"/>
                </a:lnTo>
                <a:lnTo>
                  <a:pt x="90927" y="66060"/>
                </a:lnTo>
                <a:lnTo>
                  <a:pt x="97025" y="68594"/>
                </a:lnTo>
                <a:lnTo>
                  <a:pt x="102783" y="71129"/>
                </a:lnTo>
                <a:lnTo>
                  <a:pt x="113697" y="76204"/>
                </a:lnTo>
                <a:lnTo>
                  <a:pt x="118978" y="78743"/>
                </a:lnTo>
                <a:lnTo>
                  <a:pt x="124193" y="80435"/>
                </a:lnTo>
                <a:lnTo>
                  <a:pt x="129362" y="81564"/>
                </a:lnTo>
                <a:lnTo>
                  <a:pt x="134502" y="82316"/>
                </a:lnTo>
                <a:lnTo>
                  <a:pt x="137928" y="83664"/>
                </a:lnTo>
                <a:lnTo>
                  <a:pt x="140213" y="85409"/>
                </a:lnTo>
                <a:lnTo>
                  <a:pt x="141734" y="87420"/>
                </a:lnTo>
                <a:lnTo>
                  <a:pt x="142750" y="89606"/>
                </a:lnTo>
                <a:lnTo>
                  <a:pt x="143427" y="91911"/>
                </a:lnTo>
                <a:lnTo>
                  <a:pt x="143878" y="94294"/>
                </a:lnTo>
                <a:lnTo>
                  <a:pt x="143332" y="96729"/>
                </a:lnTo>
                <a:lnTo>
                  <a:pt x="142120" y="99199"/>
                </a:lnTo>
                <a:lnTo>
                  <a:pt x="140469" y="101693"/>
                </a:lnTo>
                <a:lnTo>
                  <a:pt x="137672" y="103355"/>
                </a:lnTo>
                <a:lnTo>
                  <a:pt x="134114" y="104463"/>
                </a:lnTo>
                <a:lnTo>
                  <a:pt x="130051" y="105203"/>
                </a:lnTo>
                <a:lnTo>
                  <a:pt x="125646" y="106542"/>
                </a:lnTo>
                <a:lnTo>
                  <a:pt x="121017" y="108281"/>
                </a:lnTo>
                <a:lnTo>
                  <a:pt x="116238" y="110288"/>
                </a:lnTo>
                <a:lnTo>
                  <a:pt x="111359" y="112472"/>
                </a:lnTo>
                <a:lnTo>
                  <a:pt x="101422" y="117156"/>
                </a:lnTo>
                <a:lnTo>
                  <a:pt x="95554" y="118744"/>
                </a:lnTo>
                <a:lnTo>
                  <a:pt x="89103" y="119803"/>
                </a:lnTo>
                <a:lnTo>
                  <a:pt x="82262" y="120509"/>
                </a:lnTo>
                <a:lnTo>
                  <a:pt x="75161" y="120979"/>
                </a:lnTo>
                <a:lnTo>
                  <a:pt x="67887" y="121293"/>
                </a:lnTo>
                <a:lnTo>
                  <a:pt x="53032" y="121641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InkAnnotation185"/>
          <p:cNvSpPr/>
          <p:nvPr/>
        </p:nvSpPr>
        <p:spPr>
          <a:xfrm>
            <a:off x="5883120" y="3002040"/>
            <a:ext cx="3116520" cy="1363680"/>
          </a:xfrm>
          <a:custGeom>
            <a:avLst/>
            <a:gdLst>
              <a:gd name="textAreaLeft" fmla="*/ 0 w 3116520"/>
              <a:gd name="textAreaRight" fmla="*/ 3116880 w 3116520"/>
              <a:gd name="textAreaTop" fmla="*/ 0 h 1363680"/>
              <a:gd name="textAreaBottom" fmla="*/ 1363680 h 1363680"/>
            </a:gdLst>
            <a:ahLst/>
            <a:rect l="textAreaLeft" t="textAreaTop" r="textAreaRight" b="textAreaBottom"/>
            <a:pathLst>
              <a:path w="3116549" h="1363292">
                <a:moveTo>
                  <a:pt x="0" y="281853"/>
                </a:moveTo>
                <a:lnTo>
                  <a:pt x="12135" y="277808"/>
                </a:lnTo>
                <a:lnTo>
                  <a:pt x="53861" y="272446"/>
                </a:lnTo>
                <a:lnTo>
                  <a:pt x="58767" y="270502"/>
                </a:lnTo>
                <a:lnTo>
                  <a:pt x="152566" y="256348"/>
                </a:lnTo>
                <a:lnTo>
                  <a:pt x="237758" y="245426"/>
                </a:lnTo>
                <a:lnTo>
                  <a:pt x="332479" y="230098"/>
                </a:lnTo>
                <a:lnTo>
                  <a:pt x="410650" y="219105"/>
                </a:lnTo>
                <a:lnTo>
                  <a:pt x="489691" y="207381"/>
                </a:lnTo>
                <a:lnTo>
                  <a:pt x="574354" y="198545"/>
                </a:lnTo>
                <a:lnTo>
                  <a:pt x="663786" y="188307"/>
                </a:lnTo>
                <a:lnTo>
                  <a:pt x="756888" y="176807"/>
                </a:lnTo>
                <a:lnTo>
                  <a:pt x="854183" y="165779"/>
                </a:lnTo>
                <a:lnTo>
                  <a:pt x="1018636" y="142766"/>
                </a:lnTo>
                <a:lnTo>
                  <a:pt x="1084622" y="135934"/>
                </a:lnTo>
                <a:lnTo>
                  <a:pt x="1222752" y="123803"/>
                </a:lnTo>
                <a:lnTo>
                  <a:pt x="1328719" y="111599"/>
                </a:lnTo>
                <a:lnTo>
                  <a:pt x="1435188" y="102244"/>
                </a:lnTo>
                <a:lnTo>
                  <a:pt x="2017662" y="58334"/>
                </a:lnTo>
                <a:lnTo>
                  <a:pt x="2169226" y="51664"/>
                </a:lnTo>
                <a:lnTo>
                  <a:pt x="2254786" y="45162"/>
                </a:lnTo>
                <a:lnTo>
                  <a:pt x="2339121" y="40131"/>
                </a:lnTo>
                <a:lnTo>
                  <a:pt x="2420837" y="36383"/>
                </a:lnTo>
                <a:lnTo>
                  <a:pt x="2496413" y="29910"/>
                </a:lnTo>
                <a:lnTo>
                  <a:pt x="2586172" y="24183"/>
                </a:lnTo>
                <a:lnTo>
                  <a:pt x="2681296" y="14670"/>
                </a:lnTo>
                <a:lnTo>
                  <a:pt x="2772259" y="2128"/>
                </a:lnTo>
                <a:lnTo>
                  <a:pt x="2861380" y="0"/>
                </a:lnTo>
                <a:lnTo>
                  <a:pt x="2886871" y="785"/>
                </a:lnTo>
                <a:lnTo>
                  <a:pt x="2902727" y="3969"/>
                </a:lnTo>
                <a:lnTo>
                  <a:pt x="2955684" y="28082"/>
                </a:lnTo>
                <a:lnTo>
                  <a:pt x="2978744" y="46180"/>
                </a:lnTo>
                <a:lnTo>
                  <a:pt x="2984050" y="51078"/>
                </a:lnTo>
                <a:lnTo>
                  <a:pt x="2999605" y="74152"/>
                </a:lnTo>
                <a:lnTo>
                  <a:pt x="3013949" y="107052"/>
                </a:lnTo>
                <a:lnTo>
                  <a:pt x="3024935" y="145285"/>
                </a:lnTo>
                <a:lnTo>
                  <a:pt x="3032699" y="177607"/>
                </a:lnTo>
                <a:lnTo>
                  <a:pt x="3038104" y="213994"/>
                </a:lnTo>
                <a:lnTo>
                  <a:pt x="3039705" y="251587"/>
                </a:lnTo>
                <a:lnTo>
                  <a:pt x="3042437" y="291794"/>
                </a:lnTo>
                <a:lnTo>
                  <a:pt x="3045526" y="320985"/>
                </a:lnTo>
                <a:lnTo>
                  <a:pt x="3046901" y="350891"/>
                </a:lnTo>
                <a:lnTo>
                  <a:pt x="3049768" y="381117"/>
                </a:lnTo>
                <a:lnTo>
                  <a:pt x="3053019" y="412330"/>
                </a:lnTo>
                <a:lnTo>
                  <a:pt x="3054463" y="445959"/>
                </a:lnTo>
                <a:lnTo>
                  <a:pt x="3057363" y="480660"/>
                </a:lnTo>
                <a:lnTo>
                  <a:pt x="3060627" y="515838"/>
                </a:lnTo>
                <a:lnTo>
                  <a:pt x="3062078" y="551229"/>
                </a:lnTo>
                <a:lnTo>
                  <a:pt x="3064981" y="586714"/>
                </a:lnTo>
                <a:lnTo>
                  <a:pt x="3073743" y="661830"/>
                </a:lnTo>
                <a:lnTo>
                  <a:pt x="3076374" y="699370"/>
                </a:lnTo>
                <a:lnTo>
                  <a:pt x="3078390" y="735809"/>
                </a:lnTo>
                <a:lnTo>
                  <a:pt x="3082109" y="771760"/>
                </a:lnTo>
                <a:lnTo>
                  <a:pt x="3084325" y="809752"/>
                </a:lnTo>
                <a:lnTo>
                  <a:pt x="3086157" y="848368"/>
                </a:lnTo>
                <a:lnTo>
                  <a:pt x="3089794" y="885286"/>
                </a:lnTo>
                <a:lnTo>
                  <a:pt x="3096602" y="943436"/>
                </a:lnTo>
                <a:lnTo>
                  <a:pt x="3099233" y="981161"/>
                </a:lnTo>
                <a:lnTo>
                  <a:pt x="3101249" y="1017683"/>
                </a:lnTo>
                <a:lnTo>
                  <a:pt x="3104969" y="1053671"/>
                </a:lnTo>
                <a:lnTo>
                  <a:pt x="3107185" y="1089421"/>
                </a:lnTo>
                <a:lnTo>
                  <a:pt x="3109018" y="1124219"/>
                </a:lnTo>
                <a:lnTo>
                  <a:pt x="3112653" y="1156618"/>
                </a:lnTo>
                <a:lnTo>
                  <a:pt x="3114834" y="1185693"/>
                </a:lnTo>
                <a:lnTo>
                  <a:pt x="3116062" y="1225862"/>
                </a:lnTo>
                <a:lnTo>
                  <a:pt x="3116548" y="1304976"/>
                </a:lnTo>
                <a:lnTo>
                  <a:pt x="3114308" y="1321057"/>
                </a:lnTo>
                <a:lnTo>
                  <a:pt x="3105970" y="1345178"/>
                </a:lnTo>
                <a:lnTo>
                  <a:pt x="3102733" y="1349723"/>
                </a:lnTo>
                <a:lnTo>
                  <a:pt x="3094620" y="1357031"/>
                </a:lnTo>
                <a:lnTo>
                  <a:pt x="3089240" y="1359318"/>
                </a:lnTo>
                <a:lnTo>
                  <a:pt x="3076488" y="1361860"/>
                </a:lnTo>
                <a:lnTo>
                  <a:pt x="3050984" y="1363291"/>
                </a:lnTo>
                <a:lnTo>
                  <a:pt x="2983845" y="1353235"/>
                </a:lnTo>
                <a:lnTo>
                  <a:pt x="2891274" y="1327843"/>
                </a:lnTo>
                <a:lnTo>
                  <a:pt x="2799407" y="1302869"/>
                </a:lnTo>
                <a:lnTo>
                  <a:pt x="2643861" y="1267369"/>
                </a:lnTo>
                <a:lnTo>
                  <a:pt x="2567387" y="1256177"/>
                </a:lnTo>
                <a:lnTo>
                  <a:pt x="2485742" y="1247499"/>
                </a:lnTo>
                <a:lnTo>
                  <a:pt x="2398523" y="1239566"/>
                </a:lnTo>
                <a:lnTo>
                  <a:pt x="2312378" y="1235898"/>
                </a:lnTo>
                <a:lnTo>
                  <a:pt x="2157508" y="1234557"/>
                </a:lnTo>
                <a:lnTo>
                  <a:pt x="2063072" y="1236672"/>
                </a:lnTo>
                <a:lnTo>
                  <a:pt x="1998114" y="1239617"/>
                </a:lnTo>
                <a:lnTo>
                  <a:pt x="1899663" y="1242122"/>
                </a:lnTo>
                <a:lnTo>
                  <a:pt x="1833766" y="1245708"/>
                </a:lnTo>
                <a:lnTo>
                  <a:pt x="1734786" y="1252487"/>
                </a:lnTo>
                <a:lnTo>
                  <a:pt x="1668764" y="1259629"/>
                </a:lnTo>
                <a:lnTo>
                  <a:pt x="1602733" y="1267600"/>
                </a:lnTo>
                <a:lnTo>
                  <a:pt x="1503678" y="1276848"/>
                </a:lnTo>
                <a:lnTo>
                  <a:pt x="1147021" y="1305465"/>
                </a:lnTo>
                <a:lnTo>
                  <a:pt x="993387" y="1312141"/>
                </a:lnTo>
                <a:lnTo>
                  <a:pt x="907605" y="1316386"/>
                </a:lnTo>
                <a:lnTo>
                  <a:pt x="825462" y="1317644"/>
                </a:lnTo>
                <a:lnTo>
                  <a:pt x="747502" y="1315758"/>
                </a:lnTo>
                <a:lnTo>
                  <a:pt x="673036" y="1309837"/>
                </a:lnTo>
                <a:lnTo>
                  <a:pt x="583653" y="1300252"/>
                </a:lnTo>
                <a:lnTo>
                  <a:pt x="502467" y="1278038"/>
                </a:lnTo>
                <a:lnTo>
                  <a:pt x="420043" y="1241705"/>
                </a:lnTo>
                <a:lnTo>
                  <a:pt x="377704" y="1214989"/>
                </a:lnTo>
                <a:lnTo>
                  <a:pt x="342393" y="1181578"/>
                </a:lnTo>
                <a:lnTo>
                  <a:pt x="310481" y="1144868"/>
                </a:lnTo>
                <a:lnTo>
                  <a:pt x="279579" y="1107180"/>
                </a:lnTo>
                <a:lnTo>
                  <a:pt x="248972" y="1065157"/>
                </a:lnTo>
                <a:lnTo>
                  <a:pt x="230880" y="1033284"/>
                </a:lnTo>
                <a:lnTo>
                  <a:pt x="198570" y="968576"/>
                </a:lnTo>
                <a:lnTo>
                  <a:pt x="183079" y="935325"/>
                </a:lnTo>
                <a:lnTo>
                  <a:pt x="137177" y="830331"/>
                </a:lnTo>
                <a:lnTo>
                  <a:pt x="121928" y="794014"/>
                </a:lnTo>
                <a:lnTo>
                  <a:pt x="106683" y="755296"/>
                </a:lnTo>
                <a:lnTo>
                  <a:pt x="93699" y="717768"/>
                </a:lnTo>
                <a:lnTo>
                  <a:pt x="82284" y="681333"/>
                </a:lnTo>
                <a:lnTo>
                  <a:pt x="45778" y="558472"/>
                </a:lnTo>
                <a:lnTo>
                  <a:pt x="36432" y="525868"/>
                </a:lnTo>
                <a:lnTo>
                  <a:pt x="29456" y="491622"/>
                </a:lnTo>
                <a:lnTo>
                  <a:pt x="20769" y="443067"/>
                </a:lnTo>
                <a:lnTo>
                  <a:pt x="16878" y="400552"/>
                </a:lnTo>
                <a:lnTo>
                  <a:pt x="15725" y="361144"/>
                </a:lnTo>
                <a:lnTo>
                  <a:pt x="15252" y="268265"/>
                </a:lnTo>
                <a:lnTo>
                  <a:pt x="19289" y="244242"/>
                </a:lnTo>
                <a:lnTo>
                  <a:pt x="23530" y="233246"/>
                </a:lnTo>
                <a:lnTo>
                  <a:pt x="38158" y="207658"/>
                </a:lnTo>
                <a:lnTo>
                  <a:pt x="48271" y="195889"/>
                </a:lnTo>
                <a:lnTo>
                  <a:pt x="50807" y="194064"/>
                </a:lnTo>
                <a:lnTo>
                  <a:pt x="60959" y="190413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4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Shiprock and Storm, Shiprock, Arizona. Black and white limited edition photogra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4"/>
          <p:cNvSpPr/>
          <p:nvPr/>
        </p:nvSpPr>
        <p:spPr>
          <a:xfrm>
            <a:off x="115920" y="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2: Solving Multi-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627840" y="1219320"/>
            <a:ext cx="323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g. 30  #1 – 19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36:18Z</dcterms:created>
  <dc:creator>Pfeifer</dc:creator>
  <dc:description/>
  <dc:language>en-US</dc:language>
  <cp:lastModifiedBy>m</cp:lastModifiedBy>
  <dcterms:modified xsi:type="dcterms:W3CDTF">2012-01-17T17:32:58Z</dcterms:modified>
  <cp:revision>36</cp:revision>
  <dc:subject/>
  <dc:title>Slide 1</dc:title>
</cp:coreProperties>
</file>